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939C-3215-4338-B05E-94130EC2F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35B6-4B7C-4511-83C2-6822FDEFE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FB36-77B1-499B-BC04-C904F0E9D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9695-6326-468D-8B99-7CFDF82FC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065D-A697-4C3A-B5A1-98EC9FE20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E555-168E-4A3D-B0BD-A2BC1EC0A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BEDD-9D08-459E-8992-8D8A174AC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5B9E-CAE1-48EA-B07D-80139A872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ED79-9896-41C8-BF94-B54F8260C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FAF5-0998-4E2E-BF30-B7E44A8F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44D9-9700-44FF-9E64-FA5D04FB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2608-3841-40C5-8A85-0391EF609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5F34B-2957-4CD7-B81A-1BC0A4F3EF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-411480"/>
            <a:ext cx="712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2584080"/>
            <a:ext cx="69840" cy="29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 rot="19188600">
            <a:off x="465120" y="2769840"/>
            <a:ext cx="7612200" cy="101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ОСНОВНЫЕ ПРОБЛЕМЫ ЭКОНОМИКИ.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 rot="19002000">
            <a:off x="4356000" y="4797000"/>
            <a:ext cx="4067280" cy="59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Зверева Дарья 10 "Б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«Что и в каком количестве производить?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2420640"/>
            <a:ext cx="914400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 ответе на этот вопрос предпочтение отдаётся выпуску определенных товаров и услуг, причём в таких количествах, которые позволяют ограниченные ресур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блему производства необходимых товаров и услуг приходится решать руководителям различных уровней: от менеджера фирмы до главы правительства. Имеющиеся в их распоряжении денежные средства могут быть очень велики, но в любом случае не безграничны. При утверждении государственного бюджета правительство и парламент должны определить размеры средств, направляемых на социальную помощь, содержание государственного аппарата, образование, науку, оборону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97920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2565360"/>
            <a:ext cx="9144000" cy="42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Отвечая на этот вопрос, люди отдают предпочтение определённой технологии (способам) создания тех благ, которые были выбраны при ответе на первый вопрос эконом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На первый взгляд эффективнее всего использовать новейшие (высокие) технологии. Однако их внедрение потребует больших финансовых затрат, повышения уровня подготовки работников, что отразится в конечном счёте на доходе фирмы. Новая технология может представлять повышенную опасность для окружающей ср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79280" y="0"/>
            <a:ext cx="8496360" cy="19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Как производить?"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push dir="r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3640" y="360000"/>
            <a:ext cx="1076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2349000"/>
            <a:ext cx="896472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Решение этого вопроса заключается в выборе способа получения благ потребителями. Блага могут делить поровну, тогда имеет место уравнительный способ распределения, или на основе закона спроса и предложения – в условиях рыночной эконом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В настоящее время в большинстве стран мира преобладают сложный механизм рыночного распреде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 rot="186600">
            <a:off x="9000" y="0"/>
            <a:ext cx="8964720" cy="17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Каким образом распределять?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omb dir="horz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1T19:16:59Z</dcterms:created>
  <dc:creator>Оксана</dc:creator>
  <dc:description/>
  <dc:language>en-US</dc:language>
  <cp:lastModifiedBy>Оксана</cp:lastModifiedBy>
  <dcterms:modified xsi:type="dcterms:W3CDTF">2007-01-21T19:47:55Z</dcterms:modified>
  <cp:revision>2</cp:revision>
  <dc:subject/>
  <dc:title>Слайд 1</dc:title>
</cp:coreProperties>
</file>