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C23A-DC1A-4295-82BB-DC4FF7E10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631D1-F3DC-4E91-A7C4-A140C0945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4E3DE-7E78-4389-89A0-62557D9D5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05EC-8C3B-4F77-9B84-C664AA896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A80-487F-4CBE-A3E4-2F957BEB6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15ECE-9500-4EEE-8538-B40D0789D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5C761-B9A6-4C6A-9E67-F5EB9D133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1E538-B9CA-4AB5-8D7C-83D9381FC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CB88-DCE0-4A19-B5B1-EAB651BEE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2F223-D2A4-447C-9ED8-A3382492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B712-88B3-412D-AE1A-D4F170A3E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0190-77C5-4BFD-9695-1C9D554A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43C2-D9DD-4DB5-9A67-3914C4A16C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cc"/>
            </a:gs>
            <a:gs pos="100000">
              <a:srgbClr val="99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4000" y="-411480"/>
            <a:ext cx="7128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0" y="2584080"/>
            <a:ext cx="69840" cy="292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 rot="19188600">
            <a:off x="465120" y="2769840"/>
            <a:ext cx="7612200" cy="1011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ОСНОВНЫЕ ПРОБЛЕМЫ ЭКОНОМИКИ.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 rot="19002000">
            <a:off x="4356000" y="4797000"/>
            <a:ext cx="4067280" cy="59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Зверева Дарья 10 "Б"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Arial"/>
              </a:rPr>
              <a:t>«Что и в каком количестве производить?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и ответе на этот вопрос предпочтение отдаётся выпуску определенных товаров и услуг, причём в таких количествах, которые позволяют ограниченные ресурс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Проблему производства необходимых товаров и услуг приходится решать руководителям различных уровней: от менеджера фирмы до главы правительства. Имеющиеся в их распоряжении денежные средства могут быть очень велики, но в любом случае не безграничны. При утверждении государственного бюджета правительство и парламент должны определить размеры средств, направляемых на социальную помощь, содержание государственного аппарата, образование, науку, оборону и т.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9280" y="979200"/>
            <a:ext cx="69840" cy="1106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0" y="256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Отвечая на этот вопрос, люди отдают предпочтение определённой технологии (способам) создания тех благ, которые были выбраны при ответе на первый вопрос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На первый взгляд эффективнее всего использовать новейшие (высокие) технологии. Однако их внедрение потребует больших финансовых затрат, повышения уровня подготовки работников, что отразится в конечном счёте на доходе фирмы. Новая технология может представлять повышенную опасность для окружающей сре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79280" y="0"/>
            <a:ext cx="8496360" cy="1989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"Как производить?"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push dir="r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360000"/>
            <a:ext cx="10764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349000"/>
            <a:ext cx="896472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Решение этого вопроса заключается в выборе способа получения благ потребителями. Блага могут делить поровну, тогда имеет место уравнительный способ распределения, или на основе закона спроса и предложения – в условиях рыночной эконом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99"/>
                </a:solidFill>
                <a:latin typeface="Arial"/>
              </a:rPr>
              <a:t>В настоящее время в большинстве стран мира преобладают сложный механизм рыночного распреде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 rot="186600">
            <a:off x="9000" y="0"/>
            <a:ext cx="8964720" cy="1747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"Каким образом распределять?"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comb dir="horz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1T19:16:59Z</dcterms:created>
  <dc:creator>Оксана</dc:creator>
  <dc:description/>
  <dc:language>en-US</dc:language>
  <cp:lastModifiedBy>Оксана</cp:lastModifiedBy>
  <dcterms:modified xsi:type="dcterms:W3CDTF">2007-01-21T19:47:55Z</dcterms:modified>
  <cp:revision>2</cp:revision>
  <dc:subject/>
  <dc:title>Слайд 1</dc:title>
</cp:coreProperties>
</file>