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B06-1A99-4C17-9A21-22FEA5E4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B64B-7D10-4E35-89DE-B465B3FA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672-E9DA-4851-A88B-949F5F72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53B-E03D-4A2E-A57C-D2295AA6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A21-EAF0-4883-AF0B-E5833E67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1FA-64EE-4413-A494-323ECB69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542-7156-4B45-8428-B93621B1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E050-979E-4568-9FB4-77D71B2B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EE9C-2D8E-466D-9770-2432BB3C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4DD9-196C-45C8-9B16-6B14ABEA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24F1-10D8-4145-8E55-F664ED5E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695-5FB4-4243-B7BB-D89A88A6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ABCE-0D1D-4815-8B63-246F0183C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411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84080"/>
            <a:ext cx="69840" cy="29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9188600">
            <a:off x="465120" y="2769840"/>
            <a:ext cx="761220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ПРОБЛЕМЫ ЭКОНОМИК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 rot="19002000">
            <a:off x="4356000" y="4797000"/>
            <a:ext cx="406728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верева Дарья 10 "Б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«Что и в каком количестве производить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ответе на этот вопрос предпочтение отдаётся выпуску определенных товаров и услуг, причём в таких количествах, которые позволяют ограниченны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блему производства необходимых товаров и услуг приходится решать руководителям различных уровней: от менеджера фирмы до главы правительства. Имеющиеся в их распоряжении денежные средства могут быть очень велики, но в любом случае не безграничны. При утверждении государственного бюджета правительство и парламент должны определить размеры средств, направляемых на социальную помощь, содержание государственного аппарата, образование, науку, оборону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9792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вечая на этот вопрос, люди отдают предпочтение определённой технологии (способам) создания тех благ, которые были выбраны при ответе на первый вопрос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 первый взгляд эффективнее всего использовать новейшие (высокие) технологии. Однако их внедрение потребует больших финансовых затрат, повышения уровня подготовки работников, что отразится в конечном счёте на доходе фирмы. Новая технология может представлять повышенную опасность для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0"/>
            <a:ext cx="849636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Как производить?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360000"/>
            <a:ext cx="107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896472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Решение этого вопроса заключается в выборе способа получения благ потребителями. Блага могут делить поровну, тогда имеет место уравнительный способ распределения, или на основе закона спроса и предложения – в условиях рыночной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В настоящее время в большинстве стран мира преобладают сложный механизм рыночного рас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86600">
            <a:off x="9000" y="0"/>
            <a:ext cx="896472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аким образом распределять?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9:16:59Z</dcterms:created>
  <dc:creator>Оксана</dc:creator>
  <dc:description/>
  <dc:language>en-US</dc:language>
  <cp:lastModifiedBy>Оксана</cp:lastModifiedBy>
  <dcterms:modified xsi:type="dcterms:W3CDTF">2007-01-21T19:47:55Z</dcterms:modified>
  <cp:revision>2</cp:revision>
  <dc:subject/>
  <dc:title>Слайд 1</dc:title>
</cp:coreProperties>
</file>