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1.jpeg" ContentType="image/jpeg"/>
  <Override PartName="/ppt/media/image4.jpeg" ContentType="image/jpeg"/>
  <Override PartName="/ppt/media/image8.wmf" ContentType="image/x-wmf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9.wmf" ContentType="image/x-wmf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6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F0F-9971-4445-9884-5AB74DF4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3FE-DB3F-44DB-9D08-8373FAB1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D94-19A6-4E77-9F61-9558A5F0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E90-2F6A-433F-B26C-F6998C82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AAB4-B007-4D6D-8334-E98B664F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7795-EA40-46A6-A623-57021500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8CFE-350A-4FE2-ADA2-C46E7F62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867E-D282-4337-AC50-24731C6A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4A37-84A9-4DBD-A918-44FABE16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1D13-64BB-4E43-9067-DFAE24B1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5597-189C-4C10-8B16-A5647A7A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4AA-4A25-481F-AAD5-8DD4DEC1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5D51-4DD3-4C86-98E9-88EAD59B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4C73-2408-496A-8D32-C677CEBB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150C-808A-4057-AEA3-A2B95D5A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5447-F828-46F3-BB18-96B5F0CA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9E5E-F2C8-4DE8-9025-DBCD39E8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0DB96-444D-4308-9C43-8E633F8B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B9E81-A82D-4C0A-ADF6-85891E10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C80C0-D379-4EBE-9236-EBCDE2C4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E9808-3B13-456D-B29F-DD356BF1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D2C26-AF40-490A-A379-64CB7C6A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221-1285-4C41-A397-8B715BAD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E5E3-4B31-486B-9BF0-F516CA2B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E078-7E08-48D9-9FE4-6E13733B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1E8AC-EAD1-47D6-917C-5C471A82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ECD31-821F-4D5A-A322-ABDE9502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6E949-D3D2-4333-AC89-E6FADBDA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A263-C33E-4CF2-AEFD-8D821967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38F1D-DD14-42A0-B83F-540C33E2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9DF49-828A-4F35-B210-EAA2D812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6229B-ADD7-40C2-A2D7-F0B9BCDA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E27C4-C08C-432D-9943-B97C2711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9C0-4C06-493A-8CA3-DDAF3376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08BDD-AADB-450E-94F5-4CBEDD45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24B20-926E-4EF3-AEFF-3A746B76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F7C16-A391-4FB4-9CD9-C219AFA4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5FAB3-6A86-4F19-8FC0-4A329EA5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F31AB-15F2-44FD-9FD2-E441BD64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911CA-1A67-417F-B8C7-16C09D59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8223-3370-43D0-839F-EF705336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DF732-479C-467C-BD1F-6D1EF7C9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74C3B-2FED-4DC1-A7E3-E80F7EA0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A89-8852-4603-8030-19176214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23B-40FC-4A0E-A12D-72A6634F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FD0-878E-490F-B622-637E36DF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5D7-4D2F-45E8-B992-21D2148A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212-7947-4A39-9718-181C968F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F169-51AE-41BE-A5F3-8344BC9FB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4081-1DD8-4814-863E-5EB583157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5E1C-703E-488F-AE03-8E47944F62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C0ED-1895-4376-8C60-593BF8531C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von_kremlin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abe.ru/lotsimg/40047s.jpg&amp;pageurl=http://www.habe.ru/%3Fmod%3Dhist%26act%3Dlot%26lotid%3D16780&amp;id=95185544&amp;iid=4&amp;imgwidth=119&amp;imgheight=120&amp;imgsize=45526&amp;images_links=b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hyperlink" Target="http://go.mail.ru/frame.html?imgurl=http://torgi.ok-link.ru/cache/pics/500/19248_Akulij_zub.jpg&amp;pageurl=http://rynok.yottos.com/JewelsResult.aspx%3Fpage%3D55&amp;id=146295431&amp;iid=6&amp;imgwidth=1170&amp;imgheight=1310&amp;imgsize=123683&amp;images_links=b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go.mail.ru/frame.html?imgurl=http://www.1000dosok.ru/s/06-01-53069.jpg&amp;pageurl=http://www.1000dosok.ru/doski.php%3Fkr%3D15%26r%3D15-01%26n%3D258806&amp;id=117058291&amp;iid=3&amp;imgwidth=80&amp;imgheight=67&amp;imgsize=61433&amp;images_links=b" TargetMode="External"/><Relationship Id="rId17" Type="http://schemas.openxmlformats.org/officeDocument/2006/relationships/image" Target="../media/image16.jpeg"/><Relationship Id="rId18" Type="http://schemas.openxmlformats.org/officeDocument/2006/relationships/hyperlink" Target="http://go.mail.ru/frame.html?imgurl=http://www.bonusnsk.ru/products_pictures/s024s.jpg&amp;pageurl=http://evr-azia.ru/cat/382&amp;id=21605995&amp;iid=0&amp;imgwidth=100&amp;imgheight=51&amp;imgsize=56880&amp;images_links=b" TargetMode="External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http://go.mail.ru/frame.html?imgurl=http://www.timich.ru/_fr/1/4600981.jpg&amp;pageurl=http://globa.1nsk.ru/blog/50.html&amp;id=44162511&amp;iid=5&amp;imgwidth=500&amp;imgheight=256&amp;imgsize=87483&amp;images_links=b" TargetMode="External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bonistica.narod.ru/photogallery/97_rus/10-97-2.jpg&amp;pageurl=http://ka-r-dan.agava.ru/money/h%5Fp69/1997-10.htm&amp;id=9394333&amp;iid=6&amp;imgwidth=500&amp;imgheight=216&amp;imgsize=13156&amp;images_links=b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go.mail.ru/frame.html?imgurl=http://nensberg.narod.ru/russia/img01/97r100-2.jpg&amp;pageurl=http://nensberg.narod.ru/russia/img01/97.html&amp;id=1367682&amp;iid=3&amp;imgwidth=500&amp;imgheight=216&amp;imgsize=54601&amp;images_links=b" TargetMode="External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image" Target="../media/image69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antana.ru/cat.file/lisa/lisa1-1+.jpg&amp;pageurl=http://www.santana.ru/cat1/lisa1/lisa1-1.htm&amp;id=20401381&amp;iid=4&amp;imgwidth=800&amp;imgheight=443&amp;imgsize=310028&amp;images_links=b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design.ru-deluxe.ru/uploads/posts/2008-07/1214996563_rakushka.jpg&amp;pageurl=http://design.ru-deluxe.ru/page/206/&amp;id=55807633&amp;iid=0&amp;imgwidth=400&amp;imgheight=400&amp;imgsize=37933&amp;images_links=b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.ru/go?www.beseder.co.il/http://www.beseder.co.il/wp-content/uploads/2005/06/1118756618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СТОРИЯ  ДЕНЕЖНОЙ ЕДИНИЦ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8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Материал подготовила учитель начальных классов МОУ лицея №7 Воронина Мари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8-20040304145312"/>
          <p:cNvPicPr/>
          <p:nvPr/>
        </p:nvPicPr>
        <p:blipFill>
          <a:blip r:embed="rId1"/>
          <a:stretch/>
        </p:blipFill>
        <p:spPr>
          <a:xfrm>
            <a:off x="6356520" y="2381400"/>
            <a:ext cx="190476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Донской"/>
          <p:cNvPicPr/>
          <p:nvPr/>
        </p:nvPicPr>
        <p:blipFill>
          <a:blip r:embed="rId2"/>
          <a:stretch/>
        </p:blipFill>
        <p:spPr>
          <a:xfrm>
            <a:off x="1214280" y="1785960"/>
            <a:ext cx="4389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ервые металлические деньги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ервые круглые металлические деньги появились в Лидии, еще в 7 веке до нашей эры, на территории нынешней Турции, Из Лидии чеканка монет быстро распространилась в Гре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еки первыми стали выбивать на монетах изображения живых людей. Потом стали чеканить монеты Рим и позднее Западная Европ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Киевской Руси первые чеканные монеты появились в 9-10 веках. В обращении одновременно находились златники  и сребрен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 монеты лицевая сторона называлась - аверс, оборотная - реверс, обрез - гу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 Руси серебряные монеты Киевского князя Владимира появились в Х в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Рисунок 12" descr="Владимир серебрянник"/>
          <p:cNvPicPr/>
          <p:nvPr/>
        </p:nvPicPr>
        <p:blipFill>
          <a:blip r:embed="rId1"/>
          <a:stretch/>
        </p:blipFill>
        <p:spPr>
          <a:xfrm>
            <a:off x="1071720" y="2357280"/>
            <a:ext cx="7089480" cy="34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585880" y="614376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олодимир на столе, а се его сереб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66400" y="20718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ебря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upload.wikimedia.org/wikipedia/commons/thumb/a/ac/Yvon_kremlin.jpg/275px-Yvon_krem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змонетное время на Руси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Русь напали татаpo-монголы (1223 – 1480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2 – 13 веках русские монеты исчезли из обращения, так как Киевская Русь распалась на княжества, и чеканка единой монеты прекратилас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380 г. Дмитрий Донской начал чеканить свою монету по образцу золотоордынского дирхема. Она называлась «деньга» (араб. «данник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Деньгами стали служить гривны. Покупательная способность её была очень велика: за одну гривну давали 200 беличьих шкур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Новгородские рубли - слитки. XIV-XV века. Увеличить"/>
          <p:cNvPicPr/>
          <p:nvPr/>
        </p:nvPicPr>
        <p:blipFill>
          <a:blip r:embed="rId1"/>
          <a:stretch/>
        </p:blipFill>
        <p:spPr>
          <a:xfrm>
            <a:off x="1000080" y="4357800"/>
            <a:ext cx="7272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http://numizmat.ru/netcat_files/Image/vis-5b.jpg"/>
          <p:cNvPicPr/>
          <p:nvPr/>
        </p:nvPicPr>
        <p:blipFill>
          <a:blip r:embed="rId1"/>
          <a:stretch/>
        </p:blipFill>
        <p:spPr>
          <a:xfrm>
            <a:off x="4643280" y="3932280"/>
            <a:ext cx="4500720" cy="2925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Монеты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руб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гда товар стоил дешевле, рубль разрубали пополам – получались две полт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6" descr="http://numizmat.ru/netcat_files/Image/image002_edited(5).jpg"/>
          <p:cNvPicPr/>
          <p:nvPr/>
        </p:nvPicPr>
        <p:blipFill>
          <a:blip r:embed="rId2"/>
          <a:stretch/>
        </p:blipFill>
        <p:spPr>
          <a:xfrm>
            <a:off x="2214720" y="1500120"/>
            <a:ext cx="29239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14200" y="333360"/>
            <a:ext cx="48578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й монетой на Руси была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пей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серебряная монета весом 0,7г с изображением всадника с копь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копейки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нь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тверть-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уш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Эти мелкие деньги прятали за щ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ты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три коп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ве копей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иве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десять копеек, а также полтина и рубль существовали только в качестве счетных един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1-20040304145312"/>
          <p:cNvPicPr/>
          <p:nvPr/>
        </p:nvPicPr>
        <p:blipFill>
          <a:blip r:embed="rId1"/>
          <a:stretch/>
        </p:blipFill>
        <p:spPr>
          <a:xfrm>
            <a:off x="5429160" y="142920"/>
            <a:ext cx="27147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рош – 2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15" descr="грош"/>
          <p:cNvPicPr/>
          <p:nvPr/>
        </p:nvPicPr>
        <p:blipFill>
          <a:blip r:embed="rId1"/>
          <a:stretch/>
        </p:blipFill>
        <p:spPr>
          <a:xfrm>
            <a:off x="1643040" y="1857240"/>
            <a:ext cx="5764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Алтын – 3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Рисунок 16" descr="алтын"/>
          <p:cNvPicPr/>
          <p:nvPr/>
        </p:nvPicPr>
        <p:blipFill>
          <a:blip r:embed="rId1"/>
          <a:stretch/>
        </p:blipFill>
        <p:spPr>
          <a:xfrm>
            <a:off x="1714680" y="1857240"/>
            <a:ext cx="5662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еньга – ½ копейки или пол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17" descr="денежка"/>
          <p:cNvPicPr/>
          <p:nvPr/>
        </p:nvPicPr>
        <p:blipFill>
          <a:blip r:embed="rId1"/>
          <a:stretch/>
        </p:blipFill>
        <p:spPr>
          <a:xfrm>
            <a:off x="1214280" y="2000160"/>
            <a:ext cx="67438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Полушка – ¼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Рисунок 19" descr="полушка"/>
          <p:cNvPicPr/>
          <p:nvPr/>
        </p:nvPicPr>
        <p:blipFill>
          <a:blip r:embed="rId1"/>
          <a:stretch/>
        </p:blipFill>
        <p:spPr>
          <a:xfrm>
            <a:off x="1428840" y="1785960"/>
            <a:ext cx="6221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500040" y="712800"/>
            <a:ext cx="83581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im4-tub.mail.ru/i?id=95185544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240" y="428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75768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Цены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XVII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114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урица стоила копейк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д масла- 60 копее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нок – руб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з огурцов – копей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у копейку в день получал за свою работу плотни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 3 копейки можно было купить крестьянскую изб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numizmat.ru/netcat_files/Image/image002(87).jpg"/>
          <p:cNvPicPr/>
          <p:nvPr/>
        </p:nvPicPr>
        <p:blipFill>
          <a:blip r:embed="rId3"/>
          <a:stretch/>
        </p:blipFill>
        <p:spPr>
          <a:xfrm>
            <a:off x="6630840" y="3571920"/>
            <a:ext cx="2513160" cy="25002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6075720" y="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венник = 10 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8161200" y="32860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пей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0" y="5103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ля мелких покупок использовались медные деньги- куны, пироги, полпироги и полполпироги. Поскольку такие монеты никто не складывал в кубышку, мы не знаем, как они выгляд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 рубль = 100 копеек или 200 денег или 400 пол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Реформы Петра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ет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чался выпуск золотой монеты. В 18 веке распространённой золотой монетой стал червонец (3 рубл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1714"/>
          <p:cNvPicPr/>
          <p:nvPr/>
        </p:nvPicPr>
        <p:blipFill>
          <a:blip r:embed="rId1"/>
          <a:stretch/>
        </p:blipFill>
        <p:spPr>
          <a:xfrm>
            <a:off x="1500120" y="1928880"/>
            <a:ext cx="6858000" cy="33526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214200" y="557208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Начали выпускать </a:t>
            </a:r>
            <a:r>
              <a:rPr b="0" i="1" lang="ru-RU" sz="1800" spc="-1" strike="noStrike" u="sng">
                <a:solidFill>
                  <a:srgbClr val="1f497d"/>
                </a:solidFill>
                <a:uFillTx/>
                <a:latin typeface="Calibri"/>
              </a:rPr>
              <a:t>медные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 деньги, полушки, полуполушки, затем в 1701 году - появилась полтина, полуполтина, гривен и пятачок, а в 1704г- серебряный рубль и медная копе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49124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Интересный фа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48" descr="get_photo_py(12)"/>
          <p:cNvPicPr/>
          <p:nvPr/>
        </p:nvPicPr>
        <p:blipFill>
          <a:blip r:embed="rId1"/>
          <a:stretch/>
        </p:blipFill>
        <p:spPr>
          <a:xfrm>
            <a:off x="6858000" y="214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49" descr="get_photo_py(2)"/>
          <p:cNvPicPr/>
          <p:nvPr/>
        </p:nvPicPr>
        <p:blipFill>
          <a:blip r:embed="rId2"/>
          <a:stretch/>
        </p:blipFill>
        <p:spPr>
          <a:xfrm>
            <a:off x="6858000" y="25718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5214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хайло Ломоносов получал во время учебы полторы копейки в д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748 г. Михайлу Ломоносову была выплачена государственная премия в размере 2 тыс. руб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Иоанн Антонович, Рубль 1741, СПБ"/>
          <p:cNvPicPr/>
          <p:nvPr/>
        </p:nvPicPr>
        <p:blipFill>
          <a:blip r:embed="rId3"/>
          <a:stretch/>
        </p:blipFill>
        <p:spPr>
          <a:xfrm>
            <a:off x="142920" y="4819680"/>
            <a:ext cx="4000320" cy="2038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161472704_52"/>
          <p:cNvPicPr/>
          <p:nvPr/>
        </p:nvPicPr>
        <p:blipFill>
          <a:blip r:embed="rId4"/>
          <a:stretch/>
        </p:blipFill>
        <p:spPr>
          <a:xfrm>
            <a:off x="4572000" y="4714920"/>
            <a:ext cx="4386240" cy="2336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85840" y="314316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Правда, бумажных денег в России тогда еще не было, а серебряных и, тем более, золотых монет не хватало. Пришлось светилу науки российской везти подарочек - 3,5 т медных монет - на десятке под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00" y="856800"/>
            <a:ext cx="55004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 были изобретены в Китае в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VIII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веке. А в России бумажные деньги появились в 1769 г при Екатерине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II. 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х название «ассигнации» происходит от латинского «назначать, вводить в обращение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!0 екат"/>
          <p:cNvPicPr/>
          <p:nvPr/>
        </p:nvPicPr>
        <p:blipFill>
          <a:blip r:embed="rId1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1892 год"/>
          <p:cNvPicPr/>
          <p:nvPr/>
        </p:nvPicPr>
        <p:blipFill>
          <a:blip r:embed="rId2"/>
          <a:stretch/>
        </p:blipFill>
        <p:spPr>
          <a:xfrm>
            <a:off x="0" y="2928960"/>
            <a:ext cx="6191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Екатерина"/>
          <p:cNvPicPr/>
          <p:nvPr/>
        </p:nvPicPr>
        <p:blipFill>
          <a:blip r:embed="rId1"/>
          <a:srcRect l="0" t="0" r="23371" b="0"/>
          <a:stretch/>
        </p:blipFill>
        <p:spPr>
          <a:xfrm>
            <a:off x="1357200" y="0"/>
            <a:ext cx="7000920" cy="4184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0" y="5000760"/>
            <a:ext cx="90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Самые первые российские ассигнации хозяйственная Екатерина приказала изготовить из старых дворцовых скатертей и салфеток, которые таким необычным образом обрели вторую жизнь в новом благород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862800" y="41432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Катен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Александр"/>
          <p:cNvPicPr/>
          <p:nvPr/>
        </p:nvPicPr>
        <p:blipFill>
          <a:blip r:embed="rId1"/>
          <a:stretch/>
        </p:blipFill>
        <p:spPr>
          <a:xfrm>
            <a:off x="4357800" y="2928960"/>
            <a:ext cx="4681440" cy="2827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Донской"/>
          <p:cNvPicPr/>
          <p:nvPr/>
        </p:nvPicPr>
        <p:blipFill>
          <a:blip r:embed="rId2"/>
          <a:stretch/>
        </p:blipFill>
        <p:spPr>
          <a:xfrm>
            <a:off x="4643280" y="214200"/>
            <a:ext cx="4389480" cy="2497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Петр 1"/>
          <p:cNvPicPr/>
          <p:nvPr/>
        </p:nvPicPr>
        <p:blipFill>
          <a:blip r:embed="rId3"/>
          <a:stretch/>
        </p:blipFill>
        <p:spPr>
          <a:xfrm>
            <a:off x="0" y="1429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428760" y="40719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XIX век</a:t>
            </a:r>
            <a:br>
              <a:rPr sz="1800"/>
            </a:b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Земский врач получал 10-15 рублей в месяц, шкура медведя стоила 1,5-2 руб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85816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142920" y="357120"/>
            <a:ext cx="4286160" cy="557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4286160" y="142920"/>
            <a:ext cx="5086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3505320" y="2843280"/>
            <a:ext cx="5638680" cy="401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42920" y="-142920"/>
            <a:ext cx="66294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0" y="0"/>
            <a:ext cx="8305920" cy="4070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905120" y="3429000"/>
            <a:ext cx="723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4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1r1947"/>
          <p:cNvPicPr/>
          <p:nvPr/>
        </p:nvPicPr>
        <p:blipFill>
          <a:blip r:embed="rId1"/>
          <a:stretch/>
        </p:blipFill>
        <p:spPr>
          <a:xfrm>
            <a:off x="1219320" y="1523880"/>
            <a:ext cx="314172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5"/>
          <p:cNvGraphicFramePr/>
          <p:nvPr/>
        </p:nvGraphicFramePr>
        <p:xfrm>
          <a:off x="5442120" y="1600200"/>
          <a:ext cx="28638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2120" y="1600200"/>
                    <a:ext cx="286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среди различных картинок предметы, которые в старину были нужны каждому челов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" descr="ракушка"/>
          <p:cNvPicPr/>
          <p:nvPr/>
        </p:nvPicPr>
        <p:blipFill>
          <a:blip r:embed="rId1"/>
          <a:stretch/>
        </p:blipFill>
        <p:spPr>
          <a:xfrm>
            <a:off x="5000760" y="1785960"/>
            <a:ext cx="2492280" cy="16430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ромашки"/>
          <p:cNvPicPr/>
          <p:nvPr/>
        </p:nvPicPr>
        <p:blipFill>
          <a:blip r:embed="rId2"/>
          <a:stretch/>
        </p:blipFill>
        <p:spPr>
          <a:xfrm>
            <a:off x="357120" y="1785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лиса"/>
          <p:cNvPicPr/>
          <p:nvPr/>
        </p:nvPicPr>
        <p:blipFill>
          <a:blip r:embed="rId3"/>
          <a:stretch/>
        </p:blipFill>
        <p:spPr>
          <a:xfrm>
            <a:off x="285840" y="3429000"/>
            <a:ext cx="2355840" cy="15526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листья"/>
          <p:cNvPicPr/>
          <p:nvPr/>
        </p:nvPicPr>
        <p:blipFill>
          <a:blip r:embed="rId4"/>
          <a:stretch/>
        </p:blipFill>
        <p:spPr>
          <a:xfrm>
            <a:off x="2786040" y="3429000"/>
            <a:ext cx="216540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j0215508"/>
          <p:cNvPicPr/>
          <p:nvPr/>
        </p:nvPicPr>
        <p:blipFill>
          <a:blip r:embed="rId5"/>
          <a:stretch/>
        </p:blipFill>
        <p:spPr>
          <a:xfrm>
            <a:off x="2928960" y="5572080"/>
            <a:ext cx="1173240" cy="795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j0215520"/>
          <p:cNvPicPr/>
          <p:nvPr/>
        </p:nvPicPr>
        <p:blipFill>
          <a:blip r:embed="rId6"/>
          <a:stretch/>
        </p:blipFill>
        <p:spPr>
          <a:xfrm>
            <a:off x="1428840" y="5429160"/>
            <a:ext cx="147168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2велосипед"/>
          <p:cNvPicPr/>
          <p:nvPr/>
        </p:nvPicPr>
        <p:blipFill>
          <a:blip r:embed="rId7"/>
          <a:stretch/>
        </p:blipFill>
        <p:spPr>
          <a:xfrm>
            <a:off x="5072040" y="3500280"/>
            <a:ext cx="2000160" cy="1341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овца"/>
          <p:cNvPicPr/>
          <p:nvPr/>
        </p:nvPicPr>
        <p:blipFill>
          <a:blip r:embed="rId8"/>
          <a:stretch/>
        </p:blipFill>
        <p:spPr>
          <a:xfrm>
            <a:off x="2500200" y="1785960"/>
            <a:ext cx="2428920" cy="163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Соль"/>
          <p:cNvPicPr/>
          <p:nvPr/>
        </p:nvPicPr>
        <p:blipFill>
          <a:blip r:embed="rId9"/>
          <a:srcRect l="0" t="15875" r="0" b="0"/>
          <a:stretch/>
        </p:blipFill>
        <p:spPr>
          <a:xfrm>
            <a:off x="7500960" y="4929120"/>
            <a:ext cx="1428840" cy="1752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9" name="Picture 14" descr="http://im6-tub.mail.ru/i?id=146295431&amp;tov=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2920" y="5143680"/>
            <a:ext cx="127620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http://im6-tub.mail.ru/i?id=141166318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00960" y="178596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http://im7-tub.mail.ru/i?id=48172935&amp;tov=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43240" y="5143680"/>
            <a:ext cx="1095480" cy="153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http://im3-tub.mail.ru/i?id=117058291&amp;tov=3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58040" y="3571920"/>
            <a:ext cx="1614600" cy="13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4" descr="http://im0-tub.mail.ru/i?id=21605995&amp;tov=0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143680" y="5286240"/>
            <a:ext cx="226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6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90edcfa61eaa2485ab0b868749ecab2a_full"/>
          <p:cNvPicPr/>
          <p:nvPr/>
        </p:nvPicPr>
        <p:blipFill>
          <a:blip r:embed="rId1"/>
          <a:stretch/>
        </p:blipFill>
        <p:spPr>
          <a:xfrm>
            <a:off x="2357280" y="1785960"/>
            <a:ext cx="3886200" cy="1981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25_rub_1961_a"/>
          <p:cNvPicPr/>
          <p:nvPr/>
        </p:nvPicPr>
        <p:blipFill>
          <a:blip r:embed="rId2"/>
          <a:stretch/>
        </p:blipFill>
        <p:spPr>
          <a:xfrm>
            <a:off x="4952880" y="4114800"/>
            <a:ext cx="3810240" cy="19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10r1961"/>
          <p:cNvPicPr/>
          <p:nvPr/>
        </p:nvPicPr>
        <p:blipFill>
          <a:blip r:embed="rId3"/>
          <a:stretch/>
        </p:blipFill>
        <p:spPr>
          <a:xfrm>
            <a:off x="685800" y="41148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9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sovd2"/>
          <p:cNvPicPr/>
          <p:nvPr/>
        </p:nvPicPr>
        <p:blipFill>
          <a:blip r:embed="rId1"/>
          <a:stretch/>
        </p:blipFill>
        <p:spPr>
          <a:xfrm>
            <a:off x="357120" y="1500120"/>
            <a:ext cx="5105520" cy="231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im5-tub.mail.ru/i?id=44162511&amp;tov=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929040"/>
            <a:ext cx="52862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е день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6" descr="http://im6-tub.mail.ru/i?id=9394333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14800"/>
            <a:ext cx="5154480" cy="2214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im3-tub.mail.ru/i?id=1367682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857160"/>
            <a:ext cx="5487840" cy="2357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C:\D&amp;S\ЮРА\Мои документы\500 рублей.tif"/>
          <p:cNvPicPr/>
          <p:nvPr/>
        </p:nvPicPr>
        <p:blipFill>
          <a:blip r:embed="rId5"/>
          <a:stretch/>
        </p:blipFill>
        <p:spPr>
          <a:xfrm>
            <a:off x="-142920" y="3071880"/>
            <a:ext cx="5072040" cy="2208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C:\D&amp;S\ЮРА\Мои документы\1000.tif"/>
          <p:cNvPicPr/>
          <p:nvPr/>
        </p:nvPicPr>
        <p:blipFill>
          <a:blip r:embed="rId6"/>
          <a:stretch/>
        </p:blipFill>
        <p:spPr>
          <a:xfrm>
            <a:off x="0" y="857160"/>
            <a:ext cx="4857840" cy="2222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http://im2-tub.mail.ru/i?id=75490814&amp;tov=2"/>
          <p:cNvPicPr/>
          <p:nvPr/>
        </p:nvPicPr>
        <p:blipFill>
          <a:blip r:embed="rId7"/>
          <a:stretch/>
        </p:blipFill>
        <p:spPr>
          <a:xfrm>
            <a:off x="1357200" y="5286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http://im3-tub.mail.ru/i?id=96075366&amp;tov=3"/>
          <p:cNvPicPr/>
          <p:nvPr/>
        </p:nvPicPr>
        <p:blipFill>
          <a:blip r:embed="rId8"/>
          <a:stretch/>
        </p:blipFill>
        <p:spPr>
          <a:xfrm>
            <a:off x="3071880" y="5214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http://im3-tub.mail.ru/i?id=83119809&amp;tov=3"/>
          <p:cNvPicPr/>
          <p:nvPr/>
        </p:nvPicPr>
        <p:blipFill>
          <a:blip r:embed="rId9"/>
          <a:stretch/>
        </p:blipFill>
        <p:spPr>
          <a:xfrm>
            <a:off x="47149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2" descr="http://im4-tub.mail.ru/i?id=58179461&amp;tov=4"/>
          <p:cNvPicPr/>
          <p:nvPr/>
        </p:nvPicPr>
        <p:blipFill>
          <a:blip r:embed="rId10"/>
          <a:stretch/>
        </p:blipFill>
        <p:spPr>
          <a:xfrm>
            <a:off x="650088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Валюта разных стр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28760" y="1143000"/>
          <a:ext cx="8229600" cy="54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нежная 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о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и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арус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шинг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трия, Бельгия, Германия, Греция, Ирландия, Италия, Испания, Кипр, Люксембург, Мальта, Нидерланды, Португалия, Словения, Финляндия, Франци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т стерлин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нд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йский 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и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ло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ш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т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doll1"/>
          <p:cNvPicPr/>
          <p:nvPr/>
        </p:nvPicPr>
        <p:blipFill>
          <a:blip r:embed="rId1"/>
          <a:stretch/>
        </p:blipFill>
        <p:spPr>
          <a:xfrm>
            <a:off x="0" y="142920"/>
            <a:ext cx="5370480" cy="45306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2000160" y="46432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eu005-1"/>
          <p:cNvPicPr/>
          <p:nvPr/>
        </p:nvPicPr>
        <p:blipFill>
          <a:blip r:embed="rId2"/>
          <a:stretch/>
        </p:blipFill>
        <p:spPr>
          <a:xfrm>
            <a:off x="4792680" y="214200"/>
            <a:ext cx="4351320" cy="22240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6934320" y="27147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chin020-1"/>
          <p:cNvPicPr/>
          <p:nvPr/>
        </p:nvPicPr>
        <p:blipFill>
          <a:blip r:embed="rId3"/>
          <a:stretch/>
        </p:blipFill>
        <p:spPr>
          <a:xfrm>
            <a:off x="5038560" y="3357720"/>
            <a:ext cx="4105440" cy="19285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7148160" y="53578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jap00500-2"/>
          <p:cNvPicPr/>
          <p:nvPr/>
        </p:nvPicPr>
        <p:blipFill>
          <a:blip r:embed="rId4"/>
          <a:stretch/>
        </p:blipFill>
        <p:spPr>
          <a:xfrm>
            <a:off x="214200" y="4956120"/>
            <a:ext cx="4286520" cy="1901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0"/>
          <p:cNvSpPr/>
          <p:nvPr/>
        </p:nvSpPr>
        <p:spPr>
          <a:xfrm>
            <a:off x="4577760" y="6488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2" descr="http://im3-tub.mail.ru/i?id=135751882&amp;tov=3"/>
          <p:cNvPicPr/>
          <p:nvPr/>
        </p:nvPicPr>
        <p:blipFill>
          <a:blip r:embed="rId1"/>
          <a:stretch/>
        </p:blipFill>
        <p:spPr>
          <a:xfrm>
            <a:off x="2714760" y="4071960"/>
            <a:ext cx="5572080" cy="2786040"/>
          </a:xfrm>
          <a:prstGeom prst="rect">
            <a:avLst/>
          </a:prstGeom>
          <a:ln w="0">
            <a:noFill/>
          </a:ln>
        </p:spPr>
      </p:pic>
      <p:pic>
        <p:nvPicPr>
          <p:cNvPr id="301" name="Таблица 2" descr=""/>
          <p:cNvPicPr/>
          <p:nvPr/>
        </p:nvPicPr>
        <p:blipFill>
          <a:blip r:embed="rId2"/>
          <a:stretch/>
        </p:blipFill>
        <p:spPr>
          <a:xfrm>
            <a:off x="712800" y="712800"/>
            <a:ext cx="8145360" cy="34513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726560" y="214200"/>
            <a:ext cx="58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Что нового узнали о деньг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2920" y="107136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ервыми деньгами служили животные - скот. Скотником назывался КАЗНАЧЕЙ, ХРАНИТЕЛЬ ДЕНЕ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221472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Box 4"/>
          <p:cNvSpPr/>
          <p:nvPr/>
        </p:nvSpPr>
        <p:spPr>
          <a:xfrm>
            <a:off x="214200" y="50115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лово «капитал» произошло от латинского caput - голова, счет же скота вели по голо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итай, Япония – рис, чай, раков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, Азия– раковин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ибет - грецкие орехи, шел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уземцы Америки – тка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 – бусы, украш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еланезия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овая Твинга – собачьи зубы, пер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00068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85840" y="56437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Король Уганды приказал засеять поле бусами, но ему так и не удалось вырастить собственную мо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Мехо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еньгами служили и шкуры животных – песца, белки, соболя, кун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http://im4-tub.mail.ru/i?id=20401381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&amp;S\ЮРА\Мои документы\МАРИНА\КАРТИНКИ\животные\куницаE.jpg"/>
          <p:cNvPicPr/>
          <p:nvPr/>
        </p:nvPicPr>
        <p:blipFill>
          <a:blip r:embed="rId4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&amp;S\ЮРА\Мои документы\МАРИНА\КАРТИНКИ\животные\соболь.jpg"/>
          <p:cNvPicPr/>
          <p:nvPr/>
        </p:nvPicPr>
        <p:blipFill>
          <a:blip r:embed="rId5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D&amp;S\ЮРА\Мои документы\МАРИНА\КАРТИНКИ\животные\песец2.jpg"/>
          <p:cNvPicPr/>
          <p:nvPr/>
        </p:nvPicPr>
        <p:blipFill>
          <a:blip r:embed="rId6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Ракушки Каур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im0-tub.mail.ru/i?id=55807633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786120"/>
            <a:ext cx="330840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4" descr="ipage_1_2"/>
          <p:cNvPicPr/>
          <p:nvPr/>
        </p:nvPicPr>
        <p:blipFill>
          <a:blip r:embed="rId1"/>
          <a:stretch/>
        </p:blipFill>
        <p:spPr>
          <a:xfrm>
            <a:off x="6000840" y="1643040"/>
            <a:ext cx="1828800" cy="1785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Металлически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85560"/>
            <a:ext cx="8686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оявились заграничные монеты - серебряные арабские дир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ем появились свои металлические деньги. кусочки металла различной формы - ГРИ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214200" y="500076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Гривной раньше называли шею, загривок, а потом шейное украшение ожерелье. Когда появились монеты, то модницы стали делать из них ожерелья: и красиво, и кошелек, и сразу видно, какая ты богатая нев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ривна – серебряный слиток весом 170 – 200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Платежный слиток гривна 'черниговского' типа. XII-XIII века. Увеличи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5867280" cy="3168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Новгородские рубли - слитки. XIV-XV века. Увеличить"/>
          <p:cNvPicPr/>
          <p:nvPr/>
        </p:nvPicPr>
        <p:blipFill>
          <a:blip r:embed="rId3"/>
          <a:stretch/>
        </p:blipFill>
        <p:spPr>
          <a:xfrm>
            <a:off x="1295280" y="0"/>
            <a:ext cx="7848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08T11:46:59Z</dcterms:modified>
  <cp:revision>46</cp:revision>
  <dc:subject/>
  <dc:title>ИСТОРИЯ  ДЕНЕЖНОЙ ЕДИНИЦЫ РОССИИ</dc:title>
</cp:coreProperties>
</file>