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56.wmf" ContentType="image/x-wmf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9.jpeg" ContentType="image/jpeg"/>
  <Override PartName="/ppt/media/image12.png" ContentType="image/png"/>
  <Override PartName="/ppt/media/image23.jpeg" ContentType="image/jpeg"/>
  <Override PartName="/ppt/media/image1.jpeg" ContentType="image/jpeg"/>
  <Override PartName="/ppt/media/image35.jpeg" ContentType="image/jpeg"/>
  <Override PartName="/ppt/media/image41.jpeg" ContentType="image/jpeg"/>
  <Override PartName="/ppt/media/image14.jpeg" ContentType="image/jpeg"/>
  <Override PartName="/ppt/media/image15.jpeg" ContentType="image/jpeg"/>
  <Override PartName="/ppt/media/image21.jpeg" ContentType="image/jpeg"/>
  <Override PartName="/ppt/media/image24.jpeg" ContentType="image/jpeg"/>
  <Override PartName="/ppt/media/image16.jpeg" ContentType="image/jpeg"/>
  <Override PartName="/ppt/media/image60.jpeg" ContentType="image/jpeg"/>
  <Override PartName="/ppt/media/image37.jpeg" ContentType="image/jpeg"/>
  <Override PartName="/ppt/media/image61.jpeg" ContentType="image/jpeg"/>
  <Override PartName="/ppt/media/image4.jpeg" ContentType="image/jpeg"/>
  <Override PartName="/ppt/media/image8.wmf" ContentType="image/x-wmf"/>
  <Override PartName="/ppt/media/image22.jpeg" ContentType="image/jpeg"/>
  <Override PartName="/ppt/media/image75.png" ContentType="image/png"/>
  <Override PartName="/ppt/media/image74.jpeg" ContentType="image/jpeg"/>
  <Override PartName="/ppt/media/image69.jpeg" ContentType="image/jpeg"/>
  <Override PartName="/ppt/media/image9.wmf" ContentType="image/x-wmf"/>
  <Override PartName="/ppt/media/image73.jpeg" ContentType="image/jpeg"/>
  <Override PartName="/ppt/media/image68.jpeg" ContentType="image/jpeg"/>
  <Override PartName="/ppt/media/image72.jpeg" ContentType="image/jpeg"/>
  <Override PartName="/ppt/media/image67.jpeg" ContentType="image/jpeg"/>
  <Override PartName="/ppt/media/image71.jpeg" ContentType="image/jpeg"/>
  <Override PartName="/ppt/media/image66.jpeg" ContentType="image/jpeg"/>
  <Override PartName="/ppt/media/image70.jpeg" ContentType="image/jpeg"/>
  <Override PartName="/ppt/media/image65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19.jpeg" ContentType="image/jpeg"/>
  <Override PartName="/ppt/media/image63.jpeg" ContentType="image/jpeg"/>
  <Override PartName="/ppt/media/image6.jpeg" ContentType="image/jpeg"/>
  <Override PartName="/ppt/media/image18.jpeg" ContentType="image/jpeg"/>
  <Override PartName="/ppt/media/image62.jpeg" ContentType="image/jpeg"/>
  <Override PartName="/ppt/media/image5.jpeg" ContentType="image/jpeg"/>
  <Override PartName="/ppt/media/image2.jpeg" ContentType="image/jpeg"/>
  <Override PartName="/ppt/media/image36.jpeg" ContentType="image/jpeg"/>
  <Override PartName="/ppt/media/image17.jpeg" ContentType="image/jpeg"/>
  <Override PartName="/ppt/media/image3.png" ContentType="image/png"/>
  <Override PartName="/ppt/media/image25.jpeg" ContentType="image/jpeg"/>
  <Override PartName="/ppt/media/image26.jpeg" ContentType="image/jpeg"/>
  <Override PartName="/ppt/media/image29.jpeg" ContentType="image/jpeg"/>
  <Override PartName="/ppt/media/image52.jpeg" ContentType="image/jpeg"/>
  <Override PartName="/ppt/media/image10.jpeg" ContentType="image/jpeg"/>
  <Override PartName="/ppt/media/image27.jpeg" ContentType="image/jpeg"/>
  <Override PartName="/ppt/media/image50.jpeg" ContentType="image/jpeg"/>
  <Override PartName="/ppt/media/image11.jpeg" ContentType="image/jpeg"/>
  <Override PartName="/ppt/media/image28.jpeg" ContentType="image/jpeg"/>
  <Override PartName="/ppt/media/image51.jpeg" ContentType="image/jpeg"/>
  <Override PartName="/ppt/media/image20.jpeg" ContentType="image/jpeg"/>
  <Override PartName="/ppt/media/image13.jpeg" ContentType="image/jpeg"/>
  <Override PartName="/ppt/media/image40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1BE0-DD13-4799-9E5B-E178184FB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90CF-4B36-444B-8DF0-E954836CD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4DBB-39C0-4D34-BE72-3F30B4790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6CBB-1CD5-4FE2-B6EC-40D5E13B3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136F1-A013-4746-AB01-340514917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8E1BE-76D4-486E-B320-FA12141F3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A763B-6B9F-4808-B561-3BF060DE2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E47B1-7A11-46AC-922B-6F51923CE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59D82-5F27-484E-982F-D4B35EB45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41B9C-C810-4E89-93D7-93D12091E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E8A4D-942F-4A09-8C6E-00C117B7C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0892-7698-4538-BBE7-A5CABF408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651CC-C2F6-4311-8AEC-047F3A859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5B4C7-A9B8-4FAA-9665-3F858F936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5A62B-135E-4AB9-AE79-DAF26E217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DEFE8-40B9-48F8-BA0E-EF55410E5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9E395-0BB0-486B-ADCB-58FC5DE93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8F62AF-1360-4F8B-BECA-6589F1E26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2F916D-5F30-451B-9F6F-71883D5AC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59AF77-5CA5-41D4-9085-7C565D1F3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90B713-ED34-41C5-A33D-6AF509F4A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E50709-C2DC-4C10-9AF4-5C88BD023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92EF-56BA-406D-AC4A-34C641C65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BC4AE1-2197-419D-9E4F-070B5977A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417699-3D7B-4BE4-AC04-22047A346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DF9361-7FDE-41BE-BCA2-FB9DC5BAA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A46186-403B-4340-8383-941C264B7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18D2D4-E93F-4030-B954-AF35AB535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E6A5AF-2C70-46B1-937E-B158C586E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93BB32-2451-4248-9EC0-6AAA270C1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29FEE2-F1E1-4915-A6ED-59C8388A8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F9D10F-109A-41EC-83D0-00E0C6BCC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BB8452-9DE0-4FC1-8050-FC3C3368E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646A-5D5E-4F70-A8C8-9D053724A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905F35-B0DE-4E85-8AF8-A9F446BA8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989E15-3AE4-4FDB-8FE9-463B94389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D668B6-31B9-4864-899E-2A49CB592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E80CCD-085F-427C-936F-299A2EAA8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BAE6AC-CEC2-4534-B06B-89AC0A261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D2E21A-ACD2-4A5F-B954-89296A39B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DB7D7D-CD3E-40DF-B984-E4A643C7D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5DB36D-AD18-4DA9-92AC-BFB67905B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2941CF-B540-46AA-8DE1-7646AF865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BA66-C4AD-4E22-AD29-97627DC87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7B5A-C780-4758-9E12-4854F48B3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EBD8-3B98-4C69-925E-7AA205FE7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CDBE-734B-43C4-979A-88C5F0D66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A600-3BE6-44E7-98FB-C42747A90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3AE29-0F7C-453E-840F-7E1107C1AAE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21365-DA0C-4F3E-BCAE-4A84C8DBF62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F9FAA-4609-4ADC-9CB0-1EBDAF1A890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4C6EA-661B-422F-84D4-017B262AA68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Yvon_kremlin.jpg" TargetMode="External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go.mail.ru/frame.html?imgurl=http://www.habe.ru/lotsimg/40047s.jpg&amp;pageurl=http://www.habe.ru/%3Fmod%3Dhist%26act%3Dlot%26lotid%3D16780&amp;id=95185544&amp;iid=4&amp;imgwidth=119&amp;imgheight=120&amp;imgsize=45526&amp;images_links=b" TargetMode="External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2.jpeg"/><Relationship Id="rId3" Type="http://schemas.openxmlformats.org/officeDocument/2006/relationships/image" Target="../media/image48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56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12.png"/><Relationship Id="rId10" Type="http://schemas.openxmlformats.org/officeDocument/2006/relationships/hyperlink" Target="http://go.mail.ru/frame.html?imgurl=http://torgi.ok-link.ru/cache/pics/500/19248_Akulij_zub.jpg&amp;pageurl=http://rynok.yottos.com/JewelsResult.aspx%3Fpage%3D55&amp;id=146295431&amp;iid=6&amp;imgwidth=1170&amp;imgheight=1310&amp;imgsize=123683&amp;images_links=b" TargetMode="External"/><Relationship Id="rId11" Type="http://schemas.openxmlformats.org/officeDocument/2006/relationships/image" Target="../media/image13.jpeg"/><Relationship Id="rId12" Type="http://schemas.openxmlformats.org/officeDocument/2006/relationships/hyperlink" Target="http://go.mail.ru/frame.html?imgurl=http://infosite.org.ua/wp-content/uploads/2008/05/pero.jpeg&amp;pageurl=http://xakep.lv/user/tresor/news/page/1496/&amp;id=141166318&amp;iid=6&amp;imgwidth=421&amp;imgheight=500&amp;imgsize=14964&amp;images_links=b" TargetMode="External"/><Relationship Id="rId13" Type="http://schemas.openxmlformats.org/officeDocument/2006/relationships/image" Target="../media/image14.jpeg"/><Relationship Id="rId14" Type="http://schemas.openxmlformats.org/officeDocument/2006/relationships/hyperlink" Target="http://go.mail.ru/frame.html?imgurl=http://www.respublika.info/images/602b-sm.jpg&amp;pageurl=http://www.spim.ru/info/page%5F306%5F16.html&amp;id=48172935&amp;iid=7&amp;imgwidth=150&amp;imgheight=211&amp;imgsize=22772&amp;images_links=b" TargetMode="External"/><Relationship Id="rId15" Type="http://schemas.openxmlformats.org/officeDocument/2006/relationships/image" Target="../media/image15.jpeg"/><Relationship Id="rId16" Type="http://schemas.openxmlformats.org/officeDocument/2006/relationships/hyperlink" Target="http://go.mail.ru/frame.html?imgurl=http://www.1000dosok.ru/s/06-01-53069.jpg&amp;pageurl=http://www.1000dosok.ru/doski.php%3Fkr%3D15%26r%3D15-01%26n%3D258806&amp;id=117058291&amp;iid=3&amp;imgwidth=80&amp;imgheight=67&amp;imgsize=61433&amp;images_links=b" TargetMode="External"/><Relationship Id="rId17" Type="http://schemas.openxmlformats.org/officeDocument/2006/relationships/image" Target="../media/image16.jpeg"/><Relationship Id="rId18" Type="http://schemas.openxmlformats.org/officeDocument/2006/relationships/hyperlink" Target="http://go.mail.ru/frame.html?imgurl=http://www.bonusnsk.ru/products_pictures/s024s.jpg&amp;pageurl=http://evr-azia.ru/cat/382&amp;id=21605995&amp;iid=0&amp;imgwidth=100&amp;imgheight=51&amp;imgsize=56880&amp;images_links=b" TargetMode="External"/><Relationship Id="rId19" Type="http://schemas.openxmlformats.org/officeDocument/2006/relationships/image" Target="../media/image17.jpeg"/><Relationship Id="rId20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hyperlink" Target="http://go.mail.ru/frame.html?imgurl=http://www.timich.ru/_fr/1/4600981.jpg&amp;pageurl=http://globa.1nsk.ru/blog/50.html&amp;id=44162511&amp;iid=5&amp;imgwidth=500&amp;imgheight=256&amp;imgsize=87483&amp;images_links=b" TargetMode="External"/><Relationship Id="rId3" Type="http://schemas.openxmlformats.org/officeDocument/2006/relationships/image" Target="../media/image61.jpe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go.mail.ru/frame.html?imgurl=http://bonistica.narod.ru/photogallery/97_rus/10-97-2.jpg&amp;pageurl=http://ka-r-dan.agava.ru/money/h%5Fp69/1997-10.htm&amp;id=9394333&amp;iid=6&amp;imgwidth=500&amp;imgheight=216&amp;imgsize=13156&amp;images_links=b" TargetMode="External"/><Relationship Id="rId2" Type="http://schemas.openxmlformats.org/officeDocument/2006/relationships/image" Target="../media/image62.jpeg"/><Relationship Id="rId3" Type="http://schemas.openxmlformats.org/officeDocument/2006/relationships/hyperlink" Target="http://go.mail.ru/frame.html?imgurl=http://nensberg.narod.ru/russia/img01/97r100-2.jpg&amp;pageurl=http://nensberg.narod.ru/russia/img01/97.html&amp;id=1367682&amp;iid=3&amp;imgwidth=500&amp;imgheight=216&amp;imgsize=54601&amp;images_links=b" TargetMode="External"/><Relationship Id="rId4" Type="http://schemas.openxmlformats.org/officeDocument/2006/relationships/image" Target="../media/image63.jpeg"/><Relationship Id="rId5" Type="http://schemas.openxmlformats.org/officeDocument/2006/relationships/image" Target="../media/image64.jpeg"/><Relationship Id="rId6" Type="http://schemas.openxmlformats.org/officeDocument/2006/relationships/image" Target="../media/image65.jpeg"/><Relationship Id="rId7" Type="http://schemas.openxmlformats.org/officeDocument/2006/relationships/image" Target="../media/image66.jpeg"/><Relationship Id="rId8" Type="http://schemas.openxmlformats.org/officeDocument/2006/relationships/image" Target="../media/image67.jpeg"/><Relationship Id="rId9" Type="http://schemas.openxmlformats.org/officeDocument/2006/relationships/image" Target="../media/image68.jpeg"/><Relationship Id="rId10" Type="http://schemas.openxmlformats.org/officeDocument/2006/relationships/image" Target="../media/image69.jpeg"/><Relationship Id="rId1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image" Target="../media/image71.jpeg"/><Relationship Id="rId3" Type="http://schemas.openxmlformats.org/officeDocument/2006/relationships/image" Target="../media/image72.jpeg"/><Relationship Id="rId4" Type="http://schemas.openxmlformats.org/officeDocument/2006/relationships/image" Target="../media/image73.jpeg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image" Target="../media/image7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go.mail.ru/frame.html?imgurl=http://www.umaine.edu/grazingguide/grazenortheast/images/animal2.jpg&amp;pageurl=http://uk.wikipedia.org/wiki/&#1050;&#1086;&#1088;&#1086;&#1074;&#1080;&amp;id=60195841&amp;iid=7&amp;imgwidth=258&amp;imgheight=181&amp;imgsize=104765&amp;images_links=b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go.mail.ru/frame.html?imgurl=http://www.santana.ru/cat.file/lisa/lisa1-1+.jpg&amp;pageurl=http://www.santana.ru/cat1/lisa1/lisa1-1.htm&amp;id=20401381&amp;iid=4&amp;imgwidth=800&amp;imgheight=443&amp;imgsize=310028&amp;images_links=b" TargetMode="External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go.mail.ru/frame.html?imgurl=http://design.ru-deluxe.ru/uploads/posts/2008-07/1214996563_rakushka.jpg&amp;pageurl=http://design.ru-deluxe.ru/page/206/&amp;id=55807633&amp;iid=0&amp;imgwidth=400&amp;imgheight=400&amp;imgsize=37933&amp;images_links=b" TargetMode="Externa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li.ru/go?www.beseder.co.il/http://www.beseder.co.il/wp-content/uploads/2005/06/1118756618.jpg" TargetMode="External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ИСТОРИЯ  ДЕНЕЖНОЙ ЕДИНИЦЫ РОСС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143000" y="5105520"/>
            <a:ext cx="6843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98989"/>
                </a:solidFill>
                <a:latin typeface="Calibri"/>
              </a:rPr>
              <a:t>Материал подготовила учитель начальных классов МОУ лицея №7 Воронина Марина Михайлов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Picture 5" descr="8-20040304145312"/>
          <p:cNvPicPr/>
          <p:nvPr/>
        </p:nvPicPr>
        <p:blipFill>
          <a:blip r:embed="rId1"/>
          <a:stretch/>
        </p:blipFill>
        <p:spPr>
          <a:xfrm>
            <a:off x="6356520" y="2381400"/>
            <a:ext cx="1904760" cy="19144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7" descr="Донской"/>
          <p:cNvPicPr/>
          <p:nvPr/>
        </p:nvPicPr>
        <p:blipFill>
          <a:blip r:embed="rId2"/>
          <a:stretch/>
        </p:blipFill>
        <p:spPr>
          <a:xfrm>
            <a:off x="1214280" y="1785960"/>
            <a:ext cx="4389480" cy="24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Первые металлические деньги</a:t>
            </a:r>
            <a:br>
              <a:rPr sz="3200"/>
            </a:b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в других страна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Первые круглые металлические деньги появились в Лидии, еще в 7 веке до нашей эры, на территории нынешней Турции, Из Лидии чеканка монет быстро распространилась в Грецию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Греки первыми стали выбивать на монетах изображения живых людей. Потом стали чеканить монеты Рим и позднее Западная Европ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В Киевской Руси первые чеканные монеты появились в 9-10 веках. В обращении одновременно находились златники  и сребреник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У монеты лицевая сторона называлась - аверс, оборотная - реверс, обрез - гур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На Руси серебряные монеты Киевского князя Владимира появились в Х веке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2" name="Рисунок 12" descr="Владимир серебрянник"/>
          <p:cNvPicPr/>
          <p:nvPr/>
        </p:nvPicPr>
        <p:blipFill>
          <a:blip r:embed="rId1"/>
          <a:stretch/>
        </p:blipFill>
        <p:spPr>
          <a:xfrm>
            <a:off x="1071720" y="2357280"/>
            <a:ext cx="7089480" cy="3429000"/>
          </a:xfrm>
          <a:prstGeom prst="rect">
            <a:avLst/>
          </a:prstGeom>
          <a:ln w="0">
            <a:noFill/>
          </a:ln>
        </p:spPr>
      </p:pic>
      <p:sp>
        <p:nvSpPr>
          <p:cNvPr id="213" name="TextBox 3"/>
          <p:cNvSpPr/>
          <p:nvPr/>
        </p:nvSpPr>
        <p:spPr>
          <a:xfrm>
            <a:off x="2585880" y="6143760"/>
            <a:ext cx="41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Володимир на столе, а се его серебро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5"/>
          <p:cNvSpPr/>
          <p:nvPr/>
        </p:nvSpPr>
        <p:spPr>
          <a:xfrm>
            <a:off x="3866400" y="2071800"/>
            <a:ext cx="135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Серебря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8" descr="http://upload.wikimedia.org/wikipedia/commons/thumb/a/ac/Yvon_kremlin.jpg/275px-Yvon_kremli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Безмонетное время на Руси</a:t>
            </a:r>
            <a:r>
              <a:rPr b="0" lang="ru-RU" sz="3200" spc="-1" strike="noStrike">
                <a:solidFill>
                  <a:srgbClr val="1f497d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На Русь напали татаpo-монголы (1223 – 1480)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380520" y="609480"/>
            <a:ext cx="84582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f497d"/>
                </a:solidFill>
                <a:latin typeface="Arial"/>
                <a:ea typeface="Arial"/>
              </a:rPr>
              <a:t>В 12 – 13 веках русские монеты исчезли из обращения, так как Киевская Русь распалась на княжества, и чеканка единой монеты прекратилась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f497d"/>
                </a:solidFill>
                <a:latin typeface="Arial"/>
                <a:ea typeface="Arial"/>
              </a:rPr>
              <a:t>В 1380 г. Дмитрий Донской начал чеканить свою монету по образцу золотоордынского дирхема. Она называлась «деньга» (араб. «данник»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f497d"/>
                </a:solidFill>
                <a:latin typeface="Arial"/>
                <a:ea typeface="Arial"/>
              </a:rPr>
              <a:t>Деньгами стали служить гривны. Покупательная способность её была очень велика: за одну гривну давали 200 беличьих шкурок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9" name="Picture 5" descr="Новгородские рубли - слитки. XIV-XV века. Увеличить"/>
          <p:cNvPicPr/>
          <p:nvPr/>
        </p:nvPicPr>
        <p:blipFill>
          <a:blip r:embed="rId1"/>
          <a:stretch/>
        </p:blipFill>
        <p:spPr>
          <a:xfrm>
            <a:off x="1000080" y="4357800"/>
            <a:ext cx="727236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4" descr="http://numizmat.ru/netcat_files/Image/vis-5b.jpg"/>
          <p:cNvPicPr/>
          <p:nvPr/>
        </p:nvPicPr>
        <p:blipFill>
          <a:blip r:embed="rId1"/>
          <a:stretch/>
        </p:blipFill>
        <p:spPr>
          <a:xfrm>
            <a:off x="4643280" y="3932280"/>
            <a:ext cx="4500720" cy="292572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7375e"/>
                </a:solidFill>
                <a:latin typeface="Arial"/>
                <a:ea typeface="Arial"/>
              </a:rPr>
              <a:t>Монеты на Рус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Гривну рубили на части – отсюда название рубль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Когда товар стоил дешевле, рубль разрубали пополам – получались две полтины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3" name="Picture 6" descr="http://numizmat.ru/netcat_files/Image/image002_edited(5).jpg"/>
          <p:cNvPicPr/>
          <p:nvPr/>
        </p:nvPicPr>
        <p:blipFill>
          <a:blip r:embed="rId2"/>
          <a:stretch/>
        </p:blipFill>
        <p:spPr>
          <a:xfrm>
            <a:off x="2214720" y="1500120"/>
            <a:ext cx="292392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214200" y="333360"/>
            <a:ext cx="4857840" cy="616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Главной монетой на Руси была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копейк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серебряная монета весом 0,7г с изображением всадника с копьем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олкопейки –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деньг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четверть-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полушка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r>
              <a:rPr b="0" i="1" lang="en-US" sz="2400" spc="-1" strike="noStrike">
                <a:solidFill>
                  <a:srgbClr val="0070c0"/>
                </a:solidFill>
                <a:latin typeface="Arial"/>
                <a:ea typeface="Arial"/>
              </a:rPr>
              <a:t>Эти мелкие деньги прятали за щек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Алтын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три копей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Гро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– две копейк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Гривенни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десять копеек, а также полтина и рубль существовали только в качестве счетных единиц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5" name="Picture 13" descr="1-20040304145312"/>
          <p:cNvPicPr/>
          <p:nvPr/>
        </p:nvPicPr>
        <p:blipFill>
          <a:blip r:embed="rId1"/>
          <a:stretch/>
        </p:blipFill>
        <p:spPr>
          <a:xfrm>
            <a:off x="5429160" y="142920"/>
            <a:ext cx="2714760" cy="53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Грош – 2 копей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7" name="Рисунок 15" descr="грош"/>
          <p:cNvPicPr/>
          <p:nvPr/>
        </p:nvPicPr>
        <p:blipFill>
          <a:blip r:embed="rId1"/>
          <a:stretch/>
        </p:blipFill>
        <p:spPr>
          <a:xfrm>
            <a:off x="1643040" y="1857240"/>
            <a:ext cx="576432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Алтын – 3 копей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9" name="Рисунок 16" descr="алтын"/>
          <p:cNvPicPr/>
          <p:nvPr/>
        </p:nvPicPr>
        <p:blipFill>
          <a:blip r:embed="rId1"/>
          <a:stretch/>
        </p:blipFill>
        <p:spPr>
          <a:xfrm>
            <a:off x="1714680" y="1857240"/>
            <a:ext cx="566244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Деньга – ½ копейки или полкопей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1" name="Рисунок 17" descr="денежка"/>
          <p:cNvPicPr/>
          <p:nvPr/>
        </p:nvPicPr>
        <p:blipFill>
          <a:blip r:embed="rId1"/>
          <a:stretch/>
        </p:blipFill>
        <p:spPr>
          <a:xfrm>
            <a:off x="1214280" y="2000160"/>
            <a:ext cx="6743880" cy="34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Полушка – ¼ копей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3" name="Рисунок 19" descr="полушка"/>
          <p:cNvPicPr/>
          <p:nvPr/>
        </p:nvPicPr>
        <p:blipFill>
          <a:blip r:embed="rId1"/>
          <a:stretch/>
        </p:blipFill>
        <p:spPr>
          <a:xfrm>
            <a:off x="1428840" y="1785960"/>
            <a:ext cx="622116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Таблица 3" descr=""/>
          <p:cNvPicPr/>
          <p:nvPr/>
        </p:nvPicPr>
        <p:blipFill>
          <a:blip r:embed="rId1"/>
          <a:stretch/>
        </p:blipFill>
        <p:spPr>
          <a:xfrm>
            <a:off x="500040" y="712800"/>
            <a:ext cx="835812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2" descr="http://im4-tub.mail.ru/i?id=95185544&amp;tov=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143240" y="428760"/>
            <a:ext cx="3214800" cy="321444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3757680" cy="5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Arial"/>
                <a:ea typeface="Arial"/>
              </a:rPr>
              <a:t>Цены </a:t>
            </a:r>
            <a:r>
              <a:rPr b="1" lang="en-US" sz="3200" spc="-1" strike="noStrike">
                <a:solidFill>
                  <a:srgbClr val="1f497d"/>
                </a:solidFill>
                <a:latin typeface="Arial"/>
                <a:ea typeface="Arial"/>
              </a:rPr>
              <a:t>XVII </a:t>
            </a:r>
            <a:r>
              <a:rPr b="1" lang="ru-RU" sz="3200" spc="-1" strike="noStrike">
                <a:solidFill>
                  <a:srgbClr val="1f497d"/>
                </a:solidFill>
                <a:latin typeface="Arial"/>
                <a:ea typeface="Arial"/>
              </a:rPr>
              <a:t>ве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411480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Курица стоила копейку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уд масла- 60 копеек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теленок – рубль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воз огурцов – копейка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одну копейку в день получал за свою работу плотник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за 3 копейки можно было купить крестьянскую изб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f497d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7" name="Picture 2" descr="http://numizmat.ru/netcat_files/Image/image002(87).jpg"/>
          <p:cNvPicPr/>
          <p:nvPr/>
        </p:nvPicPr>
        <p:blipFill>
          <a:blip r:embed="rId3"/>
          <a:stretch/>
        </p:blipFill>
        <p:spPr>
          <a:xfrm>
            <a:off x="6630840" y="3571920"/>
            <a:ext cx="2513160" cy="2500200"/>
          </a:xfrm>
          <a:prstGeom prst="rect">
            <a:avLst/>
          </a:prstGeom>
          <a:ln w="0">
            <a:noFill/>
          </a:ln>
        </p:spPr>
      </p:pic>
      <p:sp>
        <p:nvSpPr>
          <p:cNvPr id="238" name="TextBox 7"/>
          <p:cNvSpPr/>
          <p:nvPr/>
        </p:nvSpPr>
        <p:spPr>
          <a:xfrm>
            <a:off x="6075720" y="0"/>
            <a:ext cx="20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Гривенник = 10 ко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8"/>
          <p:cNvSpPr/>
          <p:nvPr/>
        </p:nvSpPr>
        <p:spPr>
          <a:xfrm>
            <a:off x="8161200" y="3286080"/>
            <a:ext cx="104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Копей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8"/>
          <p:cNvSpPr/>
          <p:nvPr/>
        </p:nvSpPr>
        <p:spPr>
          <a:xfrm>
            <a:off x="0" y="5103720"/>
            <a:ext cx="6215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1f497d"/>
                </a:solidFill>
                <a:latin typeface="Arial"/>
                <a:ea typeface="Arial"/>
              </a:rPr>
              <a:t>Для мелких покупок использовались медные деньги- куны, пироги, полпироги и полполпироги. Поскольку такие монеты никто не складывал в кубышку, мы не знаем, как они выглядел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1f497d"/>
                </a:solidFill>
                <a:latin typeface="Arial"/>
                <a:ea typeface="Arial"/>
              </a:rPr>
              <a:t>1 рубль = 100 копеек или 200 денег или 400 полуше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Arial"/>
                <a:ea typeface="Arial"/>
              </a:rPr>
              <a:t>Реформы Петра </a:t>
            </a:r>
            <a:r>
              <a:rPr b="1" lang="en-US" sz="3200" spc="-1" strike="noStrike">
                <a:solidFill>
                  <a:srgbClr val="1f497d"/>
                </a:solidFill>
                <a:latin typeface="Arial"/>
                <a:ea typeface="Arial"/>
              </a:rPr>
              <a:t>I</a:t>
            </a:r>
            <a:r>
              <a:rPr b="1" lang="ru-RU" sz="3200" spc="-1" strike="noStrike">
                <a:solidFill>
                  <a:srgbClr val="1f497d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785880"/>
            <a:ext cx="8229600" cy="13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и Петр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начался выпуск золотой монеты. В 18 веке распространённой золотой монетой стал червонец (3 рубля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3" name="Picture 4" descr="1714"/>
          <p:cNvPicPr/>
          <p:nvPr/>
        </p:nvPicPr>
        <p:blipFill>
          <a:blip r:embed="rId1"/>
          <a:stretch/>
        </p:blipFill>
        <p:spPr>
          <a:xfrm>
            <a:off x="1500120" y="1928880"/>
            <a:ext cx="6858000" cy="3352680"/>
          </a:xfrm>
          <a:prstGeom prst="rect">
            <a:avLst/>
          </a:prstGeom>
          <a:ln w="0">
            <a:noFill/>
          </a:ln>
        </p:spPr>
      </p:pic>
      <p:sp>
        <p:nvSpPr>
          <p:cNvPr id="244" name="TextBox 4"/>
          <p:cNvSpPr/>
          <p:nvPr/>
        </p:nvSpPr>
        <p:spPr>
          <a:xfrm>
            <a:off x="214200" y="5572080"/>
            <a:ext cx="8786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800" spc="-1" strike="noStrike">
                <a:solidFill>
                  <a:srgbClr val="1f497d"/>
                </a:solidFill>
                <a:latin typeface="Calibri"/>
              </a:rPr>
              <a:t>Начали выпускать </a:t>
            </a:r>
            <a:r>
              <a:rPr b="0" i="1" lang="ru-RU" sz="1800" spc="-1" strike="noStrike" u="sng">
                <a:solidFill>
                  <a:srgbClr val="1f497d"/>
                </a:solidFill>
                <a:uFillTx/>
                <a:latin typeface="Calibri"/>
              </a:rPr>
              <a:t>медные</a:t>
            </a:r>
            <a:r>
              <a:rPr b="0" i="1" lang="ru-RU" sz="1800" spc="-1" strike="noStrike">
                <a:solidFill>
                  <a:srgbClr val="1f497d"/>
                </a:solidFill>
                <a:latin typeface="Calibri"/>
              </a:rPr>
              <a:t> деньги, полушки, полуполушки, затем в 1701 году - появилась полтина, полуполтина, гривен и пятачок, а в 1704г- серебряный рубль и медная копей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85520" y="356760"/>
            <a:ext cx="7491240" cy="53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Calibri"/>
              </a:rPr>
              <a:t>Интересный фак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6" name="Picture 448" descr="get_photo_py(12)"/>
          <p:cNvPicPr/>
          <p:nvPr/>
        </p:nvPicPr>
        <p:blipFill>
          <a:blip r:embed="rId1"/>
          <a:stretch/>
        </p:blipFill>
        <p:spPr>
          <a:xfrm>
            <a:off x="6858000" y="214200"/>
            <a:ext cx="2087640" cy="208764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449" descr="get_photo_py(2)"/>
          <p:cNvPicPr/>
          <p:nvPr/>
        </p:nvPicPr>
        <p:blipFill>
          <a:blip r:embed="rId2"/>
          <a:stretch/>
        </p:blipFill>
        <p:spPr>
          <a:xfrm>
            <a:off x="6858000" y="2571840"/>
            <a:ext cx="2160720" cy="216036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285840" y="1071720"/>
            <a:ext cx="5214960" cy="20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Михайло Ломоносов получал во время учебы полторы копейки в день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 1748 г. Михайлу Ломоносову была выплачена государственная премия в размере 2 тыс. рублей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9" name="Picture 4" descr="Иоанн Антонович, Рубль 1741, СПБ"/>
          <p:cNvPicPr/>
          <p:nvPr/>
        </p:nvPicPr>
        <p:blipFill>
          <a:blip r:embed="rId3"/>
          <a:stretch/>
        </p:blipFill>
        <p:spPr>
          <a:xfrm>
            <a:off x="142920" y="4819680"/>
            <a:ext cx="4000320" cy="20383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7" descr="1161472704_52"/>
          <p:cNvPicPr/>
          <p:nvPr/>
        </p:nvPicPr>
        <p:blipFill>
          <a:blip r:embed="rId4"/>
          <a:stretch/>
        </p:blipFill>
        <p:spPr>
          <a:xfrm>
            <a:off x="4572000" y="4714920"/>
            <a:ext cx="4386240" cy="2336760"/>
          </a:xfrm>
          <a:prstGeom prst="rect">
            <a:avLst/>
          </a:prstGeom>
          <a:ln w="0">
            <a:noFill/>
          </a:ln>
        </p:spPr>
      </p:pic>
      <p:sp>
        <p:nvSpPr>
          <p:cNvPr id="251" name="TextBox 7"/>
          <p:cNvSpPr/>
          <p:nvPr/>
        </p:nvSpPr>
        <p:spPr>
          <a:xfrm>
            <a:off x="285840" y="3143160"/>
            <a:ext cx="5929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1f497d"/>
                </a:solidFill>
                <a:latin typeface="Arial"/>
                <a:ea typeface="Arial"/>
              </a:rPr>
              <a:t>Правда, бумажных денег в России тогда еще не было, а серебряных и, тем более, золотых монет не хватало. Пришлось светилу науки российской везти подарочек - 3,5 т медных монет - на десятке подв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57160" y="-36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Arial"/>
                <a:ea typeface="Arial"/>
              </a:rPr>
              <a:t>Бумажные деньг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28400" y="856800"/>
            <a:ext cx="5500440" cy="20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1f497d"/>
                </a:solidFill>
                <a:latin typeface="Arial"/>
                <a:ea typeface="Arial"/>
              </a:rPr>
              <a:t>Бумажные деньги были изобретены в Китае в </a:t>
            </a:r>
            <a:r>
              <a:rPr b="0" i="1" lang="en-US" sz="2200" spc="-1" strike="noStrike">
                <a:solidFill>
                  <a:srgbClr val="1f497d"/>
                </a:solidFill>
                <a:latin typeface="Arial"/>
                <a:ea typeface="Arial"/>
              </a:rPr>
              <a:t>VIII</a:t>
            </a:r>
            <a:r>
              <a:rPr b="0" i="1" lang="ru-RU" sz="2200" spc="-1" strike="noStrike">
                <a:solidFill>
                  <a:srgbClr val="1f497d"/>
                </a:solidFill>
                <a:latin typeface="Arial"/>
                <a:ea typeface="Arial"/>
              </a:rPr>
              <a:t> веке. А в России бумажные деньги появились в 1769 г при Екатерине </a:t>
            </a:r>
            <a:r>
              <a:rPr b="0" i="1" lang="en-US" sz="2200" spc="-1" strike="noStrike">
                <a:solidFill>
                  <a:srgbClr val="1f497d"/>
                </a:solidFill>
                <a:latin typeface="Arial"/>
                <a:ea typeface="Arial"/>
              </a:rPr>
              <a:t>II. </a:t>
            </a:r>
            <a:r>
              <a:rPr b="0" i="1" lang="ru-RU" sz="2200" spc="-1" strike="noStrike">
                <a:solidFill>
                  <a:srgbClr val="1f497d"/>
                </a:solidFill>
                <a:latin typeface="Arial"/>
                <a:ea typeface="Arial"/>
              </a:rPr>
              <a:t>Их название «ассигнации» происходит от латинского «назначать, вводить в обращение»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4" name="Picture 5" descr="!0 екат"/>
          <p:cNvPicPr/>
          <p:nvPr/>
        </p:nvPicPr>
        <p:blipFill>
          <a:blip r:embed="rId1"/>
          <a:stretch/>
        </p:blipFill>
        <p:spPr>
          <a:xfrm>
            <a:off x="6097680" y="1571760"/>
            <a:ext cx="3046320" cy="528624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6" descr="1892 год"/>
          <p:cNvPicPr/>
          <p:nvPr/>
        </p:nvPicPr>
        <p:blipFill>
          <a:blip r:embed="rId2"/>
          <a:stretch/>
        </p:blipFill>
        <p:spPr>
          <a:xfrm>
            <a:off x="0" y="2928960"/>
            <a:ext cx="619128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5" descr="Екатерина"/>
          <p:cNvPicPr/>
          <p:nvPr/>
        </p:nvPicPr>
        <p:blipFill>
          <a:blip r:embed="rId1"/>
          <a:srcRect l="0" t="0" r="23371" b="0"/>
          <a:stretch/>
        </p:blipFill>
        <p:spPr>
          <a:xfrm>
            <a:off x="1357200" y="0"/>
            <a:ext cx="7000920" cy="4184640"/>
          </a:xfrm>
          <a:prstGeom prst="rect">
            <a:avLst/>
          </a:prstGeom>
          <a:ln w="0">
            <a:noFill/>
          </a:ln>
        </p:spPr>
      </p:pic>
      <p:sp>
        <p:nvSpPr>
          <p:cNvPr id="257" name="TextBox 4"/>
          <p:cNvSpPr/>
          <p:nvPr/>
        </p:nvSpPr>
        <p:spPr>
          <a:xfrm>
            <a:off x="0" y="5000760"/>
            <a:ext cx="9001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1f497d"/>
                </a:solidFill>
                <a:latin typeface="Arial"/>
                <a:ea typeface="Arial"/>
              </a:rPr>
              <a:t>Самые первые российские ассигнации хозяйственная Екатерина приказала изготовить из старых дворцовых скатертей и салфеток, которые таким необычным образом обрели вторую жизнь в новом благородном ви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5"/>
          <p:cNvSpPr/>
          <p:nvPr/>
        </p:nvSpPr>
        <p:spPr>
          <a:xfrm>
            <a:off x="3862800" y="4143240"/>
            <a:ext cx="12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«Катень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6" descr="Александр"/>
          <p:cNvPicPr/>
          <p:nvPr/>
        </p:nvPicPr>
        <p:blipFill>
          <a:blip r:embed="rId1"/>
          <a:stretch/>
        </p:blipFill>
        <p:spPr>
          <a:xfrm>
            <a:off x="4357800" y="2928960"/>
            <a:ext cx="4681440" cy="282744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7" descr="Донской"/>
          <p:cNvPicPr/>
          <p:nvPr/>
        </p:nvPicPr>
        <p:blipFill>
          <a:blip r:embed="rId2"/>
          <a:stretch/>
        </p:blipFill>
        <p:spPr>
          <a:xfrm>
            <a:off x="4643280" y="214200"/>
            <a:ext cx="4389480" cy="249732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6" descr="Петр 1"/>
          <p:cNvPicPr/>
          <p:nvPr/>
        </p:nvPicPr>
        <p:blipFill>
          <a:blip r:embed="rId3"/>
          <a:stretch/>
        </p:blipFill>
        <p:spPr>
          <a:xfrm>
            <a:off x="0" y="142920"/>
            <a:ext cx="4608360" cy="2708280"/>
          </a:xfrm>
          <a:prstGeom prst="rect">
            <a:avLst/>
          </a:prstGeom>
          <a:ln w="0">
            <a:noFill/>
          </a:ln>
        </p:spPr>
      </p:pic>
      <p:sp>
        <p:nvSpPr>
          <p:cNvPr id="262" name="TextBox 7"/>
          <p:cNvSpPr/>
          <p:nvPr/>
        </p:nvSpPr>
        <p:spPr>
          <a:xfrm>
            <a:off x="428760" y="4071960"/>
            <a:ext cx="3786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1f497d"/>
                </a:solidFill>
                <a:latin typeface="Arial"/>
                <a:ea typeface="Arial"/>
              </a:rPr>
              <a:t>XIX век</a:t>
            </a:r>
            <a:br>
              <a:rPr sz="1800"/>
            </a:br>
            <a:r>
              <a:rPr b="0" i="1" lang="en-US" sz="1800" spc="-1" strike="noStrike">
                <a:solidFill>
                  <a:srgbClr val="1f497d"/>
                </a:solidFill>
                <a:latin typeface="Arial"/>
                <a:ea typeface="Arial"/>
              </a:rPr>
              <a:t>Земский врач получал 10-15 рублей в месяц, шкура медведя стоила 1,5-2 рубл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0" y="533160"/>
            <a:ext cx="8858160" cy="15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Arial"/>
                <a:ea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4" name="Picture 4" descr="История русских денег - коллекция купюр разных лет!"/>
          <p:cNvPicPr/>
          <p:nvPr/>
        </p:nvPicPr>
        <p:blipFill>
          <a:blip r:embed="rId1"/>
          <a:stretch/>
        </p:blipFill>
        <p:spPr>
          <a:xfrm>
            <a:off x="142920" y="357120"/>
            <a:ext cx="4286160" cy="557208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6" descr="История русских денег - коллекция купюр разных лет!"/>
          <p:cNvPicPr/>
          <p:nvPr/>
        </p:nvPicPr>
        <p:blipFill>
          <a:blip r:embed="rId2"/>
          <a:stretch/>
        </p:blipFill>
        <p:spPr>
          <a:xfrm>
            <a:off x="4286160" y="142920"/>
            <a:ext cx="5086440" cy="63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4" descr="История русских денег - коллекция купюр разных лет!"/>
          <p:cNvPicPr/>
          <p:nvPr/>
        </p:nvPicPr>
        <p:blipFill>
          <a:blip r:embed="rId1"/>
          <a:stretch/>
        </p:blipFill>
        <p:spPr>
          <a:xfrm>
            <a:off x="3505320" y="2843280"/>
            <a:ext cx="5638680" cy="401472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5" descr="История русских денег - коллекция купюр разных лет!"/>
          <p:cNvPicPr/>
          <p:nvPr/>
        </p:nvPicPr>
        <p:blipFill>
          <a:blip r:embed="rId2"/>
          <a:stretch/>
        </p:blipFill>
        <p:spPr>
          <a:xfrm>
            <a:off x="142920" y="-142920"/>
            <a:ext cx="6629400" cy="34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4" descr="История русских денег - коллекция купюр разных лет!"/>
          <p:cNvPicPr/>
          <p:nvPr/>
        </p:nvPicPr>
        <p:blipFill>
          <a:blip r:embed="rId1"/>
          <a:stretch/>
        </p:blipFill>
        <p:spPr>
          <a:xfrm>
            <a:off x="0" y="0"/>
            <a:ext cx="8305920" cy="407052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5" descr="История русских денег - коллекция купюр разных лет!"/>
          <p:cNvPicPr/>
          <p:nvPr/>
        </p:nvPicPr>
        <p:blipFill>
          <a:blip r:embed="rId2"/>
          <a:stretch/>
        </p:blipFill>
        <p:spPr>
          <a:xfrm>
            <a:off x="1905120" y="3429000"/>
            <a:ext cx="723888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Arial"/>
                <a:ea typeface="Arial"/>
              </a:rPr>
              <a:t>Банкноты 1947 го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1" name="Picture 4" descr="1r1947"/>
          <p:cNvPicPr/>
          <p:nvPr/>
        </p:nvPicPr>
        <p:blipFill>
          <a:blip r:embed="rId1"/>
          <a:stretch/>
        </p:blipFill>
        <p:spPr>
          <a:xfrm>
            <a:off x="1219320" y="1523880"/>
            <a:ext cx="3141720" cy="4724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2" name="Object 5"/>
          <p:cNvGraphicFramePr/>
          <p:nvPr/>
        </p:nvGraphicFramePr>
        <p:xfrm>
          <a:off x="5442120" y="1600200"/>
          <a:ext cx="2863800" cy="47242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73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442120" y="1600200"/>
                    <a:ext cx="286380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Выберите среди различных картинок предметы, которые в старину были нужны каждому человек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Рисунок 1" descr="ракушка"/>
          <p:cNvPicPr/>
          <p:nvPr/>
        </p:nvPicPr>
        <p:blipFill>
          <a:blip r:embed="rId1"/>
          <a:stretch/>
        </p:blipFill>
        <p:spPr>
          <a:xfrm>
            <a:off x="5000760" y="1785960"/>
            <a:ext cx="2492280" cy="1643040"/>
          </a:xfrm>
          <a:prstGeom prst="rect">
            <a:avLst/>
          </a:prstGeom>
          <a:ln w="0">
            <a:noFill/>
          </a:ln>
        </p:spPr>
      </p:pic>
      <p:pic>
        <p:nvPicPr>
          <p:cNvPr id="171" name="Рисунок 2" descr="ромашки"/>
          <p:cNvPicPr/>
          <p:nvPr/>
        </p:nvPicPr>
        <p:blipFill>
          <a:blip r:embed="rId2"/>
          <a:stretch/>
        </p:blipFill>
        <p:spPr>
          <a:xfrm>
            <a:off x="357120" y="1785960"/>
            <a:ext cx="2095560" cy="1571760"/>
          </a:xfrm>
          <a:prstGeom prst="rect">
            <a:avLst/>
          </a:prstGeom>
          <a:ln w="0">
            <a:noFill/>
          </a:ln>
        </p:spPr>
      </p:pic>
      <p:pic>
        <p:nvPicPr>
          <p:cNvPr id="172" name="Рисунок 5" descr="лиса"/>
          <p:cNvPicPr/>
          <p:nvPr/>
        </p:nvPicPr>
        <p:blipFill>
          <a:blip r:embed="rId3"/>
          <a:stretch/>
        </p:blipFill>
        <p:spPr>
          <a:xfrm>
            <a:off x="285840" y="3429000"/>
            <a:ext cx="2355840" cy="1552680"/>
          </a:xfrm>
          <a:prstGeom prst="rect">
            <a:avLst/>
          </a:prstGeom>
          <a:ln w="0">
            <a:noFill/>
          </a:ln>
        </p:spPr>
      </p:pic>
      <p:pic>
        <p:nvPicPr>
          <p:cNvPr id="173" name="Рисунок 6" descr="листья"/>
          <p:cNvPicPr/>
          <p:nvPr/>
        </p:nvPicPr>
        <p:blipFill>
          <a:blip r:embed="rId4"/>
          <a:stretch/>
        </p:blipFill>
        <p:spPr>
          <a:xfrm>
            <a:off x="2786040" y="3429000"/>
            <a:ext cx="2165400" cy="1428840"/>
          </a:xfrm>
          <a:prstGeom prst="rect">
            <a:avLst/>
          </a:prstGeom>
          <a:ln w="0">
            <a:noFill/>
          </a:ln>
        </p:spPr>
      </p:pic>
      <p:pic>
        <p:nvPicPr>
          <p:cNvPr id="174" name="Рисунок 7" descr="j0215508"/>
          <p:cNvPicPr/>
          <p:nvPr/>
        </p:nvPicPr>
        <p:blipFill>
          <a:blip r:embed="rId5"/>
          <a:stretch/>
        </p:blipFill>
        <p:spPr>
          <a:xfrm>
            <a:off x="2928960" y="5572080"/>
            <a:ext cx="1173240" cy="795240"/>
          </a:xfrm>
          <a:prstGeom prst="rect">
            <a:avLst/>
          </a:prstGeom>
          <a:ln w="0">
            <a:noFill/>
          </a:ln>
        </p:spPr>
      </p:pic>
      <p:pic>
        <p:nvPicPr>
          <p:cNvPr id="175" name="Рисунок 8" descr="j0215520"/>
          <p:cNvPicPr/>
          <p:nvPr/>
        </p:nvPicPr>
        <p:blipFill>
          <a:blip r:embed="rId6"/>
          <a:stretch/>
        </p:blipFill>
        <p:spPr>
          <a:xfrm>
            <a:off x="1428840" y="5429160"/>
            <a:ext cx="1471680" cy="1000080"/>
          </a:xfrm>
          <a:prstGeom prst="rect">
            <a:avLst/>
          </a:prstGeom>
          <a:ln w="0">
            <a:noFill/>
          </a:ln>
        </p:spPr>
      </p:pic>
      <p:pic>
        <p:nvPicPr>
          <p:cNvPr id="176" name="Рисунок 9" descr="2велосипед"/>
          <p:cNvPicPr/>
          <p:nvPr/>
        </p:nvPicPr>
        <p:blipFill>
          <a:blip r:embed="rId7"/>
          <a:stretch/>
        </p:blipFill>
        <p:spPr>
          <a:xfrm>
            <a:off x="5072040" y="3500280"/>
            <a:ext cx="2000160" cy="1341720"/>
          </a:xfrm>
          <a:prstGeom prst="rect">
            <a:avLst/>
          </a:prstGeom>
          <a:ln w="0">
            <a:noFill/>
          </a:ln>
        </p:spPr>
      </p:pic>
      <p:pic>
        <p:nvPicPr>
          <p:cNvPr id="177" name="Рисунок 11" descr="овца"/>
          <p:cNvPicPr/>
          <p:nvPr/>
        </p:nvPicPr>
        <p:blipFill>
          <a:blip r:embed="rId8"/>
          <a:stretch/>
        </p:blipFill>
        <p:spPr>
          <a:xfrm>
            <a:off x="2500200" y="1785960"/>
            <a:ext cx="2428920" cy="16304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5" descr="Соль"/>
          <p:cNvPicPr/>
          <p:nvPr/>
        </p:nvPicPr>
        <p:blipFill>
          <a:blip r:embed="rId9"/>
          <a:srcRect l="0" t="15875" r="0" b="0"/>
          <a:stretch/>
        </p:blipFill>
        <p:spPr>
          <a:xfrm>
            <a:off x="7500960" y="4929120"/>
            <a:ext cx="1428840" cy="17528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79" name="Picture 14" descr="http://im6-tub.mail.ru/i?id=146295431&amp;tov=6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142920" y="5143680"/>
            <a:ext cx="1276200" cy="14284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8" descr="http://im6-tub.mail.ru/i?id=141166318&amp;tov=6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7500960" y="1785960"/>
            <a:ext cx="1500120" cy="17780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20" descr="http://im7-tub.mail.ru/i?id=48172935&amp;tov=7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4143240" y="5143680"/>
            <a:ext cx="1095480" cy="15382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2" descr="http://im3-tub.mail.ru/i?id=117058291&amp;tov=3">
            <a:hlinkClick r:id="rId16"/>
          </p:cNvPr>
          <p:cNvPicPr/>
          <p:nvPr/>
        </p:nvPicPr>
        <p:blipFill>
          <a:blip r:embed="rId17"/>
          <a:stretch/>
        </p:blipFill>
        <p:spPr>
          <a:xfrm>
            <a:off x="7358040" y="3571920"/>
            <a:ext cx="1614600" cy="13572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4" descr="http://im0-tub.mail.ru/i?id=21605995&amp;tov=0">
            <a:hlinkClick r:id="rId18"/>
          </p:cNvPr>
          <p:cNvPicPr/>
          <p:nvPr/>
        </p:nvPicPr>
        <p:blipFill>
          <a:blip r:embed="rId19"/>
          <a:stretch/>
        </p:blipFill>
        <p:spPr>
          <a:xfrm>
            <a:off x="5143680" y="5286240"/>
            <a:ext cx="2269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Arial"/>
                <a:ea typeface="Arial"/>
              </a:rPr>
              <a:t>Банкноты 1961 го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5" name="Picture 4" descr="90edcfa61eaa2485ab0b868749ecab2a_full"/>
          <p:cNvPicPr/>
          <p:nvPr/>
        </p:nvPicPr>
        <p:blipFill>
          <a:blip r:embed="rId1"/>
          <a:stretch/>
        </p:blipFill>
        <p:spPr>
          <a:xfrm>
            <a:off x="2357280" y="1785960"/>
            <a:ext cx="3886200" cy="198108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5" descr="25_rub_1961_a"/>
          <p:cNvPicPr/>
          <p:nvPr/>
        </p:nvPicPr>
        <p:blipFill>
          <a:blip r:embed="rId2"/>
          <a:stretch/>
        </p:blipFill>
        <p:spPr>
          <a:xfrm>
            <a:off x="4952880" y="4114800"/>
            <a:ext cx="3810240" cy="191448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6" descr="10r1961"/>
          <p:cNvPicPr/>
          <p:nvPr/>
        </p:nvPicPr>
        <p:blipFill>
          <a:blip r:embed="rId3"/>
          <a:stretch/>
        </p:blipFill>
        <p:spPr>
          <a:xfrm>
            <a:off x="685800" y="4114800"/>
            <a:ext cx="38098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Arial"/>
                <a:ea typeface="Arial"/>
              </a:rPr>
              <a:t>Банкноты 1991 го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9" name="Picture 4" descr="sovd2"/>
          <p:cNvPicPr/>
          <p:nvPr/>
        </p:nvPicPr>
        <p:blipFill>
          <a:blip r:embed="rId1"/>
          <a:stretch/>
        </p:blipFill>
        <p:spPr>
          <a:xfrm>
            <a:off x="357120" y="1500120"/>
            <a:ext cx="5105520" cy="231480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6" descr="http://im5-tub.mail.ru/i?id=44162511&amp;tov=5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357720" y="3929040"/>
            <a:ext cx="5286240" cy="26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57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Arial"/>
                <a:ea typeface="Arial"/>
              </a:rPr>
              <a:t>Современные деньг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2" name="Picture 6" descr="http://im6-tub.mail.ru/i?id=9394333&amp;tov=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0" y="3214800"/>
            <a:ext cx="5154480" cy="221436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10" descr="http://im3-tub.mail.ru/i?id=1367682&amp;tov=3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071960" y="857160"/>
            <a:ext cx="5487840" cy="2357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13" descr="C:\D&amp;S\ЮРА\Мои документы\500 рублей.tif"/>
          <p:cNvPicPr/>
          <p:nvPr/>
        </p:nvPicPr>
        <p:blipFill>
          <a:blip r:embed="rId5"/>
          <a:stretch/>
        </p:blipFill>
        <p:spPr>
          <a:xfrm>
            <a:off x="-142920" y="3071880"/>
            <a:ext cx="5072040" cy="220824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14" descr="C:\D&amp;S\ЮРА\Мои документы\1000.tif"/>
          <p:cNvPicPr/>
          <p:nvPr/>
        </p:nvPicPr>
        <p:blipFill>
          <a:blip r:embed="rId6"/>
          <a:stretch/>
        </p:blipFill>
        <p:spPr>
          <a:xfrm>
            <a:off x="0" y="857160"/>
            <a:ext cx="4857840" cy="222264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16" descr="http://im2-tub.mail.ru/i?id=75490814&amp;tov=2"/>
          <p:cNvPicPr/>
          <p:nvPr/>
        </p:nvPicPr>
        <p:blipFill>
          <a:blip r:embed="rId7"/>
          <a:stretch/>
        </p:blipFill>
        <p:spPr>
          <a:xfrm>
            <a:off x="1357200" y="528624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18" descr="http://im3-tub.mail.ru/i?id=96075366&amp;tov=3"/>
          <p:cNvPicPr/>
          <p:nvPr/>
        </p:nvPicPr>
        <p:blipFill>
          <a:blip r:embed="rId8"/>
          <a:stretch/>
        </p:blipFill>
        <p:spPr>
          <a:xfrm>
            <a:off x="3071880" y="5214960"/>
            <a:ext cx="1500120" cy="150012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20" descr="http://im3-tub.mail.ru/i?id=83119809&amp;tov=3"/>
          <p:cNvPicPr/>
          <p:nvPr/>
        </p:nvPicPr>
        <p:blipFill>
          <a:blip r:embed="rId9"/>
          <a:stretch/>
        </p:blipFill>
        <p:spPr>
          <a:xfrm>
            <a:off x="4714920" y="5072040"/>
            <a:ext cx="1571760" cy="157176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22" descr="http://im4-tub.mail.ru/i?id=58179461&amp;tov=4"/>
          <p:cNvPicPr/>
          <p:nvPr/>
        </p:nvPicPr>
        <p:blipFill>
          <a:blip r:embed="rId10"/>
          <a:stretch/>
        </p:blipFill>
        <p:spPr>
          <a:xfrm>
            <a:off x="6500880" y="5000760"/>
            <a:ext cx="185724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9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2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5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8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57120" y="-3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Arial"/>
                <a:ea typeface="Arial"/>
              </a:rPr>
              <a:t>Валюта разных стран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428760" y="1143000"/>
          <a:ext cx="8229600" cy="54259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Стра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Денежная единиц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Столиц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9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кра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ри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ие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еларус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уб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инск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Ш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олл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ашингто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717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встрия, Бельгия, Германия, Греция, Ирландия, Италия, Испания, Кипр, Люксембург, Мальта, Нидерланды, Португалия, Словения, Финляндия, Франция.</a:t>
                      </a:r>
                      <a:br>
                        <a:rPr sz="1400"/>
                      </a:b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вр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еликобритан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фунт стерлинг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Лондон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встрал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встралийский долл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идне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встр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вр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ен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Япо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йе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окио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льш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лот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арша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ита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юан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ек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Picture 7" descr="doll1"/>
          <p:cNvPicPr/>
          <p:nvPr/>
        </p:nvPicPr>
        <p:blipFill>
          <a:blip r:embed="rId1"/>
          <a:stretch/>
        </p:blipFill>
        <p:spPr>
          <a:xfrm>
            <a:off x="0" y="142920"/>
            <a:ext cx="5370480" cy="4530600"/>
          </a:xfrm>
          <a:prstGeom prst="rect">
            <a:avLst/>
          </a:prstGeom>
          <a:ln w="0">
            <a:noFill/>
          </a:ln>
        </p:spPr>
      </p:pic>
      <p:sp>
        <p:nvSpPr>
          <p:cNvPr id="293" name="TextBox 4"/>
          <p:cNvSpPr/>
          <p:nvPr/>
        </p:nvSpPr>
        <p:spPr>
          <a:xfrm>
            <a:off x="2000160" y="4643280"/>
            <a:ext cx="10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лла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7" descr="eu005-1"/>
          <p:cNvPicPr/>
          <p:nvPr/>
        </p:nvPicPr>
        <p:blipFill>
          <a:blip r:embed="rId2"/>
          <a:stretch/>
        </p:blipFill>
        <p:spPr>
          <a:xfrm>
            <a:off x="4792680" y="214200"/>
            <a:ext cx="4351320" cy="2224080"/>
          </a:xfrm>
          <a:prstGeom prst="rect">
            <a:avLst/>
          </a:prstGeom>
          <a:ln w="0">
            <a:noFill/>
          </a:ln>
        </p:spPr>
      </p:pic>
      <p:sp>
        <p:nvSpPr>
          <p:cNvPr id="295" name="TextBox 6"/>
          <p:cNvSpPr/>
          <p:nvPr/>
        </p:nvSpPr>
        <p:spPr>
          <a:xfrm>
            <a:off x="6934320" y="2714760"/>
            <a:ext cx="7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вр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7" descr="chin020-1"/>
          <p:cNvPicPr/>
          <p:nvPr/>
        </p:nvPicPr>
        <p:blipFill>
          <a:blip r:embed="rId3"/>
          <a:stretch/>
        </p:blipFill>
        <p:spPr>
          <a:xfrm>
            <a:off x="5038560" y="3357720"/>
            <a:ext cx="4105440" cy="1928520"/>
          </a:xfrm>
          <a:prstGeom prst="rect">
            <a:avLst/>
          </a:prstGeom>
          <a:ln w="0">
            <a:noFill/>
          </a:ln>
        </p:spPr>
      </p:pic>
      <p:sp>
        <p:nvSpPr>
          <p:cNvPr id="297" name="TextBox 8"/>
          <p:cNvSpPr/>
          <p:nvPr/>
        </p:nvSpPr>
        <p:spPr>
          <a:xfrm>
            <a:off x="7148160" y="5357880"/>
            <a:ext cx="8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Юан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8" descr="jap00500-2"/>
          <p:cNvPicPr/>
          <p:nvPr/>
        </p:nvPicPr>
        <p:blipFill>
          <a:blip r:embed="rId4"/>
          <a:stretch/>
        </p:blipFill>
        <p:spPr>
          <a:xfrm>
            <a:off x="214200" y="4956120"/>
            <a:ext cx="4286520" cy="1901880"/>
          </a:xfrm>
          <a:prstGeom prst="rect">
            <a:avLst/>
          </a:prstGeom>
          <a:ln w="0">
            <a:noFill/>
          </a:ln>
        </p:spPr>
      </p:pic>
      <p:sp>
        <p:nvSpPr>
          <p:cNvPr id="299" name="TextBox 10"/>
          <p:cNvSpPr/>
          <p:nvPr/>
        </p:nvSpPr>
        <p:spPr>
          <a:xfrm>
            <a:off x="4577760" y="648828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Йе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3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6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1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9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2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12" descr="http://im3-tub.mail.ru/i?id=135751882&amp;tov=3"/>
          <p:cNvPicPr/>
          <p:nvPr/>
        </p:nvPicPr>
        <p:blipFill>
          <a:blip r:embed="rId1"/>
          <a:stretch/>
        </p:blipFill>
        <p:spPr>
          <a:xfrm>
            <a:off x="2714760" y="4071960"/>
            <a:ext cx="5572080" cy="2786040"/>
          </a:xfrm>
          <a:prstGeom prst="rect">
            <a:avLst/>
          </a:prstGeom>
          <a:ln w="0">
            <a:noFill/>
          </a:ln>
        </p:spPr>
      </p:pic>
      <p:pic>
        <p:nvPicPr>
          <p:cNvPr id="301" name="Таблица 2" descr=""/>
          <p:cNvPicPr/>
          <p:nvPr/>
        </p:nvPicPr>
        <p:blipFill>
          <a:blip r:embed="rId2"/>
          <a:stretch/>
        </p:blipFill>
        <p:spPr>
          <a:xfrm>
            <a:off x="712800" y="712800"/>
            <a:ext cx="8145360" cy="3451320"/>
          </a:xfrm>
          <a:prstGeom prst="rect">
            <a:avLst/>
          </a:prstGeom>
          <a:ln w="0">
            <a:noFill/>
          </a:ln>
        </p:spPr>
      </p:pic>
      <p:sp>
        <p:nvSpPr>
          <p:cNvPr id="302" name="TextBox 3"/>
          <p:cNvSpPr/>
          <p:nvPr/>
        </p:nvSpPr>
        <p:spPr>
          <a:xfrm>
            <a:off x="1726560" y="214200"/>
            <a:ext cx="581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Arial"/>
                <a:ea typeface="Arial"/>
              </a:rPr>
              <a:t>Что нового узнали о деньгах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1424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Arial"/>
                <a:ea typeface="Arial"/>
              </a:rPr>
              <a:t>Первые деньги на Рус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142920" y="1071360"/>
            <a:ext cx="8572320" cy="192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Первыми деньгами служили животные - скот. Скотником назывался КАЗНАЧЕЙ, ХРАНИТЕЛЬ ДЕНЕГ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6" name="Picture 6" descr="http://im7-tub.mail.ru/i?id=60195841&amp;tov=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72040" y="2214720"/>
            <a:ext cx="3670200" cy="2571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87" name="TextBox 4"/>
          <p:cNvSpPr/>
          <p:nvPr/>
        </p:nvSpPr>
        <p:spPr>
          <a:xfrm>
            <a:off x="214200" y="5011560"/>
            <a:ext cx="864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Слово «капитал» произошло от латинского caput - голова, счет же скота вели по голов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Arial"/>
                <a:ea typeface="Arial"/>
              </a:rPr>
              <a:t>Первые деньги в других страна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599840"/>
            <a:ext cx="8229600" cy="35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Китай, Япония – рис, чай, раковины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Африка, Азия– раковины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Тибет - грецкие орехи, шелк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Туземцы Америки – ткань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Африка – бусы, украшения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Меланезия,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Новая Твинга – собачьи зубы, перья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4"/>
          <p:cNvSpPr/>
          <p:nvPr/>
        </p:nvSpPr>
        <p:spPr>
          <a:xfrm>
            <a:off x="4000680" y="628668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5"/>
          <p:cNvSpPr/>
          <p:nvPr/>
        </p:nvSpPr>
        <p:spPr>
          <a:xfrm>
            <a:off x="285840" y="5643720"/>
            <a:ext cx="82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f497d"/>
                </a:solidFill>
                <a:latin typeface="Arial"/>
                <a:ea typeface="Arial"/>
              </a:rPr>
              <a:t>Король Уганды приказал засеять поле бусами, но ему так и не удалось вырастить собственную моне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Меховые деньги на Рус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Деньгами служили и шкуры животных – песца, белки, соболя, куниц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4" name="Picture 8" descr="http://im4-tub.mail.ru/i?id=20401381&amp;tov=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57200" y="2643120"/>
            <a:ext cx="2786040" cy="15415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2" descr="C:\D&amp;S\ЮРА\Мои документы\МАРИНА\КАРТИНКИ\животные\белкаE.jpg"/>
          <p:cNvPicPr/>
          <p:nvPr/>
        </p:nvPicPr>
        <p:blipFill>
          <a:blip r:embed="rId3"/>
          <a:stretch/>
        </p:blipFill>
        <p:spPr>
          <a:xfrm>
            <a:off x="214200" y="4429080"/>
            <a:ext cx="1860840" cy="22654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3" descr="C:\D&amp;S\ЮРА\Мои документы\МАРИНА\КАРТИНКИ\животные\куницаE.jpg"/>
          <p:cNvPicPr/>
          <p:nvPr/>
        </p:nvPicPr>
        <p:blipFill>
          <a:blip r:embed="rId4"/>
          <a:stretch/>
        </p:blipFill>
        <p:spPr>
          <a:xfrm>
            <a:off x="6286680" y="4500720"/>
            <a:ext cx="2657160" cy="21571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4" descr="C:\D&amp;S\ЮРА\Мои документы\МАРИНА\КАРТИНКИ\животные\соболь.jpg"/>
          <p:cNvPicPr/>
          <p:nvPr/>
        </p:nvPicPr>
        <p:blipFill>
          <a:blip r:embed="rId5"/>
          <a:stretch/>
        </p:blipFill>
        <p:spPr>
          <a:xfrm>
            <a:off x="2643120" y="4500720"/>
            <a:ext cx="3238560" cy="220644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5" descr="C:\D&amp;S\ЮРА\Мои документы\МАРИНА\КАРТИНКИ\животные\песец2.jpg"/>
          <p:cNvPicPr/>
          <p:nvPr/>
        </p:nvPicPr>
        <p:blipFill>
          <a:blip r:embed="rId6"/>
          <a:stretch/>
        </p:blipFill>
        <p:spPr>
          <a:xfrm>
            <a:off x="5715000" y="2428920"/>
            <a:ext cx="231444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Arial"/>
                <a:ea typeface="Arial"/>
              </a:rPr>
              <a:t>Ракушки Каури на Рус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Блестящие, легкие, прочные, маленькие ракушки с Мальдивских островов в Индийском океане завоевали многие cтpaны Азии, Африки, Европы и с помощью арабских купцов попали на Русь, где им дали название «змеиная головка»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1" name="Picture 4" descr="http://im0-tub.mail.ru/i?id=55807633&amp;tov=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06760" y="3786120"/>
            <a:ext cx="3308400" cy="2857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Рисунок 14" descr="ipage_1_2"/>
          <p:cNvPicPr/>
          <p:nvPr/>
        </p:nvPicPr>
        <p:blipFill>
          <a:blip r:embed="rId1"/>
          <a:stretch/>
        </p:blipFill>
        <p:spPr>
          <a:xfrm>
            <a:off x="6000840" y="1643040"/>
            <a:ext cx="1828800" cy="178596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Arial"/>
                <a:ea typeface="Arial"/>
              </a:rPr>
              <a:t>Металлические деньги на Рус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1285560"/>
            <a:ext cx="868680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На Руси появились заграничные монеты - серебряные арабские дирхем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Затем появились свои металлические деньги. кусочки металла различной формы - ГРИВНА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TextBox 4"/>
          <p:cNvSpPr/>
          <p:nvPr/>
        </p:nvSpPr>
        <p:spPr>
          <a:xfrm>
            <a:off x="214200" y="5000760"/>
            <a:ext cx="8786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f497d"/>
                </a:solidFill>
                <a:latin typeface="Arial"/>
                <a:ea typeface="Arial"/>
              </a:rPr>
              <a:t>Гривной раньше называли шею, загривок, а потом шейное украшение ожерелье. Когда появились монеты, то модницы стали делать из них ожерелья: и красиво, и кошелек, и сразу видно, какая ты богатая невес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0" y="251424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Гривна – серебряный слиток весом 170 – 200 г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7" name="Picture 4" descr="Платежный слиток гривна 'черниговского' типа. XII-XIII века. Увеличить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3689280"/>
            <a:ext cx="5867280" cy="31687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5" descr="Новгородские рубли - слитки. XIV-XV века. Увеличить"/>
          <p:cNvPicPr/>
          <p:nvPr/>
        </p:nvPicPr>
        <p:blipFill>
          <a:blip r:embed="rId3"/>
          <a:stretch/>
        </p:blipFill>
        <p:spPr>
          <a:xfrm>
            <a:off x="1295280" y="0"/>
            <a:ext cx="7848720" cy="25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Мама</cp:lastModifiedBy>
  <dcterms:modified xsi:type="dcterms:W3CDTF">2013-03-08T11:46:59Z</dcterms:modified>
  <cp:revision>46</cp:revision>
  <dc:subject/>
  <dc:title>ИСТОРИЯ  ДЕНЕЖНОЙ ЕДИНИЦЫ РОССИИ</dc:title>
</cp:coreProperties>
</file>