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367-99C6-4E2D-9C85-0D13ECC8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687-CCD2-4701-B738-684C7567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1D3-5B14-4E21-A32E-6BFA1496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A77-36CA-49E3-AAB9-73CC8A06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68BF-3A01-4AEA-AC9A-0DD1F321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653C-DD3D-4878-AD64-8EA60D23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2672-429E-46DE-B534-F8593889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26A5-5AA0-4475-8467-200CB9F2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D723-BA84-44DD-91ED-D8A8CD53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7935-7B7B-4314-BEBB-241B2CDA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4109-5A07-45F1-A8B0-AB8D972B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BD1F-FF7F-4589-BD72-881B6D93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0969-8575-4AEB-82FC-F01AAD83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5237-0508-458E-9A06-7660715C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F4A9-CDFF-4E85-AB4B-BD492AE3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3D21-879C-4727-93A7-4C76B15D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D01D-6C90-4B0D-B551-9B15E61E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499-BB95-469D-A8C0-5BC13CAB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D71-D836-4CE2-B9B7-5B67604D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86D2-8830-418A-A499-8AB9186A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B5D-8518-48A8-A9AF-7697D6CC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503-CC0B-4752-99C8-EA01998B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C285-0672-4676-B6CC-67B80EF0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5F2-4B06-4BC8-9FC7-A72AD58F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29D4-D380-407F-9D22-CC35992AB8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14BA-411A-4A3E-B093-E6DE35A329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Изменение предлож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19640" y="1341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515772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1640" y="517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6892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69280" y="5248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572000" y="1557000"/>
            <a:ext cx="2592360" cy="2592360"/>
          </a:xfrm>
          <a:prstGeom prst="line">
            <a:avLst/>
          </a:prstGeom>
          <a:ln w="76320">
            <a:solidFill>
              <a:srgbClr val="66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51280" y="1123560"/>
            <a:ext cx="2376360" cy="2305080"/>
          </a:xfrm>
          <a:prstGeom prst="line">
            <a:avLst/>
          </a:prstGeom>
          <a:ln w="76320">
            <a:solidFill>
              <a:srgbClr val="c36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435640" y="2133720"/>
            <a:ext cx="2592360" cy="2590560"/>
          </a:xfrm>
          <a:prstGeom prst="line">
            <a:avLst/>
          </a:prstGeom>
          <a:ln w="7632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292720" y="198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342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6480" y="5661000"/>
            <a:ext cx="56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Влияние неценов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3240" y="386064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увел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6880" y="1197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36c03"/>
                </a:solidFill>
                <a:latin typeface="Arial"/>
              </a:rPr>
              <a:t>умень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398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Равновесие на рынк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79840" y="573408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59480" y="573408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авновес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24000" y="-674640"/>
            <a:ext cx="11088000" cy="6291360"/>
            <a:chOff x="324000" y="-674640"/>
            <a:chExt cx="11088000" cy="6291360"/>
          </a:xfrm>
        </p:grpSpPr>
        <p:sp>
          <p:nvSpPr>
            <p:cNvPr id="139" name=""/>
            <p:cNvSpPr/>
            <p:nvPr/>
          </p:nvSpPr>
          <p:spPr>
            <a:xfrm flipV="1">
              <a:off x="3419640" y="1341360"/>
              <a:ext cx="0" cy="39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6720" y="5157720"/>
              <a:ext cx="52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1640" y="5176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68920" y="128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69280" y="5248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500720" y="-674640"/>
              <a:ext cx="6911280" cy="48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24000" y="-532440"/>
              <a:ext cx="6768720" cy="46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24360" y="3645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436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24360" y="4653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24360" y="501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435640" y="364500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3236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356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780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27672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96920" y="3448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3640" y="5248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51640" y="3573360"/>
              <a:ext cx="144360" cy="142920"/>
            </a:xfrm>
            <a:prstGeom prst="ellipse">
              <a:avLst/>
            </a:prstGeom>
            <a:solidFill>
              <a:srgbClr val="8c003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– образец № 1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267920"/>
            <a:ext cx="6400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 на товар А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50 –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ие товара 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–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равновесные цену и количество товара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аналитический мет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93560" y="270828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0 –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82640" y="2708280"/>
            <a:ext cx="24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24000" y="260280"/>
            <a:ext cx="7020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Спрос на товар А описывается уравнением: Qd = 50 – 6 · Р.</a:t>
            </a:r>
            <a:br>
              <a:rPr sz="1800"/>
            </a:b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Предложение товара А: Qs = 4 · Р – 10.</a:t>
            </a:r>
            <a:br>
              <a:rPr sz="1800"/>
            </a:b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Определите равновесные цену и количество товара А.</a:t>
            </a: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39280" y="1628640"/>
            <a:ext cx="40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авновес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01920" y="335772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60720" y="407664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97560" y="4941720"/>
            <a:ext cx="36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6 – 10 =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63120" y="5796000"/>
            <a:ext cx="43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6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184464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10800" y="1483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62">
                <a:moveTo>
                  <a:pt x="11905" y="14312"/>
                </a:moveTo>
                <a:lnTo>
                  <a:pt x="11905" y="12354"/>
                </a:lnTo>
                <a:cubicBezTo>
                  <a:pt x="11905" y="11527"/>
                  <a:pt x="12236" y="10831"/>
                  <a:pt x="12837" y="10831"/>
                </a:cubicBezTo>
                <a:cubicBezTo>
                  <a:pt x="13968" y="10831"/>
                  <a:pt x="14865" y="9464"/>
                  <a:pt x="14865" y="7880"/>
                </a:cubicBezTo>
                <a:cubicBezTo>
                  <a:pt x="14865" y="5565"/>
                  <a:pt x="13011" y="3824"/>
                  <a:pt x="10800" y="3824"/>
                </a:cubicBezTo>
                <a:cubicBezTo>
                  <a:pt x="8589" y="3824"/>
                  <a:pt x="6918" y="5565"/>
                  <a:pt x="6918" y="7880"/>
                </a:cubicBezTo>
                <a:lnTo>
                  <a:pt x="8772" y="7880"/>
                </a:lnTo>
                <a:cubicBezTo>
                  <a:pt x="8772" y="6740"/>
                  <a:pt x="9695" y="5852"/>
                  <a:pt x="10800" y="5852"/>
                </a:cubicBezTo>
                <a:cubicBezTo>
                  <a:pt x="11905" y="5852"/>
                  <a:pt x="12837" y="6740"/>
                  <a:pt x="12837" y="7880"/>
                </a:cubicBezTo>
                <a:cubicBezTo>
                  <a:pt x="12837" y="8620"/>
                  <a:pt x="12367" y="9351"/>
                  <a:pt x="11905" y="9351"/>
                </a:cubicBezTo>
                <a:cubicBezTo>
                  <a:pt x="10800" y="9351"/>
                  <a:pt x="9695" y="10831"/>
                  <a:pt x="9695" y="12354"/>
                </a:cubicBezTo>
                <a:lnTo>
                  <a:pt x="9695" y="14312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1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8280" y="1341000"/>
            <a:ext cx="6400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 населения на спички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7 –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ункция предложения спич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- 5 +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шите задачу аналитиче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 – цена коробка (ру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количество (тыс. шт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7740720" y="6165720"/>
            <a:ext cx="1079280" cy="35892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e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2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8280" y="112356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вая спроса на яблоки описывается уравнени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1000 – 2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ивая предложения ябл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- 500 + 5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аналитически равновесные цену и объем продаж на рынке яб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  <a:ea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объем дефицита (или избытка), который будет иметь место при Р=15 р. за 1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0720" y="6165720"/>
            <a:ext cx="1079280" cy="35892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e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– образец № 2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8280" y="1196640"/>
            <a:ext cx="64008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имеющимся табличным данным построить кривые спроса и предложения. Определить равновесные цену и количество, используя графический мет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771640" y="3645000"/>
          <a:ext cx="5688000" cy="2663640"/>
        </p:xfrm>
        <a:graphic>
          <a:graphicData uri="http://schemas.openxmlformats.org/drawingml/2006/table">
            <a:tbl>
              <a:tblPr/>
              <a:tblGrid>
                <a:gridCol w="1895040"/>
                <a:gridCol w="1897200"/>
                <a:gridCol w="1895760"/>
              </a:tblGrid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411280" y="5589720"/>
            <a:ext cx="504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132000" y="126792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46735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84360" y="2513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20920" y="97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08360" y="5805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5805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18000" y="5651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9800" y="58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2708280"/>
            <a:ext cx="2160720" cy="2160720"/>
          </a:xfrm>
          <a:prstGeom prst="line">
            <a:avLst/>
          </a:prstGeom>
          <a:ln w="38160">
            <a:solidFill>
              <a:srgbClr val="8c003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780000" y="2708280"/>
            <a:ext cx="1152360" cy="2162160"/>
          </a:xfrm>
          <a:prstGeom prst="line">
            <a:avLst/>
          </a:prstGeom>
          <a:ln w="38160">
            <a:solidFill>
              <a:srgbClr val="99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21280" y="971640"/>
            <a:ext cx="15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8360" y="162864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41080" y="42926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59840" y="21528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збы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Выводы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ые ситуации на рын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вес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ици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быто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, как влияют неценовые факторы на вид кривых спроса и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, как изменения в спросе и предложении воздействуют на рыночное равновес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я задачи разными методами, сделать вывод о возможных ситуациях на ры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Ответы к задача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4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20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 = 15 – дефицит на рынке составит 375, т. к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170028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4005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Равновесие на рынк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79840" y="573408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59480" y="573408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авновес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4000" y="-674640"/>
            <a:ext cx="11088000" cy="6291360"/>
            <a:chOff x="324000" y="-674640"/>
            <a:chExt cx="11088000" cy="6291360"/>
          </a:xfrm>
        </p:grpSpPr>
        <p:sp>
          <p:nvSpPr>
            <p:cNvPr id="207" name=""/>
            <p:cNvSpPr/>
            <p:nvPr/>
          </p:nvSpPr>
          <p:spPr>
            <a:xfrm flipV="1">
              <a:off x="3419640" y="1341360"/>
              <a:ext cx="0" cy="39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76720" y="5157720"/>
              <a:ext cx="52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1640" y="5176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68920" y="128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69280" y="5248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4500720" y="-674640"/>
              <a:ext cx="6911280" cy="48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24000" y="-532440"/>
              <a:ext cx="6768720" cy="46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24360" y="3645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2436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24360" y="4653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24360" y="501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35640" y="364500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93236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356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780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27672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96920" y="3448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3640" y="5248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51640" y="3573360"/>
              <a:ext cx="144360" cy="142920"/>
            </a:xfrm>
            <a:prstGeom prst="ellipse">
              <a:avLst/>
            </a:prstGeom>
            <a:solidFill>
              <a:srgbClr val="8c003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основных по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граф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– образ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Основные понят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С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Закон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Ценовые и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неценовые фактор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Ценовые и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неценовые факторы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6" action="ppaction://hlinksldjump"/>
              </a:rPr>
              <a:t>Рыночное равновес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7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Спрос. Закон спрос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С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ложившаяся в определенный период времени зависимость величин спроса на данном товарном рынке от цен, по которым товары могут быть предложены к прод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спро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вышение цен ведет к уменьшению величины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Предложение. Закон предложения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Предлож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ложившаяся в определенный период времени зависимость величины предложения на рынке определенного товара в течение определенного периода времени от уровней цен, по которым этот товар может быть прод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предло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вышение цен ведет к росту величины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Неценовые факторы спрос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покупателей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на взаимозаменяемые и взаимодополняющие тов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я в доходе потреб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ние будущего изменения цен и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32720" y="364500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Изменение спро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419640" y="1341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15772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1640" y="517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6892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69280" y="5248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989000"/>
            <a:ext cx="2160720" cy="2160720"/>
          </a:xfrm>
          <a:prstGeom prst="line">
            <a:avLst/>
          </a:prstGeom>
          <a:ln w="76320">
            <a:solidFill>
              <a:srgbClr val="66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2708280"/>
            <a:ext cx="2160720" cy="2160720"/>
          </a:xfrm>
          <a:prstGeom prst="line">
            <a:avLst/>
          </a:prstGeom>
          <a:ln w="76320">
            <a:solidFill>
              <a:srgbClr val="c36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1268280"/>
            <a:ext cx="2158920" cy="2160720"/>
          </a:xfrm>
          <a:prstGeom prst="line">
            <a:avLst/>
          </a:prstGeom>
          <a:ln w="7632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2708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72000" y="342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5661000"/>
            <a:ext cx="57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Влияние неценов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4520" y="15573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увел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2520" y="4437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36c03"/>
                </a:solidFill>
                <a:latin typeface="Arial"/>
              </a:rPr>
              <a:t>умень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0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398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Неценовые факторы предложе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на производстве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оги и субсидии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продавцов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альтернативных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емые в будущем изменения цен на данный т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12:05:28Z</dcterms:created>
  <dc:creator>radio</dc:creator>
  <dc:description/>
  <dc:language>en-US</dc:language>
  <cp:lastModifiedBy>User</cp:lastModifiedBy>
  <dcterms:modified xsi:type="dcterms:W3CDTF">2006-11-19T14:05:25Z</dcterms:modified>
  <cp:revision>18</cp:revision>
  <dc:subject/>
  <dc:title>Спрос и предложение</dc:title>
</cp:coreProperties>
</file>