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003E-E3DE-44A7-8781-6D8706C26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44E0-889B-4D0D-A959-42F3F033F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13F0-B587-4099-98DE-9499A32FD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80C3-B067-421A-8DC6-9A92F6405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ECB5F-9B40-4998-8317-C045E0B6F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147EF-845E-4CB3-A0D2-C35733F84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3650C-8439-42DC-B613-E79A7824D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3A623-42A9-4584-B43D-CE0C85790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5527-C3F4-42D6-92E4-072DFA85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D41A-159D-47D0-97CA-55689C42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6CECD-26FE-4B33-B950-B7FA0035C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B4314-BD10-4085-BA06-97716B95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E9F2D-0065-4D34-9AF9-DFD5D1191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0FF1-4738-4FB9-A84F-6CEBFEF3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7E3DF-BAFD-40F1-B12A-C08988EE5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99540-9098-4DEB-A36C-FCF874C6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102F2-B448-4D3F-963F-7D209260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CC857-802B-4F84-8754-198F78CE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46D1-4C1D-4B59-9484-547D7B20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42E6-3600-4C70-91A2-6BA9588B0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3536-C10A-47B6-A2B8-559FD0DE1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69CA-4F72-41C0-A758-CC4D7212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A110-9822-4299-AF3B-EFCD35F9D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B14B-4FB7-4BAC-BCD9-D74B24101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74BF-FE26-440F-B19E-79978C1F967C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AB8E-178C-4DD9-9108-BE01CADBBD1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5.xml"/><Relationship Id="rId3" Type="http://schemas.openxmlformats.org/officeDocument/2006/relationships/slide" Target="slide7.xml"/><Relationship Id="rId4" Type="http://schemas.openxmlformats.org/officeDocument/2006/relationships/slide" Target="slide6.xml"/><Relationship Id="rId5" Type="http://schemas.openxmlformats.org/officeDocument/2006/relationships/slide" Target="slide9.xml"/><Relationship Id="rId6" Type="http://schemas.openxmlformats.org/officeDocument/2006/relationships/slide" Target="slide11.xml"/><Relationship Id="rId7" Type="http://schemas.openxmlformats.org/officeDocument/2006/relationships/slide" Target="slide3.xml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прос и предлож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то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готовка к контрольной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Изменение предложе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3419640" y="1341360"/>
            <a:ext cx="0" cy="395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5157720"/>
            <a:ext cx="52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41640" y="5176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68920" y="12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369280" y="5248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572000" y="1557000"/>
            <a:ext cx="2592360" cy="2592360"/>
          </a:xfrm>
          <a:prstGeom prst="line">
            <a:avLst/>
          </a:prstGeom>
          <a:ln w="76320">
            <a:solidFill>
              <a:srgbClr val="66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851280" y="1123560"/>
            <a:ext cx="2376360" cy="2305080"/>
          </a:xfrm>
          <a:prstGeom prst="line">
            <a:avLst/>
          </a:prstGeom>
          <a:ln w="76320">
            <a:solidFill>
              <a:srgbClr val="c36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435640" y="2133720"/>
            <a:ext cx="2592360" cy="2590560"/>
          </a:xfrm>
          <a:prstGeom prst="line">
            <a:avLst/>
          </a:prstGeom>
          <a:ln w="76320">
            <a:solidFill>
              <a:srgbClr val="e4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5292720" y="1989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92720" y="3429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066480" y="5661000"/>
            <a:ext cx="56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Влияние неценовых фак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303240" y="386064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4005c"/>
                </a:solidFill>
                <a:latin typeface="Arial"/>
              </a:rPr>
              <a:t>увели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566880" y="119700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36c03"/>
                </a:solidFill>
                <a:latin typeface="Arial"/>
              </a:rPr>
              <a:t>умень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37" dur="20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154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3000"/>
                            </p:stCondLst>
                            <p:childTnLst>
                              <p:par>
                                <p:cTn id="16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4398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Равновесие на рынке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79840" y="5734080"/>
            <a:ext cx="22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весная ц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559480" y="5734080"/>
            <a:ext cx="28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равновесное кол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24000" y="-674640"/>
            <a:ext cx="11088000" cy="6291360"/>
            <a:chOff x="324000" y="-674640"/>
            <a:chExt cx="11088000" cy="6291360"/>
          </a:xfrm>
        </p:grpSpPr>
        <p:sp>
          <p:nvSpPr>
            <p:cNvPr id="139" name=""/>
            <p:cNvSpPr/>
            <p:nvPr/>
          </p:nvSpPr>
          <p:spPr>
            <a:xfrm flipV="1">
              <a:off x="3419640" y="1341360"/>
              <a:ext cx="0" cy="39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76720" y="5157720"/>
              <a:ext cx="525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041640" y="5176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68920" y="1289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369280" y="52484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4500720" y="-674640"/>
              <a:ext cx="6911280" cy="489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324000" y="-532440"/>
              <a:ext cx="6768720" cy="460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24360" y="36450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24360" y="414972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724360" y="465300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24360" y="5013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5435640" y="3645000"/>
              <a:ext cx="2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493236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35600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78000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27672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896920" y="344808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633640" y="524844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651640" y="3573360"/>
              <a:ext cx="144360" cy="142920"/>
            </a:xfrm>
            <a:prstGeom prst="ellipse">
              <a:avLst/>
            </a:prstGeom>
            <a:solidFill>
              <a:srgbClr val="8c003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>
            <a:hlinkClick r:id="rId1" action="ppaction://hlinksldjump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Задача – образец № 1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438280" y="1267920"/>
            <a:ext cx="640080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ос на товар А описывается уравнени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50 – 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едложение товара 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 – 1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 равновесные цену и количество товара 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Использовать аналитический мет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193560" y="2708280"/>
            <a:ext cx="205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50 – 6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82640" y="2708280"/>
            <a:ext cx="247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 – 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24000" y="260280"/>
            <a:ext cx="7020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c0039"/>
                </a:solidFill>
                <a:latin typeface="Arial"/>
              </a:rPr>
              <a:t>Спрос на товар А описывается уравнением: Qd = 50 – 6 · Р.</a:t>
            </a:r>
            <a:br>
              <a:rPr sz="1800"/>
            </a:br>
            <a:r>
              <a:rPr b="1" lang="ru-RU" sz="1800" spc="-1" strike="noStrike">
                <a:solidFill>
                  <a:srgbClr val="8c0039"/>
                </a:solidFill>
                <a:latin typeface="Arial"/>
              </a:rPr>
              <a:t>Предложение товара А: Qs = 4 · Р – 10.</a:t>
            </a:r>
            <a:br>
              <a:rPr sz="1800"/>
            </a:br>
            <a:r>
              <a:rPr b="1" lang="ru-RU" sz="1800" spc="-1" strike="noStrike">
                <a:solidFill>
                  <a:srgbClr val="8c0039"/>
                </a:solidFill>
                <a:latin typeface="Arial"/>
              </a:rPr>
              <a:t>Определите равновесные цену и количество товара А.</a:t>
            </a:r>
            <a:endParaRPr b="0" lang="en-US" sz="1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339280" y="1628640"/>
            <a:ext cx="400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равновесии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01920" y="3357720"/>
            <a:ext cx="21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 = 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860720" y="4076640"/>
            <a:ext cx="128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97560" y="4941720"/>
            <a:ext cx="368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6 – 10 =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63120" y="5796000"/>
            <a:ext cx="430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вет: 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6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 1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732720" y="1844640"/>
            <a:ext cx="503280" cy="504720"/>
          </a:xfrm>
          <a:custGeom>
            <a:avLst/>
            <a:gdLst>
              <a:gd name="textAreaLeft" fmla="*/ 32400 w 503280"/>
              <a:gd name="textAreaRight" fmla="*/ 470880 w 50328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1600" h="21662">
                <a:moveTo>
                  <a:pt x="0" y="0"/>
                </a:moveTo>
                <a:lnTo>
                  <a:pt x="21600" y="0"/>
                </a:lnTo>
                <a:lnTo>
                  <a:pt x="21600" y="21662"/>
                </a:lnTo>
                <a:lnTo>
                  <a:pt x="0" y="21662"/>
                </a:lnTo>
                <a:close/>
              </a:path>
              <a:path fill="lightenLess" w="21600" h="2166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62">
                <a:moveTo>
                  <a:pt x="21600" y="0"/>
                </a:moveTo>
                <a:lnTo>
                  <a:pt x="21600" y="21662"/>
                </a:lnTo>
                <a:lnTo>
                  <a:pt x="20200" y="20262"/>
                </a:lnTo>
                <a:lnTo>
                  <a:pt x="20200" y="1400"/>
                </a:lnTo>
                <a:close/>
              </a:path>
              <a:path fill="darkenLess" w="21600" h="21662">
                <a:moveTo>
                  <a:pt x="21600" y="21662"/>
                </a:moveTo>
                <a:lnTo>
                  <a:pt x="0" y="21662"/>
                </a:lnTo>
                <a:lnTo>
                  <a:pt x="1400" y="20262"/>
                </a:lnTo>
                <a:lnTo>
                  <a:pt x="20200" y="20262"/>
                </a:lnTo>
                <a:close/>
              </a:path>
              <a:path fill="lighten" w="21600" h="21662">
                <a:moveTo>
                  <a:pt x="0" y="2166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62"/>
                </a:lnTo>
                <a:close/>
              </a:path>
              <a:path fill="darken" w="21600" h="21662">
                <a:moveTo>
                  <a:pt x="10800" y="14835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1600" h="21662">
                <a:moveTo>
                  <a:pt x="11905" y="14312"/>
                </a:moveTo>
                <a:lnTo>
                  <a:pt x="11905" y="12354"/>
                </a:lnTo>
                <a:cubicBezTo>
                  <a:pt x="11905" y="11527"/>
                  <a:pt x="12236" y="10831"/>
                  <a:pt x="12837" y="10831"/>
                </a:cubicBezTo>
                <a:cubicBezTo>
                  <a:pt x="13968" y="10831"/>
                  <a:pt x="14865" y="9464"/>
                  <a:pt x="14865" y="7880"/>
                </a:cubicBezTo>
                <a:cubicBezTo>
                  <a:pt x="14865" y="5565"/>
                  <a:pt x="13011" y="3824"/>
                  <a:pt x="10800" y="3824"/>
                </a:cubicBezTo>
                <a:cubicBezTo>
                  <a:pt x="8589" y="3824"/>
                  <a:pt x="6918" y="5565"/>
                  <a:pt x="6918" y="7880"/>
                </a:cubicBezTo>
                <a:lnTo>
                  <a:pt x="8772" y="7880"/>
                </a:lnTo>
                <a:cubicBezTo>
                  <a:pt x="8772" y="6740"/>
                  <a:pt x="9695" y="5852"/>
                  <a:pt x="10800" y="5852"/>
                </a:cubicBezTo>
                <a:cubicBezTo>
                  <a:pt x="11905" y="5852"/>
                  <a:pt x="12837" y="6740"/>
                  <a:pt x="12837" y="7880"/>
                </a:cubicBezTo>
                <a:cubicBezTo>
                  <a:pt x="12837" y="8620"/>
                  <a:pt x="12367" y="9351"/>
                  <a:pt x="11905" y="9351"/>
                </a:cubicBezTo>
                <a:cubicBezTo>
                  <a:pt x="10800" y="9351"/>
                  <a:pt x="9695" y="10831"/>
                  <a:pt x="9695" y="12354"/>
                </a:cubicBezTo>
                <a:lnTo>
                  <a:pt x="9695" y="14312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4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10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1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1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1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1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1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1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1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1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1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Задача 1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438280" y="1341000"/>
            <a:ext cx="64008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прос населения на спички описывается уравнение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7 –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Функция предложения спичек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= - 5 + 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ешите задачу аналитичес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Р – цена коробка (руб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– количество (тыс. шт.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>
            <a:hlinkClick r:id="rId1" action="ppaction://hlinksldjump"/>
          </p:cNvPr>
          <p:cNvSpPr/>
          <p:nvPr/>
        </p:nvSpPr>
        <p:spPr>
          <a:xfrm>
            <a:off x="7740720" y="6165720"/>
            <a:ext cx="1079280" cy="35892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4908" h="21600">
                <a:moveTo>
                  <a:pt x="0" y="0"/>
                </a:moveTo>
                <a:lnTo>
                  <a:pt x="64908" y="0"/>
                </a:lnTo>
                <a:lnTo>
                  <a:pt x="64908" y="21600"/>
                </a:lnTo>
                <a:lnTo>
                  <a:pt x="0" y="21600"/>
                </a:lnTo>
                <a:close/>
              </a:path>
              <a:path fill="lightenLess" w="64908" h="21600">
                <a:moveTo>
                  <a:pt x="0" y="0"/>
                </a:moveTo>
                <a:lnTo>
                  <a:pt x="64908" y="0"/>
                </a:lnTo>
                <a:lnTo>
                  <a:pt x="63508" y="1400"/>
                </a:lnTo>
                <a:lnTo>
                  <a:pt x="1400" y="1400"/>
                </a:lnTo>
                <a:close/>
              </a:path>
              <a:path fill="darken" w="64908" h="21600">
                <a:moveTo>
                  <a:pt x="64908" y="0"/>
                </a:moveTo>
                <a:lnTo>
                  <a:pt x="64908" y="21600"/>
                </a:lnTo>
                <a:lnTo>
                  <a:pt x="63508" y="20200"/>
                </a:lnTo>
                <a:lnTo>
                  <a:pt x="63508" y="1400"/>
                </a:lnTo>
                <a:close/>
              </a:path>
              <a:path fill="darkenLess" w="64908" h="21600">
                <a:moveTo>
                  <a:pt x="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08" y="20200"/>
                </a:lnTo>
                <a:close/>
              </a:path>
              <a:path fill="lighten" w="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ee6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Задача 2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38280" y="1123560"/>
            <a:ext cx="6400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ивая спроса на яблоки описывается уравнени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 1000 – 25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ривая предложения ябл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= - 500 + 50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 аналитически равновесные цену и объем продаж на рынке ябл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e4005c"/>
                </a:solidFill>
                <a:latin typeface="Arial"/>
                <a:ea typeface="Arial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пределите объем дефицита (или избытка), который будет иметь место при Р=15 р. за 1 к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740720" y="6165720"/>
            <a:ext cx="1079280" cy="358920"/>
          </a:xfrm>
          <a:custGeom>
            <a:avLst/>
            <a:gdLst>
              <a:gd name="textAreaLeft" fmla="*/ 23040 w 1079280"/>
              <a:gd name="textAreaRight" fmla="*/ 1056240 w 107928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64908" h="21600">
                <a:moveTo>
                  <a:pt x="0" y="0"/>
                </a:moveTo>
                <a:lnTo>
                  <a:pt x="64908" y="0"/>
                </a:lnTo>
                <a:lnTo>
                  <a:pt x="64908" y="21600"/>
                </a:lnTo>
                <a:lnTo>
                  <a:pt x="0" y="21600"/>
                </a:lnTo>
                <a:close/>
              </a:path>
              <a:path fill="lightenLess" w="64908" h="21600">
                <a:moveTo>
                  <a:pt x="0" y="0"/>
                </a:moveTo>
                <a:lnTo>
                  <a:pt x="64908" y="0"/>
                </a:lnTo>
                <a:lnTo>
                  <a:pt x="63508" y="1400"/>
                </a:lnTo>
                <a:lnTo>
                  <a:pt x="1400" y="1400"/>
                </a:lnTo>
                <a:close/>
              </a:path>
              <a:path fill="darken" w="64908" h="21600">
                <a:moveTo>
                  <a:pt x="64908" y="0"/>
                </a:moveTo>
                <a:lnTo>
                  <a:pt x="64908" y="21600"/>
                </a:lnTo>
                <a:lnTo>
                  <a:pt x="63508" y="20200"/>
                </a:lnTo>
                <a:lnTo>
                  <a:pt x="63508" y="1400"/>
                </a:lnTo>
                <a:close/>
              </a:path>
              <a:path fill="darkenLess" w="64908" h="21600">
                <a:moveTo>
                  <a:pt x="649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508" y="20200"/>
                </a:lnTo>
                <a:close/>
              </a:path>
              <a:path fill="lighten" w="649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ee6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в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Задача – образец № 2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38280" y="1196640"/>
            <a:ext cx="6400800" cy="25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имеющимся табличным данным построить кривые спроса и предложения. Определить равновесные цену и количество, используя графический мет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771640" y="3645000"/>
          <a:ext cx="5688000" cy="2663640"/>
        </p:xfrm>
        <a:graphic>
          <a:graphicData uri="http://schemas.openxmlformats.org/drawingml/2006/table">
            <a:tbl>
              <a:tblPr/>
              <a:tblGrid>
                <a:gridCol w="1895040"/>
                <a:gridCol w="1897200"/>
                <a:gridCol w="1895760"/>
              </a:tblGrid>
              <a:tr h="86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руб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e6b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</a:tr>
              <a:tr h="863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d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спро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ee6b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</a:tr>
              <a:tr h="93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Qs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предлож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ee6b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8bf9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411280" y="5589720"/>
            <a:ext cx="504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132000" y="1267920"/>
            <a:ext cx="0" cy="504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27280" y="4673520"/>
            <a:ext cx="36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84360" y="25131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320920" y="9716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708360" y="5805360"/>
            <a:ext cx="4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796000" y="5805360"/>
            <a:ext cx="43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18000" y="5651640"/>
            <a:ext cx="49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789800" y="580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851280" y="2708280"/>
            <a:ext cx="2160720" cy="2160720"/>
          </a:xfrm>
          <a:prstGeom prst="line">
            <a:avLst/>
          </a:prstGeom>
          <a:ln w="38160">
            <a:solidFill>
              <a:srgbClr val="8c0039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780000" y="2708280"/>
            <a:ext cx="1152360" cy="2162160"/>
          </a:xfrm>
          <a:prstGeom prst="line">
            <a:avLst/>
          </a:prstGeom>
          <a:ln w="38160">
            <a:solidFill>
              <a:srgbClr val="99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921280" y="971640"/>
            <a:ext cx="150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= 1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868360" y="162864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=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141080" y="429264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де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759840" y="21528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избы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5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300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0"/>
                            </p:stCondLst>
                            <p:childTnLst>
                              <p:par>
                                <p:cTn id="2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500"/>
                            </p:stCondLst>
                            <p:childTnLst>
                              <p:par>
                                <p:cTn id="2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6000"/>
                            </p:stCondLst>
                            <p:childTnLst>
                              <p:par>
                                <p:cTn id="3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1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Выводы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зможные ситуации на рынк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вновесие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ефицит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збыток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2" dur="1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3" dur="1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92,0,-2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4" dur="1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20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20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8" dur="20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2556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Спрос и предлож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9966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тор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дготовка к контрольной рабо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Цели урок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анализировать, как влияют неценовые факторы на вид кривых спроса и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роанализировать, как изменения в спросе и предложении воздействуют на рыночное равновес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ая задачи разными методами, сделать вывод о возможных ситуациях на рын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Ответы к задачам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4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20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5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Р = 15 – дефицит на рынке составит 375, т. к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443640" y="170028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43640" y="4005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Равновесие на рынке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679840" y="5734080"/>
            <a:ext cx="225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вновесная ц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559480" y="5734080"/>
            <a:ext cx="289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o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– равновесное колич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324000" y="-674640"/>
            <a:ext cx="11088000" cy="6291360"/>
            <a:chOff x="324000" y="-674640"/>
            <a:chExt cx="11088000" cy="6291360"/>
          </a:xfrm>
        </p:grpSpPr>
        <p:sp>
          <p:nvSpPr>
            <p:cNvPr id="207" name=""/>
            <p:cNvSpPr/>
            <p:nvPr/>
          </p:nvSpPr>
          <p:spPr>
            <a:xfrm flipV="1">
              <a:off x="3419640" y="1341360"/>
              <a:ext cx="0" cy="395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76720" y="5157720"/>
              <a:ext cx="525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041640" y="517680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968920" y="1289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369280" y="5248440"/>
              <a:ext cx="35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 flipV="1">
              <a:off x="4500720" y="-674640"/>
              <a:ext cx="6911280" cy="489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V="1">
              <a:off x="324000" y="-532440"/>
              <a:ext cx="6768720" cy="460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24360" y="36450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724360" y="414972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24360" y="465300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724360" y="5013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435640" y="3645000"/>
              <a:ext cx="288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493236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435600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378000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3276720" y="3645000"/>
              <a:ext cx="287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96920" y="3448080"/>
              <a:ext cx="44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33640" y="5248440"/>
              <a:ext cx="46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651640" y="3573360"/>
              <a:ext cx="144360" cy="142920"/>
            </a:xfrm>
            <a:prstGeom prst="ellipse">
              <a:avLst/>
            </a:prstGeom>
            <a:solidFill>
              <a:srgbClr val="8c003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"/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План урок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вторение </a:t>
            </a:r>
            <a:r>
              <a:rPr b="0" lang="en-US" sz="3200" spc="-1" strike="noStrike" u="sng">
                <a:solidFill>
                  <a:srgbClr val="e4005c"/>
                </a:solidFill>
                <a:uFillTx/>
                <a:latin typeface="Arial"/>
                <a:hlinkClick r:id="rId1" action="ppaction://hlinksldjump"/>
              </a:rPr>
              <a:t>основных понят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ализ граф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а – образ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ение зада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Основные понятия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1" action="ppaction://hlinksldjump"/>
              </a:rPr>
              <a:t>Спро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2" action="ppaction://hlinksldjump"/>
              </a:rPr>
              <a:t>Закон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Ценовые и </a:t>
            </a: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3" action="ppaction://hlinksldjump"/>
              </a:rPr>
              <a:t>неценовые факторы спро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4" action="ppaction://hlinksldjump"/>
              </a:rPr>
              <a:t>Пред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Закон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Ценовые и </a:t>
            </a: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5" action="ppaction://hlinksldjump"/>
              </a:rPr>
              <a:t>неценовые факторы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e4005c"/>
                </a:solidFill>
                <a:uFillTx/>
                <a:latin typeface="Arial"/>
                <a:hlinkClick r:id="rId6" action="ppaction://hlinksldjump"/>
              </a:rPr>
              <a:t>Рыночное равновес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7" action="ppaction://hlinksldjump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Спрос. Закон спроса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Спро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сложившаяся в определенный период времени зависимость величин спроса на данном товарном рынке от цен, по которым товары могут быть предложены к продаж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Закон спрос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повышение цен ведет к уменьшению величины спр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1" action="ppaction://hlinksldjump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Предложение. Закон предложения.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Предлож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сложившаяся в определенный период времени зависимость величины предложения на рынке определенного товара в течение определенного периода времени от уровней цен, по которым этот товар может быть прода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005c"/>
                </a:solidFill>
                <a:latin typeface="Arial"/>
              </a:rPr>
              <a:t>Закон предложе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повышение цен ведет к росту величины предло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>
            <a:hlinkClick r:id="rId1" action="ppaction://hlinksldjump"/>
          </p:cNvPr>
          <p:cNvSpPr/>
          <p:nvPr/>
        </p:nvSpPr>
        <p:spPr>
          <a:xfrm>
            <a:off x="8388360" y="6237360"/>
            <a:ext cx="504720" cy="431640"/>
          </a:xfrm>
          <a:custGeom>
            <a:avLst/>
            <a:gdLst>
              <a:gd name="textAreaLeft" fmla="*/ 27720 w 504720"/>
              <a:gd name="textAreaRight" fmla="*/ 477000 w 50472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5254" h="21600">
                <a:moveTo>
                  <a:pt x="0" y="0"/>
                </a:moveTo>
                <a:lnTo>
                  <a:pt x="25254" y="0"/>
                </a:lnTo>
                <a:lnTo>
                  <a:pt x="25254" y="21600"/>
                </a:lnTo>
                <a:lnTo>
                  <a:pt x="0" y="21600"/>
                </a:lnTo>
                <a:close/>
              </a:path>
              <a:path fill="lightenLess" w="25254" h="21600">
                <a:moveTo>
                  <a:pt x="0" y="0"/>
                </a:moveTo>
                <a:lnTo>
                  <a:pt x="25254" y="0"/>
                </a:lnTo>
                <a:lnTo>
                  <a:pt x="23854" y="1400"/>
                </a:lnTo>
                <a:lnTo>
                  <a:pt x="1400" y="1400"/>
                </a:lnTo>
                <a:close/>
              </a:path>
              <a:path fill="darken" w="25254" h="21600">
                <a:moveTo>
                  <a:pt x="25254" y="0"/>
                </a:moveTo>
                <a:lnTo>
                  <a:pt x="25254" y="21600"/>
                </a:lnTo>
                <a:lnTo>
                  <a:pt x="23854" y="20200"/>
                </a:lnTo>
                <a:lnTo>
                  <a:pt x="23854" y="1400"/>
                </a:lnTo>
                <a:close/>
              </a:path>
              <a:path fill="darkenLess" w="25254" h="21600">
                <a:moveTo>
                  <a:pt x="252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54" y="20200"/>
                </a:lnTo>
                <a:close/>
              </a:path>
              <a:path fill="lighten" w="252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54" h="21600">
                <a:moveTo>
                  <a:pt x="5621" y="7493"/>
                </a:moveTo>
                <a:lnTo>
                  <a:pt x="9128" y="7493"/>
                </a:lnTo>
                <a:lnTo>
                  <a:pt x="9128" y="12828"/>
                </a:lnTo>
                <a:cubicBezTo>
                  <a:pt x="9128" y="13751"/>
                  <a:pt x="9929" y="14482"/>
                  <a:pt x="10965" y="14482"/>
                </a:cubicBezTo>
                <a:lnTo>
                  <a:pt x="12627" y="14482"/>
                </a:lnTo>
                <a:cubicBezTo>
                  <a:pt x="13663" y="14482"/>
                  <a:pt x="14463" y="13751"/>
                  <a:pt x="14463" y="12828"/>
                </a:cubicBezTo>
                <a:lnTo>
                  <a:pt x="14463" y="7493"/>
                </a:lnTo>
                <a:lnTo>
                  <a:pt x="12627" y="7493"/>
                </a:lnTo>
                <a:lnTo>
                  <a:pt x="16135" y="3985"/>
                </a:lnTo>
                <a:lnTo>
                  <a:pt x="19808" y="7493"/>
                </a:lnTo>
                <a:lnTo>
                  <a:pt x="17971" y="7493"/>
                </a:lnTo>
                <a:lnTo>
                  <a:pt x="17971" y="12828"/>
                </a:lnTo>
                <a:cubicBezTo>
                  <a:pt x="17971" y="15596"/>
                  <a:pt x="15395" y="18155"/>
                  <a:pt x="12627" y="18155"/>
                </a:cubicBezTo>
                <a:lnTo>
                  <a:pt x="10965" y="18155"/>
                </a:lnTo>
                <a:cubicBezTo>
                  <a:pt x="8197" y="18155"/>
                  <a:pt x="5621" y="15596"/>
                  <a:pt x="5621" y="12828"/>
                </a:cubicBez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Неценовые факторы спроса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кусы и предпочтения потреб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ло покупателей на ры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ы на взаимозаменяемые и взаимодополняющие това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зменения в доходе потребите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жидание будущего изменения цен и доход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532720" y="3645000"/>
            <a:ext cx="360360" cy="3585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58560"/>
              <a:gd name="textAreaBottom" fmla="*/ 335520 h 358560"/>
            </a:gdLst>
            <a:ahLst/>
            <a:rect l="textAreaLeft" t="textAreaTop" r="textAreaRight" b="textAreaBottom"/>
            <a:pathLst>
              <a:path w="21708" h="21600">
                <a:moveTo>
                  <a:pt x="0" y="0"/>
                </a:moveTo>
                <a:lnTo>
                  <a:pt x="21708" y="0"/>
                </a:lnTo>
                <a:lnTo>
                  <a:pt x="21708" y="21600"/>
                </a:lnTo>
                <a:lnTo>
                  <a:pt x="0" y="21600"/>
                </a:lnTo>
                <a:close/>
              </a:path>
              <a:path fill="lightenLess" w="21708" h="21600">
                <a:moveTo>
                  <a:pt x="0" y="0"/>
                </a:moveTo>
                <a:lnTo>
                  <a:pt x="21708" y="0"/>
                </a:lnTo>
                <a:lnTo>
                  <a:pt x="20308" y="1400"/>
                </a:lnTo>
                <a:lnTo>
                  <a:pt x="1400" y="1400"/>
                </a:lnTo>
                <a:close/>
              </a:path>
              <a:path fill="darken" w="21708" h="21600">
                <a:moveTo>
                  <a:pt x="21708" y="0"/>
                </a:moveTo>
                <a:lnTo>
                  <a:pt x="21708" y="21600"/>
                </a:lnTo>
                <a:lnTo>
                  <a:pt x="20308" y="20200"/>
                </a:lnTo>
                <a:lnTo>
                  <a:pt x="20308" y="1400"/>
                </a:lnTo>
                <a:close/>
              </a:path>
              <a:path fill="darkenLess" w="21708" h="21600">
                <a:moveTo>
                  <a:pt x="21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8" y="20200"/>
                </a:lnTo>
                <a:close/>
              </a:path>
              <a:path fill="lighten" w="21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21708" h="21600">
                <a:moveTo>
                  <a:pt x="5327" y="3985"/>
                </a:moveTo>
                <a:lnTo>
                  <a:pt x="12325" y="3985"/>
                </a:lnTo>
                <a:lnTo>
                  <a:pt x="16381" y="7484"/>
                </a:lnTo>
                <a:lnTo>
                  <a:pt x="16381" y="17615"/>
                </a:lnTo>
                <a:lnTo>
                  <a:pt x="5327" y="17615"/>
                </a:lnTo>
                <a:close/>
              </a:path>
              <a:path fill="darken" w="21708" h="21600">
                <a:moveTo>
                  <a:pt x="12325" y="3985"/>
                </a:moveTo>
                <a:lnTo>
                  <a:pt x="16381" y="7484"/>
                </a:lnTo>
                <a:lnTo>
                  <a:pt x="12325" y="7484"/>
                </a:lnTo>
                <a:close/>
              </a:path>
            </a:pathLst>
          </a:cu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Изменение спроса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419640" y="1341360"/>
            <a:ext cx="0" cy="3959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5157720"/>
            <a:ext cx="52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1640" y="51768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968920" y="1289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69280" y="52484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1989000"/>
            <a:ext cx="2160720" cy="2160720"/>
          </a:xfrm>
          <a:prstGeom prst="line">
            <a:avLst/>
          </a:prstGeom>
          <a:ln w="76320">
            <a:solidFill>
              <a:srgbClr val="6600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851280" y="2708280"/>
            <a:ext cx="2160720" cy="2160720"/>
          </a:xfrm>
          <a:prstGeom prst="line">
            <a:avLst/>
          </a:prstGeom>
          <a:ln w="76320">
            <a:solidFill>
              <a:srgbClr val="c36c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92720" y="1268280"/>
            <a:ext cx="2158920" cy="2160720"/>
          </a:xfrm>
          <a:prstGeom prst="line">
            <a:avLst/>
          </a:prstGeom>
          <a:ln w="76320">
            <a:solidFill>
              <a:srgbClr val="e4005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92720" y="270828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4572000" y="342900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059280" y="5661000"/>
            <a:ext cx="57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c0039"/>
                </a:solidFill>
                <a:latin typeface="Arial"/>
              </a:rPr>
              <a:t>Влияние неценовых фактор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14520" y="155736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e4005c"/>
                </a:solidFill>
                <a:latin typeface="Arial"/>
              </a:rPr>
              <a:t>увели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22520" y="4437000"/>
            <a:ext cx="161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36c03"/>
                </a:solidFill>
                <a:latin typeface="Arial"/>
              </a:rPr>
              <a:t>уменьш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2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70" dur="2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2500"/>
                            </p:stCondLst>
                            <p:childTnLst>
                              <p:par>
                                <p:cTn id="7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5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43981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43981"/>
                </a:solidFill>
                <a:latin typeface="Arial"/>
              </a:rPr>
              <a:t>Неценовые факторы предложения: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6705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ы на производственные ресур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олог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логи и субсидии государ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исло продавцов на рын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ны альтернативных товар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жидаемые в будущем изменения цен на данный това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8T12:05:28Z</dcterms:created>
  <dc:creator>radio</dc:creator>
  <dc:description/>
  <dc:language>en-US</dc:language>
  <cp:lastModifiedBy>User</cp:lastModifiedBy>
  <dcterms:modified xsi:type="dcterms:W3CDTF">2006-11-19T14:05:25Z</dcterms:modified>
  <cp:revision>18</cp:revision>
  <dc:subject/>
  <dc:title>Спрос и предложение</dc:title>
</cp:coreProperties>
</file>