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63C0C-F143-420D-AAFB-BF82B3774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7EB01-01D9-4CAE-BA3A-BE311CC08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A58B5-4425-46CC-B0B6-F582B1B9F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57982-63B9-45F4-A12A-B91A372C1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6F138-6262-41DD-81A3-D0C5CCF40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C8538-1847-40B2-9EF1-01E7DADED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752D7-FC58-406E-A922-7DD86CD6A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1D51E-817E-4D0B-A0E7-95EA62709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AD6EC-0FED-49CC-B74D-81F5D1573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B5DF0-FBE6-418F-A0D4-E7E0A33AC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05ED0-D9BF-4BAD-B560-3D09F2195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D9CD5-BF4F-43DE-AB19-250B6908F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74CB0-7EE8-43B4-8090-31988473A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245F4-2839-4F4E-AB2A-308E9BA0B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69103-D09C-4BEA-80F4-9B09AFDAB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80FA9-B9A8-4299-8F38-857BC43F4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F0DE1-7B91-4323-8E1C-EED0FC4C6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F5446-AFDC-4464-A4C5-EEFA1B302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10B6F-668E-43D9-BFD0-EC86F369A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1528A-A41F-4C4C-B641-FDD3777EA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3A392-6C03-4C99-9351-A78425901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4E8B9-2485-4855-95FA-E39255722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6DFB4-147F-41A8-BA3B-F9D99E645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34BE9-65EF-4114-BCE5-AEE1038C6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9F714-E4CD-4373-B351-1D3A0DEFF9F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72FB0-C332-440C-88B5-1040E9395BB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5.xml"/><Relationship Id="rId3" Type="http://schemas.openxmlformats.org/officeDocument/2006/relationships/slide" Target="slide7.xml"/><Relationship Id="rId4" Type="http://schemas.openxmlformats.org/officeDocument/2006/relationships/slide" Target="slide6.xml"/><Relationship Id="rId5" Type="http://schemas.openxmlformats.org/officeDocument/2006/relationships/slide" Target="slide9.xml"/><Relationship Id="rId6" Type="http://schemas.openxmlformats.org/officeDocument/2006/relationships/slide" Target="slide11.xml"/><Relationship Id="rId7" Type="http://schemas.openxmlformats.org/officeDocument/2006/relationships/slide" Target="slide3.xml"/><Relationship Id="rId8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25560">
            <a:solidFill>
              <a:srgbClr val="9966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Спрос и предложени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362320" y="3429000"/>
            <a:ext cx="6400800" cy="14479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9966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овтор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Решение зада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одготовка к контрольной рабо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43981"/>
                </a:solidFill>
                <a:latin typeface="Arial"/>
              </a:rPr>
              <a:t>Изменение предложения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3419640" y="1341360"/>
            <a:ext cx="0" cy="3959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276720" y="5157720"/>
            <a:ext cx="5256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041640" y="517680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968920" y="12891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8369280" y="524844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4572000" y="1557000"/>
            <a:ext cx="2592360" cy="2592360"/>
          </a:xfrm>
          <a:prstGeom prst="line">
            <a:avLst/>
          </a:prstGeom>
          <a:ln w="76320">
            <a:solidFill>
              <a:srgbClr val="66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3851280" y="1123560"/>
            <a:ext cx="2376360" cy="2305080"/>
          </a:xfrm>
          <a:prstGeom prst="line">
            <a:avLst/>
          </a:prstGeom>
          <a:ln w="76320">
            <a:solidFill>
              <a:srgbClr val="c36c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5435640" y="2133720"/>
            <a:ext cx="2592360" cy="2590560"/>
          </a:xfrm>
          <a:prstGeom prst="line">
            <a:avLst/>
          </a:prstGeom>
          <a:ln w="76320">
            <a:solidFill>
              <a:srgbClr val="e400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5292720" y="1989000"/>
            <a:ext cx="1440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292720" y="3429000"/>
            <a:ext cx="1440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066480" y="5661000"/>
            <a:ext cx="562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c0039"/>
                </a:solidFill>
                <a:latin typeface="Arial"/>
              </a:rPr>
              <a:t>Влияние неценовых фактор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303240" y="3860640"/>
            <a:ext cx="151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4005c"/>
                </a:solidFill>
                <a:latin typeface="Arial"/>
              </a:rPr>
              <a:t>увелич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566880" y="1197000"/>
            <a:ext cx="161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36c03"/>
                </a:solidFill>
                <a:latin typeface="Arial"/>
              </a:rPr>
              <a:t>уменьш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137" dur="2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2000"/>
                            </p:stCondLst>
                            <p:childTnLst>
                              <p:par>
                                <p:cTn id="1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2000"/>
                            </p:stCondLst>
                            <p:childTnLst>
                              <p:par>
                                <p:cTn id="14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154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2000"/>
                            </p:stCondLst>
                            <p:childTnLst>
                              <p:par>
                                <p:cTn id="1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3000"/>
                            </p:stCondLst>
                            <p:childTnLst>
                              <p:par>
                                <p:cTn id="16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9" dur="2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43981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43981"/>
                </a:solidFill>
                <a:latin typeface="Arial"/>
              </a:rPr>
              <a:t>Равновесие на рынке.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679840" y="5734080"/>
            <a:ext cx="225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вновесная це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559480" y="5734080"/>
            <a:ext cx="289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o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– равновесное количе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324000" y="-674640"/>
            <a:ext cx="11088000" cy="6291360"/>
            <a:chOff x="324000" y="-674640"/>
            <a:chExt cx="11088000" cy="6291360"/>
          </a:xfrm>
        </p:grpSpPr>
        <p:sp>
          <p:nvSpPr>
            <p:cNvPr id="139" name=""/>
            <p:cNvSpPr/>
            <p:nvPr/>
          </p:nvSpPr>
          <p:spPr>
            <a:xfrm flipV="1">
              <a:off x="3419640" y="1341360"/>
              <a:ext cx="0" cy="395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276720" y="5157720"/>
              <a:ext cx="5256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041640" y="517680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968920" y="128916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369280" y="524844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 flipV="1">
              <a:off x="4500720" y="-674640"/>
              <a:ext cx="6911280" cy="489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flipV="1">
              <a:off x="324000" y="-532440"/>
              <a:ext cx="6768720" cy="4609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724360" y="3645000"/>
              <a:ext cx="0" cy="288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724360" y="4149720"/>
              <a:ext cx="0" cy="287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724360" y="4653000"/>
              <a:ext cx="0" cy="216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724360" y="5013360"/>
              <a:ext cx="0" cy="287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flipH="1">
              <a:off x="5435640" y="3645000"/>
              <a:ext cx="288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flipH="1">
              <a:off x="4932360" y="3645000"/>
              <a:ext cx="287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>
              <a:off x="4356000" y="3645000"/>
              <a:ext cx="287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3780000" y="3645000"/>
              <a:ext cx="287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 flipH="1">
              <a:off x="3276720" y="3645000"/>
              <a:ext cx="287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896920" y="3448080"/>
              <a:ext cx="441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633640" y="5248440"/>
              <a:ext cx="46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651640" y="3573360"/>
              <a:ext cx="144360" cy="142920"/>
            </a:xfrm>
            <a:prstGeom prst="ellipse">
              <a:avLst/>
            </a:prstGeom>
            <a:solidFill>
              <a:srgbClr val="8c003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">
            <a:hlinkClick r:id="rId1" action="ppaction://hlinksldjump"/>
          </p:cNvPr>
          <p:cNvSpPr/>
          <p:nvPr/>
        </p:nvSpPr>
        <p:spPr>
          <a:xfrm>
            <a:off x="8388360" y="6237360"/>
            <a:ext cx="504720" cy="431640"/>
          </a:xfrm>
          <a:custGeom>
            <a:avLst/>
            <a:gdLst>
              <a:gd name="textAreaLeft" fmla="*/ 27720 w 504720"/>
              <a:gd name="textAreaRight" fmla="*/ 477000 w 5047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254" h="21600">
                <a:moveTo>
                  <a:pt x="0" y="0"/>
                </a:moveTo>
                <a:lnTo>
                  <a:pt x="25254" y="0"/>
                </a:lnTo>
                <a:lnTo>
                  <a:pt x="25254" y="21600"/>
                </a:lnTo>
                <a:lnTo>
                  <a:pt x="0" y="21600"/>
                </a:lnTo>
                <a:close/>
              </a:path>
              <a:path fill="lightenLess" w="25254" h="21600">
                <a:moveTo>
                  <a:pt x="0" y="0"/>
                </a:moveTo>
                <a:lnTo>
                  <a:pt x="25254" y="0"/>
                </a:lnTo>
                <a:lnTo>
                  <a:pt x="23854" y="1400"/>
                </a:lnTo>
                <a:lnTo>
                  <a:pt x="1400" y="1400"/>
                </a:lnTo>
                <a:close/>
              </a:path>
              <a:path fill="darken" w="25254" h="21600">
                <a:moveTo>
                  <a:pt x="25254" y="0"/>
                </a:moveTo>
                <a:lnTo>
                  <a:pt x="25254" y="21600"/>
                </a:lnTo>
                <a:lnTo>
                  <a:pt x="23854" y="20200"/>
                </a:lnTo>
                <a:lnTo>
                  <a:pt x="23854" y="1400"/>
                </a:lnTo>
                <a:close/>
              </a:path>
              <a:path fill="darkenLess" w="25254" h="21600">
                <a:moveTo>
                  <a:pt x="252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54" y="20200"/>
                </a:lnTo>
                <a:close/>
              </a:path>
              <a:path fill="lighten" w="252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54" h="21600">
                <a:moveTo>
                  <a:pt x="5621" y="7493"/>
                </a:moveTo>
                <a:lnTo>
                  <a:pt x="9128" y="7493"/>
                </a:lnTo>
                <a:lnTo>
                  <a:pt x="9128" y="12828"/>
                </a:lnTo>
                <a:cubicBezTo>
                  <a:pt x="9128" y="13751"/>
                  <a:pt x="9929" y="14482"/>
                  <a:pt x="10965" y="14482"/>
                </a:cubicBezTo>
                <a:lnTo>
                  <a:pt x="12627" y="14482"/>
                </a:lnTo>
                <a:cubicBezTo>
                  <a:pt x="13663" y="14482"/>
                  <a:pt x="14463" y="13751"/>
                  <a:pt x="14463" y="12828"/>
                </a:cubicBezTo>
                <a:lnTo>
                  <a:pt x="14463" y="7493"/>
                </a:lnTo>
                <a:lnTo>
                  <a:pt x="12627" y="7493"/>
                </a:lnTo>
                <a:lnTo>
                  <a:pt x="16135" y="3985"/>
                </a:lnTo>
                <a:lnTo>
                  <a:pt x="19808" y="7493"/>
                </a:lnTo>
                <a:lnTo>
                  <a:pt x="17971" y="7493"/>
                </a:lnTo>
                <a:lnTo>
                  <a:pt x="17971" y="12828"/>
                </a:lnTo>
                <a:cubicBezTo>
                  <a:pt x="17971" y="15596"/>
                  <a:pt x="15395" y="18155"/>
                  <a:pt x="12627" y="18155"/>
                </a:cubicBezTo>
                <a:lnTo>
                  <a:pt x="10965" y="18155"/>
                </a:lnTo>
                <a:cubicBezTo>
                  <a:pt x="8197" y="18155"/>
                  <a:pt x="5621" y="15596"/>
                  <a:pt x="5621" y="12828"/>
                </a:cubicBezTo>
                <a:close/>
              </a:path>
            </a:pathLst>
          </a:custGeom>
          <a:solidFill>
            <a:srgbClr val="99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6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1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ff"/>
                </a:solidFill>
                <a:latin typeface="Arial"/>
              </a:rPr>
              <a:t>Задача – образец № 1.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438280" y="1267920"/>
            <a:ext cx="640080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прос на товар А описывается уравнение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= 50 – 6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Предложение товара 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= 4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Р – 1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Определите равновесные цену и количество товара 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Использовать аналитический мето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3193560" y="2708280"/>
            <a:ext cx="205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50 – 6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282640" y="2708280"/>
            <a:ext cx="247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=  4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Р – 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24000" y="260280"/>
            <a:ext cx="702000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c0039"/>
                </a:solidFill>
                <a:latin typeface="Arial"/>
              </a:rPr>
              <a:t>Спрос на товар А описывается уравнением: Qd = 50 – 6 · Р.</a:t>
            </a:r>
            <a:br>
              <a:rPr sz="1800"/>
            </a:br>
            <a:r>
              <a:rPr b="1" lang="ru-RU" sz="1800" spc="-1" strike="noStrike">
                <a:solidFill>
                  <a:srgbClr val="8c0039"/>
                </a:solidFill>
                <a:latin typeface="Arial"/>
              </a:rPr>
              <a:t>Предложение товара А: Qs = 4 · Р – 10.</a:t>
            </a:r>
            <a:br>
              <a:rPr sz="1800"/>
            </a:br>
            <a:r>
              <a:rPr b="1" lang="ru-RU" sz="1800" spc="-1" strike="noStrike">
                <a:solidFill>
                  <a:srgbClr val="8c0039"/>
                </a:solidFill>
                <a:latin typeface="Arial"/>
              </a:rPr>
              <a:t>Определите равновесные цену и количество товара А.</a:t>
            </a:r>
            <a:endParaRPr b="0" lang="en-US" sz="18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339280" y="1628640"/>
            <a:ext cx="4005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 равновесии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201920" y="3357720"/>
            <a:ext cx="21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0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Р = 6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860720" y="4076640"/>
            <a:ext cx="128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697560" y="4941720"/>
            <a:ext cx="368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= 4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6 – 10 = 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463120" y="5796000"/>
            <a:ext cx="430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вет: Р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= 6,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= 1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732720" y="1844640"/>
            <a:ext cx="503280" cy="50472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62">
                <a:moveTo>
                  <a:pt x="0" y="0"/>
                </a:moveTo>
                <a:lnTo>
                  <a:pt x="21600" y="0"/>
                </a:lnTo>
                <a:lnTo>
                  <a:pt x="21600" y="21662"/>
                </a:lnTo>
                <a:lnTo>
                  <a:pt x="0" y="21662"/>
                </a:lnTo>
                <a:close/>
              </a:path>
              <a:path fill="lightenLess" w="21600" h="2166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62">
                <a:moveTo>
                  <a:pt x="21600" y="0"/>
                </a:moveTo>
                <a:lnTo>
                  <a:pt x="21600" y="21662"/>
                </a:lnTo>
                <a:lnTo>
                  <a:pt x="20200" y="20262"/>
                </a:lnTo>
                <a:lnTo>
                  <a:pt x="20200" y="1400"/>
                </a:lnTo>
                <a:close/>
              </a:path>
              <a:path fill="darkenLess" w="21600" h="21662">
                <a:moveTo>
                  <a:pt x="21600" y="21662"/>
                </a:moveTo>
                <a:lnTo>
                  <a:pt x="0" y="21662"/>
                </a:lnTo>
                <a:lnTo>
                  <a:pt x="1400" y="20262"/>
                </a:lnTo>
                <a:lnTo>
                  <a:pt x="20200" y="20262"/>
                </a:lnTo>
                <a:close/>
              </a:path>
              <a:path fill="lighten" w="21600" h="21662">
                <a:moveTo>
                  <a:pt x="0" y="21662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62"/>
                </a:lnTo>
                <a:close/>
              </a:path>
              <a:path fill="darken" w="21600" h="21662">
                <a:moveTo>
                  <a:pt x="10800" y="14835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62">
                <a:moveTo>
                  <a:pt x="11905" y="14312"/>
                </a:moveTo>
                <a:lnTo>
                  <a:pt x="11905" y="12354"/>
                </a:lnTo>
                <a:cubicBezTo>
                  <a:pt x="11905" y="11527"/>
                  <a:pt x="12236" y="10831"/>
                  <a:pt x="12837" y="10831"/>
                </a:cubicBezTo>
                <a:cubicBezTo>
                  <a:pt x="13968" y="10831"/>
                  <a:pt x="14865" y="9464"/>
                  <a:pt x="14865" y="7880"/>
                </a:cubicBezTo>
                <a:cubicBezTo>
                  <a:pt x="14865" y="5565"/>
                  <a:pt x="13011" y="3824"/>
                  <a:pt x="10800" y="3824"/>
                </a:cubicBezTo>
                <a:cubicBezTo>
                  <a:pt x="8589" y="3824"/>
                  <a:pt x="6918" y="5565"/>
                  <a:pt x="6918" y="7880"/>
                </a:cubicBezTo>
                <a:lnTo>
                  <a:pt x="8772" y="7880"/>
                </a:lnTo>
                <a:cubicBezTo>
                  <a:pt x="8772" y="6740"/>
                  <a:pt x="9695" y="5852"/>
                  <a:pt x="10800" y="5852"/>
                </a:cubicBezTo>
                <a:cubicBezTo>
                  <a:pt x="11905" y="5852"/>
                  <a:pt x="12837" y="6740"/>
                  <a:pt x="12837" y="7880"/>
                </a:cubicBezTo>
                <a:cubicBezTo>
                  <a:pt x="12837" y="8620"/>
                  <a:pt x="12367" y="9351"/>
                  <a:pt x="11905" y="9351"/>
                </a:cubicBezTo>
                <a:cubicBezTo>
                  <a:pt x="10800" y="9351"/>
                  <a:pt x="9695" y="10831"/>
                  <a:pt x="9695" y="12354"/>
                </a:cubicBezTo>
                <a:lnTo>
                  <a:pt x="9695" y="14312"/>
                </a:lnTo>
                <a:close/>
              </a:path>
            </a:pathLst>
          </a:custGeom>
          <a:solidFill>
            <a:srgbClr val="99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45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8" dur="8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9" dur="8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0" dur="8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5" dur="8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6" dur="8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7" dur="8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10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10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2" dur="1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3" dur="1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4" dur="1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9" dur="1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0" dur="1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1" dur="1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6" dur="1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7" dur="1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8" dur="1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3" dur="1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4" dur="1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5" dur="1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ff"/>
                </a:solidFill>
                <a:latin typeface="Arial"/>
              </a:rPr>
              <a:t>Задача 1.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438280" y="1341000"/>
            <a:ext cx="6400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прос населения на спички описывается уравнение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= 7 – 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Функция предложения спичек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= - 5 + 2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Решите задачу аналитичес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Р – цена коробка (руб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Q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– количество (тыс. шт.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>
            <a:hlinkClick r:id="rId1" action="ppaction://hlinksldjump"/>
          </p:cNvPr>
          <p:cNvSpPr/>
          <p:nvPr/>
        </p:nvSpPr>
        <p:spPr>
          <a:xfrm>
            <a:off x="7740720" y="6165720"/>
            <a:ext cx="1079280" cy="358920"/>
          </a:xfrm>
          <a:custGeom>
            <a:avLst/>
            <a:gdLst>
              <a:gd name="textAreaLeft" fmla="*/ 23040 w 1079280"/>
              <a:gd name="textAreaRight" fmla="*/ 1056240 w 107928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64908" h="21600">
                <a:moveTo>
                  <a:pt x="0" y="0"/>
                </a:moveTo>
                <a:lnTo>
                  <a:pt x="64908" y="0"/>
                </a:lnTo>
                <a:lnTo>
                  <a:pt x="64908" y="21600"/>
                </a:lnTo>
                <a:lnTo>
                  <a:pt x="0" y="21600"/>
                </a:lnTo>
                <a:close/>
              </a:path>
              <a:path fill="lightenLess" w="64908" h="21600">
                <a:moveTo>
                  <a:pt x="0" y="0"/>
                </a:moveTo>
                <a:lnTo>
                  <a:pt x="64908" y="0"/>
                </a:lnTo>
                <a:lnTo>
                  <a:pt x="63508" y="1400"/>
                </a:lnTo>
                <a:lnTo>
                  <a:pt x="1400" y="1400"/>
                </a:lnTo>
                <a:close/>
              </a:path>
              <a:path fill="darken" w="64908" h="21600">
                <a:moveTo>
                  <a:pt x="64908" y="0"/>
                </a:moveTo>
                <a:lnTo>
                  <a:pt x="64908" y="21600"/>
                </a:lnTo>
                <a:lnTo>
                  <a:pt x="63508" y="20200"/>
                </a:lnTo>
                <a:lnTo>
                  <a:pt x="63508" y="1400"/>
                </a:lnTo>
                <a:close/>
              </a:path>
              <a:path fill="darkenLess" w="64908" h="21600">
                <a:moveTo>
                  <a:pt x="649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508" y="20200"/>
                </a:lnTo>
                <a:close/>
              </a:path>
              <a:path fill="lighten" w="649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ee6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т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ff"/>
                </a:solidFill>
                <a:latin typeface="Arial"/>
              </a:rPr>
              <a:t>Задача 2.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438280" y="1123560"/>
            <a:ext cx="6400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ривая спроса на яблоки описывается уравнением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= 1000 – 25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Кривая предложения яблок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= - 500 + 50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Определите аналитически равновесные цену и объем продаж на рынке ябло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4005c"/>
                </a:solidFill>
                <a:latin typeface="Arial"/>
                <a:ea typeface="Arial"/>
              </a:rPr>
              <a:t>*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Определите объем дефицита (или избытка), который будет иметь место при Р=15 р. за 1 к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740720" y="6165720"/>
            <a:ext cx="1079280" cy="358920"/>
          </a:xfrm>
          <a:custGeom>
            <a:avLst/>
            <a:gdLst>
              <a:gd name="textAreaLeft" fmla="*/ 23040 w 1079280"/>
              <a:gd name="textAreaRight" fmla="*/ 1056240 w 107928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64908" h="21600">
                <a:moveTo>
                  <a:pt x="0" y="0"/>
                </a:moveTo>
                <a:lnTo>
                  <a:pt x="64908" y="0"/>
                </a:lnTo>
                <a:lnTo>
                  <a:pt x="64908" y="21600"/>
                </a:lnTo>
                <a:lnTo>
                  <a:pt x="0" y="21600"/>
                </a:lnTo>
                <a:close/>
              </a:path>
              <a:path fill="lightenLess" w="64908" h="21600">
                <a:moveTo>
                  <a:pt x="0" y="0"/>
                </a:moveTo>
                <a:lnTo>
                  <a:pt x="64908" y="0"/>
                </a:lnTo>
                <a:lnTo>
                  <a:pt x="63508" y="1400"/>
                </a:lnTo>
                <a:lnTo>
                  <a:pt x="1400" y="1400"/>
                </a:lnTo>
                <a:close/>
              </a:path>
              <a:path fill="darken" w="64908" h="21600">
                <a:moveTo>
                  <a:pt x="64908" y="0"/>
                </a:moveTo>
                <a:lnTo>
                  <a:pt x="64908" y="21600"/>
                </a:lnTo>
                <a:lnTo>
                  <a:pt x="63508" y="20200"/>
                </a:lnTo>
                <a:lnTo>
                  <a:pt x="63508" y="1400"/>
                </a:lnTo>
                <a:close/>
              </a:path>
              <a:path fill="darkenLess" w="64908" h="21600">
                <a:moveTo>
                  <a:pt x="649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508" y="20200"/>
                </a:lnTo>
                <a:close/>
              </a:path>
              <a:path fill="lighten" w="649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ee6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т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ff"/>
                </a:solidFill>
                <a:latin typeface="Arial"/>
              </a:rPr>
              <a:t>Задача – образец № 2.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438280" y="1196640"/>
            <a:ext cx="6400800" cy="25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 имеющимся табличным данным построить кривые спроса и предложения. Определить равновесные цену и количество, используя графический мето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2771640" y="3645000"/>
          <a:ext cx="5688000" cy="2663640"/>
        </p:xfrm>
        <a:graphic>
          <a:graphicData uri="http://schemas.openxmlformats.org/drawingml/2006/table">
            <a:tbl>
              <a:tblPr/>
              <a:tblGrid>
                <a:gridCol w="1895040"/>
                <a:gridCol w="1897200"/>
                <a:gridCol w="1895760"/>
              </a:tblGrid>
              <a:tr h="86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уб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ee6b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8bf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8bf9">
                        <a:alpha val="50000"/>
                      </a:srgbClr>
                    </a:solidFill>
                  </a:tcPr>
                </a:tc>
              </a:tr>
              <a:tr h="863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Qd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про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ee6b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8bf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8bf9">
                        <a:alpha val="50000"/>
                      </a:srgbClr>
                    </a:solidFill>
                  </a:tcPr>
                </a:tc>
              </a:tr>
              <a:tr h="936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Qs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редлож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aee6b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58bf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58bf9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2411280" y="5589720"/>
            <a:ext cx="5040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3132000" y="1267920"/>
            <a:ext cx="0" cy="5040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627280" y="46735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484360" y="251316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320920" y="9716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708360" y="5805360"/>
            <a:ext cx="43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796000" y="5805360"/>
            <a:ext cx="43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218000" y="565164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789800" y="5805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851280" y="2708280"/>
            <a:ext cx="2160720" cy="2160720"/>
          </a:xfrm>
          <a:prstGeom prst="line">
            <a:avLst/>
          </a:prstGeom>
          <a:ln w="38160">
            <a:solidFill>
              <a:srgbClr val="8c0039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3780000" y="2708280"/>
            <a:ext cx="1152360" cy="2162160"/>
          </a:xfrm>
          <a:prstGeom prst="line">
            <a:avLst/>
          </a:prstGeom>
          <a:ln w="38160">
            <a:solidFill>
              <a:srgbClr val="9900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921280" y="971640"/>
            <a:ext cx="150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= 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868360" y="1628640"/>
            <a:ext cx="132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=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141080" y="4292640"/>
            <a:ext cx="128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дефици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759840" y="2152800"/>
            <a:ext cx="12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избыт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2500"/>
                            </p:stCondLst>
                            <p:childTnLst>
                              <p:par>
                                <p:cTn id="27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3000"/>
                            </p:stCondLst>
                            <p:childTnLst>
                              <p:par>
                                <p:cTn id="2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5000"/>
                            </p:stCondLst>
                            <p:childTnLst>
                              <p:par>
                                <p:cTn id="2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5500"/>
                            </p:stCondLst>
                            <p:childTnLst>
                              <p:par>
                                <p:cTn id="29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6000"/>
                            </p:stCondLst>
                            <p:childTnLst>
                              <p:par>
                                <p:cTn id="3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1" dur="10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c0039"/>
                </a:solidFill>
                <a:latin typeface="Arial"/>
              </a:rPr>
              <a:t>Выводы: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зможные ситуации на рынк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4005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вновесие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e4005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ефицит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e4005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збыток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8388360" y="6237360"/>
            <a:ext cx="504720" cy="431640"/>
          </a:xfrm>
          <a:custGeom>
            <a:avLst/>
            <a:gdLst>
              <a:gd name="textAreaLeft" fmla="*/ 27720 w 504720"/>
              <a:gd name="textAreaRight" fmla="*/ 477000 w 5047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254" h="21600">
                <a:moveTo>
                  <a:pt x="0" y="0"/>
                </a:moveTo>
                <a:lnTo>
                  <a:pt x="25254" y="0"/>
                </a:lnTo>
                <a:lnTo>
                  <a:pt x="25254" y="21600"/>
                </a:lnTo>
                <a:lnTo>
                  <a:pt x="0" y="21600"/>
                </a:lnTo>
                <a:close/>
              </a:path>
              <a:path fill="lightenLess" w="25254" h="21600">
                <a:moveTo>
                  <a:pt x="0" y="0"/>
                </a:moveTo>
                <a:lnTo>
                  <a:pt x="25254" y="0"/>
                </a:lnTo>
                <a:lnTo>
                  <a:pt x="23854" y="1400"/>
                </a:lnTo>
                <a:lnTo>
                  <a:pt x="1400" y="1400"/>
                </a:lnTo>
                <a:close/>
              </a:path>
              <a:path fill="darken" w="25254" h="21600">
                <a:moveTo>
                  <a:pt x="25254" y="0"/>
                </a:moveTo>
                <a:lnTo>
                  <a:pt x="25254" y="21600"/>
                </a:lnTo>
                <a:lnTo>
                  <a:pt x="23854" y="20200"/>
                </a:lnTo>
                <a:lnTo>
                  <a:pt x="23854" y="1400"/>
                </a:lnTo>
                <a:close/>
              </a:path>
              <a:path fill="darkenLess" w="25254" h="21600">
                <a:moveTo>
                  <a:pt x="252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54" y="20200"/>
                </a:lnTo>
                <a:close/>
              </a:path>
              <a:path fill="lighten" w="252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54" h="21600">
                <a:moveTo>
                  <a:pt x="5621" y="7493"/>
                </a:moveTo>
                <a:lnTo>
                  <a:pt x="9128" y="7493"/>
                </a:lnTo>
                <a:lnTo>
                  <a:pt x="9128" y="12828"/>
                </a:lnTo>
                <a:cubicBezTo>
                  <a:pt x="9128" y="13751"/>
                  <a:pt x="9929" y="14482"/>
                  <a:pt x="10965" y="14482"/>
                </a:cubicBezTo>
                <a:lnTo>
                  <a:pt x="12627" y="14482"/>
                </a:lnTo>
                <a:cubicBezTo>
                  <a:pt x="13663" y="14482"/>
                  <a:pt x="14463" y="13751"/>
                  <a:pt x="14463" y="12828"/>
                </a:cubicBezTo>
                <a:lnTo>
                  <a:pt x="14463" y="7493"/>
                </a:lnTo>
                <a:lnTo>
                  <a:pt x="12627" y="7493"/>
                </a:lnTo>
                <a:lnTo>
                  <a:pt x="16135" y="3985"/>
                </a:lnTo>
                <a:lnTo>
                  <a:pt x="19808" y="7493"/>
                </a:lnTo>
                <a:lnTo>
                  <a:pt x="17971" y="7493"/>
                </a:lnTo>
                <a:lnTo>
                  <a:pt x="17971" y="12828"/>
                </a:lnTo>
                <a:cubicBezTo>
                  <a:pt x="17971" y="15596"/>
                  <a:pt x="15395" y="18155"/>
                  <a:pt x="12627" y="18155"/>
                </a:cubicBezTo>
                <a:lnTo>
                  <a:pt x="10965" y="18155"/>
                </a:lnTo>
                <a:cubicBezTo>
                  <a:pt x="8197" y="18155"/>
                  <a:pt x="5621" y="15596"/>
                  <a:pt x="5621" y="12828"/>
                </a:cubicBezTo>
                <a:close/>
              </a:path>
            </a:pathLst>
          </a:custGeom>
          <a:solidFill>
            <a:srgbClr val="99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2" dur="1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3" dur="1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4" dur="1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20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20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2000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20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20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8" dur="2000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20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20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2000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25560">
            <a:solidFill>
              <a:srgbClr val="9966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Спрос и предложени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2362320" y="3429000"/>
            <a:ext cx="6400800" cy="14479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9966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овтор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Решение зада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одготовка к контрольной рабо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43981"/>
                </a:solidFill>
                <a:latin typeface="Arial"/>
              </a:rPr>
              <a:t>Цели урока: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оанализировать, как влияют неценовые факторы на вид кривых спроса и предлож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оанализировать, как изменения в спросе и предложении воздействуют на рыночное равновеси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ешая задачи разными методами, сделать вывод о возможных ситуациях на рынк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8388360" y="6237360"/>
            <a:ext cx="504720" cy="431640"/>
          </a:xfrm>
          <a:custGeom>
            <a:avLst/>
            <a:gdLst>
              <a:gd name="textAreaLeft" fmla="*/ 27720 w 504720"/>
              <a:gd name="textAreaRight" fmla="*/ 477000 w 5047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254" h="21600">
                <a:moveTo>
                  <a:pt x="0" y="0"/>
                </a:moveTo>
                <a:lnTo>
                  <a:pt x="25254" y="0"/>
                </a:lnTo>
                <a:lnTo>
                  <a:pt x="25254" y="21600"/>
                </a:lnTo>
                <a:lnTo>
                  <a:pt x="0" y="21600"/>
                </a:lnTo>
                <a:close/>
              </a:path>
              <a:path fill="lightenLess" w="25254" h="21600">
                <a:moveTo>
                  <a:pt x="0" y="0"/>
                </a:moveTo>
                <a:lnTo>
                  <a:pt x="25254" y="0"/>
                </a:lnTo>
                <a:lnTo>
                  <a:pt x="23854" y="1400"/>
                </a:lnTo>
                <a:lnTo>
                  <a:pt x="1400" y="1400"/>
                </a:lnTo>
                <a:close/>
              </a:path>
              <a:path fill="darken" w="25254" h="21600">
                <a:moveTo>
                  <a:pt x="25254" y="0"/>
                </a:moveTo>
                <a:lnTo>
                  <a:pt x="25254" y="21600"/>
                </a:lnTo>
                <a:lnTo>
                  <a:pt x="23854" y="20200"/>
                </a:lnTo>
                <a:lnTo>
                  <a:pt x="23854" y="1400"/>
                </a:lnTo>
                <a:close/>
              </a:path>
              <a:path fill="darkenLess" w="25254" h="21600">
                <a:moveTo>
                  <a:pt x="252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54" y="20200"/>
                </a:lnTo>
                <a:close/>
              </a:path>
              <a:path fill="lighten" w="252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54" h="21600">
                <a:moveTo>
                  <a:pt x="5621" y="7493"/>
                </a:moveTo>
                <a:lnTo>
                  <a:pt x="9128" y="7493"/>
                </a:lnTo>
                <a:lnTo>
                  <a:pt x="9128" y="12828"/>
                </a:lnTo>
                <a:cubicBezTo>
                  <a:pt x="9128" y="13751"/>
                  <a:pt x="9929" y="14482"/>
                  <a:pt x="10965" y="14482"/>
                </a:cubicBezTo>
                <a:lnTo>
                  <a:pt x="12627" y="14482"/>
                </a:lnTo>
                <a:cubicBezTo>
                  <a:pt x="13663" y="14482"/>
                  <a:pt x="14463" y="13751"/>
                  <a:pt x="14463" y="12828"/>
                </a:cubicBezTo>
                <a:lnTo>
                  <a:pt x="14463" y="7493"/>
                </a:lnTo>
                <a:lnTo>
                  <a:pt x="12627" y="7493"/>
                </a:lnTo>
                <a:lnTo>
                  <a:pt x="16135" y="3985"/>
                </a:lnTo>
                <a:lnTo>
                  <a:pt x="19808" y="7493"/>
                </a:lnTo>
                <a:lnTo>
                  <a:pt x="17971" y="7493"/>
                </a:lnTo>
                <a:lnTo>
                  <a:pt x="17971" y="12828"/>
                </a:lnTo>
                <a:cubicBezTo>
                  <a:pt x="17971" y="15596"/>
                  <a:pt x="15395" y="18155"/>
                  <a:pt x="12627" y="18155"/>
                </a:cubicBezTo>
                <a:lnTo>
                  <a:pt x="10965" y="18155"/>
                </a:lnTo>
                <a:cubicBezTo>
                  <a:pt x="8197" y="18155"/>
                  <a:pt x="5621" y="15596"/>
                  <a:pt x="5621" y="12828"/>
                </a:cubicBezTo>
                <a:close/>
              </a:path>
            </a:pathLst>
          </a:custGeom>
          <a:solidFill>
            <a:srgbClr val="99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c0039"/>
                </a:solidFill>
                <a:latin typeface="Arial"/>
              </a:rPr>
              <a:t>Ответы к задачам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= 4,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=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= 20,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= 5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 Р = 15 – дефицит на рынке составит 375, т. к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443640" y="1700280"/>
            <a:ext cx="504720" cy="431640"/>
          </a:xfrm>
          <a:custGeom>
            <a:avLst/>
            <a:gdLst>
              <a:gd name="textAreaLeft" fmla="*/ 27720 w 504720"/>
              <a:gd name="textAreaRight" fmla="*/ 477000 w 5047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254" h="21600">
                <a:moveTo>
                  <a:pt x="0" y="0"/>
                </a:moveTo>
                <a:lnTo>
                  <a:pt x="25254" y="0"/>
                </a:lnTo>
                <a:lnTo>
                  <a:pt x="25254" y="21600"/>
                </a:lnTo>
                <a:lnTo>
                  <a:pt x="0" y="21600"/>
                </a:lnTo>
                <a:close/>
              </a:path>
              <a:path fill="lightenLess" w="25254" h="21600">
                <a:moveTo>
                  <a:pt x="0" y="0"/>
                </a:moveTo>
                <a:lnTo>
                  <a:pt x="25254" y="0"/>
                </a:lnTo>
                <a:lnTo>
                  <a:pt x="23854" y="1400"/>
                </a:lnTo>
                <a:lnTo>
                  <a:pt x="1400" y="1400"/>
                </a:lnTo>
                <a:close/>
              </a:path>
              <a:path fill="darken" w="25254" h="21600">
                <a:moveTo>
                  <a:pt x="25254" y="0"/>
                </a:moveTo>
                <a:lnTo>
                  <a:pt x="25254" y="21600"/>
                </a:lnTo>
                <a:lnTo>
                  <a:pt x="23854" y="20200"/>
                </a:lnTo>
                <a:lnTo>
                  <a:pt x="23854" y="1400"/>
                </a:lnTo>
                <a:close/>
              </a:path>
              <a:path fill="darkenLess" w="25254" h="21600">
                <a:moveTo>
                  <a:pt x="252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54" y="20200"/>
                </a:lnTo>
                <a:close/>
              </a:path>
              <a:path fill="lighten" w="252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54" h="21600">
                <a:moveTo>
                  <a:pt x="5621" y="7493"/>
                </a:moveTo>
                <a:lnTo>
                  <a:pt x="9128" y="7493"/>
                </a:lnTo>
                <a:lnTo>
                  <a:pt x="9128" y="12828"/>
                </a:lnTo>
                <a:cubicBezTo>
                  <a:pt x="9128" y="13751"/>
                  <a:pt x="9929" y="14482"/>
                  <a:pt x="10965" y="14482"/>
                </a:cubicBezTo>
                <a:lnTo>
                  <a:pt x="12627" y="14482"/>
                </a:lnTo>
                <a:cubicBezTo>
                  <a:pt x="13663" y="14482"/>
                  <a:pt x="14463" y="13751"/>
                  <a:pt x="14463" y="12828"/>
                </a:cubicBezTo>
                <a:lnTo>
                  <a:pt x="14463" y="7493"/>
                </a:lnTo>
                <a:lnTo>
                  <a:pt x="12627" y="7493"/>
                </a:lnTo>
                <a:lnTo>
                  <a:pt x="16135" y="3985"/>
                </a:lnTo>
                <a:lnTo>
                  <a:pt x="19808" y="7493"/>
                </a:lnTo>
                <a:lnTo>
                  <a:pt x="17971" y="7493"/>
                </a:lnTo>
                <a:lnTo>
                  <a:pt x="17971" y="12828"/>
                </a:lnTo>
                <a:cubicBezTo>
                  <a:pt x="17971" y="15596"/>
                  <a:pt x="15395" y="18155"/>
                  <a:pt x="12627" y="18155"/>
                </a:cubicBezTo>
                <a:lnTo>
                  <a:pt x="10965" y="18155"/>
                </a:lnTo>
                <a:cubicBezTo>
                  <a:pt x="8197" y="18155"/>
                  <a:pt x="5621" y="15596"/>
                  <a:pt x="5621" y="12828"/>
                </a:cubicBezTo>
                <a:close/>
              </a:path>
            </a:pathLst>
          </a:custGeom>
          <a:solidFill>
            <a:srgbClr val="99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443640" y="4005360"/>
            <a:ext cx="504720" cy="431640"/>
          </a:xfrm>
          <a:custGeom>
            <a:avLst/>
            <a:gdLst>
              <a:gd name="textAreaLeft" fmla="*/ 27720 w 504720"/>
              <a:gd name="textAreaRight" fmla="*/ 477000 w 5047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254" h="21600">
                <a:moveTo>
                  <a:pt x="0" y="0"/>
                </a:moveTo>
                <a:lnTo>
                  <a:pt x="25254" y="0"/>
                </a:lnTo>
                <a:lnTo>
                  <a:pt x="25254" y="21600"/>
                </a:lnTo>
                <a:lnTo>
                  <a:pt x="0" y="21600"/>
                </a:lnTo>
                <a:close/>
              </a:path>
              <a:path fill="lightenLess" w="25254" h="21600">
                <a:moveTo>
                  <a:pt x="0" y="0"/>
                </a:moveTo>
                <a:lnTo>
                  <a:pt x="25254" y="0"/>
                </a:lnTo>
                <a:lnTo>
                  <a:pt x="23854" y="1400"/>
                </a:lnTo>
                <a:lnTo>
                  <a:pt x="1400" y="1400"/>
                </a:lnTo>
                <a:close/>
              </a:path>
              <a:path fill="darken" w="25254" h="21600">
                <a:moveTo>
                  <a:pt x="25254" y="0"/>
                </a:moveTo>
                <a:lnTo>
                  <a:pt x="25254" y="21600"/>
                </a:lnTo>
                <a:lnTo>
                  <a:pt x="23854" y="20200"/>
                </a:lnTo>
                <a:lnTo>
                  <a:pt x="23854" y="1400"/>
                </a:lnTo>
                <a:close/>
              </a:path>
              <a:path fill="darkenLess" w="25254" h="21600">
                <a:moveTo>
                  <a:pt x="252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54" y="20200"/>
                </a:lnTo>
                <a:close/>
              </a:path>
              <a:path fill="lighten" w="252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54" h="21600">
                <a:moveTo>
                  <a:pt x="5621" y="7493"/>
                </a:moveTo>
                <a:lnTo>
                  <a:pt x="9128" y="7493"/>
                </a:lnTo>
                <a:lnTo>
                  <a:pt x="9128" y="12828"/>
                </a:lnTo>
                <a:cubicBezTo>
                  <a:pt x="9128" y="13751"/>
                  <a:pt x="9929" y="14482"/>
                  <a:pt x="10965" y="14482"/>
                </a:cubicBezTo>
                <a:lnTo>
                  <a:pt x="12627" y="14482"/>
                </a:lnTo>
                <a:cubicBezTo>
                  <a:pt x="13663" y="14482"/>
                  <a:pt x="14463" y="13751"/>
                  <a:pt x="14463" y="12828"/>
                </a:cubicBezTo>
                <a:lnTo>
                  <a:pt x="14463" y="7493"/>
                </a:lnTo>
                <a:lnTo>
                  <a:pt x="12627" y="7493"/>
                </a:lnTo>
                <a:lnTo>
                  <a:pt x="16135" y="3985"/>
                </a:lnTo>
                <a:lnTo>
                  <a:pt x="19808" y="7493"/>
                </a:lnTo>
                <a:lnTo>
                  <a:pt x="17971" y="7493"/>
                </a:lnTo>
                <a:lnTo>
                  <a:pt x="17971" y="12828"/>
                </a:lnTo>
                <a:cubicBezTo>
                  <a:pt x="17971" y="15596"/>
                  <a:pt x="15395" y="18155"/>
                  <a:pt x="12627" y="18155"/>
                </a:cubicBezTo>
                <a:lnTo>
                  <a:pt x="10965" y="18155"/>
                </a:lnTo>
                <a:cubicBezTo>
                  <a:pt x="8197" y="18155"/>
                  <a:pt x="5621" y="15596"/>
                  <a:pt x="5621" y="12828"/>
                </a:cubicBezTo>
                <a:close/>
              </a:path>
            </a:pathLst>
          </a:custGeom>
          <a:solidFill>
            <a:srgbClr val="99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20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20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4" dur="20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2000" fill="hold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2000" fill="hold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2000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2000" fill="hold"/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2000" fill="hold"/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43981"/>
                </a:solidFill>
                <a:latin typeface="Arial"/>
              </a:rPr>
              <a:t>Равновесие на рынке.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679840" y="5734080"/>
            <a:ext cx="225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вновесная це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559480" y="5734080"/>
            <a:ext cx="289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o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– равновесное количе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324000" y="-674640"/>
            <a:ext cx="11088000" cy="6291360"/>
            <a:chOff x="324000" y="-674640"/>
            <a:chExt cx="11088000" cy="6291360"/>
          </a:xfrm>
        </p:grpSpPr>
        <p:sp>
          <p:nvSpPr>
            <p:cNvPr id="207" name=""/>
            <p:cNvSpPr/>
            <p:nvPr/>
          </p:nvSpPr>
          <p:spPr>
            <a:xfrm flipV="1">
              <a:off x="3419640" y="1341360"/>
              <a:ext cx="0" cy="395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276720" y="5157720"/>
              <a:ext cx="5256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041640" y="517680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968920" y="128916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369280" y="524844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 flipH="1" flipV="1">
              <a:off x="4500720" y="-674640"/>
              <a:ext cx="6911280" cy="489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 flipV="1">
              <a:off x="324000" y="-532440"/>
              <a:ext cx="6768720" cy="4609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724360" y="3645000"/>
              <a:ext cx="0" cy="288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724360" y="4149720"/>
              <a:ext cx="0" cy="287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724360" y="4653000"/>
              <a:ext cx="0" cy="216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724360" y="5013360"/>
              <a:ext cx="0" cy="287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 flipH="1">
              <a:off x="5435640" y="3645000"/>
              <a:ext cx="288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 flipH="1">
              <a:off x="4932360" y="3645000"/>
              <a:ext cx="287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 flipH="1">
              <a:off x="4356000" y="3645000"/>
              <a:ext cx="287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 flipH="1">
              <a:off x="3780000" y="3645000"/>
              <a:ext cx="287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>
              <a:off x="3276720" y="3645000"/>
              <a:ext cx="287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896920" y="3448080"/>
              <a:ext cx="441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633640" y="5248440"/>
              <a:ext cx="46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651640" y="3573360"/>
              <a:ext cx="144360" cy="142920"/>
            </a:xfrm>
            <a:prstGeom prst="ellipse">
              <a:avLst/>
            </a:prstGeom>
            <a:solidFill>
              <a:srgbClr val="8c003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6" name=""/>
          <p:cNvSpPr/>
          <p:nvPr/>
        </p:nvSpPr>
        <p:spPr>
          <a:xfrm>
            <a:off x="8388360" y="6237360"/>
            <a:ext cx="504720" cy="431640"/>
          </a:xfrm>
          <a:custGeom>
            <a:avLst/>
            <a:gdLst>
              <a:gd name="textAreaLeft" fmla="*/ 27720 w 504720"/>
              <a:gd name="textAreaRight" fmla="*/ 477000 w 5047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254" h="21600">
                <a:moveTo>
                  <a:pt x="0" y="0"/>
                </a:moveTo>
                <a:lnTo>
                  <a:pt x="25254" y="0"/>
                </a:lnTo>
                <a:lnTo>
                  <a:pt x="25254" y="21600"/>
                </a:lnTo>
                <a:lnTo>
                  <a:pt x="0" y="21600"/>
                </a:lnTo>
                <a:close/>
              </a:path>
              <a:path fill="lightenLess" w="25254" h="21600">
                <a:moveTo>
                  <a:pt x="0" y="0"/>
                </a:moveTo>
                <a:lnTo>
                  <a:pt x="25254" y="0"/>
                </a:lnTo>
                <a:lnTo>
                  <a:pt x="23854" y="1400"/>
                </a:lnTo>
                <a:lnTo>
                  <a:pt x="1400" y="1400"/>
                </a:lnTo>
                <a:close/>
              </a:path>
              <a:path fill="darken" w="25254" h="21600">
                <a:moveTo>
                  <a:pt x="25254" y="0"/>
                </a:moveTo>
                <a:lnTo>
                  <a:pt x="25254" y="21600"/>
                </a:lnTo>
                <a:lnTo>
                  <a:pt x="23854" y="20200"/>
                </a:lnTo>
                <a:lnTo>
                  <a:pt x="23854" y="1400"/>
                </a:lnTo>
                <a:close/>
              </a:path>
              <a:path fill="darkenLess" w="25254" h="21600">
                <a:moveTo>
                  <a:pt x="252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54" y="20200"/>
                </a:lnTo>
                <a:close/>
              </a:path>
              <a:path fill="lighten" w="252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54" h="21600">
                <a:moveTo>
                  <a:pt x="5621" y="7493"/>
                </a:moveTo>
                <a:lnTo>
                  <a:pt x="9128" y="7493"/>
                </a:lnTo>
                <a:lnTo>
                  <a:pt x="9128" y="12828"/>
                </a:lnTo>
                <a:cubicBezTo>
                  <a:pt x="9128" y="13751"/>
                  <a:pt x="9929" y="14482"/>
                  <a:pt x="10965" y="14482"/>
                </a:cubicBezTo>
                <a:lnTo>
                  <a:pt x="12627" y="14482"/>
                </a:lnTo>
                <a:cubicBezTo>
                  <a:pt x="13663" y="14482"/>
                  <a:pt x="14463" y="13751"/>
                  <a:pt x="14463" y="12828"/>
                </a:cubicBezTo>
                <a:lnTo>
                  <a:pt x="14463" y="7493"/>
                </a:lnTo>
                <a:lnTo>
                  <a:pt x="12627" y="7493"/>
                </a:lnTo>
                <a:lnTo>
                  <a:pt x="16135" y="3985"/>
                </a:lnTo>
                <a:lnTo>
                  <a:pt x="19808" y="7493"/>
                </a:lnTo>
                <a:lnTo>
                  <a:pt x="17971" y="7493"/>
                </a:lnTo>
                <a:lnTo>
                  <a:pt x="17971" y="12828"/>
                </a:lnTo>
                <a:cubicBezTo>
                  <a:pt x="17971" y="15596"/>
                  <a:pt x="15395" y="18155"/>
                  <a:pt x="12627" y="18155"/>
                </a:cubicBezTo>
                <a:lnTo>
                  <a:pt x="10965" y="18155"/>
                </a:lnTo>
                <a:cubicBezTo>
                  <a:pt x="8197" y="18155"/>
                  <a:pt x="5621" y="15596"/>
                  <a:pt x="5621" y="12828"/>
                </a:cubicBezTo>
                <a:close/>
              </a:path>
            </a:pathLst>
          </a:custGeom>
          <a:solidFill>
            <a:srgbClr val="99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43981"/>
                </a:solidFill>
                <a:latin typeface="Arial"/>
              </a:rPr>
              <a:t>План урока: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вторение </a:t>
            </a:r>
            <a:r>
              <a:rPr b="0" lang="en-US" sz="3200" spc="-1" strike="noStrike" u="sng">
                <a:solidFill>
                  <a:srgbClr val="e4005c"/>
                </a:solidFill>
                <a:uFillTx/>
                <a:latin typeface="Arial"/>
                <a:hlinkClick r:id="rId1" action="ppaction://hlinksldjump"/>
              </a:rPr>
              <a:t>основных понят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нализ графи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адача – образе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ешение зада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ыво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43981"/>
                </a:solidFill>
                <a:latin typeface="Arial"/>
              </a:rPr>
              <a:t>Основные понятия: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4005c"/>
                </a:solidFill>
                <a:uFillTx/>
                <a:latin typeface="Arial"/>
                <a:hlinkClick r:id="rId1" action="ppaction://hlinksldjump"/>
              </a:rPr>
              <a:t>Спро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4005c"/>
                </a:solidFill>
                <a:uFillTx/>
                <a:latin typeface="Arial"/>
                <a:hlinkClick r:id="rId2" action="ppaction://hlinksldjump"/>
              </a:rPr>
              <a:t>Закон спро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4005c"/>
                </a:solidFill>
                <a:latin typeface="Arial"/>
              </a:rPr>
              <a:t>Ценовые и </a:t>
            </a:r>
            <a:r>
              <a:rPr b="0" lang="en-US" sz="2800" spc="-1" strike="noStrike" u="sng">
                <a:solidFill>
                  <a:srgbClr val="e4005c"/>
                </a:solidFill>
                <a:uFillTx/>
                <a:latin typeface="Arial"/>
                <a:hlinkClick r:id="rId3" action="ppaction://hlinksldjump"/>
              </a:rPr>
              <a:t>неценовые факторы спро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4005c"/>
                </a:solidFill>
                <a:uFillTx/>
                <a:latin typeface="Arial"/>
                <a:hlinkClick r:id="rId4" action="ppaction://hlinksldjump"/>
              </a:rPr>
              <a:t>Предлож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4005c"/>
                </a:solidFill>
                <a:latin typeface="Arial"/>
              </a:rPr>
              <a:t>Закон предлож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4005c"/>
                </a:solidFill>
                <a:latin typeface="Arial"/>
              </a:rPr>
              <a:t>Ценовые и </a:t>
            </a:r>
            <a:r>
              <a:rPr b="0" lang="en-US" sz="2800" spc="-1" strike="noStrike" u="sng">
                <a:solidFill>
                  <a:srgbClr val="e4005c"/>
                </a:solidFill>
                <a:uFillTx/>
                <a:latin typeface="Arial"/>
                <a:hlinkClick r:id="rId5" action="ppaction://hlinksldjump"/>
              </a:rPr>
              <a:t>неценовые факторы предлож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4005c"/>
                </a:solidFill>
                <a:uFillTx/>
                <a:latin typeface="Arial"/>
                <a:hlinkClick r:id="rId6" action="ppaction://hlinksldjump"/>
              </a:rPr>
              <a:t>Рыночное равновес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>
            <a:hlinkClick r:id="rId7" action="ppaction://hlinksldjump"/>
          </p:cNvPr>
          <p:cNvSpPr/>
          <p:nvPr/>
        </p:nvSpPr>
        <p:spPr>
          <a:xfrm>
            <a:off x="8388360" y="6237360"/>
            <a:ext cx="504720" cy="431640"/>
          </a:xfrm>
          <a:custGeom>
            <a:avLst/>
            <a:gdLst>
              <a:gd name="textAreaLeft" fmla="*/ 27720 w 504720"/>
              <a:gd name="textAreaRight" fmla="*/ 477000 w 5047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254" h="21600">
                <a:moveTo>
                  <a:pt x="0" y="0"/>
                </a:moveTo>
                <a:lnTo>
                  <a:pt x="25254" y="0"/>
                </a:lnTo>
                <a:lnTo>
                  <a:pt x="25254" y="21600"/>
                </a:lnTo>
                <a:lnTo>
                  <a:pt x="0" y="21600"/>
                </a:lnTo>
                <a:close/>
              </a:path>
              <a:path fill="lightenLess" w="25254" h="21600">
                <a:moveTo>
                  <a:pt x="0" y="0"/>
                </a:moveTo>
                <a:lnTo>
                  <a:pt x="25254" y="0"/>
                </a:lnTo>
                <a:lnTo>
                  <a:pt x="23854" y="1400"/>
                </a:lnTo>
                <a:lnTo>
                  <a:pt x="1400" y="1400"/>
                </a:lnTo>
                <a:close/>
              </a:path>
              <a:path fill="darken" w="25254" h="21600">
                <a:moveTo>
                  <a:pt x="25254" y="0"/>
                </a:moveTo>
                <a:lnTo>
                  <a:pt x="25254" y="21600"/>
                </a:lnTo>
                <a:lnTo>
                  <a:pt x="23854" y="20200"/>
                </a:lnTo>
                <a:lnTo>
                  <a:pt x="23854" y="1400"/>
                </a:lnTo>
                <a:close/>
              </a:path>
              <a:path fill="darkenLess" w="25254" h="21600">
                <a:moveTo>
                  <a:pt x="252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54" y="20200"/>
                </a:lnTo>
                <a:close/>
              </a:path>
              <a:path fill="lighten" w="252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54" h="21600">
                <a:moveTo>
                  <a:pt x="5621" y="7493"/>
                </a:moveTo>
                <a:lnTo>
                  <a:pt x="9128" y="7493"/>
                </a:lnTo>
                <a:lnTo>
                  <a:pt x="9128" y="12828"/>
                </a:lnTo>
                <a:cubicBezTo>
                  <a:pt x="9128" y="13751"/>
                  <a:pt x="9929" y="14482"/>
                  <a:pt x="10965" y="14482"/>
                </a:cubicBezTo>
                <a:lnTo>
                  <a:pt x="12627" y="14482"/>
                </a:lnTo>
                <a:cubicBezTo>
                  <a:pt x="13663" y="14482"/>
                  <a:pt x="14463" y="13751"/>
                  <a:pt x="14463" y="12828"/>
                </a:cubicBezTo>
                <a:lnTo>
                  <a:pt x="14463" y="7493"/>
                </a:lnTo>
                <a:lnTo>
                  <a:pt x="12627" y="7493"/>
                </a:lnTo>
                <a:lnTo>
                  <a:pt x="16135" y="3985"/>
                </a:lnTo>
                <a:lnTo>
                  <a:pt x="19808" y="7493"/>
                </a:lnTo>
                <a:lnTo>
                  <a:pt x="17971" y="7493"/>
                </a:lnTo>
                <a:lnTo>
                  <a:pt x="17971" y="12828"/>
                </a:lnTo>
                <a:cubicBezTo>
                  <a:pt x="17971" y="15596"/>
                  <a:pt x="15395" y="18155"/>
                  <a:pt x="12627" y="18155"/>
                </a:cubicBezTo>
                <a:lnTo>
                  <a:pt x="10965" y="18155"/>
                </a:lnTo>
                <a:cubicBezTo>
                  <a:pt x="8197" y="18155"/>
                  <a:pt x="5621" y="15596"/>
                  <a:pt x="5621" y="12828"/>
                </a:cubicBezTo>
                <a:close/>
              </a:path>
            </a:pathLst>
          </a:custGeom>
          <a:solidFill>
            <a:srgbClr val="99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43981"/>
                </a:solidFill>
                <a:latin typeface="Arial"/>
              </a:rPr>
              <a:t>Спрос. Закон спроса.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4005c"/>
                </a:solidFill>
                <a:latin typeface="Arial"/>
              </a:rPr>
              <a:t>Спро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сложившаяся в определенный период времени зависимость величин спроса на данном товарном рынке от цен, по которым товары могут быть предложены к продаж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4005c"/>
                </a:solidFill>
                <a:latin typeface="Arial"/>
              </a:rPr>
              <a:t>Закон спрос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повышение цен ведет к уменьшению величины спрос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>
            <a:hlinkClick r:id="rId1" action="ppaction://hlinksldjump"/>
          </p:cNvPr>
          <p:cNvSpPr/>
          <p:nvPr/>
        </p:nvSpPr>
        <p:spPr>
          <a:xfrm>
            <a:off x="8388360" y="6237360"/>
            <a:ext cx="504720" cy="431640"/>
          </a:xfrm>
          <a:custGeom>
            <a:avLst/>
            <a:gdLst>
              <a:gd name="textAreaLeft" fmla="*/ 27720 w 504720"/>
              <a:gd name="textAreaRight" fmla="*/ 477000 w 5047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254" h="21600">
                <a:moveTo>
                  <a:pt x="0" y="0"/>
                </a:moveTo>
                <a:lnTo>
                  <a:pt x="25254" y="0"/>
                </a:lnTo>
                <a:lnTo>
                  <a:pt x="25254" y="21600"/>
                </a:lnTo>
                <a:lnTo>
                  <a:pt x="0" y="21600"/>
                </a:lnTo>
                <a:close/>
              </a:path>
              <a:path fill="lightenLess" w="25254" h="21600">
                <a:moveTo>
                  <a:pt x="0" y="0"/>
                </a:moveTo>
                <a:lnTo>
                  <a:pt x="25254" y="0"/>
                </a:lnTo>
                <a:lnTo>
                  <a:pt x="23854" y="1400"/>
                </a:lnTo>
                <a:lnTo>
                  <a:pt x="1400" y="1400"/>
                </a:lnTo>
                <a:close/>
              </a:path>
              <a:path fill="darken" w="25254" h="21600">
                <a:moveTo>
                  <a:pt x="25254" y="0"/>
                </a:moveTo>
                <a:lnTo>
                  <a:pt x="25254" y="21600"/>
                </a:lnTo>
                <a:lnTo>
                  <a:pt x="23854" y="20200"/>
                </a:lnTo>
                <a:lnTo>
                  <a:pt x="23854" y="1400"/>
                </a:lnTo>
                <a:close/>
              </a:path>
              <a:path fill="darkenLess" w="25254" h="21600">
                <a:moveTo>
                  <a:pt x="252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54" y="20200"/>
                </a:lnTo>
                <a:close/>
              </a:path>
              <a:path fill="lighten" w="252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54" h="21600">
                <a:moveTo>
                  <a:pt x="5621" y="7493"/>
                </a:moveTo>
                <a:lnTo>
                  <a:pt x="9128" y="7493"/>
                </a:lnTo>
                <a:lnTo>
                  <a:pt x="9128" y="12828"/>
                </a:lnTo>
                <a:cubicBezTo>
                  <a:pt x="9128" y="13751"/>
                  <a:pt x="9929" y="14482"/>
                  <a:pt x="10965" y="14482"/>
                </a:cubicBezTo>
                <a:lnTo>
                  <a:pt x="12627" y="14482"/>
                </a:lnTo>
                <a:cubicBezTo>
                  <a:pt x="13663" y="14482"/>
                  <a:pt x="14463" y="13751"/>
                  <a:pt x="14463" y="12828"/>
                </a:cubicBezTo>
                <a:lnTo>
                  <a:pt x="14463" y="7493"/>
                </a:lnTo>
                <a:lnTo>
                  <a:pt x="12627" y="7493"/>
                </a:lnTo>
                <a:lnTo>
                  <a:pt x="16135" y="3985"/>
                </a:lnTo>
                <a:lnTo>
                  <a:pt x="19808" y="7493"/>
                </a:lnTo>
                <a:lnTo>
                  <a:pt x="17971" y="7493"/>
                </a:lnTo>
                <a:lnTo>
                  <a:pt x="17971" y="12828"/>
                </a:lnTo>
                <a:cubicBezTo>
                  <a:pt x="17971" y="15596"/>
                  <a:pt x="15395" y="18155"/>
                  <a:pt x="12627" y="18155"/>
                </a:cubicBezTo>
                <a:lnTo>
                  <a:pt x="10965" y="18155"/>
                </a:lnTo>
                <a:cubicBezTo>
                  <a:pt x="8197" y="18155"/>
                  <a:pt x="5621" y="15596"/>
                  <a:pt x="5621" y="12828"/>
                </a:cubicBezTo>
                <a:close/>
              </a:path>
            </a:pathLst>
          </a:custGeom>
          <a:solidFill>
            <a:srgbClr val="99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43981"/>
                </a:solidFill>
                <a:latin typeface="Arial"/>
              </a:rPr>
              <a:t>Предложение. Закон предложения.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4005c"/>
                </a:solidFill>
                <a:latin typeface="Arial"/>
              </a:rPr>
              <a:t>Предложени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сложившаяся в определенный период времени зависимость величины предложения на рынке определенного товара в течение определенного периода времени от уровней цен, по которым этот товар может быть прода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4005c"/>
                </a:solidFill>
                <a:latin typeface="Arial"/>
              </a:rPr>
              <a:t>Закон предложени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повышение цен ведет к росту величины предлож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>
            <a:hlinkClick r:id="rId1" action="ppaction://hlinksldjump"/>
          </p:cNvPr>
          <p:cNvSpPr/>
          <p:nvPr/>
        </p:nvSpPr>
        <p:spPr>
          <a:xfrm>
            <a:off x="8388360" y="6237360"/>
            <a:ext cx="504720" cy="431640"/>
          </a:xfrm>
          <a:custGeom>
            <a:avLst/>
            <a:gdLst>
              <a:gd name="textAreaLeft" fmla="*/ 27720 w 504720"/>
              <a:gd name="textAreaRight" fmla="*/ 477000 w 5047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254" h="21600">
                <a:moveTo>
                  <a:pt x="0" y="0"/>
                </a:moveTo>
                <a:lnTo>
                  <a:pt x="25254" y="0"/>
                </a:lnTo>
                <a:lnTo>
                  <a:pt x="25254" y="21600"/>
                </a:lnTo>
                <a:lnTo>
                  <a:pt x="0" y="21600"/>
                </a:lnTo>
                <a:close/>
              </a:path>
              <a:path fill="lightenLess" w="25254" h="21600">
                <a:moveTo>
                  <a:pt x="0" y="0"/>
                </a:moveTo>
                <a:lnTo>
                  <a:pt x="25254" y="0"/>
                </a:lnTo>
                <a:lnTo>
                  <a:pt x="23854" y="1400"/>
                </a:lnTo>
                <a:lnTo>
                  <a:pt x="1400" y="1400"/>
                </a:lnTo>
                <a:close/>
              </a:path>
              <a:path fill="darken" w="25254" h="21600">
                <a:moveTo>
                  <a:pt x="25254" y="0"/>
                </a:moveTo>
                <a:lnTo>
                  <a:pt x="25254" y="21600"/>
                </a:lnTo>
                <a:lnTo>
                  <a:pt x="23854" y="20200"/>
                </a:lnTo>
                <a:lnTo>
                  <a:pt x="23854" y="1400"/>
                </a:lnTo>
                <a:close/>
              </a:path>
              <a:path fill="darkenLess" w="25254" h="21600">
                <a:moveTo>
                  <a:pt x="252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54" y="20200"/>
                </a:lnTo>
                <a:close/>
              </a:path>
              <a:path fill="lighten" w="252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54" h="21600">
                <a:moveTo>
                  <a:pt x="5621" y="7493"/>
                </a:moveTo>
                <a:lnTo>
                  <a:pt x="9128" y="7493"/>
                </a:lnTo>
                <a:lnTo>
                  <a:pt x="9128" y="12828"/>
                </a:lnTo>
                <a:cubicBezTo>
                  <a:pt x="9128" y="13751"/>
                  <a:pt x="9929" y="14482"/>
                  <a:pt x="10965" y="14482"/>
                </a:cubicBezTo>
                <a:lnTo>
                  <a:pt x="12627" y="14482"/>
                </a:lnTo>
                <a:cubicBezTo>
                  <a:pt x="13663" y="14482"/>
                  <a:pt x="14463" y="13751"/>
                  <a:pt x="14463" y="12828"/>
                </a:cubicBezTo>
                <a:lnTo>
                  <a:pt x="14463" y="7493"/>
                </a:lnTo>
                <a:lnTo>
                  <a:pt x="12627" y="7493"/>
                </a:lnTo>
                <a:lnTo>
                  <a:pt x="16135" y="3985"/>
                </a:lnTo>
                <a:lnTo>
                  <a:pt x="19808" y="7493"/>
                </a:lnTo>
                <a:lnTo>
                  <a:pt x="17971" y="7493"/>
                </a:lnTo>
                <a:lnTo>
                  <a:pt x="17971" y="12828"/>
                </a:lnTo>
                <a:cubicBezTo>
                  <a:pt x="17971" y="15596"/>
                  <a:pt x="15395" y="18155"/>
                  <a:pt x="12627" y="18155"/>
                </a:cubicBezTo>
                <a:lnTo>
                  <a:pt x="10965" y="18155"/>
                </a:lnTo>
                <a:cubicBezTo>
                  <a:pt x="8197" y="18155"/>
                  <a:pt x="5621" y="15596"/>
                  <a:pt x="5621" y="12828"/>
                </a:cubicBezTo>
                <a:close/>
              </a:path>
            </a:pathLst>
          </a:custGeom>
          <a:solidFill>
            <a:srgbClr val="99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43981"/>
                </a:solidFill>
                <a:latin typeface="Arial"/>
              </a:rPr>
              <a:t>Неценовые факторы спроса: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437920" y="1600200"/>
            <a:ext cx="6705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кусы и предпочтения потребител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число покупателей на рын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цены на взаимозаменяемые и взаимодополняющие това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зменения в доходе потребител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жидание будущего изменения цен и доход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532720" y="3645000"/>
            <a:ext cx="360360" cy="3585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21708" h="21600">
                <a:moveTo>
                  <a:pt x="0" y="0"/>
                </a:moveTo>
                <a:lnTo>
                  <a:pt x="21708" y="0"/>
                </a:lnTo>
                <a:lnTo>
                  <a:pt x="21708" y="21600"/>
                </a:lnTo>
                <a:lnTo>
                  <a:pt x="0" y="21600"/>
                </a:lnTo>
                <a:close/>
              </a:path>
              <a:path fill="lightenLess" w="21708" h="21600">
                <a:moveTo>
                  <a:pt x="0" y="0"/>
                </a:moveTo>
                <a:lnTo>
                  <a:pt x="21708" y="0"/>
                </a:lnTo>
                <a:lnTo>
                  <a:pt x="20308" y="1400"/>
                </a:lnTo>
                <a:lnTo>
                  <a:pt x="1400" y="1400"/>
                </a:lnTo>
                <a:close/>
              </a:path>
              <a:path fill="darken" w="21708" h="21600">
                <a:moveTo>
                  <a:pt x="21708" y="0"/>
                </a:moveTo>
                <a:lnTo>
                  <a:pt x="21708" y="21600"/>
                </a:lnTo>
                <a:lnTo>
                  <a:pt x="20308" y="20200"/>
                </a:lnTo>
                <a:lnTo>
                  <a:pt x="20308" y="1400"/>
                </a:lnTo>
                <a:close/>
              </a:path>
              <a:path fill="darkenLess" w="21708" h="21600">
                <a:moveTo>
                  <a:pt x="217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08" y="20200"/>
                </a:lnTo>
                <a:close/>
              </a:path>
              <a:path fill="lighten" w="217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21708" h="21600">
                <a:moveTo>
                  <a:pt x="5327" y="3985"/>
                </a:moveTo>
                <a:lnTo>
                  <a:pt x="12325" y="3985"/>
                </a:lnTo>
                <a:lnTo>
                  <a:pt x="16381" y="7484"/>
                </a:lnTo>
                <a:lnTo>
                  <a:pt x="16381" y="17615"/>
                </a:lnTo>
                <a:lnTo>
                  <a:pt x="5327" y="17615"/>
                </a:lnTo>
                <a:close/>
              </a:path>
              <a:path fill="darken" w="21708" h="21600">
                <a:moveTo>
                  <a:pt x="12325" y="3985"/>
                </a:moveTo>
                <a:lnTo>
                  <a:pt x="16381" y="7484"/>
                </a:lnTo>
                <a:lnTo>
                  <a:pt x="12325" y="7484"/>
                </a:lnTo>
                <a:close/>
              </a:path>
            </a:pathLst>
          </a:custGeom>
          <a:solidFill>
            <a:srgbClr val="99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43981"/>
                </a:solidFill>
                <a:latin typeface="Arial"/>
              </a:rPr>
              <a:t>Изменение спроса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419640" y="1341360"/>
            <a:ext cx="0" cy="3959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276720" y="5157720"/>
            <a:ext cx="5256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041640" y="517680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968920" y="12891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8369280" y="524844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572000" y="1989000"/>
            <a:ext cx="2160720" cy="2160720"/>
          </a:xfrm>
          <a:prstGeom prst="line">
            <a:avLst/>
          </a:prstGeom>
          <a:ln w="76320">
            <a:solidFill>
              <a:srgbClr val="66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851280" y="2708280"/>
            <a:ext cx="2160720" cy="2160720"/>
          </a:xfrm>
          <a:prstGeom prst="line">
            <a:avLst/>
          </a:prstGeom>
          <a:ln w="76320">
            <a:solidFill>
              <a:srgbClr val="c36c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292720" y="1268280"/>
            <a:ext cx="2158920" cy="2160720"/>
          </a:xfrm>
          <a:prstGeom prst="line">
            <a:avLst/>
          </a:prstGeom>
          <a:ln w="76320">
            <a:solidFill>
              <a:srgbClr val="e400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292720" y="2708280"/>
            <a:ext cx="1440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4572000" y="3429000"/>
            <a:ext cx="1440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059280" y="5661000"/>
            <a:ext cx="57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c0039"/>
                </a:solidFill>
                <a:latin typeface="Arial"/>
              </a:rPr>
              <a:t>Влияние неценовых фактор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014520" y="1557360"/>
            <a:ext cx="151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4005c"/>
                </a:solidFill>
                <a:latin typeface="Arial"/>
              </a:rPr>
              <a:t>увелич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22520" y="4437000"/>
            <a:ext cx="161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36c03"/>
                </a:solidFill>
                <a:latin typeface="Arial"/>
              </a:rPr>
              <a:t>уменьш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" nodeType="after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52" dur="2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2000"/>
                            </p:stCondLst>
                            <p:childTnLst>
                              <p:par>
                                <p:cTn id="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2500"/>
                            </p:stCondLst>
                            <p:childTnLst>
                              <p:par>
                                <p:cTn id="5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70" dur="2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2000"/>
                            </p:stCondLst>
                            <p:childTnLst>
                              <p:par>
                                <p:cTn id="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2500"/>
                            </p:stCondLst>
                            <p:childTnLst>
                              <p:par>
                                <p:cTn id="7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85" dur="2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43981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43981"/>
                </a:solidFill>
                <a:latin typeface="Arial"/>
              </a:rPr>
              <a:t>Неценовые факторы предложения: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437920" y="1600200"/>
            <a:ext cx="6705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цены на производственные ресурс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ехнолог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логи и субсидии государ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число продавцов на рын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цены альтернативных товар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жидаемые в будущем изменения цен на данный това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8T12:05:28Z</dcterms:created>
  <dc:creator>radio</dc:creator>
  <dc:description/>
  <dc:language>en-US</dc:language>
  <cp:lastModifiedBy>User</cp:lastModifiedBy>
  <dcterms:modified xsi:type="dcterms:W3CDTF">2006-11-19T14:05:25Z</dcterms:modified>
  <cp:revision>18</cp:revision>
  <dc:subject/>
  <dc:title>Спрос и предложение</dc:title>
</cp:coreProperties>
</file>