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1A1-5D19-4776-978A-FB692D6D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FA0-E3A8-4D74-998D-34A1DB33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696-C83A-4169-9137-4894061C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EC6-4AFB-408A-A3F4-9FE9338F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EAE4-7E38-47DE-A5E0-E08AF43D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8B8F-6256-466A-91FE-894A898F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26FC-F851-441E-B37E-488D0CCC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97BB-B7B0-4438-AD8F-8CF4B1F1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C9D8-7393-453B-9029-2DC7B52B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A069-5026-42E0-9776-CB42172C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8784-1574-4A0E-954A-DAFA09A2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ECB-8858-4FB1-970E-0D30263B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1297-EA59-4032-A25B-1F6D413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3E42-0FA0-4B54-BB7B-A4A5D588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3855-D598-493C-83AD-9C73770B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D7EB-4AD5-42D0-B9CA-F12088D6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436F-C60D-4F29-B805-69A869FE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FC0-7B30-4ED3-B0AA-AE780D9F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0DB-7288-4C94-A4BD-FD79FCDA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A7A-8C14-42B3-AF98-48CCA92C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CC9-9BBC-48FD-9178-BF0DE462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386-E2BC-49F4-A6DE-935D07F3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5A7-53DD-48F1-93C2-C2B6FDA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CD6-9250-4985-8FC6-A0B6AF49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6C09-A2DF-4CD1-B0C6-C872C42702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66DC-712C-4A7D-9E59-53B765F94B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предло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1557000"/>
            <a:ext cx="2592360" cy="259236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51280" y="1123560"/>
            <a:ext cx="2376360" cy="230508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35640" y="2133720"/>
            <a:ext cx="2592360" cy="259056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92720" y="198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6480" y="566100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240" y="386064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119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139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26792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 товар А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товара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равновесные цену и количество товар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аналитически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93560" y="27082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2640" y="2708280"/>
            <a:ext cx="24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Спрос на товар А описывается уравнением: Qd = 50 – 6 · Р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Предложение товара А: Qs = 4 · Р – 10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Определите равновесные цену и количество товара А.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39280" y="1628640"/>
            <a:ext cx="40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внове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335772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0720" y="407664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97560" y="494172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 – 10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63120" y="5796000"/>
            <a:ext cx="43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1844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селения на спички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7 –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предложения спи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- 5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 анали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– цена коробка (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количество (тыс. ш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123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вая спроса на яблоки описывается уравн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1000 –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вая предложения ябл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- 500 + 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аналитически равновесные цену и объем продаж на рынке яб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объем дефицита (или избытка), который будет иметь место при Р=15 р. за 1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196640"/>
            <a:ext cx="6400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имеющимся табличным данным построить кривые спроса и предложения. Определить равновесные цену и количество, используя графически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71640" y="3645000"/>
          <a:ext cx="5688000" cy="2663640"/>
        </p:xfrm>
        <a:graphic>
          <a:graphicData uri="http://schemas.openxmlformats.org/drawingml/2006/table">
            <a:tbl>
              <a:tblPr/>
              <a:tblGrid>
                <a:gridCol w="1895040"/>
                <a:gridCol w="1897200"/>
                <a:gridCol w="189576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13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6735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513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97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8000" y="5651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980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38160">
            <a:solidFill>
              <a:srgbClr val="8c003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80000" y="2708280"/>
            <a:ext cx="1152360" cy="2162160"/>
          </a:xfrm>
          <a:prstGeom prst="line">
            <a:avLst/>
          </a:prstGeom>
          <a:ln w="38160">
            <a:solidFill>
              <a:srgbClr val="99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1280" y="97164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8360" y="162864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080" y="4292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59840" y="21528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е ситуации на рын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вес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ыт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влияют неценовые факторы на вид кривых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изменения в спросе и предложении воздействуют на рыночное равновес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я задачи разными методами, сделать вывод о возможных ситуациях на ры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тветы к задача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 = 15 – дефицит на рынке составит 375, т. 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70028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005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207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основны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граф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– обра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Основные понят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С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неценовые фактор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неценовые фактор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Рыночное равновес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Спрос. Закон спрос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С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 спроса на данном товарном рынке от цен, по которым товары могут быть предложены к 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с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уменьшению величины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редложение. Закон предлож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Предло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ы предложения на рынке определенного товара в течение определенного периода времени от уровней цен, по которым этот товар может быть про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росту величи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спро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окупателей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взаимозаменяемые и взаимодополняющи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в доходе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ние будущего изменения цен 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3645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спро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89000"/>
            <a:ext cx="2160720" cy="216072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268280"/>
            <a:ext cx="2158920" cy="216072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708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200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661000"/>
            <a:ext cx="57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4520" y="155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43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предлож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производстве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оги и субсид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родавцов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альтернативных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емые в будущем изменения цен на данный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2:05:28Z</dcterms:created>
  <dc:creator>radio</dc:creator>
  <dc:description/>
  <dc:language>en-US</dc:language>
  <cp:lastModifiedBy>User</cp:lastModifiedBy>
  <dcterms:modified xsi:type="dcterms:W3CDTF">2006-11-19T14:05:25Z</dcterms:modified>
  <cp:revision>18</cp:revision>
  <dc:subject/>
  <dc:title>Спрос и предложение</dc:title>
</cp:coreProperties>
</file>