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D2DC-68B1-46A2-B9C6-83776AA5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009DD-7429-4464-80BB-E6F996B1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CEF15-5FDC-4468-91B6-F37E2953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758AA-18E7-4C9D-A24F-DADBE449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3CDDD-8141-4BC5-A255-4AD285D5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7B6C-5F0E-4F4D-8FF1-31B755DB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92B4-EF9D-49E0-916A-B47DA77C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D1E9-A69B-42F4-81A9-83B313C4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8C0B-3A82-4C2D-8677-035B734E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CF27F-E7D6-49F3-9388-2D965A3E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6EE9-1247-452F-B90E-400FB665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4F749-F085-4A67-A708-6B401133E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E95D-45D1-4F60-B0F5-51A33FFEC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2C4F-DA63-41C0-85ED-73BB5937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A42E-0E0D-49B2-B1B0-FB9F636C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E025-50B5-445B-BCA9-0198D1258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2B6F-F926-47CB-A580-7C2388F44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CDAF-78DD-4550-B25F-7486616B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F98BE-B938-444F-8699-DDABB31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419A-D1D2-409D-B702-F3F78A5C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92CE3-D12E-4B33-8CC1-7A415344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50E8-CC70-40AC-86E1-DDB4E95D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3AEF-E7FB-45FF-893A-31D3048F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E0C0C-A171-4A6D-83D2-6B9F84A9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C44-09A6-42B5-ADD3-564CB4A35A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8C15-E667-4C17-B611-8388B984CF0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0720" y="2491920"/>
            <a:ext cx="79376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«Подготовка к итоговой контрольной работе по экономике»</a:t>
            </a:r>
            <a:br>
              <a:rPr sz="36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419640" y="5013360"/>
            <a:ext cx="5184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5  класс</a:t>
            </a:r>
            <a:endParaRPr b="1" lang="en-US" sz="4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26920" y="404640"/>
            <a:ext cx="7561440" cy="121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eorgia"/>
              </a:rPr>
              <a:t>Урок по теме:</a:t>
            </a:r>
            <a:endParaRPr b="1" i="1" lang="en-US" sz="60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208764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Термину слева подбери</a:t>
            </a:r>
            <a:br>
              <a:rPr sz="2800"/>
            </a:b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 его значение справа: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79280" y="1484280"/>
            <a:ext cx="36720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1. День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2. Натураль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3. Потребле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4. Торговл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5. Товарное хозяй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6. Правительство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7. Маркетинг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Garamond"/>
              </a:rPr>
              <a:t>8. Коммерческая организац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34920" y="1557000"/>
            <a:ext cx="52102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А) вид деятельности, позволяющий встретится продавцу и покупателю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Б) хозяйство, в котором производят товар не для личного потребления, а для обмена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В) то, что признается людьми и выполняет их функции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Г) использование потребительских свойств товаров себе во благ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Д) хозяйство, в котором человек производит сам все необходимое для жизни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Е) исполнительная власть государства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Ж) организация, которая приносит прибыл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З) обмен товара на деньг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44400" y="1600200"/>
            <a:ext cx="170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 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8. Ж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2. Реши задачи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родажу 7 изготовленных ею ковровых дорожек жена Ивана- Царевича Василиса Премудрая получила 1771 ван. Жены же братьев Ивана-Царевича изготовили 6 таких же по качеству ковровых дорожек и выручили за них 1614 ванов. Чьи дорожки покупать выгодне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Garamond"/>
              </a:rPr>
              <a:t>ПРОВЕРЬ СЕБ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) 1771 : 7 = 253 ( ван) – цена Васили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) 1614 : 6 = 269 ( ван) – цена жён братье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) 269 – 253 = 16 ( в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ОТВЕТ :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Выгоднее покупать ковровые дорожки у Василисы, так как они дешеле на 16 ван, чем у жён братье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cffff"/>
                </a:solidFill>
                <a:uFillTx/>
                <a:latin typeface="Monotype Corsiva"/>
              </a:rPr>
              <a:t>Закончите фразу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900760" y="2852640"/>
            <a:ext cx="3243240" cy="378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00120" cy="36003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 rot="19905600">
            <a:off x="528120" y="3162240"/>
            <a:ext cx="808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Сегодня на уроке я вспомнил ..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Georgia"/>
              </a:rPr>
              <a:t>Домашнее задан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1. Повторить материал со ст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. Реши задачу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78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заготовительной конторе у Лешего работали 13 рабочих. Ежемесячно он выделял 2/ 9 части общего дохода, равного 1 404 берестеня, на заработную плату рабочих. В результате неурожая грибов объем заготовок резко снизился, и доход упал на 540 берестеней. Сколько рабочих должен уволить Леший, чтобы оставшиеся работники получали прежнюю зарплату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240000" cy="30574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187280" y="1125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Желаю удачи!</a:t>
            </a:r>
            <a:endParaRPr b="1" lang="en-US" sz="5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Georgia"/>
              </a:rPr>
              <a:t>Теоретическая ча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. Природные ресурсы. Охрана природ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2.Человек и общество (Собственность, государство, организация, домашне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3. Виды хозяйств (Натуральное и товарное хозяйство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4. Рождение денег. Торговл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5. Рыночный механизм (спрос, предложение, рыночная цена, маркетинг, реклама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. Виды хозяйственной деятель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1. Природные ресурсы. Охрана природы.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360" y="1628280"/>
            <a:ext cx="5353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Что такое природные ресурсы?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Приведите примеры природных ресурс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Как охраняют окружающую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Зачем необходимо охранять природу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3635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2.Человек</a:t>
            </a:r>
            <a:r>
              <a:rPr b="1" i="1" lang="en-US" sz="2800" spc="-1" strike="noStrike" u="sng">
                <a:solidFill>
                  <a:srgbClr val="ffff00"/>
                </a:solidFill>
                <a:uFillTx/>
                <a:latin typeface="Georgia"/>
              </a:rPr>
              <a:t> </a:t>
            </a:r>
            <a:r>
              <a:rPr b="1" i="1" lang="en-US" sz="4000" spc="-1" strike="noStrike" u="sng">
                <a:solidFill>
                  <a:srgbClr val="ffff00"/>
                </a:solidFill>
                <a:uFillTx/>
                <a:latin typeface="Georgia"/>
              </a:rPr>
              <a:t>и общество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03280" y="1341360"/>
            <a:ext cx="55594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Что такое собственность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акие виды собственности вы знаете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К какому виду собственности можно отнести валенки, АО«Кровля»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- Что такое государство, организация, домашнее хозяйство?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300720" y="4221000"/>
            <a:ext cx="2592360" cy="2436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8796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3. Виды хозяйств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Чем отличается  натуральное хозяйство от 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Приведите примеры натурального и товарного хозяйства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4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На каком рисунке  вы видите пример натурального хозяйства и товарного хозяйства?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003640" y="3567240"/>
            <a:ext cx="3816360" cy="28065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916360" y="638172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00000" y="2924280"/>
            <a:ext cx="3149640" cy="34336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6372360" y="652464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00"/>
                </a:solidFill>
                <a:uFillTx/>
                <a:latin typeface="Georgia"/>
              </a:rPr>
              <a:t>4. Рождение денег. Торговля.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11280" y="1267920"/>
            <a:ext cx="673272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деньги 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функции выполняют деньг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Какие виды денег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бартер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Что такое торговля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Определите на каком рисунке представлена формула бартера,  а на каком формула торговл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2093760" cy="2305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11280" y="501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Д - Т"</a:t>
            </a:r>
            <a:endParaRPr b="1" lang="en-US" sz="18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724360" y="5084640"/>
            <a:ext cx="2303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2600">
                  <a:solidFill>
                    <a:srgbClr val="e5e5ff"/>
                  </a:solidFill>
                  <a:miter/>
                </a:ln>
                <a:solidFill>
                  <a:srgbClr val="33cc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ookman Old Style"/>
              </a:rPr>
              <a:t>Т - Т"</a:t>
            </a:r>
            <a:endParaRPr b="1" lang="en-US" sz="4400" spc="1" strike="noStrike">
              <a:ln w="12600">
                <a:solidFill>
                  <a:srgbClr val="e5e5ff"/>
                </a:solidFill>
                <a:miter/>
              </a:ln>
              <a:solidFill>
                <a:srgbClr val="33cc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7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1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156360" y="6021360"/>
            <a:ext cx="106668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Garamond"/>
              </a:rPr>
              <a:t>рисунок 2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ff00"/>
                </a:solidFill>
                <a:uFillTx/>
                <a:latin typeface="Georgia"/>
              </a:rPr>
              <a:t>5. Рыночный механизм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айдите ошибки в схем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15640" y="3965760"/>
            <a:ext cx="6548760" cy="1359000"/>
            <a:chOff x="1115640" y="3965760"/>
            <a:chExt cx="6548760" cy="1359000"/>
          </a:xfrm>
        </p:grpSpPr>
        <p:sp>
          <p:nvSpPr>
            <p:cNvPr id="129" name="_s12301"/>
            <p:cNvSpPr/>
            <p:nvPr/>
          </p:nvSpPr>
          <p:spPr>
            <a:xfrm>
              <a:off x="2123640" y="4643280"/>
              <a:ext cx="122400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12300"/>
            <p:cNvSpPr/>
            <p:nvPr/>
          </p:nvSpPr>
          <p:spPr>
            <a:xfrm>
              <a:off x="111564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Спрос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12299"/>
            <p:cNvSpPr/>
            <p:nvPr/>
          </p:nvSpPr>
          <p:spPr>
            <a:xfrm flipV="1">
              <a:off x="5076720" y="4652640"/>
              <a:ext cx="1584720" cy="1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12298"/>
            <p:cNvSpPr/>
            <p:nvPr/>
          </p:nvSpPr>
          <p:spPr>
            <a:xfrm>
              <a:off x="6588720" y="4150800"/>
              <a:ext cx="1075680" cy="927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514"/>
                  </a:solidFill>
                  <a:latin typeface="Garamond"/>
                </a:rPr>
                <a:t>Цена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_s12295"/>
            <p:cNvSpPr/>
            <p:nvPr/>
          </p:nvSpPr>
          <p:spPr>
            <a:xfrm>
              <a:off x="3419280" y="3965760"/>
              <a:ext cx="1617120" cy="1359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Garamond"/>
                </a:rPr>
                <a:t>Предложени</a:t>
              </a:r>
              <a:r>
                <a:rPr b="0" lang="en-US" sz="1000" spc="-1" strike="noStrike">
                  <a:solidFill>
                    <a:srgbClr val="ffffff"/>
                  </a:solidFill>
                  <a:latin typeface="Garamond"/>
                </a:rPr>
                <a:t>е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 txBox="1"/>
          <p:nvPr/>
        </p:nvSpPr>
        <p:spPr>
          <a:xfrm>
            <a:off x="5148360" y="4076640"/>
            <a:ext cx="12398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ркетиг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2124000" y="3933720"/>
            <a:ext cx="14526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e5e5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клама</a:t>
            </a:r>
            <a:endParaRPr b="1" lang="en-US" sz="1800" spc="1" strike="noStrike">
              <a:ln w="0">
                <a:noFill/>
              </a:ln>
              <a:solidFill>
                <a:srgbClr val="e5e5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Georgia"/>
              </a:rPr>
              <a:t>6. Виды хозяйственной деятельности</a:t>
            </a: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292720" y="1196640"/>
            <a:ext cx="38512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Какие виды хозяйственной деятельности вы знает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Что такое производство, обмен, потребление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  Есть ли ошибки в схеме? (Если есть, то каки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09080" y="1562760"/>
            <a:ext cx="4640040" cy="3840480"/>
            <a:chOff x="109080" y="1562760"/>
            <a:chExt cx="4640040" cy="3840480"/>
          </a:xfrm>
        </p:grpSpPr>
        <p:sp>
          <p:nvSpPr>
            <p:cNvPr id="139" name="_s13323"/>
            <p:cNvSpPr/>
            <p:nvPr/>
          </p:nvSpPr>
          <p:spPr>
            <a:xfrm>
              <a:off x="1186920" y="1562760"/>
              <a:ext cx="2232000" cy="2610000"/>
            </a:xfrm>
            <a:custGeom>
              <a:avLst/>
              <a:gdLst>
                <a:gd name="textAreaLeft" fmla="*/ 0 w 2232000"/>
                <a:gd name="textAreaRight" fmla="*/ 2232360 w 2232000"/>
                <a:gd name="textAreaTop" fmla="*/ 0 h 2610000"/>
                <a:gd name="textAreaBottom" fmla="*/ 2610360 h 261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651661"/>
                  <a:lnTo>
                    <a:pt x="2423" y="3983"/>
                  </a:lnTo>
                  <a:arcTo wR="10800" hR="10800" stAng="-8451661" swAng="3651661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_s13324"/>
            <p:cNvSpPr/>
            <p:nvPr/>
          </p:nvSpPr>
          <p:spPr>
            <a:xfrm rot="7200000">
              <a:off x="1886040" y="2552760"/>
              <a:ext cx="2732040" cy="1879920"/>
            </a:xfrm>
            <a:custGeom>
              <a:avLst/>
              <a:gdLst>
                <a:gd name="textAreaLeft" fmla="*/ 0 w 2732040"/>
                <a:gd name="textAreaRight" fmla="*/ 2732040 w 2732040"/>
                <a:gd name="textAreaTop" fmla="*/ 0 h 1879920"/>
                <a:gd name="textAreaBottom" fmla="*/ 1880280 h 187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86" y="14531"/>
                  </a:moveTo>
                  <a:arcTo wR="-3732" hR="-3732" stAng="5320794" swAng="-2320794"/>
                  <a:lnTo>
                    <a:pt x="3858" y="2527"/>
                  </a:lnTo>
                  <a:arcTo wR="10800" hR="10800" stAng="-7800000" swAng="2320794"/>
                  <a:lnTo>
                    <a:pt x="10489" y="-2696"/>
                  </a:lnTo>
                  <a:lnTo>
                    <a:pt x="16865" y="3392"/>
                  </a:lnTo>
                  <a:lnTo>
                    <a:pt x="10776" y="9768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_s13326"/>
            <p:cNvSpPr/>
            <p:nvPr/>
          </p:nvSpPr>
          <p:spPr>
            <a:xfrm rot="14400000">
              <a:off x="123840" y="2853720"/>
              <a:ext cx="2733480" cy="1612800"/>
            </a:xfrm>
            <a:custGeom>
              <a:avLst/>
              <a:gdLst>
                <a:gd name="textAreaLeft" fmla="*/ 0 w 2733480"/>
                <a:gd name="textAreaRight" fmla="*/ 2733840 w 2733480"/>
                <a:gd name="textAreaTop" fmla="*/ 0 h 1612800"/>
                <a:gd name="textAreaBottom" fmla="*/ 1613160 h 161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15" y="14525"/>
                  </a:moveTo>
                  <a:arcTo wR="-4048" hR="-4048" stAng="6782995" swAng="-3782995"/>
                  <a:lnTo>
                    <a:pt x="3858" y="2527"/>
                  </a:lnTo>
                  <a:arcTo wR="10800" hR="10800" stAng="-7800000" swAng="3782995"/>
                  <a:lnTo>
                    <a:pt x="16086" y="-1622"/>
                  </a:lnTo>
                  <a:lnTo>
                    <a:pt x="19298" y="6348"/>
                  </a:lnTo>
                  <a:lnTo>
                    <a:pt x="11328" y="956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_s13322"/>
            <p:cNvSpPr/>
            <p:nvPr/>
          </p:nvSpPr>
          <p:spPr>
            <a:xfrm>
              <a:off x="1332000" y="4307760"/>
              <a:ext cx="2232000" cy="10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отреблени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13325"/>
            <p:cNvSpPr/>
            <p:nvPr/>
          </p:nvSpPr>
          <p:spPr>
            <a:xfrm>
              <a:off x="324000" y="1990080"/>
              <a:ext cx="128844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обмен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13321"/>
            <p:cNvSpPr/>
            <p:nvPr/>
          </p:nvSpPr>
          <p:spPr>
            <a:xfrm>
              <a:off x="3203640" y="1868040"/>
              <a:ext cx="1375560" cy="14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6600"/>
                  </a:solidFill>
                  <a:latin typeface="Georgia"/>
                </a:rPr>
                <a:t>Производство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755640" y="1773360"/>
            <a:ext cx="7920000" cy="20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Практическая часть</a:t>
            </a:r>
            <a:endParaRPr b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16:30:50Z</dcterms:created>
  <dc:creator>User</dc:creator>
  <dc:description/>
  <dc:language>en-US</dc:language>
  <cp:lastModifiedBy>User</cp:lastModifiedBy>
  <dcterms:modified xsi:type="dcterms:W3CDTF">2008-01-27T10:10:38Z</dcterms:modified>
  <cp:revision>3</cp:revision>
  <dc:subject/>
  <dc:title>«Подготовка к итоговой контрольной работе по экономике» </dc:title>
</cp:coreProperties>
</file>