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5.wmf" ContentType="image/x-wmf"/>
  <Override PartName="/ppt/media/image10.wmf" ContentType="image/x-wmf"/>
  <Override PartName="/ppt/media/image3.wmf" ContentType="image/x-wmf"/>
  <Override PartName="/ppt/media/image4.wmf" ContentType="image/x-wmf"/>
  <Override PartName="/ppt/media/image6.wmf" ContentType="image/x-wmf"/>
  <Override PartName="/ppt/media/image12.png" ContentType="image/png"/>
  <Override PartName="/ppt/media/image7.wmf" ContentType="image/x-wmf"/>
  <Override PartName="/ppt/media/image8.png" ContentType="image/png"/>
  <Override PartName="/ppt/media/image9.wmf" ContentType="image/x-wmf"/>
  <Override PartName="/ppt/media/image11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A17E1-047C-4071-A185-ED1F1DE79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2AA7D-68DD-40E6-9951-F77836B00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6621F-D70E-4A38-BDE1-9260EB910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C4288-3BBB-48CA-9469-AC7408B06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14F83-A039-4CCB-B9A4-9A87267E0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0E06B-C460-44E0-A75C-8B1E62E4E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0807D-DD82-4662-916F-5AC286BA0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06989-58B2-4172-B5A1-B634B7ED0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1F21F-B182-49D4-B13C-0D44B096B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D5BC0-CF69-4D51-AD88-1CAE7AC9C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91A86-6FB2-458F-A64F-E23A62A28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B3DD8-7FCE-4CEE-BE65-62F4C9B57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61B56-9DC2-4774-812E-077392146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6B4CC-0FD9-4353-A965-FD1FFE5DD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81A6A-3632-43DC-9374-770D4766F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B2DB2-C80A-4521-A90B-63659716F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8F26C-132B-44AA-9469-E13CD2590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F3446-3175-4FEF-AE3C-2B2A692F7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0E82D-9306-49D0-BC2B-04BB5CC51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9CB67-5EA5-4AD7-A3E4-D319F0A9D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83781-37B2-46E8-8B6F-E73606481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93803-D05D-46D6-AEFD-86B89996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49225-21D5-4CD7-B0B5-80F474B19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A493F-337C-4407-A580-B74537E3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974B0-62A0-444D-B6D8-01B5C99B899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F61BC-0C23-4B40-B527-FEB613A4F98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10720" y="2491920"/>
            <a:ext cx="79376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«Подготовка к итоговой контрольной работе по экономике»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419640" y="5013360"/>
            <a:ext cx="5184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Georgia"/>
              </a:rPr>
              <a:t>5  класс</a:t>
            </a:r>
            <a:endParaRPr b="1" lang="en-US" sz="44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26920" y="404640"/>
            <a:ext cx="7561440" cy="121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Georgia"/>
              </a:rPr>
              <a:t>Урок по теме: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68360" y="3573360"/>
            <a:ext cx="2087640" cy="15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Georgia"/>
              </a:rPr>
              <a:t>1.Термину слева подбери</a:t>
            </a:r>
            <a:br>
              <a:rPr sz="2800"/>
            </a:b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Georgia"/>
              </a:rPr>
              <a:t>  его значение справа: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79280" y="1484280"/>
            <a:ext cx="36720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Garamond"/>
              </a:rPr>
              <a:t>1. Деньг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Garamond"/>
              </a:rPr>
              <a:t>2. Натуральное хозяйств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Garamond"/>
              </a:rPr>
              <a:t>3. Потреблени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Garamond"/>
              </a:rPr>
              <a:t>4. Торговл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Garamond"/>
              </a:rPr>
              <a:t>5. Товарное хозяйств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Garamond"/>
              </a:rPr>
              <a:t>6. Правительств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Garamond"/>
              </a:rPr>
              <a:t>7. Маркетинг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Garamond"/>
              </a:rPr>
              <a:t>8. Коммерческая организац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634920" y="1557000"/>
            <a:ext cx="52102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А) вид деятельности, позволяющий встретится продавцу и покупателю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Б) хозяйство, в котором производят товар не для личного потребления, а для обмена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В) то, что признается людьми и выполняет их функции;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Г) использование потребительских свойств товаров себе во благо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Д) хозяйство, в котором человек производит сам все необходимое для жизни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Е) исполнительная власть государства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Ж) организация, которая приносит прибыль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З) обмен товара на деньг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aramond"/>
              </a:rPr>
              <a:t>ПРОВЕРЬ СЕБ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44400" y="1600200"/>
            <a:ext cx="170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. 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Д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. Г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. З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5. 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6. 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7. 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8. Ж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Georgia"/>
              </a:rPr>
              <a:t>2. Реши задачи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За продажу 7 изготовленных ею ковровых дорожек жена Ивана- Царевича Василиса Премудрая получила 1771 ван. Жены же братьев Ивана-Царевича изготовили 6 таких же по качеству ковровых дорожек и выручили за них 1614 ванов. Чьи дорожки покупать выгоднее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aramond"/>
              </a:rPr>
              <a:t>ПРОВЕРЬ СЕБ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) 1771 : 7 = 253 ( ван) – цена Василис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2) 1614 : 6 = 269 ( ван) – цена жён братье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3) 269 – 253 = 16 ( ван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Garamond"/>
              </a:rPr>
              <a:t>ОТВЕТ :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Выгоднее покупать ковровые дорожки у Василисы, так как они дешеле на 16 ван, чем у жён братье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63468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ccffff"/>
                </a:solidFill>
                <a:uFillTx/>
                <a:latin typeface="Monotype Corsiva"/>
              </a:rPr>
              <a:t>Закончите фразу</a:t>
            </a:r>
            <a:br>
              <a:rPr sz="5400"/>
            </a:b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900760" y="2852640"/>
            <a:ext cx="3243240" cy="37832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2400120" cy="36003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 rot="19905600">
            <a:off x="528120" y="3162240"/>
            <a:ext cx="80870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ookman Old Style"/>
              </a:rPr>
              <a:t>Сегодня на уроке я вспомнил ..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3300"/>
                </a:solidFill>
                <a:latin typeface="Georgia"/>
              </a:rPr>
              <a:t>Домашнее задани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1. Повторить материал со стр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2. Реши задачу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заготовительной конторе у Лешего работали 13 рабочих. Ежемесячно он выделял 2/ 9 части общего дохода, равного 1 404 берестеня, на заработную плату рабочих. В результате неурожая грибов объем заготовок резко снизился, и доход упал на 540 берестеней. Сколько рабочих должен уволить Леший, чтобы оставшиеся работники получали прежнюю зарплату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700360" y="3213000"/>
            <a:ext cx="3240000" cy="30574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1187280" y="1125360"/>
            <a:ext cx="7201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Желаю удачи!</a:t>
            </a:r>
            <a:endParaRPr b="1" lang="en-US" sz="5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ff00"/>
                </a:solidFill>
                <a:uFillTx/>
                <a:latin typeface="Georgia"/>
              </a:rPr>
              <a:t>Теоретическая часть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. Природные ресурсы. Охрана природ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2.Человек и общество (Собственность, государство, организация, домашнее хозяйство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3. Виды хозяйств (Натуральное и товарное хозяйство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4. Рождение денег. Торговл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5. Рыночный механизм (спрос, предложение, рыночная цена, маркетинг, реклама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6. Виды хозяйственной деятельност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Georgia"/>
              </a:rPr>
              <a:t>1. Природные ресурсы. Охрана природы.</a:t>
            </a:r>
            <a:br>
              <a:rPr sz="2800"/>
            </a:b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492360" y="1628280"/>
            <a:ext cx="53532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Что такое природные ресурсы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Приведите примеры природных ресурс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Как охраняют окружающую природу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Зачем необходимо охранять природу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36352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00"/>
                </a:solidFill>
                <a:uFillTx/>
                <a:latin typeface="Georgia"/>
              </a:rPr>
              <a:t>2.Человек</a:t>
            </a: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Georgia"/>
              </a:rPr>
              <a:t> </a:t>
            </a:r>
            <a:r>
              <a:rPr b="1" i="1" lang="en-US" sz="4000" spc="-1" strike="noStrike" u="sng">
                <a:solidFill>
                  <a:srgbClr val="ffff00"/>
                </a:solidFill>
                <a:uFillTx/>
                <a:latin typeface="Georgia"/>
              </a:rPr>
              <a:t>и общество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03280" y="1341360"/>
            <a:ext cx="55594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Что такое собственность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Какие виды собственности вы знаете?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К какому виду собственности можно отнести валенки, АО«Кровля»?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- Что такое государство, организация, домашнее хозяйство?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300720" y="4221000"/>
            <a:ext cx="2592360" cy="24368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24000" y="1773360"/>
            <a:ext cx="28796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Georgia"/>
              </a:rPr>
              <a:t>3. Виды хозяйств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Чем отличается  натуральное хозяйство от  товарного хозяйства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Приведите примеры натурального и товарного хозяйства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На каком рисунке  вы видите пример натурального хозяйства и товарного хозяйства?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003640" y="3567240"/>
            <a:ext cx="3816360" cy="28065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2916360" y="6381720"/>
            <a:ext cx="106668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Garamond"/>
              </a:rPr>
              <a:t>рисунок 1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900000" y="2924280"/>
            <a:ext cx="3149640" cy="34336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6372360" y="6524640"/>
            <a:ext cx="106668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Garamond"/>
              </a:rPr>
              <a:t>рисунок 2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Georgia"/>
              </a:rPr>
              <a:t>4. Рождение денег. Торговля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411280" y="1267920"/>
            <a:ext cx="673272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Что такое деньги 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Какие функции выполняют деньги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Какие виды денег вы знаете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Что такое бартер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Что такое торговля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Определите на каком рисунке представлена формула бартера,  а на каком формула торговли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2093760" cy="23050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611280" y="5013360"/>
            <a:ext cx="2952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5e5ff"/>
                  </a:solidFill>
                  <a:miter/>
                </a:ln>
                <a:solidFill>
                  <a:srgbClr val="33cc33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Bookman Old Style"/>
              </a:rPr>
              <a:t>Т - Д - Т"</a:t>
            </a:r>
            <a:endParaRPr b="1" lang="en-US" sz="1800" spc="1" strike="noStrike">
              <a:ln w="12600">
                <a:solidFill>
                  <a:srgbClr val="e5e5ff"/>
                </a:solidFill>
                <a:miter/>
              </a:ln>
              <a:solidFill>
                <a:srgbClr val="33cc33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724360" y="5084640"/>
            <a:ext cx="2303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5e5ff"/>
                  </a:solidFill>
                  <a:miter/>
                </a:ln>
                <a:solidFill>
                  <a:srgbClr val="33cc33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Bookman Old Style"/>
              </a:rPr>
              <a:t>Т - Т"</a:t>
            </a:r>
            <a:endParaRPr b="1" lang="en-US" sz="4400" spc="1" strike="noStrike">
              <a:ln w="12600">
                <a:solidFill>
                  <a:srgbClr val="e5e5ff"/>
                </a:solidFill>
                <a:miter/>
              </a:ln>
              <a:solidFill>
                <a:srgbClr val="33cc33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476360" y="6021360"/>
            <a:ext cx="106668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Garamond"/>
              </a:rPr>
              <a:t>рисунок 1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156360" y="6021360"/>
            <a:ext cx="106668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Garamond"/>
              </a:rPr>
              <a:t>рисунок 2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Georgia"/>
              </a:rPr>
              <a:t>5. Рыночный механизм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Найдите ошибки в схем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115640" y="3965760"/>
            <a:ext cx="6548760" cy="1359000"/>
            <a:chOff x="1115640" y="3965760"/>
            <a:chExt cx="6548760" cy="1359000"/>
          </a:xfrm>
        </p:grpSpPr>
        <p:sp>
          <p:nvSpPr>
            <p:cNvPr id="129" name="_s12301"/>
            <p:cNvSpPr/>
            <p:nvPr/>
          </p:nvSpPr>
          <p:spPr>
            <a:xfrm>
              <a:off x="2123640" y="4643280"/>
              <a:ext cx="122400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_s12300"/>
            <p:cNvSpPr/>
            <p:nvPr/>
          </p:nvSpPr>
          <p:spPr>
            <a:xfrm>
              <a:off x="1115640" y="4150800"/>
              <a:ext cx="1075680" cy="927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514"/>
                  </a:solidFill>
                  <a:latin typeface="Garamond"/>
                </a:rPr>
                <a:t>Спрос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_s12299"/>
            <p:cNvSpPr/>
            <p:nvPr/>
          </p:nvSpPr>
          <p:spPr>
            <a:xfrm flipV="1">
              <a:off x="5076720" y="4652640"/>
              <a:ext cx="158472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_s12298"/>
            <p:cNvSpPr/>
            <p:nvPr/>
          </p:nvSpPr>
          <p:spPr>
            <a:xfrm>
              <a:off x="6588720" y="4150800"/>
              <a:ext cx="1075680" cy="927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514"/>
                  </a:solidFill>
                  <a:latin typeface="Garamond"/>
                </a:rPr>
                <a:t>Цена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_s12295"/>
            <p:cNvSpPr/>
            <p:nvPr/>
          </p:nvSpPr>
          <p:spPr>
            <a:xfrm>
              <a:off x="3419280" y="3965760"/>
              <a:ext cx="1617120" cy="1359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Garamond"/>
                </a:rPr>
                <a:t>Предложени</a:t>
              </a:r>
              <a:r>
                <a:rPr b="0" lang="en-US" sz="1000" spc="-1" strike="noStrike">
                  <a:solidFill>
                    <a:srgbClr val="ffffff"/>
                  </a:solidFill>
                  <a:latin typeface="Garamond"/>
                </a:rPr>
                <a:t>е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4" name=""/>
          <p:cNvSpPr txBox="1"/>
          <p:nvPr/>
        </p:nvSpPr>
        <p:spPr>
          <a:xfrm>
            <a:off x="5148360" y="4076640"/>
            <a:ext cx="12398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аркетиг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124000" y="3933720"/>
            <a:ext cx="145260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e5e5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клама</a:t>
            </a:r>
            <a:endParaRPr b="1" lang="en-US" sz="1800" spc="1" strike="noStrike">
              <a:ln w="0">
                <a:noFill/>
              </a:ln>
              <a:solidFill>
                <a:srgbClr val="e5e5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Georgia"/>
              </a:rPr>
              <a:t>6. Виды хозяйственной деятельности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292720" y="1196640"/>
            <a:ext cx="38512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- Какие виды хозяйственной деятельности вы знаете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- Что такое производство, обмен, потребление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-  Есть ли ошибки в схеме? (Если есть, то какие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09080" y="1562760"/>
            <a:ext cx="4640040" cy="3840480"/>
            <a:chOff x="109080" y="1562760"/>
            <a:chExt cx="4640040" cy="3840480"/>
          </a:xfrm>
        </p:grpSpPr>
        <p:sp>
          <p:nvSpPr>
            <p:cNvPr id="139" name="_s13323"/>
            <p:cNvSpPr/>
            <p:nvPr/>
          </p:nvSpPr>
          <p:spPr>
            <a:xfrm>
              <a:off x="1186920" y="1562760"/>
              <a:ext cx="2232000" cy="2610000"/>
            </a:xfrm>
            <a:custGeom>
              <a:avLst/>
              <a:gdLst>
                <a:gd name="textAreaLeft" fmla="*/ 0 w 2232000"/>
                <a:gd name="textAreaRight" fmla="*/ 2232360 w 2232000"/>
                <a:gd name="textAreaTop" fmla="*/ 0 h 2610000"/>
                <a:gd name="textAreaBottom" fmla="*/ 2610360 h 261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651661"/>
                  <a:lnTo>
                    <a:pt x="2423" y="3983"/>
                  </a:lnTo>
                  <a:arcTo wR="10800" hR="10800" stAng="-8451661" swAng="3651661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9966ff"/>
            </a:solidFill>
            <a:ln w="28440">
              <a:solidFill>
                <a:srgbClr val="5f0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_s13324"/>
            <p:cNvSpPr/>
            <p:nvPr/>
          </p:nvSpPr>
          <p:spPr>
            <a:xfrm rot="7200000">
              <a:off x="1886040" y="2552760"/>
              <a:ext cx="2732040" cy="1879920"/>
            </a:xfrm>
            <a:custGeom>
              <a:avLst/>
              <a:gdLst>
                <a:gd name="textAreaLeft" fmla="*/ 0 w 2732040"/>
                <a:gd name="textAreaRight" fmla="*/ 2732040 w 2732040"/>
                <a:gd name="textAreaTop" fmla="*/ 0 h 1879920"/>
                <a:gd name="textAreaBottom" fmla="*/ 1880280 h 187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86" y="14531"/>
                  </a:moveTo>
                  <a:arcTo wR="-3732" hR="-3732" stAng="5320794" swAng="-2320794"/>
                  <a:lnTo>
                    <a:pt x="3858" y="2527"/>
                  </a:lnTo>
                  <a:arcTo wR="10800" hR="10800" stAng="-7800000" swAng="2320794"/>
                  <a:lnTo>
                    <a:pt x="10489" y="-2696"/>
                  </a:lnTo>
                  <a:lnTo>
                    <a:pt x="16865" y="3392"/>
                  </a:lnTo>
                  <a:lnTo>
                    <a:pt x="10776" y="9768"/>
                  </a:lnTo>
                  <a:close/>
                </a:path>
              </a:pathLst>
            </a:cu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_s13326"/>
            <p:cNvSpPr/>
            <p:nvPr/>
          </p:nvSpPr>
          <p:spPr>
            <a:xfrm rot="14400000">
              <a:off x="123840" y="2853720"/>
              <a:ext cx="2733480" cy="1612800"/>
            </a:xfrm>
            <a:custGeom>
              <a:avLst/>
              <a:gdLst>
                <a:gd name="textAreaLeft" fmla="*/ 0 w 2733480"/>
                <a:gd name="textAreaRight" fmla="*/ 2733840 w 2733480"/>
                <a:gd name="textAreaTop" fmla="*/ 0 h 1612800"/>
                <a:gd name="textAreaBottom" fmla="*/ 1613160 h 1612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215" y="14525"/>
                  </a:moveTo>
                  <a:arcTo wR="-4048" hR="-4048" stAng="6782995" swAng="-3782995"/>
                  <a:lnTo>
                    <a:pt x="3858" y="2527"/>
                  </a:lnTo>
                  <a:arcTo wR="10800" hR="10800" stAng="-7800000" swAng="3782995"/>
                  <a:lnTo>
                    <a:pt x="16086" y="-1622"/>
                  </a:lnTo>
                  <a:lnTo>
                    <a:pt x="19298" y="6348"/>
                  </a:lnTo>
                  <a:lnTo>
                    <a:pt x="11328" y="9560"/>
                  </a:lnTo>
                  <a:close/>
                </a:path>
              </a:pathLst>
            </a:cu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_s13322"/>
            <p:cNvSpPr/>
            <p:nvPr/>
          </p:nvSpPr>
          <p:spPr>
            <a:xfrm>
              <a:off x="1332000" y="4307760"/>
              <a:ext cx="2232000" cy="10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6600"/>
                  </a:solidFill>
                  <a:latin typeface="Georgia"/>
                </a:rPr>
                <a:t>Потреблени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_s13325"/>
            <p:cNvSpPr/>
            <p:nvPr/>
          </p:nvSpPr>
          <p:spPr>
            <a:xfrm>
              <a:off x="324000" y="1990080"/>
              <a:ext cx="1288440" cy="12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6600"/>
                  </a:solidFill>
                  <a:latin typeface="Georgia"/>
                </a:rPr>
                <a:t>обмен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_s13321"/>
            <p:cNvSpPr/>
            <p:nvPr/>
          </p:nvSpPr>
          <p:spPr>
            <a:xfrm>
              <a:off x="3203640" y="1868040"/>
              <a:ext cx="1375560" cy="14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6600"/>
                  </a:solidFill>
                  <a:latin typeface="Georgia"/>
                </a:rPr>
                <a:t>Производство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755640" y="1773360"/>
            <a:ext cx="7920000" cy="20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Практическая часть</a:t>
            </a:r>
            <a:endParaRPr b="1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16:30:50Z</dcterms:created>
  <dc:creator>User</dc:creator>
  <dc:description/>
  <dc:language>en-US</dc:language>
  <cp:lastModifiedBy>User</cp:lastModifiedBy>
  <dcterms:modified xsi:type="dcterms:W3CDTF">2008-01-27T10:10:38Z</dcterms:modified>
  <cp:revision>3</cp:revision>
  <dc:subject/>
  <dc:title>«Подготовка к итоговой контрольной работе по экономике» </dc:title>
</cp:coreProperties>
</file>