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CD99-7C3C-491B-A600-55D9A8E1A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455B-2E68-4F39-9482-FDAEAE0B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C8C65E-8867-4649-BB1B-925E3CD7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245A42-4879-491C-B69A-7A6993CA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106B74-43A3-4D35-85CE-30E0F8AE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94920A-38A6-45C3-A75F-5EB4C327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70AFF0-C725-4E9A-8A23-65710048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2A5F42-895C-4FD5-B419-8B85335C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F00672-D93E-4C64-969D-510535F2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A6189D-2184-4257-956D-A5A73A2BD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F351E1-54F4-4572-A602-15071D839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44A566-D363-4464-BC3E-902749F3F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DCA6-594B-403E-9919-CB7CF13C4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473933-2C24-4EBA-B4DD-94C1DBA8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DF7C98-6EA5-4AB2-B4E8-5B676396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70005C-0120-404E-B61E-DD3EC8C1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5CBA21-8D1F-447B-91B7-3D91459C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66F0E5-8BCD-4679-9FE6-FD18A0BE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899FFD-1993-45C6-B1CC-A3D410AB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77016A-248D-4661-A670-DD8B8F10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486EB9-09D2-4759-9E14-3ECD7B96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EA77B5-9DCC-431A-A40B-5DBC8758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A5F08B-B07C-4976-8603-3E23CAAC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842A-90E7-4085-AD17-BF772EB43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7542A3-0502-47A4-A9FA-908AF1D6B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8DA8EE-5E38-4DD2-889C-9DCFC3F0C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964838-F3CE-4174-9608-2432A483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56123-63A1-4DB2-A318-7495873D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A1D830-742F-485F-A81D-715D85F3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CD613-6EC8-4FAF-86CB-FB2DCF9C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DF3B7B-DE88-4469-BFFD-BD75E758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92663-3F7C-4BF4-8159-80DF93F3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CF63A-D641-4C0D-B6C1-8A5A15C0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F004D-025C-4EAA-94D8-5EA3A21C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BD70-F5AE-4E2B-A205-43CD5FA6F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1D4EB-5945-41B9-968D-205F53F9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21DBF-9689-40CB-806F-88953FA27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A11DB-5A55-4754-8359-7093C75FF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134369-D60F-4113-B2B6-66A88E827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D443E1-8974-47EB-8233-A8EBC0D2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FD0742-0C07-4772-B685-4F6F1F72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ADED62-BAF3-4FE2-9676-E093003C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F107D1-2E5E-44DD-98FB-4CAF9C11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69FD36-9F7F-4C68-8B4D-A65D8D56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6EF50D-F90A-4376-A528-5FA416BA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16DA-9AEA-421C-8F8A-5DA585A0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D26FD1-C0CC-4D6B-86DB-4C297E8F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3F272E-0EC8-40C5-B956-1FE0976B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94E7E0-6B09-434B-80E7-3D353F4D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AD59FC-9BE9-49DF-9A37-781A6E78D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F33F3A-6493-41A5-96E0-1E1D5C743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EAFF-FFB3-4FBC-AF3B-9C329345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7DC3-FF1D-4D40-94C3-FD66BF06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E00A4-BE25-4358-A0E7-C84338CF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5EED-97DD-4C2A-8F48-7417E88A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2A93-C1C7-464B-B034-4D519C45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FD1A-144B-44D5-9A0C-8D6163B1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C0AA-57A2-4DA6-83D5-EFEE0454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529A-9FA3-4000-B022-FB53680F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670F-B8F1-49A9-8F33-10D3829C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DF43-FEB5-49B6-9EFA-B993563F6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3160-8306-464D-97D8-9C373DEBF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F2CAA-3461-4031-9D97-F89031E4E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C498F-80FA-4FC3-BD3F-D385B304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B9738-9A9A-4A7F-AF14-AA4C3612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2CDBC-49D6-45C6-86C8-30D0C679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8B7B1-8B71-486F-BE91-AD1F7183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BB21-CE40-4D3C-B7A3-E71CA2BD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9F6B2-C8D4-425E-BFA7-C6EC3B00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9FDC0-FD0F-44D4-915A-357CAC2A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0398F-466F-4F6B-BC55-6078D4EB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2E39D-1B0C-4C88-9684-AE167B40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307A0-2FE9-45EE-BE9E-557ADB4F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CBFFF-E4CE-4984-9E0E-E82B3C027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7CA8C-B8DA-4716-80D8-A5D92ADD9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60368-956B-4899-9FD4-4965F1360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BF914-72DA-42A0-BD18-61A52402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E06FE-6EF3-4F34-805D-767777F5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217A-17D5-4F16-867B-36050A23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51278-05D8-49DC-86F9-A1485EF1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DB473-5E2A-4094-BABB-442F7BC4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7D6CC-B9A6-40B0-B7D7-133B3458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85459-EE97-4301-B09D-0B9F1602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90383-B6E2-4B70-ACEB-BDC82ECD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1A905-430E-4571-8B5A-7611A74C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03EFA-08CB-4B49-84EF-997C0FA4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5E90E-6F17-4F56-9B0B-37E021404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0D44E-6F8B-4579-B2AE-DE78328FB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9E67C-5662-47C6-903B-A31355CDA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210C-CE9F-45A0-84ED-3FFC66EF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D9522-05E1-4070-8596-A074B12F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8A846-7916-4CF9-99D0-1AE0CF1B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DA1C6-D802-4336-BA74-6E367BE2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E1245-B3A7-442C-8036-CA2478B6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16A7F-052E-4BC7-BED5-5FA706D5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47A53-10F1-419F-BEBF-29F4186C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D0BEC-0643-4B7A-9070-46550744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0E8A5-6C0B-4D1A-9E78-FB7227F3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C935F-8DFC-4768-8AFD-9C7964FB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EC7DF-EB78-4508-B8D5-6A692F10B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5916-B134-4257-88A1-A41CF73B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85FC7-6077-4D0B-9812-51CB395F8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34F4E-8F8F-4DBE-8F5C-28C988B5A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20AA7-E46A-4F75-B454-2CA0723D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B7678-309E-46E2-83A3-896692F2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B98E0-9B7B-40D3-8E65-DF43AA58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433D0-5365-4357-AA47-5964D1C7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EF85D-2AA6-442E-AAEA-3F9C5F03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026A6-3B4E-49C3-97ED-C8A0C6F1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5E471-3AA6-4134-BD60-0CCBB3DA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2B7A9-E5D9-48B5-A71A-08C2F1BD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EEAE-FF85-43BF-A098-943EAB5D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F4F4A-2609-4D7D-A183-6711C262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C85A3-4908-41F0-83BB-612E2987F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3D732-6C47-488A-8FB8-4A4541685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27224-7AC7-4194-ACCC-E4F8D461C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3BB25-852D-4AF8-AA5E-815C840D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A9FBB-B899-4522-8E46-5A786812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241F7-A19C-49CE-966B-B61460E3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AD4AA-0A2F-4D38-BF11-4DA41138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9D43E-8A26-467F-B693-D1DEF528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57E1D-A015-45D3-BDA7-68EC2015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88EB-91F3-40FB-8A70-6F6F0F34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FB915-4237-44DB-A03E-843B2BE1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6E758-801A-48C3-9A67-F74AED49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096E1-4557-45E5-926B-3620FC40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FA4CD-4BDC-46D1-8BAE-608871AF5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C895A-902A-4CC7-B4F5-7B1F7626E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F070C-B4CE-4594-BD9C-490E24894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8A50E-892D-42E6-B3C5-B5CEA8D7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C3EDE-B492-4DE5-BD62-6EC4B1AA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BDD0E-D47A-44BA-A011-6F3CF4A3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18AFF-A062-451E-B7DA-16505573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E6F9-CA25-4773-82FA-968B54D1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6F3EB-A6F2-483D-B6E1-D1403D0F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DE53F-FC77-49B5-8E96-697C27D1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B0861-7129-4746-8A4D-96E993CD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6B7D7-F3D9-46FB-A243-BFFC502C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3B8A9-FE49-4AA2-ACEB-AC8B4FC6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5AEB6-0646-4AB4-9D5A-EE1835702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E4541-928F-4D60-8231-246460195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615865-5F7A-4640-89C3-FCF7729BF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3F01FC-EE6C-4F80-B325-920C1E1F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1C7AF5-29B4-4E9D-856E-458AF6E4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6C51-5D1C-433C-853A-478604560F9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E631-E50A-414B-A210-30B191A7E1B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8D95-F2C9-44B4-8E91-CD30ACE9D93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0908-1D53-4EC0-A4BD-6A67D77F758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26A6-B909-4B7A-86C0-1A27883C787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2715-A310-4D6C-BA47-CF9E4707106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05DB-6B5D-4B93-9EF6-827A66F348D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F1BA-3EEB-4FA3-8C8E-282E9BE2208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F750-F444-4295-A619-77C85443565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8CAE-4809-486C-88A0-05EFFD36133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5CFD-C3DE-49BB-8A6E-3AD18A84EBE3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66C3-B2F3-485F-A76A-B86F57E55C8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3789360"/>
            <a:ext cx="64008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ЛАДАНОВА И.В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МКОУ «ВЕРХ-ЖИЛИНСКАЯ ООШ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16349"/>
                </a:solidFill>
                <a:latin typeface="Georgia"/>
              </a:rPr>
              <a:t>Давление газов</a:t>
            </a:r>
            <a:br>
              <a:rPr sz="4200"/>
            </a:br>
            <a:r>
              <a:rPr b="0" lang="ru-RU" sz="4200" spc="-1" strike="noStrike">
                <a:solidFill>
                  <a:srgbClr val="d16349"/>
                </a:solidFill>
                <a:latin typeface="Georgia"/>
              </a:rPr>
              <a:t> Закон  Паскаля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9899"/>
                </a:solidFill>
                <a:latin typeface="Georgia"/>
              </a:rPr>
              <a:t>Ответим на вопросы…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68360" y="2349000"/>
            <a:ext cx="5400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сосуде под поршнем находится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газ. Поршень переместили из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ложения А в положение В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динаково ли увеличилось при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том  давление газа на стенк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суда в точках 1, 2, 3, 4 и 5 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5" name="Picture 5" descr="ipoiibiii"/>
          <p:cNvPicPr/>
          <p:nvPr/>
        </p:nvPicPr>
        <p:blipFill>
          <a:blip r:embed="rId1"/>
          <a:stretch/>
        </p:blipFill>
        <p:spPr>
          <a:xfrm>
            <a:off x="6012000" y="2276640"/>
            <a:ext cx="27302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9899"/>
                </a:solidFill>
                <a:latin typeface="Georgia"/>
              </a:rPr>
              <a:t>Ответим на вопросы…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1182600" y="2017440"/>
            <a:ext cx="7772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Если из мелкокалиберной винтовки выстрелить в      вареное яйцо, в нем образуется отверстие. Если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же выстрелить в сырое, оно разлетится. Как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ъяснить это явление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Text Box 4"/>
          <p:cNvSpPr/>
          <p:nvPr/>
        </p:nvSpPr>
        <p:spPr>
          <a:xfrm>
            <a:off x="1403280" y="2924280"/>
            <a:ext cx="7004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5"/>
          <p:cNvSpPr/>
          <p:nvPr/>
        </p:nvSpPr>
        <p:spPr>
          <a:xfrm>
            <a:off x="1311120" y="4214880"/>
            <a:ext cx="7077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6"/>
          <p:cNvSpPr/>
          <p:nvPr/>
        </p:nvSpPr>
        <p:spPr>
          <a:xfrm>
            <a:off x="1042920" y="414972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buClr>
                <a:srgbClr val="694f07"/>
              </a:buClr>
              <a:buFont typeface="Wingdings" charset="2"/>
              <a:buChar char=""/>
              <a:tabLst>
                <a:tab algn="l" pos="36504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чему взрыв снаряда под водой губителен        для живущих в воде организм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8"/>
          <p:cNvSpPr/>
          <p:nvPr/>
        </p:nvSpPr>
        <p:spPr>
          <a:xfrm>
            <a:off x="1116000" y="551664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buClr>
                <a:srgbClr val="694f07"/>
              </a:buClr>
              <a:buFont typeface="Wingdings" charset="2"/>
              <a:buChar char=""/>
              <a:tabLst>
                <a:tab algn="l" pos="36504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чему мыльный пузырь имеет форму ша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9899"/>
                </a:solidFill>
                <a:latin typeface="Georgia"/>
              </a:rPr>
              <a:t>Итог урока: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839600" y="2133360"/>
            <a:ext cx="73040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авление газа на стенки сосуда и на помещенное в газ тело, вызывается ударами молекул газ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авление газа зависит от температуры и от объема занимаемого данной массой газа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Жидкости и газы передают давление по всем направлениям одинаково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Домашнее задание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186920" y="3212640"/>
            <a:ext cx="6697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§ 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35, 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Упражнение 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14</a:t>
            </a:r>
            <a:r>
              <a:rPr b="1" lang="ru-RU" sz="5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1 - 4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b9899"/>
                </a:solidFill>
                <a:latin typeface="Georgia"/>
              </a:rPr>
              <a:t>Сегодня на уроке …</a:t>
            </a:r>
            <a:endParaRPr b="0" lang="en-US" sz="5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619280" y="2204640"/>
            <a:ext cx="7269120" cy="36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94f07"/>
                </a:solidFill>
                <a:latin typeface="Georgia"/>
              </a:rPr>
              <a:t>1</a:t>
            </a:r>
            <a:r>
              <a:rPr b="1" lang="ru-RU" sz="2900" spc="-1" strike="noStrike">
                <a:solidFill>
                  <a:srgbClr val="cc3300"/>
                </a:solidFill>
                <a:latin typeface="Georgia"/>
              </a:rPr>
              <a:t>   Почему газ давит?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590400" indent="-590400">
              <a:spcBef>
                <a:spcPts val="726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590400" indent="-59040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94f07"/>
                </a:solidFill>
                <a:latin typeface="Georgia"/>
              </a:rPr>
              <a:t>2</a:t>
            </a:r>
            <a:r>
              <a:rPr b="1" lang="ru-RU" sz="2900" spc="-1" strike="noStrike">
                <a:solidFill>
                  <a:srgbClr val="cc3300"/>
                </a:solidFill>
                <a:latin typeface="Georgia"/>
              </a:rPr>
              <a:t>   От чего зависит давление газа?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590400" indent="-590400">
              <a:spcBef>
                <a:spcPts val="726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590400" indent="-59040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694f07"/>
                </a:solidFill>
                <a:latin typeface="Georgia"/>
              </a:rPr>
              <a:t>3</a:t>
            </a:r>
            <a:r>
              <a:rPr b="1" lang="ru-RU" sz="1600" spc="-1" strike="noStrike">
                <a:solidFill>
                  <a:srgbClr val="cc3300"/>
                </a:solidFill>
                <a:latin typeface="Georgia"/>
              </a:rPr>
              <a:t>   </a:t>
            </a:r>
            <a:r>
              <a:rPr b="1" lang="ru-RU" sz="2900" spc="-1" strike="noStrike">
                <a:solidFill>
                  <a:srgbClr val="cc3300"/>
                </a:solidFill>
                <a:latin typeface="Georgia"/>
              </a:rPr>
              <a:t>Как газ передает давление?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b9899"/>
                </a:solidFill>
                <a:latin typeface="Georgia"/>
              </a:rPr>
              <a:t>Повторение</a:t>
            </a:r>
            <a:br>
              <a:rPr sz="5400"/>
            </a:br>
            <a:endParaRPr b="0" lang="en-US" sz="5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4788000" y="5445000"/>
            <a:ext cx="151128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646b86"/>
                </a:solidFill>
                <a:latin typeface="Arial"/>
              </a:rPr>
              <a:t>П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6"/>
          <p:cNvSpPr/>
          <p:nvPr/>
        </p:nvSpPr>
        <p:spPr>
          <a:xfrm>
            <a:off x="468360" y="2421000"/>
            <a:ext cx="532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ула расчета д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7"/>
          <p:cNvSpPr/>
          <p:nvPr/>
        </p:nvSpPr>
        <p:spPr>
          <a:xfrm>
            <a:off x="2124000" y="515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8"/>
          <p:cNvSpPr/>
          <p:nvPr/>
        </p:nvSpPr>
        <p:spPr>
          <a:xfrm>
            <a:off x="468360" y="566100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диницы д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11" descr="paskal"/>
          <p:cNvPicPr/>
          <p:nvPr/>
        </p:nvPicPr>
        <p:blipFill>
          <a:blip r:embed="rId1"/>
          <a:stretch/>
        </p:blipFill>
        <p:spPr>
          <a:xfrm>
            <a:off x="5940360" y="1268280"/>
            <a:ext cx="2525760" cy="264024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12"/>
          <p:cNvSpPr/>
          <p:nvPr/>
        </p:nvSpPr>
        <p:spPr>
          <a:xfrm>
            <a:off x="5943240" y="4076640"/>
            <a:ext cx="26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скаль Бле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623 -16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Object 15"/>
              <p:cNvSpPr txBox="1"/>
              <p:nvPr/>
            </p:nvSpPr>
            <p:spPr>
              <a:xfrm>
                <a:off x="2195640" y="3284640"/>
                <a:ext cx="2376360" cy="21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овторени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акой из трех одинаковых брусков производит на стол большее давление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0" name="Picture 4" descr="Изображение1 001"/>
          <p:cNvPicPr/>
          <p:nvPr/>
        </p:nvPicPr>
        <p:blipFill>
          <a:blip r:embed="rId1"/>
          <a:stretch/>
        </p:blipFill>
        <p:spPr>
          <a:xfrm>
            <a:off x="1332000" y="3500280"/>
            <a:ext cx="6840360" cy="26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Новый материал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755640" y="191628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2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Georgia"/>
              </a:rPr>
              <a:t>Почему шарик увеличивает свой объем?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3" name="Picture 4" descr="05d-i1"/>
          <p:cNvPicPr/>
          <p:nvPr/>
        </p:nvPicPr>
        <p:blipFill>
          <a:blip r:embed="rId1"/>
          <a:stretch/>
        </p:blipFill>
        <p:spPr>
          <a:xfrm>
            <a:off x="900000" y="2852640"/>
            <a:ext cx="3600720" cy="188460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6"/>
          <p:cNvSpPr/>
          <p:nvPr/>
        </p:nvSpPr>
        <p:spPr>
          <a:xfrm>
            <a:off x="1258920" y="2060640"/>
            <a:ext cx="66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9"/>
          <p:cNvSpPr/>
          <p:nvPr/>
        </p:nvSpPr>
        <p:spPr>
          <a:xfrm>
            <a:off x="611280" y="4653000"/>
            <a:ext cx="833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6b86"/>
                </a:solidFill>
                <a:latin typeface="Arial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вление газа на стенки ссуда и на помещенное в г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о вызывается ударами молекул г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11" descr="05d-i2"/>
          <p:cNvPicPr/>
          <p:nvPr/>
        </p:nvPicPr>
        <p:blipFill>
          <a:blip r:embed="rId2"/>
          <a:stretch/>
        </p:blipFill>
        <p:spPr>
          <a:xfrm>
            <a:off x="5508720" y="2781360"/>
            <a:ext cx="191448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ccb400"/>
                </a:solidFill>
                <a:latin typeface="Georgia"/>
              </a:rPr>
              <a:t>От чего зависит давление газа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Georgia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 температуры газ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 объема, занимаемого газо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9" name="Picture 4" descr="05d-i3"/>
          <p:cNvPicPr/>
          <p:nvPr/>
        </p:nvPicPr>
        <p:blipFill>
          <a:blip r:embed="rId1"/>
          <a:stretch/>
        </p:blipFill>
        <p:spPr>
          <a:xfrm>
            <a:off x="971640" y="2349360"/>
            <a:ext cx="3671640" cy="182412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8" descr="gnjkk"/>
          <p:cNvPicPr/>
          <p:nvPr/>
        </p:nvPicPr>
        <p:blipFill>
          <a:blip r:embed="rId2"/>
          <a:stretch/>
        </p:blipFill>
        <p:spPr>
          <a:xfrm>
            <a:off x="6300720" y="2133720"/>
            <a:ext cx="134640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Как газы и жидкости передают давление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2" name="Picture 5" descr="iiigv"/>
          <p:cNvPicPr/>
          <p:nvPr/>
        </p:nvPicPr>
        <p:blipFill>
          <a:blip r:embed="rId1"/>
          <a:stretch/>
        </p:blipFill>
        <p:spPr>
          <a:xfrm>
            <a:off x="468360" y="1844640"/>
            <a:ext cx="2232000" cy="432108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6" descr="05c-i1"/>
          <p:cNvPicPr/>
          <p:nvPr/>
        </p:nvPicPr>
        <p:blipFill>
          <a:blip r:embed="rId2"/>
          <a:stretch/>
        </p:blipFill>
        <p:spPr>
          <a:xfrm>
            <a:off x="2484360" y="2565360"/>
            <a:ext cx="6121440" cy="189720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14"/>
          <p:cNvSpPr/>
          <p:nvPr/>
        </p:nvSpPr>
        <p:spPr>
          <a:xfrm>
            <a:off x="2627280" y="5084640"/>
            <a:ext cx="590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Закон Паска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дкости и газы передают давление по всем направлениям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476000" y="189000"/>
            <a:ext cx="7343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9899"/>
                </a:solidFill>
                <a:latin typeface="Georgia"/>
              </a:rPr>
              <a:t>Ответим на вопросы…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539280" y="206064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Цифрами 1, 2 и 3 обозначены круглые отверстия, затянутые одинаковыми резиновыми пленками. Когда поршень переместили  из положения А в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.К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ложение В, пленки выгнулись наружу. На каком из рисунко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7" name="Picture 4" descr="Изображение1 004"/>
          <p:cNvPicPr/>
          <p:nvPr/>
        </p:nvPicPr>
        <p:blipFill>
          <a:blip r:embed="rId1"/>
          <a:stretch/>
        </p:blipFill>
        <p:spPr>
          <a:xfrm>
            <a:off x="287280" y="3573360"/>
            <a:ext cx="885672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b9899"/>
                </a:solidFill>
                <a:latin typeface="Georgia"/>
              </a:rPr>
              <a:t>Ответим на вопросы…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9" name="Picture 5" descr="ghhbfggo"/>
          <p:cNvPicPr/>
          <p:nvPr/>
        </p:nvPicPr>
        <p:blipFill>
          <a:blip r:embed="rId1"/>
          <a:stretch/>
        </p:blipFill>
        <p:spPr>
          <a:xfrm>
            <a:off x="179280" y="2133720"/>
            <a:ext cx="2949840" cy="235260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6"/>
          <p:cNvSpPr/>
          <p:nvPr/>
        </p:nvSpPr>
        <p:spPr>
          <a:xfrm>
            <a:off x="3564000" y="2276640"/>
            <a:ext cx="5172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дном сосуде находится металлический кубик, в другом – вода. Как будут передавать эти тела производимое на них давл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7" descr="ghjj"/>
          <p:cNvPicPr/>
          <p:nvPr/>
        </p:nvPicPr>
        <p:blipFill>
          <a:blip r:embed="rId2"/>
          <a:stretch/>
        </p:blipFill>
        <p:spPr>
          <a:xfrm>
            <a:off x="468360" y="4365720"/>
            <a:ext cx="2232000" cy="192384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12"/>
          <p:cNvSpPr/>
          <p:nvPr/>
        </p:nvSpPr>
        <p:spPr>
          <a:xfrm>
            <a:off x="3419640" y="4437000"/>
            <a:ext cx="540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уд плотно закрыт пробкой, В котор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авлены две трубки. Если подуть в трубку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вод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ез трубку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  выливается из сосуда .Будет ли вытекать вода из трубки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,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одуть в трубку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б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08:04:20Z</dcterms:created>
  <dc:creator/>
  <dc:description/>
  <dc:language>en-US</dc:language>
  <cp:lastModifiedBy>Пк</cp:lastModifiedBy>
  <dcterms:modified xsi:type="dcterms:W3CDTF">2012-11-05T03:41:45Z</dcterms:modified>
  <cp:revision>18</cp:revision>
  <dc:subject/>
  <dc:title>Давление газов  Закон  Паскал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