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41BC-F480-40DF-A0FF-C4F3C6B67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38D3-CD76-4272-82D8-64F3D0B33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EF76A1-D092-4329-84A0-2EDD27F39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8C8553-B184-4AC0-8800-DE3A1749A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ABDA0E-E33F-4F4F-9297-165811394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E2277B-4CC5-4379-9D43-16FF0AABD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F3D19D-BFE9-43EF-86B4-3AD00C716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49DB82-F587-451C-BFAF-E6C68473D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E3E7B9-2552-489B-9925-5FAF87B76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2427AD-FF85-44B3-92A7-C624992B7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D0CBAC-B29F-4A20-9BD4-A01EDFBDD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CA7CD4-7D3F-4123-B650-A6848D509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CE42-9F7A-439F-BF2E-AE4BF09A7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035A08-2707-46BC-8DA0-18B3CEFE7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914C9B-1849-4477-ABC5-13B28152D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D925E6-4E34-444A-83E6-CF5754846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11CE6F-7BFD-47E7-9B8E-BCCE1E428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4F30ED-CB1A-4924-9805-44FA3000F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2C6D53-B970-446B-85AA-577406220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F8273C-7A17-437E-812C-9D3E9D978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552E70-E1BB-4B8A-9550-18434D365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36B2CC-43A5-4257-B238-C0EED9D5F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C2843A-3441-411A-B24F-B7F78AFB7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21F7-CDD0-4415-B82A-CF9AB2CAD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18E919-49ED-4291-8FC6-A45E35616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4AE7F2-8F35-4AAA-95CE-1E950CF50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40A8B1-9051-4797-B7CD-7983A5632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7D3D6D-ECEA-4D19-A7FC-405A77769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B62DD5-200C-42D9-9CE5-C289EBD26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8AEED6-A738-4BE8-8735-07E3B678E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BBE37C-4163-43BA-AD0B-280531562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1CC8BE-B45D-4A39-8899-2A97DC204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6748E2-4107-4401-8EE5-E955E948F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E969BB-5E9E-4233-A503-30AEE691F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CC48D-7ACD-4736-9B47-F4B04FEDE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64B6D8-D492-4287-9542-72D1DB700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BB56DA-FCB9-46FC-B116-4F3750264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4FDFF3-33FD-44DA-B914-F28791FAC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762737-3057-4F31-947C-2ACB90970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5330EC-E168-4EA2-9F90-E2690862E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C7B156-A446-49FB-ACB5-FEC6BF0EA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BF2C1E-E5C5-4CB5-B0A2-367E1E796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1E7BDC-D645-4E4C-B0F7-4588BB56B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DCB5E7-8D46-4BD7-8F83-85F64E305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55F7A1-460F-48F7-A68D-E472E0343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52320-AFF1-4FB3-8F05-E00CBDA00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A76932-FC75-4F93-871C-BEECDA519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AD7685-7960-4584-AB06-59EEA64F5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FC5643-9592-4EDB-B039-749C69452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479210-8F38-48C0-B1DA-23237DB22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B28A8F-D5D8-4802-B70E-0056CE929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F866D-31D0-4EBB-8165-49D54B963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DD02E-D43C-4D7D-AB6A-0C6B943B4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5786C-3D37-4F8B-BCB5-C3E0A351B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E08FB-63EB-4A71-BD17-32114A0FF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5B728-B1B1-4056-8E29-2A5012527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FEB9-F5F2-4731-B2D2-9A70F499B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85E43-BCC5-4C0B-B870-6DFAF8C45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875E9-327F-4444-98A1-2136E69FC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9D704-D164-4D20-A216-40F66CAB0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EC4D5-B3EC-4500-82B2-DB16AA3F8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74263-EEE7-499E-AA8A-0F8AA0F07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A5934C-AF52-4651-8490-D63D0B251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41738D-3275-497A-8111-3CC13F0E0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E09BB2-DC96-47E1-A746-50287AD7F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54FF1E-A043-4A48-97A7-E4F258DCB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19A231-41B9-43C8-A345-8F3CD46C2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53A7-E458-425A-BA40-177A63A2A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608582-DBB9-46D8-93AC-26709033D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B75CB8-DAD4-45DC-AD9E-2DB86804E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DD93E5-5D82-46A9-AF46-CE7A89274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2C45FA-46CB-42C6-AF7B-ACCCB65DC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188C36-9972-4799-8A0A-3AA77F127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896B32-1860-4DFA-B2D4-C2D0C45C5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350E08-0785-4CBE-AFF9-21E2164F5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F311F2-060C-4CB6-83FA-BEAC7FB43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45AE9C-53F4-4842-86BE-C685F9CAA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7D8F11-59A1-4F76-B1A8-F34C17A0F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62CF-CACE-4FED-BB58-6436D35C5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4212C8-A1FA-4F33-B998-914405EBE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BEDB3C-1C79-4F38-892B-C1F9E0637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1E9967-62E2-4624-9D20-E80345561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4DBD3A-5506-4B1E-A4C4-3053F0AAC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C1408C-B771-4BA8-9255-DA2397779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C50612-401F-4B7C-8CFF-756BD792E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A4CF3B-E752-456D-A6CE-E0F230337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C3D610-ED6E-4826-BC1A-A8EACB595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515624-78DC-4D97-94E9-949DD1645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5ECC5D-5BA3-4AD7-9EF2-6CD951C1B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6C64-CD73-4823-BAC6-6772C188D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42D86D-6FFB-4202-A39A-BF3D1728B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FEB31F-6541-4CF8-BD0A-45BC0A6EB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431A4E-5BE1-4CD3-BAE4-F12F5E51D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D09564-FA13-4EDA-90CF-4B696F438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15872A-0EB9-48F2-8314-A3673AB7E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3E5BE2-3646-4A5E-89B0-9BF48CB97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B32301-DD15-408F-A47E-7E2DE68C8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D4330C-EB60-43E4-BD13-77200558D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447B22-3D54-4C69-AE34-59D9C7DB7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554CD3-B931-43C7-A444-C97987789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20FA-02B8-4CB3-BAB9-6E8A30BB8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3BE31C-A842-4917-82ED-8BBC98B4D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591F4A-9184-4844-AC8F-637E087EE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70A7B1-E598-4F1C-87C6-1C76E416A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E390E2-DC37-4530-A484-30CD7593B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685D5B-F825-4A73-A522-872BFA1E9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A8074D-875B-42F9-8C9D-202396B61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4C056F-8B2E-4CC4-9A7F-51A3BC3CD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FBAB84-FDD5-4232-A383-92E6AB38E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8E7508-80D7-437B-99E0-AA5839B66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C68ED6-5BA5-4B71-ABA5-931230F90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95F2-048A-411B-8C64-8FCD7C5BB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B9579E-B0C6-494D-A5B7-957698A31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279059-32BC-4502-A354-8F1D2DADF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30B7A8-D026-4638-97E9-ED279084D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4512F4-F8B6-4879-A75A-F6B30B822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216DB5-1ACD-4BDD-A119-838A435B1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009D6E-7615-45EB-894D-2D5B3E355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1CCC46-A65B-4A84-97D6-CFB6BF12A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D8E885-8156-4EC9-93DF-8068E7B05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6D612A-57DF-429B-ADDF-42DD88E3C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03D038-B949-4A12-84F5-CDD2B5F87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10DF-32F3-4169-AC89-2D5A224C6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702D46-6323-4C83-8F98-6BE653C90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A0A422-54DF-41A2-9750-B8EF73539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29DC39-0367-4865-9F0E-AA25A8D9E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72C211-FA92-431F-9C58-01B60AADF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D84746-B322-4204-ACC2-3AE6EA100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8CEFEC-61DD-459B-B4A5-3FEE3C9BA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4B9783-64A0-4E1B-AABA-785E323F4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97059D-8549-4A57-BE98-D136971D0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0A50A0-3FF3-4340-A8DE-448B08DE5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BDB052-468A-4A7B-959D-80CF20DF0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DC98-2F22-4B24-8F66-E0E944F4E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C20915-C05A-48B3-A76F-EDBCE5E4C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0B5FE6-1D4F-4486-A8ED-A44521DEB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D4A318-5591-4162-8ED9-A37D8FB28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E6B5E4-23A1-43B6-89C1-A6B0D8054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BAC3E8-6B1C-40FD-AAC6-328050D87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F51C64-7B7F-42E9-81AC-269EAC143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44ABEE-BA99-43BA-8182-80FB80970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4AE7B2-20B8-457A-B2EE-88024F8C3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55BA20-4251-440E-A9EC-1870A7151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5A19D1-FE67-4B80-A0B1-FA5170235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38C03-CB08-417C-ACB2-15938B2E18EC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оугольник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угольник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оугольник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Овал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Овал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AE0F3-8B5B-4464-A85E-3544C8368BB6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347B2-0BB2-4636-81DB-6EE8552472BB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Прямоугольник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Прямоугольник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оугольник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ая соединительная линия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Овал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Овал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008A8-502B-481C-BA3B-7D05CBF2249B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581EC-10C7-4556-BF97-F3D6C314E110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D320C-BE97-449C-81A0-11828740CC44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9F20B-1CA3-4467-A691-4EEF20ECBF03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0721C-E6F9-4990-A990-453F78887517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Овал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24551-BEB8-46E0-B668-28B7E78C5264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7A043-6D6D-4DD4-99A6-3D9BC5EDFBB4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3E4EA-4B69-4747-B6D0-E3A88B79487A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ая соединительная линия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Овал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Овал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BF183-15BC-4EB3-8410-A2640C8D0723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371600" y="3789360"/>
            <a:ext cx="640080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46b86"/>
                </a:solidFill>
                <a:latin typeface="Georgia"/>
              </a:rPr>
              <a:t>ЛАДАНОВА И.В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46b86"/>
                </a:solidFill>
                <a:latin typeface="Georgia"/>
              </a:rPr>
              <a:t>МКОУ «ВЕРХ-ЖИЛИНСКАЯ ООШ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d16349"/>
                </a:solidFill>
                <a:latin typeface="Georgia"/>
              </a:rPr>
              <a:t>Давление газов</a:t>
            </a:r>
            <a:br>
              <a:rPr sz="4200"/>
            </a:br>
            <a:r>
              <a:rPr b="0" lang="ru-RU" sz="4200" spc="-1" strike="noStrike">
                <a:solidFill>
                  <a:srgbClr val="d16349"/>
                </a:solidFill>
                <a:latin typeface="Georgia"/>
              </a:rPr>
              <a:t> Закон  Паскаля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115640" y="189000"/>
            <a:ext cx="779292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7b9899"/>
                </a:solidFill>
                <a:latin typeface="Georgia"/>
              </a:rPr>
              <a:t>Ответим на вопросы…</a:t>
            </a:r>
            <a:endParaRPr b="0" lang="en-US" sz="4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468360" y="2349000"/>
            <a:ext cx="540072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 сосуде под поршнем находится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газ. Поршень переместили из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оложения А в положение В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Одинаково ли увеличилось при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этом  давление газа на стенки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Сосуда в точках 1, 2, 3, 4 и 5 ?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45" name="Picture 5" descr="ipoiibiii"/>
          <p:cNvPicPr/>
          <p:nvPr/>
        </p:nvPicPr>
        <p:blipFill>
          <a:blip r:embed="rId1"/>
          <a:stretch/>
        </p:blipFill>
        <p:spPr>
          <a:xfrm>
            <a:off x="6012000" y="2276640"/>
            <a:ext cx="273024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7b9899"/>
                </a:solidFill>
                <a:latin typeface="Georgia"/>
              </a:rPr>
              <a:t>Ответим на вопросы…</a:t>
            </a:r>
            <a:endParaRPr b="0" lang="en-US" sz="4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1182600" y="2017440"/>
            <a:ext cx="77724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50920" indent="-25092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Если из мелкокалиберной винтовки выстрелить в      вареное яйцо, в нем образуется отверстие. Если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5092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же выстрелить в сырое, оно разлетится. Как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5092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Объяснить это явление?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8" name="Text Box 4"/>
          <p:cNvSpPr/>
          <p:nvPr/>
        </p:nvSpPr>
        <p:spPr>
          <a:xfrm>
            <a:off x="1403280" y="2924280"/>
            <a:ext cx="70041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Box 5"/>
          <p:cNvSpPr/>
          <p:nvPr/>
        </p:nvSpPr>
        <p:spPr>
          <a:xfrm>
            <a:off x="1311120" y="4214880"/>
            <a:ext cx="70772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 Box 6"/>
          <p:cNvSpPr/>
          <p:nvPr/>
        </p:nvSpPr>
        <p:spPr>
          <a:xfrm>
            <a:off x="1042920" y="4149720"/>
            <a:ext cx="720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-441360">
              <a:lnSpc>
                <a:spcPct val="100000"/>
              </a:lnSpc>
              <a:buClr>
                <a:srgbClr val="694f07"/>
              </a:buClr>
              <a:buFont typeface="Wingdings" charset="2"/>
              <a:buChar char=""/>
              <a:tabLst>
                <a:tab algn="l" pos="365040"/>
                <a:tab algn="l" pos="44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чему взрыв снаряда под водой губителен        для живущих в воде организмов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 Box 8"/>
          <p:cNvSpPr/>
          <p:nvPr/>
        </p:nvSpPr>
        <p:spPr>
          <a:xfrm>
            <a:off x="1116000" y="5516640"/>
            <a:ext cx="720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-441360">
              <a:lnSpc>
                <a:spcPct val="100000"/>
              </a:lnSpc>
              <a:buClr>
                <a:srgbClr val="694f07"/>
              </a:buClr>
              <a:buFont typeface="Wingdings" charset="2"/>
              <a:buChar char=""/>
              <a:tabLst>
                <a:tab algn="l" pos="365040"/>
                <a:tab algn="l" pos="44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чему мыльный пузырь имеет форму шар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6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6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6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6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7b9899"/>
                </a:solidFill>
                <a:latin typeface="Georgia"/>
              </a:rPr>
              <a:t>Итог урока:</a:t>
            </a:r>
            <a:endParaRPr b="0" lang="en-US" sz="4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1839600" y="2133360"/>
            <a:ext cx="730404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Давление газа на стенки сосуда и на помещенное в газ тело, вызывается ударами молекул газа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Давление газа зависит от температуры и от объема занимаемого данной массой газа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Жидкости и газы передают давление по всем направлениям одинаково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6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6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6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6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Домашнее задание.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1186920" y="3212640"/>
            <a:ext cx="6697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§ </a:t>
            </a: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35, </a:t>
            </a: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36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Упражнение  </a:t>
            </a: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14</a:t>
            </a:r>
            <a:r>
              <a:rPr b="1" lang="ru-RU" sz="5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(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1 - 4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6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6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6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115640" y="189000"/>
            <a:ext cx="77929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7b9899"/>
                </a:solidFill>
                <a:latin typeface="Georgia"/>
              </a:rPr>
              <a:t>Сегодня на уроке …</a:t>
            </a:r>
            <a:endParaRPr b="0" lang="en-US" sz="5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1619280" y="2204640"/>
            <a:ext cx="7269120" cy="36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90400" indent="-59040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94f07"/>
                </a:solidFill>
                <a:latin typeface="Georgia"/>
              </a:rPr>
              <a:t>1</a:t>
            </a:r>
            <a:r>
              <a:rPr b="1" lang="ru-RU" sz="2900" spc="-1" strike="noStrike">
                <a:solidFill>
                  <a:srgbClr val="cc3300"/>
                </a:solidFill>
                <a:latin typeface="Georgia"/>
              </a:rPr>
              <a:t>   Почему газ давит?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  <a:p>
            <a:pPr marL="590400" indent="-590400">
              <a:spcBef>
                <a:spcPts val="726"/>
              </a:spcBef>
              <a:buClr>
                <a:srgbClr val="d16349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  <a:p>
            <a:pPr marL="590400" indent="-59040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94f07"/>
                </a:solidFill>
                <a:latin typeface="Georgia"/>
              </a:rPr>
              <a:t>2</a:t>
            </a:r>
            <a:r>
              <a:rPr b="1" lang="ru-RU" sz="2900" spc="-1" strike="noStrike">
                <a:solidFill>
                  <a:srgbClr val="cc3300"/>
                </a:solidFill>
                <a:latin typeface="Georgia"/>
              </a:rPr>
              <a:t>   От чего зависит давление газа?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  <a:p>
            <a:pPr marL="590400" indent="-590400">
              <a:spcBef>
                <a:spcPts val="726"/>
              </a:spcBef>
              <a:buClr>
                <a:srgbClr val="d16349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  <a:p>
            <a:pPr marL="590400" indent="-59040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cc3300"/>
                </a:solidFill>
                <a:latin typeface="Georgia"/>
              </a:rPr>
              <a:t> </a:t>
            </a:r>
            <a:r>
              <a:rPr b="1" lang="ru-RU" sz="1600" spc="-1" strike="noStrike">
                <a:solidFill>
                  <a:srgbClr val="694f07"/>
                </a:solidFill>
                <a:latin typeface="Georgia"/>
              </a:rPr>
              <a:t>3</a:t>
            </a:r>
            <a:r>
              <a:rPr b="1" lang="ru-RU" sz="1600" spc="-1" strike="noStrike">
                <a:solidFill>
                  <a:srgbClr val="cc3300"/>
                </a:solidFill>
                <a:latin typeface="Georgia"/>
              </a:rPr>
              <a:t>   </a:t>
            </a:r>
            <a:r>
              <a:rPr b="1" lang="ru-RU" sz="2900" spc="-1" strike="noStrike">
                <a:solidFill>
                  <a:srgbClr val="cc3300"/>
                </a:solidFill>
                <a:latin typeface="Georgia"/>
              </a:rPr>
              <a:t>Как газ передает давление?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042920" y="260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7b9899"/>
                </a:solidFill>
                <a:latin typeface="Georgia"/>
              </a:rPr>
              <a:t>Повторение</a:t>
            </a:r>
            <a:br>
              <a:rPr sz="5400"/>
            </a:br>
            <a:endParaRPr b="0" lang="en-US" sz="5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Rectangle 5"/>
          <p:cNvSpPr/>
          <p:nvPr/>
        </p:nvSpPr>
        <p:spPr>
          <a:xfrm>
            <a:off x="4788000" y="5445000"/>
            <a:ext cx="1511280" cy="10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646b86"/>
                </a:solidFill>
                <a:latin typeface="Arial"/>
              </a:rPr>
              <a:t>П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 Box 6"/>
          <p:cNvSpPr/>
          <p:nvPr/>
        </p:nvSpPr>
        <p:spPr>
          <a:xfrm>
            <a:off x="468360" y="2421000"/>
            <a:ext cx="532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ормула расчета дав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 Box 7"/>
          <p:cNvSpPr/>
          <p:nvPr/>
        </p:nvSpPr>
        <p:spPr>
          <a:xfrm>
            <a:off x="2124000" y="5157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 Box 8"/>
          <p:cNvSpPr/>
          <p:nvPr/>
        </p:nvSpPr>
        <p:spPr>
          <a:xfrm>
            <a:off x="468360" y="566100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диницы дав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5" name="Picture 11" descr="paskal"/>
          <p:cNvPicPr/>
          <p:nvPr/>
        </p:nvPicPr>
        <p:blipFill>
          <a:blip r:embed="rId1"/>
          <a:stretch/>
        </p:blipFill>
        <p:spPr>
          <a:xfrm>
            <a:off x="5940360" y="1268280"/>
            <a:ext cx="2525760" cy="2640240"/>
          </a:xfrm>
          <a:prstGeom prst="rect">
            <a:avLst/>
          </a:prstGeom>
          <a:ln w="0">
            <a:noFill/>
          </a:ln>
        </p:spPr>
      </p:pic>
      <p:sp>
        <p:nvSpPr>
          <p:cNvPr id="616" name="Text Box 12"/>
          <p:cNvSpPr/>
          <p:nvPr/>
        </p:nvSpPr>
        <p:spPr>
          <a:xfrm>
            <a:off x="5943240" y="4076640"/>
            <a:ext cx="2605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аскаль Бле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623 -166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7" name="Object 15"/>
              <p:cNvSpPr txBox="1"/>
              <p:nvPr/>
            </p:nvSpPr>
            <p:spPr>
              <a:xfrm>
                <a:off x="2195640" y="3284640"/>
                <a:ext cx="2376360" cy="210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Повторение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Какой из трех одинаковых брусков производит на стол большее давление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0" name="Picture 4" descr="Изображение1 001"/>
          <p:cNvPicPr/>
          <p:nvPr/>
        </p:nvPicPr>
        <p:blipFill>
          <a:blip r:embed="rId1"/>
          <a:stretch/>
        </p:blipFill>
        <p:spPr>
          <a:xfrm>
            <a:off x="1332000" y="3500280"/>
            <a:ext cx="6840360" cy="26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Новый материал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755640" y="191628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2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Georgia"/>
              </a:rPr>
              <a:t>Почему шарик увеличивает свой объем?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3" name="Picture 4" descr="05d-i1"/>
          <p:cNvPicPr/>
          <p:nvPr/>
        </p:nvPicPr>
        <p:blipFill>
          <a:blip r:embed="rId1"/>
          <a:stretch/>
        </p:blipFill>
        <p:spPr>
          <a:xfrm>
            <a:off x="900000" y="2852640"/>
            <a:ext cx="3600720" cy="1884600"/>
          </a:xfrm>
          <a:prstGeom prst="rect">
            <a:avLst/>
          </a:prstGeom>
          <a:ln w="0">
            <a:noFill/>
          </a:ln>
        </p:spPr>
      </p:pic>
      <p:sp>
        <p:nvSpPr>
          <p:cNvPr id="624" name="Text Box 6"/>
          <p:cNvSpPr/>
          <p:nvPr/>
        </p:nvSpPr>
        <p:spPr>
          <a:xfrm>
            <a:off x="1258920" y="2060640"/>
            <a:ext cx="6624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 Box 9"/>
          <p:cNvSpPr/>
          <p:nvPr/>
        </p:nvSpPr>
        <p:spPr>
          <a:xfrm>
            <a:off x="611280" y="4653000"/>
            <a:ext cx="833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46b86"/>
                </a:solidFill>
                <a:latin typeface="Arial"/>
              </a:rPr>
              <a:t>Вывод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вление газа на стенки ссуда и на помещенное в га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ло вызывается ударами молекул газ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6" name="Picture 11" descr="05d-i2"/>
          <p:cNvPicPr/>
          <p:nvPr/>
        </p:nvPicPr>
        <p:blipFill>
          <a:blip r:embed="rId2"/>
          <a:stretch/>
        </p:blipFill>
        <p:spPr>
          <a:xfrm>
            <a:off x="5508720" y="2781360"/>
            <a:ext cx="1914480" cy="19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ccb400"/>
                </a:solidFill>
                <a:latin typeface="Georgia"/>
              </a:rPr>
              <a:t>От чего зависит давление газа?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3300"/>
                </a:solidFill>
                <a:latin typeface="Georgia"/>
              </a:rPr>
              <a:t>Вывод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т температуры газа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т объема, занимаемого газом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9" name="Picture 4" descr="05d-i3"/>
          <p:cNvPicPr/>
          <p:nvPr/>
        </p:nvPicPr>
        <p:blipFill>
          <a:blip r:embed="rId1"/>
          <a:stretch/>
        </p:blipFill>
        <p:spPr>
          <a:xfrm>
            <a:off x="971640" y="2349360"/>
            <a:ext cx="3671640" cy="1824120"/>
          </a:xfrm>
          <a:prstGeom prst="rect">
            <a:avLst/>
          </a:prstGeom>
          <a:ln w="0">
            <a:noFill/>
          </a:ln>
        </p:spPr>
      </p:pic>
      <p:pic>
        <p:nvPicPr>
          <p:cNvPr id="630" name="Picture 8" descr="gnjkk"/>
          <p:cNvPicPr/>
          <p:nvPr/>
        </p:nvPicPr>
        <p:blipFill>
          <a:blip r:embed="rId2"/>
          <a:stretch/>
        </p:blipFill>
        <p:spPr>
          <a:xfrm>
            <a:off x="6300720" y="2133720"/>
            <a:ext cx="1346400" cy="28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Как газы и жидкости передают давление?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32" name="Picture 5" descr="iiigv"/>
          <p:cNvPicPr/>
          <p:nvPr/>
        </p:nvPicPr>
        <p:blipFill>
          <a:blip r:embed="rId1"/>
          <a:stretch/>
        </p:blipFill>
        <p:spPr>
          <a:xfrm>
            <a:off x="468360" y="1844640"/>
            <a:ext cx="2232000" cy="4321080"/>
          </a:xfrm>
          <a:prstGeom prst="rect">
            <a:avLst/>
          </a:prstGeom>
          <a:ln w="0">
            <a:noFill/>
          </a:ln>
        </p:spPr>
      </p:pic>
      <p:pic>
        <p:nvPicPr>
          <p:cNvPr id="633" name="Picture 6" descr="05c-i1"/>
          <p:cNvPicPr/>
          <p:nvPr/>
        </p:nvPicPr>
        <p:blipFill>
          <a:blip r:embed="rId2"/>
          <a:stretch/>
        </p:blipFill>
        <p:spPr>
          <a:xfrm>
            <a:off x="2484360" y="2565360"/>
            <a:ext cx="6121440" cy="1897200"/>
          </a:xfrm>
          <a:prstGeom prst="rect">
            <a:avLst/>
          </a:prstGeom>
          <a:ln w="0">
            <a:noFill/>
          </a:ln>
        </p:spPr>
      </p:pic>
      <p:sp>
        <p:nvSpPr>
          <p:cNvPr id="634" name="Text Box 14"/>
          <p:cNvSpPr/>
          <p:nvPr/>
        </p:nvSpPr>
        <p:spPr>
          <a:xfrm>
            <a:off x="2627280" y="5084640"/>
            <a:ext cx="5905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Закон Паска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Жидкости и газы передают давление по всем направлениям одинако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6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6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476000" y="189000"/>
            <a:ext cx="73436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7b9899"/>
                </a:solidFill>
                <a:latin typeface="Georgia"/>
              </a:rPr>
              <a:t>Ответим на вопросы…</a:t>
            </a:r>
            <a:endParaRPr b="0" lang="en-US" sz="4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539280" y="206064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Цифрами 1, 2 и 3 обозначены круглые отверстия, затянутые одинаковыми резиновыми пленками. Когда поршень переместили  из положения А в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.К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положение В, пленки выгнулись наружу. На каком из рисунков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7" name="Picture 4" descr="Изображение1 004"/>
          <p:cNvPicPr/>
          <p:nvPr/>
        </p:nvPicPr>
        <p:blipFill>
          <a:blip r:embed="rId1"/>
          <a:stretch/>
        </p:blipFill>
        <p:spPr>
          <a:xfrm>
            <a:off x="287280" y="3573360"/>
            <a:ext cx="885672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7b9899"/>
                </a:solidFill>
                <a:latin typeface="Georgia"/>
              </a:rPr>
              <a:t>Ответим на вопросы…</a:t>
            </a:r>
            <a:endParaRPr b="0" lang="en-US" sz="48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39" name="Picture 5" descr="ghhbfggo"/>
          <p:cNvPicPr/>
          <p:nvPr/>
        </p:nvPicPr>
        <p:blipFill>
          <a:blip r:embed="rId1"/>
          <a:stretch/>
        </p:blipFill>
        <p:spPr>
          <a:xfrm>
            <a:off x="179280" y="2133720"/>
            <a:ext cx="2949840" cy="2352600"/>
          </a:xfrm>
          <a:prstGeom prst="rect">
            <a:avLst/>
          </a:prstGeom>
          <a:ln w="0">
            <a:noFill/>
          </a:ln>
        </p:spPr>
      </p:pic>
      <p:sp>
        <p:nvSpPr>
          <p:cNvPr id="640" name="Text Box 6"/>
          <p:cNvSpPr/>
          <p:nvPr/>
        </p:nvSpPr>
        <p:spPr>
          <a:xfrm>
            <a:off x="3564000" y="2276640"/>
            <a:ext cx="51721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одном сосуде находится металлический кубик, в другом – вода. Как будут передавать эти тела производимое на них давлени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1" name="Picture 7" descr="ghjj"/>
          <p:cNvPicPr/>
          <p:nvPr/>
        </p:nvPicPr>
        <p:blipFill>
          <a:blip r:embed="rId2"/>
          <a:stretch/>
        </p:blipFill>
        <p:spPr>
          <a:xfrm>
            <a:off x="468360" y="4365720"/>
            <a:ext cx="2232000" cy="1923840"/>
          </a:xfrm>
          <a:prstGeom prst="rect">
            <a:avLst/>
          </a:prstGeom>
          <a:ln w="0">
            <a:noFill/>
          </a:ln>
        </p:spPr>
      </p:pic>
      <p:sp>
        <p:nvSpPr>
          <p:cNvPr id="642" name="Text Box 12"/>
          <p:cNvSpPr/>
          <p:nvPr/>
        </p:nvSpPr>
        <p:spPr>
          <a:xfrm>
            <a:off x="3419640" y="4437000"/>
            <a:ext cx="5400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суд плотно закрыт пробкой, В котору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тавлены две трубки. Если подуть в трубку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а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 вода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рез трубку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  выливается из сосуда .Будет ли вытекать вода из трубки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а,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подуть в трубку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б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7T08:04:20Z</dcterms:created>
  <dc:creator/>
  <dc:description/>
  <dc:language>en-US</dc:language>
  <cp:lastModifiedBy>Пк</cp:lastModifiedBy>
  <dcterms:modified xsi:type="dcterms:W3CDTF">2012-11-05T03:41:45Z</dcterms:modified>
  <cp:revision>18</cp:revision>
  <dc:subject/>
  <dc:title>Давление газов  Закон  Паскал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