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D60C-2EA5-4E48-A5C3-B7B08E18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FFA7-B4F0-4BEB-B3D3-85960162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32B64E-4C2A-47DE-93E1-20B49088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816470-2CD5-42E1-A6ED-F6670E44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F7CDE0-5638-4995-9835-A37CDA0C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2EC31-CF14-4CDC-ABA1-CFD5514E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0BE1F-4371-4257-925D-7B24EF89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8FF567-7095-4906-BCEB-FF105FC3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2D24F3-12EF-47FC-95A0-53DE216C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D5B1CA-2008-4840-9280-3CAF19C9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9EBA2B-C025-41B8-ADCA-DC696061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87B7D9-CCF8-4097-9647-BD987C0B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2161-9A9A-48C8-B8D7-CAEBD0F4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7C6F2D-921B-46DC-8002-9497E39F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248DEC-DE36-46CB-93C0-BBE26EE4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7F8D1C-78D5-47A6-9BF5-D621D3E4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67FEC9-E3F9-4A57-B4BB-32CA0680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5C8686-344A-444F-A8FF-3769D365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FE64D6-1C76-4F8B-903D-9F1AA9CA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0D7FE8-35FA-4C2A-923C-E14E83F6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AB956F-C966-434C-A474-D4C476FC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93BF00-EC29-4F97-8905-8746055A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68C34C-1CBA-4982-880B-D18DBF0A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2A47-1B07-4F0E-8B57-992D2C04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716595-2352-48FC-B8D9-139CFA61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900E4-4B1B-42BE-B5BF-0AD60285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B8AD4-FFE1-4DAC-876D-50E19630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01234-512A-4FC9-92EB-046B9E4C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802F9-F3F7-4C6E-B799-50A85C55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0B931-B758-43FE-9CB3-78A21B3D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8DB4B-17F2-4101-84C8-90606B6E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B3F7D-0657-481D-BC3C-D47F838B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A8F6E-5A47-458F-81DC-AA4F5595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A35B5-3AAD-457D-8DE7-ECA09440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98A0-A2DB-4EE4-A852-E1EC56A8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A8132-82EE-4937-B5BE-D4993BB9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8C0C4-D6D0-48A3-AFA9-9D1B7F77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DA544-BE9E-4E52-AF7D-F1A4AA1C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25E20C-ED2E-4718-89CC-84AA734F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07B0AD-2516-4BE4-922E-3504CD62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E7B85B-3211-4EF6-B461-FFD560C7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42BCA0-C14A-4255-BBDE-6C184859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C5B7AF-10F7-466F-AE75-C42DA8A5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74EE0C-8DAE-464D-AF9F-A79795A6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A58290-D0C3-4BB5-8346-396D761F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EF53-8E28-4694-8E7A-64C2C8A0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7AB39C-3216-47CE-92B0-116D7F1D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6A369D-ED1E-4888-8ADC-616F2225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EA3E7F-EB12-4D44-B9EE-E1F234DA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686A96-5770-4837-80E6-1D560179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B2A844-92EB-4B11-948A-D9A0A71E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DD85-00DA-4F95-B8D6-1277D598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2448-E22A-4B63-A58D-DD68B0B8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A540-D56A-4F43-80AC-147C5FE2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EB2E-C1B3-4DE4-9354-C82A69F2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D7F6-2A15-445C-97AB-2AEE56E1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7FD6-0FE7-428F-8945-CB082461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4D37-5238-4796-9859-4AD9BC66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9297-245D-4599-9188-60C8958A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CDDA-6FBF-4632-86B9-B8787BF4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CD7F-DE9A-40DA-96A4-4F4487E6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3F19-7DF8-4D2A-AE49-1E1F0865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76A97-213D-440A-AC25-C26CE23E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125F8-DF43-4419-BD86-0F7C2F25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8832C-8BD1-4B49-9335-D3CE4DB2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0CD8F-4FF8-4D84-84E4-86CF1387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87B34-833A-4140-8446-A6BF4705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3ECD-1041-4E03-B900-9B29BED2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4E344-DFE8-433C-8376-67838D59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0CAFF-8942-4702-BB7F-EB45B2C5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6F4A2-0E0B-4BA0-8595-7512C531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5EC03-C8AC-404A-A571-C3699DC3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D57A6-6638-4505-B2F1-83682087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035FC-D22C-4F58-BFF4-E2874B1ED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D2B34-F035-4EF9-A1A2-CCF67B84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F123C-C703-456D-8C99-C0F7E0FD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869B0-2142-4EEE-AF61-CF8E7E30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6B26A-92E6-4023-807C-5FC79017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271-C5E5-4430-BD53-B42B51D4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A7741-ADAC-4018-B817-3CB50D1A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EA82F-4024-4C51-8CF2-99F6BD3C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D1C39-01FB-4D26-9423-99A308F4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48D20-A170-4FC3-8BE2-77E717F0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B2219-EF49-404A-8227-33802FE3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A84D4-7929-4638-AEFD-41C86FD5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276A5-8F95-47C7-8844-A4DFA03D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7819D-F4A8-4B37-ABB3-C158A4DC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96C89-C828-441B-AB18-40229F01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D61A0-DD5B-438E-8D6D-C3156D90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BDD2-EF34-4F1B-B965-EEA78DAB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01D0A-F678-46B2-B5B9-372DBBC7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E6804-40B4-459F-951C-33FE9B2F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41ACA-9941-4E70-8E30-A660BDBB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C8646-C670-45E7-9A32-6A668F02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E6E8F-A95D-4344-95FB-ED2B4A2C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E5F19-62CA-4ED2-B67B-98D9C8CA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41C2A-4832-48D0-9713-25ADC8E5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CB740-2CD3-404A-8C07-39C79598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C0559-6E36-411C-8C2C-C2B37CC1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037EE-0D29-4627-BDDE-7681E7EF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457-6128-4475-96F4-6EEB1B0D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D42E4-B71B-4EE8-9A6B-3B984E66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50747-BAD2-4844-8308-3059E92D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89D9F-891B-434A-9671-B3587907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CB5AE-3131-460A-8721-217AC203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865F5-8121-4162-81E3-543E1912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9AEA6-CD21-43D6-B119-6B39B713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BB3B4-808B-488C-B396-2AF34D27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7EC2B-FD79-4BB3-93E9-CF89639F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EE04F-1A3D-44AD-ABE3-03E26D9A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2EED7-9285-4EF6-B529-9610631A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BF9-6437-45F7-A814-9B46D632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11E36-01D9-4CF5-9AD3-70E64546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E093A-9CF0-4A6A-95C8-7A8ACED1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B5134-5FB5-4A13-B932-6EE8DCCE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25159-7644-4BE2-AF45-67C5054D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C0270-2357-447F-8C2C-5CF4A2AB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73983-30DA-4C9A-A0C5-FE7D0CC0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FE4FA-3A6D-4824-A525-F65B101F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843CE-4CA1-4905-9577-4F9DB3FE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7EF01-6B9E-427C-ACB3-90AF89E5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B34ED-E02C-4F4F-B4B9-5F1D2DAF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E627-EF37-4128-BF07-17020CA3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C864D-FC16-4FE1-8BA3-8C7315DD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81C5A-6E1C-4976-BFEC-6EB0CB48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CF64C-3068-4634-8C7A-5BD84313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DB010-2E48-496D-8132-099108D2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632D6-3F0F-4228-BBBF-26522AD1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BAEE3-DC00-4EE4-B70F-5B7D3813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E51F2-44BF-43A8-B27C-E695B534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167A3-3495-4F3B-8D63-FADDCE8D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33CC0-5B0C-4737-956C-D49AE75A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29A92-63DF-4BCB-9AD0-67B61968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CFD1-E8D5-40BB-B0D0-B2E7C395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A1550-B2EF-4152-9BF0-3C788CEF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C7F28-5686-4834-864D-35C75964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A9916-BCAA-4B08-BC91-4D219E93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4905F-7B6F-40AC-8C2F-5BA73C45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B76AE-CBDC-4C8E-B87A-5FBB08B6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001CF-5514-410D-A995-2BB931F2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D9483-821F-4404-A2AD-009C171B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A39BF1-C1D7-4B8D-A744-8235E6B1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3F9ABE-4710-4F36-9AE4-21321487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3FF40C-173E-4E73-88CF-5EDD8A24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E928-79AD-4924-AC9C-88917D9C7B0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A0DB-068A-48A8-B51A-7865B69DF48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0FE5-89CB-4BEB-9D55-ED653D358A7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20CE-25E3-4017-B10A-BBE92CF6E0B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D47B-2379-401A-BC7E-F8D8146B845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6086-9F23-4EDD-8217-E9AEB2B7D2D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197B-EF7E-463A-BB5E-A454A84A305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463F-263A-421A-B145-65566AB2488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3BB9-8300-4C0A-932F-69CBAA7A2C1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D55B-0A67-4C82-B4AE-B891220198F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A24C-DF3F-4935-AADF-D3BA5D6DF9E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6512-FC22-447E-AF5B-82D6081DDD1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64008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Давление газов</a:t>
            </a:r>
            <a:br>
              <a:rPr sz="4200"/>
            </a:b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 Закон  Паскаля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68360" y="2349000"/>
            <a:ext cx="5400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сосуде под поршнем находитс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аз. Поршень переместили из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ложения А в положение 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динаково ли увеличилось пр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том  давление газа на стен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суда в точках 1, 2, 3, 4 и 5 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5" name="Picture 5" descr="ipoiibiii"/>
          <p:cNvPicPr/>
          <p:nvPr/>
        </p:nvPicPr>
        <p:blipFill>
          <a:blip r:embed="rId1"/>
          <a:stretch/>
        </p:blipFill>
        <p:spPr>
          <a:xfrm>
            <a:off x="6012000" y="2276640"/>
            <a:ext cx="2730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182600" y="2017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сли из мелкокалиберной винтовки выстрелить в      вареное яйцо, в нем образуется отверстие. Есл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же выстрелить в сырое, оно разлетится. Ка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ъяснить это явление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1403280" y="2924280"/>
            <a:ext cx="700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1311120" y="4214880"/>
            <a:ext cx="707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6"/>
          <p:cNvSpPr/>
          <p:nvPr/>
        </p:nvSpPr>
        <p:spPr>
          <a:xfrm>
            <a:off x="1042920" y="414972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694f07"/>
              </a:buClr>
              <a:buFont typeface="Wingdings" charset="2"/>
              <a:buChar char="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взрыв снаряда под водой губителен        для живущих в воде организм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1116000" y="5516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694f07"/>
              </a:buClr>
              <a:buFont typeface="Wingdings" charset="2"/>
              <a:buChar char="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мыльный пузырь имеет форму ша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Итог урока: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839600" y="2133360"/>
            <a:ext cx="73040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ление газа на стенки сосуда и на помещенное в газ тело, вызывается ударами молекул газ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ление газа зависит от температуры и от объема занимаемого данной массой газа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идкости и газы передают давление по всем направлениям одинаков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Домашнее задание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186920" y="3212640"/>
            <a:ext cx="6697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35,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пражнение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4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 - 4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b9899"/>
                </a:solidFill>
                <a:latin typeface="Georgia"/>
              </a:rPr>
              <a:t>Сегодня на уроке …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619280" y="2204640"/>
            <a:ext cx="726912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1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  Почему газ давит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2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  От чего зависит давление газа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3</a:t>
            </a:r>
            <a:r>
              <a:rPr b="1" lang="ru-RU" sz="1600" spc="-1" strike="noStrike">
                <a:solidFill>
                  <a:srgbClr val="cc3300"/>
                </a:solidFill>
                <a:latin typeface="Georgia"/>
              </a:rPr>
              <a:t>   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Как газ передает давление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b9899"/>
                </a:solidFill>
                <a:latin typeface="Georgia"/>
              </a:rPr>
              <a:t>Повторение</a:t>
            </a:r>
            <a:br>
              <a:rPr sz="5400"/>
            </a:b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4788000" y="5445000"/>
            <a:ext cx="1511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46b86"/>
                </a:solidFill>
                <a:latin typeface="Arial"/>
              </a:rPr>
              <a:t>П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468360" y="2421000"/>
            <a:ext cx="53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ла расчета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212400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468360" y="5661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ицы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11" descr="paskal"/>
          <p:cNvPicPr/>
          <p:nvPr/>
        </p:nvPicPr>
        <p:blipFill>
          <a:blip r:embed="rId1"/>
          <a:stretch/>
        </p:blipFill>
        <p:spPr>
          <a:xfrm>
            <a:off x="5940360" y="1268280"/>
            <a:ext cx="2525760" cy="264024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12"/>
          <p:cNvSpPr/>
          <p:nvPr/>
        </p:nvSpPr>
        <p:spPr>
          <a:xfrm>
            <a:off x="5943240" y="4076640"/>
            <a:ext cx="26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каль Бл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23 -16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15"/>
              <p:cNvSpPr txBox="1"/>
              <p:nvPr/>
            </p:nvSpPr>
            <p:spPr>
              <a:xfrm>
                <a:off x="2195640" y="3284640"/>
                <a:ext cx="2376360" cy="21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вторе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з трех одинаковых брусков производит на стол большее давлени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0" name="Picture 4" descr="Изображение1 001"/>
          <p:cNvPicPr/>
          <p:nvPr/>
        </p:nvPicPr>
        <p:blipFill>
          <a:blip r:embed="rId1"/>
          <a:stretch/>
        </p:blipFill>
        <p:spPr>
          <a:xfrm>
            <a:off x="1332000" y="3500280"/>
            <a:ext cx="6840360" cy="26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Новый материал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Почему шарик увеличивает свой объем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4" descr="05d-i1"/>
          <p:cNvPicPr/>
          <p:nvPr/>
        </p:nvPicPr>
        <p:blipFill>
          <a:blip r:embed="rId1"/>
          <a:stretch/>
        </p:blipFill>
        <p:spPr>
          <a:xfrm>
            <a:off x="900000" y="2852640"/>
            <a:ext cx="3600720" cy="188460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6"/>
          <p:cNvSpPr/>
          <p:nvPr/>
        </p:nvSpPr>
        <p:spPr>
          <a:xfrm>
            <a:off x="1258920" y="206064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611280" y="4653000"/>
            <a:ext cx="83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6b86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ление газа на стенки ссуда и на помещенное в 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вызывается ударами молекул г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11" descr="05d-i2"/>
          <p:cNvPicPr/>
          <p:nvPr/>
        </p:nvPicPr>
        <p:blipFill>
          <a:blip r:embed="rId2"/>
          <a:stretch/>
        </p:blipFill>
        <p:spPr>
          <a:xfrm>
            <a:off x="5508720" y="2781360"/>
            <a:ext cx="19144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cb400"/>
                </a:solidFill>
                <a:latin typeface="Georgia"/>
              </a:rPr>
              <a:t>От чего зависит давление газа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Georgia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 температуры газ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 объема, занимаемого газ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9" name="Picture 4" descr="05d-i3"/>
          <p:cNvPicPr/>
          <p:nvPr/>
        </p:nvPicPr>
        <p:blipFill>
          <a:blip r:embed="rId1"/>
          <a:stretch/>
        </p:blipFill>
        <p:spPr>
          <a:xfrm>
            <a:off x="971640" y="2349360"/>
            <a:ext cx="3671640" cy="18241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8" descr="gnjkk"/>
          <p:cNvPicPr/>
          <p:nvPr/>
        </p:nvPicPr>
        <p:blipFill>
          <a:blip r:embed="rId2"/>
          <a:stretch/>
        </p:blipFill>
        <p:spPr>
          <a:xfrm>
            <a:off x="6300720" y="2133720"/>
            <a:ext cx="134640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Как газы и жидкости передают давление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Picture 5" descr="iiigv"/>
          <p:cNvPicPr/>
          <p:nvPr/>
        </p:nvPicPr>
        <p:blipFill>
          <a:blip r:embed="rId1"/>
          <a:stretch/>
        </p:blipFill>
        <p:spPr>
          <a:xfrm>
            <a:off x="468360" y="1844640"/>
            <a:ext cx="2232000" cy="43210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05c-i1"/>
          <p:cNvPicPr/>
          <p:nvPr/>
        </p:nvPicPr>
        <p:blipFill>
          <a:blip r:embed="rId2"/>
          <a:stretch/>
        </p:blipFill>
        <p:spPr>
          <a:xfrm>
            <a:off x="2484360" y="2565360"/>
            <a:ext cx="6121440" cy="18972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4"/>
          <p:cNvSpPr/>
          <p:nvPr/>
        </p:nvSpPr>
        <p:spPr>
          <a:xfrm>
            <a:off x="2627280" y="5084640"/>
            <a:ext cx="59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Закон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дкости и газы передают давление по всем направлениям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343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39280" y="206064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Цифрами 1, 2 и 3 обозначены круглые отверстия, затянутые одинаковыми резиновыми пленками. Когда поршень переместили  из положения А в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К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ложение В, пленки выгнулись наружу. На каком из рисунк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4" descr="Изображение1 004"/>
          <p:cNvPicPr/>
          <p:nvPr/>
        </p:nvPicPr>
        <p:blipFill>
          <a:blip r:embed="rId1"/>
          <a:stretch/>
        </p:blipFill>
        <p:spPr>
          <a:xfrm>
            <a:off x="287280" y="3573360"/>
            <a:ext cx="8856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Picture 5" descr="ghhbfggo"/>
          <p:cNvPicPr/>
          <p:nvPr/>
        </p:nvPicPr>
        <p:blipFill>
          <a:blip r:embed="rId1"/>
          <a:stretch/>
        </p:blipFill>
        <p:spPr>
          <a:xfrm>
            <a:off x="179280" y="2133720"/>
            <a:ext cx="2949840" cy="23526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6"/>
          <p:cNvSpPr/>
          <p:nvPr/>
        </p:nvSpPr>
        <p:spPr>
          <a:xfrm>
            <a:off x="3564000" y="2276640"/>
            <a:ext cx="5172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дном сосуде находится металлический кубик, в другом – вода. Как будут передавать эти тела производимое на них давл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7" descr="ghjj"/>
          <p:cNvPicPr/>
          <p:nvPr/>
        </p:nvPicPr>
        <p:blipFill>
          <a:blip r:embed="rId2"/>
          <a:stretch/>
        </p:blipFill>
        <p:spPr>
          <a:xfrm>
            <a:off x="468360" y="4365720"/>
            <a:ext cx="2232000" cy="192384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12"/>
          <p:cNvSpPr/>
          <p:nvPr/>
        </p:nvSpPr>
        <p:spPr>
          <a:xfrm>
            <a:off x="3419640" y="4437000"/>
            <a:ext cx="540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уд плотно закрыт пробкой, В котор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авлены две трубки. Если подуть в трубку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вод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трубк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  выливается из сосуда .Будет ли вытекать вода из трубк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,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дуть в трубк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б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8:04:20Z</dcterms:created>
  <dc:creator/>
  <dc:description/>
  <dc:language>en-US</dc:language>
  <cp:lastModifiedBy>Пк</cp:lastModifiedBy>
  <dcterms:modified xsi:type="dcterms:W3CDTF">2012-11-05T03:41:45Z</dcterms:modified>
  <cp:revision>18</cp:revision>
  <dc:subject/>
  <dc:title>Давление газов  Закон  Паска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