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C49-BB39-400B-8E10-DB79979F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3B3-A1B7-427B-BBEC-6C85F684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3A536-A25E-4958-9777-49928C7E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5E881-7D5C-4739-B04E-83E4C392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E9E1D-698F-4DF8-A053-BFE520BB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3B8D9-FC19-4C7D-AB5E-CFA4CCC9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8325A-9D29-47D2-8D1E-F77111F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D703D-919A-4219-8BD0-859F9871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C759D-8A8C-4C6B-9C16-5CDB7C3D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F7152-AD30-4F42-BA5A-091C0D4D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6B240-C932-4699-BB95-7BC3B84E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011A6-A6A4-40C0-B899-A0EDB6D5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7B1-4E92-4F98-819B-6302076A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848D4-4578-421F-8E25-166029F9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B2042-8E2F-4DC9-A590-6A6D6BC5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5C760-430A-4BD0-B7D1-6F78A545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4C672-0BE6-4A35-801B-03A565CE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FDE75-0F75-4744-A7CC-B60AD47D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08A63-FB4C-4649-A908-BF1179AE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1C963-7424-4610-9DC8-BFFF189E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A1467-DB46-4C5D-A07F-98DFE63D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73138-A64B-4A63-BFAA-93D4EF6C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79185-66C6-4DE2-B043-EE33F501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845-39F2-41F0-9B46-B8790BDA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BD0E8-7599-4146-9170-18472F84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68810-2B43-46AF-BFBE-2C3F7A21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08514-7FD6-4115-864E-EB5163D3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EB7E5-AF69-46FC-A5ED-B23C28A0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416BB-96A4-4991-9F87-0022324D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EF023-FB37-4D26-BC37-781C6732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E6FAC-EA28-4647-A819-B5254171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2B642-320E-456C-80BA-DB3D4650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76150-E088-4647-BB66-DF83CC2F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D4EE7-45E3-49A0-95FA-B1C02ECB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B18E-15A8-488E-BC4F-90D1CE4E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1EFEE-4526-4853-B4F7-E1DC978C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B42E6-EC93-456A-935D-315E4CC9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E914E-8CAE-4A12-BC85-B213C171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99ADC-0734-4E93-BC2D-D2633732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34A71-2042-47A6-BCB1-3C3872A7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EFCD4-8B3B-4BE6-B24B-8B5D343D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4A3B2-D29E-4E3D-9EB9-B5A455B3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B69C9-07BC-4E0C-8171-35AAC1B6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5052F-7C0F-4E0A-A09C-71182E25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226E4-8A00-41DD-BF03-157CAF2D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21F4-CA41-4EA9-A682-75F442E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054C7-2342-4E8C-B4D1-8B1D3B81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FCF95-C51C-453D-8F8B-07356677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C1FB5-B034-4F58-BDF2-8AF25CEB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C0AA7-1314-44C3-95C5-82B24A7C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44A3B-DB15-46A5-83D5-53DF25FC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980F-CEA2-42BD-AA81-555B8525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4B87-4D50-454B-9E30-2FDCB400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F34E-AB98-4814-BF86-0C2D8D9E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9B2F-28B4-450C-AB7C-3E504FF2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E423-6BF4-43FE-A6A9-EBA53EA8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9FF-77C7-4143-BABD-159AF93B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C902-12F9-4D78-B17A-318CF498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6F44-4CDB-44D3-A59B-9CDF1788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5B07-BB1E-4FEB-8DA7-18454D56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1B05-9A6C-4170-9B7B-479CFDBA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DECB-0003-4F31-9505-5FCFD568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5B37E-D4AA-47CF-977D-C6174E9A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DCB7-13B0-421B-8237-FEAD7952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2853-CADA-4A9C-A8E2-0C6E5FC9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EFF0-DAF5-4429-9DBD-E0D91271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6C7C-D778-49EE-ADC6-2BD70ADF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1ED-6BCD-4E2B-B878-4024E364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A1C2-4D57-4591-95A7-C690E869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ECF79-6C46-48FC-974D-E50C3A17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2266-C3BC-4313-8776-9B7AB3C8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DB09-99A3-4E24-ACF7-3B243030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74A9-E6E6-488F-A2E6-EFDAF003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34C3-9702-4AB7-8D17-88F8518E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8377-0883-43BF-B647-C8CBEFAE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B455-EB34-41EF-B623-7830462A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591F-B386-4BE5-B99F-E5180EFB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0C4E-B442-4401-AE85-D9E67468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E2C-39D6-4997-8197-19062953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9A890-4B70-4D73-9044-1F827B62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C7605-2D20-483D-91A4-E672369E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C97C5-9CBA-49CB-A6E8-B1A2B7AC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6690-6F80-4488-A5DB-F19CCC95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1CA6-A6EA-4D51-A089-0C38C23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5D1E1-9645-4A86-A887-41C4C566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A5F8-D303-4530-98ED-FC66FCCF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3874-7E66-41CA-85B7-EF11C85E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CE6C4-F60B-4607-B637-4A14AC7B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846DE-A269-43CE-A7A8-158878FD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168-2B52-459D-A5A9-31214B2F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F26D-DE2C-45F1-834C-EB96BA4C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7D845-793D-482B-BEB1-6F805E5B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29333-74BD-418B-8917-143DBC67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26C6-56C0-47A3-9BAD-A63B7979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238D-5AF6-40BB-B858-22DEC81D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25D49-E34A-4A38-8A7D-B0746362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7A68C-6F3A-41E1-84AE-A3FDDAA2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B5F97-CBA9-48A3-9FFD-9C9CF968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C0D3-FFFE-459D-BE4F-BE062837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05370-BA90-4B95-9A07-7F97CFE8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8F2-6655-4517-AC0D-07DB63CA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B2721-332B-4263-9724-1E994281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7C31E-935D-4EE2-8AA3-4306EE51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67DDB-81D4-45C0-BE34-66017D91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EA698-2C26-4C8C-94AA-0CA04CDC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1199B-2EC8-4F0C-A60C-5433672B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D283C-4EA9-4339-A430-BB03A330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8A5E9-16D7-49C1-B64E-DF83B538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18D90-1DCF-4095-A301-1FC97F27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E941C-9DC2-45E7-985A-09B03883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2A3CF-903B-4A89-A9A5-6E8BC193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906-F95D-4E3B-97A4-73A666D0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D91A-02C2-45C3-8576-52FE360E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D9952-56B8-4AC9-95EC-45D61EC6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23140-BCB2-4F8B-9E8C-720F5818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F822C-5F8E-434C-90F6-86EFE477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533B1-036E-4251-A8F0-60D3D775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0F03B-3171-4218-9C0C-628DBF39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1D3E4-C3BB-45E7-A187-F1118FD7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FEAF2-2D80-42B8-8250-876C049F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9467F-49A9-4527-B59F-9D0504C0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2DF14-B1AD-4A0C-8EAA-69A3FEC3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6ED-BD3C-4C39-9D31-AE566255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6713-00BB-4828-B286-DE8C9D7C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CF12C-13C7-4528-909A-D63A7E4A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893BF-80FF-4BE1-8669-D080997A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01A25-99E0-41E0-BA1A-B84EEF9D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C7AF7-6DE1-4C4F-A8DF-E4DB0157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70385-4E6F-4E51-B45D-ABA3CCCE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FA76E-019A-4D3D-9160-66397FE5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67870-AEA5-499E-BCAC-7AF1CBD7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C9116-9CCF-4FA0-A6ED-07910387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98784-3C50-47B8-BC32-7DBDBB80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D9B-C925-420F-A344-2B2F9E58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DB30B-1106-4EAE-A9EB-9C07E8D2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B1BB2-DC0B-43A4-A236-CAAC1BB3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E1C1A-5286-4AA8-98B4-DAA3B798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BB459-EA1C-4442-9AEF-76FE2A6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BC5A4-9139-4239-A01E-679B1AE4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B7F81-2877-4563-B5FB-2B24DC2D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4B986-6EDA-4469-8D8D-1C170979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6D95C-BF2D-4971-A9AC-ED876618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575A2-65FE-4E9B-ABE0-09CF63C2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7588F-9842-4445-B218-A4D79E69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B71B-26F4-4F9D-8E4E-A24236C89B4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EAEC-2B5F-4CB3-8382-968CDA89AC1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9DF0-5F86-4D02-8100-75370DA0E67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5A75-C975-4723-BE5A-FE9BCCB3FD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4745-A3AA-4DD5-870A-064E2914C53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2716-F1DF-49A0-BA54-DE659A7B8D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3C3D-DD65-42E0-AE1E-9338D425E2D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88F6-096E-405D-B93A-481733B7E73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ABD9-6C95-45EB-A65E-591CB9FB7D7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57CD-9981-4BB5-84E2-8E859B088D1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A59C-07C1-42F0-B536-A6804D7DF1A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78A3-9D1E-4D15-9F5E-36677150487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авление газов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Закон  Паскал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2349000"/>
            <a:ext cx="540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осуде под поршнем находитс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з. Поршень переместили из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я А в положение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инаково ли увеличилось пр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м  давление газа на ст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уда в точках 1, 2, 3, 4 и 5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ipoiibiii"/>
          <p:cNvPicPr/>
          <p:nvPr/>
        </p:nvPicPr>
        <p:blipFill>
          <a:blip r:embed="rId1"/>
          <a:stretch/>
        </p:blipFill>
        <p:spPr>
          <a:xfrm>
            <a:off x="6012000" y="2276640"/>
            <a:ext cx="273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из мелкокалиберной винтовки выстрелить в      вареное яйцо, в нем образуется отверстие. Есл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 выстрелить в сырое, оно разлетится. Ка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ь это явл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403280" y="2924280"/>
            <a:ext cx="70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311120" y="4214880"/>
            <a:ext cx="707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042920" y="4149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взрыв снаряда под водой губителен        для живущих в воде организ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1116000" y="551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мыльный пузырь имеет форму ш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Итог урока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839600" y="2133360"/>
            <a:ext cx="730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на стенки сосуда и на помещенное в газ тело, вызывается ударами молекул га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зависит от температуры и от объема занимаемого данной массой газ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дкости и газы передают давление по всем направлениям одинак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186920" y="321264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5,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- 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Сегодня на уроке …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619280" y="2204640"/>
            <a:ext cx="72691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1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Почему газ давит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2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От чего зависит давление газа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3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Как газ передает давление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788000" y="5445000"/>
            <a:ext cx="1511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46b86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68360" y="2421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расчета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124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68360" y="566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ы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1" descr="paskal"/>
          <p:cNvPicPr/>
          <p:nvPr/>
        </p:nvPicPr>
        <p:blipFill>
          <a:blip r:embed="rId1"/>
          <a:stretch/>
        </p:blipFill>
        <p:spPr>
          <a:xfrm>
            <a:off x="5940360" y="1268280"/>
            <a:ext cx="2525760" cy="264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2"/>
          <p:cNvSpPr/>
          <p:nvPr/>
        </p:nvSpPr>
        <p:spPr>
          <a:xfrm>
            <a:off x="5943240" y="407664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каль Б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23 -1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5"/>
              <p:cNvSpPr txBox="1"/>
              <p:nvPr/>
            </p:nvSpPr>
            <p:spPr>
              <a:xfrm>
                <a:off x="2195640" y="3284640"/>
                <a:ext cx="23763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трех одинаковых брусков производит на стол большее дав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1332000" y="3500280"/>
            <a:ext cx="68403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вый материа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Почему шарик увеличивает свой объем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05d-i1"/>
          <p:cNvPicPr/>
          <p:nvPr/>
        </p:nvPicPr>
        <p:blipFill>
          <a:blip r:embed="rId1"/>
          <a:stretch/>
        </p:blipFill>
        <p:spPr>
          <a:xfrm>
            <a:off x="900000" y="2852640"/>
            <a:ext cx="3600720" cy="18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258920" y="2060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11280" y="465300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газа на стенки ссуда и на помещенное в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ызывается ударами молекул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05d-i2"/>
          <p:cNvPicPr/>
          <p:nvPr/>
        </p:nvPicPr>
        <p:blipFill>
          <a:blip r:embed="rId2"/>
          <a:stretch/>
        </p:blipFill>
        <p:spPr>
          <a:xfrm>
            <a:off x="5508720" y="2781360"/>
            <a:ext cx="1914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b400"/>
                </a:solidFill>
                <a:latin typeface="Georgia"/>
              </a:rPr>
              <a:t>От чего зависит давление газа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eorgi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температуры г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объема, занимаемого газ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05d-i3"/>
          <p:cNvPicPr/>
          <p:nvPr/>
        </p:nvPicPr>
        <p:blipFill>
          <a:blip r:embed="rId1"/>
          <a:stretch/>
        </p:blipFill>
        <p:spPr>
          <a:xfrm>
            <a:off x="971640" y="2349360"/>
            <a:ext cx="3671640" cy="1824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gnjkk"/>
          <p:cNvPicPr/>
          <p:nvPr/>
        </p:nvPicPr>
        <p:blipFill>
          <a:blip r:embed="rId2"/>
          <a:stretch/>
        </p:blipFill>
        <p:spPr>
          <a:xfrm>
            <a:off x="6300720" y="2133720"/>
            <a:ext cx="1346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к газы и жидкости передают давл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Picture 5" descr="iiigv"/>
          <p:cNvPicPr/>
          <p:nvPr/>
        </p:nvPicPr>
        <p:blipFill>
          <a:blip r:embed="rId1"/>
          <a:stretch/>
        </p:blipFill>
        <p:spPr>
          <a:xfrm>
            <a:off x="468360" y="1844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05c-i1"/>
          <p:cNvPicPr/>
          <p:nvPr/>
        </p:nvPicPr>
        <p:blipFill>
          <a:blip r:embed="rId2"/>
          <a:stretch/>
        </p:blipFill>
        <p:spPr>
          <a:xfrm>
            <a:off x="2484360" y="2565360"/>
            <a:ext cx="6121440" cy="1897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4"/>
          <p:cNvSpPr/>
          <p:nvPr/>
        </p:nvSpPr>
        <p:spPr>
          <a:xfrm>
            <a:off x="2627280" y="5084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кон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и и газы передают давление по всем направлениям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9280" y="206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фрами 1, 2 и 3 обозначены круглые отверстия, затянутые одинаковыми резиновыми пленками. Когда поршень переместили  из положения А 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ожение В, пленки выгнулись наружу. На каком из рисун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Изображение1 004"/>
          <p:cNvPicPr/>
          <p:nvPr/>
        </p:nvPicPr>
        <p:blipFill>
          <a:blip r:embed="rId1"/>
          <a:stretch/>
        </p:blipFill>
        <p:spPr>
          <a:xfrm>
            <a:off x="287280" y="3573360"/>
            <a:ext cx="885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5" descr="ghhbfggo"/>
          <p:cNvPicPr/>
          <p:nvPr/>
        </p:nvPicPr>
        <p:blipFill>
          <a:blip r:embed="rId1"/>
          <a:stretch/>
        </p:blipFill>
        <p:spPr>
          <a:xfrm>
            <a:off x="179280" y="2133720"/>
            <a:ext cx="2949840" cy="23526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3564000" y="2276640"/>
            <a:ext cx="51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сосуде находится металлический кубик, в другом – вода. Как будут передавать эти тела производимое на них д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ghjj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9238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2"/>
          <p:cNvSpPr/>
          <p:nvPr/>
        </p:nvSpPr>
        <p:spPr>
          <a:xfrm>
            <a:off x="3419640" y="443700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плотно закрыт пробкой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ены две трубки. Если подуть в трубку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 выливается из сосуда .Будет ли вытекать вода из трубк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дуть в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04:20Z</dcterms:created>
  <dc:creator/>
  <dc:description/>
  <dc:language>en-US</dc:language>
  <cp:lastModifiedBy>Пк</cp:lastModifiedBy>
  <dcterms:modified xsi:type="dcterms:W3CDTF">2012-11-05T03:41:45Z</dcterms:modified>
  <cp:revision>18</cp:revision>
  <dc:subject/>
  <dc:title>Давление газов  Закон  Паск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