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CB8D-0591-4803-B961-B978CA8B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9DF-D09B-4E90-8EB2-901BD839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C38CE-FC3F-471E-A399-9F4DA0E9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86C9A-0F1D-4DDC-A400-C14B1096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3D3449-0E31-4608-98F0-4C21F5A2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17FDCC-98E8-4291-B040-53F1F94B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766F48-95DF-4EA2-B488-77CC1C17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A9ED0-89C6-425B-B461-5764EC56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6304F-9E90-4C8B-924C-06A55A12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8467E-CEF1-46FF-97A2-C18924E6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7F686-9B72-4DE0-9521-CB390B2D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1F3E4-BC81-4638-B4DD-B9C7D266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E89-80C9-49E5-86E8-6AA83296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DCF22-5ECD-4ACB-B3CA-0DB0E48A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6E76AD-99DF-4D81-ADF8-88988E64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98F9A-0BEC-459A-A56C-886A6F2D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3A5CA-59D6-4297-A9FF-0BE80B09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F87CA-AC31-4EC1-9ADA-00B8600E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FC69E-EFE4-4A7D-AEC4-94894407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CBAC6-0C2B-4A89-866B-32C322D6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59E6C-C9F7-4808-A413-C86EC8CA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FBD21-FC84-45C6-8BE2-0D7C00E7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5AA25-D19A-4B56-8021-8DBE8092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56C-A3AF-468B-92B7-481AA751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70862-7E1C-405E-A24A-47066F81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A5FB2-B6F4-457A-88D5-09040358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C7337-CD0B-4981-9414-3F498DAE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2A750-0E74-45FA-B71D-A019FC36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3DACD-B53F-4152-9616-EBF80A90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42858-24B6-49F5-8F72-C5982E3A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73AC4-7B6B-49AB-B4A8-6BBD8B07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17309-8671-4B24-B05E-2F6668DD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56425-AA90-4C0D-8FFB-562C49AA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E5A86-2260-49B5-917C-D088CAE8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1380-6FE7-4A3F-B16D-DBBBE997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74483-15DD-4195-8DA3-25C091C8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4BA20-869E-4210-8F24-8EF8C7A5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D7BF9-5F6C-4DD7-90EF-FF9482D4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27438-2BD3-4325-A0B4-44887134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311FD-9840-4A64-9A53-34F2E231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24B08E-B37B-4215-BE20-26343DF2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A879AC-E19E-4A08-9535-C95E3D70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816A5-1F7D-46B0-8EB8-CB6182CD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84796-ECB6-48E1-B5B1-5674890B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605443-2328-4819-B269-06265ACD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EBBB-8340-4071-A190-E4121951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EC06C-DBDF-4EBC-9226-0B3BE7E6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D6B88-FC3E-4E2F-8976-9A1D73E5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C45A7-CB68-44A5-9413-87D151AB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07521-A166-4FF4-811E-0EAA3035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47F59-0357-4F2C-AD92-BDC029FB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3CC7-BA32-4166-9859-C860C0B5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2E4C-668E-467E-96D2-E5884AEE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E266-D7D2-43C9-AA9A-441659F9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C210-1AA3-4C67-9360-AEABDF19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03FA-3BEF-44B6-A6B0-778FFA7A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137-6479-4388-A154-7ACC0942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A820-D85A-493E-A4C8-782B11D8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D51E-56F8-4B43-AF47-798E415C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6C72-AA3F-4EB6-8A8F-B45DECD3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2BE0-FF72-467B-8E69-02E49520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1C3D-9931-439B-914F-EE1776D5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7ECE0-7C32-4EC0-9B85-82DBFF38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171FE-D1D0-4C02-A309-FC22EA9E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A1767-DACD-4F07-88F9-3C56E99B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855F7-FB7D-4E2E-8B8B-1A0CEC07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CD184-F133-4322-B8B2-9D6BD62F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4C7-E91C-4662-89AE-02FA58F5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0FF22-A024-42C6-A8A5-51EBB225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DE05-5C34-49D8-82AA-A4A6F714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EE5E7-9AE2-4694-9869-2318D48C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8334-78FA-4A76-BC7E-56C15E1C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681E8-42A6-413F-8AD5-8C4460F7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A1159-0E80-4792-9C56-EAB42F62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6FBDD-0A88-48A7-BC9C-4FE5E5CA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B06B1-0F24-4734-A6F8-950F2ED0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17282-D0CA-4941-B4CF-FA8C6FDA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35AAC-6CE7-4146-AD75-12F2AA4B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5088-EB28-459A-B845-0CB2166F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47232-9327-4A52-ABA9-FF336520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56E99-E1F4-4E98-A287-C35DDDAA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0EFE-6B55-4C74-AEC6-833D4317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6C870-260A-47D2-B014-F6B7B184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2E989-44D9-4A88-9C7F-8C52AF82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1212D-030A-4108-8508-07E3E6B0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9CB06-DD0B-4782-9E2B-5419B858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2B583-FD96-4A3E-BF52-24297A0E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DE557-C8E5-4E50-8A6F-18201A5C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2B845-9536-40AF-B5ED-90F5D027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20B-D1D8-43EA-AD0F-4CAB3502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C5E78-92A8-4820-AC40-4F2F75EA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24F3F-019D-4A4D-B3B4-5080C36D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AB2BF-BAA5-4A39-967D-14B471DF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C175B-DBF5-4E0E-9700-90216A67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727C5-1D0B-4CBF-911D-A9FE1CF3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99650-7E99-44FA-9A29-EF100D61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3847A-6FE7-4A57-B13F-560A26C6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41878-2D96-44BC-9DEC-9ED2F9F3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68541-3C95-4A41-8A5D-94683E69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F166B-0A81-4F81-AB28-CAFAF17E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A4D-E8C3-4E44-BAE7-F1F21317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8B8F3-D2BB-40D1-B0B2-394FC9C7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1E0AD-C9C5-46CB-8F67-D914F95F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9303E-1189-4C43-B4E3-6E4ECB7F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6C1C2-B314-4448-87F4-001D78C1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7D883-8A3A-48E3-A619-15D81955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1D212-5B8C-43D8-AF0F-A36238E1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1DCF4-9F6D-4794-96A9-23087FAF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53F7B-5D4F-42E4-86E8-383D8D07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C09C6-0034-4601-BBD1-97B8DAAD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A6598-33A8-494A-BF41-CF8FF11F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42A-B030-4A19-9CDE-F94A373D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5BE9D-C3B1-4689-8363-B7FB9F90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BA156-274A-407C-9C6F-95FC3337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FAB61-1F3C-45EE-96B8-B0DF050B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2A4D3-4599-48D8-B863-95F94BFB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ADB0C-AE81-4602-901A-BD206501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E25DD-F543-4D6F-8AC6-02992096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C084A-DB1C-4FF9-8005-9AA5E50C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E52F6-A3CD-43D5-B298-644AF39E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65E58-6F5B-44E9-BF70-690BD6C7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2B73C-C9C7-45A4-8062-4BDE9765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516-C39B-4214-B256-CBD14318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A2457-9594-4DAD-8886-84374A51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394B5-95CB-4BE5-A23B-70A7B08F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1171C-5D4B-4E62-BFC2-422136C8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FE5AE-E9B2-47F0-85CF-9963CC63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4DAD3-052C-420B-843D-900310BF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75D4E-8820-4E21-A59E-0283014B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247B7-F25E-4CEE-9FF3-7EB5F487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1B932-3500-4363-AB8A-083DF352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19B7F-BB95-4712-BC40-9B9075F0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F430E-A2D5-4B81-A9D8-0750C0EF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235-42D3-49CE-8EAA-EFC1CACA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1659D-E849-4A4B-B7E5-BBAFBB02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25C1A-7A71-4D1B-8940-A6E9E70C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B322B-C8A7-40C0-9488-6F77117A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AAEBB-81A4-4B8A-B2AA-36ACD8A9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10C7B-0DFE-48C4-9900-892E3009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13497-8AC8-45DB-A048-C5E9DEAB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13CC3-7309-45A3-99E3-E59338E5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2B89B-BD9F-4D5F-973D-81E59FD2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A4D9F-CF3F-4967-9147-52F9489A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627E2-1810-43C7-A9DB-2F75D8A6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BC80-CBBB-4200-A74C-9BAAA5681C9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127F-DE86-49DB-8CAC-45F20AAF400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049F-8FD2-4E17-9866-74EB03DA467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11A2-1801-447B-982E-98356063C1C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3609-6B32-4955-B3E7-93281D42492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45FE-5149-47FD-A3EC-B627C05A91A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A530-5B51-4D1A-A8DB-7643ABEDB29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99B2-CE68-426C-859A-234E4E66DC4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CFD3-58BD-495F-A771-DD80BDACA31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7186-43A2-4447-B759-A5DD353A28C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6D56-80A5-4F19-B7B6-4CABEF0D389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17E9-8604-4C40-8E7D-045AD70A421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Давление газов</a:t>
            </a:r>
            <a:br>
              <a:rPr sz="4200"/>
            </a:b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 Закон  Паскал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68360" y="2349000"/>
            <a:ext cx="540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сосуде под поршнем находитс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аз. Поршень переместили из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ожения А в положение 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инаково ли увеличилось пр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том  давление газа на ст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суда в точках 1, 2, 3, 4 и 5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Picture 5" descr="ipoiibiii"/>
          <p:cNvPicPr/>
          <p:nvPr/>
        </p:nvPicPr>
        <p:blipFill>
          <a:blip r:embed="rId1"/>
          <a:stretch/>
        </p:blipFill>
        <p:spPr>
          <a:xfrm>
            <a:off x="6012000" y="2276640"/>
            <a:ext cx="273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из мелкокалиберной винтовки выстрелить в      вареное яйцо, в нем образуется отверстие. Есл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 выстрелить в сырое, оно разлетится. Ка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ъяснить это явлени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1403280" y="2924280"/>
            <a:ext cx="70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1311120" y="4214880"/>
            <a:ext cx="707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1042920" y="41497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взрыв снаряда под водой губителен        для живущих в воде организ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1116000" y="5516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мыльный пузырь имеет форму ш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Итог урока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839600" y="2133360"/>
            <a:ext cx="73040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на стенки сосуда и на помещенное в газ тело, вызывается ударами молекул газ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зависит от температуры и от объема занимаемого данной массой газ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идкости и газы передают давление по всем направлениям одинаков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186920" y="3212640"/>
            <a:ext cx="6697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35,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пражнение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4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- 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Сегодня на уроке …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619280" y="2204640"/>
            <a:ext cx="726912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1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Почему газ давит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2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От чего зависит давление газа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3</a:t>
            </a: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   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Как газ передает давление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br>
              <a:rPr sz="5400"/>
            </a:b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4788000" y="5445000"/>
            <a:ext cx="1511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46b86"/>
                </a:solidFill>
                <a:latin typeface="Arial"/>
              </a:rPr>
              <a:t>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68360" y="242100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а расчета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212400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68360" y="566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цы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11" descr="paskal"/>
          <p:cNvPicPr/>
          <p:nvPr/>
        </p:nvPicPr>
        <p:blipFill>
          <a:blip r:embed="rId1"/>
          <a:stretch/>
        </p:blipFill>
        <p:spPr>
          <a:xfrm>
            <a:off x="5940360" y="1268280"/>
            <a:ext cx="2525760" cy="26402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12"/>
          <p:cNvSpPr/>
          <p:nvPr/>
        </p:nvSpPr>
        <p:spPr>
          <a:xfrm>
            <a:off x="5943240" y="4076640"/>
            <a:ext cx="26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каль Б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23 -1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15"/>
              <p:cNvSpPr txBox="1"/>
              <p:nvPr/>
            </p:nvSpPr>
            <p:spPr>
              <a:xfrm>
                <a:off x="2195640" y="3284640"/>
                <a:ext cx="237636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трех одинаковых брусков производит на стол большее давлени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4" descr="Изображение1 001"/>
          <p:cNvPicPr/>
          <p:nvPr/>
        </p:nvPicPr>
        <p:blipFill>
          <a:blip r:embed="rId1"/>
          <a:stretch/>
        </p:blipFill>
        <p:spPr>
          <a:xfrm>
            <a:off x="1332000" y="3500280"/>
            <a:ext cx="684036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Новый материа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Почему шарик увеличивает свой объем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4" descr="05d-i1"/>
          <p:cNvPicPr/>
          <p:nvPr/>
        </p:nvPicPr>
        <p:blipFill>
          <a:blip r:embed="rId1"/>
          <a:stretch/>
        </p:blipFill>
        <p:spPr>
          <a:xfrm>
            <a:off x="900000" y="2852640"/>
            <a:ext cx="3600720" cy="18846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1258920" y="2060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611280" y="4653000"/>
            <a:ext cx="83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6b86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газа на стенки ссуда и на помещенное в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вызывается ударами молекул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1" descr="05d-i2"/>
          <p:cNvPicPr/>
          <p:nvPr/>
        </p:nvPicPr>
        <p:blipFill>
          <a:blip r:embed="rId2"/>
          <a:stretch/>
        </p:blipFill>
        <p:spPr>
          <a:xfrm>
            <a:off x="5508720" y="2781360"/>
            <a:ext cx="19144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cb400"/>
                </a:solidFill>
                <a:latin typeface="Georgia"/>
              </a:rPr>
              <a:t>От чего зависит давление газа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eorgi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температуры га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объема, занимаемого газ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4" descr="05d-i3"/>
          <p:cNvPicPr/>
          <p:nvPr/>
        </p:nvPicPr>
        <p:blipFill>
          <a:blip r:embed="rId1"/>
          <a:stretch/>
        </p:blipFill>
        <p:spPr>
          <a:xfrm>
            <a:off x="971640" y="2349360"/>
            <a:ext cx="3671640" cy="1824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gnjkk"/>
          <p:cNvPicPr/>
          <p:nvPr/>
        </p:nvPicPr>
        <p:blipFill>
          <a:blip r:embed="rId2"/>
          <a:stretch/>
        </p:blipFill>
        <p:spPr>
          <a:xfrm>
            <a:off x="6300720" y="2133720"/>
            <a:ext cx="1346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Как газы и жидкости передают давление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Picture 5" descr="iiigv"/>
          <p:cNvPicPr/>
          <p:nvPr/>
        </p:nvPicPr>
        <p:blipFill>
          <a:blip r:embed="rId1"/>
          <a:stretch/>
        </p:blipFill>
        <p:spPr>
          <a:xfrm>
            <a:off x="468360" y="1844640"/>
            <a:ext cx="2232000" cy="4321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05c-i1"/>
          <p:cNvPicPr/>
          <p:nvPr/>
        </p:nvPicPr>
        <p:blipFill>
          <a:blip r:embed="rId2"/>
          <a:stretch/>
        </p:blipFill>
        <p:spPr>
          <a:xfrm>
            <a:off x="2484360" y="2565360"/>
            <a:ext cx="6121440" cy="1897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4"/>
          <p:cNvSpPr/>
          <p:nvPr/>
        </p:nvSpPr>
        <p:spPr>
          <a:xfrm>
            <a:off x="2627280" y="5084640"/>
            <a:ext cx="59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акон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дкости и газы передают давление по всем направлениям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4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9280" y="2060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ифрами 1, 2 и 3 обозначены круглые отверстия, затянутые одинаковыми резиновыми пленками. Когда поршень переместили  из положения А в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К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ложение В, пленки выгнулись наружу. На каком из рисунк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4" descr="Изображение1 004"/>
          <p:cNvPicPr/>
          <p:nvPr/>
        </p:nvPicPr>
        <p:blipFill>
          <a:blip r:embed="rId1"/>
          <a:stretch/>
        </p:blipFill>
        <p:spPr>
          <a:xfrm>
            <a:off x="287280" y="3573360"/>
            <a:ext cx="8856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Picture 5" descr="ghhbfggo"/>
          <p:cNvPicPr/>
          <p:nvPr/>
        </p:nvPicPr>
        <p:blipFill>
          <a:blip r:embed="rId1"/>
          <a:stretch/>
        </p:blipFill>
        <p:spPr>
          <a:xfrm>
            <a:off x="179280" y="2133720"/>
            <a:ext cx="2949840" cy="23526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3564000" y="2276640"/>
            <a:ext cx="51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м сосуде находится металлический кубик, в другом – вода. Как будут передавать эти тела производимое на них давл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ghjj"/>
          <p:cNvPicPr/>
          <p:nvPr/>
        </p:nvPicPr>
        <p:blipFill>
          <a:blip r:embed="rId2"/>
          <a:stretch/>
        </p:blipFill>
        <p:spPr>
          <a:xfrm>
            <a:off x="468360" y="4365720"/>
            <a:ext cx="2232000" cy="192384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2"/>
          <p:cNvSpPr/>
          <p:nvPr/>
        </p:nvSpPr>
        <p:spPr>
          <a:xfrm>
            <a:off x="3419640" y="4437000"/>
            <a:ext cx="54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уд плотно закрыт пробкой, В котор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лены две трубки. Если подуть в трубку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вод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  выливается из сосуда .Будет ли вытекать вода из трубк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дуть в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8:04:20Z</dcterms:created>
  <dc:creator/>
  <dc:description/>
  <dc:language>en-US</dc:language>
  <cp:lastModifiedBy>Пк</cp:lastModifiedBy>
  <dcterms:modified xsi:type="dcterms:W3CDTF">2012-11-05T03:41:45Z</dcterms:modified>
  <cp:revision>18</cp:revision>
  <dc:subject/>
  <dc:title>Давление газов  Закон  Паска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