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90D1-BBE7-4C36-86A9-3651A2A09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43E2-685B-4EAD-929B-9954F38A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1C9BAE-3921-4EB1-A2B5-8BA9ACC6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6AF8C0-A928-4303-9B54-838D231B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C4C05F-D116-4E24-B121-0D74629B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6163A7-F1BD-41CE-A8F3-9840BB1C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B82AFE-F339-455A-B058-35BF44E0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73BE10-0FBE-4187-87B7-00AB6569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B82CAB-3017-4930-B680-FE6AEFEF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68FC19-CFB3-4FFB-A271-FB3CEA636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158F9E-BB3D-49D8-AF97-E580C852C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DF01C1-B45B-41DD-A1F5-E6EA7A9C8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4A78-CFC3-403E-B67C-CF01B17AA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A30AD4-FF01-4786-8561-E9D79C57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807CBA-CFB0-45A1-836B-1596C84E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80A714-70F6-43D4-B677-E3CDF935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470322-F871-4A0B-8C82-757FF954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D0713F-3530-444E-B8BA-CD0EA805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E9FA1E-13C4-4108-AE62-73ABFE16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2C4262-ED0A-4927-8F16-41C455B2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30F592-0059-49F9-BE3E-C964ABCF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246A19-8D70-4FBE-9920-1309391D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49D300-35A0-403C-8DFA-1730C0754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3148-08C5-41DC-B7E2-F6C799A30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D48DDD-D02D-4AAB-BF34-7EA73F562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C2DF20-690E-43BB-9281-1F4A01D67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ED8E98-498F-405F-B4BD-F01D9B31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7B357-D06F-451E-8518-399FBE78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479C09-5383-4F18-9AC2-F61842F0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5624D5-F338-4DEB-A075-C37DCC43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077AB-9F51-4918-B1D7-B03F3EAF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5DE14-0258-466E-A96F-759C791B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DD2D1-864F-4D0B-A44F-B5711777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A13C8-D7E4-480B-86DE-546B0255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6395C-10FC-45C6-974F-8DAD07FF9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347322-1123-44C7-947C-25857050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73DA28-67FD-4615-BFFF-06F86F529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6E481B-619F-4AFA-BDBD-CE989ECB5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046E0C-EF8E-480C-AC1C-8F98646CA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B7CAA7-CDE9-4DE8-A8B5-F3CA860C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5CB66D-1BEC-4C44-A2F5-FA32A7BB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AF44A1-782E-48C5-9609-E1FD29B5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49C004-36C7-4BC3-B230-E03E7606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613D8B-D09C-4265-9719-A58234A0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BECFC2-CEB5-4AA2-BF7D-064DFB81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9576-8E53-4470-AF81-A6E170AB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F2ED86-554A-43E0-BA65-9F5DC6C8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4B0E7C-067A-47F3-A485-D3C17C8E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04255C-9F00-488A-9516-1F339DFF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B75C85-9CA4-4FB1-9FFE-5392D7559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5A53F6-17B6-41D2-9A53-90211AC2C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76CA-EB42-43B4-B678-4A011F90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30E6-522D-4FDE-98EA-8A60D082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B415-2E17-4F99-A7D1-CEC4058D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9B04-E09E-4AB6-B513-67E227D2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C40D-A632-48A8-8E48-D790BCDD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EEBF-9B04-4903-9807-972D59E0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E4ED-A86D-410A-9C36-72D9DF92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3038-5C6D-406C-9E38-AAC295D0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25D6E-1899-4667-B4E3-FB68BE68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ABCA-E421-4A8E-9F36-B69C96693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4C08-F799-4688-A404-A9A3CED59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59005-5D70-4A0E-85BD-F1F46DAD7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E1291-4010-4901-A612-B308A0B7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81E14-59F3-4E09-A5BF-C8FB72EC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5865C-786A-45D5-BB7E-1AC3E66A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74352-C557-44C2-BF41-5315B29A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F5D1-7D1B-47D4-AA6A-BC5A2D69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69770-6DE0-4AF4-97B9-2ECD9CF5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DAC9D-D9AF-459F-A971-20760E32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760C6-ADB3-431E-A408-890A10E2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DB721-DED6-4AFD-9858-3B20D9A7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8EF03-7946-4BC2-96E6-3AAF290D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BEDBD-61E4-4F1F-AD53-CCE0AAC89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FF2C5-FACC-478A-96A9-21D524961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F76A9-883B-4DB1-BD23-42E26A70B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4D8DD-AF72-4339-8836-F6FDF29F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6B7A3-F157-4157-BB2D-C36137F3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6BCE-D12C-42E2-92A3-C7B98A84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97086-9B85-40BF-828C-83C8F262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70103-97FA-413A-B0AB-3BD48AD1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6E6C5-4232-46B2-B965-8691AE69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824C6-1468-4942-A926-234A78DE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948B6-13EF-411D-941D-A4931EB7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94728-2C31-4673-B21F-A797E030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8E0A9-8342-4C13-8DBE-FAD4BC3F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99CBA-E5FC-4CFD-A9EB-683D82B4F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2C6CE-AABD-42BC-AADA-D40742233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8DBF5-C2CA-4D61-9923-4D6525893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B911-BE9C-4397-A315-798A6BD9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2A7BC-9AC6-4199-B64B-A4B5D5F5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5A148-6A5F-4A78-81D6-E06E6CF8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73A21-B87D-4A9F-B02F-876C8433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9DC6C-D7A0-4460-A45E-73774345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AB17C-51DA-42D1-AD02-6E1FC1E0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86BC7-96AF-46B7-AD22-67C50C3E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90E3A-1FE3-4B08-BDA2-F286FB25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E61FD-4F00-4CD6-A56B-45FBDEF1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7AE82-CEB6-44C8-B8A4-9AF8BE03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2C316-5F0B-452C-88FA-E965E1789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68AD-8997-4EFF-9059-04235FDE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736D0-419F-465C-9DF7-CA167CCBE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9799C-B530-4B10-903E-C15716A3C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C56A5-C748-4DFA-BC2C-E659403E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D26A9-9B6F-4116-B12B-203A8734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0D10D-ACA7-4148-9C7C-4AB659F5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621D8-B1E0-4015-8D4C-D8511731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948D6-F658-477B-A7BB-36FB73D1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5342D-448E-4332-8AA0-67413DC0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2FB95-3D93-454D-8031-BD1DBDDA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E243C-9199-4B5B-9042-8375D930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84B1-5F5C-45EA-B171-1493F10B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D50AF-018F-4785-8897-181C7A3E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B6328-7E12-4E5B-AD7A-873B585DC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14EE4-DDCA-4FA1-98C9-7757A1D14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704C8-6486-4830-B829-B0EC70569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7419B-0095-4E69-B57F-6E4B8BF4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F3F7E-41D0-494F-B33D-EE1677BA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BAB33-25D9-4EF1-8E50-9F623B78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33A31-8454-460D-B039-027C6F64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3C44B-9139-4338-9568-FD0667C4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3B2BA-EBE9-4B9F-BADF-04510232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7F49-DBFA-4A47-BB04-B6A368CB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95874-A801-4E2C-A633-CF8D6059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852A7-6291-4F3D-B70D-4FC6EADE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98EE0-1CEE-4982-9169-0050F010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C09CE-2CA0-4B71-BC89-F2DB7393B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2DAF6-2D6A-42AA-A338-C2673E5B5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A2442-3B79-4A1B-9557-181FE2C8F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2645F-5787-402E-A2F0-2ABAD878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D52AC-7005-4795-BEF0-B5C9A09A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10A41-B045-4210-B09B-2C2C413F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067F5-3C86-4A04-B336-86C2DB92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3857-F390-4D22-8ECD-27FF7832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D0848-7601-4362-ADA5-8679AADB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13B3C-488F-40BF-8903-D8F1E874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218A2-A03D-4546-BA1A-0C7ADB92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687C9-C774-475C-B7F1-F27A4363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309AF-D8C2-46B4-8F36-0C65952A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BD938-A0FD-4528-BAD0-8CCB1F0F1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4EBF5-32E6-4F5B-BA68-697DA2513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E1F100-AD2F-45F0-8C08-EA0B56940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E163C3-EB94-4AB1-9123-DB3776F4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8702F5-4452-41FA-BF7E-1A27B55A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7648-37AC-4C12-9898-1C368FEBECB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55A9-8D8B-491E-B7C8-ADA51A72B7F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B91B-FFE1-400E-9F04-F610FE7E705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5197-72C3-4E35-8FC2-C45D36FAC2F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99D7-F39A-40D8-ABCA-26C33566FA8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6E93-6999-45B0-920D-ED72E9E8AAA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A89C-9728-4334-8469-F92232BE845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47FD-3A18-4C0B-AE4C-F77794FE1AE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A5E2-C876-4273-93F7-48B13A91A94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D32D-7F68-4E24-A427-47DAA57ECC7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D0E7-32E8-4C8D-BF18-91295A5D8F82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F417-6EE2-4319-9EEF-5BF71580618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3789360"/>
            <a:ext cx="64008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ЛАДАНОВА И.В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МКОУ «ВЕРХ-ЖИЛИНСКАЯ ООШ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d16349"/>
                </a:solidFill>
                <a:latin typeface="Georgia"/>
              </a:rPr>
              <a:t>Давление газов</a:t>
            </a:r>
            <a:br>
              <a:rPr sz="4200"/>
            </a:br>
            <a:r>
              <a:rPr b="0" lang="ru-RU" sz="4200" spc="-1" strike="noStrike">
                <a:solidFill>
                  <a:srgbClr val="d16349"/>
                </a:solidFill>
                <a:latin typeface="Georgia"/>
              </a:rPr>
              <a:t> Закон  Паскаля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929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b9899"/>
                </a:solidFill>
                <a:latin typeface="Georgia"/>
              </a:rPr>
              <a:t>Ответим на вопросы…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68360" y="2349000"/>
            <a:ext cx="54007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сосуде под поршнем находится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газ. Поршень переместили из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ложения А в положение В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динаково ли увеличилось при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том  давление газа на стенк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суда в точках 1, 2, 3, 4 и 5 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5" name="Picture 5" descr="ipoiibiii"/>
          <p:cNvPicPr/>
          <p:nvPr/>
        </p:nvPicPr>
        <p:blipFill>
          <a:blip r:embed="rId1"/>
          <a:stretch/>
        </p:blipFill>
        <p:spPr>
          <a:xfrm>
            <a:off x="6012000" y="2276640"/>
            <a:ext cx="27302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b9899"/>
                </a:solidFill>
                <a:latin typeface="Georgia"/>
              </a:rPr>
              <a:t>Ответим на вопросы…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1182600" y="2017440"/>
            <a:ext cx="7772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Если из мелкокалиберной винтовки выстрелить в      вареное яйцо, в нем образуется отверстие. Если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же выстрелить в сырое, оно разлетится. Как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ъяснить это явление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Text Box 4"/>
          <p:cNvSpPr/>
          <p:nvPr/>
        </p:nvSpPr>
        <p:spPr>
          <a:xfrm>
            <a:off x="1403280" y="2924280"/>
            <a:ext cx="7004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5"/>
          <p:cNvSpPr/>
          <p:nvPr/>
        </p:nvSpPr>
        <p:spPr>
          <a:xfrm>
            <a:off x="1311120" y="4214880"/>
            <a:ext cx="7077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6"/>
          <p:cNvSpPr/>
          <p:nvPr/>
        </p:nvSpPr>
        <p:spPr>
          <a:xfrm>
            <a:off x="1042920" y="414972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buClr>
                <a:srgbClr val="694f07"/>
              </a:buClr>
              <a:buFont typeface="Wingdings" charset="2"/>
              <a:buChar char=""/>
              <a:tabLst>
                <a:tab algn="l" pos="36504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чему взрыв снаряда под водой губителен        для живущих в воде организм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8"/>
          <p:cNvSpPr/>
          <p:nvPr/>
        </p:nvSpPr>
        <p:spPr>
          <a:xfrm>
            <a:off x="1116000" y="551664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buClr>
                <a:srgbClr val="694f07"/>
              </a:buClr>
              <a:buFont typeface="Wingdings" charset="2"/>
              <a:buChar char=""/>
              <a:tabLst>
                <a:tab algn="l" pos="36504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чему мыльный пузырь имеет форму ша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b9899"/>
                </a:solidFill>
                <a:latin typeface="Georgia"/>
              </a:rPr>
              <a:t>Итог урока: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839600" y="2133360"/>
            <a:ext cx="73040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авление газа на стенки сосуда и на помещенное в газ тело, вызывается ударами молекул газ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авление газа зависит от температуры и от объема занимаемого данной массой газа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Жидкости и газы передают давление по всем направлениям одинаково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Домашнее задание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1186920" y="3212640"/>
            <a:ext cx="6697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§ </a:t>
            </a: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35, 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Упражнение 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14</a:t>
            </a: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1 - 4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929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b9899"/>
                </a:solidFill>
                <a:latin typeface="Georgia"/>
              </a:rPr>
              <a:t>Сегодня на уроке …</a:t>
            </a:r>
            <a:endParaRPr b="0" lang="en-US" sz="5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619280" y="2204640"/>
            <a:ext cx="7269120" cy="36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94f07"/>
                </a:solidFill>
                <a:latin typeface="Georgia"/>
              </a:rPr>
              <a:t>1</a:t>
            </a:r>
            <a:r>
              <a:rPr b="1" lang="ru-RU" sz="2900" spc="-1" strike="noStrike">
                <a:solidFill>
                  <a:srgbClr val="cc3300"/>
                </a:solidFill>
                <a:latin typeface="Georgia"/>
              </a:rPr>
              <a:t>   Почему газ давит?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590400" indent="-590400">
              <a:spcBef>
                <a:spcPts val="726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590400" indent="-59040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94f07"/>
                </a:solidFill>
                <a:latin typeface="Georgia"/>
              </a:rPr>
              <a:t>2</a:t>
            </a:r>
            <a:r>
              <a:rPr b="1" lang="ru-RU" sz="2900" spc="-1" strike="noStrike">
                <a:solidFill>
                  <a:srgbClr val="cc3300"/>
                </a:solidFill>
                <a:latin typeface="Georgia"/>
              </a:rPr>
              <a:t>   От чего зависит давление газа?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590400" indent="-590400">
              <a:spcBef>
                <a:spcPts val="726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590400" indent="-59040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c33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694f07"/>
                </a:solidFill>
                <a:latin typeface="Georgia"/>
              </a:rPr>
              <a:t>3</a:t>
            </a:r>
            <a:r>
              <a:rPr b="1" lang="ru-RU" sz="1600" spc="-1" strike="noStrike">
                <a:solidFill>
                  <a:srgbClr val="cc3300"/>
                </a:solidFill>
                <a:latin typeface="Georgia"/>
              </a:rPr>
              <a:t>   </a:t>
            </a:r>
            <a:r>
              <a:rPr b="1" lang="ru-RU" sz="2900" spc="-1" strike="noStrike">
                <a:solidFill>
                  <a:srgbClr val="cc3300"/>
                </a:solidFill>
                <a:latin typeface="Georgia"/>
              </a:rPr>
              <a:t>Как газ передает давление?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b9899"/>
                </a:solidFill>
                <a:latin typeface="Georgia"/>
              </a:rPr>
              <a:t>Повторение</a:t>
            </a:r>
            <a:br>
              <a:rPr sz="5400"/>
            </a:br>
            <a:endParaRPr b="0" lang="en-US" sz="5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4788000" y="5445000"/>
            <a:ext cx="151128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646b86"/>
                </a:solidFill>
                <a:latin typeface="Arial"/>
              </a:rPr>
              <a:t>П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6"/>
          <p:cNvSpPr/>
          <p:nvPr/>
        </p:nvSpPr>
        <p:spPr>
          <a:xfrm>
            <a:off x="468360" y="2421000"/>
            <a:ext cx="532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ула расчета д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7"/>
          <p:cNvSpPr/>
          <p:nvPr/>
        </p:nvSpPr>
        <p:spPr>
          <a:xfrm>
            <a:off x="2124000" y="515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8"/>
          <p:cNvSpPr/>
          <p:nvPr/>
        </p:nvSpPr>
        <p:spPr>
          <a:xfrm>
            <a:off x="468360" y="566100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диницы д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11" descr="paskal"/>
          <p:cNvPicPr/>
          <p:nvPr/>
        </p:nvPicPr>
        <p:blipFill>
          <a:blip r:embed="rId1"/>
          <a:stretch/>
        </p:blipFill>
        <p:spPr>
          <a:xfrm>
            <a:off x="5940360" y="1268280"/>
            <a:ext cx="2525760" cy="2640240"/>
          </a:xfrm>
          <a:prstGeom prst="rect">
            <a:avLst/>
          </a:prstGeom>
          <a:ln w="0">
            <a:noFill/>
          </a:ln>
        </p:spPr>
      </p:pic>
      <p:sp>
        <p:nvSpPr>
          <p:cNvPr id="616" name="Text Box 12"/>
          <p:cNvSpPr/>
          <p:nvPr/>
        </p:nvSpPr>
        <p:spPr>
          <a:xfrm>
            <a:off x="5943240" y="4076640"/>
            <a:ext cx="26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скаль Бле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623 -16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Object 15"/>
              <p:cNvSpPr txBox="1"/>
              <p:nvPr/>
            </p:nvSpPr>
            <p:spPr>
              <a:xfrm>
                <a:off x="2195640" y="3284640"/>
                <a:ext cx="2376360" cy="21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овторение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й из трех одинаковых брусков производит на стол большее давление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0" name="Picture 4" descr="Изображение1 001"/>
          <p:cNvPicPr/>
          <p:nvPr/>
        </p:nvPicPr>
        <p:blipFill>
          <a:blip r:embed="rId1"/>
          <a:stretch/>
        </p:blipFill>
        <p:spPr>
          <a:xfrm>
            <a:off x="1332000" y="3500280"/>
            <a:ext cx="6840360" cy="26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Новый материал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755640" y="191628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Georgia"/>
              </a:rPr>
              <a:t>Почему шарик увеличивает свой объем?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3" name="Picture 4" descr="05d-i1"/>
          <p:cNvPicPr/>
          <p:nvPr/>
        </p:nvPicPr>
        <p:blipFill>
          <a:blip r:embed="rId1"/>
          <a:stretch/>
        </p:blipFill>
        <p:spPr>
          <a:xfrm>
            <a:off x="900000" y="2852640"/>
            <a:ext cx="3600720" cy="188460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6"/>
          <p:cNvSpPr/>
          <p:nvPr/>
        </p:nvSpPr>
        <p:spPr>
          <a:xfrm>
            <a:off x="1258920" y="2060640"/>
            <a:ext cx="66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9"/>
          <p:cNvSpPr/>
          <p:nvPr/>
        </p:nvSpPr>
        <p:spPr>
          <a:xfrm>
            <a:off x="611280" y="4653000"/>
            <a:ext cx="833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6b86"/>
                </a:solidFill>
                <a:latin typeface="Arial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вление газа на стенки ссуда и на помещенное в г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о вызывается ударами молекул г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11" descr="05d-i2"/>
          <p:cNvPicPr/>
          <p:nvPr/>
        </p:nvPicPr>
        <p:blipFill>
          <a:blip r:embed="rId2"/>
          <a:stretch/>
        </p:blipFill>
        <p:spPr>
          <a:xfrm>
            <a:off x="5508720" y="2781360"/>
            <a:ext cx="191448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ccb400"/>
                </a:solidFill>
                <a:latin typeface="Georgia"/>
              </a:rPr>
              <a:t>От чего зависит давление газа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Georgia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 температуры газ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 объема, занимаемого газо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9" name="Picture 4" descr="05d-i3"/>
          <p:cNvPicPr/>
          <p:nvPr/>
        </p:nvPicPr>
        <p:blipFill>
          <a:blip r:embed="rId1"/>
          <a:stretch/>
        </p:blipFill>
        <p:spPr>
          <a:xfrm>
            <a:off x="971640" y="2349360"/>
            <a:ext cx="3671640" cy="182412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8" descr="gnjkk"/>
          <p:cNvPicPr/>
          <p:nvPr/>
        </p:nvPicPr>
        <p:blipFill>
          <a:blip r:embed="rId2"/>
          <a:stretch/>
        </p:blipFill>
        <p:spPr>
          <a:xfrm>
            <a:off x="6300720" y="2133720"/>
            <a:ext cx="134640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Как газы и жидкости передают давление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2" name="Picture 5" descr="iiigv"/>
          <p:cNvPicPr/>
          <p:nvPr/>
        </p:nvPicPr>
        <p:blipFill>
          <a:blip r:embed="rId1"/>
          <a:stretch/>
        </p:blipFill>
        <p:spPr>
          <a:xfrm>
            <a:off x="468360" y="1844640"/>
            <a:ext cx="2232000" cy="432108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6" descr="05c-i1"/>
          <p:cNvPicPr/>
          <p:nvPr/>
        </p:nvPicPr>
        <p:blipFill>
          <a:blip r:embed="rId2"/>
          <a:stretch/>
        </p:blipFill>
        <p:spPr>
          <a:xfrm>
            <a:off x="2484360" y="2565360"/>
            <a:ext cx="6121440" cy="189720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14"/>
          <p:cNvSpPr/>
          <p:nvPr/>
        </p:nvSpPr>
        <p:spPr>
          <a:xfrm>
            <a:off x="2627280" y="5084640"/>
            <a:ext cx="590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Закон Паска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дкости и газы передают давление по всем направлениям одина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476000" y="189000"/>
            <a:ext cx="7343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b9899"/>
                </a:solidFill>
                <a:latin typeface="Georgia"/>
              </a:rPr>
              <a:t>Ответим на вопросы…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539280" y="206064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Цифрами 1, 2 и 3 обозначены круглые отверстия, затянутые одинаковыми резиновыми пленками. Когда поршень переместили  из положения А в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.К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ложение В, пленки выгнулись наружу. На каком из рисунков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7" name="Picture 4" descr="Изображение1 004"/>
          <p:cNvPicPr/>
          <p:nvPr/>
        </p:nvPicPr>
        <p:blipFill>
          <a:blip r:embed="rId1"/>
          <a:stretch/>
        </p:blipFill>
        <p:spPr>
          <a:xfrm>
            <a:off x="287280" y="3573360"/>
            <a:ext cx="885672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b9899"/>
                </a:solidFill>
                <a:latin typeface="Georgia"/>
              </a:rPr>
              <a:t>Ответим на вопросы…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9" name="Picture 5" descr="ghhbfggo"/>
          <p:cNvPicPr/>
          <p:nvPr/>
        </p:nvPicPr>
        <p:blipFill>
          <a:blip r:embed="rId1"/>
          <a:stretch/>
        </p:blipFill>
        <p:spPr>
          <a:xfrm>
            <a:off x="179280" y="2133720"/>
            <a:ext cx="2949840" cy="235260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6"/>
          <p:cNvSpPr/>
          <p:nvPr/>
        </p:nvSpPr>
        <p:spPr>
          <a:xfrm>
            <a:off x="3564000" y="2276640"/>
            <a:ext cx="5172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дном сосуде находится металлический кубик, в другом – вода. Как будут передавать эти тела производимое на них давл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7" descr="ghjj"/>
          <p:cNvPicPr/>
          <p:nvPr/>
        </p:nvPicPr>
        <p:blipFill>
          <a:blip r:embed="rId2"/>
          <a:stretch/>
        </p:blipFill>
        <p:spPr>
          <a:xfrm>
            <a:off x="468360" y="4365720"/>
            <a:ext cx="2232000" cy="192384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12"/>
          <p:cNvSpPr/>
          <p:nvPr/>
        </p:nvSpPr>
        <p:spPr>
          <a:xfrm>
            <a:off x="3419640" y="4437000"/>
            <a:ext cx="5400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уд плотно закрыт пробкой, В котор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авлены две трубки. Если подуть в трубку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вод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ез трубку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  выливается из сосуда .Будет ли вытекать вода из трубки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,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одуть в трубку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б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08:04:20Z</dcterms:created>
  <dc:creator/>
  <dc:description/>
  <dc:language>en-US</dc:language>
  <cp:lastModifiedBy>Пк</cp:lastModifiedBy>
  <dcterms:modified xsi:type="dcterms:W3CDTF">2012-11-05T03:41:45Z</dcterms:modified>
  <cp:revision>18</cp:revision>
  <dc:subject/>
  <dc:title>Давление газов  Закон  Паскал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