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D0FB-2954-4A49-B77D-957461AEA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3F63-F863-497A-89DE-36ED8AF30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77606D-C767-4AC2-B36D-858953930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783CC5-1018-45D2-A261-A2A67B611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812D03-1AC1-4D35-930B-FC776651F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B8DBDC-7CCE-42C9-B215-43317CA9A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A54E9E-EFCC-46E3-B98C-7302A007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7CC77D-1759-4F6D-9FA7-FB9502F2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96BEC1-7579-471D-8F7F-E695975FF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5213CF-C251-4D18-90B9-F176B80E9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33A949-0425-4379-AD4F-62C1A876B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E7E89F-0F86-4A66-9E3C-76B66D1E9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44D0-EC51-4596-AEA4-A56366251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F16A00-D782-4AD0-B957-4E73CCDFE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D61F74-AFDD-4282-943A-2CC359957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83EA7A-2A98-44F5-960C-D366DD7CC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E7606F-85E8-460D-BD38-E2A9F1056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D858CE-0EFA-4A49-865E-40D217CF1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60D43D-DBBC-4F0F-A5F1-B38CE01E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C3C173-868A-419D-B5A9-9CB613E0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673301-E6DF-427F-8E85-AEECF4CAC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A82814-6C5F-466A-BB43-79AEFE0F6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FFC403-6A2A-4197-9F95-05A51672A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BCCE-9492-4964-BB96-60AA5271F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0A98B0-B3F5-4199-975A-528D80369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21AAB3-11D8-497B-84E2-67EB6A9D2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3987C1-6534-416C-95CC-887138BCB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28949F-BC63-48DE-AEF5-A317FD8F0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9E19E9-5A61-43EB-AB5F-92FF31E15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071627-6069-462D-9703-B1FE06A53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768619-51B7-4607-B920-521B2638E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1C1521-23C8-4EE3-8961-AB1F4D4B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33C9EC-E1BF-41D1-8046-733C4FC0C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7BA056-A60B-4913-8E3A-66FDB290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C0240-A94D-4750-B352-EB66D0F42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25D4BF-4B1D-437C-B5BB-A5A2F60CB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A8C533-2674-4106-8106-54EEB79A1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8ECDAB-1C08-4EA6-9F10-C5BBB7C48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3ACE0C-F09B-44DA-AA6F-065488B43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D09D37-CFBE-42ED-B913-F40D57DDF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DBD936-18AD-4626-9CE7-2BF037F4E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8974FF-3214-4FFE-92FB-E75D22729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0CCE21-B41B-44A0-B72C-4B02CF9E5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E1759E-6371-4A5E-9ECC-CDE10AA8F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FCD6E9-3AA1-4A3D-8A86-7C43922D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69853-E1E4-495B-84BF-4FC312EE9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502820-88DC-46C7-828E-D311A8B0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6FBD39-57F1-4D6E-BF31-9B7A9A2C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2BA813-EB65-4D12-BCB4-1AC800E13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5D2D50-C66F-4C1B-ADD6-60CA6BA6C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970E3C-EFD6-4C65-918A-92FFAA234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F819AC-1880-4F02-87BC-E5B970EB4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92AFCC-C3D1-46A0-B7E9-6C68C8B18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545B5D-3EEB-4611-8CDC-27FE321E8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1FC100-FA6D-4859-8B09-67F605703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CB04A3-AE67-4078-8E83-1EE955877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BA9D0-D6C3-4912-A707-70211CA83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7DD92B-341E-457F-9BC3-80259899D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4E6A49-FC9E-490F-89B5-5E542CCF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917CB8-E7EB-459A-88F0-62E6F167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8A4899-D327-4789-83BB-94E048413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EE6405-5BDA-4221-8C2C-DA636E29A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5B6B29-A8CF-4DF0-AA6D-6AB84EBFF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5590C4-AADD-412F-A304-1FC23DC09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04D455-8581-4812-809B-7A7A79F8B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40B5F3-8176-4634-B1AB-7ABC0FDC8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961C35-735C-4FFF-BA2B-7AE0EA700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E0103-F03E-4352-B0CB-9D432103B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8D72AE-A314-49BE-B5AD-5EE6AF5F7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2ECF17-7E80-41A0-99A4-A3B0942E7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6DECFD-52EB-4D55-B93E-C38C7CC06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7ED1D0-1B93-4A7E-95FF-1064B539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331C12-6CF5-49A8-89D5-21A545B7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AD3B87-9382-4DD0-90CB-2E8DD0DDE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98B08A-8730-4FD7-8194-43A37C7BE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4A7484-487A-4DD0-A995-206C15E34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8C38F4-B217-4BD9-B730-50B61EE3C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B8523-AE2F-421B-9B19-2F0125E5E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D6D1A-B8A4-4074-8ECA-06769BDCA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7EA88-5B66-4C7F-AB32-B1F2F7B8F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B13E-7010-48BF-896A-0996200E8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4DD81-B208-419C-9092-D85D2B1E8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53B89-2242-4AF3-8822-C14DABFB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11793-319B-46FE-A5CA-485B84954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2CCA5-E3E4-44F7-9827-96E687E22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A7102-B469-4045-BFC0-AA04C524C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54ED1-3B2E-481B-BF5E-01BAE9F20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6CB95-AEFD-4C12-BF4F-F1F4BC89C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05CC4-5937-4B83-9F64-B29112B11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93BE5-03B7-41B2-AEAA-8C64FFF8F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EDBF6-DA95-4391-B7FE-367C821EE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5EDB-9615-4119-B451-C153E1A60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E4ADD-B836-475D-890F-82D1527D3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524B1-1BDE-4163-891F-65940089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E8BF7-E3D1-47AD-B649-3EBC3F408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680E2-D75D-42A8-8BE5-087F2363C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DF498-8FF2-4327-AB47-16C4D1631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A8563-C868-40A4-886D-727C96020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0010A-34BE-4307-9E12-96CC19EB2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B75EE-BECC-4D34-A022-DC844A4CD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D7700-DD71-476C-98ED-0C40C5F4E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D8C52-229D-4344-81B3-57C4FBC96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C632-63F1-4106-AD5C-06A3FB8B3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04E20-5445-4032-8BF9-8796D1A04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FC5F8-AAB5-40F3-B11D-9549A3A88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60FB2-38B8-479E-BD86-320D76D16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04C6E-0331-41B0-8B5A-4E2451A7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A6709-2398-4B20-BB8C-E91A8A98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AD134-4300-43D0-8B2C-93E0D250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19183-4B24-40C8-B128-B16867036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88F64-065E-48FD-9FC6-120CC07DF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C0B41-B19D-406E-89EC-0957CFA9A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0E5AB-0BFF-4258-925B-7FD33A48B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340B-6C36-4054-AD84-DF87A3163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450646-E9CD-4A42-9FBE-313951BD7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3F7667-B047-4148-8C16-C7AF140A0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CF7B2A-1EA2-4234-8F7E-F7FB47806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0F446B-067E-4206-B35E-35AE29053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8C369B-D930-41FA-9E1B-5601F8E20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0E3885-EA1E-4D52-9113-8E0F94EE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49E2A2-66F0-4D14-B6AE-294CD268F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B5519-C734-4161-9440-CF1548C48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C15E0-7E16-4590-BBF6-E61F3D146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24778E-1477-45EE-B49D-E3866FA6E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F435-A541-42EC-AA4D-3743F2A02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40D397-5877-4B15-BEF2-66DE9FF4B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6829E0-6414-4C07-98E0-2D7765ACC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3ECCB2-CB0C-42A4-AA41-200367C8C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77A161-8AF4-4A36-9554-AC5DB00BC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CB040D-50F1-4E34-9D99-7A1370C14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64DA29-2435-401C-8D41-E818F980F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6FCB8B-74C5-47F3-980C-B22642945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A29410-2EAB-4B3D-A23B-E3730402F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A4FF7E-BE0D-4E2F-AFAD-4F6837BA8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D5E288-C7A3-4672-B1ED-C567E5976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A22C-42FF-420D-9CC3-BA2732F9C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244187-AEE4-4FB0-90D8-0339799F7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18438D-4230-412A-9858-D14C190FF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313E02-F810-4F3A-8F3A-6398EF79A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CFDA70-232E-4629-964E-5674B69B7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EFE6C7-0EFD-4741-8FED-6FF2BACDD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5D28CB-BD21-426B-B6F1-83A8AA91C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21D7F9-DF7A-4BDE-BA12-8F5354D7F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A968CF-D3DC-47A4-BC7A-59C3F1106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8FA6A9-456E-4BDD-88EC-162B3C7AD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2C45B4-67E8-49FC-A79C-77AC20F4E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868C-DB9C-4F7F-BD4D-684E5818A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86F312-B1BB-4092-B56D-85004C98B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FA5C7A-85EA-4A8B-B5B8-CE4F2A1A0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097DC4-F1F2-4C38-8157-8C0BFA286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CD006E-B646-434F-81F1-C81319145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5DA5F6-9902-4DCD-A891-816578C13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68670C-F64F-4206-81EE-D3E7ECA42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BCC56C-F41D-4923-9AFA-A6CBC109E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8030D2-A6D0-49CE-9963-F0990C424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C6F936-E597-4DC5-98E0-72884AA72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F176FE-E5D3-41B0-AD0C-869BBF52F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73D6-D521-47CF-ADC1-B56C2027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E1E285-C42F-4108-AEC2-3FCD0E0DB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38346C-4207-48C9-9B97-399A97D0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4E7AC9-627C-405F-9FB7-EFBD78CD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63B591-D5F3-41C9-B556-222D5D19E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38FEBB-1B50-4958-8DDA-7D6D835B6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3DB13E-C653-48A3-9591-A9693E5AC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CEB154-26D3-4099-AB58-CEAD03A01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490AE4-F2ED-4D3D-988A-A6EC68286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F984E6-7655-4A0F-B042-9369C9507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F06E00-1B2F-403A-9105-B85774B8B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A976C-5720-4677-B8A1-413074519A7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42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222AC-F5AE-410A-AA78-14B9852F907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9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94260-8F9D-4E4F-9DDD-24F46E6A70E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4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FE196-A40F-4C51-BC60-4B4AA7AD0B9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89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3B874-EC66-47BB-9EB2-F365A08CFCC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7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638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38631-4F03-4B87-B934-F0E5632CA95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30958-1052-4127-855C-9EAF5ECEF76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99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52246-A073-42D2-BB9A-857CAE5C576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48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0168C-0961-4F65-83A4-55A1D523CC2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97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47582-981D-4D97-A2AD-79F3A7788B3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246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621E4-832C-4C22-AF4F-8D94B90C644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295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DF24E-817D-40C8-BE48-A9BC48A7EBC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344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FC75E-56BF-4E6F-88E3-3FEB4493ECF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393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87FD5-0050-4B8A-A77B-2A6E8D015A5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Text Box 5"/>
          <p:cNvSpPr/>
          <p:nvPr/>
        </p:nvSpPr>
        <p:spPr>
          <a:xfrm>
            <a:off x="250920" y="1446120"/>
            <a:ext cx="8642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Получение переменного электрического тока.</a:t>
            </a:r>
            <a:br>
              <a:rPr sz="4400"/>
            </a:b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(Физика 11 класс)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работала учитель физики МОУ СОШ № 8 г. Тюме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Жижимонтова Т.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7">
                                  <p:stCondLst>
                                    <p:cond delay="150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6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6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Действие переменного тока на организм человека.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0.6А-0,15А –легкое покалыв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А-3А –дрожание пальцев ру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А–10 А– ощущение бо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2А–15А –руки трудно оторвать от электродов, сильные бо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0А–25 А–затруднение дых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0А-80А – паралич дых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90А-110 А– летальный исхо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47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98" fill="hold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98" fill="hold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98" fill="hold"/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898" fill="hold"/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7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98" fill="hold"/>
                                        <p:tgtEl>
                                          <p:spTgt spid="7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7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98" fill="hold"/>
                                        <p:tgtEl>
                                          <p:spTgt spid="7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7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98" fill="hold"/>
                                        <p:tgtEl>
                                          <p:spTgt spid="7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Выводы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еменный электрический ток получают благодаря явлению электромагнитной индук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еменный электрический ток получают преимущественно электромеханическими индукционными генератор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98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898" fill="hold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898" fill="hold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Вопросы для взаимоконтроля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ой ток называют переменным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ое явление положено в основу действия индукционного генератора переменного ток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 каких величин зависит максимальное значение ЭДС индукции генератор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де наводится ЭДС в промышленных генераторах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араграфы 31, 37, упражнение 4 (4, 5), сообщения «Производство электроэнергии», «Передача электроэнергии», «Использование электроэнергии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Литератур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ебник физика 11 класс Мякишева Г.Я. и  Буховцева Б.Б. Москва. Просвещение 2007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орные конспекты и тестовые  физике 11 Луппов Г.Д. Москва. Просвещение.1996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диная коллекция цифровых образовательных ресурс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Цели урок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формировать понятия: переменный электрический ток, как вынужденные электромагнитные колебания, индукционный генератор переменного то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вить умение сравнивать, анализировать, работать с текст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спитание интереса к явлениям окружающего ми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Мотивация. Задачи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ой электрический ток используют для работы приборов на рисунк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 представляет из себя переменный электрический ток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овы принципы получения такого тока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3" name="Picture 6" descr="diag"/>
          <p:cNvPicPr/>
          <p:nvPr/>
        </p:nvPicPr>
        <p:blipFill>
          <a:blip r:embed="rId1"/>
          <a:stretch/>
        </p:blipFill>
        <p:spPr>
          <a:xfrm>
            <a:off x="4648320" y="1773360"/>
            <a:ext cx="4038480" cy="40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92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Переменный электрический ток используют для работы большинства электроприборов, для освещения, для работы оборудования на предприятиях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6840" y="2491920"/>
            <a:ext cx="469116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ок называют переменным, потому, что он изменяется по направлению и величине по гармоническому закон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5148000" y="2349360"/>
            <a:ext cx="353844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астота переменного тока равна 50 Гц (в нашей стране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менный электрический ток – это вынужденные электромагнитные колеб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Принцип получения переменного тока.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56275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вращении рамки в магнитном поле, в ней возникает переменная ЭДС, из-за явления электромагнитной индук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 = 2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πν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SN sin 2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πνν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πν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S = 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m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амплитуда ЭД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– индукция магнитного поля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 –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лощадь рамки,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 ν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частота изменения ЭДС, е -  мгновенное значение ЭДС в момент времен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сли рамка замкнута, то в ней появляется переменный ток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N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число витк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9" name="Picture 7" descr="u31_01"/>
          <p:cNvPicPr/>
          <p:nvPr/>
        </p:nvPicPr>
        <p:blipFill>
          <a:blip r:embed="rId1"/>
          <a:stretch/>
        </p:blipFill>
        <p:spPr>
          <a:xfrm>
            <a:off x="6012000" y="2781360"/>
            <a:ext cx="2520720" cy="28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6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6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06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. http://school-collection.edu.ru/catalog/search/?text=%E3%E5%ED%E5%F0%E0%F2%EE%F0+%EF%E5%F0%E5%EC%E5%ED%ED%EE%E3%EE+%F2%EE%EA%E0&amp;tg=&amp;context=current&amp;interface=catalog&amp;class%5B%5D=54&amp;subject%5B%5D=30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пользуя ссылку в ЕКЦОР можно увидеть действующую модель получения переменного то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рамка расположена перпендикулярно силовым линиям магнитного поля, то ЭДС индукции в ней равна  нулю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рамка расположена параллельно силовым линиям магнитного поля, то ЭДС индукции в ней принимает максимальное значени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Индукционный генератор переменного тока – устройство для получения переменного электрического тока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475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нцип действия генератора основан на явлении электромагнитной индук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атор неподвижная часть генератора, (состоит из сердечника и обмоток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отор - подвижная часть генератора (электромагни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ал вращает ротор, Магнитное поле , пронизывающее обмотки статора меняется, в них возникает индукционный то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подачи тока в обмотки ротора используют контактные кольца и щетк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5" name="Picture 7" descr="u35_04"/>
          <p:cNvPicPr/>
          <p:nvPr/>
        </p:nvPicPr>
        <p:blipFill>
          <a:blip r:embed="rId1"/>
          <a:stretch/>
        </p:blipFill>
        <p:spPr>
          <a:xfrm>
            <a:off x="4932360" y="1916280"/>
            <a:ext cx="3456000" cy="446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Характеристики генераторов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астота изменения ЭД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ν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p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где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n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число оборотов ротора в секунду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число пар полюсов на ротор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ГЭС число пар полюсов равно 40-50, на ТЭС – 10-1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рабатываемое напряжение в промышленных генератора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000 – 10000 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Вынужденные колебания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710" name=""/>
          <p:cNvGraphicFramePr/>
          <p:nvPr/>
        </p:nvGraphicFramePr>
        <p:xfrm>
          <a:off x="468360" y="1557360"/>
          <a:ext cx="8218440" cy="4176720"/>
        </p:xfrm>
        <a:graphic>
          <a:graphicData uri="http://schemas.openxmlformats.org/drawingml/2006/table">
            <a:tbl>
              <a:tblPr/>
              <a:tblGrid>
                <a:gridCol w="4110120"/>
                <a:gridCol w="410832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ханическ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лектромагнитн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личие внешней периодически действующей сил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дичие ЭДС, изменяющейся периодичес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астота вынужденных колебаний равна частоте вынуждающих колебаний внешней сил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астота вынужденных колебаний равна частоте вынуждающих колебаний ЭД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хду вынуждающими и вынужденнымиколебаниями существует разность фаз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хду вынуждающими и вынужденнымиколебаниями существует разность фаз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7T15:42:03Z</dcterms:created>
  <dc:creator>Van Disa</dc:creator>
  <dc:description/>
  <dc:language>en-US</dc:language>
  <cp:lastModifiedBy>Татьяна</cp:lastModifiedBy>
  <dcterms:modified xsi:type="dcterms:W3CDTF">2014-02-02T17:37:32Z</dcterms:modified>
  <cp:revision>51</cp:revision>
  <dc:subject/>
  <dc:title>Слайд 1</dc:title>
</cp:coreProperties>
</file>