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B64A-334D-40B7-A931-870DDA95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A2EB-9647-4103-B187-F2B13C82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49D62-1B73-4D34-BCBE-6EBD3693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A3455-D936-4FA0-912D-3677ABA1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B1887-91ED-40C0-8983-99B01343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614AD-592D-4BA7-8448-1AA5979C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A4456-3420-4B61-A282-3EBDEA56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80BFEF-0126-487B-A559-BDB6FE79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E215D-3D42-4100-BBB5-D0E48B61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29533-FCD5-46F3-9B9D-39A5FC9D7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B9116E-79A1-471C-9F90-6C97C85E8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6BDA63-0695-4B51-BE1B-9EC878CDA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DAE2-B289-4B89-8260-8C7838468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55C6F5-1DA6-4DF0-A5F0-B4EADE94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7B50D-87A7-4ED2-BA4A-3E47BF2A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4720B2-D06D-48DA-9CB9-A56DC2A3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C97692-FF4E-4D67-BA0D-6F0044EB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78367D-BAFE-48D9-A2EB-A97B5000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D09D8-471D-4D31-877D-DF36FFCA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6A6CE4-7EB8-405B-ADE0-DD536804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73BFD8-049E-4D04-88AC-DB4414BC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A95F3-E640-41E1-B52D-AB30348F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F823E4-A863-478D-AF5A-9926CFA31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E69B-DA72-4D9E-A6F5-34526F9E6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F98DE-AD43-4209-8475-55CC34CD0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A3843-DC30-47E3-BEDE-29F533240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0C96A-FD20-4D5D-86B9-63A52CFF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CDD07-75B5-47AD-ADBD-451C32F3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C0D04-DC04-455E-9EA0-B7FDBD3C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BB700-0DE1-4C50-9369-910E6651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A38E7-8C44-4D29-95D4-C0D5B859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C1819-AAFD-43A1-ABE9-A06DD2C0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9CD32-18FB-4C2D-84BC-A455422E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FADAF-48D9-4E00-8B48-E52F6A25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BF67-78E4-4D39-8852-D5DACAFF5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01001-A53C-4465-81D4-B06A14F1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B7CAC-A036-4B3F-9952-D8647D89D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1617C-2153-429B-9DFC-BD7457B49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111A25-BC92-4B44-AD06-2C3131447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03096E-8A79-4594-A1B5-2654679E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3257DF-AB3F-4BCE-9C39-292B689B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608007-A4C2-40EE-96B6-B1AAFBD5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40AA33-C85B-4575-B9E3-D989D7FB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D8BE6E-8480-408A-8401-33464880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5AFA76-12C1-4660-BFEF-B62277F5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7308-FFF0-4D4A-9FB5-12CB173D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7FD85-A372-4905-99AB-3A67CAE1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1BD8C1-EF84-4FAD-97EF-616AF972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D24523-9F8F-45AF-A10F-0E47FB0E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7E8F3A-CFE7-4F05-9669-C40A3DA01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9AED15-2080-4997-9F37-1798EB0F3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BE74B5-1C45-4C74-BD6F-6CD02F6DE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8758D5-51D9-42F0-A81F-BAB40F9D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E35EEF-6E0B-41CA-9766-962FDFC4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8863D1-E78B-42CF-9414-1F1CA238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6C7242-5286-434D-A544-F9EEE5A1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9F2C-CC67-4175-8E16-4CF3C8D6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CD1167-0513-4B48-9730-3924A35C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0CB9A3-C2DA-4B00-AC9B-C8F53E02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B765BF-4D48-4307-994F-D151DCCA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4E5AC2-A4FC-4805-8A60-66221F80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D22698-ACF3-48C4-A15E-ADBA2DD9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03A2DB-26A2-4EF5-8056-5D6188F2D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AA9390-2108-4072-8854-13C0F7A77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52D35B-1A26-4E60-83E9-2AB5C69F3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58E0E9-7534-4941-83C4-FCAD332A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7BFF8C-DE38-4582-B70B-0376BF59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F44A-07A5-4586-996B-E0D58BFB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F935D5-29A7-4175-B847-CBB383D2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7A0DA2-0F32-47C3-834F-FA3EA271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13D794-AD85-4DEB-B250-2D090532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A91B31-2220-42E0-BE52-CC7F6E5E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3FF3E7-E995-4814-BA73-5ECC7766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733FB1-3F96-4FF4-83A5-25CA887D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965203-70C6-4CDC-BA72-1B869AD6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9B1EEA-9748-44E0-94D3-F8D141BCF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7810FD-24AD-4568-9C15-36B24D39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A4B8-4225-44F6-9E9E-5642D6FB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2FFE-36BC-4605-8C42-7C02B404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1256-BA47-467C-89C2-8703FC64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9547-D932-4F92-BC9A-2CB4F756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4B70-02D6-4E04-B68C-AF21DF22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D72C-7014-48F3-BB30-5DFC5583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0B4D-D0FD-4DDA-8ABD-17777037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CFD0-9775-481B-9806-AF439153D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70DC-61A8-4730-81BF-7E55AAF9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A34C8-BAEB-49B3-B329-E46290C6B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6AF36-AD41-4F95-989E-03ABD1BF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F0981-3230-4F63-ADB6-69B5D5E6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287FE-F66E-4935-9846-17A57D6F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DB27B-72EF-4239-A53F-5AA08EEA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CF22-73B0-44B8-8E82-2CD17869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3B469-C3B2-4B08-A95A-BDDFA1C7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50D24-2C5A-4C96-A8A4-A2892A53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00F82-B9C4-47EF-A17D-9E9BDC76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89476-202F-4F39-A8D1-6F7301F1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3721B-A706-47BD-A1A2-01D46C13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76838-7204-4A7F-B1BF-9285BC4A3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CFEA9-AC69-4CAD-B724-2E80391DC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BEAD4-4A61-4D15-905E-BCDAE5564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5D575-33FD-4F3D-A49C-9F5A0ED0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E6C07-1A0B-4188-AC8D-47E1377A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79BF-5763-4D19-B3D7-BE9FBE5B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4E6DA-73F8-4F2C-BC59-8E02A2F5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DC96B-3C54-4614-8D0A-D115E895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52762-1A6A-49B9-9DB7-02EA00EE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5E166-1A0A-4CEC-9019-85DD073E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AA8EF-0B1F-46E2-A597-9EF36189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2D904-EA4D-4358-BA7E-12C7CDC7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B4573-BF76-4FC8-9B85-BADFCD58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59616-A520-4F8D-8A4F-4867F19E4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8D292-92B9-4AFF-8849-8798D8BEC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DA17D-40D3-4AC9-BB75-26FE7F41A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D3E8-74AA-4795-AD33-28506BCC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C0942-4BF1-43BA-A37A-39AB2C60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71642-AE64-4814-A9F9-D62A2548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590CF-F24C-4EAE-A0A8-682291F5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3BF2D-4AD3-4EB7-88C5-32E5F3B4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672E2-9E09-45DA-BDF2-87E6AE71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34226-F424-483A-8A9C-1F670494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120DE-1789-48FD-A498-52EF1D0F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68667-E44D-4935-8A89-691A981A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897C5-25FC-4449-BE0E-D90065C2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528DE-28CA-4129-941F-40704E4C7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84BA-4BDC-4CC1-80A5-377963A0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9E5E1-6C85-4918-A8BD-433BB125B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FC762-E4EE-4E8B-B2CF-0EDDE9A90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EFD14-6912-43EB-8BA7-75B16AE4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259AD-4255-488B-9570-E10F1848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9B0C7-DFAD-48DF-BF19-53FFA084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A803D-B5A2-472B-8B7F-714FAA94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40352-B761-4691-8B77-BAAB324E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E84C2-A7FE-4363-B0BA-D00F53B5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95597-C6C1-4722-806F-E766729F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0A3D6-CD69-47D3-9012-9A156354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EBE2-14ED-48C6-8A7F-B027B812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7CCBD-659E-451F-A3C9-84B12D15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C5E4F-CD31-4512-8CD3-310549010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A0CD0-8833-4AEB-AB8F-0A6722BF6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7090B-3F97-4E6E-982E-F68A0DA50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924BD-8B73-4C60-A49D-ABFAFB71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819BF-2F49-4140-8630-76933242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6D76E-3B5A-4789-9687-8C01FF49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84EF2-693F-4E4F-AECA-76802E31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42755-E517-4767-94F0-952C861C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96184-EF5D-41FC-81D4-F71D03CD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625C-2C9E-4C5D-BED7-DC83B572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AE46F-FD92-400D-AB68-C6F60B4F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6D2E1-FEAA-4B19-9E7C-E0B71844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2C48D-C523-49B0-8684-715A5335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B3ADE-E512-4A5A-AAE5-8A0BCD503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722D6-70A4-45DC-BA2D-4D4B8D175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A07F0-4A96-4348-8547-2D8504E20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AA394-FC28-4D13-A460-E11F9CA5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91D65-F4A3-4E1F-9DBF-ADCE4A53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67047-D094-4DA2-AC75-CF2F282B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B2573-916F-4D9A-9B4D-7C014646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B8A2-2653-431A-B108-5D74328D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90603-9D69-4526-B402-D92DD700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4FC8E-EC19-4A45-BB55-FA12D741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32B61-B077-4755-B638-E3CC5702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E739F-F92D-4B5C-B84E-1CFB7397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69C87-B129-47AB-8C3A-687BDAB4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3FDC5-319C-4ACA-9272-93051383E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24459-B71F-4F7F-A85B-D4AC462B4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C9CD7-C32A-4B91-A475-623C5842C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23E9A-A450-41C7-8D55-EAFE26BF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F5F4A-EABB-4DAE-B891-AB0FE363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954F-B39E-4CB3-8127-16252765E59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4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859F-0A67-458E-B7CC-FB11D1AE919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9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A581-B118-46DC-8662-BF1F477E25B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4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C198-ECC6-48C9-BCE9-E3573A5BBD9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89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ECAA-6D1B-41E9-A423-6EE81BCD677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638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2AA5-8E2F-4B0E-BDF8-AD611A0A565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25AE-D4D8-4B3F-AC5E-9DE2609A7CD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9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0C71-5E75-4E78-86F2-45CB8B74343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48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17DC-CFB5-491C-A73C-C959B4F2327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97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DF8A-C812-4BAC-9EA2-17E06A80DBE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46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B773-AB62-4635-9E20-8047229C0E0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95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8B82-BEC4-4577-A76C-953DCC3C233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44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8708-829E-42C1-8FBE-F57B50EAB81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93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DBF6-607A-42DE-BD8D-4F7CC202557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5"/>
          <p:cNvSpPr/>
          <p:nvPr/>
        </p:nvSpPr>
        <p:spPr>
          <a:xfrm>
            <a:off x="250920" y="1446120"/>
            <a:ext cx="8642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олучение переменного электрического тока.</a:t>
            </a:r>
            <a:br>
              <a:rPr sz="4400"/>
            </a:b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(Физика 11 класс)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аботала учитель физики МОУ СОШ № 8 г. Тюме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жимонтова Т.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150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Действие переменного тока на организм человека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0.6А-0,15А –легкое покалы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А-3А –дрожание пальцев ру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А–10 А– ощущение бо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2А–15А –руки трудно оторвать от электродов, сильные бо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0А–25 А–затруднение дых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0А-80А – паралич дых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0А-110 А– летальный исхо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4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98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98" fill="hold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98" fill="hold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98" fill="hold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98" fill="hold"/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98" fill="hold"/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ыводы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менный электрический ток получают благодаря явлению электромагнитной индук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менный электрический ток получают преимущественно электромеханическими индукционными генератор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98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98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98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опросы для взаимоконтрол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й ток называют переменны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е явление положено в основу действия индукционного генератора переменного то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 каких величин зависит максимальное значение ЭДС индукции генератор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де наводится ЭДС в промышленных генераторах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раграфы 31, 37, упражнение 4 (4, 5), сообщения «Производство электроэнергии», «Передача электроэнергии», «Использование электроэнерги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бник физика 11 класс Мякишева Г.Я. и  Буховцева Б.Б. Москва. Просвещение 2007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орные конспекты и тестовые  физике 11 Луппов Г.Д. Москва. Просвещение.1996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диная коллекция цифровых образовательных ресур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формировать понятия: переменный электрический ток, как вынужденные электромагнитные колебания, индукционный генератор переменного то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ить умение сравнивать, анализировать, работать с текст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спитание интереса к явлениям окружающего ми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Мотивация. Задачи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й электрический ток используют для работы приборов на рисунк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представляет из себя переменный электрический ток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вы принципы получения такого ток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3" name="Picture 6" descr="diag"/>
          <p:cNvPicPr/>
          <p:nvPr/>
        </p:nvPicPr>
        <p:blipFill>
          <a:blip r:embed="rId1"/>
          <a:stretch/>
        </p:blipFill>
        <p:spPr>
          <a:xfrm>
            <a:off x="4648320" y="1773360"/>
            <a:ext cx="4038480" cy="40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92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Переменный электрический ток используют для работы большинства электроприборов, для освещения, для работы оборудования на предприятиях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6840" y="2491920"/>
            <a:ext cx="469116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к называют переменным, потому, что он изменяется по направлению и величине по гармоническому зако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5148000" y="2349360"/>
            <a:ext cx="353844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тота переменного тока равна 50 Гц (в нашей стране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менный электрический ток – это вынужденные электромагнитные колеб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Принцип получения переменного тока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5627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вращении рамки в магнитном поле, в ней возникает переменная ЭДС, из-за явления электромагнитной инду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 = 2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π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SN sin 2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πν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π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S =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амплитуда ЭД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– индукция магнитного поля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ощадь рамки,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частота изменения ЭДС, е -  мгновенное значение ЭДС в момент времен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рамка замкнута, то в ней появляется переменный ток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число витк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9" name="Picture 7" descr="u31_01"/>
          <p:cNvPicPr/>
          <p:nvPr/>
        </p:nvPicPr>
        <p:blipFill>
          <a:blip r:embed="rId1"/>
          <a:stretch/>
        </p:blipFill>
        <p:spPr>
          <a:xfrm>
            <a:off x="6012000" y="2781360"/>
            <a:ext cx="252072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. http://school-collection.edu.ru/catalog/search/?text=%E3%E5%ED%E5%F0%E0%F2%EE%F0+%EF%E5%F0%E5%EC%E5%ED%ED%EE%E3%EE+%F2%EE%EA%E0&amp;tg=&amp;context=current&amp;interface=catalog&amp;class%5B%5D=54&amp;subject%5B%5D=30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уя ссылку в ЕКЦОР можно увидеть действующую модель получения переменного то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рамка расположена перпендикулярно силовым линиям магнитного поля, то ЭДС индукции в ней равна  нулю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рамка расположена параллельно силовым линиям магнитного поля, то ЭДС индукции в ней принимает максимальное знач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Индукционный генератор переменного тока – устройство для получения переменного электрического тока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75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нцип действия генератора основан на явлении электромагнитной индук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атор неподвижная часть генератора, (состоит из сердечника и обмоток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тор - подвижная часть генератора (электромагни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ал вращает ротор, Магнитное поле , пронизывающее обмотки статора меняется, в них возникает индукционный т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подачи тока в обмотки ротора используют контактные кольца и щет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5" name="Picture 7" descr="u35_04"/>
          <p:cNvPicPr/>
          <p:nvPr/>
        </p:nvPicPr>
        <p:blipFill>
          <a:blip r:embed="rId1"/>
          <a:stretch/>
        </p:blipFill>
        <p:spPr>
          <a:xfrm>
            <a:off x="4932360" y="1916280"/>
            <a:ext cx="3456000" cy="44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Характеристики генераторов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астота изменения ЭД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p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гд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число оборотов ротора в секунду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число пар полюсов на рото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ГЭС число пар полюсов равно 40-50, на ТЭС – 10-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рабатываемое напряжение в промышленных генератора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00 – 10000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ынужденные колебания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468360" y="1557360"/>
          <a:ext cx="8218440" cy="4176720"/>
        </p:xfrm>
        <a:graphic>
          <a:graphicData uri="http://schemas.openxmlformats.org/drawingml/2006/table">
            <a:tbl>
              <a:tblPr/>
              <a:tblGrid>
                <a:gridCol w="4110120"/>
                <a:gridCol w="410832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аническ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омагнит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личие внешней периодически действующей си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дичие ЭДС, изменяющейся периодичес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ота вынужденных колебаний равна частоте вынуждающих колебаний внешней си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ота вынужденных колебаний равна частоте вынуждающих колебаний ЭД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ду вынуждающими и вынужденнымиколебаниями существует разность ф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ду вынуждающими и вынужденнымиколебаниями существует разность ф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15:42:03Z</dcterms:created>
  <dc:creator>Van Disa</dc:creator>
  <dc:description/>
  <dc:language>en-US</dc:language>
  <cp:lastModifiedBy>Татьяна</cp:lastModifiedBy>
  <dcterms:modified xsi:type="dcterms:W3CDTF">2014-02-02T17:37:32Z</dcterms:modified>
  <cp:revision>51</cp:revision>
  <dc:subject/>
  <dc:title>Слайд 1</dc:title>
</cp:coreProperties>
</file>