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8.jpeg" ContentType="image/jpeg"/>
  <Override PartName="/ppt/media/image2.gif" ContentType="image/gif"/>
  <Override PartName="/ppt/media/image5.png" ContentType="image/pn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EE6-4E0A-4EC4-B0FB-5B94EA05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346-05E1-487B-ABB7-927FDF8C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6C4BA-C7D6-47BD-82C2-A8C553D0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A5B73-EFA7-470D-A5F6-236571A9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53308-2C5C-40A5-8F27-CB6C59E4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EC44D-59DD-4573-8DCC-500B897B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631BF-574A-4179-850C-EC6CFF4B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7CCD1-EA74-440E-A3A4-9AFDC625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2E532-B4C5-4EF9-854F-A458B3EF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B7555-649D-4355-AA85-BC24F916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14AB0-1542-415F-9879-F3D0F309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089E9C-D254-4DE2-BF90-11436257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1E1-BAA8-4C9D-9CEA-A1F9A0D9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22ACC-517F-4148-ABC6-55432F65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EB0AA-2B5F-486F-A85C-A3FF0FC4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F3F33-E7A8-4CD5-8196-43C6F429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BA3D2-574A-424A-8767-D280C4E0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0F8175-5CE0-470E-8464-668EFB22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9FE13-1885-4AA4-A263-9B803A2C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A9019-288B-4273-A2BE-44E5EE8C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07AB8-D5FB-4B7F-9E9A-A8F4BE39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8AC211-39F9-4E57-94C1-30D772EF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70632-D792-4D4A-98B2-685B2E0A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BC7E-7F38-4B5D-80C7-669A255A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AEA27C-D45F-456F-920B-6E772B55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6FCCC-FB6E-449C-81D7-87C725F1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63754-2D11-4357-BA6D-8780B0E2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89722-61C4-485B-8879-F62F5E86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8F2A2-0D12-4A73-A001-CB78A00C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606FB-2BA0-4408-B920-04EF9A9D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1AF29-4E2E-483F-AF59-C7A465D7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0A9BA-8EB9-455D-8562-20D43F88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3AA05-FA0A-4436-9158-062E3B91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2192F-B38F-45FF-A5FD-3CCEFAA3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A1F9-9CBB-4A67-B953-627500F0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7642C-72D4-413B-B949-B243F530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7D297-271D-4BAB-94A3-96E189B7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162E7-A8FC-48E2-82A7-D18CE263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EFA9F-2FA7-4FDA-95EB-8A4406EE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B8350-5338-4419-85DE-25DF059A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14187D-7E9B-4A38-ABE9-B668012B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C9E3D-5D76-4545-A68F-1C7871AE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EE8E0F-361E-4273-B088-1FB3B6B7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B001E-3FED-43EB-8FD6-E70C01C7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E8DFE-E947-4E90-9D2C-26FD70D3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C5E9-DC29-4974-8517-93F591F3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B4C036-2D7B-4F33-AC83-DCED51D4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95943-D17A-433D-837D-FF0E81BD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4A383-8754-4BBF-B1A1-3D3EA592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D5B062-F2B5-4765-968D-16F6AE2D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095E7-DB4B-4141-A655-A06ABA5B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A8D7-585E-4409-92AB-33A1DA23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3A2F-20D6-468A-9F54-D078DC96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1A27-FE96-4D1F-A06E-80C48E74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B7A8-F075-407F-A28D-25E0BABB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8999-0B31-4441-BB44-4A48BA05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504-7845-4ADB-8E29-CB6631DE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FAE4-2E57-4CB5-A44F-2F55E32D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1814-0DDB-4624-8CCC-7ED1B9EA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6060-7367-4319-A585-6B6F9B63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F8EA-E2CF-486A-8834-EC9FBE3F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9E80-CED8-427B-9F86-069957BB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02845-36C4-4AD5-B95D-A685AAB2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DEC65-AD4F-4F40-BF4A-BF846372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C1646-0759-48D9-B5E3-DEE40D7E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B10DD-34AA-4AF4-AD89-D149EBFD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33C40-5FCA-49D7-BD28-EAE10F90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15B2-9F24-4466-9847-10CB718C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2B6F-7638-444F-B94D-2507D2D9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E3EDA-3C9A-4571-B9CE-C81467D4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8D4EB-9F3F-4AC7-8498-D7101CA4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86B86-18BC-4D49-8ABD-5EA907B7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C261F-28FC-40E3-9FA0-1494CCAF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B3E6C-E272-4FF5-8C3A-28A6BB0C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AE756-D3C1-41B5-9B7C-EEFD810E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20CCA-CB7A-40AB-AFB6-3A604F2B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C7086-4AA6-40C0-97F6-14D4CF44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FDF36-51CA-4522-94CC-B3975E25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15F-C441-4E75-9BD0-3A27748A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1B45D-1578-4461-9EA3-CA45CCA7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DC56B-E892-4332-9466-24224739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7D581-F6B6-4AAC-9F76-A9977C73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7C50F-9DBF-457F-86EC-C9775B26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6C261-C903-4C3A-95CF-E411C96E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F5AAD-399B-4B94-948A-6A0AC524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C2C6F-528B-459D-B004-DD32B6F6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8E281-8481-48A7-A06F-FFCD849D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5B696-96F6-440F-88AA-FFD523F7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D08DF-D2D0-429B-AE9B-0D7FDB59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28D-E5F0-4437-BDE7-F901C3D2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EB8DF-E042-414F-8EFB-A08E3360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9AF90-5F4B-432F-9513-C3B0D6CB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9E4D8-83DE-44E4-8A4E-DBC8EE50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70D22-F048-4077-AA2C-E32799DA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3CEBA-0245-4031-9818-9F905373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6BD58-B0BD-4EF3-B037-E36245BB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8534A-7A9F-4A3E-AA2A-F0A289D0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4B087-8A98-4876-AF9C-A5C54FF5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8A75B-23A4-4339-9923-8C14913C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D56CD-2D2D-4B99-B7D9-5E706C9F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0B5-4DB5-48BC-BE36-2147916B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4131F-C9DE-42D0-9339-A9771D8B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50C94-34DB-4313-B89B-465D88CE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EFD20-EA10-4DA2-994B-633AD8AF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7FB83-85D0-492B-B231-71D1F970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D78BC-39A9-4707-9092-CADBB4B0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CEB39-2AD1-4540-9D06-07342750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A439F-61B5-4EA5-AFBD-581208BB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21705-DDFD-4101-8433-B89070D9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3AD69-613D-48C0-852F-9FC38F55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831D6-386E-47BC-AE58-EB700A91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FF2-102B-49DC-9A0A-3BBFE5E5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727A5-E2DD-4993-BC65-9357EDDB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0F5D3-F3A1-4933-BB23-6F0223AF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3B35D-902E-4031-BB1E-614BFC2A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1C3FF-FC1E-44C8-99C4-24B9646B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C5E47-3D3F-4856-868A-149B1434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31845-EBDF-467F-852C-A9562EAB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2AD2F-B832-4CB2-8A92-D97FBA61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4BBC2-14E5-4ECE-8516-FABB6EA0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7BF77-81C8-42FE-ADA3-F54ABEA3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E66B2-DBA8-4794-9C49-FBADB89B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C7E-6244-4CF9-817A-9C18DD72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1B896-E69B-4127-88B0-CF185747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89677-3282-4D36-97E6-90F3A644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89E47-23D1-46AB-B733-7773E844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F4DBC-BD08-4105-8E26-BAE1D5A7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C6B53-135A-487D-B152-96B62A98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B320D-00EC-4F9D-9160-9325FF68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AB094-FD2C-49AD-88BD-916C9F71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7BC35-CE19-4379-81BB-F2A6280E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F7DEF-D482-44D9-8C49-483724FC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EB369-CE56-49E8-A749-CB10B593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8379-E7B9-4278-BDD3-EE6F6F31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4A079-4BC5-474F-B212-33E67A1D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921AF-A9AB-4070-9E8F-452D585F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DE91C-3974-4EB1-B4B2-2A19A55B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2F288-0C12-4629-8AF4-DF16B497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A8FEC-10AB-498F-AFB9-99902539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0F2FC-F833-4AD2-B3E6-9AB59EFC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8F5E3-69F4-4419-ABF9-5CE00A78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69F0A-5201-448C-B242-E7BC44D8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701AA-0920-4B59-B25A-DF2BADDD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AE2ED-906F-4F14-8F78-55437612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632A-4A60-4534-8AA3-AEF108525D1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ACB9-C3C6-4C8C-81E0-A9877156CA9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EBBA-2888-468E-9704-38737B567E8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1271-36D2-4DD3-9A09-D8BFF9B447B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5337-AABE-45AD-991D-9577794C1D7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1944-25EB-490E-8199-2CB465C277E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7050-AF3D-425E-894A-294832FB6B4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DD39-F7B5-4538-8622-58D54E04E25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2715-F29D-4DD6-BCCD-B0D1A3D49D0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E4F2-8B79-488D-B9AA-DE5AC59D5AC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D5C6-2B7B-4873-B652-1FF0C34E8DF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3141-A201-4597-9CAC-931978D0FCA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28.xml"/><Relationship Id="rId7" Type="http://schemas.openxmlformats.org/officeDocument/2006/relationships/slide" Target="slide2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newton-yar.ru/photos/catalog/ct/292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BatangChe"/>
                <a:ea typeface="BatangChe"/>
              </a:rPr>
              <a:t>Сила</a:t>
            </a:r>
            <a:endParaRPr b="0" lang="en-US" sz="9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Picture 6" descr="book20"/>
          <p:cNvPicPr/>
          <p:nvPr/>
        </p:nvPicPr>
        <p:blipFill>
          <a:blip r:embed="rId1"/>
          <a:stretch/>
        </p:blipFill>
        <p:spPr>
          <a:xfrm>
            <a:off x="800280" y="3405240"/>
            <a:ext cx="22302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8"/>
          <p:cNvSpPr/>
          <p:nvPr/>
        </p:nvSpPr>
        <p:spPr>
          <a:xfrm>
            <a:off x="2340000" y="98100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 всегда направлена к центру Зем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36"/>
          <p:cNvGrpSpPr/>
          <p:nvPr/>
        </p:nvGrpSpPr>
        <p:grpSpPr>
          <a:xfrm>
            <a:off x="684360" y="765000"/>
            <a:ext cx="1445760" cy="1584000"/>
            <a:chOff x="684360" y="765000"/>
            <a:chExt cx="1445760" cy="1584000"/>
          </a:xfrm>
        </p:grpSpPr>
        <p:sp>
          <p:nvSpPr>
            <p:cNvPr id="802" name="Oval 20"/>
            <p:cNvSpPr/>
            <p:nvPr/>
          </p:nvSpPr>
          <p:spPr>
            <a:xfrm>
              <a:off x="684360" y="928800"/>
              <a:ext cx="1377360" cy="142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31"/>
            <p:cNvGrpSpPr/>
            <p:nvPr/>
          </p:nvGrpSpPr>
          <p:grpSpPr>
            <a:xfrm>
              <a:off x="1213200" y="765000"/>
              <a:ext cx="318240" cy="874440"/>
              <a:chOff x="1213200" y="765000"/>
              <a:chExt cx="318240" cy="874440"/>
            </a:xfrm>
          </p:grpSpPr>
          <p:sp>
            <p:nvSpPr>
              <p:cNvPr id="804" name="Rectangle 21"/>
              <p:cNvSpPr/>
              <p:nvPr/>
            </p:nvSpPr>
            <p:spPr>
              <a:xfrm>
                <a:off x="1213200" y="765000"/>
                <a:ext cx="31824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>
                <a:off x="1371960" y="875520"/>
                <a:ext cx="1620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 flipV="1">
                <a:off x="1371960" y="141984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32"/>
            <p:cNvGrpSpPr/>
            <p:nvPr/>
          </p:nvGrpSpPr>
          <p:grpSpPr>
            <a:xfrm>
              <a:off x="1410480" y="945720"/>
              <a:ext cx="719640" cy="678960"/>
              <a:chOff x="1410480" y="945720"/>
              <a:chExt cx="719640" cy="678960"/>
            </a:xfrm>
          </p:grpSpPr>
          <p:sp>
            <p:nvSpPr>
              <p:cNvPr id="808" name="Rectangle 33"/>
              <p:cNvSpPr/>
              <p:nvPr/>
            </p:nvSpPr>
            <p:spPr>
              <a:xfrm rot="2851200">
                <a:off x="1789560" y="1045440"/>
                <a:ext cx="338760" cy="153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34"/>
              <p:cNvSpPr/>
              <p:nvPr/>
            </p:nvSpPr>
            <p:spPr>
              <a:xfrm flipH="1">
                <a:off x="1787040" y="1140480"/>
                <a:ext cx="152280" cy="162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35"/>
              <p:cNvSpPr/>
              <p:nvPr/>
            </p:nvSpPr>
            <p:spPr>
              <a:xfrm flipV="1">
                <a:off x="1410480" y="1485360"/>
                <a:ext cx="152280" cy="139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81"/>
          <p:cNvGrpSpPr/>
          <p:nvPr/>
        </p:nvGrpSpPr>
        <p:grpSpPr>
          <a:xfrm>
            <a:off x="971640" y="3211560"/>
            <a:ext cx="1267200" cy="2167200"/>
            <a:chOff x="971640" y="3211560"/>
            <a:chExt cx="1267200" cy="2167200"/>
          </a:xfrm>
        </p:grpSpPr>
        <p:grpSp>
          <p:nvGrpSpPr>
            <p:cNvPr id="812" name="Group 58"/>
            <p:cNvGrpSpPr/>
            <p:nvPr/>
          </p:nvGrpSpPr>
          <p:grpSpPr>
            <a:xfrm>
              <a:off x="971640" y="3211560"/>
              <a:ext cx="720720" cy="144360"/>
              <a:chOff x="971640" y="3211560"/>
              <a:chExt cx="720720" cy="144360"/>
            </a:xfrm>
          </p:grpSpPr>
          <p:sp>
            <p:nvSpPr>
              <p:cNvPr id="813" name="Rectangle 54"/>
              <p:cNvSpPr/>
              <p:nvPr/>
            </p:nvSpPr>
            <p:spPr>
              <a:xfrm>
                <a:off x="971640" y="321156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Line 53"/>
              <p:cNvSpPr/>
              <p:nvPr/>
            </p:nvSpPr>
            <p:spPr>
              <a:xfrm>
                <a:off x="971640" y="335592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Line 55"/>
            <p:cNvSpPr/>
            <p:nvPr/>
          </p:nvSpPr>
          <p:spPr>
            <a:xfrm>
              <a:off x="1332000" y="335592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56"/>
            <p:cNvSpPr/>
            <p:nvPr/>
          </p:nvSpPr>
          <p:spPr>
            <a:xfrm>
              <a:off x="1116000" y="429264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57"/>
            <p:cNvSpPr/>
            <p:nvPr/>
          </p:nvSpPr>
          <p:spPr>
            <a:xfrm>
              <a:off x="1332000" y="4579920"/>
              <a:ext cx="0" cy="79236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Text Box 69"/>
            <p:cNvSpPr/>
            <p:nvPr/>
          </p:nvSpPr>
          <p:spPr>
            <a:xfrm>
              <a:off x="1407240" y="4797360"/>
              <a:ext cx="83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Times New Roman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70"/>
            <p:cNvSpPr/>
            <p:nvPr/>
          </p:nvSpPr>
          <p:spPr>
            <a:xfrm>
              <a:off x="1495440" y="4878360"/>
              <a:ext cx="36036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Group 79"/>
          <p:cNvGrpSpPr/>
          <p:nvPr/>
        </p:nvGrpSpPr>
        <p:grpSpPr>
          <a:xfrm>
            <a:off x="2701440" y="3932280"/>
            <a:ext cx="2230920" cy="1446480"/>
            <a:chOff x="2701440" y="3932280"/>
            <a:chExt cx="2230920" cy="1446480"/>
          </a:xfrm>
        </p:grpSpPr>
        <p:grpSp>
          <p:nvGrpSpPr>
            <p:cNvPr id="821" name="Group 59"/>
            <p:cNvGrpSpPr/>
            <p:nvPr/>
          </p:nvGrpSpPr>
          <p:grpSpPr>
            <a:xfrm>
              <a:off x="2701440" y="4437720"/>
              <a:ext cx="2230920" cy="575280"/>
              <a:chOff x="2701440" y="4437720"/>
              <a:chExt cx="2230920" cy="575280"/>
            </a:xfrm>
          </p:grpSpPr>
          <p:sp>
            <p:nvSpPr>
              <p:cNvPr id="822" name="Rectangle 60"/>
              <p:cNvSpPr/>
              <p:nvPr/>
            </p:nvSpPr>
            <p:spPr>
              <a:xfrm rot="10800000">
                <a:off x="2701440" y="443772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61"/>
              <p:cNvSpPr/>
              <p:nvPr/>
            </p:nvSpPr>
            <p:spPr>
              <a:xfrm flipH="1">
                <a:off x="2706840" y="443772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Rectangle 62"/>
            <p:cNvSpPr/>
            <p:nvPr/>
          </p:nvSpPr>
          <p:spPr>
            <a:xfrm>
              <a:off x="3203640" y="393228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63"/>
            <p:cNvSpPr/>
            <p:nvPr/>
          </p:nvSpPr>
          <p:spPr>
            <a:xfrm>
              <a:off x="3780000" y="4221000"/>
              <a:ext cx="0" cy="107964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72"/>
            <p:cNvGrpSpPr/>
            <p:nvPr/>
          </p:nvGrpSpPr>
          <p:grpSpPr>
            <a:xfrm>
              <a:off x="3855240" y="4797360"/>
              <a:ext cx="831600" cy="581400"/>
              <a:chOff x="3855240" y="4797360"/>
              <a:chExt cx="831600" cy="581400"/>
            </a:xfrm>
          </p:grpSpPr>
          <p:sp>
            <p:nvSpPr>
              <p:cNvPr id="827" name="Text Box 73"/>
              <p:cNvSpPr/>
              <p:nvPr/>
            </p:nvSpPr>
            <p:spPr>
              <a:xfrm>
                <a:off x="3855240" y="479736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74"/>
              <p:cNvSpPr/>
              <p:nvPr/>
            </p:nvSpPr>
            <p:spPr>
              <a:xfrm>
                <a:off x="3943080" y="487836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9" name="Group 80"/>
          <p:cNvGrpSpPr/>
          <p:nvPr/>
        </p:nvGrpSpPr>
        <p:grpSpPr>
          <a:xfrm>
            <a:off x="5796000" y="3515760"/>
            <a:ext cx="2736720" cy="1568880"/>
            <a:chOff x="5796000" y="3515760"/>
            <a:chExt cx="2736720" cy="1568880"/>
          </a:xfrm>
        </p:grpSpPr>
        <p:sp>
          <p:nvSpPr>
            <p:cNvPr id="830" name="AutoShape 64"/>
            <p:cNvSpPr/>
            <p:nvPr/>
          </p:nvSpPr>
          <p:spPr>
            <a:xfrm rot="16200000">
              <a:off x="6624360" y="296028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65"/>
            <p:cNvSpPr/>
            <p:nvPr/>
          </p:nvSpPr>
          <p:spPr>
            <a:xfrm flipH="1">
              <a:off x="5796000" y="378936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67"/>
            <p:cNvSpPr/>
            <p:nvPr/>
          </p:nvSpPr>
          <p:spPr>
            <a:xfrm rot="20355600">
              <a:off x="6588000" y="371592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68"/>
            <p:cNvSpPr/>
            <p:nvPr/>
          </p:nvSpPr>
          <p:spPr>
            <a:xfrm>
              <a:off x="7236000" y="4005360"/>
              <a:ext cx="0" cy="107928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Group 75"/>
            <p:cNvGrpSpPr/>
            <p:nvPr/>
          </p:nvGrpSpPr>
          <p:grpSpPr>
            <a:xfrm>
              <a:off x="7312680" y="4437000"/>
              <a:ext cx="831600" cy="581400"/>
              <a:chOff x="7312680" y="4437000"/>
              <a:chExt cx="831600" cy="581400"/>
            </a:xfrm>
          </p:grpSpPr>
          <p:sp>
            <p:nvSpPr>
              <p:cNvPr id="835" name="Text Box 76"/>
              <p:cNvSpPr/>
              <p:nvPr/>
            </p:nvSpPr>
            <p:spPr>
              <a:xfrm>
                <a:off x="7312680" y="443700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Line 77"/>
              <p:cNvSpPr/>
              <p:nvPr/>
            </p:nvSpPr>
            <p:spPr>
              <a:xfrm>
                <a:off x="7400520" y="451800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Oval 82">
            <a:hlinkClick r:id="rId4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4"/>
          <p:cNvSpPr/>
          <p:nvPr/>
        </p:nvSpPr>
        <p:spPr>
          <a:xfrm>
            <a:off x="250920" y="378936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мля слегка приплюснута у полюсов, экваториальный радиус Земли больше полярного. Находясь на экваторе тело расположено дальше от центра Земли, поэтому сила тяжести на экваторе меньше, чем на полю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Group 29"/>
          <p:cNvGrpSpPr/>
          <p:nvPr/>
        </p:nvGrpSpPr>
        <p:grpSpPr>
          <a:xfrm>
            <a:off x="826920" y="1125360"/>
            <a:ext cx="1849320" cy="1771560"/>
            <a:chOff x="826920" y="1125360"/>
            <a:chExt cx="1849320" cy="1771560"/>
          </a:xfrm>
        </p:grpSpPr>
        <p:sp>
          <p:nvSpPr>
            <p:cNvPr id="841" name="Oval 15"/>
            <p:cNvSpPr/>
            <p:nvPr/>
          </p:nvSpPr>
          <p:spPr>
            <a:xfrm>
              <a:off x="826920" y="1288800"/>
              <a:ext cx="1652400" cy="142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16"/>
            <p:cNvGrpSpPr/>
            <p:nvPr/>
          </p:nvGrpSpPr>
          <p:grpSpPr>
            <a:xfrm>
              <a:off x="1461960" y="1125360"/>
              <a:ext cx="380520" cy="874440"/>
              <a:chOff x="1461960" y="1125360"/>
              <a:chExt cx="380520" cy="874440"/>
            </a:xfrm>
          </p:grpSpPr>
          <p:sp>
            <p:nvSpPr>
              <p:cNvPr id="843" name="Rectangle 17"/>
              <p:cNvSpPr/>
              <p:nvPr/>
            </p:nvSpPr>
            <p:spPr>
              <a:xfrm>
                <a:off x="1461960" y="1125360"/>
                <a:ext cx="38052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8"/>
              <p:cNvSpPr/>
              <p:nvPr/>
            </p:nvSpPr>
            <p:spPr>
              <a:xfrm>
                <a:off x="1652040" y="1235880"/>
                <a:ext cx="1908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19"/>
              <p:cNvSpPr/>
              <p:nvPr/>
            </p:nvSpPr>
            <p:spPr>
              <a:xfrm flipV="1">
                <a:off x="1652040" y="178020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20"/>
            <p:cNvGrpSpPr/>
            <p:nvPr/>
          </p:nvGrpSpPr>
          <p:grpSpPr>
            <a:xfrm>
              <a:off x="1690920" y="1846080"/>
              <a:ext cx="985320" cy="338040"/>
              <a:chOff x="1690920" y="1846080"/>
              <a:chExt cx="985320" cy="338040"/>
            </a:xfrm>
          </p:grpSpPr>
          <p:sp>
            <p:nvSpPr>
              <p:cNvPr id="847" name="Rectangle 21"/>
              <p:cNvSpPr/>
              <p:nvPr/>
            </p:nvSpPr>
            <p:spPr>
              <a:xfrm rot="5400000">
                <a:off x="2414880" y="1922760"/>
                <a:ext cx="33804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22"/>
              <p:cNvSpPr/>
              <p:nvPr/>
            </p:nvSpPr>
            <p:spPr>
              <a:xfrm flipH="1">
                <a:off x="2284920" y="2014920"/>
                <a:ext cx="266760" cy="16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23"/>
              <p:cNvSpPr/>
              <p:nvPr/>
            </p:nvSpPr>
            <p:spPr>
              <a:xfrm>
                <a:off x="1690920" y="2014920"/>
                <a:ext cx="247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AutoShape 24"/>
            <p:cNvSpPr/>
            <p:nvPr/>
          </p:nvSpPr>
          <p:spPr>
            <a:xfrm>
              <a:off x="1330200" y="1341360"/>
              <a:ext cx="72720" cy="64764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AutoShape 25"/>
            <p:cNvSpPr/>
            <p:nvPr/>
          </p:nvSpPr>
          <p:spPr>
            <a:xfrm rot="16200000">
              <a:off x="1996200" y="1827360"/>
              <a:ext cx="144360" cy="755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9440 h 755640"/>
                <a:gd name="textAreaBottom" fmla="*/ 73620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38"/>
                  </a:lnTo>
                  <a:cubicBezTo>
                    <a:pt x="10800" y="10538"/>
                    <a:pt x="5400" y="11438"/>
                    <a:pt x="0" y="11438"/>
                  </a:cubicBezTo>
                  <a:cubicBezTo>
                    <a:pt x="5400" y="11438"/>
                    <a:pt x="10800" y="12338"/>
                    <a:pt x="10800" y="1323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2" name="Object 26"/>
                <p:cNvSpPr txBox="1"/>
                <p:nvPr/>
              </p:nvSpPr>
              <p:spPr>
                <a:xfrm>
                  <a:off x="838080" y="1341360"/>
                  <a:ext cx="515880" cy="61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п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3" name="Object 27"/>
                <p:cNvSpPr txBox="1"/>
                <p:nvPr/>
              </p:nvSpPr>
              <p:spPr>
                <a:xfrm>
                  <a:off x="1834920" y="2277720"/>
                  <a:ext cx="51588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э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4" name="Object 28"/>
              <p:cNvSpPr txBox="1"/>
              <p:nvPr/>
            </p:nvSpPr>
            <p:spPr>
              <a:xfrm>
                <a:off x="4140360" y="1268280"/>
                <a:ext cx="324324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э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5" name="Oval 30">
            <a:hlinkClick r:id="rId1" action="ppaction://hlinksldjump"/>
          </p:cNvPr>
          <p:cNvSpPr/>
          <p:nvPr/>
        </p:nvSpPr>
        <p:spPr>
          <a:xfrm>
            <a:off x="754200" y="612936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5d1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858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860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8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869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873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882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887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889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1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892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894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2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, возникающая в результате деформации тела и направленная в сторону смещения частиц тела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6"/>
          <p:cNvSpPr/>
          <p:nvPr/>
        </p:nvSpPr>
        <p:spPr>
          <a:xfrm>
            <a:off x="324000" y="2492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6" descr="Fizr7_14_3"/>
          <p:cNvPicPr/>
          <p:nvPr/>
        </p:nvPicPr>
        <p:blipFill>
          <a:blip r:embed="rId2"/>
          <a:srcRect l="4937" t="16065" r="62151" b="55103"/>
          <a:stretch/>
        </p:blipFill>
        <p:spPr>
          <a:xfrm>
            <a:off x="539640" y="981000"/>
            <a:ext cx="2519640" cy="158112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7"/>
          <p:cNvSpPr/>
          <p:nvPr/>
        </p:nvSpPr>
        <p:spPr>
          <a:xfrm>
            <a:off x="911520" y="263700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я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Picture 8" descr="Рисунок1"/>
          <p:cNvPicPr/>
          <p:nvPr/>
        </p:nvPicPr>
        <p:blipFill>
          <a:blip r:embed="rId3"/>
          <a:stretch/>
        </p:blipFill>
        <p:spPr>
          <a:xfrm>
            <a:off x="468360" y="3429000"/>
            <a:ext cx="2448000" cy="2057400"/>
          </a:xfrm>
          <a:prstGeom prst="rect">
            <a:avLst/>
          </a:prstGeom>
          <a:ln w="0">
            <a:noFill/>
          </a:ln>
        </p:spPr>
      </p:pic>
      <p:sp>
        <p:nvSpPr>
          <p:cNvPr id="921" name="Text Box 9"/>
          <p:cNvSpPr/>
          <p:nvPr/>
        </p:nvSpPr>
        <p:spPr>
          <a:xfrm>
            <a:off x="755640" y="5589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ги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Picture 10" descr="Fizr7_14_3"/>
          <p:cNvPicPr/>
          <p:nvPr/>
        </p:nvPicPr>
        <p:blipFill>
          <a:blip r:embed="rId4"/>
          <a:srcRect l="40910" t="56663" r="30789" b="9165"/>
          <a:stretch/>
        </p:blipFill>
        <p:spPr>
          <a:xfrm>
            <a:off x="6227640" y="3429000"/>
            <a:ext cx="2374920" cy="2055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1" descr="Рисунок2"/>
          <p:cNvPicPr/>
          <p:nvPr/>
        </p:nvPicPr>
        <p:blipFill>
          <a:blip r:embed="rId5"/>
          <a:stretch/>
        </p:blipFill>
        <p:spPr>
          <a:xfrm>
            <a:off x="6227640" y="981000"/>
            <a:ext cx="2230560" cy="15843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2" descr="Fizr7_14_3"/>
          <p:cNvPicPr/>
          <p:nvPr/>
        </p:nvPicPr>
        <p:blipFill>
          <a:blip r:embed="rId6"/>
          <a:srcRect l="76883" t="17142" r="6288" b="54044"/>
          <a:stretch/>
        </p:blipFill>
        <p:spPr>
          <a:xfrm>
            <a:off x="3851280" y="981000"/>
            <a:ext cx="1409760" cy="1728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3" descr="Fizr7_14_3"/>
          <p:cNvPicPr/>
          <p:nvPr/>
        </p:nvPicPr>
        <p:blipFill>
          <a:blip r:embed="rId7"/>
          <a:srcRect l="74587" t="57721" r="5530" b="11301"/>
          <a:stretch/>
        </p:blipFill>
        <p:spPr>
          <a:xfrm>
            <a:off x="3635280" y="3429000"/>
            <a:ext cx="1806840" cy="2016000"/>
          </a:xfrm>
          <a:prstGeom prst="rect">
            <a:avLst/>
          </a:prstGeom>
          <a:ln w="0">
            <a:noFill/>
          </a:ln>
        </p:spPr>
      </p:pic>
      <p:sp>
        <p:nvSpPr>
          <p:cNvPr id="926" name="Text Box 14"/>
          <p:cNvSpPr/>
          <p:nvPr/>
        </p:nvSpPr>
        <p:spPr>
          <a:xfrm>
            <a:off x="6420240" y="26370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жа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3689280" y="27082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у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3564000" y="54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7"/>
          <p:cNvSpPr/>
          <p:nvPr/>
        </p:nvSpPr>
        <p:spPr>
          <a:xfrm>
            <a:off x="6443640" y="5589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дви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60"/>
          <p:cNvSpPr/>
          <p:nvPr/>
        </p:nvSpPr>
        <p:spPr>
          <a:xfrm>
            <a:off x="4572000" y="98100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939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940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5d1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942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0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955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8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69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0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1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2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3" name="AutoShape 96"/>
            <p:cNvCxnSpPr>
              <a:stCxn id="972" idx="0"/>
              <a:endCxn id="967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4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5" name="Oval 9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1531800" y="878040"/>
            <a:ext cx="58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374760" y="2276640"/>
            <a:ext cx="7993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Упругая 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6">
            <a:hlinkClick r:id="rId1" action="ppaction://hlinksldjump"/>
          </p:cNvPr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Picture 9" descr="book35"/>
          <p:cNvPicPr/>
          <p:nvPr/>
        </p:nvPicPr>
        <p:blipFill>
          <a:blip r:embed="rId2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3"/>
          <p:cNvSpPr/>
          <p:nvPr/>
        </p:nvSpPr>
        <p:spPr>
          <a:xfrm>
            <a:off x="250920" y="981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тело и опора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неподвижны или движутся прямолинейно и равномер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те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 своему численному значению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равен силе тяже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5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Picture 9" descr="book35"/>
          <p:cNvPicPr/>
          <p:nvPr/>
        </p:nvPicPr>
        <p:blipFill>
          <a:blip r:embed="rId2"/>
          <a:stretch/>
        </p:blipFill>
        <p:spPr>
          <a:xfrm>
            <a:off x="7020000" y="458136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4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250920" y="981000"/>
            <a:ext cx="8642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990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991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997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9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1000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1001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1006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1009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1014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6" name="Oval 55">
            <a:hlinkClick r:id="rId4" action="ppaction://hlinksldjump"/>
          </p:cNvPr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250920" y="981000"/>
            <a:ext cx="857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1027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1031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1034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7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8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1039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1043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6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047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1048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0" name="Oval 6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71" dur="2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82" dur="2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250920" y="1197000"/>
            <a:ext cx="496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4">
            <a:hlinkClick r:id="rId1" action="ppaction://hlinksldjump"/>
          </p:cNvPr>
          <p:cNvSpPr/>
          <p:nvPr/>
        </p:nvSpPr>
        <p:spPr>
          <a:xfrm>
            <a:off x="3708360" y="1916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5">
            <a:hlinkClick r:id="rId2" action="ppaction://hlinksldjump"/>
          </p:cNvPr>
          <p:cNvSpPr/>
          <p:nvPr/>
        </p:nvSpPr>
        <p:spPr>
          <a:xfrm>
            <a:off x="4572000" y="1268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6">
            <a:hlinkClick r:id="rId3" action="ppaction://hlinksldjump"/>
          </p:cNvPr>
          <p:cNvSpPr/>
          <p:nvPr/>
        </p:nvSpPr>
        <p:spPr>
          <a:xfrm>
            <a:off x="3995640" y="2637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7">
            <a:hlinkClick r:id="rId4" action="ppaction://hlinksldjump"/>
          </p:cNvPr>
          <p:cNvSpPr/>
          <p:nvPr/>
        </p:nvSpPr>
        <p:spPr>
          <a:xfrm>
            <a:off x="2627280" y="3213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9">
            <a:hlinkClick r:id="rId5" action="ppaction://hlinksldjump"/>
          </p:cNvPr>
          <p:cNvSpPr/>
          <p:nvPr/>
        </p:nvSpPr>
        <p:spPr>
          <a:xfrm>
            <a:off x="3189240" y="386064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10">
            <a:hlinkClick r:id="rId6" action="ppaction://hlinksldjump"/>
          </p:cNvPr>
          <p:cNvSpPr/>
          <p:nvPr/>
        </p:nvSpPr>
        <p:spPr>
          <a:xfrm>
            <a:off x="3219480" y="451476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11">
            <a:hlinkClick r:id="rId7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10" descr="book37"/>
          <p:cNvPicPr/>
          <p:nvPr/>
        </p:nvPicPr>
        <p:blipFill>
          <a:blip r:embed="rId8"/>
          <a:stretch/>
        </p:blipFill>
        <p:spPr>
          <a:xfrm>
            <a:off x="5573880" y="4221000"/>
            <a:ext cx="3033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"/>
          <p:cNvSpPr/>
          <p:nvPr/>
        </p:nvSpPr>
        <p:spPr>
          <a:xfrm>
            <a:off x="250920" y="981000"/>
            <a:ext cx="85708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88" dur="2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5"/>
          <p:cNvSpPr/>
          <p:nvPr/>
        </p:nvSpPr>
        <p:spPr>
          <a:xfrm>
            <a:off x="250920" y="479736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 больше сила, прижимающая тело к поверхности, тем больше сила тр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Freeform 7"/>
          <p:cNvSpPr/>
          <p:nvPr/>
        </p:nvSpPr>
        <p:spPr>
          <a:xfrm>
            <a:off x="611280" y="1600200"/>
            <a:ext cx="7921440" cy="60156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Freeform 8"/>
          <p:cNvSpPr/>
          <p:nvPr/>
        </p:nvSpPr>
        <p:spPr>
          <a:xfrm>
            <a:off x="611280" y="112392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reeform 9"/>
          <p:cNvSpPr/>
          <p:nvPr/>
        </p:nvSpPr>
        <p:spPr>
          <a:xfrm>
            <a:off x="611280" y="3645000"/>
            <a:ext cx="7921440" cy="57456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3" y="5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50" y="16"/>
                </a:lnTo>
                <a:lnTo>
                  <a:pt x="1082" y="172"/>
                </a:lnTo>
                <a:lnTo>
                  <a:pt x="852" y="50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Freeform 10"/>
          <p:cNvSpPr/>
          <p:nvPr/>
        </p:nvSpPr>
        <p:spPr>
          <a:xfrm>
            <a:off x="611280" y="3139920"/>
            <a:ext cx="7921440" cy="57636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Group 23"/>
          <p:cNvGrpSpPr/>
          <p:nvPr/>
        </p:nvGrpSpPr>
        <p:grpSpPr>
          <a:xfrm>
            <a:off x="3635280" y="907920"/>
            <a:ext cx="936720" cy="581400"/>
            <a:chOff x="3635280" y="907920"/>
            <a:chExt cx="936720" cy="581400"/>
          </a:xfrm>
        </p:grpSpPr>
        <p:sp>
          <p:nvSpPr>
            <p:cNvPr id="1063" name="Line 11"/>
            <p:cNvSpPr/>
            <p:nvPr/>
          </p:nvSpPr>
          <p:spPr>
            <a:xfrm flipH="1">
              <a:off x="3635280" y="148428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19"/>
            <p:cNvGrpSpPr/>
            <p:nvPr/>
          </p:nvGrpSpPr>
          <p:grpSpPr>
            <a:xfrm>
              <a:off x="3710160" y="907920"/>
              <a:ext cx="680760" cy="581400"/>
              <a:chOff x="3710160" y="907920"/>
              <a:chExt cx="680760" cy="581400"/>
            </a:xfrm>
          </p:grpSpPr>
          <p:sp>
            <p:nvSpPr>
              <p:cNvPr id="1065" name="Text Box 20"/>
              <p:cNvSpPr/>
              <p:nvPr/>
            </p:nvSpPr>
            <p:spPr>
              <a:xfrm>
                <a:off x="3710160" y="9079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21"/>
              <p:cNvSpPr/>
              <p:nvPr/>
            </p:nvSpPr>
            <p:spPr>
              <a:xfrm>
                <a:off x="3871800" y="98892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7" name="Rectangle 25"/>
          <p:cNvSpPr/>
          <p:nvPr/>
        </p:nvSpPr>
        <p:spPr>
          <a:xfrm>
            <a:off x="3132000" y="249228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6"/>
          <p:cNvSpPr/>
          <p:nvPr/>
        </p:nvSpPr>
        <p:spPr>
          <a:xfrm>
            <a:off x="3132000" y="285264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Group 24"/>
          <p:cNvGrpSpPr/>
          <p:nvPr/>
        </p:nvGrpSpPr>
        <p:grpSpPr>
          <a:xfrm>
            <a:off x="2773440" y="3068640"/>
            <a:ext cx="1798560" cy="581400"/>
            <a:chOff x="2773440" y="3068640"/>
            <a:chExt cx="1798560" cy="581400"/>
          </a:xfrm>
        </p:grpSpPr>
        <p:grpSp>
          <p:nvGrpSpPr>
            <p:cNvPr id="1070" name="Group 14"/>
            <p:cNvGrpSpPr/>
            <p:nvPr/>
          </p:nvGrpSpPr>
          <p:grpSpPr>
            <a:xfrm>
              <a:off x="2773440" y="3068640"/>
              <a:ext cx="680760" cy="581400"/>
              <a:chOff x="2773440" y="3068640"/>
              <a:chExt cx="680760" cy="581400"/>
            </a:xfrm>
          </p:grpSpPr>
          <p:sp>
            <p:nvSpPr>
              <p:cNvPr id="1071" name="Text Box 12"/>
              <p:cNvSpPr/>
              <p:nvPr/>
            </p:nvSpPr>
            <p:spPr>
              <a:xfrm>
                <a:off x="2773440" y="3068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Line 13"/>
              <p:cNvSpPr/>
              <p:nvPr/>
            </p:nvSpPr>
            <p:spPr>
              <a:xfrm>
                <a:off x="2935080" y="314964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Line 22"/>
            <p:cNvSpPr/>
            <p:nvPr/>
          </p:nvSpPr>
          <p:spPr>
            <a:xfrm flipH="1">
              <a:off x="2843280" y="3645000"/>
              <a:ext cx="1728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Oval 2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196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198" dur="2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-1.11111E-006 L -1.38889E-006 0.05232 E">
                                      <p:cBhvr>
                                        <p:cTn id="211" dur="2000" fill="hold"/>
                                        <p:tgtEl>
                                          <p:spTgt spid="10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19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2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129 L 0.04722 0.02129 E">
                                      <p:cBhvr>
                                        <p:cTn id="227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0 E">
                                      <p:cBhvr>
                                        <p:cTn id="229" dur="2000" fill="hold"/>
                                        <p:tgtEl>
                                          <p:spTgt spid="1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2593 L 0.04722 0.02593 E">
                                      <p:cBhvr>
                                        <p:cTn id="23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29"/>
          <p:cNvSpPr/>
          <p:nvPr/>
        </p:nvSpPr>
        <p:spPr>
          <a:xfrm>
            <a:off x="611280" y="5013360"/>
            <a:ext cx="7920000" cy="36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4"/>
          <p:cNvSpPr/>
          <p:nvPr/>
        </p:nvSpPr>
        <p:spPr>
          <a:xfrm>
            <a:off x="611280" y="4581360"/>
            <a:ext cx="7920000" cy="432000"/>
          </a:xfrm>
          <a:prstGeom prst="rect">
            <a:avLst/>
          </a:prstGeom>
          <a:solidFill>
            <a:srgbClr val="ff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Freeform 5"/>
          <p:cNvSpPr/>
          <p:nvPr/>
        </p:nvSpPr>
        <p:spPr>
          <a:xfrm>
            <a:off x="611280" y="1628640"/>
            <a:ext cx="7921440" cy="60192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Freeform 6"/>
          <p:cNvSpPr/>
          <p:nvPr/>
        </p:nvSpPr>
        <p:spPr>
          <a:xfrm>
            <a:off x="611280" y="115236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Group 9"/>
          <p:cNvGrpSpPr/>
          <p:nvPr/>
        </p:nvGrpSpPr>
        <p:grpSpPr>
          <a:xfrm>
            <a:off x="3635280" y="936720"/>
            <a:ext cx="936720" cy="581400"/>
            <a:chOff x="3635280" y="936720"/>
            <a:chExt cx="936720" cy="581400"/>
          </a:xfrm>
        </p:grpSpPr>
        <p:sp>
          <p:nvSpPr>
            <p:cNvPr id="1081" name="Line 10"/>
            <p:cNvSpPr/>
            <p:nvPr/>
          </p:nvSpPr>
          <p:spPr>
            <a:xfrm flipH="1">
              <a:off x="3635280" y="151272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1"/>
            <p:cNvGrpSpPr/>
            <p:nvPr/>
          </p:nvGrpSpPr>
          <p:grpSpPr>
            <a:xfrm>
              <a:off x="3710160" y="936720"/>
              <a:ext cx="680760" cy="581400"/>
              <a:chOff x="3710160" y="936720"/>
              <a:chExt cx="680760" cy="581400"/>
            </a:xfrm>
          </p:grpSpPr>
          <p:sp>
            <p:nvSpPr>
              <p:cNvPr id="1083" name="Text Box 12"/>
              <p:cNvSpPr/>
              <p:nvPr/>
            </p:nvSpPr>
            <p:spPr>
              <a:xfrm>
                <a:off x="3710160" y="9367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3"/>
              <p:cNvSpPr/>
              <p:nvPr/>
            </p:nvSpPr>
            <p:spPr>
              <a:xfrm>
                <a:off x="3871800" y="101736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5" name="Freeform 21"/>
          <p:cNvSpPr/>
          <p:nvPr/>
        </p:nvSpPr>
        <p:spPr>
          <a:xfrm>
            <a:off x="592200" y="4941720"/>
            <a:ext cx="7940520" cy="601920"/>
          </a:xfrm>
          <a:custGeom>
            <a:avLst/>
            <a:gdLst/>
            <a:ahLst/>
            <a:rect l="l" t="t" r="r" b="b"/>
            <a:pathLst>
              <a:path w="5002" h="379">
                <a:moveTo>
                  <a:pt x="17" y="80"/>
                </a:moveTo>
                <a:lnTo>
                  <a:pt x="0" y="368"/>
                </a:lnTo>
                <a:lnTo>
                  <a:pt x="5002" y="379"/>
                </a:lnTo>
                <a:lnTo>
                  <a:pt x="4996" y="68"/>
                </a:lnTo>
                <a:lnTo>
                  <a:pt x="4821" y="93"/>
                </a:lnTo>
                <a:lnTo>
                  <a:pt x="4657" y="26"/>
                </a:lnTo>
                <a:lnTo>
                  <a:pt x="4440" y="144"/>
                </a:lnTo>
                <a:lnTo>
                  <a:pt x="4133" y="0"/>
                </a:lnTo>
                <a:lnTo>
                  <a:pt x="3754" y="189"/>
                </a:lnTo>
                <a:lnTo>
                  <a:pt x="3617" y="76"/>
                </a:lnTo>
                <a:lnTo>
                  <a:pt x="3422" y="189"/>
                </a:lnTo>
                <a:lnTo>
                  <a:pt x="3097" y="34"/>
                </a:lnTo>
                <a:lnTo>
                  <a:pt x="3012" y="161"/>
                </a:lnTo>
                <a:lnTo>
                  <a:pt x="2818" y="127"/>
                </a:lnTo>
                <a:lnTo>
                  <a:pt x="2674" y="252"/>
                </a:lnTo>
                <a:lnTo>
                  <a:pt x="2500" y="51"/>
                </a:lnTo>
                <a:lnTo>
                  <a:pt x="2274" y="161"/>
                </a:lnTo>
                <a:lnTo>
                  <a:pt x="2049" y="85"/>
                </a:lnTo>
                <a:lnTo>
                  <a:pt x="1878" y="203"/>
                </a:lnTo>
                <a:lnTo>
                  <a:pt x="1609" y="25"/>
                </a:lnTo>
                <a:lnTo>
                  <a:pt x="1505" y="220"/>
                </a:lnTo>
                <a:lnTo>
                  <a:pt x="1270" y="25"/>
                </a:lnTo>
                <a:lnTo>
                  <a:pt x="1094" y="189"/>
                </a:lnTo>
                <a:lnTo>
                  <a:pt x="864" y="51"/>
                </a:lnTo>
                <a:lnTo>
                  <a:pt x="663" y="178"/>
                </a:lnTo>
                <a:lnTo>
                  <a:pt x="481" y="112"/>
                </a:lnTo>
                <a:lnTo>
                  <a:pt x="258" y="214"/>
                </a:lnTo>
                <a:lnTo>
                  <a:pt x="17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Freeform 22"/>
          <p:cNvSpPr/>
          <p:nvPr/>
        </p:nvSpPr>
        <p:spPr>
          <a:xfrm>
            <a:off x="592200" y="4392720"/>
            <a:ext cx="7940520" cy="568080"/>
          </a:xfrm>
          <a:custGeom>
            <a:avLst/>
            <a:gdLst/>
            <a:ahLst/>
            <a:rect l="l" t="t" r="r" b="b"/>
            <a:pathLst>
              <a:path w="5002" h="358">
                <a:moveTo>
                  <a:pt x="5002" y="255"/>
                </a:moveTo>
                <a:lnTo>
                  <a:pt x="5002" y="0"/>
                </a:lnTo>
                <a:lnTo>
                  <a:pt x="0" y="3"/>
                </a:lnTo>
                <a:lnTo>
                  <a:pt x="8" y="274"/>
                </a:lnTo>
                <a:lnTo>
                  <a:pt x="194" y="358"/>
                </a:lnTo>
                <a:lnTo>
                  <a:pt x="466" y="307"/>
                </a:lnTo>
                <a:lnTo>
                  <a:pt x="577" y="177"/>
                </a:lnTo>
                <a:lnTo>
                  <a:pt x="678" y="329"/>
                </a:lnTo>
                <a:lnTo>
                  <a:pt x="886" y="231"/>
                </a:lnTo>
                <a:lnTo>
                  <a:pt x="1118" y="332"/>
                </a:lnTo>
                <a:lnTo>
                  <a:pt x="1260" y="191"/>
                </a:lnTo>
                <a:lnTo>
                  <a:pt x="1343" y="318"/>
                </a:lnTo>
                <a:lnTo>
                  <a:pt x="1599" y="188"/>
                </a:lnTo>
                <a:lnTo>
                  <a:pt x="1785" y="298"/>
                </a:lnTo>
                <a:lnTo>
                  <a:pt x="2080" y="307"/>
                </a:lnTo>
                <a:lnTo>
                  <a:pt x="2340" y="127"/>
                </a:lnTo>
                <a:lnTo>
                  <a:pt x="2507" y="296"/>
                </a:lnTo>
                <a:lnTo>
                  <a:pt x="2708" y="215"/>
                </a:lnTo>
                <a:lnTo>
                  <a:pt x="2865" y="307"/>
                </a:lnTo>
                <a:lnTo>
                  <a:pt x="3074" y="205"/>
                </a:lnTo>
                <a:lnTo>
                  <a:pt x="3338" y="324"/>
                </a:lnTo>
                <a:lnTo>
                  <a:pt x="3595" y="301"/>
                </a:lnTo>
                <a:lnTo>
                  <a:pt x="3912" y="320"/>
                </a:lnTo>
                <a:lnTo>
                  <a:pt x="4046" y="215"/>
                </a:lnTo>
                <a:lnTo>
                  <a:pt x="4277" y="256"/>
                </a:lnTo>
                <a:lnTo>
                  <a:pt x="4440" y="158"/>
                </a:lnTo>
                <a:lnTo>
                  <a:pt x="4533" y="268"/>
                </a:lnTo>
                <a:lnTo>
                  <a:pt x="4756" y="165"/>
                </a:lnTo>
                <a:lnTo>
                  <a:pt x="5002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Group 30"/>
          <p:cNvGrpSpPr/>
          <p:nvPr/>
        </p:nvGrpSpPr>
        <p:grpSpPr>
          <a:xfrm>
            <a:off x="3924000" y="4292640"/>
            <a:ext cx="755640" cy="581400"/>
            <a:chOff x="3924000" y="4292640"/>
            <a:chExt cx="755640" cy="581400"/>
          </a:xfrm>
        </p:grpSpPr>
        <p:sp>
          <p:nvSpPr>
            <p:cNvPr id="1088" name="Line 24"/>
            <p:cNvSpPr/>
            <p:nvPr/>
          </p:nvSpPr>
          <p:spPr>
            <a:xfrm flipH="1">
              <a:off x="3924000" y="4865400"/>
              <a:ext cx="577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Group 25"/>
            <p:cNvGrpSpPr/>
            <p:nvPr/>
          </p:nvGrpSpPr>
          <p:grpSpPr>
            <a:xfrm>
              <a:off x="3998880" y="4292640"/>
              <a:ext cx="680760" cy="581400"/>
              <a:chOff x="3998880" y="4292640"/>
              <a:chExt cx="680760" cy="581400"/>
            </a:xfrm>
          </p:grpSpPr>
          <p:sp>
            <p:nvSpPr>
              <p:cNvPr id="1090" name="Text Box 26"/>
              <p:cNvSpPr/>
              <p:nvPr/>
            </p:nvSpPr>
            <p:spPr>
              <a:xfrm>
                <a:off x="3998880" y="4292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Line 27"/>
              <p:cNvSpPr/>
              <p:nvPr/>
            </p:nvSpPr>
            <p:spPr>
              <a:xfrm>
                <a:off x="4160520" y="437292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2" name="Text Box 28"/>
          <p:cNvSpPr/>
          <p:nvPr/>
        </p:nvSpPr>
        <p:spPr>
          <a:xfrm>
            <a:off x="250920" y="292428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 из способов уменьшить силу трения – смаз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243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245" dur="2000" fill="hold"/>
                                        <p:tgtEl>
                                          <p:spTgt spid="10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2" dur="1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4" dur="1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6" dur="1000" fill="hold"/>
                                        <p:tgtEl>
                                          <p:spTgt spid="10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, которая возникает при скольжении одного тела по поверхности другого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скольж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098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02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5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06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07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9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11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13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Oval 49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82" dur="2000" fill="hold"/>
                                        <p:tgtEl>
                                          <p:spTgt spid="1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86" dur="1000" fill="hold"/>
                                        <p:tgtEl>
                                          <p:spTgt spid="1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3"/>
          <p:cNvSpPr/>
          <p:nvPr/>
        </p:nvSpPr>
        <p:spPr>
          <a:xfrm>
            <a:off x="250920" y="765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авных нагрузках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ка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сегда меньше силы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4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Group 5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127" name="Rectangle 6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7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8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Group 9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31" name="Line 10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Text Box 11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3" name="Line 12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4" name="Object 13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35" name="Group 14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36" name="Text Box 15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Line 16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8" name="Line 17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9" name="Group 18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40" name="Line 1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1" name="Object 2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42" name="Rectangle 21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Line 22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23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24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Text Box 25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Text Box 26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27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Oval 28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Oval 29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Oval 30">
            <a:hlinkClick r:id="rId1" action="ppaction://hlinksldjump"/>
          </p:cNvPr>
          <p:cNvSpPr/>
          <p:nvPr/>
        </p:nvSpPr>
        <p:spPr>
          <a:xfrm>
            <a:off x="7883640" y="644832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92" dur="2000" fill="hold"/>
                                        <p:tgtEl>
                                          <p:spTgt spid="1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96" dur="1000" fill="hold"/>
                                        <p:tgtEl>
                                          <p:spTgt spid="1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30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Picture 32" descr="kp_007"/>
          <p:cNvPicPr/>
          <p:nvPr/>
        </p:nvPicPr>
        <p:blipFill>
          <a:blip r:embed="rId2"/>
          <a:srcRect l="12542" t="0" r="9602" b="0"/>
          <a:stretch/>
        </p:blipFill>
        <p:spPr>
          <a:xfrm>
            <a:off x="3708360" y="1844640"/>
            <a:ext cx="4465800" cy="4302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155" name="Picture 31" descr="bearing"/>
          <p:cNvPicPr/>
          <p:nvPr/>
        </p:nvPicPr>
        <p:blipFill>
          <a:blip r:embed="rId3"/>
          <a:stretch/>
        </p:blipFill>
        <p:spPr>
          <a:xfrm>
            <a:off x="395280" y="765000"/>
            <a:ext cx="4562640" cy="38484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3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Picture 4" descr="99b"/>
          <p:cNvPicPr/>
          <p:nvPr/>
        </p:nvPicPr>
        <p:blipFill>
          <a:blip r:embed="rId2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8" descr="michelin_X-Crane_AT"/>
          <p:cNvPicPr/>
          <p:nvPr/>
        </p:nvPicPr>
        <p:blipFill>
          <a:blip r:embed="rId3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Line 5"/>
          <p:cNvSpPr/>
          <p:nvPr/>
        </p:nvSpPr>
        <p:spPr>
          <a:xfrm flipV="1">
            <a:off x="1332000" y="1988640"/>
            <a:ext cx="65530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6"/>
          <p:cNvSpPr/>
          <p:nvPr/>
        </p:nvSpPr>
        <p:spPr>
          <a:xfrm>
            <a:off x="2124000" y="1486080"/>
            <a:ext cx="936720" cy="431640"/>
          </a:xfrm>
          <a:prstGeom prst="rect">
            <a:avLst/>
          </a:prstGeom>
          <a:solidFill>
            <a:srgbClr val="694f07"/>
          </a:solidFill>
          <a:ln w="57240">
            <a:solidFill>
              <a:srgbClr val="694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7"/>
          <p:cNvSpPr/>
          <p:nvPr/>
        </p:nvSpPr>
        <p:spPr>
          <a:xfrm>
            <a:off x="2627280" y="1700280"/>
            <a:ext cx="7923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9"/>
          <p:cNvSpPr/>
          <p:nvPr/>
        </p:nvSpPr>
        <p:spPr>
          <a:xfrm flipH="1">
            <a:off x="1332000" y="1917720"/>
            <a:ext cx="79200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13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14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15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6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9"/>
          <p:cNvSpPr/>
          <p:nvPr/>
        </p:nvSpPr>
        <p:spPr>
          <a:xfrm>
            <a:off x="2627280" y="1701720"/>
            <a:ext cx="13701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20"/>
          <p:cNvSpPr/>
          <p:nvPr/>
        </p:nvSpPr>
        <p:spPr>
          <a:xfrm flipH="1">
            <a:off x="755280" y="1917720"/>
            <a:ext cx="136836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Group 21"/>
          <p:cNvGrpSpPr/>
          <p:nvPr/>
        </p:nvGrpSpPr>
        <p:grpSpPr>
          <a:xfrm>
            <a:off x="3211560" y="1125360"/>
            <a:ext cx="867960" cy="520560"/>
            <a:chOff x="3211560" y="1125360"/>
            <a:chExt cx="867960" cy="520560"/>
          </a:xfrm>
        </p:grpSpPr>
        <p:sp>
          <p:nvSpPr>
            <p:cNvPr id="1172" name="Text Box 22"/>
            <p:cNvSpPr/>
            <p:nvPr/>
          </p:nvSpPr>
          <p:spPr>
            <a:xfrm>
              <a:off x="3211560" y="1125360"/>
              <a:ext cx="86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Times New Roman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23"/>
            <p:cNvSpPr/>
            <p:nvPr/>
          </p:nvSpPr>
          <p:spPr>
            <a:xfrm>
              <a:off x="3222720" y="115560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Group 24"/>
          <p:cNvGrpSpPr/>
          <p:nvPr/>
        </p:nvGrpSpPr>
        <p:grpSpPr>
          <a:xfrm>
            <a:off x="1195920" y="1343160"/>
            <a:ext cx="636480" cy="520560"/>
            <a:chOff x="1195920" y="1343160"/>
            <a:chExt cx="636480" cy="520560"/>
          </a:xfrm>
        </p:grpSpPr>
        <p:sp>
          <p:nvSpPr>
            <p:cNvPr id="1175" name="Text Box 25"/>
            <p:cNvSpPr/>
            <p:nvPr/>
          </p:nvSpPr>
          <p:spPr>
            <a:xfrm>
              <a:off x="1195920" y="134316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Times New Roman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26"/>
            <p:cNvSpPr/>
            <p:nvPr/>
          </p:nvSpPr>
          <p:spPr>
            <a:xfrm>
              <a:off x="1206360" y="137340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Line 27"/>
          <p:cNvSpPr/>
          <p:nvPr/>
        </p:nvSpPr>
        <p:spPr>
          <a:xfrm>
            <a:off x="2627280" y="1700280"/>
            <a:ext cx="201600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8"/>
          <p:cNvSpPr/>
          <p:nvPr/>
        </p:nvSpPr>
        <p:spPr>
          <a:xfrm flipH="1">
            <a:off x="179280" y="1917720"/>
            <a:ext cx="194472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29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30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31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32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33"/>
          <p:cNvSpPr/>
          <p:nvPr/>
        </p:nvSpPr>
        <p:spPr>
          <a:xfrm>
            <a:off x="250920" y="31417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у трения, действующую между двумя телами, неподвижными относительно друг друга называют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34"/>
          <p:cNvSpPr/>
          <p:nvPr/>
        </p:nvSpPr>
        <p:spPr>
          <a:xfrm>
            <a:off x="250920" y="4724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ьшее значение силы трения, при котором скольжение еще не наступает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максимальной 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Oval 35">
            <a:hlinkClick r:id="rId1" action="ppaction://hlinksldjump"/>
          </p:cNvPr>
          <p:cNvSpPr/>
          <p:nvPr/>
        </p:nvSpPr>
        <p:spPr>
          <a:xfrm>
            <a:off x="1654200" y="641664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39" dur="20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1" dur="20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3" dur="2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5" dur="20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7" dur="2000" fill="hold"/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9" dur="2000" fill="hold"/>
                                        <p:tgtEl>
                                          <p:spTgt spid="1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1" dur="20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3" dur="20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5" dur="2000" fill="hold"/>
                                        <p:tgtEl>
                                          <p:spTgt spid="1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7" dur="20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9" dur="20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1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3" dur="20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5" dur="2000" fill="hold"/>
                                        <p:tgtEl>
                                          <p:spTgt spid="1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7" dur="2000" fill="hold"/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9" dur="2000" fill="hold"/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71" dur="2000" fill="hold"/>
                                        <p:tgtEl>
                                          <p:spTgt spid="1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1188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5d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1195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1211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1212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1220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1227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8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cc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1232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1235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1238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1241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2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Group 63"/>
          <p:cNvGrpSpPr/>
          <p:nvPr/>
        </p:nvGrpSpPr>
        <p:grpSpPr>
          <a:xfrm>
            <a:off x="3059280" y="2708280"/>
            <a:ext cx="5760720" cy="825480"/>
            <a:chOff x="3059280" y="270828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1244" name="Object 59"/>
                <p:cNvSpPr txBox="1"/>
                <p:nvPr/>
              </p:nvSpPr>
              <p:spPr>
                <a:xfrm>
                  <a:off x="3059280" y="270828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5" name="Text Box 61"/>
            <p:cNvSpPr/>
            <p:nvPr/>
          </p:nvSpPr>
          <p:spPr>
            <a:xfrm>
              <a:off x="5362560" y="270828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46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Oval 6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5">
            <a:hlinkClick r:id="rId1" action="ppaction://hlinksldjump"/>
          </p:cNvPr>
          <p:cNvSpPr/>
          <p:nvPr/>
        </p:nvSpPr>
        <p:spPr>
          <a:xfrm>
            <a:off x="1014480" y="6489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0" name="Picture 7" descr="Картинка 12 из 111">
            <a:hlinkClick r:id="rId2"/>
          </p:cNvPr>
          <p:cNvPicPr/>
          <p:nvPr/>
        </p:nvPicPr>
        <p:blipFill>
          <a:blip r:embed="rId3"/>
          <a:srcRect l="22676" t="0" r="21895" b="0"/>
          <a:stretch/>
        </p:blipFill>
        <p:spPr>
          <a:xfrm>
            <a:off x="179280" y="1052640"/>
            <a:ext cx="2246400" cy="540072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9" descr="Картинка 23 из 110"/>
          <p:cNvPicPr/>
          <p:nvPr/>
        </p:nvPicPr>
        <p:blipFill>
          <a:blip r:embed="rId4"/>
          <a:stretch/>
        </p:blipFill>
        <p:spPr>
          <a:xfrm>
            <a:off x="5724360" y="907920"/>
            <a:ext cx="2802240" cy="2802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252" name="Picture 11" descr="Картинка 7 из 111"/>
          <p:cNvPicPr/>
          <p:nvPr/>
        </p:nvPicPr>
        <p:blipFill>
          <a:blip r:embed="rId5"/>
          <a:srcRect l="20798" t="0" r="22546" b="0"/>
          <a:stretch/>
        </p:blipFill>
        <p:spPr>
          <a:xfrm>
            <a:off x="2050920" y="765000"/>
            <a:ext cx="2992680" cy="396108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13" descr="Картинка 3 из 111"/>
          <p:cNvPicPr/>
          <p:nvPr/>
        </p:nvPicPr>
        <p:blipFill>
          <a:blip r:embed="rId6"/>
          <a:srcRect l="0" t="9572" r="0" b="13642"/>
          <a:stretch/>
        </p:blipFill>
        <p:spPr>
          <a:xfrm>
            <a:off x="3995640" y="4149720"/>
            <a:ext cx="3997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250920" y="836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8700"/>
                </a:solidFill>
                <a:uFillTx/>
                <a:latin typeface="Arial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9" descr="book35"/>
          <p:cNvPicPr/>
          <p:nvPr/>
        </p:nvPicPr>
        <p:blipFill>
          <a:blip r:embed="rId2"/>
          <a:stretch/>
        </p:blipFill>
        <p:spPr>
          <a:xfrm>
            <a:off x="6875640" y="2884320"/>
            <a:ext cx="1657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итература /ресурсы/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dic.academic.ru/dic.nsf/enc1p/4343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edu.yar.ru/russian/projects/socnav/prep/phis001/dyn/dyn13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youtube.com/watch?v=SW70N8eAF9w&amp;feature=rela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kakprosto.ru/kak-132858-kak-vstavit-v-prezentaciyu-animaciy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630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631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633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5d1d7"/>
                </a:solidFill>
                <a:ln w="9360">
                  <a:solidFill>
                    <a:srgbClr val="c5d1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7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638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b400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ccb4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ccb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0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642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659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663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665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ccb4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668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670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674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d163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676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d16349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d163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8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679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682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683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692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693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702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704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707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711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712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714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6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4"/>
          <p:cNvSpPr/>
          <p:nvPr/>
        </p:nvSpPr>
        <p:spPr>
          <a:xfrm rot="19651800">
            <a:off x="3982680" y="2381040"/>
            <a:ext cx="936720" cy="107640"/>
          </a:xfrm>
          <a:prstGeom prst="rect">
            <a:avLst/>
          </a:prstGeom>
          <a:gradFill rotWithShape="0">
            <a:gsLst>
              <a:gs pos="0">
                <a:srgbClr val="053005"/>
              </a:gs>
              <a:gs pos="50000">
                <a:srgbClr val="11a711"/>
              </a:gs>
              <a:gs pos="100000">
                <a:srgbClr val="053005"/>
              </a:gs>
            </a:gsLst>
            <a:lin ang="73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3995640" y="2708280"/>
            <a:ext cx="4753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reeform 12"/>
          <p:cNvSpPr/>
          <p:nvPr/>
        </p:nvSpPr>
        <p:spPr>
          <a:xfrm>
            <a:off x="612720" y="1197000"/>
            <a:ext cx="2303640" cy="2448000"/>
          </a:xfrm>
          <a:custGeom>
            <a:avLst/>
            <a:gdLst/>
            <a:ahLst/>
            <a:rect l="l" t="t" r="r" b="b"/>
            <a:pathLst>
              <a:path w="1451" h="1542">
                <a:moveTo>
                  <a:pt x="211" y="443"/>
                </a:moveTo>
                <a:lnTo>
                  <a:pt x="136" y="362"/>
                </a:lnTo>
                <a:lnTo>
                  <a:pt x="91" y="226"/>
                </a:lnTo>
                <a:lnTo>
                  <a:pt x="0" y="136"/>
                </a:lnTo>
                <a:lnTo>
                  <a:pt x="91" y="0"/>
                </a:lnTo>
                <a:lnTo>
                  <a:pt x="227" y="226"/>
                </a:lnTo>
                <a:lnTo>
                  <a:pt x="408" y="226"/>
                </a:lnTo>
                <a:lnTo>
                  <a:pt x="363" y="362"/>
                </a:lnTo>
                <a:lnTo>
                  <a:pt x="408" y="544"/>
                </a:lnTo>
                <a:lnTo>
                  <a:pt x="453" y="317"/>
                </a:lnTo>
                <a:lnTo>
                  <a:pt x="618" y="257"/>
                </a:lnTo>
                <a:lnTo>
                  <a:pt x="635" y="359"/>
                </a:lnTo>
                <a:lnTo>
                  <a:pt x="544" y="498"/>
                </a:lnTo>
                <a:lnTo>
                  <a:pt x="499" y="680"/>
                </a:lnTo>
                <a:lnTo>
                  <a:pt x="589" y="725"/>
                </a:lnTo>
                <a:lnTo>
                  <a:pt x="589" y="816"/>
                </a:lnTo>
                <a:lnTo>
                  <a:pt x="680" y="680"/>
                </a:lnTo>
                <a:lnTo>
                  <a:pt x="816" y="725"/>
                </a:lnTo>
                <a:lnTo>
                  <a:pt x="816" y="589"/>
                </a:lnTo>
                <a:lnTo>
                  <a:pt x="998" y="589"/>
                </a:lnTo>
                <a:lnTo>
                  <a:pt x="998" y="771"/>
                </a:lnTo>
                <a:lnTo>
                  <a:pt x="862" y="861"/>
                </a:lnTo>
                <a:lnTo>
                  <a:pt x="816" y="907"/>
                </a:lnTo>
                <a:lnTo>
                  <a:pt x="635" y="907"/>
                </a:lnTo>
                <a:lnTo>
                  <a:pt x="558" y="977"/>
                </a:lnTo>
                <a:lnTo>
                  <a:pt x="408" y="1088"/>
                </a:lnTo>
                <a:lnTo>
                  <a:pt x="635" y="1043"/>
                </a:lnTo>
                <a:lnTo>
                  <a:pt x="779" y="1002"/>
                </a:lnTo>
                <a:lnTo>
                  <a:pt x="907" y="1043"/>
                </a:lnTo>
                <a:lnTo>
                  <a:pt x="1211" y="1011"/>
                </a:lnTo>
                <a:lnTo>
                  <a:pt x="1451" y="1088"/>
                </a:lnTo>
                <a:lnTo>
                  <a:pt x="1278" y="1240"/>
                </a:lnTo>
                <a:lnTo>
                  <a:pt x="952" y="1224"/>
                </a:lnTo>
                <a:lnTo>
                  <a:pt x="816" y="1270"/>
                </a:lnTo>
                <a:lnTo>
                  <a:pt x="589" y="1224"/>
                </a:lnTo>
                <a:lnTo>
                  <a:pt x="317" y="1360"/>
                </a:lnTo>
                <a:lnTo>
                  <a:pt x="181" y="1360"/>
                </a:lnTo>
                <a:lnTo>
                  <a:pt x="45" y="1542"/>
                </a:lnTo>
                <a:lnTo>
                  <a:pt x="0" y="1315"/>
                </a:lnTo>
                <a:lnTo>
                  <a:pt x="181" y="1134"/>
                </a:lnTo>
                <a:lnTo>
                  <a:pt x="181" y="952"/>
                </a:lnTo>
                <a:lnTo>
                  <a:pt x="272" y="952"/>
                </a:lnTo>
                <a:lnTo>
                  <a:pt x="270" y="808"/>
                </a:lnTo>
                <a:lnTo>
                  <a:pt x="321" y="689"/>
                </a:lnTo>
                <a:lnTo>
                  <a:pt x="372" y="816"/>
                </a:lnTo>
                <a:lnTo>
                  <a:pt x="321" y="884"/>
                </a:lnTo>
                <a:lnTo>
                  <a:pt x="406" y="884"/>
                </a:lnTo>
                <a:lnTo>
                  <a:pt x="408" y="771"/>
                </a:lnTo>
                <a:lnTo>
                  <a:pt x="321" y="545"/>
                </a:lnTo>
                <a:lnTo>
                  <a:pt x="211" y="443"/>
                </a:lnTo>
                <a:close/>
              </a:path>
            </a:pathLst>
          </a:custGeom>
          <a:solidFill>
            <a:srgbClr val="11a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5"/>
          <p:cNvSpPr/>
          <p:nvPr/>
        </p:nvSpPr>
        <p:spPr>
          <a:xfrm>
            <a:off x="3780000" y="4761000"/>
            <a:ext cx="1081080" cy="1044360"/>
          </a:xfrm>
          <a:prstGeom prst="ellipse">
            <a:avLst/>
          </a:prstGeom>
          <a:solidFill>
            <a:srgbClr val="00a3d6"/>
          </a:solidFill>
          <a:ln w="93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10"/>
          <p:cNvGrpSpPr/>
          <p:nvPr/>
        </p:nvGrpSpPr>
        <p:grpSpPr>
          <a:xfrm>
            <a:off x="4127040" y="4042440"/>
            <a:ext cx="546840" cy="357120"/>
            <a:chOff x="4127040" y="4042440"/>
            <a:chExt cx="546840" cy="357120"/>
          </a:xfrm>
        </p:grpSpPr>
        <p:sp>
          <p:nvSpPr>
            <p:cNvPr id="724" name="Oval 6"/>
            <p:cNvSpPr/>
            <p:nvPr/>
          </p:nvSpPr>
          <p:spPr>
            <a:xfrm rot="14654400">
              <a:off x="4421880" y="4147200"/>
              <a:ext cx="215640" cy="2160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7"/>
            <p:cNvSpPr/>
            <p:nvPr/>
          </p:nvSpPr>
          <p:spPr>
            <a:xfrm flipH="1">
              <a:off x="4127040" y="4302720"/>
              <a:ext cx="386640" cy="2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8"/>
            <p:cNvSpPr/>
            <p:nvPr/>
          </p:nvSpPr>
          <p:spPr>
            <a:xfrm flipH="1" flipV="1">
              <a:off x="4128480" y="4169880"/>
              <a:ext cx="35424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9"/>
            <p:cNvSpPr/>
            <p:nvPr/>
          </p:nvSpPr>
          <p:spPr>
            <a:xfrm flipH="1" flipV="1">
              <a:off x="4227840" y="4042440"/>
              <a:ext cx="31896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Freeform 11"/>
          <p:cNvSpPr/>
          <p:nvPr/>
        </p:nvSpPr>
        <p:spPr>
          <a:xfrm>
            <a:off x="539640" y="1339920"/>
            <a:ext cx="2305080" cy="2448000"/>
          </a:xfrm>
          <a:custGeom>
            <a:avLst/>
            <a:gdLst/>
            <a:ahLst/>
            <a:rect l="l" t="t" r="r" b="b"/>
            <a:pathLst>
              <a:path w="1452" h="1542">
                <a:moveTo>
                  <a:pt x="0" y="1542"/>
                </a:moveTo>
                <a:lnTo>
                  <a:pt x="273" y="1180"/>
                </a:lnTo>
                <a:lnTo>
                  <a:pt x="635" y="1089"/>
                </a:lnTo>
                <a:lnTo>
                  <a:pt x="1452" y="1089"/>
                </a:lnTo>
                <a:lnTo>
                  <a:pt x="681" y="1044"/>
                </a:lnTo>
                <a:lnTo>
                  <a:pt x="318" y="1134"/>
                </a:lnTo>
                <a:lnTo>
                  <a:pt x="545" y="817"/>
                </a:lnTo>
                <a:lnTo>
                  <a:pt x="998" y="635"/>
                </a:lnTo>
                <a:lnTo>
                  <a:pt x="545" y="771"/>
                </a:lnTo>
                <a:lnTo>
                  <a:pt x="545" y="182"/>
                </a:lnTo>
                <a:lnTo>
                  <a:pt x="499" y="590"/>
                </a:lnTo>
                <a:lnTo>
                  <a:pt x="182" y="0"/>
                </a:lnTo>
                <a:lnTo>
                  <a:pt x="499" y="681"/>
                </a:lnTo>
                <a:lnTo>
                  <a:pt x="499" y="771"/>
                </a:lnTo>
                <a:lnTo>
                  <a:pt x="363" y="998"/>
                </a:lnTo>
                <a:lnTo>
                  <a:pt x="363" y="635"/>
                </a:lnTo>
                <a:lnTo>
                  <a:pt x="318" y="998"/>
                </a:lnTo>
                <a:lnTo>
                  <a:pt x="0" y="1452"/>
                </a:lnTo>
                <a:lnTo>
                  <a:pt x="0" y="154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16"/>
          <p:cNvGrpSpPr/>
          <p:nvPr/>
        </p:nvGrpSpPr>
        <p:grpSpPr>
          <a:xfrm>
            <a:off x="4146120" y="1905840"/>
            <a:ext cx="1302480" cy="840600"/>
            <a:chOff x="4146120" y="1905840"/>
            <a:chExt cx="1302480" cy="840600"/>
          </a:xfrm>
        </p:grpSpPr>
        <p:sp>
          <p:nvSpPr>
            <p:cNvPr id="730" name="AutoShape 17"/>
            <p:cNvSpPr/>
            <p:nvPr/>
          </p:nvSpPr>
          <p:spPr>
            <a:xfrm rot="19980600">
              <a:off x="4594320" y="1988640"/>
              <a:ext cx="486720" cy="506520"/>
            </a:xfrm>
            <a:prstGeom prst="parallelogram">
              <a:avLst>
                <a:gd name="adj" fmla="val 42384"/>
              </a:avLst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8"/>
            <p:cNvSpPr/>
            <p:nvPr/>
          </p:nvSpPr>
          <p:spPr>
            <a:xfrm rot="20703600">
              <a:off x="4140000" y="2582640"/>
              <a:ext cx="806400" cy="60840"/>
            </a:xfrm>
            <a:prstGeom prst="rect">
              <a:avLst/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9"/>
            <p:cNvSpPr/>
            <p:nvPr/>
          </p:nvSpPr>
          <p:spPr>
            <a:xfrm rot="20161200">
              <a:off x="4825080" y="2073240"/>
              <a:ext cx="626040" cy="120960"/>
            </a:xfrm>
            <a:prstGeom prst="rect">
              <a:avLst/>
            </a:prstGeom>
            <a:gradFill rotWithShape="0">
              <a:gsLst>
                <a:gs pos="0">
                  <a:srgbClr val="084d08"/>
                </a:gs>
                <a:gs pos="50000">
                  <a:srgbClr val="11a711"/>
                </a:gs>
                <a:gs pos="100000">
                  <a:srgbClr val="084d08"/>
                </a:gs>
              </a:gsLst>
              <a:lin ang="68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20"/>
            <p:cNvSpPr/>
            <p:nvPr/>
          </p:nvSpPr>
          <p:spPr>
            <a:xfrm>
              <a:off x="4594320" y="2322720"/>
              <a:ext cx="378720" cy="385200"/>
            </a:xfrm>
            <a:prstGeom prst="ellipse">
              <a:avLst/>
            </a:prstGeom>
            <a:gradFill rotWithShape="0">
              <a:gsLst>
                <a:gs pos="0">
                  <a:srgbClr val="13b913"/>
                </a:gs>
                <a:gs pos="100000">
                  <a:srgbClr val="02110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Oval 21"/>
          <p:cNvSpPr/>
          <p:nvPr/>
        </p:nvSpPr>
        <p:spPr>
          <a:xfrm>
            <a:off x="53658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22"/>
          <p:cNvSpPr/>
          <p:nvPr/>
        </p:nvSpPr>
        <p:spPr>
          <a:xfrm>
            <a:off x="5221440" y="1700280"/>
            <a:ext cx="502920" cy="43164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73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26" descr="apple"/>
          <p:cNvPicPr/>
          <p:nvPr/>
        </p:nvPicPr>
        <p:blipFill>
          <a:blip r:embed="rId2"/>
          <a:stretch/>
        </p:blipFill>
        <p:spPr>
          <a:xfrm>
            <a:off x="1619280" y="2997360"/>
            <a:ext cx="76500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-0.00243 0.57755 E">
                                      <p:cBhvr>
                                        <p:cTn id="87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787 C 0.01406 -0.00533 0.0283 -0.01852 0.04566 -0.02685 C 0.06302 -0.03496 0.07639 -0.04514 0.10347 -0.04074 C 0.13055 -0.03611 0.17309 -0.02338 0.20833 0.00069 C 0.24357 0.025 0.27916 0.06481 0.31493 0.10509 E">
                                      <p:cBhvr>
                                        <p:cTn id="107" dur="1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31214E-006 C 0.06893 2.31214E-006 0.125 0.07029 0.125 0.15699 C 0.125 0.24393 0.06893 0.31468 -1.66667E-006 0.31468 C -0.06892 0.31468 -0.125 0.24393 -0.125 0.15699 C -0.125 0.07029 -0.06892 2.31214E-006 -1.66667E-006 2.31214E-006 Z">
                                      <p:cBhvr>
                                        <p:cTn id="117" dur="2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тяжение всех тел во Вселенной друг к другу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семирным тяготение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741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743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751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754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760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768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771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Text Box 20"/>
          <p:cNvSpPr/>
          <p:nvPr/>
        </p:nvSpPr>
        <p:spPr>
          <a:xfrm>
            <a:off x="250920" y="2492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ным случаем сил всемирного тяготения является </a:t>
            </a:r>
            <a:r>
              <a:rPr b="1" lang="ru-RU" sz="2800" spc="-1" strike="noStrike">
                <a:solidFill>
                  <a:srgbClr val="ccb400"/>
                </a:solidFill>
                <a:latin typeface="Times New Roman"/>
              </a:rPr>
              <a:t>сила тяже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776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8"/>
          <p:cNvSpPr/>
          <p:nvPr/>
        </p:nvSpPr>
        <p:spPr>
          <a:xfrm>
            <a:off x="3276720" y="907920"/>
            <a:ext cx="5545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787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795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6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7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12-11-13T19:46:23Z</dcterms:modified>
  <cp:revision>53</cp:revision>
  <dc:subject/>
  <dc:title>PowerPoint Presentation</dc:title>
</cp:coreProperties>
</file>