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BE6-99C9-4F76-9CD9-74D59095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6CD-76F0-473F-946A-21D17E67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6AEA7-C077-45CB-929C-BD7F7CC6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36F5A-0AF9-4691-B46C-B612349A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E00C7-D15D-4555-B23A-2C78CC9F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6BF76-C6D8-456E-B13F-F95756A2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91997-6300-45A3-8FC8-FA58713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E5F23-4384-4D99-9B88-05974D95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61D8C-9188-4D43-B58A-C9EDC770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A4625-EAFE-42C3-A9D4-97657E84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D0D25-6ED7-4FA1-8B7D-56934079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0AD89-9F38-4F3A-9E81-8CCF85E7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048-6596-4DDC-9A42-CB43727C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B83B3-8A34-47A6-A1AC-2F936DDA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2D864-A5B8-45EA-8636-A87CFD7F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06556-7AA5-4DF7-887D-B1EC218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986EA-BBA9-49A9-B08F-22356C5A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15CAF-0280-4935-B7A4-D69E34BA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2C0DC-A81D-41FA-A6FE-BBC3ADA9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191AB-82D1-456E-AF06-6E8D379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7AAF1-C5AA-406B-9089-F2A31287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00181-A51F-4457-A2F0-715599A0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7B840-5563-48BC-B12C-32E9FF4D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B83-40C7-4586-B4E6-8178074B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50544-7435-4F2C-83A2-948DEEB0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68894-8223-4A43-8502-15F46636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F9544-2CB4-4DF9-A32B-FE88D358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FEDD0-D527-4823-831E-A9C0037A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E7F06-3615-49F5-8FA5-7E10333B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44AC8-C8C2-4DE1-A080-454E1E67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0A4B0-D6F6-471E-950F-E35EA24D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1BED0-18AF-4782-B024-8B0A4E23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06962-838D-4BF0-B174-5FCE5317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699DF-A9B2-4FD3-856E-AC8177E1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3D57-4E18-4373-8BBB-262375C9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2CCC7-189E-4535-A19C-A0F9D968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47CCD-F899-49D3-AC71-D40A01F1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2E87A-5F5B-46BB-989F-C123279B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9573D-2F2D-4FD9-B309-33A66B18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F2565-E58A-40A0-B795-32711EE3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7EDBA-B962-4487-805D-103EDBE7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C29D8-5846-4B8B-8526-47292113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29162-C976-4878-B88F-9FE6CE53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374F8-4574-4681-AFF5-65C8DBCD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1EC0A-CDE1-4882-A9DB-ACE0A554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C114-7BFE-41A4-BB58-E125CC85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A860D-7534-4026-9002-E93F5C1C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A941B-D1FC-4197-A4E5-5CA83A1C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8066A-ED26-4684-B11C-F37607B4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15E5A-146F-45EC-AB36-6FED1CF9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B182C-456A-41E9-BF59-4F8BCBDB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5C66-044C-440C-8CEA-494656C0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F6BC-9C68-4725-8747-126D2586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4394-8A74-4AAB-8CA1-6189E686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B02A-D8C9-46E6-A62E-BB48FF3B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6AB4-F13C-4153-9974-6FC38B0E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C79-71CB-49CF-A0E6-C3232CEC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3767-4CF1-451F-88DC-E92FA7B0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6E1A-AC7F-43A6-9137-2576D977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81D4-9C18-4662-BDC1-50DD10CF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A5E3-024B-41CE-B1B3-81E2F1E5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7951-2A27-40D8-849E-8EC95782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4EBA-A421-4DF8-86F5-EA38855D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4B6C-F5CA-4FAC-97CC-6EC67CCB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6FC5-47F9-417D-89DD-EA6AC53A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0866-B83A-4292-A15A-A0B460A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593B-D4F7-44E4-9846-27656004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7AD-2983-4CE2-A293-157002F4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789B-B72F-4796-BDD3-D2499177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94A3-9D16-438A-BB88-3FBE6BA9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6BC8-1ADD-4E9E-AABC-4FE5412E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DAEC-3AB9-4578-991B-033EABE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42E0E-E8CF-4079-A8FC-AE041459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B1D73-ADE4-4A2E-BD12-A68BA999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3768-CD4E-43E5-AF95-B74E136F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B437-B6BC-4390-994A-F827A878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9734-3EEE-4099-9FD4-2826053F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3B00-F9F0-4DAC-B3FD-46C5DD1C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3B9-29FF-4D8A-9C89-B602CCB9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3CC5-F488-4769-B1C5-05876B17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A3880-8C9C-47DE-B1D1-8B766DDF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2B09-8923-471B-91E2-7F1FF16F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B7BF-9891-4FF4-84F1-0A07D9C0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6BE8-D078-46B3-9557-7D9EFC6F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C629-BB58-4AF8-B388-C48D10FB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5C09-5635-4F87-AECB-03B7BEA3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18B4B-29B8-4FFA-BBBB-BEC5DB96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3AD7C-D7C2-4FE3-9CC2-268ABA91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21106-7FE2-4740-9EE9-7A6A0398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395-3ED8-44E8-B9E4-7A5930BB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B9008-5722-4DE8-BD45-8BB56E7E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C0C16-52AD-4E7D-BD7A-2F7CF58A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3CF9-7D26-4E87-9A36-25424E17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820B9-BC70-4BB1-A3EB-139D93F2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CD3B3-22F3-4FB9-BEEC-89456265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7C167-ED88-453A-95F4-23079DB2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B02AA-5F5A-49CF-A754-D9F577B5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94285-F2CA-4D67-BA70-DA22A7F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0B91-3431-458B-8654-19882B97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55710-3643-42A8-825C-74F6CEC9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A84-AE1C-4B27-A12D-CB8C60E2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37BD9-1959-4D7D-90A2-127C00DA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B1E22-B66F-4731-AE11-8039FB6B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AEA44-DE49-4873-9F5E-59E40841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1221-EC9E-42F0-8BDA-2A37251B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64AFF-42CF-4ED4-9BD7-175D7532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8CC20-A73F-46F3-A69C-4640455A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767EB-1A52-4620-9D9D-0EAAD243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07DD1-7E0F-4652-9927-95D10ECD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46CA9-20FA-4235-9A5B-D7B502CD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A615-B892-4677-A4C2-C88B05AC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4A3-3995-4949-8E93-CFC7E199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C98CE-1328-4AA8-9275-7E7069E6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F694-DA64-428B-9051-BB6A5826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F9E75-CF04-47D3-8A31-7622B76C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D4808-C7CD-4291-93AF-D63B1330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64E15-17EC-4432-9753-631E7F6B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666F-E64D-4C19-8F35-1706DE5C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12D61-4D0D-4F21-9717-1BAE2A6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3B1B8-F554-4B14-AE15-36549876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4D22D-FCA0-4D8A-8288-7C5E34D2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AE0FA-7BCD-4576-A3B0-3A169E9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900-0277-40F5-B569-B6C29F15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C8F31-4976-497A-B62C-866C7FCD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44D69-33C1-410F-8788-E1624395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8A3FD-5BDB-4BE9-9CE0-C93B9767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8B76E-BB69-48AF-A290-DA61B028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E5799-DF8A-4026-996C-C4B9BD7A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933AA-A11E-4E53-9324-42BB2006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F78B1-A8CB-4251-814F-FE17BB70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FB0BE-1448-45D2-8399-AEDC6AA2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88230-5805-4F5B-97AB-C0B58856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FFD2E-6E64-46B1-81C0-EDE9D3CF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98B-FB7D-4D8A-AB20-D41D16C3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BC5B9-3710-4E6B-AC94-0C3B5EA6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4F7F9-FBB9-45FB-9A71-A5785B9C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D1026-0D73-4D68-AF29-AEE5F9B9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DA400-3AC8-4B68-B893-51D74748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F885E-F482-44AE-8484-348D38C4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931A1-56A5-4ADA-AE30-FE0327F9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FD304-C554-4006-BECD-60F6075C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80B2A-9ED0-4FB0-843F-A57F16A3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4FD67-FDDE-4A3E-AD54-3E40C4E4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9C092-48ED-4C0C-A11E-6D8C0214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D0A6-BF46-44FA-85C5-A0B92A8515D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5D20-449E-4361-B5B0-2C903752AC6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178C-107B-4C2A-B6C1-A78F81C8878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F8DB-93E6-4334-9CD6-E36615164D7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E78F-89FF-4F55-B901-56DD9A76F84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E301-6D8B-4C9E-8F96-A913D5F605C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02D1-C9E1-4747-B759-19F8D4F71BD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165C-F70E-4D52-9783-29B54A6ABB1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D92E-F686-4531-898E-8A1B1265BC9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7239-1AC7-4F36-AD15-F9DD1762B46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86B3-37AE-42F1-A64F-663F66F84A6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B694-AB99-43A6-8EE2-63AB46C2838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newton-yar.ru/photos/catalog/ct/292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BatangChe"/>
                <a:ea typeface="BatangChe"/>
              </a:rPr>
              <a:t>Сила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6" descr="book20"/>
          <p:cNvPicPr/>
          <p:nvPr/>
        </p:nvPicPr>
        <p:blipFill>
          <a:blip r:embed="rId1"/>
          <a:stretch/>
        </p:blipFill>
        <p:spPr>
          <a:xfrm>
            <a:off x="800280" y="3405240"/>
            <a:ext cx="2230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8"/>
          <p:cNvSpPr/>
          <p:nvPr/>
        </p:nvSpPr>
        <p:spPr>
          <a:xfrm>
            <a:off x="2340000" y="98100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 всегда направлена к центру Зем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6"/>
          <p:cNvGrpSpPr/>
          <p:nvPr/>
        </p:nvGrpSpPr>
        <p:grpSpPr>
          <a:xfrm>
            <a:off x="684360" y="765000"/>
            <a:ext cx="1445760" cy="1584000"/>
            <a:chOff x="684360" y="765000"/>
            <a:chExt cx="1445760" cy="1584000"/>
          </a:xfrm>
        </p:grpSpPr>
        <p:sp>
          <p:nvSpPr>
            <p:cNvPr id="802" name="Oval 20"/>
            <p:cNvSpPr/>
            <p:nvPr/>
          </p:nvSpPr>
          <p:spPr>
            <a:xfrm>
              <a:off x="684360" y="928800"/>
              <a:ext cx="1377360" cy="142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31"/>
            <p:cNvGrpSpPr/>
            <p:nvPr/>
          </p:nvGrpSpPr>
          <p:grpSpPr>
            <a:xfrm>
              <a:off x="1213200" y="765000"/>
              <a:ext cx="318240" cy="874440"/>
              <a:chOff x="1213200" y="765000"/>
              <a:chExt cx="318240" cy="874440"/>
            </a:xfrm>
          </p:grpSpPr>
          <p:sp>
            <p:nvSpPr>
              <p:cNvPr id="804" name="Rectangle 21"/>
              <p:cNvSpPr/>
              <p:nvPr/>
            </p:nvSpPr>
            <p:spPr>
              <a:xfrm>
                <a:off x="1213200" y="765000"/>
                <a:ext cx="31824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>
                <a:off x="1371960" y="875520"/>
                <a:ext cx="1620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 flipV="1">
                <a:off x="1371960" y="141984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32"/>
            <p:cNvGrpSpPr/>
            <p:nvPr/>
          </p:nvGrpSpPr>
          <p:grpSpPr>
            <a:xfrm>
              <a:off x="1410480" y="945720"/>
              <a:ext cx="719640" cy="678960"/>
              <a:chOff x="1410480" y="945720"/>
              <a:chExt cx="719640" cy="678960"/>
            </a:xfrm>
          </p:grpSpPr>
          <p:sp>
            <p:nvSpPr>
              <p:cNvPr id="808" name="Rectangle 33"/>
              <p:cNvSpPr/>
              <p:nvPr/>
            </p:nvSpPr>
            <p:spPr>
              <a:xfrm rot="2851200">
                <a:off x="1789560" y="1045440"/>
                <a:ext cx="338760" cy="15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4"/>
              <p:cNvSpPr/>
              <p:nvPr/>
            </p:nvSpPr>
            <p:spPr>
              <a:xfrm flipH="1">
                <a:off x="1787040" y="1140480"/>
                <a:ext cx="152280" cy="162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35"/>
              <p:cNvSpPr/>
              <p:nvPr/>
            </p:nvSpPr>
            <p:spPr>
              <a:xfrm flipV="1">
                <a:off x="1410480" y="1485360"/>
                <a:ext cx="152280" cy="13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81"/>
          <p:cNvGrpSpPr/>
          <p:nvPr/>
        </p:nvGrpSpPr>
        <p:grpSpPr>
          <a:xfrm>
            <a:off x="971640" y="3211560"/>
            <a:ext cx="1267200" cy="2167200"/>
            <a:chOff x="971640" y="3211560"/>
            <a:chExt cx="1267200" cy="2167200"/>
          </a:xfrm>
        </p:grpSpPr>
        <p:grpSp>
          <p:nvGrpSpPr>
            <p:cNvPr id="812" name="Group 58"/>
            <p:cNvGrpSpPr/>
            <p:nvPr/>
          </p:nvGrpSpPr>
          <p:grpSpPr>
            <a:xfrm>
              <a:off x="971640" y="3211560"/>
              <a:ext cx="720720" cy="144360"/>
              <a:chOff x="971640" y="3211560"/>
              <a:chExt cx="720720" cy="144360"/>
            </a:xfrm>
          </p:grpSpPr>
          <p:sp>
            <p:nvSpPr>
              <p:cNvPr id="813" name="Rectangle 54"/>
              <p:cNvSpPr/>
              <p:nvPr/>
            </p:nvSpPr>
            <p:spPr>
              <a:xfrm>
                <a:off x="971640" y="321156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53"/>
              <p:cNvSpPr/>
              <p:nvPr/>
            </p:nvSpPr>
            <p:spPr>
              <a:xfrm>
                <a:off x="971640" y="335592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55"/>
            <p:cNvSpPr/>
            <p:nvPr/>
          </p:nvSpPr>
          <p:spPr>
            <a:xfrm>
              <a:off x="1332000" y="335592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1116000" y="429264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7"/>
            <p:cNvSpPr/>
            <p:nvPr/>
          </p:nvSpPr>
          <p:spPr>
            <a:xfrm>
              <a:off x="1332000" y="4579920"/>
              <a:ext cx="0" cy="79236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69"/>
            <p:cNvSpPr/>
            <p:nvPr/>
          </p:nvSpPr>
          <p:spPr>
            <a:xfrm>
              <a:off x="1407240" y="479736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Times New Roman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0"/>
            <p:cNvSpPr/>
            <p:nvPr/>
          </p:nvSpPr>
          <p:spPr>
            <a:xfrm>
              <a:off x="1495440" y="4878360"/>
              <a:ext cx="36036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79"/>
          <p:cNvGrpSpPr/>
          <p:nvPr/>
        </p:nvGrpSpPr>
        <p:grpSpPr>
          <a:xfrm>
            <a:off x="2701440" y="3932280"/>
            <a:ext cx="2230920" cy="1446480"/>
            <a:chOff x="2701440" y="3932280"/>
            <a:chExt cx="2230920" cy="1446480"/>
          </a:xfrm>
        </p:grpSpPr>
        <p:grpSp>
          <p:nvGrpSpPr>
            <p:cNvPr id="821" name="Group 59"/>
            <p:cNvGrpSpPr/>
            <p:nvPr/>
          </p:nvGrpSpPr>
          <p:grpSpPr>
            <a:xfrm>
              <a:off x="2701440" y="4437720"/>
              <a:ext cx="2230920" cy="575280"/>
              <a:chOff x="2701440" y="4437720"/>
              <a:chExt cx="2230920" cy="575280"/>
            </a:xfrm>
          </p:grpSpPr>
          <p:sp>
            <p:nvSpPr>
              <p:cNvPr id="822" name="Rectangle 60"/>
              <p:cNvSpPr/>
              <p:nvPr/>
            </p:nvSpPr>
            <p:spPr>
              <a:xfrm rot="10800000">
                <a:off x="2701440" y="443772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61"/>
              <p:cNvSpPr/>
              <p:nvPr/>
            </p:nvSpPr>
            <p:spPr>
              <a:xfrm flipH="1">
                <a:off x="2706840" y="443772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Rectangle 62"/>
            <p:cNvSpPr/>
            <p:nvPr/>
          </p:nvSpPr>
          <p:spPr>
            <a:xfrm>
              <a:off x="3203640" y="393228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3"/>
            <p:cNvSpPr/>
            <p:nvPr/>
          </p:nvSpPr>
          <p:spPr>
            <a:xfrm>
              <a:off x="3780000" y="4221000"/>
              <a:ext cx="0" cy="107964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72"/>
            <p:cNvGrpSpPr/>
            <p:nvPr/>
          </p:nvGrpSpPr>
          <p:grpSpPr>
            <a:xfrm>
              <a:off x="3855240" y="4797360"/>
              <a:ext cx="831600" cy="581400"/>
              <a:chOff x="3855240" y="4797360"/>
              <a:chExt cx="831600" cy="581400"/>
            </a:xfrm>
          </p:grpSpPr>
          <p:sp>
            <p:nvSpPr>
              <p:cNvPr id="827" name="Text Box 73"/>
              <p:cNvSpPr/>
              <p:nvPr/>
            </p:nvSpPr>
            <p:spPr>
              <a:xfrm>
                <a:off x="3855240" y="479736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74"/>
              <p:cNvSpPr/>
              <p:nvPr/>
            </p:nvSpPr>
            <p:spPr>
              <a:xfrm>
                <a:off x="3943080" y="487836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Group 80"/>
          <p:cNvGrpSpPr/>
          <p:nvPr/>
        </p:nvGrpSpPr>
        <p:grpSpPr>
          <a:xfrm>
            <a:off x="5796000" y="3515760"/>
            <a:ext cx="2736720" cy="1568880"/>
            <a:chOff x="5796000" y="3515760"/>
            <a:chExt cx="2736720" cy="1568880"/>
          </a:xfrm>
        </p:grpSpPr>
        <p:sp>
          <p:nvSpPr>
            <p:cNvPr id="830" name="AutoShape 64"/>
            <p:cNvSpPr/>
            <p:nvPr/>
          </p:nvSpPr>
          <p:spPr>
            <a:xfrm rot="16200000">
              <a:off x="6624360" y="296028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5"/>
            <p:cNvSpPr/>
            <p:nvPr/>
          </p:nvSpPr>
          <p:spPr>
            <a:xfrm flipH="1">
              <a:off x="5796000" y="378936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67"/>
            <p:cNvSpPr/>
            <p:nvPr/>
          </p:nvSpPr>
          <p:spPr>
            <a:xfrm rot="20355600">
              <a:off x="6588000" y="371592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68"/>
            <p:cNvSpPr/>
            <p:nvPr/>
          </p:nvSpPr>
          <p:spPr>
            <a:xfrm>
              <a:off x="7236000" y="4005360"/>
              <a:ext cx="0" cy="107928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75"/>
            <p:cNvGrpSpPr/>
            <p:nvPr/>
          </p:nvGrpSpPr>
          <p:grpSpPr>
            <a:xfrm>
              <a:off x="7312680" y="4437000"/>
              <a:ext cx="831600" cy="581400"/>
              <a:chOff x="7312680" y="4437000"/>
              <a:chExt cx="831600" cy="581400"/>
            </a:xfrm>
          </p:grpSpPr>
          <p:sp>
            <p:nvSpPr>
              <p:cNvPr id="835" name="Text Box 76"/>
              <p:cNvSpPr/>
              <p:nvPr/>
            </p:nvSpPr>
            <p:spPr>
              <a:xfrm>
                <a:off x="7312680" y="443700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77"/>
              <p:cNvSpPr/>
              <p:nvPr/>
            </p:nvSpPr>
            <p:spPr>
              <a:xfrm>
                <a:off x="7400520" y="451800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Oval 82">
            <a:hlinkClick r:id="rId4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50920" y="3789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 слегка приплюснута у полюсов, экваториальный радиус Земли больше полярного. Находясь на экваторе тело расположено дальше от центра Земли, поэтому сила тяжести на экваторе меньше, чем на полю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29"/>
          <p:cNvGrpSpPr/>
          <p:nvPr/>
        </p:nvGrpSpPr>
        <p:grpSpPr>
          <a:xfrm>
            <a:off x="826920" y="1125360"/>
            <a:ext cx="1849320" cy="1771560"/>
            <a:chOff x="826920" y="1125360"/>
            <a:chExt cx="1849320" cy="1771560"/>
          </a:xfrm>
        </p:grpSpPr>
        <p:sp>
          <p:nvSpPr>
            <p:cNvPr id="841" name="Oval 15"/>
            <p:cNvSpPr/>
            <p:nvPr/>
          </p:nvSpPr>
          <p:spPr>
            <a:xfrm>
              <a:off x="826920" y="1288800"/>
              <a:ext cx="1652400" cy="142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6"/>
            <p:cNvGrpSpPr/>
            <p:nvPr/>
          </p:nvGrpSpPr>
          <p:grpSpPr>
            <a:xfrm>
              <a:off x="1461960" y="1125360"/>
              <a:ext cx="380520" cy="874440"/>
              <a:chOff x="1461960" y="1125360"/>
              <a:chExt cx="380520" cy="874440"/>
            </a:xfrm>
          </p:grpSpPr>
          <p:sp>
            <p:nvSpPr>
              <p:cNvPr id="843" name="Rectangle 17"/>
              <p:cNvSpPr/>
              <p:nvPr/>
            </p:nvSpPr>
            <p:spPr>
              <a:xfrm>
                <a:off x="1461960" y="1125360"/>
                <a:ext cx="38052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8"/>
              <p:cNvSpPr/>
              <p:nvPr/>
            </p:nvSpPr>
            <p:spPr>
              <a:xfrm>
                <a:off x="1652040" y="1235880"/>
                <a:ext cx="1908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19"/>
              <p:cNvSpPr/>
              <p:nvPr/>
            </p:nvSpPr>
            <p:spPr>
              <a:xfrm flipV="1">
                <a:off x="1652040" y="178020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0"/>
            <p:cNvGrpSpPr/>
            <p:nvPr/>
          </p:nvGrpSpPr>
          <p:grpSpPr>
            <a:xfrm>
              <a:off x="1690920" y="1846080"/>
              <a:ext cx="985320" cy="338040"/>
              <a:chOff x="1690920" y="1846080"/>
              <a:chExt cx="985320" cy="338040"/>
            </a:xfrm>
          </p:grpSpPr>
          <p:sp>
            <p:nvSpPr>
              <p:cNvPr id="847" name="Rectangle 21"/>
              <p:cNvSpPr/>
              <p:nvPr/>
            </p:nvSpPr>
            <p:spPr>
              <a:xfrm rot="5400000">
                <a:off x="2414880" y="1922760"/>
                <a:ext cx="33804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22"/>
              <p:cNvSpPr/>
              <p:nvPr/>
            </p:nvSpPr>
            <p:spPr>
              <a:xfrm flipH="1">
                <a:off x="2284920" y="2014920"/>
                <a:ext cx="266760" cy="1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23"/>
              <p:cNvSpPr/>
              <p:nvPr/>
            </p:nvSpPr>
            <p:spPr>
              <a:xfrm>
                <a:off x="1690920" y="2014920"/>
                <a:ext cx="247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AutoShape 24"/>
            <p:cNvSpPr/>
            <p:nvPr/>
          </p:nvSpPr>
          <p:spPr>
            <a:xfrm>
              <a:off x="1330200" y="1341360"/>
              <a:ext cx="72720" cy="647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AutoShape 25"/>
            <p:cNvSpPr/>
            <p:nvPr/>
          </p:nvSpPr>
          <p:spPr>
            <a:xfrm rot="16200000">
              <a:off x="1996200" y="1827360"/>
              <a:ext cx="144360" cy="755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9440 h 755640"/>
                <a:gd name="textAreaBottom" fmla="*/ 7362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38"/>
                  </a:lnTo>
                  <a:cubicBezTo>
                    <a:pt x="10800" y="10538"/>
                    <a:pt x="5400" y="11438"/>
                    <a:pt x="0" y="11438"/>
                  </a:cubicBezTo>
                  <a:cubicBezTo>
                    <a:pt x="5400" y="11438"/>
                    <a:pt x="10800" y="12338"/>
                    <a:pt x="10800" y="132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6"/>
                <p:cNvSpPr txBox="1"/>
                <p:nvPr/>
              </p:nvSpPr>
              <p:spPr>
                <a:xfrm>
                  <a:off x="838080" y="1341360"/>
                  <a:ext cx="51588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27"/>
                <p:cNvSpPr txBox="1"/>
                <p:nvPr/>
              </p:nvSpPr>
              <p:spPr>
                <a:xfrm>
                  <a:off x="1834920" y="2277720"/>
                  <a:ext cx="5158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э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4" name="Object 28"/>
              <p:cNvSpPr txBox="1"/>
              <p:nvPr/>
            </p:nvSpPr>
            <p:spPr>
              <a:xfrm>
                <a:off x="4140360" y="1268280"/>
                <a:ext cx="32432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э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5" name="Oval 30">
            <a:hlinkClick r:id="rId1" action="ppaction://hlinksldjump"/>
          </p:cNvPr>
          <p:cNvSpPr/>
          <p:nvPr/>
        </p:nvSpPr>
        <p:spPr>
          <a:xfrm>
            <a:off x="754200" y="612936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5d1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858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860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869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873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882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887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889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892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894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, возникающая в результате деформации тела и направленная в сторону смещения частиц тела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324000" y="2492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6" descr="Fizr7_14_3"/>
          <p:cNvPicPr/>
          <p:nvPr/>
        </p:nvPicPr>
        <p:blipFill>
          <a:blip r:embed="rId2"/>
          <a:srcRect l="4937" t="16065" r="62151" b="55103"/>
          <a:stretch/>
        </p:blipFill>
        <p:spPr>
          <a:xfrm>
            <a:off x="539640" y="981000"/>
            <a:ext cx="2519640" cy="158112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7"/>
          <p:cNvSpPr/>
          <p:nvPr/>
        </p:nvSpPr>
        <p:spPr>
          <a:xfrm>
            <a:off x="911520" y="2637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8" descr="Рисунок1"/>
          <p:cNvPicPr/>
          <p:nvPr/>
        </p:nvPicPr>
        <p:blipFill>
          <a:blip r:embed="rId3"/>
          <a:stretch/>
        </p:blipFill>
        <p:spPr>
          <a:xfrm>
            <a:off x="468360" y="3429000"/>
            <a:ext cx="2448000" cy="205740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9"/>
          <p:cNvSpPr/>
          <p:nvPr/>
        </p:nvSpPr>
        <p:spPr>
          <a:xfrm>
            <a:off x="755640" y="5589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0" descr="Fizr7_14_3"/>
          <p:cNvPicPr/>
          <p:nvPr/>
        </p:nvPicPr>
        <p:blipFill>
          <a:blip r:embed="rId4"/>
          <a:srcRect l="40910" t="56663" r="30789" b="9165"/>
          <a:stretch/>
        </p:blipFill>
        <p:spPr>
          <a:xfrm>
            <a:off x="6227640" y="3429000"/>
            <a:ext cx="2374920" cy="2055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Рисунок2"/>
          <p:cNvPicPr/>
          <p:nvPr/>
        </p:nvPicPr>
        <p:blipFill>
          <a:blip r:embed="rId5"/>
          <a:stretch/>
        </p:blipFill>
        <p:spPr>
          <a:xfrm>
            <a:off x="6227640" y="98100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2" descr="Fizr7_14_3"/>
          <p:cNvPicPr/>
          <p:nvPr/>
        </p:nvPicPr>
        <p:blipFill>
          <a:blip r:embed="rId6"/>
          <a:srcRect l="76883" t="17142" r="6288" b="54044"/>
          <a:stretch/>
        </p:blipFill>
        <p:spPr>
          <a:xfrm>
            <a:off x="3851280" y="981000"/>
            <a:ext cx="1409760" cy="172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3" descr="Fizr7_14_3"/>
          <p:cNvPicPr/>
          <p:nvPr/>
        </p:nvPicPr>
        <p:blipFill>
          <a:blip r:embed="rId7"/>
          <a:srcRect l="74587" t="57721" r="5530" b="11301"/>
          <a:stretch/>
        </p:blipFill>
        <p:spPr>
          <a:xfrm>
            <a:off x="3635280" y="3429000"/>
            <a:ext cx="1806840" cy="2016000"/>
          </a:xfrm>
          <a:prstGeom prst="rect">
            <a:avLst/>
          </a:prstGeom>
          <a:ln w="0">
            <a:noFill/>
          </a:ln>
        </p:spPr>
      </p:pic>
      <p:sp>
        <p:nvSpPr>
          <p:cNvPr id="926" name="Text Box 14"/>
          <p:cNvSpPr/>
          <p:nvPr/>
        </p:nvSpPr>
        <p:spPr>
          <a:xfrm>
            <a:off x="6420240" y="263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а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3689280" y="270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564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644364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0"/>
          <p:cNvSpPr/>
          <p:nvPr/>
        </p:nvSpPr>
        <p:spPr>
          <a:xfrm>
            <a:off x="4572000" y="98100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939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940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5d1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942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0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955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8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9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0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1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AutoShape 96"/>
            <p:cNvCxnSpPr>
              <a:stCxn id="972" idx="0"/>
              <a:endCxn id="967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4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5" name="Oval 9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1531800" y="878040"/>
            <a:ext cx="58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4760" y="22766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Упругая 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6">
            <a:hlinkClick r:id="rId1" action="ppaction://hlinksldjump"/>
          </p:cNvPr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9" descr="book35"/>
          <p:cNvPicPr/>
          <p:nvPr/>
        </p:nvPicPr>
        <p:blipFill>
          <a:blip r:embed="rId2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250920" y="981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ело и опора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неподвижны или движутся прямолинейно и равномер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т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своему численному значению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равен силе 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5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Picture 9" descr="book35"/>
          <p:cNvPicPr/>
          <p:nvPr/>
        </p:nvPicPr>
        <p:blipFill>
          <a:blip r:embed="rId2"/>
          <a:stretch/>
        </p:blipFill>
        <p:spPr>
          <a:xfrm>
            <a:off x="7020000" y="4581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250920" y="98100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990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991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997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9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1000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1001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1006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1009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1014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Oval 55">
            <a:hlinkClick r:id="rId4" action="ppaction://hlinksldjump"/>
          </p:cNvPr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50920" y="981000"/>
            <a:ext cx="857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1027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1031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1034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8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1039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1043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6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047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1048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Oval 6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71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82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50920" y="1197000"/>
            <a:ext cx="496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3708360" y="1916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572000" y="1268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3995640" y="2637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7">
            <a:hlinkClick r:id="rId4" action="ppaction://hlinksldjump"/>
          </p:cNvPr>
          <p:cNvSpPr/>
          <p:nvPr/>
        </p:nvSpPr>
        <p:spPr>
          <a:xfrm>
            <a:off x="2627280" y="3213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>
            <a:hlinkClick r:id="rId5" action="ppaction://hlinksldjump"/>
          </p:cNvPr>
          <p:cNvSpPr/>
          <p:nvPr/>
        </p:nvSpPr>
        <p:spPr>
          <a:xfrm>
            <a:off x="3189240" y="3860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>
            <a:hlinkClick r:id="rId6" action="ppaction://hlinksldjump"/>
          </p:cNvPr>
          <p:cNvSpPr/>
          <p:nvPr/>
        </p:nvSpPr>
        <p:spPr>
          <a:xfrm>
            <a:off x="3219480" y="45147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1">
            <a:hlinkClick r:id="rId7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" descr="book37"/>
          <p:cNvPicPr/>
          <p:nvPr/>
        </p:nvPicPr>
        <p:blipFill>
          <a:blip r:embed="rId8"/>
          <a:stretch/>
        </p:blipFill>
        <p:spPr>
          <a:xfrm>
            <a:off x="5573880" y="4221000"/>
            <a:ext cx="3033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250920" y="981000"/>
            <a:ext cx="8570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88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250920" y="479736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ольше сила, прижимающая тело к поверхности, тем больше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611280" y="1600200"/>
            <a:ext cx="7921440" cy="60156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8"/>
          <p:cNvSpPr/>
          <p:nvPr/>
        </p:nvSpPr>
        <p:spPr>
          <a:xfrm>
            <a:off x="611280" y="112392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9"/>
          <p:cNvSpPr/>
          <p:nvPr/>
        </p:nvSpPr>
        <p:spPr>
          <a:xfrm>
            <a:off x="611280" y="3645000"/>
            <a:ext cx="7921440" cy="57456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3" y="5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50" y="16"/>
                </a:lnTo>
                <a:lnTo>
                  <a:pt x="1082" y="172"/>
                </a:lnTo>
                <a:lnTo>
                  <a:pt x="852" y="50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10"/>
          <p:cNvSpPr/>
          <p:nvPr/>
        </p:nvSpPr>
        <p:spPr>
          <a:xfrm>
            <a:off x="611280" y="3139920"/>
            <a:ext cx="7921440" cy="57636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23"/>
          <p:cNvGrpSpPr/>
          <p:nvPr/>
        </p:nvGrpSpPr>
        <p:grpSpPr>
          <a:xfrm>
            <a:off x="3635280" y="907920"/>
            <a:ext cx="936720" cy="581400"/>
            <a:chOff x="3635280" y="907920"/>
            <a:chExt cx="936720" cy="581400"/>
          </a:xfrm>
        </p:grpSpPr>
        <p:sp>
          <p:nvSpPr>
            <p:cNvPr id="1063" name="Line 11"/>
            <p:cNvSpPr/>
            <p:nvPr/>
          </p:nvSpPr>
          <p:spPr>
            <a:xfrm flipH="1">
              <a:off x="3635280" y="14842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19"/>
            <p:cNvGrpSpPr/>
            <p:nvPr/>
          </p:nvGrpSpPr>
          <p:grpSpPr>
            <a:xfrm>
              <a:off x="3710160" y="907920"/>
              <a:ext cx="680760" cy="581400"/>
              <a:chOff x="3710160" y="907920"/>
              <a:chExt cx="680760" cy="581400"/>
            </a:xfrm>
          </p:grpSpPr>
          <p:sp>
            <p:nvSpPr>
              <p:cNvPr id="1065" name="Text Box 20"/>
              <p:cNvSpPr/>
              <p:nvPr/>
            </p:nvSpPr>
            <p:spPr>
              <a:xfrm>
                <a:off x="3710160" y="9079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1"/>
              <p:cNvSpPr/>
              <p:nvPr/>
            </p:nvSpPr>
            <p:spPr>
              <a:xfrm>
                <a:off x="3871800" y="98892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3132000" y="249228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3132000" y="285264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4"/>
          <p:cNvGrpSpPr/>
          <p:nvPr/>
        </p:nvGrpSpPr>
        <p:grpSpPr>
          <a:xfrm>
            <a:off x="2773440" y="3068640"/>
            <a:ext cx="1798560" cy="581400"/>
            <a:chOff x="2773440" y="3068640"/>
            <a:chExt cx="1798560" cy="581400"/>
          </a:xfrm>
        </p:grpSpPr>
        <p:grpSp>
          <p:nvGrpSpPr>
            <p:cNvPr id="1070" name="Group 14"/>
            <p:cNvGrpSpPr/>
            <p:nvPr/>
          </p:nvGrpSpPr>
          <p:grpSpPr>
            <a:xfrm>
              <a:off x="2773440" y="3068640"/>
              <a:ext cx="680760" cy="581400"/>
              <a:chOff x="2773440" y="3068640"/>
              <a:chExt cx="680760" cy="581400"/>
            </a:xfrm>
          </p:grpSpPr>
          <p:sp>
            <p:nvSpPr>
              <p:cNvPr id="1071" name="Text Box 12"/>
              <p:cNvSpPr/>
              <p:nvPr/>
            </p:nvSpPr>
            <p:spPr>
              <a:xfrm>
                <a:off x="2773440" y="3068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Line 13"/>
              <p:cNvSpPr/>
              <p:nvPr/>
            </p:nvSpPr>
            <p:spPr>
              <a:xfrm>
                <a:off x="2935080" y="314964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Line 22"/>
            <p:cNvSpPr/>
            <p:nvPr/>
          </p:nvSpPr>
          <p:spPr>
            <a:xfrm flipH="1">
              <a:off x="2843280" y="3645000"/>
              <a:ext cx="172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Oval 2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196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198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-1.11111E-006 L -1.38889E-006 0.05232 E">
                                      <p:cBhvr>
                                        <p:cTn id="211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19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2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9 L 0.04722 0.02129 E">
                                      <p:cBhvr>
                                        <p:cTn id="227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29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2593 L 0.04722 0.02593 E">
                                      <p:cBhvr>
                                        <p:cTn id="23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9"/>
          <p:cNvSpPr/>
          <p:nvPr/>
        </p:nvSpPr>
        <p:spPr>
          <a:xfrm>
            <a:off x="611280" y="5013360"/>
            <a:ext cx="792000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611280" y="4581360"/>
            <a:ext cx="7920000" cy="432000"/>
          </a:xfrm>
          <a:prstGeom prst="rect">
            <a:avLst/>
          </a:prstGeom>
          <a:solidFill>
            <a:srgbClr val="ff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5"/>
          <p:cNvSpPr/>
          <p:nvPr/>
        </p:nvSpPr>
        <p:spPr>
          <a:xfrm>
            <a:off x="611280" y="1628640"/>
            <a:ext cx="7921440" cy="60192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6"/>
          <p:cNvSpPr/>
          <p:nvPr/>
        </p:nvSpPr>
        <p:spPr>
          <a:xfrm>
            <a:off x="611280" y="115236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9"/>
          <p:cNvGrpSpPr/>
          <p:nvPr/>
        </p:nvGrpSpPr>
        <p:grpSpPr>
          <a:xfrm>
            <a:off x="3635280" y="936720"/>
            <a:ext cx="936720" cy="581400"/>
            <a:chOff x="3635280" y="936720"/>
            <a:chExt cx="936720" cy="581400"/>
          </a:xfrm>
        </p:grpSpPr>
        <p:sp>
          <p:nvSpPr>
            <p:cNvPr id="1081" name="Line 10"/>
            <p:cNvSpPr/>
            <p:nvPr/>
          </p:nvSpPr>
          <p:spPr>
            <a:xfrm flipH="1">
              <a:off x="3635280" y="151272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1"/>
            <p:cNvGrpSpPr/>
            <p:nvPr/>
          </p:nvGrpSpPr>
          <p:grpSpPr>
            <a:xfrm>
              <a:off x="3710160" y="936720"/>
              <a:ext cx="680760" cy="581400"/>
              <a:chOff x="3710160" y="936720"/>
              <a:chExt cx="680760" cy="581400"/>
            </a:xfrm>
          </p:grpSpPr>
          <p:sp>
            <p:nvSpPr>
              <p:cNvPr id="1083" name="Text Box 12"/>
              <p:cNvSpPr/>
              <p:nvPr/>
            </p:nvSpPr>
            <p:spPr>
              <a:xfrm>
                <a:off x="3710160" y="9367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3"/>
              <p:cNvSpPr/>
              <p:nvPr/>
            </p:nvSpPr>
            <p:spPr>
              <a:xfrm>
                <a:off x="3871800" y="101736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5" name="Freeform 21"/>
          <p:cNvSpPr/>
          <p:nvPr/>
        </p:nvSpPr>
        <p:spPr>
          <a:xfrm>
            <a:off x="592200" y="4941720"/>
            <a:ext cx="7940520" cy="601920"/>
          </a:xfrm>
          <a:custGeom>
            <a:avLst/>
            <a:gdLst/>
            <a:ahLst/>
            <a:rect l="l" t="t" r="r" b="b"/>
            <a:pathLst>
              <a:path w="5002" h="379">
                <a:moveTo>
                  <a:pt x="17" y="80"/>
                </a:moveTo>
                <a:lnTo>
                  <a:pt x="0" y="368"/>
                </a:lnTo>
                <a:lnTo>
                  <a:pt x="5002" y="379"/>
                </a:lnTo>
                <a:lnTo>
                  <a:pt x="4996" y="68"/>
                </a:lnTo>
                <a:lnTo>
                  <a:pt x="4821" y="93"/>
                </a:lnTo>
                <a:lnTo>
                  <a:pt x="4657" y="26"/>
                </a:lnTo>
                <a:lnTo>
                  <a:pt x="4440" y="144"/>
                </a:lnTo>
                <a:lnTo>
                  <a:pt x="4133" y="0"/>
                </a:lnTo>
                <a:lnTo>
                  <a:pt x="3754" y="189"/>
                </a:lnTo>
                <a:lnTo>
                  <a:pt x="3617" y="76"/>
                </a:lnTo>
                <a:lnTo>
                  <a:pt x="3422" y="189"/>
                </a:lnTo>
                <a:lnTo>
                  <a:pt x="3097" y="34"/>
                </a:lnTo>
                <a:lnTo>
                  <a:pt x="3012" y="161"/>
                </a:lnTo>
                <a:lnTo>
                  <a:pt x="2818" y="127"/>
                </a:lnTo>
                <a:lnTo>
                  <a:pt x="2674" y="252"/>
                </a:lnTo>
                <a:lnTo>
                  <a:pt x="2500" y="51"/>
                </a:lnTo>
                <a:lnTo>
                  <a:pt x="2274" y="161"/>
                </a:lnTo>
                <a:lnTo>
                  <a:pt x="2049" y="85"/>
                </a:lnTo>
                <a:lnTo>
                  <a:pt x="1878" y="203"/>
                </a:lnTo>
                <a:lnTo>
                  <a:pt x="1609" y="25"/>
                </a:lnTo>
                <a:lnTo>
                  <a:pt x="1505" y="220"/>
                </a:lnTo>
                <a:lnTo>
                  <a:pt x="1270" y="25"/>
                </a:lnTo>
                <a:lnTo>
                  <a:pt x="1094" y="189"/>
                </a:lnTo>
                <a:lnTo>
                  <a:pt x="864" y="51"/>
                </a:lnTo>
                <a:lnTo>
                  <a:pt x="663" y="178"/>
                </a:lnTo>
                <a:lnTo>
                  <a:pt x="481" y="112"/>
                </a:lnTo>
                <a:lnTo>
                  <a:pt x="258" y="214"/>
                </a:lnTo>
                <a:lnTo>
                  <a:pt x="17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Freeform 22"/>
          <p:cNvSpPr/>
          <p:nvPr/>
        </p:nvSpPr>
        <p:spPr>
          <a:xfrm>
            <a:off x="592200" y="4392720"/>
            <a:ext cx="7940520" cy="568080"/>
          </a:xfrm>
          <a:custGeom>
            <a:avLst/>
            <a:gdLst/>
            <a:ahLst/>
            <a:rect l="l" t="t" r="r" b="b"/>
            <a:pathLst>
              <a:path w="5002" h="358">
                <a:moveTo>
                  <a:pt x="5002" y="255"/>
                </a:moveTo>
                <a:lnTo>
                  <a:pt x="5002" y="0"/>
                </a:lnTo>
                <a:lnTo>
                  <a:pt x="0" y="3"/>
                </a:lnTo>
                <a:lnTo>
                  <a:pt x="8" y="274"/>
                </a:lnTo>
                <a:lnTo>
                  <a:pt x="194" y="358"/>
                </a:lnTo>
                <a:lnTo>
                  <a:pt x="466" y="307"/>
                </a:lnTo>
                <a:lnTo>
                  <a:pt x="577" y="177"/>
                </a:lnTo>
                <a:lnTo>
                  <a:pt x="678" y="329"/>
                </a:lnTo>
                <a:lnTo>
                  <a:pt x="886" y="231"/>
                </a:lnTo>
                <a:lnTo>
                  <a:pt x="1118" y="332"/>
                </a:lnTo>
                <a:lnTo>
                  <a:pt x="1260" y="191"/>
                </a:lnTo>
                <a:lnTo>
                  <a:pt x="1343" y="318"/>
                </a:lnTo>
                <a:lnTo>
                  <a:pt x="1599" y="188"/>
                </a:lnTo>
                <a:lnTo>
                  <a:pt x="1785" y="298"/>
                </a:lnTo>
                <a:lnTo>
                  <a:pt x="2080" y="307"/>
                </a:lnTo>
                <a:lnTo>
                  <a:pt x="2340" y="127"/>
                </a:lnTo>
                <a:lnTo>
                  <a:pt x="2507" y="296"/>
                </a:lnTo>
                <a:lnTo>
                  <a:pt x="2708" y="215"/>
                </a:lnTo>
                <a:lnTo>
                  <a:pt x="2865" y="307"/>
                </a:lnTo>
                <a:lnTo>
                  <a:pt x="3074" y="205"/>
                </a:lnTo>
                <a:lnTo>
                  <a:pt x="3338" y="324"/>
                </a:lnTo>
                <a:lnTo>
                  <a:pt x="3595" y="301"/>
                </a:lnTo>
                <a:lnTo>
                  <a:pt x="3912" y="320"/>
                </a:lnTo>
                <a:lnTo>
                  <a:pt x="4046" y="215"/>
                </a:lnTo>
                <a:lnTo>
                  <a:pt x="4277" y="256"/>
                </a:lnTo>
                <a:lnTo>
                  <a:pt x="4440" y="158"/>
                </a:lnTo>
                <a:lnTo>
                  <a:pt x="4533" y="268"/>
                </a:lnTo>
                <a:lnTo>
                  <a:pt x="4756" y="165"/>
                </a:lnTo>
                <a:lnTo>
                  <a:pt x="5002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30"/>
          <p:cNvGrpSpPr/>
          <p:nvPr/>
        </p:nvGrpSpPr>
        <p:grpSpPr>
          <a:xfrm>
            <a:off x="3924000" y="4292640"/>
            <a:ext cx="755640" cy="581400"/>
            <a:chOff x="3924000" y="4292640"/>
            <a:chExt cx="755640" cy="581400"/>
          </a:xfrm>
        </p:grpSpPr>
        <p:sp>
          <p:nvSpPr>
            <p:cNvPr id="1088" name="Line 24"/>
            <p:cNvSpPr/>
            <p:nvPr/>
          </p:nvSpPr>
          <p:spPr>
            <a:xfrm flipH="1">
              <a:off x="3924000" y="4865400"/>
              <a:ext cx="577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5"/>
            <p:cNvGrpSpPr/>
            <p:nvPr/>
          </p:nvGrpSpPr>
          <p:grpSpPr>
            <a:xfrm>
              <a:off x="3998880" y="4292640"/>
              <a:ext cx="680760" cy="581400"/>
              <a:chOff x="3998880" y="4292640"/>
              <a:chExt cx="680760" cy="581400"/>
            </a:xfrm>
          </p:grpSpPr>
          <p:sp>
            <p:nvSpPr>
              <p:cNvPr id="1090" name="Text Box 26"/>
              <p:cNvSpPr/>
              <p:nvPr/>
            </p:nvSpPr>
            <p:spPr>
              <a:xfrm>
                <a:off x="3998880" y="4292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27"/>
              <p:cNvSpPr/>
              <p:nvPr/>
            </p:nvSpPr>
            <p:spPr>
              <a:xfrm>
                <a:off x="4160520" y="437292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2" name="Text Box 28"/>
          <p:cNvSpPr/>
          <p:nvPr/>
        </p:nvSpPr>
        <p:spPr>
          <a:xfrm>
            <a:off x="250920" y="292428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из способов уменьшить силу трения – сма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243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245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2" dur="1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4" dur="1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6" dur="1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, которая возникает при скольжении одного тела по поверхности другого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скольж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098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02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06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07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11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13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Oval 49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82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86" dur="1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5092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вных нагрузках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к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сегда меньше силы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5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127" name="Rectangle 6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7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8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Group 9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31" name="Line 10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11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Line 12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Object 13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35" name="Group 14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36" name="Text Box 15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6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Line 17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Group 18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40" name="Line 1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Object 2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42" name="Rectangle 21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2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3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4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5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26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7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28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29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Oval 30">
            <a:hlinkClick r:id="rId1" action="ppaction://hlinksldjump"/>
          </p:cNvPr>
          <p:cNvSpPr/>
          <p:nvPr/>
        </p:nvSpPr>
        <p:spPr>
          <a:xfrm>
            <a:off x="7883640" y="644832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92" dur="2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96" dur="1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30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2" descr="kp_007"/>
          <p:cNvPicPr/>
          <p:nvPr/>
        </p:nvPicPr>
        <p:blipFill>
          <a:blip r:embed="rId2"/>
          <a:srcRect l="12542" t="0" r="9602" b="0"/>
          <a:stretch/>
        </p:blipFill>
        <p:spPr>
          <a:xfrm>
            <a:off x="3708360" y="1844640"/>
            <a:ext cx="4465800" cy="430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155" name="Picture 31" descr="bearing"/>
          <p:cNvPicPr/>
          <p:nvPr/>
        </p:nvPicPr>
        <p:blipFill>
          <a:blip r:embed="rId3"/>
          <a:stretch/>
        </p:blipFill>
        <p:spPr>
          <a:xfrm>
            <a:off x="395280" y="765000"/>
            <a:ext cx="4562640" cy="3848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3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Picture 4" descr="99b"/>
          <p:cNvPicPr/>
          <p:nvPr/>
        </p:nvPicPr>
        <p:blipFill>
          <a:blip r:embed="rId2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8" descr="michelin_X-Crane_AT"/>
          <p:cNvPicPr/>
          <p:nvPr/>
        </p:nvPicPr>
        <p:blipFill>
          <a:blip r:embed="rId3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5"/>
          <p:cNvSpPr/>
          <p:nvPr/>
        </p:nvSpPr>
        <p:spPr>
          <a:xfrm flipV="1">
            <a:off x="1332000" y="1988640"/>
            <a:ext cx="6553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2124000" y="1486080"/>
            <a:ext cx="936720" cy="431640"/>
          </a:xfrm>
          <a:prstGeom prst="rect">
            <a:avLst/>
          </a:prstGeom>
          <a:solidFill>
            <a:srgbClr val="694f07"/>
          </a:solidFill>
          <a:ln w="57240">
            <a:solidFill>
              <a:srgbClr val="694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2627280" y="1700280"/>
            <a:ext cx="7923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9"/>
          <p:cNvSpPr/>
          <p:nvPr/>
        </p:nvSpPr>
        <p:spPr>
          <a:xfrm flipH="1">
            <a:off x="1332000" y="1917720"/>
            <a:ext cx="79200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3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4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9"/>
          <p:cNvSpPr/>
          <p:nvPr/>
        </p:nvSpPr>
        <p:spPr>
          <a:xfrm>
            <a:off x="2627280" y="1701720"/>
            <a:ext cx="13701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755280" y="1917720"/>
            <a:ext cx="136836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Group 21"/>
          <p:cNvGrpSpPr/>
          <p:nvPr/>
        </p:nvGrpSpPr>
        <p:grpSpPr>
          <a:xfrm>
            <a:off x="3211560" y="1125360"/>
            <a:ext cx="867960" cy="520560"/>
            <a:chOff x="3211560" y="1125360"/>
            <a:chExt cx="867960" cy="520560"/>
          </a:xfrm>
        </p:grpSpPr>
        <p:sp>
          <p:nvSpPr>
            <p:cNvPr id="1172" name="Text Box 22"/>
            <p:cNvSpPr/>
            <p:nvPr/>
          </p:nvSpPr>
          <p:spPr>
            <a:xfrm>
              <a:off x="3211560" y="1125360"/>
              <a:ext cx="8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Times New Roman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3"/>
            <p:cNvSpPr/>
            <p:nvPr/>
          </p:nvSpPr>
          <p:spPr>
            <a:xfrm>
              <a:off x="3222720" y="115560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24"/>
          <p:cNvGrpSpPr/>
          <p:nvPr/>
        </p:nvGrpSpPr>
        <p:grpSpPr>
          <a:xfrm>
            <a:off x="1195920" y="1343160"/>
            <a:ext cx="636480" cy="520560"/>
            <a:chOff x="1195920" y="1343160"/>
            <a:chExt cx="636480" cy="520560"/>
          </a:xfrm>
        </p:grpSpPr>
        <p:sp>
          <p:nvSpPr>
            <p:cNvPr id="1175" name="Text Box 25"/>
            <p:cNvSpPr/>
            <p:nvPr/>
          </p:nvSpPr>
          <p:spPr>
            <a:xfrm>
              <a:off x="1195920" y="134316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Times New Roman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1206360" y="137340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Line 27"/>
          <p:cNvSpPr/>
          <p:nvPr/>
        </p:nvSpPr>
        <p:spPr>
          <a:xfrm>
            <a:off x="2627280" y="1700280"/>
            <a:ext cx="201600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8"/>
          <p:cNvSpPr/>
          <p:nvPr/>
        </p:nvSpPr>
        <p:spPr>
          <a:xfrm flipH="1">
            <a:off x="179280" y="1917720"/>
            <a:ext cx="194472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9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30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1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32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3"/>
          <p:cNvSpPr/>
          <p:nvPr/>
        </p:nvSpPr>
        <p:spPr>
          <a:xfrm>
            <a:off x="250920" y="3141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у трения, действующую между двумя телами, неподвижными относительно друг друга называют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4"/>
          <p:cNvSpPr/>
          <p:nvPr/>
        </p:nvSpPr>
        <p:spPr>
          <a:xfrm>
            <a:off x="250920" y="4724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ее значение силы трения, при котором скольжение еще не наступает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максимальной 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35">
            <a:hlinkClick r:id="rId1" action="ppaction://hlinksldjump"/>
          </p:cNvPr>
          <p:cNvSpPr/>
          <p:nvPr/>
        </p:nvSpPr>
        <p:spPr>
          <a:xfrm>
            <a:off x="1654200" y="641664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39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1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5" dur="20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7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9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1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5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7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9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3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5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7" dur="2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9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7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1188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1195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1211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1212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1220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227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8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cc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1232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1235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1238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1241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2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63"/>
          <p:cNvGrpSpPr/>
          <p:nvPr/>
        </p:nvGrpSpPr>
        <p:grpSpPr>
          <a:xfrm>
            <a:off x="3059280" y="2708280"/>
            <a:ext cx="5760720" cy="825480"/>
            <a:chOff x="3059280" y="270828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1244" name="Object 59"/>
                <p:cNvSpPr txBox="1"/>
                <p:nvPr/>
              </p:nvSpPr>
              <p:spPr>
                <a:xfrm>
                  <a:off x="3059280" y="270828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5" name="Text Box 61"/>
            <p:cNvSpPr/>
            <p:nvPr/>
          </p:nvSpPr>
          <p:spPr>
            <a:xfrm>
              <a:off x="5362560" y="270828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6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Oval 6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5">
            <a:hlinkClick r:id="rId1" action="ppaction://hlinksldjump"/>
          </p:cNvPr>
          <p:cNvSpPr/>
          <p:nvPr/>
        </p:nvSpPr>
        <p:spPr>
          <a:xfrm>
            <a:off x="1014480" y="6489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Picture 7" descr="Картинка 12 из 111">
            <a:hlinkClick r:id="rId2"/>
          </p:cNvPr>
          <p:cNvPicPr/>
          <p:nvPr/>
        </p:nvPicPr>
        <p:blipFill>
          <a:blip r:embed="rId3"/>
          <a:srcRect l="22676" t="0" r="21895" b="0"/>
          <a:stretch/>
        </p:blipFill>
        <p:spPr>
          <a:xfrm>
            <a:off x="179280" y="1052640"/>
            <a:ext cx="2246400" cy="5400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Картинка 23 из 110"/>
          <p:cNvPicPr/>
          <p:nvPr/>
        </p:nvPicPr>
        <p:blipFill>
          <a:blip r:embed="rId4"/>
          <a:stretch/>
        </p:blipFill>
        <p:spPr>
          <a:xfrm>
            <a:off x="5724360" y="907920"/>
            <a:ext cx="2802240" cy="2802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252" name="Picture 11" descr="Картинка 7 из 111"/>
          <p:cNvPicPr/>
          <p:nvPr/>
        </p:nvPicPr>
        <p:blipFill>
          <a:blip r:embed="rId5"/>
          <a:srcRect l="20798" t="0" r="22546" b="0"/>
          <a:stretch/>
        </p:blipFill>
        <p:spPr>
          <a:xfrm>
            <a:off x="2050920" y="765000"/>
            <a:ext cx="2992680" cy="3961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3" descr="Картинка 3 из 111"/>
          <p:cNvPicPr/>
          <p:nvPr/>
        </p:nvPicPr>
        <p:blipFill>
          <a:blip r:embed="rId6"/>
          <a:srcRect l="0" t="9572" r="0" b="13642"/>
          <a:stretch/>
        </p:blipFill>
        <p:spPr>
          <a:xfrm>
            <a:off x="3995640" y="4149720"/>
            <a:ext cx="399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250920" y="836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8700"/>
                </a:solidFill>
                <a:uFillTx/>
                <a:latin typeface="Arial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book35"/>
          <p:cNvPicPr/>
          <p:nvPr/>
        </p:nvPicPr>
        <p:blipFill>
          <a:blip r:embed="rId2"/>
          <a:stretch/>
        </p:blipFill>
        <p:spPr>
          <a:xfrm>
            <a:off x="6875640" y="2884320"/>
            <a:ext cx="1657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 /ресурсы/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dic.academic.ru/dic.nsf/enc1p/4343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edu.yar.ru/russian/projects/socnav/prep/phis001/dyn/dyn13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SW70N8eAF9w&amp;feature=rel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kakprosto.ru/kak-132858-kak-vstavit-v-prezentaciyu-animaciy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630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631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633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5d1d7"/>
                </a:solidFill>
                <a:ln w="9360">
                  <a:solidFill>
                    <a:srgbClr val="c5d1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638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b400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ccb4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ccb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642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659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663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665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ccb4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668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670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674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d163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676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16349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679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682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683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692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693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702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704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707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711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712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714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6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4"/>
          <p:cNvSpPr/>
          <p:nvPr/>
        </p:nvSpPr>
        <p:spPr>
          <a:xfrm rot="19651800">
            <a:off x="3982680" y="2381040"/>
            <a:ext cx="936720" cy="107640"/>
          </a:xfrm>
          <a:prstGeom prst="rect">
            <a:avLst/>
          </a:prstGeom>
          <a:gradFill rotWithShape="0">
            <a:gsLst>
              <a:gs pos="0">
                <a:srgbClr val="053005"/>
              </a:gs>
              <a:gs pos="50000">
                <a:srgbClr val="11a711"/>
              </a:gs>
              <a:gs pos="100000">
                <a:srgbClr val="053005"/>
              </a:gs>
            </a:gsLst>
            <a:lin ang="73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3995640" y="2708280"/>
            <a:ext cx="475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612720" y="1197000"/>
            <a:ext cx="2303640" cy="2448000"/>
          </a:xfrm>
          <a:custGeom>
            <a:avLst/>
            <a:gdLst/>
            <a:ahLst/>
            <a:rect l="l" t="t" r="r" b="b"/>
            <a:pathLst>
              <a:path w="1451" h="1542">
                <a:moveTo>
                  <a:pt x="211" y="443"/>
                </a:moveTo>
                <a:lnTo>
                  <a:pt x="136" y="362"/>
                </a:lnTo>
                <a:lnTo>
                  <a:pt x="91" y="226"/>
                </a:lnTo>
                <a:lnTo>
                  <a:pt x="0" y="136"/>
                </a:lnTo>
                <a:lnTo>
                  <a:pt x="91" y="0"/>
                </a:lnTo>
                <a:lnTo>
                  <a:pt x="227" y="226"/>
                </a:lnTo>
                <a:lnTo>
                  <a:pt x="408" y="226"/>
                </a:lnTo>
                <a:lnTo>
                  <a:pt x="363" y="362"/>
                </a:lnTo>
                <a:lnTo>
                  <a:pt x="408" y="544"/>
                </a:lnTo>
                <a:lnTo>
                  <a:pt x="453" y="317"/>
                </a:lnTo>
                <a:lnTo>
                  <a:pt x="618" y="257"/>
                </a:lnTo>
                <a:lnTo>
                  <a:pt x="635" y="359"/>
                </a:lnTo>
                <a:lnTo>
                  <a:pt x="544" y="498"/>
                </a:lnTo>
                <a:lnTo>
                  <a:pt x="499" y="680"/>
                </a:lnTo>
                <a:lnTo>
                  <a:pt x="589" y="725"/>
                </a:lnTo>
                <a:lnTo>
                  <a:pt x="589" y="816"/>
                </a:lnTo>
                <a:lnTo>
                  <a:pt x="680" y="680"/>
                </a:lnTo>
                <a:lnTo>
                  <a:pt x="816" y="725"/>
                </a:lnTo>
                <a:lnTo>
                  <a:pt x="816" y="589"/>
                </a:lnTo>
                <a:lnTo>
                  <a:pt x="998" y="589"/>
                </a:lnTo>
                <a:lnTo>
                  <a:pt x="998" y="771"/>
                </a:lnTo>
                <a:lnTo>
                  <a:pt x="862" y="861"/>
                </a:lnTo>
                <a:lnTo>
                  <a:pt x="816" y="907"/>
                </a:lnTo>
                <a:lnTo>
                  <a:pt x="635" y="907"/>
                </a:lnTo>
                <a:lnTo>
                  <a:pt x="558" y="977"/>
                </a:lnTo>
                <a:lnTo>
                  <a:pt x="408" y="1088"/>
                </a:lnTo>
                <a:lnTo>
                  <a:pt x="635" y="1043"/>
                </a:lnTo>
                <a:lnTo>
                  <a:pt x="779" y="1002"/>
                </a:lnTo>
                <a:lnTo>
                  <a:pt x="907" y="1043"/>
                </a:lnTo>
                <a:lnTo>
                  <a:pt x="1211" y="1011"/>
                </a:lnTo>
                <a:lnTo>
                  <a:pt x="1451" y="1088"/>
                </a:lnTo>
                <a:lnTo>
                  <a:pt x="1278" y="1240"/>
                </a:lnTo>
                <a:lnTo>
                  <a:pt x="952" y="1224"/>
                </a:lnTo>
                <a:lnTo>
                  <a:pt x="816" y="1270"/>
                </a:lnTo>
                <a:lnTo>
                  <a:pt x="589" y="1224"/>
                </a:lnTo>
                <a:lnTo>
                  <a:pt x="317" y="1360"/>
                </a:lnTo>
                <a:lnTo>
                  <a:pt x="181" y="1360"/>
                </a:lnTo>
                <a:lnTo>
                  <a:pt x="45" y="1542"/>
                </a:lnTo>
                <a:lnTo>
                  <a:pt x="0" y="1315"/>
                </a:lnTo>
                <a:lnTo>
                  <a:pt x="181" y="1134"/>
                </a:lnTo>
                <a:lnTo>
                  <a:pt x="181" y="952"/>
                </a:lnTo>
                <a:lnTo>
                  <a:pt x="272" y="952"/>
                </a:lnTo>
                <a:lnTo>
                  <a:pt x="270" y="808"/>
                </a:lnTo>
                <a:lnTo>
                  <a:pt x="321" y="689"/>
                </a:lnTo>
                <a:lnTo>
                  <a:pt x="372" y="816"/>
                </a:lnTo>
                <a:lnTo>
                  <a:pt x="321" y="884"/>
                </a:lnTo>
                <a:lnTo>
                  <a:pt x="406" y="884"/>
                </a:lnTo>
                <a:lnTo>
                  <a:pt x="408" y="771"/>
                </a:lnTo>
                <a:lnTo>
                  <a:pt x="321" y="545"/>
                </a:lnTo>
                <a:lnTo>
                  <a:pt x="211" y="443"/>
                </a:lnTo>
                <a:close/>
              </a:path>
            </a:pathLst>
          </a:custGeom>
          <a:solidFill>
            <a:srgbClr val="11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5"/>
          <p:cNvSpPr/>
          <p:nvPr/>
        </p:nvSpPr>
        <p:spPr>
          <a:xfrm>
            <a:off x="3780000" y="4761000"/>
            <a:ext cx="1081080" cy="1044360"/>
          </a:xfrm>
          <a:prstGeom prst="ellipse">
            <a:avLst/>
          </a:prstGeom>
          <a:solidFill>
            <a:srgbClr val="00a3d6"/>
          </a:solidFill>
          <a:ln w="93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4127040" y="4042440"/>
            <a:ext cx="546840" cy="357120"/>
            <a:chOff x="4127040" y="4042440"/>
            <a:chExt cx="546840" cy="357120"/>
          </a:xfrm>
        </p:grpSpPr>
        <p:sp>
          <p:nvSpPr>
            <p:cNvPr id="724" name="Oval 6"/>
            <p:cNvSpPr/>
            <p:nvPr/>
          </p:nvSpPr>
          <p:spPr>
            <a:xfrm rot="14654400">
              <a:off x="4421880" y="41472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"/>
            <p:cNvSpPr/>
            <p:nvPr/>
          </p:nvSpPr>
          <p:spPr>
            <a:xfrm flipH="1">
              <a:off x="4127040" y="4302720"/>
              <a:ext cx="386640" cy="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 flipH="1" flipV="1">
              <a:off x="4128480" y="4169880"/>
              <a:ext cx="35424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"/>
            <p:cNvSpPr/>
            <p:nvPr/>
          </p:nvSpPr>
          <p:spPr>
            <a:xfrm flipH="1" flipV="1">
              <a:off x="4227840" y="4042440"/>
              <a:ext cx="318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Freeform 11"/>
          <p:cNvSpPr/>
          <p:nvPr/>
        </p:nvSpPr>
        <p:spPr>
          <a:xfrm>
            <a:off x="539640" y="1339920"/>
            <a:ext cx="2305080" cy="2448000"/>
          </a:xfrm>
          <a:custGeom>
            <a:avLst/>
            <a:gdLst/>
            <a:ahLst/>
            <a:rect l="l" t="t" r="r" b="b"/>
            <a:pathLst>
              <a:path w="1452" h="1542">
                <a:moveTo>
                  <a:pt x="0" y="1542"/>
                </a:moveTo>
                <a:lnTo>
                  <a:pt x="273" y="1180"/>
                </a:lnTo>
                <a:lnTo>
                  <a:pt x="635" y="1089"/>
                </a:lnTo>
                <a:lnTo>
                  <a:pt x="1452" y="1089"/>
                </a:lnTo>
                <a:lnTo>
                  <a:pt x="681" y="1044"/>
                </a:lnTo>
                <a:lnTo>
                  <a:pt x="318" y="1134"/>
                </a:lnTo>
                <a:lnTo>
                  <a:pt x="545" y="817"/>
                </a:lnTo>
                <a:lnTo>
                  <a:pt x="998" y="635"/>
                </a:lnTo>
                <a:lnTo>
                  <a:pt x="545" y="771"/>
                </a:lnTo>
                <a:lnTo>
                  <a:pt x="545" y="182"/>
                </a:lnTo>
                <a:lnTo>
                  <a:pt x="499" y="590"/>
                </a:lnTo>
                <a:lnTo>
                  <a:pt x="182" y="0"/>
                </a:lnTo>
                <a:lnTo>
                  <a:pt x="499" y="681"/>
                </a:lnTo>
                <a:lnTo>
                  <a:pt x="499" y="771"/>
                </a:lnTo>
                <a:lnTo>
                  <a:pt x="363" y="998"/>
                </a:lnTo>
                <a:lnTo>
                  <a:pt x="363" y="635"/>
                </a:lnTo>
                <a:lnTo>
                  <a:pt x="318" y="998"/>
                </a:lnTo>
                <a:lnTo>
                  <a:pt x="0" y="1452"/>
                </a:lnTo>
                <a:lnTo>
                  <a:pt x="0" y="154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6"/>
          <p:cNvGrpSpPr/>
          <p:nvPr/>
        </p:nvGrpSpPr>
        <p:grpSpPr>
          <a:xfrm>
            <a:off x="4146120" y="1905840"/>
            <a:ext cx="1302480" cy="840600"/>
            <a:chOff x="4146120" y="1905840"/>
            <a:chExt cx="1302480" cy="840600"/>
          </a:xfrm>
        </p:grpSpPr>
        <p:sp>
          <p:nvSpPr>
            <p:cNvPr id="730" name="AutoShape 17"/>
            <p:cNvSpPr/>
            <p:nvPr/>
          </p:nvSpPr>
          <p:spPr>
            <a:xfrm rot="19980600">
              <a:off x="4594320" y="1988640"/>
              <a:ext cx="486720" cy="506520"/>
            </a:xfrm>
            <a:prstGeom prst="parallelogram">
              <a:avLst>
                <a:gd name="adj" fmla="val 42384"/>
              </a:avLst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8"/>
            <p:cNvSpPr/>
            <p:nvPr/>
          </p:nvSpPr>
          <p:spPr>
            <a:xfrm rot="20703600">
              <a:off x="4140000" y="2582640"/>
              <a:ext cx="806400" cy="60840"/>
            </a:xfrm>
            <a:prstGeom prst="rect">
              <a:avLst/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 rot="20161200">
              <a:off x="4825080" y="2073240"/>
              <a:ext cx="626040" cy="120960"/>
            </a:xfrm>
            <a:prstGeom prst="rect">
              <a:avLst/>
            </a:prstGeom>
            <a:gradFill rotWithShape="0">
              <a:gsLst>
                <a:gs pos="0">
                  <a:srgbClr val="084d08"/>
                </a:gs>
                <a:gs pos="50000">
                  <a:srgbClr val="11a711"/>
                </a:gs>
                <a:gs pos="100000">
                  <a:srgbClr val="084d08"/>
                </a:gs>
              </a:gsLst>
              <a:lin ang="6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0"/>
            <p:cNvSpPr/>
            <p:nvPr/>
          </p:nvSpPr>
          <p:spPr>
            <a:xfrm>
              <a:off x="4594320" y="2322720"/>
              <a:ext cx="378720" cy="385200"/>
            </a:xfrm>
            <a:prstGeom prst="ellipse">
              <a:avLst/>
            </a:prstGeom>
            <a:gradFill rotWithShape="0">
              <a:gsLst>
                <a:gs pos="0">
                  <a:srgbClr val="13b913"/>
                </a:gs>
                <a:gs pos="100000">
                  <a:srgbClr val="0211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Oval 21"/>
          <p:cNvSpPr/>
          <p:nvPr/>
        </p:nvSpPr>
        <p:spPr>
          <a:xfrm>
            <a:off x="53658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5221440" y="1700280"/>
            <a:ext cx="502920" cy="43164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73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6" descr="apple"/>
          <p:cNvPicPr/>
          <p:nvPr/>
        </p:nvPicPr>
        <p:blipFill>
          <a:blip r:embed="rId2"/>
          <a:stretch/>
        </p:blipFill>
        <p:spPr>
          <a:xfrm>
            <a:off x="1619280" y="2997360"/>
            <a:ext cx="76500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00243 0.57755 E">
                                      <p:cBhvr>
                                        <p:cTn id="87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787 C 0.01406 -0.00533 0.0283 -0.01852 0.04566 -0.02685 C 0.06302 -0.03496 0.07639 -0.04514 0.10347 -0.04074 C 0.13055 -0.03611 0.17309 -0.02338 0.20833 0.00069 C 0.24357 0.025 0.27916 0.06481 0.31493 0.10509 E">
                                      <p:cBhvr>
                                        <p:cTn id="107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1214E-006 C 0.06893 2.31214E-006 0.125 0.07029 0.125 0.15699 C 0.125 0.24393 0.06893 0.31468 -1.66667E-006 0.31468 C -0.06892 0.31468 -0.125 0.24393 -0.125 0.15699 C -0.125 0.07029 -0.06892 2.31214E-006 -1.66667E-006 2.31214E-006 Z">
                                      <p:cBhvr>
                                        <p:cTn id="117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яжение всех тел во Вселенной друг к другу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семирным тягот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741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743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751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754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760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768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771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20"/>
          <p:cNvSpPr/>
          <p:nvPr/>
        </p:nvSpPr>
        <p:spPr>
          <a:xfrm>
            <a:off x="250920" y="2492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ным случаем сил всемирного тяготения является </a:t>
            </a:r>
            <a:r>
              <a:rPr b="1" lang="ru-RU" sz="2800" spc="-1" strike="noStrike">
                <a:solidFill>
                  <a:srgbClr val="ccb400"/>
                </a:solidFill>
                <a:latin typeface="Times New Roman"/>
              </a:rPr>
              <a:t>сила тяже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776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8"/>
          <p:cNvSpPr/>
          <p:nvPr/>
        </p:nvSpPr>
        <p:spPr>
          <a:xfrm>
            <a:off x="3276720" y="907920"/>
            <a:ext cx="554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787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795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2-11-13T19:46:23Z</dcterms:modified>
  <cp:revision>53</cp:revision>
  <dc:subject/>
  <dc:title>PowerPoint Presentation</dc:title>
</cp:coreProperties>
</file>