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AF2-F745-41D8-850F-89E83B19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127-411F-4D2A-817C-B98431B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611-C356-4470-ACA4-98C91285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977-A7B3-4BC4-A210-5B7BA16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830-617B-4301-A9B9-4EFEF3F1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199-07C8-48FC-BD01-4896E803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21B-508D-4759-9327-DB7C049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689-F961-4A89-905E-92B7E967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B0C-AC94-4E9E-B1B2-5A8BDFE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003-574A-49D7-ADC4-A38D1CF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0F5-9B10-4DCB-B540-445106B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04C-D36D-4E46-9C14-885F2FF5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B3D2F-B99D-4FB1-AF39-D68B0D00CA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00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01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04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1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559640" y="398520"/>
            <a:ext cx="19796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Цили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Пор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Клапан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Атмосф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ое дав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935680" y="720720"/>
            <a:ext cx="144936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54240" y="1979640"/>
            <a:ext cx="1809720" cy="107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94240" y="1440000"/>
            <a:ext cx="2170080" cy="143964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94240" y="3060720"/>
            <a:ext cx="2170080" cy="36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95680" y="4140360"/>
            <a:ext cx="108900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4140360"/>
            <a:ext cx="1440" cy="72072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5759280"/>
            <a:ext cx="1800" cy="900360"/>
          </a:xfrm>
          <a:prstGeom prst="line">
            <a:avLst/>
          </a:prstGeom>
          <a:ln w="3600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6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87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88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91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9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9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10800000">
            <a:off x="5223960" y="5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Начало движения поршн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0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27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28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534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535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542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4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5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5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58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58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58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592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59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21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22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628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629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636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3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4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668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672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675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679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683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686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69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15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16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19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722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723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726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730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3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4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762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763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766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769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770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773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20720" y="539640"/>
            <a:ext cx="8999640" cy="3589560"/>
            <a:chOff x="720720" y="539640"/>
            <a:chExt cx="8999640" cy="3589560"/>
          </a:xfrm>
        </p:grpSpPr>
        <p:sp>
          <p:nvSpPr>
            <p:cNvPr id="77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н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0000" y="2160720"/>
              <a:ext cx="324036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 перетекает в надпоршневое простр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118200" y="3060720"/>
              <a:ext cx="363600" cy="14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78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806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807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sp>
          <p:nvSpPr>
            <p:cNvPr id="813" name=""/>
            <p:cNvSpPr/>
            <p:nvPr/>
          </p:nvSpPr>
          <p:spPr>
            <a:xfrm>
              <a:off x="4859280" y="287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9640" y="287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40360" y="2879640"/>
            <a:ext cx="720720" cy="360360"/>
            <a:chOff x="5040360" y="2879640"/>
            <a:chExt cx="720720" cy="360360"/>
          </a:xfrm>
        </p:grpSpPr>
        <p:sp>
          <p:nvSpPr>
            <p:cNvPr id="816" name=""/>
            <p:cNvSpPr/>
            <p:nvPr/>
          </p:nvSpPr>
          <p:spPr>
            <a:xfrm>
              <a:off x="5400720" y="287964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40360" y="287964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2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845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846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849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85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85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80000" y="539640"/>
            <a:ext cx="306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Движение поршн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80000" y="2160720"/>
            <a:ext cx="32403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Жидкость поднимается за поршнем под действием атмосфер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5578200" y="3959280"/>
            <a:ext cx="723960" cy="19796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86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87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899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900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903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0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0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16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240000"/>
            <a:ext cx="1079640" cy="179640"/>
          </a:xfrm>
          <a:prstGeom prst="roundRect">
            <a:avLst>
              <a:gd name="adj" fmla="val 889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4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4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2879640"/>
            <a:ext cx="1079640" cy="360360"/>
            <a:chOff x="4859280" y="2879640"/>
            <a:chExt cx="1079640" cy="360360"/>
          </a:xfrm>
        </p:grpSpPr>
        <p:grpSp>
          <p:nvGrpSpPr>
            <p:cNvPr id="155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040360" y="2879640"/>
              <a:ext cx="720720" cy="360360"/>
              <a:chOff x="5040360" y="2879640"/>
              <a:chExt cx="720720" cy="360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00720" y="28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40360" y="287964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25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947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951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954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957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5224320" y="107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964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973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995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996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999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1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02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05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12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21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1043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1047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50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053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50880" y="1800360"/>
            <a:ext cx="9730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060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069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091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092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098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01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5400000">
            <a:off x="4057920" y="1533960"/>
            <a:ext cx="720720" cy="90036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251240" y="180036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00720" y="5216040"/>
            <a:ext cx="1440" cy="162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108" name=""/>
            <p:cNvSpPr/>
            <p:nvPr/>
          </p:nvSpPr>
          <p:spPr>
            <a:xfrm>
              <a:off x="720720" y="539640"/>
              <a:ext cx="21607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вытек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19280" y="1079640"/>
              <a:ext cx="1619280" cy="7207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17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859280" y="1619280"/>
            <a:ext cx="1079640" cy="21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2160720"/>
              <a:gd name="textAreaBottom" fmla="*/ 2160360 h 2160720"/>
            </a:gdLst>
            <a:ahLst/>
            <a:rect l="textAreaLeft" t="textAreaTop" r="textAreaRight" b="textAreaBottom"/>
            <a:pathLst>
              <a:path w="21600" h="43222">
                <a:moveTo>
                  <a:pt x="31" y="0"/>
                </a:moveTo>
                <a:arcTo wR="31" hR="31" stAng="16200000" swAng="-5400000"/>
                <a:lnTo>
                  <a:pt x="0" y="43191"/>
                </a:lnTo>
                <a:arcTo wR="31" hR="31" stAng="10800000" swAng="-5400000"/>
                <a:lnTo>
                  <a:pt x="21569" y="43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9280" y="1800360"/>
            <a:ext cx="1079640" cy="360360"/>
            <a:chOff x="4859280" y="1800360"/>
            <a:chExt cx="1079640" cy="360360"/>
          </a:xfrm>
        </p:grpSpPr>
        <p:grpSp>
          <p:nvGrpSpPr>
            <p:cNvPr id="1139" name=""/>
            <p:cNvGrpSpPr/>
            <p:nvPr/>
          </p:nvGrpSpPr>
          <p:grpSpPr>
            <a:xfrm>
              <a:off x="4859280" y="1800360"/>
              <a:ext cx="1079640" cy="360360"/>
              <a:chOff x="4859280" y="1800360"/>
              <a:chExt cx="1079640" cy="360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59280" y="18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219640" y="18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43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146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149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1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1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1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859280" y="1800360"/>
            <a:ext cx="1079640" cy="539640"/>
            <a:chOff x="4859280" y="1800360"/>
            <a:chExt cx="1079640" cy="539640"/>
          </a:xfrm>
        </p:grpSpPr>
        <p:grpSp>
          <p:nvGrpSpPr>
            <p:cNvPr id="1181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5040360" y="1800360"/>
              <a:ext cx="720720" cy="360360"/>
              <a:chOff x="5040360" y="1800360"/>
              <a:chExt cx="720720" cy="360360"/>
            </a:xfrm>
          </p:grpSpPr>
          <p:sp>
            <p:nvSpPr>
              <p:cNvPr id="1185" name=""/>
              <p:cNvSpPr/>
              <p:nvPr/>
            </p:nvSpPr>
            <p:spPr>
              <a:xfrm>
                <a:off x="5400720" y="18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40360" y="18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 rot="10800000">
            <a:off x="5223960" y="7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5029200" y="2334960"/>
            <a:ext cx="734760" cy="549000"/>
            <a:chOff x="5029200" y="2334960"/>
            <a:chExt cx="734760" cy="549000"/>
          </a:xfrm>
        </p:grpSpPr>
        <p:sp>
          <p:nvSpPr>
            <p:cNvPr id="1189" name=""/>
            <p:cNvSpPr/>
            <p:nvPr/>
          </p:nvSpPr>
          <p:spPr>
            <a:xfrm flipV="1">
              <a:off x="5029200" y="233496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5511600" y="233496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19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1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1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0" name=""/>
          <p:cNvGrpSpPr/>
          <p:nvPr/>
        </p:nvGrpSpPr>
        <p:grpSpPr>
          <a:xfrm>
            <a:off x="4865760" y="2043000"/>
            <a:ext cx="1079280" cy="541440"/>
            <a:chOff x="4865760" y="2043000"/>
            <a:chExt cx="1079280" cy="541440"/>
          </a:xfrm>
        </p:grpSpPr>
        <p:grpSp>
          <p:nvGrpSpPr>
            <p:cNvPr id="1221" name=""/>
            <p:cNvGrpSpPr/>
            <p:nvPr/>
          </p:nvGrpSpPr>
          <p:grpSpPr>
            <a:xfrm>
              <a:off x="4865760" y="2224080"/>
              <a:ext cx="1079280" cy="360360"/>
              <a:chOff x="4865760" y="2224080"/>
              <a:chExt cx="1079280" cy="3603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65760" y="222408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224320" y="22240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5045040" y="2043000"/>
              <a:ext cx="720720" cy="360360"/>
              <a:chOff x="5045040" y="2043000"/>
              <a:chExt cx="720720" cy="360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5405400" y="204300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5040" y="204300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7" name=""/>
          <p:cNvSpPr/>
          <p:nvPr/>
        </p:nvSpPr>
        <p:spPr>
          <a:xfrm rot="10800000">
            <a:off x="5223960" y="9032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5029200" y="2695320"/>
            <a:ext cx="734760" cy="549000"/>
            <a:chOff x="5029200" y="2695320"/>
            <a:chExt cx="734760" cy="549000"/>
          </a:xfrm>
        </p:grpSpPr>
        <p:sp>
          <p:nvSpPr>
            <p:cNvPr id="1229" name=""/>
            <p:cNvSpPr/>
            <p:nvPr/>
          </p:nvSpPr>
          <p:spPr>
            <a:xfrm flipV="1">
              <a:off x="502920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 flipV="1">
              <a:off x="5511600" y="2695320"/>
              <a:ext cx="25236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3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5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5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"/>
          <p:cNvGrpSpPr/>
          <p:nvPr/>
        </p:nvGrpSpPr>
        <p:grpSpPr>
          <a:xfrm>
            <a:off x="4859280" y="2160720"/>
            <a:ext cx="1079640" cy="539640"/>
            <a:chOff x="4859280" y="2160720"/>
            <a:chExt cx="1079640" cy="539640"/>
          </a:xfrm>
        </p:grpSpPr>
        <p:grpSp>
          <p:nvGrpSpPr>
            <p:cNvPr id="1261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1265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"/>
          <p:cNvSpPr/>
          <p:nvPr/>
        </p:nvSpPr>
        <p:spPr>
          <a:xfrm rot="10800000">
            <a:off x="5223960" y="10843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5040360" y="2695320"/>
            <a:ext cx="735120" cy="549000"/>
            <a:chOff x="5040360" y="2695320"/>
            <a:chExt cx="735120" cy="549000"/>
          </a:xfrm>
        </p:grpSpPr>
        <p:sp>
          <p:nvSpPr>
            <p:cNvPr id="1269" name=""/>
            <p:cNvSpPr/>
            <p:nvPr/>
          </p:nvSpPr>
          <p:spPr>
            <a:xfrm flipV="1">
              <a:off x="5040360" y="2695320"/>
              <a:ext cx="24300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5522760" y="2695320"/>
              <a:ext cx="252720" cy="54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27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29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29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859280" y="2340000"/>
            <a:ext cx="1079640" cy="539640"/>
            <a:chOff x="4859280" y="2340000"/>
            <a:chExt cx="1079640" cy="539640"/>
          </a:xfrm>
        </p:grpSpPr>
        <p:grpSp>
          <p:nvGrpSpPr>
            <p:cNvPr id="1301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1302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1305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 rot="10800000">
            <a:off x="5223960" y="12636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029200" y="2874600"/>
            <a:ext cx="734760" cy="369720"/>
            <a:chOff x="5029200" y="2874600"/>
            <a:chExt cx="734760" cy="369720"/>
          </a:xfrm>
        </p:grpSpPr>
        <p:sp>
          <p:nvSpPr>
            <p:cNvPr id="1309" name=""/>
            <p:cNvSpPr/>
            <p:nvPr/>
          </p:nvSpPr>
          <p:spPr>
            <a:xfrm flipV="1">
              <a:off x="5029200" y="2874600"/>
              <a:ext cx="24300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511600" y="2874600"/>
              <a:ext cx="252360" cy="369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1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3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3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3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4838760" y="2546280"/>
            <a:ext cx="1079280" cy="540000"/>
            <a:chOff x="4838760" y="2546280"/>
            <a:chExt cx="1079280" cy="540000"/>
          </a:xfrm>
        </p:grpSpPr>
        <p:grpSp>
          <p:nvGrpSpPr>
            <p:cNvPr id="1341" name=""/>
            <p:cNvGrpSpPr/>
            <p:nvPr/>
          </p:nvGrpSpPr>
          <p:grpSpPr>
            <a:xfrm>
              <a:off x="4838760" y="2725560"/>
              <a:ext cx="1079280" cy="360720"/>
              <a:chOff x="4838760" y="2725560"/>
              <a:chExt cx="1079280" cy="360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4838760" y="2725560"/>
                <a:ext cx="1079280" cy="36072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199120" y="2725560"/>
                <a:ext cx="360360" cy="360720"/>
              </a:xfrm>
              <a:custGeom>
                <a:avLst/>
                <a:gdLst>
                  <a:gd name="textAreaLeft" fmla="*/ 360 w 360360"/>
                  <a:gd name="textAreaRight" fmla="*/ 360000 w 360360"/>
                  <a:gd name="textAreaTop" fmla="*/ 360 h 360720"/>
                  <a:gd name="textAreaBottom" fmla="*/ 360360 h 360720"/>
                </a:gdLst>
                <a:ahLst/>
                <a:rect l="textAreaLeft" t="textAreaTop" r="textAreaRight" b="textAreaBottom"/>
                <a:pathLst>
                  <a:path w="21600" h="21622">
                    <a:moveTo>
                      <a:pt x="95" y="0"/>
                    </a:moveTo>
                    <a:arcTo wR="95" hR="95" stAng="16200000" swAng="-5400000"/>
                    <a:lnTo>
                      <a:pt x="0" y="21527"/>
                    </a:lnTo>
                    <a:arcTo wR="95" hR="95" stAng="10800000" swAng="-5400000"/>
                    <a:lnTo>
                      <a:pt x="21505" y="21622"/>
                    </a:lnTo>
                    <a:arcTo wR="95" hR="95" stAng="5400000" swAng="-5400000"/>
                    <a:lnTo>
                      <a:pt x="21600" y="95"/>
                    </a:lnTo>
                    <a:arcTo wR="95" hR="95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018040" y="2546280"/>
              <a:ext cx="720720" cy="360360"/>
              <a:chOff x="5018040" y="2546280"/>
              <a:chExt cx="720720" cy="360360"/>
            </a:xfrm>
          </p:grpSpPr>
          <p:sp>
            <p:nvSpPr>
              <p:cNvPr id="1345" name=""/>
              <p:cNvSpPr/>
              <p:nvPr/>
            </p:nvSpPr>
            <p:spPr>
              <a:xfrm>
                <a:off x="5378400" y="2546280"/>
                <a:ext cx="180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18040" y="2546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7" name=""/>
          <p:cNvSpPr/>
          <p:nvPr/>
        </p:nvSpPr>
        <p:spPr>
          <a:xfrm rot="10800000">
            <a:off x="5223960" y="144468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5040360" y="3056040"/>
            <a:ext cx="723600" cy="188640"/>
            <a:chOff x="5040360" y="3056040"/>
            <a:chExt cx="723600" cy="188640"/>
          </a:xfrm>
        </p:grpSpPr>
        <p:sp>
          <p:nvSpPr>
            <p:cNvPr id="1349" name=""/>
            <p:cNvSpPr/>
            <p:nvPr/>
          </p:nvSpPr>
          <p:spPr>
            <a:xfrm flipV="1">
              <a:off x="5040360" y="3056040"/>
              <a:ext cx="23328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511600" y="3056040"/>
              <a:ext cx="252360" cy="18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6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59280" y="2700360"/>
            <a:ext cx="1079640" cy="360360"/>
            <a:chOff x="4859280" y="2700360"/>
            <a:chExt cx="1079640" cy="360360"/>
          </a:xfrm>
        </p:grpSpPr>
        <p:grpSp>
          <p:nvGrpSpPr>
            <p:cNvPr id="184" name=""/>
            <p:cNvGrpSpPr/>
            <p:nvPr/>
          </p:nvGrpSpPr>
          <p:grpSpPr>
            <a:xfrm>
              <a:off x="4859280" y="2700360"/>
              <a:ext cx="1079640" cy="360360"/>
              <a:chOff x="4859280" y="2700360"/>
              <a:chExt cx="1079640" cy="360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59280" y="270036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9640" y="270036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19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19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219640" y="144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00720" y="6114600"/>
            <a:ext cx="1440" cy="730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19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135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59280" y="1800360"/>
            <a:ext cx="1079640" cy="197964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39600">
                <a:moveTo>
                  <a:pt x="31" y="0"/>
                </a:moveTo>
                <a:arcTo wR="31" hR="31" stAng="16200000" swAng="-5400000"/>
                <a:lnTo>
                  <a:pt x="0" y="39569"/>
                </a:lnTo>
                <a:arcTo wR="31" hR="31" stAng="10800000" swAng="-5400000"/>
                <a:lnTo>
                  <a:pt x="21569" y="39600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grpSp>
          <p:nvGrpSpPr>
            <p:cNvPr id="1374" name=""/>
            <p:cNvGrpSpPr/>
            <p:nvPr/>
          </p:nvGrpSpPr>
          <p:grpSpPr>
            <a:xfrm>
              <a:off x="4859280" y="3419640"/>
              <a:ext cx="1079640" cy="360360"/>
              <a:chOff x="4859280" y="3419640"/>
              <a:chExt cx="1079640" cy="360360"/>
            </a:xfrm>
          </p:grpSpPr>
          <p:sp>
            <p:nvSpPr>
              <p:cNvPr id="1375" name=""/>
              <p:cNvSpPr/>
              <p:nvPr/>
            </p:nvSpPr>
            <p:spPr>
              <a:xfrm>
                <a:off x="4859280" y="341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219640" y="341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040360" y="3419640"/>
              <a:ext cx="720720" cy="360360"/>
              <a:chOff x="5040360" y="3419640"/>
              <a:chExt cx="720720" cy="360360"/>
            </a:xfrm>
          </p:grpSpPr>
          <p:sp>
            <p:nvSpPr>
              <p:cNvPr id="1378" name=""/>
              <p:cNvSpPr/>
              <p:nvPr/>
            </p:nvSpPr>
            <p:spPr>
              <a:xfrm>
                <a:off x="5400720" y="341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40360" y="341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4859280" y="2700360"/>
            <a:ext cx="1079640" cy="539640"/>
            <a:chOff x="4859280" y="2700360"/>
            <a:chExt cx="1079640" cy="539640"/>
          </a:xfrm>
        </p:grpSpPr>
        <p:grpSp>
          <p:nvGrpSpPr>
            <p:cNvPr id="1381" name=""/>
            <p:cNvGrpSpPr/>
            <p:nvPr/>
          </p:nvGrpSpPr>
          <p:grpSpPr>
            <a:xfrm>
              <a:off x="4859280" y="2879640"/>
              <a:ext cx="1079640" cy="360360"/>
              <a:chOff x="4859280" y="2879640"/>
              <a:chExt cx="1079640" cy="360360"/>
            </a:xfrm>
          </p:grpSpPr>
          <p:sp>
            <p:nvSpPr>
              <p:cNvPr id="1382" name=""/>
              <p:cNvSpPr/>
              <p:nvPr/>
            </p:nvSpPr>
            <p:spPr>
              <a:xfrm>
                <a:off x="4859280" y="28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219640" y="28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5040360" y="2700360"/>
              <a:ext cx="720720" cy="360360"/>
              <a:chOff x="5040360" y="2700360"/>
              <a:chExt cx="720720" cy="360360"/>
            </a:xfrm>
          </p:grpSpPr>
          <p:sp>
            <p:nvSpPr>
              <p:cNvPr id="1385" name=""/>
              <p:cNvSpPr/>
              <p:nvPr/>
            </p:nvSpPr>
            <p:spPr>
              <a:xfrm>
                <a:off x="5400720" y="270036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040360" y="270036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7" name=""/>
          <p:cNvSpPr/>
          <p:nvPr/>
        </p:nvSpPr>
        <p:spPr>
          <a:xfrm rot="10800000">
            <a:off x="5223960" y="16239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60000" y="161928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Модель работы поршневого насос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резентацию составил учитель физики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МКОУООШ №13 с. Меркушевка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cc"/>
                </a:solidFill>
                <a:latin typeface="Times New Roman"/>
              </a:rPr>
              <a:t>Пономаренко Алексей Алексеевич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0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519280"/>
            <a:ext cx="1079640" cy="360360"/>
            <a:chOff x="4859280" y="2519280"/>
            <a:chExt cx="1079640" cy="360360"/>
          </a:xfrm>
        </p:grpSpPr>
        <p:grpSp>
          <p:nvGrpSpPr>
            <p:cNvPr id="228" name=""/>
            <p:cNvGrpSpPr/>
            <p:nvPr/>
          </p:nvGrpSpPr>
          <p:grpSpPr>
            <a:xfrm>
              <a:off x="4859280" y="2519280"/>
              <a:ext cx="1079640" cy="360360"/>
              <a:chOff x="4859280" y="2519280"/>
              <a:chExt cx="1079640" cy="36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859280" y="251928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19640" y="251928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40360" y="2519280"/>
              <a:ext cx="720720" cy="360360"/>
              <a:chOff x="5040360" y="2519280"/>
              <a:chExt cx="720720" cy="360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400720" y="251928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40360" y="2519280"/>
                <a:ext cx="720720" cy="180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3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3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219640" y="12603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00720" y="5935320"/>
            <a:ext cx="1440" cy="9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43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50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2700360"/>
            <a:ext cx="1079640" cy="1079640"/>
          </a:xfrm>
          <a:prstGeom prst="roundRect">
            <a:avLst>
              <a:gd name="adj" fmla="val 144"/>
            </a:avLst>
          </a:pr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59280" y="2340000"/>
            <a:ext cx="1079640" cy="360360"/>
            <a:chOff x="4859280" y="2340000"/>
            <a:chExt cx="1079640" cy="360360"/>
          </a:xfrm>
        </p:grpSpPr>
        <p:grpSp>
          <p:nvGrpSpPr>
            <p:cNvPr id="272" name=""/>
            <p:cNvGrpSpPr/>
            <p:nvPr/>
          </p:nvGrpSpPr>
          <p:grpSpPr>
            <a:xfrm>
              <a:off x="4859280" y="2340000"/>
              <a:ext cx="1079640" cy="360360"/>
              <a:chOff x="4859280" y="2340000"/>
              <a:chExt cx="1079640" cy="360360"/>
            </a:xfrm>
          </p:grpSpPr>
          <p:sp>
            <p:nvSpPr>
              <p:cNvPr id="273" name=""/>
              <p:cNvSpPr/>
              <p:nvPr/>
            </p:nvSpPr>
            <p:spPr>
              <a:xfrm>
                <a:off x="4859280" y="234000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19640" y="234000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040360" y="2340000"/>
              <a:ext cx="720720" cy="360360"/>
              <a:chOff x="5040360" y="2340000"/>
              <a:chExt cx="720720" cy="360360"/>
            </a:xfrm>
          </p:grpSpPr>
          <p:sp>
            <p:nvSpPr>
              <p:cNvPr id="276" name=""/>
              <p:cNvSpPr/>
              <p:nvPr/>
            </p:nvSpPr>
            <p:spPr>
              <a:xfrm>
                <a:off x="5400720" y="234000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40360" y="234000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279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282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26120" y="108576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400720" y="5756040"/>
            <a:ext cx="1440" cy="10890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287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294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519280"/>
            <a:ext cx="1079640" cy="126072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260720"/>
              <a:gd name="textAreaBottom" fmla="*/ 1260360 h 1260720"/>
            </a:gdLst>
            <a:ahLst/>
            <a:rect l="textAreaLeft" t="textAreaTop" r="textAreaRight" b="textAreaBottom"/>
            <a:pathLst>
              <a:path w="21600" h="25222">
                <a:moveTo>
                  <a:pt x="31" y="0"/>
                </a:moveTo>
                <a:arcTo wR="31" hR="31" stAng="16200000" swAng="-5400000"/>
                <a:lnTo>
                  <a:pt x="0" y="25191"/>
                </a:lnTo>
                <a:arcTo wR="31" hR="31" stAng="10800000" swAng="-5400000"/>
                <a:lnTo>
                  <a:pt x="21569" y="25222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59280" y="2160720"/>
            <a:ext cx="1079640" cy="360360"/>
            <a:chOff x="4859280" y="2160720"/>
            <a:chExt cx="1079640" cy="360360"/>
          </a:xfrm>
        </p:grpSpPr>
        <p:grpSp>
          <p:nvGrpSpPr>
            <p:cNvPr id="316" name=""/>
            <p:cNvGrpSpPr/>
            <p:nvPr/>
          </p:nvGrpSpPr>
          <p:grpSpPr>
            <a:xfrm>
              <a:off x="4859280" y="2160720"/>
              <a:ext cx="1079640" cy="360360"/>
              <a:chOff x="4859280" y="2160720"/>
              <a:chExt cx="1079640" cy="360360"/>
            </a:xfrm>
          </p:grpSpPr>
          <p:sp>
            <p:nvSpPr>
              <p:cNvPr id="317" name=""/>
              <p:cNvSpPr/>
              <p:nvPr/>
            </p:nvSpPr>
            <p:spPr>
              <a:xfrm>
                <a:off x="4859280" y="216072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19640" y="21607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0360" y="2160720"/>
              <a:ext cx="720720" cy="360360"/>
              <a:chOff x="5040360" y="2160720"/>
              <a:chExt cx="720720" cy="360360"/>
            </a:xfrm>
          </p:grpSpPr>
          <p:sp>
            <p:nvSpPr>
              <p:cNvPr id="320" name=""/>
              <p:cNvSpPr/>
              <p:nvPr/>
            </p:nvSpPr>
            <p:spPr>
              <a:xfrm>
                <a:off x="5400720" y="21607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0360" y="21607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23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26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219640" y="90000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00720" y="5575320"/>
            <a:ext cx="1440" cy="12700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31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38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9280" y="2340000"/>
            <a:ext cx="1079640" cy="144000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440000"/>
              <a:gd name="textAreaBottom" fmla="*/ 1439640 h 1440000"/>
            </a:gdLst>
            <a:ahLst/>
            <a:rect l="textAreaLeft" t="textAreaTop" r="textAreaRight" b="textAreaBottom"/>
            <a:pathLst>
              <a:path w="21600" h="28807">
                <a:moveTo>
                  <a:pt x="31" y="0"/>
                </a:moveTo>
                <a:arcTo wR="31" hR="31" stAng="16200000" swAng="-5400000"/>
                <a:lnTo>
                  <a:pt x="0" y="28776"/>
                </a:lnTo>
                <a:arcTo wR="31" hR="31" stAng="10800000" swAng="-5400000"/>
                <a:lnTo>
                  <a:pt x="21569" y="2880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859280" y="1979640"/>
            <a:ext cx="1079640" cy="360360"/>
            <a:chOff x="4859280" y="1979640"/>
            <a:chExt cx="1079640" cy="360360"/>
          </a:xfrm>
        </p:grpSpPr>
        <p:grpSp>
          <p:nvGrpSpPr>
            <p:cNvPr id="360" name=""/>
            <p:cNvGrpSpPr/>
            <p:nvPr/>
          </p:nvGrpSpPr>
          <p:grpSpPr>
            <a:xfrm>
              <a:off x="4859280" y="1979640"/>
              <a:ext cx="1079640" cy="360360"/>
              <a:chOff x="4859280" y="1979640"/>
              <a:chExt cx="1079640" cy="36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859280" y="1979640"/>
                <a:ext cx="107964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19640" y="197964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040360" y="1979640"/>
              <a:ext cx="720720" cy="360360"/>
              <a:chOff x="5040360" y="1979640"/>
              <a:chExt cx="720720" cy="360360"/>
            </a:xfrm>
          </p:grpSpPr>
          <p:sp>
            <p:nvSpPr>
              <p:cNvPr id="364" name=""/>
              <p:cNvSpPr/>
              <p:nvPr/>
            </p:nvSpPr>
            <p:spPr>
              <a:xfrm>
                <a:off x="5400720" y="197964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40360" y="197964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367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370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219640" y="72072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400720" y="5396040"/>
            <a:ext cx="1440" cy="1449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375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382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04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08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11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14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219640" y="539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400720" y="5035320"/>
            <a:ext cx="1440" cy="1809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0720" y="539640"/>
            <a:ext cx="8999640" cy="5399280"/>
            <a:chOff x="720720" y="539640"/>
            <a:chExt cx="8999640" cy="5399280"/>
          </a:xfrm>
        </p:grpSpPr>
        <p:sp>
          <p:nvSpPr>
            <p:cNvPr id="419" name=""/>
            <p:cNvSpPr/>
            <p:nvPr/>
          </p:nvSpPr>
          <p:spPr>
            <a:xfrm>
              <a:off x="6480000" y="539640"/>
              <a:ext cx="30607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3deb3d"/>
                  </a:solidFill>
                  <a:latin typeface="Arial"/>
                </a:rPr>
                <a:t>Движение поршня ввер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2340000"/>
              <a:ext cx="27003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ерхний клап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ижний клапан откры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19640" y="2879640"/>
              <a:ext cx="1079280" cy="180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419640" y="3419280"/>
              <a:ext cx="1079280" cy="18252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80000" y="2160720"/>
              <a:ext cx="324036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ffff"/>
                  </a:solidFill>
                  <a:latin typeface="Arial"/>
                </a:rPr>
                <a:t>Жидкость поднимается за поршнем под действием атмосферного д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578200" y="3959280"/>
              <a:ext cx="723960" cy="1979640"/>
            </a:xfrm>
            <a:prstGeom prst="line">
              <a:avLst/>
            </a:prstGeom>
            <a:ln w="360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3060720" y="106200"/>
            <a:ext cx="4681440" cy="7183440"/>
            <a:chOff x="3060720" y="106200"/>
            <a:chExt cx="4681440" cy="7183440"/>
          </a:xfrm>
        </p:grpSpPr>
        <p:grpSp>
          <p:nvGrpSpPr>
            <p:cNvPr id="426" name=""/>
            <p:cNvGrpSpPr/>
            <p:nvPr/>
          </p:nvGrpSpPr>
          <p:grpSpPr>
            <a:xfrm>
              <a:off x="3060720" y="106200"/>
              <a:ext cx="4681440" cy="7183440"/>
              <a:chOff x="3060720" y="106200"/>
              <a:chExt cx="4681440" cy="71834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060720" y="106200"/>
                <a:ext cx="4681440" cy="7183440"/>
                <a:chOff x="3060720" y="106200"/>
                <a:chExt cx="4681440" cy="7183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060720" y="6454800"/>
                  <a:ext cx="4680000" cy="834840"/>
                </a:xfrm>
                <a:prstGeom prst="roundRect">
                  <a:avLst>
                    <a:gd name="adj" fmla="val 190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283360" y="3813120"/>
                  <a:ext cx="255600" cy="3197160"/>
                </a:xfrm>
                <a:custGeom>
                  <a:avLst/>
                  <a:gdLst>
                    <a:gd name="textAreaLeft" fmla="*/ 360 w 255600"/>
                    <a:gd name="textAreaRight" fmla="*/ 255240 w 255600"/>
                    <a:gd name="textAreaTop" fmla="*/ 360 h 3197160"/>
                    <a:gd name="textAreaBottom" fmla="*/ 3196800 h 3197160"/>
                  </a:gdLst>
                  <a:ahLst/>
                  <a:rect l="textAreaLeft" t="textAreaTop" r="textAreaRight" b="textAreaBottom"/>
                  <a:pathLst>
                    <a:path w="21600" h="269833">
                      <a:moveTo>
                        <a:pt x="135" y="0"/>
                      </a:moveTo>
                      <a:arcTo wR="135" hR="135" stAng="16200000" swAng="-5400000"/>
                      <a:lnTo>
                        <a:pt x="0" y="269698"/>
                      </a:lnTo>
                      <a:arcTo wR="135" hR="135" stAng="10800000" swAng="-5400000"/>
                      <a:lnTo>
                        <a:pt x="21465" y="269833"/>
                      </a:lnTo>
                      <a:arcTo wR="135" hR="135" stAng="5400000" swAng="-5400000"/>
                      <a:lnTo>
                        <a:pt x="21600" y="135"/>
                      </a:lnTo>
                      <a:arcTo wR="135" hR="135" stAng="0" swAng="-5400000"/>
                      <a:close/>
                    </a:path>
                  </a:pathLst>
                </a:custGeom>
                <a:solidFill>
                  <a:srgbClr val="99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060720" y="6245280"/>
                  <a:ext cx="1440" cy="3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40720" y="6199200"/>
                  <a:ext cx="1440" cy="43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843440" y="106200"/>
                  <a:ext cx="1135080" cy="3706920"/>
                </a:xfrm>
                <a:custGeom>
                  <a:avLst/>
                  <a:gdLst>
                    <a:gd name="textAreaLeft" fmla="*/ 360 w 1135080"/>
                    <a:gd name="textAreaRight" fmla="*/ 1134720 w 1135080"/>
                    <a:gd name="textAreaTop" fmla="*/ 360 h 3706920"/>
                    <a:gd name="textAreaBottom" fmla="*/ 3706560 h 3706920"/>
                  </a:gdLst>
                  <a:ahLst/>
                  <a:rect l="textAreaLeft" t="textAreaTop" r="textAreaRight" b="textAreaBottom"/>
                  <a:pathLst>
                    <a:path w="21600" h="70525">
                      <a:moveTo>
                        <a:pt x="30" y="0"/>
                      </a:moveTo>
                      <a:arcTo wR="30" hR="30" stAng="16200000" swAng="-5400000"/>
                      <a:lnTo>
                        <a:pt x="0" y="70495"/>
                      </a:lnTo>
                      <a:arcTo wR="30" hR="30" stAng="10800000" swAng="-5400000"/>
                      <a:lnTo>
                        <a:pt x="21570" y="70525"/>
                      </a:lnTo>
                      <a:arcTo wR="30" hR="30" stAng="5400000" swAng="-5400000"/>
                      <a:lnTo>
                        <a:pt x="21600" y="30"/>
                      </a:lnTo>
                      <a:arcTo wR="30" hR="3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5400000">
                  <a:off x="3942720" y="1608840"/>
                  <a:ext cx="968400" cy="852480"/>
                </a:xfrm>
                <a:custGeom>
                  <a:avLst/>
                  <a:gdLst/>
                  <a:ahLst/>
                  <a:rect l="l" t="t" r="r" b="b"/>
                  <a:pathLst>
                    <a:path w="841" h="854">
                      <a:moveTo>
                        <a:pt x="517" y="247"/>
                      </a:moveTo>
                      <a:lnTo>
                        <a:pt x="517" y="415"/>
                      </a:lnTo>
                      <a:lnTo>
                        <a:pt x="264" y="415"/>
                      </a:lnTo>
                      <a:lnTo>
                        <a:pt x="264" y="0"/>
                      </a:lnTo>
                      <a:lnTo>
                        <a:pt x="0" y="0"/>
                      </a:lnTo>
                      <a:lnTo>
                        <a:pt x="0" y="680"/>
                      </a:lnTo>
                      <a:lnTo>
                        <a:pt x="517" y="680"/>
                      </a:lnTo>
                      <a:lnTo>
                        <a:pt x="517" y="854"/>
                      </a:lnTo>
                      <a:lnTo>
                        <a:pt x="841" y="547"/>
                      </a:lnTo>
                      <a:lnTo>
                        <a:pt x="517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339552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49600" y="4776840"/>
                <a:ext cx="265320" cy="1677960"/>
              </a:xfrm>
              <a:prstGeom prst="downArrow">
                <a:avLst>
                  <a:gd name="adj1" fmla="val 50000"/>
                  <a:gd name="adj2" fmla="val 15810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4988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07200" y="4776840"/>
                <a:ext cx="263520" cy="1677960"/>
              </a:xfrm>
              <a:prstGeom prst="downArrow">
                <a:avLst>
                  <a:gd name="adj1" fmla="val 50000"/>
                  <a:gd name="adj2" fmla="val 159187"/>
                </a:avLst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959280" y="2160720"/>
              <a:ext cx="720720" cy="3603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1440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859280" y="1800360"/>
            <a:ext cx="1800" cy="197964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79280"/>
            <a:ext cx="1079640" cy="180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179280"/>
            <a:ext cx="1800" cy="144000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9280" y="2160720"/>
            <a:ext cx="1079640" cy="1619280"/>
          </a:xfrm>
          <a:custGeom>
            <a:avLst/>
            <a:gdLst>
              <a:gd name="textAreaLeft" fmla="*/ 360 w 1079640"/>
              <a:gd name="textAreaRight" fmla="*/ 1079280 w 1079640"/>
              <a:gd name="textAreaTop" fmla="*/ 360 h 1619280"/>
              <a:gd name="textAreaBottom" fmla="*/ 1618920 h 1619280"/>
            </a:gdLst>
            <a:ahLst/>
            <a:rect l="textAreaLeft" t="textAreaTop" r="textAreaRight" b="textAreaBottom"/>
            <a:pathLst>
              <a:path w="21600" h="32393">
                <a:moveTo>
                  <a:pt x="31" y="0"/>
                </a:moveTo>
                <a:arcTo wR="31" hR="31" stAng="16200000" swAng="-5400000"/>
                <a:lnTo>
                  <a:pt x="0" y="32362"/>
                </a:lnTo>
                <a:arcTo wR="31" hR="31" stAng="10800000" swAng="-5400000"/>
                <a:lnTo>
                  <a:pt x="21569" y="32393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b8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79280"/>
            <a:ext cx="1800" cy="3600720"/>
          </a:xfrm>
          <a:prstGeom prst="line">
            <a:avLst/>
          </a:prstGeom>
          <a:ln w="72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80000" y="3780000"/>
            <a:ext cx="36036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33880" y="1619280"/>
            <a:ext cx="730080" cy="1440"/>
          </a:xfrm>
          <a:prstGeom prst="line">
            <a:avLst/>
          </a:prstGeom>
          <a:ln w="360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834080" y="1784520"/>
            <a:ext cx="1079280" cy="360360"/>
            <a:chOff x="4834080" y="1784520"/>
            <a:chExt cx="1079280" cy="360360"/>
          </a:xfrm>
        </p:grpSpPr>
        <p:grpSp>
          <p:nvGrpSpPr>
            <p:cNvPr id="448" name=""/>
            <p:cNvGrpSpPr/>
            <p:nvPr/>
          </p:nvGrpSpPr>
          <p:grpSpPr>
            <a:xfrm>
              <a:off x="4834080" y="1784520"/>
              <a:ext cx="1079280" cy="360360"/>
              <a:chOff x="4834080" y="1784520"/>
              <a:chExt cx="1079280" cy="360360"/>
            </a:xfrm>
          </p:grpSpPr>
          <p:sp>
            <p:nvSpPr>
              <p:cNvPr id="449" name=""/>
              <p:cNvSpPr/>
              <p:nvPr/>
            </p:nvSpPr>
            <p:spPr>
              <a:xfrm>
                <a:off x="4834080" y="1784520"/>
                <a:ext cx="1079280" cy="360360"/>
              </a:xfrm>
              <a:prstGeom prst="roundRect">
                <a:avLst>
                  <a:gd name="adj" fmla="val 440"/>
                </a:avLst>
              </a:prstGeom>
              <a:solidFill>
                <a:srgbClr val="4c1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94440" y="1784520"/>
                <a:ext cx="360360" cy="360360"/>
              </a:xfrm>
              <a:prstGeom prst="roundRect">
                <a:avLst>
                  <a:gd name="adj" fmla="val 44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013360" y="1784520"/>
              <a:ext cx="720720" cy="360360"/>
              <a:chOff x="5013360" y="1784520"/>
              <a:chExt cx="720720" cy="36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373720" y="1784520"/>
                <a:ext cx="1440" cy="36036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13360" y="1784520"/>
                <a:ext cx="720720" cy="1440"/>
              </a:xfrm>
              <a:prstGeom prst="line">
                <a:avLst/>
              </a:prstGeom>
              <a:ln w="144000">
                <a:solidFill>
                  <a:srgbClr val="ff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859280" y="3419640"/>
            <a:ext cx="1079640" cy="360360"/>
            <a:chOff x="4859280" y="3419640"/>
            <a:chExt cx="1079640" cy="360360"/>
          </a:xfrm>
        </p:grpSpPr>
        <p:sp>
          <p:nvSpPr>
            <p:cNvPr id="455" name=""/>
            <p:cNvSpPr/>
            <p:nvPr/>
          </p:nvSpPr>
          <p:spPr>
            <a:xfrm>
              <a:off x="4859280" y="3419640"/>
              <a:ext cx="1079640" cy="360360"/>
            </a:xfrm>
            <a:prstGeom prst="roundRect">
              <a:avLst>
                <a:gd name="adj" fmla="val 440"/>
              </a:avLst>
            </a:prstGeom>
            <a:solidFill>
              <a:srgbClr val="4c1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9640" y="3419640"/>
              <a:ext cx="36036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040360" y="3240000"/>
            <a:ext cx="720720" cy="360360"/>
            <a:chOff x="5040360" y="3240000"/>
            <a:chExt cx="720720" cy="360360"/>
          </a:xfrm>
        </p:grpSpPr>
        <p:sp>
          <p:nvSpPr>
            <p:cNvPr id="458" name=""/>
            <p:cNvSpPr/>
            <p:nvPr/>
          </p:nvSpPr>
          <p:spPr>
            <a:xfrm>
              <a:off x="5400720" y="3240000"/>
              <a:ext cx="1440" cy="36036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240000"/>
              <a:ext cx="720720" cy="1800"/>
            </a:xfrm>
            <a:prstGeom prst="line">
              <a:avLst/>
            </a:prstGeom>
            <a:ln w="144000">
              <a:solidFill>
                <a:srgbClr val="ff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480000" y="539640"/>
            <a:ext cx="30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deb3d"/>
                </a:solidFill>
                <a:latin typeface="Arial"/>
              </a:rPr>
              <a:t>О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0720" y="2340000"/>
            <a:ext cx="27003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рхний кла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ижний клапан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2879640"/>
            <a:ext cx="107928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19640" y="3419280"/>
            <a:ext cx="1079280" cy="18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32:33Z</dcterms:created>
  <dc:creator/>
  <dc:description/>
  <dc:language>en-US</dc:language>
  <cp:lastModifiedBy/>
  <dcterms:modified xsi:type="dcterms:W3CDTF">2014-02-18T12:56:49Z</dcterms:modified>
  <cp:revision>7</cp:revision>
  <dc:subject/>
  <dc:title/>
</cp:coreProperties>
</file>