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3DEC-BC25-4125-B9E4-C74F8E512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B3C9-F63E-4C9C-8D12-B3BD530B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C592-7F46-4F9D-B141-D36E815E3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35D7-C42A-4BC4-9262-4D88EAE73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778A-1BCD-4675-AEB4-04EA667B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6A9E-110A-4FED-8C03-B3B019FF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CE27-D359-4B22-9B36-1F425110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473D-4989-4E6F-8618-AA62883F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C3A0-2EC3-4F19-8EF2-A78D4BEC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D316-F343-479E-8DBC-2F4DE667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38F0-BED7-4AEF-A79A-1D367557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9043-46AD-4023-B87E-2D1C7846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E8FAB-E698-4368-BAB5-00AB5B9C69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8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3240000"/>
            <a:ext cx="1079640" cy="179640"/>
          </a:xfrm>
          <a:prstGeom prst="roundRect">
            <a:avLst>
              <a:gd name="adj" fmla="val 889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00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01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04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859280" y="2879640"/>
            <a:ext cx="1079640" cy="360360"/>
            <a:chOff x="4859280" y="2879640"/>
            <a:chExt cx="1079640" cy="360360"/>
          </a:xfrm>
        </p:grpSpPr>
        <p:grpSp>
          <p:nvGrpSpPr>
            <p:cNvPr id="111" name=""/>
            <p:cNvGrpSpPr/>
            <p:nvPr/>
          </p:nvGrpSpPr>
          <p:grpSpPr>
            <a:xfrm>
              <a:off x="4859280" y="2879640"/>
              <a:ext cx="1079640" cy="360360"/>
              <a:chOff x="4859280" y="2879640"/>
              <a:chExt cx="1079640" cy="360360"/>
            </a:xfrm>
          </p:grpSpPr>
          <p:sp>
            <p:nvSpPr>
              <p:cNvPr id="112" name=""/>
              <p:cNvSpPr/>
              <p:nvPr/>
            </p:nvSpPr>
            <p:spPr>
              <a:xfrm>
                <a:off x="4859280" y="28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219640" y="28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5040360" y="2879640"/>
              <a:ext cx="720720" cy="360360"/>
              <a:chOff x="5040360" y="2879640"/>
              <a:chExt cx="720720" cy="360360"/>
            </a:xfrm>
          </p:grpSpPr>
          <p:sp>
            <p:nvSpPr>
              <p:cNvPr id="115" name=""/>
              <p:cNvSpPr/>
              <p:nvPr/>
            </p:nvSpPr>
            <p:spPr>
              <a:xfrm>
                <a:off x="5400720" y="287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040360" y="287964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7559640" y="398520"/>
            <a:ext cx="197964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Цилин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Клапан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Порш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Клапан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Атмосфер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Ное давл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Жидк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935680" y="720720"/>
            <a:ext cx="1449360" cy="36036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754240" y="1979640"/>
            <a:ext cx="1809720" cy="107964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394240" y="1440000"/>
            <a:ext cx="2170080" cy="143964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394240" y="3060720"/>
            <a:ext cx="2170080" cy="36036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295680" y="4140360"/>
            <a:ext cx="1089000" cy="72072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80360" y="4140360"/>
            <a:ext cx="1440" cy="72072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5759280"/>
            <a:ext cx="1800" cy="90036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465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466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859280" y="2160720"/>
            <a:ext cx="1079640" cy="161928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619280"/>
              <a:gd name="textAreaBottom" fmla="*/ 1618920 h 1619280"/>
            </a:gdLst>
            <a:ahLst/>
            <a:rect l="textAreaLeft" t="textAreaTop" r="textAreaRight" b="textAreaBottom"/>
            <a:pathLst>
              <a:path w="21600" h="32393">
                <a:moveTo>
                  <a:pt x="31" y="0"/>
                </a:moveTo>
                <a:arcTo wR="31" hR="31" stAng="16200000" swAng="-5400000"/>
                <a:lnTo>
                  <a:pt x="0" y="32362"/>
                </a:lnTo>
                <a:arcTo wR="31" hR="31" stAng="10800000" swAng="-5400000"/>
                <a:lnTo>
                  <a:pt x="21569" y="32393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834080" y="1784520"/>
            <a:ext cx="1079280" cy="360360"/>
            <a:chOff x="4834080" y="1784520"/>
            <a:chExt cx="1079280" cy="360360"/>
          </a:xfrm>
        </p:grpSpPr>
        <p:grpSp>
          <p:nvGrpSpPr>
            <p:cNvPr id="487" name=""/>
            <p:cNvGrpSpPr/>
            <p:nvPr/>
          </p:nvGrpSpPr>
          <p:grpSpPr>
            <a:xfrm>
              <a:off x="4834080" y="1784520"/>
              <a:ext cx="1079280" cy="360360"/>
              <a:chOff x="4834080" y="1784520"/>
              <a:chExt cx="1079280" cy="360360"/>
            </a:xfrm>
          </p:grpSpPr>
          <p:sp>
            <p:nvSpPr>
              <p:cNvPr id="488" name=""/>
              <p:cNvSpPr/>
              <p:nvPr/>
            </p:nvSpPr>
            <p:spPr>
              <a:xfrm>
                <a:off x="4834080" y="178452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194440" y="17845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5013360" y="1784520"/>
              <a:ext cx="720720" cy="360360"/>
              <a:chOff x="5013360" y="1784520"/>
              <a:chExt cx="720720" cy="360360"/>
            </a:xfrm>
          </p:grpSpPr>
          <p:sp>
            <p:nvSpPr>
              <p:cNvPr id="491" name=""/>
              <p:cNvSpPr/>
              <p:nvPr/>
            </p:nvSpPr>
            <p:spPr>
              <a:xfrm>
                <a:off x="5373720" y="17845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013360" y="17845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494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497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 rot="10800000">
            <a:off x="5223960" y="54468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480000" y="539640"/>
            <a:ext cx="30607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deb3d"/>
                </a:solidFill>
                <a:latin typeface="Arial"/>
              </a:rPr>
              <a:t>Начало движения поршня 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20720" y="2340000"/>
            <a:ext cx="27003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хний кла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жний клапан от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419640" y="2879640"/>
            <a:ext cx="1079280" cy="18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419640" y="3419280"/>
            <a:ext cx="1079280" cy="18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505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527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528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531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3" name=""/>
          <p:cNvGrpSpPr/>
          <p:nvPr/>
        </p:nvGrpSpPr>
        <p:grpSpPr>
          <a:xfrm>
            <a:off x="4859280" y="1800360"/>
            <a:ext cx="1079640" cy="539640"/>
            <a:chOff x="4859280" y="1800360"/>
            <a:chExt cx="1079640" cy="539640"/>
          </a:xfrm>
        </p:grpSpPr>
        <p:grpSp>
          <p:nvGrpSpPr>
            <p:cNvPr id="534" name=""/>
            <p:cNvGrpSpPr/>
            <p:nvPr/>
          </p:nvGrpSpPr>
          <p:grpSpPr>
            <a:xfrm>
              <a:off x="4859280" y="1979640"/>
              <a:ext cx="1079640" cy="360360"/>
              <a:chOff x="4859280" y="1979640"/>
              <a:chExt cx="1079640" cy="360360"/>
            </a:xfrm>
          </p:grpSpPr>
          <p:sp>
            <p:nvSpPr>
              <p:cNvPr id="535" name=""/>
              <p:cNvSpPr/>
              <p:nvPr/>
            </p:nvSpPr>
            <p:spPr>
              <a:xfrm>
                <a:off x="4859280" y="19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219640" y="19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5040360" y="1800360"/>
              <a:ext cx="720720" cy="360360"/>
              <a:chOff x="5040360" y="1800360"/>
              <a:chExt cx="720720" cy="360360"/>
            </a:xfrm>
          </p:grpSpPr>
          <p:sp>
            <p:nvSpPr>
              <p:cNvPr id="538" name=""/>
              <p:cNvSpPr/>
              <p:nvPr/>
            </p:nvSpPr>
            <p:spPr>
              <a:xfrm>
                <a:off x="5400720" y="18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040360" y="18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"/>
          <p:cNvSpPr/>
          <p:nvPr/>
        </p:nvSpPr>
        <p:spPr>
          <a:xfrm rot="10800000">
            <a:off x="5223960" y="7239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029200" y="2334960"/>
            <a:ext cx="734760" cy="549000"/>
            <a:chOff x="5029200" y="2334960"/>
            <a:chExt cx="734760" cy="549000"/>
          </a:xfrm>
        </p:grpSpPr>
        <p:sp>
          <p:nvSpPr>
            <p:cNvPr id="542" name=""/>
            <p:cNvSpPr/>
            <p:nvPr/>
          </p:nvSpPr>
          <p:spPr>
            <a:xfrm flipV="1">
              <a:off x="5029200" y="233496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flipV="1">
              <a:off x="5511600" y="2334960"/>
              <a:ext cx="25236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545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55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57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57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57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0" name=""/>
          <p:cNvGrpSpPr/>
          <p:nvPr/>
        </p:nvGrpSpPr>
        <p:grpSpPr>
          <a:xfrm>
            <a:off x="4865760" y="2043000"/>
            <a:ext cx="1079280" cy="541440"/>
            <a:chOff x="4865760" y="2043000"/>
            <a:chExt cx="1079280" cy="541440"/>
          </a:xfrm>
        </p:grpSpPr>
        <p:grpSp>
          <p:nvGrpSpPr>
            <p:cNvPr id="581" name=""/>
            <p:cNvGrpSpPr/>
            <p:nvPr/>
          </p:nvGrpSpPr>
          <p:grpSpPr>
            <a:xfrm>
              <a:off x="4865760" y="2224080"/>
              <a:ext cx="1079280" cy="360360"/>
              <a:chOff x="4865760" y="2224080"/>
              <a:chExt cx="1079280" cy="360360"/>
            </a:xfrm>
          </p:grpSpPr>
          <p:sp>
            <p:nvSpPr>
              <p:cNvPr id="582" name=""/>
              <p:cNvSpPr/>
              <p:nvPr/>
            </p:nvSpPr>
            <p:spPr>
              <a:xfrm>
                <a:off x="4865760" y="222408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224320" y="22240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5045040" y="2043000"/>
              <a:ext cx="720720" cy="360360"/>
              <a:chOff x="5045040" y="2043000"/>
              <a:chExt cx="720720" cy="360360"/>
            </a:xfrm>
          </p:grpSpPr>
          <p:sp>
            <p:nvSpPr>
              <p:cNvPr id="585" name=""/>
              <p:cNvSpPr/>
              <p:nvPr/>
            </p:nvSpPr>
            <p:spPr>
              <a:xfrm>
                <a:off x="5405400" y="2043000"/>
                <a:ext cx="180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045040" y="204300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7" name=""/>
          <p:cNvSpPr/>
          <p:nvPr/>
        </p:nvSpPr>
        <p:spPr>
          <a:xfrm rot="10800000">
            <a:off x="5223960" y="9032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5029200" y="2695320"/>
            <a:ext cx="734760" cy="549000"/>
            <a:chOff x="5029200" y="2695320"/>
            <a:chExt cx="734760" cy="549000"/>
          </a:xfrm>
        </p:grpSpPr>
        <p:sp>
          <p:nvSpPr>
            <p:cNvPr id="589" name=""/>
            <p:cNvSpPr/>
            <p:nvPr/>
          </p:nvSpPr>
          <p:spPr>
            <a:xfrm flipV="1">
              <a:off x="5029200" y="269532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flipV="1">
              <a:off x="5511600" y="2695320"/>
              <a:ext cx="25236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592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599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600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7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621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622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625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4859280" y="2160720"/>
            <a:ext cx="1079640" cy="539640"/>
            <a:chOff x="4859280" y="2160720"/>
            <a:chExt cx="1079640" cy="539640"/>
          </a:xfrm>
        </p:grpSpPr>
        <p:grpSp>
          <p:nvGrpSpPr>
            <p:cNvPr id="628" name=""/>
            <p:cNvGrpSpPr/>
            <p:nvPr/>
          </p:nvGrpSpPr>
          <p:grpSpPr>
            <a:xfrm>
              <a:off x="4859280" y="2340000"/>
              <a:ext cx="1079640" cy="360360"/>
              <a:chOff x="4859280" y="2340000"/>
              <a:chExt cx="1079640" cy="360360"/>
            </a:xfrm>
          </p:grpSpPr>
          <p:sp>
            <p:nvSpPr>
              <p:cNvPr id="629" name=""/>
              <p:cNvSpPr/>
              <p:nvPr/>
            </p:nvSpPr>
            <p:spPr>
              <a:xfrm>
                <a:off x="4859280" y="234000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219640" y="234000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5040360" y="2160720"/>
              <a:ext cx="720720" cy="360360"/>
              <a:chOff x="5040360" y="2160720"/>
              <a:chExt cx="720720" cy="360360"/>
            </a:xfrm>
          </p:grpSpPr>
          <p:sp>
            <p:nvSpPr>
              <p:cNvPr id="632" name=""/>
              <p:cNvSpPr/>
              <p:nvPr/>
            </p:nvSpPr>
            <p:spPr>
              <a:xfrm>
                <a:off x="5400720" y="21607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040360" y="21607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4" name=""/>
          <p:cNvSpPr/>
          <p:nvPr/>
        </p:nvSpPr>
        <p:spPr>
          <a:xfrm rot="10800000">
            <a:off x="5223960" y="108432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5040360" y="2695320"/>
            <a:ext cx="735120" cy="549000"/>
            <a:chOff x="5040360" y="2695320"/>
            <a:chExt cx="735120" cy="549000"/>
          </a:xfrm>
        </p:grpSpPr>
        <p:sp>
          <p:nvSpPr>
            <p:cNvPr id="636" name=""/>
            <p:cNvSpPr/>
            <p:nvPr/>
          </p:nvSpPr>
          <p:spPr>
            <a:xfrm flipV="1">
              <a:off x="5040360" y="269532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 flipV="1">
              <a:off x="5522760" y="2695320"/>
              <a:ext cx="25272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63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646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4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668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669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672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4" name=""/>
          <p:cNvGrpSpPr/>
          <p:nvPr/>
        </p:nvGrpSpPr>
        <p:grpSpPr>
          <a:xfrm>
            <a:off x="4859280" y="2340000"/>
            <a:ext cx="1079640" cy="539640"/>
            <a:chOff x="4859280" y="2340000"/>
            <a:chExt cx="1079640" cy="539640"/>
          </a:xfrm>
        </p:grpSpPr>
        <p:grpSp>
          <p:nvGrpSpPr>
            <p:cNvPr id="675" name=""/>
            <p:cNvGrpSpPr/>
            <p:nvPr/>
          </p:nvGrpSpPr>
          <p:grpSpPr>
            <a:xfrm>
              <a:off x="4859280" y="2519280"/>
              <a:ext cx="1079640" cy="360360"/>
              <a:chOff x="4859280" y="2519280"/>
              <a:chExt cx="1079640" cy="360360"/>
            </a:xfrm>
          </p:grpSpPr>
          <p:sp>
            <p:nvSpPr>
              <p:cNvPr id="676" name=""/>
              <p:cNvSpPr/>
              <p:nvPr/>
            </p:nvSpPr>
            <p:spPr>
              <a:xfrm>
                <a:off x="4859280" y="251928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219640" y="25192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5040360" y="2340000"/>
              <a:ext cx="720720" cy="360360"/>
              <a:chOff x="5040360" y="2340000"/>
              <a:chExt cx="720720" cy="360360"/>
            </a:xfrm>
          </p:grpSpPr>
          <p:sp>
            <p:nvSpPr>
              <p:cNvPr id="679" name=""/>
              <p:cNvSpPr/>
              <p:nvPr/>
            </p:nvSpPr>
            <p:spPr>
              <a:xfrm>
                <a:off x="5400720" y="234000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040360" y="234000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1" name=""/>
          <p:cNvSpPr/>
          <p:nvPr/>
        </p:nvSpPr>
        <p:spPr>
          <a:xfrm rot="10800000">
            <a:off x="5223960" y="12636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5029200" y="2874600"/>
            <a:ext cx="734760" cy="369720"/>
            <a:chOff x="5029200" y="2874600"/>
            <a:chExt cx="734760" cy="369720"/>
          </a:xfrm>
        </p:grpSpPr>
        <p:sp>
          <p:nvSpPr>
            <p:cNvPr id="683" name=""/>
            <p:cNvSpPr/>
            <p:nvPr/>
          </p:nvSpPr>
          <p:spPr>
            <a:xfrm flipV="1">
              <a:off x="5029200" y="2874600"/>
              <a:ext cx="243000" cy="369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 flipV="1">
              <a:off x="5511600" y="2874600"/>
              <a:ext cx="252360" cy="369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686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693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694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1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715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716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719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1" name=""/>
          <p:cNvGrpSpPr/>
          <p:nvPr/>
        </p:nvGrpSpPr>
        <p:grpSpPr>
          <a:xfrm>
            <a:off x="4838760" y="2546280"/>
            <a:ext cx="1079280" cy="540000"/>
            <a:chOff x="4838760" y="2546280"/>
            <a:chExt cx="1079280" cy="540000"/>
          </a:xfrm>
        </p:grpSpPr>
        <p:grpSp>
          <p:nvGrpSpPr>
            <p:cNvPr id="722" name=""/>
            <p:cNvGrpSpPr/>
            <p:nvPr/>
          </p:nvGrpSpPr>
          <p:grpSpPr>
            <a:xfrm>
              <a:off x="4838760" y="2725560"/>
              <a:ext cx="1079280" cy="360720"/>
              <a:chOff x="4838760" y="2725560"/>
              <a:chExt cx="1079280" cy="360720"/>
            </a:xfrm>
          </p:grpSpPr>
          <p:sp>
            <p:nvSpPr>
              <p:cNvPr id="723" name=""/>
              <p:cNvSpPr/>
              <p:nvPr/>
            </p:nvSpPr>
            <p:spPr>
              <a:xfrm>
                <a:off x="4838760" y="2725560"/>
                <a:ext cx="1079280" cy="36072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199120" y="2725560"/>
                <a:ext cx="360360" cy="360720"/>
              </a:xfrm>
              <a:custGeom>
                <a:avLst/>
                <a:gdLst>
                  <a:gd name="textAreaLeft" fmla="*/ 360 w 360360"/>
                  <a:gd name="textAreaRight" fmla="*/ 360000 w 360360"/>
                  <a:gd name="textAreaTop" fmla="*/ 360 h 360720"/>
                  <a:gd name="textAreaBottom" fmla="*/ 360360 h 360720"/>
                </a:gdLst>
                <a:ahLst/>
                <a:rect l="textAreaLeft" t="textAreaTop" r="textAreaRight" b="textAreaBottom"/>
                <a:pathLst>
                  <a:path w="21600" h="21622">
                    <a:moveTo>
                      <a:pt x="95" y="0"/>
                    </a:moveTo>
                    <a:arcTo wR="95" hR="95" stAng="16200000" swAng="-5400000"/>
                    <a:lnTo>
                      <a:pt x="0" y="21527"/>
                    </a:lnTo>
                    <a:arcTo wR="95" hR="95" stAng="10800000" swAng="-5400000"/>
                    <a:lnTo>
                      <a:pt x="21505" y="21622"/>
                    </a:lnTo>
                    <a:arcTo wR="95" hR="95" stAng="5400000" swAng="-5400000"/>
                    <a:lnTo>
                      <a:pt x="21600" y="95"/>
                    </a:lnTo>
                    <a:arcTo wR="95" hR="95" stAng="0" swAng="-5400000"/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5018040" y="2546280"/>
              <a:ext cx="720720" cy="360360"/>
              <a:chOff x="5018040" y="2546280"/>
              <a:chExt cx="720720" cy="360360"/>
            </a:xfrm>
          </p:grpSpPr>
          <p:sp>
            <p:nvSpPr>
              <p:cNvPr id="726" name=""/>
              <p:cNvSpPr/>
              <p:nvPr/>
            </p:nvSpPr>
            <p:spPr>
              <a:xfrm>
                <a:off x="5378400" y="2546280"/>
                <a:ext cx="180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018040" y="254628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8" name=""/>
          <p:cNvSpPr/>
          <p:nvPr/>
        </p:nvSpPr>
        <p:spPr>
          <a:xfrm rot="10800000">
            <a:off x="5223960" y="144468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5040360" y="3056040"/>
            <a:ext cx="723600" cy="188640"/>
            <a:chOff x="5040360" y="3056040"/>
            <a:chExt cx="723600" cy="188640"/>
          </a:xfrm>
        </p:grpSpPr>
        <p:sp>
          <p:nvSpPr>
            <p:cNvPr id="730" name=""/>
            <p:cNvSpPr/>
            <p:nvPr/>
          </p:nvSpPr>
          <p:spPr>
            <a:xfrm flipV="1">
              <a:off x="5040360" y="3056040"/>
              <a:ext cx="233280" cy="18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 flipV="1">
              <a:off x="5511600" y="3056040"/>
              <a:ext cx="252360" cy="18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733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740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741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762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763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766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8" name=""/>
          <p:cNvGrpSpPr/>
          <p:nvPr/>
        </p:nvGrpSpPr>
        <p:grpSpPr>
          <a:xfrm>
            <a:off x="4859280" y="2700360"/>
            <a:ext cx="1079640" cy="539640"/>
            <a:chOff x="4859280" y="2700360"/>
            <a:chExt cx="1079640" cy="539640"/>
          </a:xfrm>
        </p:grpSpPr>
        <p:grpSp>
          <p:nvGrpSpPr>
            <p:cNvPr id="769" name=""/>
            <p:cNvGrpSpPr/>
            <p:nvPr/>
          </p:nvGrpSpPr>
          <p:grpSpPr>
            <a:xfrm>
              <a:off x="4859280" y="2879640"/>
              <a:ext cx="1079640" cy="360360"/>
              <a:chOff x="4859280" y="2879640"/>
              <a:chExt cx="1079640" cy="360360"/>
            </a:xfrm>
          </p:grpSpPr>
          <p:sp>
            <p:nvSpPr>
              <p:cNvPr id="770" name=""/>
              <p:cNvSpPr/>
              <p:nvPr/>
            </p:nvSpPr>
            <p:spPr>
              <a:xfrm>
                <a:off x="4859280" y="28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219640" y="28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5040360" y="2700360"/>
              <a:ext cx="720720" cy="360360"/>
              <a:chOff x="5040360" y="2700360"/>
              <a:chExt cx="720720" cy="360360"/>
            </a:xfrm>
          </p:grpSpPr>
          <p:sp>
            <p:nvSpPr>
              <p:cNvPr id="773" name=""/>
              <p:cNvSpPr/>
              <p:nvPr/>
            </p:nvSpPr>
            <p:spPr>
              <a:xfrm>
                <a:off x="5400720" y="27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040360" y="27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"/>
          <p:cNvSpPr/>
          <p:nvPr/>
        </p:nvSpPr>
        <p:spPr>
          <a:xfrm rot="10800000">
            <a:off x="5223960" y="16239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777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784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785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2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806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807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810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2" name=""/>
          <p:cNvGrpSpPr/>
          <p:nvPr/>
        </p:nvGrpSpPr>
        <p:grpSpPr>
          <a:xfrm>
            <a:off x="4859280" y="2879640"/>
            <a:ext cx="1079640" cy="360360"/>
            <a:chOff x="4859280" y="2879640"/>
            <a:chExt cx="1079640" cy="360360"/>
          </a:xfrm>
        </p:grpSpPr>
        <p:sp>
          <p:nvSpPr>
            <p:cNvPr id="813" name=""/>
            <p:cNvSpPr/>
            <p:nvPr/>
          </p:nvSpPr>
          <p:spPr>
            <a:xfrm>
              <a:off x="4859280" y="287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219640" y="287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5040360" y="2879640"/>
            <a:ext cx="720720" cy="360360"/>
            <a:chOff x="5040360" y="2879640"/>
            <a:chExt cx="720720" cy="360360"/>
          </a:xfrm>
        </p:grpSpPr>
        <p:sp>
          <p:nvSpPr>
            <p:cNvPr id="816" name=""/>
            <p:cNvSpPr/>
            <p:nvPr/>
          </p:nvSpPr>
          <p:spPr>
            <a:xfrm>
              <a:off x="5400720" y="287964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040360" y="287964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6480000" y="539640"/>
            <a:ext cx="3060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deb3d"/>
                </a:solidFill>
                <a:latin typeface="Arial"/>
              </a:rPr>
              <a:t>Остан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20720" y="2340000"/>
            <a:ext cx="27003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хний кла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жний клапан 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419640" y="2879640"/>
            <a:ext cx="1079280" cy="18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3419640" y="3419280"/>
            <a:ext cx="1079280" cy="18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823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824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4859280" y="2700360"/>
            <a:ext cx="1079640" cy="360360"/>
            <a:chOff x="4859280" y="2700360"/>
            <a:chExt cx="1079640" cy="360360"/>
          </a:xfrm>
        </p:grpSpPr>
        <p:grpSp>
          <p:nvGrpSpPr>
            <p:cNvPr id="845" name=""/>
            <p:cNvGrpSpPr/>
            <p:nvPr/>
          </p:nvGrpSpPr>
          <p:grpSpPr>
            <a:xfrm>
              <a:off x="4859280" y="2700360"/>
              <a:ext cx="1079640" cy="360360"/>
              <a:chOff x="4859280" y="2700360"/>
              <a:chExt cx="1079640" cy="360360"/>
            </a:xfrm>
          </p:grpSpPr>
          <p:sp>
            <p:nvSpPr>
              <p:cNvPr id="846" name=""/>
              <p:cNvSpPr/>
              <p:nvPr/>
            </p:nvSpPr>
            <p:spPr>
              <a:xfrm>
                <a:off x="4859280" y="270036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219640" y="270036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5040360" y="2700360"/>
              <a:ext cx="720720" cy="360360"/>
              <a:chOff x="5040360" y="2700360"/>
              <a:chExt cx="720720" cy="360360"/>
            </a:xfrm>
          </p:grpSpPr>
          <p:sp>
            <p:nvSpPr>
              <p:cNvPr id="849" name=""/>
              <p:cNvSpPr/>
              <p:nvPr/>
            </p:nvSpPr>
            <p:spPr>
              <a:xfrm>
                <a:off x="5400720" y="27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040360" y="27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1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852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855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5219640" y="14400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5400720" y="6114600"/>
            <a:ext cx="1440" cy="7304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480000" y="539640"/>
            <a:ext cx="30607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deb3d"/>
                </a:solidFill>
                <a:latin typeface="Arial"/>
              </a:rPr>
              <a:t>Движение поршня 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20720" y="2340000"/>
            <a:ext cx="27003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хний кла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жний клапан от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419640" y="2879640"/>
            <a:ext cx="1079280" cy="18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3419640" y="3419280"/>
            <a:ext cx="1079280" cy="18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480000" y="2160720"/>
            <a:ext cx="3240360" cy="21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Жидкость поднимается за поршнем под действием атмосферного д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5578200" y="3959280"/>
            <a:ext cx="723960" cy="197964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868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877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878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879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5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4859280" y="2519280"/>
            <a:ext cx="1079640" cy="360360"/>
            <a:chOff x="4859280" y="2519280"/>
            <a:chExt cx="1079640" cy="360360"/>
          </a:xfrm>
        </p:grpSpPr>
        <p:grpSp>
          <p:nvGrpSpPr>
            <p:cNvPr id="899" name=""/>
            <p:cNvGrpSpPr/>
            <p:nvPr/>
          </p:nvGrpSpPr>
          <p:grpSpPr>
            <a:xfrm>
              <a:off x="4859280" y="2519280"/>
              <a:ext cx="1079640" cy="360360"/>
              <a:chOff x="4859280" y="2519280"/>
              <a:chExt cx="1079640" cy="360360"/>
            </a:xfrm>
          </p:grpSpPr>
          <p:sp>
            <p:nvSpPr>
              <p:cNvPr id="900" name=""/>
              <p:cNvSpPr/>
              <p:nvPr/>
            </p:nvSpPr>
            <p:spPr>
              <a:xfrm>
                <a:off x="4859280" y="251928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219640" y="25192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5040360" y="2519280"/>
              <a:ext cx="720720" cy="360360"/>
              <a:chOff x="5040360" y="2519280"/>
              <a:chExt cx="720720" cy="360360"/>
            </a:xfrm>
          </p:grpSpPr>
          <p:sp>
            <p:nvSpPr>
              <p:cNvPr id="903" name=""/>
              <p:cNvSpPr/>
              <p:nvPr/>
            </p:nvSpPr>
            <p:spPr>
              <a:xfrm>
                <a:off x="5400720" y="251928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0360" y="251928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5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906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909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5219640" y="12603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5400720" y="5935320"/>
            <a:ext cx="1440" cy="9097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916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26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9280" y="3240000"/>
            <a:ext cx="1079640" cy="179640"/>
          </a:xfrm>
          <a:prstGeom prst="roundRect">
            <a:avLst>
              <a:gd name="adj" fmla="val 889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4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4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4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859280" y="2879640"/>
            <a:ext cx="1079640" cy="360360"/>
            <a:chOff x="4859280" y="2879640"/>
            <a:chExt cx="1079640" cy="360360"/>
          </a:xfrm>
        </p:grpSpPr>
        <p:grpSp>
          <p:nvGrpSpPr>
            <p:cNvPr id="155" name=""/>
            <p:cNvGrpSpPr/>
            <p:nvPr/>
          </p:nvGrpSpPr>
          <p:grpSpPr>
            <a:xfrm>
              <a:off x="4859280" y="2879640"/>
              <a:ext cx="1079640" cy="360360"/>
              <a:chOff x="4859280" y="2879640"/>
              <a:chExt cx="1079640" cy="360360"/>
            </a:xfrm>
          </p:grpSpPr>
          <p:sp>
            <p:nvSpPr>
              <p:cNvPr id="156" name=""/>
              <p:cNvSpPr/>
              <p:nvPr/>
            </p:nvSpPr>
            <p:spPr>
              <a:xfrm>
                <a:off x="4859280" y="28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219640" y="28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5040360" y="2879640"/>
              <a:ext cx="720720" cy="360360"/>
              <a:chOff x="5040360" y="2879640"/>
              <a:chExt cx="720720" cy="360360"/>
            </a:xfrm>
          </p:grpSpPr>
          <p:sp>
            <p:nvSpPr>
              <p:cNvPr id="159" name=""/>
              <p:cNvSpPr/>
              <p:nvPr/>
            </p:nvSpPr>
            <p:spPr>
              <a:xfrm>
                <a:off x="5400720" y="287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040360" y="287964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925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926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3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4859280" y="2340000"/>
            <a:ext cx="1079640" cy="360360"/>
            <a:chOff x="4859280" y="2340000"/>
            <a:chExt cx="1079640" cy="360360"/>
          </a:xfrm>
        </p:grpSpPr>
        <p:grpSp>
          <p:nvGrpSpPr>
            <p:cNvPr id="947" name=""/>
            <p:cNvGrpSpPr/>
            <p:nvPr/>
          </p:nvGrpSpPr>
          <p:grpSpPr>
            <a:xfrm>
              <a:off x="4859280" y="2340000"/>
              <a:ext cx="1079640" cy="360360"/>
              <a:chOff x="4859280" y="2340000"/>
              <a:chExt cx="1079640" cy="360360"/>
            </a:xfrm>
          </p:grpSpPr>
          <p:sp>
            <p:nvSpPr>
              <p:cNvPr id="948" name=""/>
              <p:cNvSpPr/>
              <p:nvPr/>
            </p:nvSpPr>
            <p:spPr>
              <a:xfrm>
                <a:off x="4859280" y="234000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19640" y="234000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5040360" y="2340000"/>
              <a:ext cx="720720" cy="360360"/>
              <a:chOff x="5040360" y="2340000"/>
              <a:chExt cx="720720" cy="360360"/>
            </a:xfrm>
          </p:grpSpPr>
          <p:sp>
            <p:nvSpPr>
              <p:cNvPr id="951" name=""/>
              <p:cNvSpPr/>
              <p:nvPr/>
            </p:nvSpPr>
            <p:spPr>
              <a:xfrm>
                <a:off x="5400720" y="234000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40360" y="234000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954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957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5224320" y="10796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5400720" y="5756040"/>
            <a:ext cx="1440" cy="10890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964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973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974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1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859280" y="2160720"/>
            <a:ext cx="1079640" cy="360360"/>
            <a:chOff x="4859280" y="2160720"/>
            <a:chExt cx="1079640" cy="360360"/>
          </a:xfrm>
        </p:grpSpPr>
        <p:grpSp>
          <p:nvGrpSpPr>
            <p:cNvPr id="995" name=""/>
            <p:cNvGrpSpPr/>
            <p:nvPr/>
          </p:nvGrpSpPr>
          <p:grpSpPr>
            <a:xfrm>
              <a:off x="4859280" y="2160720"/>
              <a:ext cx="1079640" cy="360360"/>
              <a:chOff x="4859280" y="2160720"/>
              <a:chExt cx="1079640" cy="360360"/>
            </a:xfrm>
          </p:grpSpPr>
          <p:sp>
            <p:nvSpPr>
              <p:cNvPr id="996" name=""/>
              <p:cNvSpPr/>
              <p:nvPr/>
            </p:nvSpPr>
            <p:spPr>
              <a:xfrm>
                <a:off x="4859280" y="216072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219640" y="21607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5040360" y="2160720"/>
              <a:ext cx="720720" cy="360360"/>
              <a:chOff x="5040360" y="2160720"/>
              <a:chExt cx="720720" cy="360360"/>
            </a:xfrm>
          </p:grpSpPr>
          <p:sp>
            <p:nvSpPr>
              <p:cNvPr id="999" name=""/>
              <p:cNvSpPr/>
              <p:nvPr/>
            </p:nvSpPr>
            <p:spPr>
              <a:xfrm>
                <a:off x="5400720" y="21607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040360" y="21607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1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002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005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5219640" y="9000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5400720" y="5575320"/>
            <a:ext cx="1440" cy="12700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1012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021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022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9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4859280" y="1979640"/>
            <a:ext cx="1079640" cy="360360"/>
            <a:chOff x="4859280" y="1979640"/>
            <a:chExt cx="1079640" cy="360360"/>
          </a:xfrm>
        </p:grpSpPr>
        <p:grpSp>
          <p:nvGrpSpPr>
            <p:cNvPr id="1043" name=""/>
            <p:cNvGrpSpPr/>
            <p:nvPr/>
          </p:nvGrpSpPr>
          <p:grpSpPr>
            <a:xfrm>
              <a:off x="4859280" y="1979640"/>
              <a:ext cx="1079640" cy="360360"/>
              <a:chOff x="4859280" y="1979640"/>
              <a:chExt cx="1079640" cy="360360"/>
            </a:xfrm>
          </p:grpSpPr>
          <p:sp>
            <p:nvSpPr>
              <p:cNvPr id="1044" name=""/>
              <p:cNvSpPr/>
              <p:nvPr/>
            </p:nvSpPr>
            <p:spPr>
              <a:xfrm>
                <a:off x="4859280" y="19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219640" y="19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5040360" y="1979640"/>
              <a:ext cx="720720" cy="360360"/>
              <a:chOff x="5040360" y="1979640"/>
              <a:chExt cx="720720" cy="360360"/>
            </a:xfrm>
          </p:grpSpPr>
          <p:sp>
            <p:nvSpPr>
              <p:cNvPr id="1047" name=""/>
              <p:cNvSpPr/>
              <p:nvPr/>
            </p:nvSpPr>
            <p:spPr>
              <a:xfrm>
                <a:off x="5400720" y="197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040360" y="197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9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050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053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5219640" y="72072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5400720" y="5396040"/>
            <a:ext cx="1440" cy="14493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9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1060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069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070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7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1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4859280" y="1800360"/>
            <a:ext cx="1079640" cy="360360"/>
            <a:chOff x="4859280" y="1800360"/>
            <a:chExt cx="1079640" cy="360360"/>
          </a:xfrm>
        </p:grpSpPr>
        <p:grpSp>
          <p:nvGrpSpPr>
            <p:cNvPr id="1091" name=""/>
            <p:cNvGrpSpPr/>
            <p:nvPr/>
          </p:nvGrpSpPr>
          <p:grpSpPr>
            <a:xfrm>
              <a:off x="4859280" y="1800360"/>
              <a:ext cx="1079640" cy="360360"/>
              <a:chOff x="4859280" y="1800360"/>
              <a:chExt cx="1079640" cy="360360"/>
            </a:xfrm>
          </p:grpSpPr>
          <p:sp>
            <p:nvSpPr>
              <p:cNvPr id="1092" name=""/>
              <p:cNvSpPr/>
              <p:nvPr/>
            </p:nvSpPr>
            <p:spPr>
              <a:xfrm>
                <a:off x="4859280" y="180036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219640" y="180036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5040360" y="1800360"/>
              <a:ext cx="720720" cy="360360"/>
              <a:chOff x="5040360" y="1800360"/>
              <a:chExt cx="720720" cy="360360"/>
            </a:xfrm>
          </p:grpSpPr>
          <p:sp>
            <p:nvSpPr>
              <p:cNvPr id="1095" name=""/>
              <p:cNvSpPr/>
              <p:nvPr/>
            </p:nvSpPr>
            <p:spPr>
              <a:xfrm>
                <a:off x="5400720" y="18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040360" y="18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7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098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101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"/>
          <p:cNvSpPr/>
          <p:nvPr/>
        </p:nvSpPr>
        <p:spPr>
          <a:xfrm>
            <a:off x="5219640" y="5396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4251240" y="1800360"/>
            <a:ext cx="61272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5400720" y="5216040"/>
            <a:ext cx="1440" cy="16290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7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1108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117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118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119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5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9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4859280" y="1800360"/>
            <a:ext cx="1079640" cy="360360"/>
            <a:chOff x="4859280" y="1800360"/>
            <a:chExt cx="1079640" cy="360360"/>
          </a:xfrm>
        </p:grpSpPr>
        <p:grpSp>
          <p:nvGrpSpPr>
            <p:cNvPr id="1139" name=""/>
            <p:cNvGrpSpPr/>
            <p:nvPr/>
          </p:nvGrpSpPr>
          <p:grpSpPr>
            <a:xfrm>
              <a:off x="4859280" y="1800360"/>
              <a:ext cx="1079640" cy="360360"/>
              <a:chOff x="4859280" y="1800360"/>
              <a:chExt cx="1079640" cy="360360"/>
            </a:xfrm>
          </p:grpSpPr>
          <p:sp>
            <p:nvSpPr>
              <p:cNvPr id="1140" name=""/>
              <p:cNvSpPr/>
              <p:nvPr/>
            </p:nvSpPr>
            <p:spPr>
              <a:xfrm>
                <a:off x="4859280" y="180036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219640" y="180036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5040360" y="1800360"/>
              <a:ext cx="720720" cy="360360"/>
              <a:chOff x="5040360" y="1800360"/>
              <a:chExt cx="720720" cy="360360"/>
            </a:xfrm>
          </p:grpSpPr>
          <p:sp>
            <p:nvSpPr>
              <p:cNvPr id="1143" name=""/>
              <p:cNvSpPr/>
              <p:nvPr/>
            </p:nvSpPr>
            <p:spPr>
              <a:xfrm>
                <a:off x="5400720" y="18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040360" y="18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5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146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149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15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15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15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17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17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17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0" name=""/>
          <p:cNvGrpSpPr/>
          <p:nvPr/>
        </p:nvGrpSpPr>
        <p:grpSpPr>
          <a:xfrm>
            <a:off x="4859280" y="1800360"/>
            <a:ext cx="1079640" cy="539640"/>
            <a:chOff x="4859280" y="1800360"/>
            <a:chExt cx="1079640" cy="539640"/>
          </a:xfrm>
        </p:grpSpPr>
        <p:grpSp>
          <p:nvGrpSpPr>
            <p:cNvPr id="1181" name=""/>
            <p:cNvGrpSpPr/>
            <p:nvPr/>
          </p:nvGrpSpPr>
          <p:grpSpPr>
            <a:xfrm>
              <a:off x="4859280" y="1979640"/>
              <a:ext cx="1079640" cy="360360"/>
              <a:chOff x="4859280" y="1979640"/>
              <a:chExt cx="1079640" cy="360360"/>
            </a:xfrm>
          </p:grpSpPr>
          <p:sp>
            <p:nvSpPr>
              <p:cNvPr id="1182" name=""/>
              <p:cNvSpPr/>
              <p:nvPr/>
            </p:nvSpPr>
            <p:spPr>
              <a:xfrm>
                <a:off x="4859280" y="19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219640" y="19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5040360" y="1800360"/>
              <a:ext cx="720720" cy="360360"/>
              <a:chOff x="5040360" y="1800360"/>
              <a:chExt cx="720720" cy="360360"/>
            </a:xfrm>
          </p:grpSpPr>
          <p:sp>
            <p:nvSpPr>
              <p:cNvPr id="1185" name=""/>
              <p:cNvSpPr/>
              <p:nvPr/>
            </p:nvSpPr>
            <p:spPr>
              <a:xfrm>
                <a:off x="5400720" y="18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040360" y="18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7" name=""/>
          <p:cNvSpPr/>
          <p:nvPr/>
        </p:nvSpPr>
        <p:spPr>
          <a:xfrm rot="10800000">
            <a:off x="5223960" y="7239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5029200" y="2334960"/>
            <a:ext cx="734760" cy="549000"/>
            <a:chOff x="5029200" y="2334960"/>
            <a:chExt cx="734760" cy="549000"/>
          </a:xfrm>
        </p:grpSpPr>
        <p:sp>
          <p:nvSpPr>
            <p:cNvPr id="1189" name=""/>
            <p:cNvSpPr/>
            <p:nvPr/>
          </p:nvSpPr>
          <p:spPr>
            <a:xfrm flipV="1">
              <a:off x="5029200" y="233496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 flipV="1">
              <a:off x="5511600" y="2334960"/>
              <a:ext cx="25236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19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19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21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21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21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0" name=""/>
          <p:cNvGrpSpPr/>
          <p:nvPr/>
        </p:nvGrpSpPr>
        <p:grpSpPr>
          <a:xfrm>
            <a:off x="4865760" y="2043000"/>
            <a:ext cx="1079280" cy="541440"/>
            <a:chOff x="4865760" y="2043000"/>
            <a:chExt cx="1079280" cy="541440"/>
          </a:xfrm>
        </p:grpSpPr>
        <p:grpSp>
          <p:nvGrpSpPr>
            <p:cNvPr id="1221" name=""/>
            <p:cNvGrpSpPr/>
            <p:nvPr/>
          </p:nvGrpSpPr>
          <p:grpSpPr>
            <a:xfrm>
              <a:off x="4865760" y="2224080"/>
              <a:ext cx="1079280" cy="360360"/>
              <a:chOff x="4865760" y="2224080"/>
              <a:chExt cx="1079280" cy="360360"/>
            </a:xfrm>
          </p:grpSpPr>
          <p:sp>
            <p:nvSpPr>
              <p:cNvPr id="1222" name=""/>
              <p:cNvSpPr/>
              <p:nvPr/>
            </p:nvSpPr>
            <p:spPr>
              <a:xfrm>
                <a:off x="4865760" y="222408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224320" y="22240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5045040" y="2043000"/>
              <a:ext cx="720720" cy="360360"/>
              <a:chOff x="5045040" y="2043000"/>
              <a:chExt cx="720720" cy="360360"/>
            </a:xfrm>
          </p:grpSpPr>
          <p:sp>
            <p:nvSpPr>
              <p:cNvPr id="1225" name=""/>
              <p:cNvSpPr/>
              <p:nvPr/>
            </p:nvSpPr>
            <p:spPr>
              <a:xfrm>
                <a:off x="5405400" y="2043000"/>
                <a:ext cx="180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045040" y="204300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7" name=""/>
          <p:cNvSpPr/>
          <p:nvPr/>
        </p:nvSpPr>
        <p:spPr>
          <a:xfrm rot="10800000">
            <a:off x="5223960" y="9032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8" name=""/>
          <p:cNvGrpSpPr/>
          <p:nvPr/>
        </p:nvGrpSpPr>
        <p:grpSpPr>
          <a:xfrm>
            <a:off x="5029200" y="2695320"/>
            <a:ext cx="734760" cy="549000"/>
            <a:chOff x="5029200" y="2695320"/>
            <a:chExt cx="734760" cy="549000"/>
          </a:xfrm>
        </p:grpSpPr>
        <p:sp>
          <p:nvSpPr>
            <p:cNvPr id="1229" name=""/>
            <p:cNvSpPr/>
            <p:nvPr/>
          </p:nvSpPr>
          <p:spPr>
            <a:xfrm flipV="1">
              <a:off x="5029200" y="269532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 flipV="1">
              <a:off x="5511600" y="2695320"/>
              <a:ext cx="25236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23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23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23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25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25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25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0" name=""/>
          <p:cNvGrpSpPr/>
          <p:nvPr/>
        </p:nvGrpSpPr>
        <p:grpSpPr>
          <a:xfrm>
            <a:off x="4859280" y="2160720"/>
            <a:ext cx="1079640" cy="539640"/>
            <a:chOff x="4859280" y="2160720"/>
            <a:chExt cx="1079640" cy="539640"/>
          </a:xfrm>
        </p:grpSpPr>
        <p:grpSp>
          <p:nvGrpSpPr>
            <p:cNvPr id="1261" name=""/>
            <p:cNvGrpSpPr/>
            <p:nvPr/>
          </p:nvGrpSpPr>
          <p:grpSpPr>
            <a:xfrm>
              <a:off x="4859280" y="2340000"/>
              <a:ext cx="1079640" cy="360360"/>
              <a:chOff x="4859280" y="2340000"/>
              <a:chExt cx="1079640" cy="360360"/>
            </a:xfrm>
          </p:grpSpPr>
          <p:sp>
            <p:nvSpPr>
              <p:cNvPr id="1262" name=""/>
              <p:cNvSpPr/>
              <p:nvPr/>
            </p:nvSpPr>
            <p:spPr>
              <a:xfrm>
                <a:off x="4859280" y="234000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219640" y="234000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5040360" y="2160720"/>
              <a:ext cx="720720" cy="360360"/>
              <a:chOff x="5040360" y="2160720"/>
              <a:chExt cx="720720" cy="360360"/>
            </a:xfrm>
          </p:grpSpPr>
          <p:sp>
            <p:nvSpPr>
              <p:cNvPr id="1265" name=""/>
              <p:cNvSpPr/>
              <p:nvPr/>
            </p:nvSpPr>
            <p:spPr>
              <a:xfrm>
                <a:off x="5400720" y="21607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040360" y="21607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7" name=""/>
          <p:cNvSpPr/>
          <p:nvPr/>
        </p:nvSpPr>
        <p:spPr>
          <a:xfrm rot="10800000">
            <a:off x="5223960" y="108432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5040360" y="2695320"/>
            <a:ext cx="735120" cy="549000"/>
            <a:chOff x="5040360" y="2695320"/>
            <a:chExt cx="735120" cy="549000"/>
          </a:xfrm>
        </p:grpSpPr>
        <p:sp>
          <p:nvSpPr>
            <p:cNvPr id="1269" name=""/>
            <p:cNvSpPr/>
            <p:nvPr/>
          </p:nvSpPr>
          <p:spPr>
            <a:xfrm flipV="1">
              <a:off x="5040360" y="269532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 flipV="1">
              <a:off x="5522760" y="2695320"/>
              <a:ext cx="25272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27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29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29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29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0" name=""/>
          <p:cNvGrpSpPr/>
          <p:nvPr/>
        </p:nvGrpSpPr>
        <p:grpSpPr>
          <a:xfrm>
            <a:off x="4859280" y="2340000"/>
            <a:ext cx="1079640" cy="539640"/>
            <a:chOff x="4859280" y="2340000"/>
            <a:chExt cx="1079640" cy="539640"/>
          </a:xfrm>
        </p:grpSpPr>
        <p:grpSp>
          <p:nvGrpSpPr>
            <p:cNvPr id="1301" name=""/>
            <p:cNvGrpSpPr/>
            <p:nvPr/>
          </p:nvGrpSpPr>
          <p:grpSpPr>
            <a:xfrm>
              <a:off x="4859280" y="2519280"/>
              <a:ext cx="1079640" cy="360360"/>
              <a:chOff x="4859280" y="2519280"/>
              <a:chExt cx="1079640" cy="360360"/>
            </a:xfrm>
          </p:grpSpPr>
          <p:sp>
            <p:nvSpPr>
              <p:cNvPr id="1302" name=""/>
              <p:cNvSpPr/>
              <p:nvPr/>
            </p:nvSpPr>
            <p:spPr>
              <a:xfrm>
                <a:off x="4859280" y="251928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219640" y="25192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4" name=""/>
            <p:cNvGrpSpPr/>
            <p:nvPr/>
          </p:nvGrpSpPr>
          <p:grpSpPr>
            <a:xfrm>
              <a:off x="5040360" y="2340000"/>
              <a:ext cx="720720" cy="360360"/>
              <a:chOff x="5040360" y="2340000"/>
              <a:chExt cx="720720" cy="360360"/>
            </a:xfrm>
          </p:grpSpPr>
          <p:sp>
            <p:nvSpPr>
              <p:cNvPr id="1305" name=""/>
              <p:cNvSpPr/>
              <p:nvPr/>
            </p:nvSpPr>
            <p:spPr>
              <a:xfrm>
                <a:off x="5400720" y="234000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040360" y="234000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7" name=""/>
          <p:cNvSpPr/>
          <p:nvPr/>
        </p:nvSpPr>
        <p:spPr>
          <a:xfrm rot="10800000">
            <a:off x="5223960" y="12636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8" name=""/>
          <p:cNvGrpSpPr/>
          <p:nvPr/>
        </p:nvGrpSpPr>
        <p:grpSpPr>
          <a:xfrm>
            <a:off x="5029200" y="2874600"/>
            <a:ext cx="734760" cy="369720"/>
            <a:chOff x="5029200" y="2874600"/>
            <a:chExt cx="734760" cy="369720"/>
          </a:xfrm>
        </p:grpSpPr>
        <p:sp>
          <p:nvSpPr>
            <p:cNvPr id="1309" name=""/>
            <p:cNvSpPr/>
            <p:nvPr/>
          </p:nvSpPr>
          <p:spPr>
            <a:xfrm flipV="1">
              <a:off x="5029200" y="2874600"/>
              <a:ext cx="243000" cy="369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 flipV="1">
              <a:off x="5511600" y="2874600"/>
              <a:ext cx="252360" cy="369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31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31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31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33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33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33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0" name=""/>
          <p:cNvGrpSpPr/>
          <p:nvPr/>
        </p:nvGrpSpPr>
        <p:grpSpPr>
          <a:xfrm>
            <a:off x="4838760" y="2546280"/>
            <a:ext cx="1079280" cy="540000"/>
            <a:chOff x="4838760" y="2546280"/>
            <a:chExt cx="1079280" cy="540000"/>
          </a:xfrm>
        </p:grpSpPr>
        <p:grpSp>
          <p:nvGrpSpPr>
            <p:cNvPr id="1341" name=""/>
            <p:cNvGrpSpPr/>
            <p:nvPr/>
          </p:nvGrpSpPr>
          <p:grpSpPr>
            <a:xfrm>
              <a:off x="4838760" y="2725560"/>
              <a:ext cx="1079280" cy="360720"/>
              <a:chOff x="4838760" y="2725560"/>
              <a:chExt cx="1079280" cy="360720"/>
            </a:xfrm>
          </p:grpSpPr>
          <p:sp>
            <p:nvSpPr>
              <p:cNvPr id="1342" name=""/>
              <p:cNvSpPr/>
              <p:nvPr/>
            </p:nvSpPr>
            <p:spPr>
              <a:xfrm>
                <a:off x="4838760" y="2725560"/>
                <a:ext cx="1079280" cy="36072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199120" y="2725560"/>
                <a:ext cx="360360" cy="360720"/>
              </a:xfrm>
              <a:custGeom>
                <a:avLst/>
                <a:gdLst>
                  <a:gd name="textAreaLeft" fmla="*/ 360 w 360360"/>
                  <a:gd name="textAreaRight" fmla="*/ 360000 w 360360"/>
                  <a:gd name="textAreaTop" fmla="*/ 360 h 360720"/>
                  <a:gd name="textAreaBottom" fmla="*/ 360360 h 360720"/>
                </a:gdLst>
                <a:ahLst/>
                <a:rect l="textAreaLeft" t="textAreaTop" r="textAreaRight" b="textAreaBottom"/>
                <a:pathLst>
                  <a:path w="21600" h="21622">
                    <a:moveTo>
                      <a:pt x="95" y="0"/>
                    </a:moveTo>
                    <a:arcTo wR="95" hR="95" stAng="16200000" swAng="-5400000"/>
                    <a:lnTo>
                      <a:pt x="0" y="21527"/>
                    </a:lnTo>
                    <a:arcTo wR="95" hR="95" stAng="10800000" swAng="-5400000"/>
                    <a:lnTo>
                      <a:pt x="21505" y="21622"/>
                    </a:lnTo>
                    <a:arcTo wR="95" hR="95" stAng="5400000" swAng="-5400000"/>
                    <a:lnTo>
                      <a:pt x="21600" y="95"/>
                    </a:lnTo>
                    <a:arcTo wR="95" hR="95" stAng="0" swAng="-5400000"/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5018040" y="2546280"/>
              <a:ext cx="720720" cy="360360"/>
              <a:chOff x="5018040" y="2546280"/>
              <a:chExt cx="720720" cy="360360"/>
            </a:xfrm>
          </p:grpSpPr>
          <p:sp>
            <p:nvSpPr>
              <p:cNvPr id="1345" name=""/>
              <p:cNvSpPr/>
              <p:nvPr/>
            </p:nvSpPr>
            <p:spPr>
              <a:xfrm>
                <a:off x="5378400" y="2546280"/>
                <a:ext cx="180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018040" y="254628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7" name=""/>
          <p:cNvSpPr/>
          <p:nvPr/>
        </p:nvSpPr>
        <p:spPr>
          <a:xfrm rot="10800000">
            <a:off x="5223960" y="144468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5040360" y="3056040"/>
            <a:ext cx="723600" cy="188640"/>
            <a:chOff x="5040360" y="3056040"/>
            <a:chExt cx="723600" cy="188640"/>
          </a:xfrm>
        </p:grpSpPr>
        <p:sp>
          <p:nvSpPr>
            <p:cNvPr id="1349" name=""/>
            <p:cNvSpPr/>
            <p:nvPr/>
          </p:nvSpPr>
          <p:spPr>
            <a:xfrm flipV="1">
              <a:off x="5040360" y="3056040"/>
              <a:ext cx="233280" cy="18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 flipV="1">
              <a:off x="5511600" y="3056040"/>
              <a:ext cx="252360" cy="18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6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59280" y="2700360"/>
            <a:ext cx="107964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859280" y="2700360"/>
            <a:ext cx="1079640" cy="360360"/>
            <a:chOff x="4859280" y="2700360"/>
            <a:chExt cx="1079640" cy="360360"/>
          </a:xfrm>
        </p:grpSpPr>
        <p:grpSp>
          <p:nvGrpSpPr>
            <p:cNvPr id="184" name=""/>
            <p:cNvGrpSpPr/>
            <p:nvPr/>
          </p:nvGrpSpPr>
          <p:grpSpPr>
            <a:xfrm>
              <a:off x="4859280" y="2700360"/>
              <a:ext cx="1079640" cy="360360"/>
              <a:chOff x="4859280" y="2700360"/>
              <a:chExt cx="1079640" cy="360360"/>
            </a:xfrm>
          </p:grpSpPr>
          <p:sp>
            <p:nvSpPr>
              <p:cNvPr id="185" name=""/>
              <p:cNvSpPr/>
              <p:nvPr/>
            </p:nvSpPr>
            <p:spPr>
              <a:xfrm>
                <a:off x="4859280" y="270036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219640" y="270036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040360" y="2700360"/>
              <a:ext cx="720720" cy="360360"/>
              <a:chOff x="5040360" y="2700360"/>
              <a:chExt cx="720720" cy="360360"/>
            </a:xfrm>
          </p:grpSpPr>
          <p:sp>
            <p:nvSpPr>
              <p:cNvPr id="188" name=""/>
              <p:cNvSpPr/>
              <p:nvPr/>
            </p:nvSpPr>
            <p:spPr>
              <a:xfrm>
                <a:off x="5400720" y="27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040360" y="27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91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94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219640" y="14400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400720" y="6114600"/>
            <a:ext cx="1440" cy="7304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19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35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35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37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37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37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"/>
          <p:cNvGrpSpPr/>
          <p:nvPr/>
        </p:nvGrpSpPr>
        <p:grpSpPr>
          <a:xfrm>
            <a:off x="4859280" y="2700360"/>
            <a:ext cx="1079640" cy="539640"/>
            <a:chOff x="4859280" y="2700360"/>
            <a:chExt cx="1079640" cy="539640"/>
          </a:xfrm>
        </p:grpSpPr>
        <p:grpSp>
          <p:nvGrpSpPr>
            <p:cNvPr id="1381" name=""/>
            <p:cNvGrpSpPr/>
            <p:nvPr/>
          </p:nvGrpSpPr>
          <p:grpSpPr>
            <a:xfrm>
              <a:off x="4859280" y="2879640"/>
              <a:ext cx="1079640" cy="360360"/>
              <a:chOff x="4859280" y="2879640"/>
              <a:chExt cx="1079640" cy="360360"/>
            </a:xfrm>
          </p:grpSpPr>
          <p:sp>
            <p:nvSpPr>
              <p:cNvPr id="1382" name=""/>
              <p:cNvSpPr/>
              <p:nvPr/>
            </p:nvSpPr>
            <p:spPr>
              <a:xfrm>
                <a:off x="4859280" y="28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5219640" y="28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4" name=""/>
            <p:cNvGrpSpPr/>
            <p:nvPr/>
          </p:nvGrpSpPr>
          <p:grpSpPr>
            <a:xfrm>
              <a:off x="5040360" y="2700360"/>
              <a:ext cx="720720" cy="360360"/>
              <a:chOff x="5040360" y="2700360"/>
              <a:chExt cx="720720" cy="360360"/>
            </a:xfrm>
          </p:grpSpPr>
          <p:sp>
            <p:nvSpPr>
              <p:cNvPr id="1385" name=""/>
              <p:cNvSpPr/>
              <p:nvPr/>
            </p:nvSpPr>
            <p:spPr>
              <a:xfrm>
                <a:off x="5400720" y="27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040360" y="27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7" name=""/>
          <p:cNvSpPr/>
          <p:nvPr/>
        </p:nvSpPr>
        <p:spPr>
          <a:xfrm rot="10800000">
            <a:off x="5223960" y="16239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360000" y="1619280"/>
            <a:ext cx="90694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Модель работы поршневого насоса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694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Презентацию составил учитель физики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МКОУООШ №13 с. Меркушевка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Пономаренко Алексей Алексеевич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206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59280" y="2700360"/>
            <a:ext cx="107964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859280" y="2519280"/>
            <a:ext cx="1079640" cy="360360"/>
            <a:chOff x="4859280" y="2519280"/>
            <a:chExt cx="1079640" cy="360360"/>
          </a:xfrm>
        </p:grpSpPr>
        <p:grpSp>
          <p:nvGrpSpPr>
            <p:cNvPr id="228" name=""/>
            <p:cNvGrpSpPr/>
            <p:nvPr/>
          </p:nvGrpSpPr>
          <p:grpSpPr>
            <a:xfrm>
              <a:off x="4859280" y="2519280"/>
              <a:ext cx="1079640" cy="360360"/>
              <a:chOff x="4859280" y="2519280"/>
              <a:chExt cx="1079640" cy="360360"/>
            </a:xfrm>
          </p:grpSpPr>
          <p:sp>
            <p:nvSpPr>
              <p:cNvPr id="229" name=""/>
              <p:cNvSpPr/>
              <p:nvPr/>
            </p:nvSpPr>
            <p:spPr>
              <a:xfrm>
                <a:off x="4859280" y="251928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219640" y="25192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5040360" y="2519280"/>
              <a:ext cx="720720" cy="360360"/>
              <a:chOff x="5040360" y="2519280"/>
              <a:chExt cx="720720" cy="360360"/>
            </a:xfrm>
          </p:grpSpPr>
          <p:sp>
            <p:nvSpPr>
              <p:cNvPr id="232" name=""/>
              <p:cNvSpPr/>
              <p:nvPr/>
            </p:nvSpPr>
            <p:spPr>
              <a:xfrm>
                <a:off x="5400720" y="251928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040360" y="251928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4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235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238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5219640" y="12603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400720" y="5935320"/>
            <a:ext cx="1440" cy="9097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243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250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59280" y="2700360"/>
            <a:ext cx="107964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859280" y="2340000"/>
            <a:ext cx="1079640" cy="360360"/>
            <a:chOff x="4859280" y="2340000"/>
            <a:chExt cx="1079640" cy="360360"/>
          </a:xfrm>
        </p:grpSpPr>
        <p:grpSp>
          <p:nvGrpSpPr>
            <p:cNvPr id="272" name=""/>
            <p:cNvGrpSpPr/>
            <p:nvPr/>
          </p:nvGrpSpPr>
          <p:grpSpPr>
            <a:xfrm>
              <a:off x="4859280" y="2340000"/>
              <a:ext cx="1079640" cy="360360"/>
              <a:chOff x="4859280" y="2340000"/>
              <a:chExt cx="1079640" cy="360360"/>
            </a:xfrm>
          </p:grpSpPr>
          <p:sp>
            <p:nvSpPr>
              <p:cNvPr id="273" name=""/>
              <p:cNvSpPr/>
              <p:nvPr/>
            </p:nvSpPr>
            <p:spPr>
              <a:xfrm>
                <a:off x="4859280" y="234000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219640" y="234000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5040360" y="2340000"/>
              <a:ext cx="720720" cy="360360"/>
              <a:chOff x="5040360" y="2340000"/>
              <a:chExt cx="720720" cy="360360"/>
            </a:xfrm>
          </p:grpSpPr>
          <p:sp>
            <p:nvSpPr>
              <p:cNvPr id="276" name=""/>
              <p:cNvSpPr/>
              <p:nvPr/>
            </p:nvSpPr>
            <p:spPr>
              <a:xfrm>
                <a:off x="5400720" y="234000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040360" y="234000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279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282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5226120" y="10857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400720" y="5756040"/>
            <a:ext cx="1440" cy="10890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287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294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859280" y="2519280"/>
            <a:ext cx="1079640" cy="12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260720"/>
              <a:gd name="textAreaBottom" fmla="*/ 1260360 h 1260720"/>
            </a:gdLst>
            <a:ahLst/>
            <a:rect l="textAreaLeft" t="textAreaTop" r="textAreaRight" b="textAreaBottom"/>
            <a:pathLst>
              <a:path w="21600" h="25222">
                <a:moveTo>
                  <a:pt x="31" y="0"/>
                </a:moveTo>
                <a:arcTo wR="31" hR="31" stAng="16200000" swAng="-5400000"/>
                <a:lnTo>
                  <a:pt x="0" y="25191"/>
                </a:lnTo>
                <a:arcTo wR="31" hR="31" stAng="10800000" swAng="-5400000"/>
                <a:lnTo>
                  <a:pt x="21569" y="25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859280" y="2160720"/>
            <a:ext cx="1079640" cy="360360"/>
            <a:chOff x="4859280" y="2160720"/>
            <a:chExt cx="1079640" cy="360360"/>
          </a:xfrm>
        </p:grpSpPr>
        <p:grpSp>
          <p:nvGrpSpPr>
            <p:cNvPr id="316" name=""/>
            <p:cNvGrpSpPr/>
            <p:nvPr/>
          </p:nvGrpSpPr>
          <p:grpSpPr>
            <a:xfrm>
              <a:off x="4859280" y="2160720"/>
              <a:ext cx="1079640" cy="360360"/>
              <a:chOff x="4859280" y="2160720"/>
              <a:chExt cx="1079640" cy="360360"/>
            </a:xfrm>
          </p:grpSpPr>
          <p:sp>
            <p:nvSpPr>
              <p:cNvPr id="317" name=""/>
              <p:cNvSpPr/>
              <p:nvPr/>
            </p:nvSpPr>
            <p:spPr>
              <a:xfrm>
                <a:off x="4859280" y="216072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19640" y="21607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040360" y="2160720"/>
              <a:ext cx="720720" cy="360360"/>
              <a:chOff x="5040360" y="2160720"/>
              <a:chExt cx="720720" cy="360360"/>
            </a:xfrm>
          </p:grpSpPr>
          <p:sp>
            <p:nvSpPr>
              <p:cNvPr id="320" name=""/>
              <p:cNvSpPr/>
              <p:nvPr/>
            </p:nvSpPr>
            <p:spPr>
              <a:xfrm>
                <a:off x="5400720" y="21607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40360" y="21607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2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323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326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219640" y="9000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400720" y="5575320"/>
            <a:ext cx="1440" cy="12700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331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338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859280" y="2340000"/>
            <a:ext cx="1079640" cy="144000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440000"/>
              <a:gd name="textAreaBottom" fmla="*/ 1439640 h 1440000"/>
            </a:gdLst>
            <a:ahLst/>
            <a:rect l="textAreaLeft" t="textAreaTop" r="textAreaRight" b="textAreaBottom"/>
            <a:pathLst>
              <a:path w="21600" h="28807">
                <a:moveTo>
                  <a:pt x="31" y="0"/>
                </a:moveTo>
                <a:arcTo wR="31" hR="31" stAng="16200000" swAng="-5400000"/>
                <a:lnTo>
                  <a:pt x="0" y="28776"/>
                </a:lnTo>
                <a:arcTo wR="31" hR="31" stAng="10800000" swAng="-5400000"/>
                <a:lnTo>
                  <a:pt x="21569" y="2880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859280" y="1979640"/>
            <a:ext cx="1079640" cy="360360"/>
            <a:chOff x="4859280" y="1979640"/>
            <a:chExt cx="1079640" cy="360360"/>
          </a:xfrm>
        </p:grpSpPr>
        <p:grpSp>
          <p:nvGrpSpPr>
            <p:cNvPr id="360" name=""/>
            <p:cNvGrpSpPr/>
            <p:nvPr/>
          </p:nvGrpSpPr>
          <p:grpSpPr>
            <a:xfrm>
              <a:off x="4859280" y="1979640"/>
              <a:ext cx="1079640" cy="360360"/>
              <a:chOff x="4859280" y="1979640"/>
              <a:chExt cx="1079640" cy="360360"/>
            </a:xfrm>
          </p:grpSpPr>
          <p:sp>
            <p:nvSpPr>
              <p:cNvPr id="361" name=""/>
              <p:cNvSpPr/>
              <p:nvPr/>
            </p:nvSpPr>
            <p:spPr>
              <a:xfrm>
                <a:off x="4859280" y="19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219640" y="19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5040360" y="1979640"/>
              <a:ext cx="720720" cy="360360"/>
              <a:chOff x="5040360" y="1979640"/>
              <a:chExt cx="720720" cy="360360"/>
            </a:xfrm>
          </p:grpSpPr>
          <p:sp>
            <p:nvSpPr>
              <p:cNvPr id="364" name=""/>
              <p:cNvSpPr/>
              <p:nvPr/>
            </p:nvSpPr>
            <p:spPr>
              <a:xfrm>
                <a:off x="5400720" y="197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040360" y="197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367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370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5219640" y="72072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400720" y="5396040"/>
            <a:ext cx="1440" cy="14493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375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38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859280" y="2160720"/>
            <a:ext cx="1079640" cy="161928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619280"/>
              <a:gd name="textAreaBottom" fmla="*/ 1618920 h 1619280"/>
            </a:gdLst>
            <a:ahLst/>
            <a:rect l="textAreaLeft" t="textAreaTop" r="textAreaRight" b="textAreaBottom"/>
            <a:pathLst>
              <a:path w="21600" h="32393">
                <a:moveTo>
                  <a:pt x="31" y="0"/>
                </a:moveTo>
                <a:arcTo wR="31" hR="31" stAng="16200000" swAng="-5400000"/>
                <a:lnTo>
                  <a:pt x="0" y="32362"/>
                </a:lnTo>
                <a:arcTo wR="31" hR="31" stAng="10800000" swAng="-5400000"/>
                <a:lnTo>
                  <a:pt x="21569" y="32393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834080" y="1784520"/>
            <a:ext cx="1079280" cy="360360"/>
            <a:chOff x="4834080" y="1784520"/>
            <a:chExt cx="1079280" cy="360360"/>
          </a:xfrm>
        </p:grpSpPr>
        <p:grpSp>
          <p:nvGrpSpPr>
            <p:cNvPr id="404" name=""/>
            <p:cNvGrpSpPr/>
            <p:nvPr/>
          </p:nvGrpSpPr>
          <p:grpSpPr>
            <a:xfrm>
              <a:off x="4834080" y="1784520"/>
              <a:ext cx="1079280" cy="360360"/>
              <a:chOff x="4834080" y="1784520"/>
              <a:chExt cx="1079280" cy="360360"/>
            </a:xfrm>
          </p:grpSpPr>
          <p:sp>
            <p:nvSpPr>
              <p:cNvPr id="405" name=""/>
              <p:cNvSpPr/>
              <p:nvPr/>
            </p:nvSpPr>
            <p:spPr>
              <a:xfrm>
                <a:off x="4834080" y="178452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194440" y="17845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5013360" y="1784520"/>
              <a:ext cx="720720" cy="360360"/>
              <a:chOff x="5013360" y="1784520"/>
              <a:chExt cx="720720" cy="360360"/>
            </a:xfrm>
          </p:grpSpPr>
          <p:sp>
            <p:nvSpPr>
              <p:cNvPr id="408" name=""/>
              <p:cNvSpPr/>
              <p:nvPr/>
            </p:nvSpPr>
            <p:spPr>
              <a:xfrm>
                <a:off x="5373720" y="17845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013360" y="17845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411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414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5219640" y="5396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5400720" y="5035320"/>
            <a:ext cx="1440" cy="18097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41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426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4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59280" y="2160720"/>
            <a:ext cx="1079640" cy="161928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619280"/>
              <a:gd name="textAreaBottom" fmla="*/ 1618920 h 1619280"/>
            </a:gdLst>
            <a:ahLst/>
            <a:rect l="textAreaLeft" t="textAreaTop" r="textAreaRight" b="textAreaBottom"/>
            <a:pathLst>
              <a:path w="21600" h="32393">
                <a:moveTo>
                  <a:pt x="31" y="0"/>
                </a:moveTo>
                <a:arcTo wR="31" hR="31" stAng="16200000" swAng="-5400000"/>
                <a:lnTo>
                  <a:pt x="0" y="32362"/>
                </a:lnTo>
                <a:arcTo wR="31" hR="31" stAng="10800000" swAng="-5400000"/>
                <a:lnTo>
                  <a:pt x="21569" y="32393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4834080" y="1784520"/>
            <a:ext cx="1079280" cy="360360"/>
            <a:chOff x="4834080" y="1784520"/>
            <a:chExt cx="1079280" cy="360360"/>
          </a:xfrm>
        </p:grpSpPr>
        <p:grpSp>
          <p:nvGrpSpPr>
            <p:cNvPr id="448" name=""/>
            <p:cNvGrpSpPr/>
            <p:nvPr/>
          </p:nvGrpSpPr>
          <p:grpSpPr>
            <a:xfrm>
              <a:off x="4834080" y="1784520"/>
              <a:ext cx="1079280" cy="360360"/>
              <a:chOff x="4834080" y="1784520"/>
              <a:chExt cx="1079280" cy="360360"/>
            </a:xfrm>
          </p:grpSpPr>
          <p:sp>
            <p:nvSpPr>
              <p:cNvPr id="449" name=""/>
              <p:cNvSpPr/>
              <p:nvPr/>
            </p:nvSpPr>
            <p:spPr>
              <a:xfrm>
                <a:off x="4834080" y="178452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94440" y="17845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5013360" y="1784520"/>
              <a:ext cx="720720" cy="360360"/>
              <a:chOff x="5013360" y="1784520"/>
              <a:chExt cx="720720" cy="360360"/>
            </a:xfrm>
          </p:grpSpPr>
          <p:sp>
            <p:nvSpPr>
              <p:cNvPr id="452" name=""/>
              <p:cNvSpPr/>
              <p:nvPr/>
            </p:nvSpPr>
            <p:spPr>
              <a:xfrm>
                <a:off x="5373720" y="17845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013360" y="17845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455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458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6480000" y="539640"/>
            <a:ext cx="3060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deb3d"/>
                </a:solidFill>
                <a:latin typeface="Arial"/>
              </a:rPr>
              <a:t>Остан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20720" y="2340000"/>
            <a:ext cx="27003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хний кла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жний клапан от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419640" y="2879640"/>
            <a:ext cx="1079280" cy="18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3419640" y="3419280"/>
            <a:ext cx="1079280" cy="18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0:32:33Z</dcterms:created>
  <dc:creator/>
  <dc:description/>
  <dc:language>en-US</dc:language>
  <cp:lastModifiedBy/>
  <dcterms:modified xsi:type="dcterms:W3CDTF">2014-02-18T12:56:49Z</dcterms:modified>
  <cp:revision>7</cp:revision>
  <dc:subject/>
  <dc:title/>
</cp:coreProperties>
</file>