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597-091D-45B2-955B-654B0C9F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84D-B716-497D-99AB-BEE652F8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10D-D8AA-4E95-BF53-4087F432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24C-F1B5-4DE5-B64D-C034DEE5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C7E-2517-4C67-9D2E-011EA09F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5B1-B1A9-421C-BB74-CEFA3EF6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73B-2D48-418B-B5E9-577B7359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D50-2956-4409-BAE3-6675FFA6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9FE-A9FE-4523-B2D5-DF7FE656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9F8-77B9-4AB8-B2ED-7365B9F5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626-78C5-4FA8-96B8-3298A808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123-A93A-4742-821F-716ABFB8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DD839-4FA0-4562-982B-A414F33B1C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00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01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04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1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559640" y="398520"/>
            <a:ext cx="19796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Атмосф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ое дав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35680" y="720720"/>
            <a:ext cx="144936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54240" y="1979640"/>
            <a:ext cx="1809720" cy="107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94240" y="1440000"/>
            <a:ext cx="2170080" cy="143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94240" y="3060720"/>
            <a:ext cx="217008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95680" y="4140360"/>
            <a:ext cx="108900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4140360"/>
            <a:ext cx="144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5759280"/>
            <a:ext cx="1800" cy="90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6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87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88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91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9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9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10800000">
            <a:off x="5223960" y="5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Начало движения поршн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0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27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31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534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535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542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4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58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58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58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92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9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21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22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628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629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632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636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3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4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68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69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72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675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676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679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683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86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9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15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16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19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722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723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726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730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3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4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62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63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66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769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770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773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7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8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806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807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sp>
          <p:nvSpPr>
            <p:cNvPr id="813" name=""/>
            <p:cNvSpPr/>
            <p:nvPr/>
          </p:nvSpPr>
          <p:spPr>
            <a:xfrm>
              <a:off x="4859280" y="287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9640" y="287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040360" y="2879640"/>
            <a:ext cx="720720" cy="360360"/>
            <a:chOff x="5040360" y="2879640"/>
            <a:chExt cx="720720" cy="360360"/>
          </a:xfrm>
        </p:grpSpPr>
        <p:sp>
          <p:nvSpPr>
            <p:cNvPr id="816" name=""/>
            <p:cNvSpPr/>
            <p:nvPr/>
          </p:nvSpPr>
          <p:spPr>
            <a:xfrm>
              <a:off x="5400720" y="287964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40360" y="287964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845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846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849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85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85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Движение поршн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80000" y="2160720"/>
            <a:ext cx="32403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Жидкость поднимается за поршнем под действием атмосфер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5578200" y="3959280"/>
            <a:ext cx="723960" cy="19796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86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7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899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900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903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0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0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16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4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4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55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2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947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951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5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5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224320" y="107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64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7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995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996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999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0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0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12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21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1043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1047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50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53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60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6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091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98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01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251240" y="180036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00720" y="5216040"/>
            <a:ext cx="1440" cy="162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10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1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139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14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4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1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1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1181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8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1189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9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1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122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122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122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3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5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1261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1265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1269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7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9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9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1301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1302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1305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1309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1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3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3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3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1341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1345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1349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6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184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9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9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9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138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38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60000" y="161928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дель работы поршневого насос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резентацию составил учитель физики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МКОУООШ №13 с. Меркушевк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ономаренко Алексей Алексеевич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0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228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3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3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4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5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272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273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276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79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82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226120" y="10857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8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9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519280"/>
            <a:ext cx="1079640" cy="12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260720"/>
              <a:gd name="textAreaBottom" fmla="*/ 1260360 h 1260720"/>
            </a:gdLst>
            <a:ahLst/>
            <a:rect l="textAreaLeft" t="textAreaTop" r="textAreaRight" b="textAreaBottom"/>
            <a:pathLst>
              <a:path w="21600" h="25222">
                <a:moveTo>
                  <a:pt x="31" y="0"/>
                </a:moveTo>
                <a:arcTo wR="31" hR="31" stAng="16200000" swAng="-5400000"/>
                <a:lnTo>
                  <a:pt x="0" y="25191"/>
                </a:lnTo>
                <a:arcTo wR="31" hR="31" stAng="10800000" swAng="-5400000"/>
                <a:lnTo>
                  <a:pt x="21569" y="25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316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317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320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23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26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3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38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2340000"/>
            <a:ext cx="1079640" cy="144000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440000"/>
              <a:gd name="textAreaBottom" fmla="*/ 1439640 h 1440000"/>
            </a:gdLst>
            <a:ahLst/>
            <a:rect l="textAreaLeft" t="textAreaTop" r="textAreaRight" b="textAreaBottom"/>
            <a:pathLst>
              <a:path w="21600" h="28807">
                <a:moveTo>
                  <a:pt x="31" y="0"/>
                </a:moveTo>
                <a:arcTo wR="31" hR="31" stAng="16200000" swAng="-5400000"/>
                <a:lnTo>
                  <a:pt x="0" y="28776"/>
                </a:lnTo>
                <a:arcTo wR="31" hR="31" stAng="10800000" swAng="-5400000"/>
                <a:lnTo>
                  <a:pt x="21569" y="2880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360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67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70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7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04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08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1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1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00720" y="5035320"/>
            <a:ext cx="1440" cy="18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41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48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49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5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5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32:33Z</dcterms:created>
  <dc:creator/>
  <dc:description/>
  <dc:language>en-US</dc:language>
  <cp:lastModifiedBy/>
  <dcterms:modified xsi:type="dcterms:W3CDTF">2014-02-18T12:56:49Z</dcterms:modified>
  <cp:revision>7</cp:revision>
  <dc:subject/>
  <dc:title/>
</cp:coreProperties>
</file>