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94F5-D443-49EB-8FBF-34D82C40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97B7-76CD-42D9-85C8-A2F2C857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F42995-B8F1-4A8D-8AA7-D9645CC7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05393E-2407-4BC2-80DB-FCB356A1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545CF1-EB6A-4152-8D30-DEEDEBC2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D3A8FC-D324-4D13-AE9B-EDCB2607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30912E-DF2F-4E91-968E-71BF7C56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BB1A1E-B6A8-426E-81C4-889D1818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1A49C6-028E-44F0-ACAD-BEFA3A2D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707956-8E2A-4A34-AFF3-EF2A2625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42E4E2-380F-455F-9B2B-B6964497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AAE95-1A18-4777-9255-89F1DCBB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D49D-C2B2-41ED-BAC4-0F7ED0F6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D3744-C9E9-4543-A2D6-EADFAD32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453E4-74CB-447A-8729-4EA95792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7F81E-0152-4F9A-8656-6626DC73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3645C-DCFD-4606-A82D-66DD0E83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4B37D-56F2-4C1B-BD4B-69C2E72E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8641D-627D-4623-94F7-3707766E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DCB5F-E1EB-499B-9F9C-DFBC96C7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9EF75-D3D6-43DB-94DF-1C4C117F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51765-57D5-48DF-920E-25427C62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5D3C7-0148-40F6-A92D-A2A727AC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38C1-7A96-4827-9A65-7B4CBA9D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61D72-BB46-48EA-8439-F200FF66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43868B-BE80-486E-9FAA-DE1752C0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227C4E-4E31-462B-851C-16A5B04C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E75EE8-365C-4FA2-BD1C-5F281EEA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8C686D-A950-46E9-932D-DD4082D2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E9957A-1040-4FF2-821A-86A63350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35ADC7-0C07-47B5-86B4-10696D90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F7CD77-5ADB-4AD6-A1B5-4ABDA7C2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480FCA-07E9-46E9-9904-55FDF91E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C20888-31E7-4C04-A2AA-748849E1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3008E-9286-4D49-A41B-884C5C8E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440AAC-02DC-46FD-8974-372A67F2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6D2B34-3EDD-44DE-85E9-5F88F45E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2B5085-2FAC-4147-AA62-1576F4A7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CB00EB-E547-4408-ACD5-12EA2335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478841-8F11-44A3-A7EC-F95A1C7D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7AF74A-9550-41C8-BDF4-63413410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FD92A3-B66F-4B68-92C4-511B9104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F4356C-006F-4F4D-B6C3-FE4F08C5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CFDE47-0308-4405-8BCC-E04795CA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D49BFF-76F1-44E3-B613-97E78287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C3F3A-914C-436D-AB9B-7686A04B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64C36D-BCE4-4995-A6F0-5824D983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2D685C-7152-4ABD-BA50-B5EFC536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5FE2A4-70CF-4343-AF19-E2C9CD3C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CDC1B5-290A-4843-A30A-C4F33437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347072-602F-45DD-9F14-2C2B98611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F7225-FEAD-4F24-8A3B-02B13D07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524C3-DF22-4DC8-BB1D-C9618FE6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1DC1C-6D06-452D-B2EA-AB793504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874B3-1501-41C6-82B5-26730C8D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FA0D9-814D-466A-A0C5-F2F12A8A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3946-1D00-49F5-AC9C-400DBD40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4D338-B078-4D05-B945-C371B9C8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B1785-26E3-4FB6-95DA-B92EB7D2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BBB87-8E4D-4B80-A9C0-9416C30A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5A9A5-3B2B-44CE-9E58-35F2900E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62C34-E35E-48B6-8616-EEA29DFC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313A32-AD28-4CF9-B03E-1DF84E8E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3BA58B-3A38-40CC-BD05-3FB562BB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C91D3-BD53-4E9C-8602-C2DD0A9B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905DA5-A069-4B68-A5F9-15EE126B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FFEFD-FEC8-4312-8943-E2DC9522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00AC-0277-461E-ACD1-42C7FA60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47C9EB-D602-42F1-AE45-ABB2C38A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3A03CC-40E2-4916-98A6-F3B175A4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7D5C8-A2EC-49B5-BFEA-FBBE91E8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D7E55-E174-4972-9F41-364C032C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62D2F6-A111-4E2E-A941-CEEAF038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8FD53-EFFF-440E-8B2D-AE3BF6FB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6FCE52-FF71-4CCF-9F5E-5D587CE2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ED13DA-C60B-44A9-9BF4-E1143D17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5A99B8-A988-4361-BD29-467BE06C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5291C9-A856-43F8-B62B-8E36B21D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0D91-2A1C-49EB-B139-89E735D5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B78313-B450-4EEF-8BE0-3C88118F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6CD146-8937-47CB-9642-5A215367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3EA86D-BC3E-41B9-ABDD-EF376DA8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068CFA-CFA8-468A-B90B-B1BC486C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CA1B32-54FC-4E3E-BAFD-45084679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0E63FB-E20A-469A-AD3D-3C54F70F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D6E091-2E5D-46BB-AAD9-EC484A51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2A71C4-27BA-4457-A05E-B93779F3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C45BA0-CB8B-4E58-B3F7-DC7D6E31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E33EF3-2CF1-4EF7-BEF7-E4DF2CF8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A508-E880-401C-B846-E048320B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A7F59C-CD7F-42EF-9C58-56CAA860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B41C2B-55DC-418D-BFA0-08E07F00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1254EB-51DA-4F6F-9CBE-1BAE79BF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AC7384-B007-41C3-9753-3DD3900D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B10313-A49D-4078-9B7D-B994B338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FA6878-282F-4795-A511-DDA5E9C5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F4508E-FF03-40DE-9420-3BABC548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2850AD-3B20-481C-902F-F4CBE7C4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95E208-71CB-43E3-B4AC-2352BD61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8BFEF4-DB7F-4BF1-A7BE-5F70BD32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E674-E3C1-48D2-88F5-0185ACD9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2C387F-0638-4E2A-A8E5-F4AC0DED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AA3AC9-B26E-4CA3-AEBF-34295E81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652D8C-DE4A-4677-BC1D-29F4D16D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FBB536-FABF-42A2-95C0-23E082E8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6A9C0D-BC0F-4BE9-AB97-76C7E0A0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D36E93-8F54-454C-ADA6-CCFB48D3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039ED5-FF8C-4E71-A681-2FB802B2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3D77DA-D6AA-4F68-90F6-16C6B187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21F7B1-F4A2-4CD3-A71E-B59F21BD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658A88-F86E-4622-85B3-676F67EC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8B35-71B8-47E4-A72E-8A27E695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3673EC-5F9B-4140-9316-53DF7977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F2336A-F10D-45E8-8634-80A2A476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F9B962-5B7E-445C-9C8C-2D17717F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F53CF4-620F-4A64-8A3E-9210C537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866463-C230-42D8-9223-6AF66928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598CCD-D29D-4517-8DDE-F232B74C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157A5D-B522-4856-ACAA-E3639DAA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A1CA85-F47D-49D0-8E0C-AE4AF0D2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C080F5-98F1-4C3B-B089-379AA21E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CE2109-A942-4FD3-A518-FB771225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DD8B-F8EC-4CAF-92B9-BEBD9150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EC487C-A21E-44D2-810D-2371201A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34DC5F-AF76-461F-B837-F4A75355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B71F7E-D2A2-4249-80F5-1F41C897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EA4B7A-CAB5-447A-BC8B-F8F6CBE2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6EA372-01AC-4FDD-B001-D2787302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EA9E88-D570-4980-BF66-3DE8A151E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5B69FC-7165-4395-A326-9CC5CA07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9EFE76-178B-4E36-83F9-56DBAF32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B42DA1-D598-492E-8B5E-00BEDD7B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1058C6-5C7D-4444-814E-68B7F812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853F-9E13-4360-93C6-8B0C44C2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AD6D0D-3FAC-4729-AF4C-8351871B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9DD2D5-CCC1-48C7-81D6-E44CD17B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E8025A-FD5A-458C-AB1D-A4698D64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6D2A03-56D2-4663-9336-48654573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E3D32B-856B-4DF9-8EFD-BA62C7E1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BD07F5-385B-4E01-82A8-4A95CD64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AC67BD-E203-4188-85F8-C1E6C11D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21DE9C-065E-4495-BDCE-D16659EB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0EE428-9410-4C99-B319-4F03E01F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8CCF82-9BFF-44C9-BCF0-0A746F4E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B586-5904-4CD5-8D74-E1411CB42802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5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26" name="Rectangle 12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3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4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Picture 7" descr="4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sp>
        <p:nvSpPr>
          <p:cNvPr id="431" name="Straight Connector 9"/>
          <p:cNvSpPr/>
          <p:nvPr/>
        </p:nvSpPr>
        <p:spPr>
          <a:xfrm>
            <a:off x="4419720" y="1523880"/>
            <a:ext cx="426708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10"/>
          <p:cNvSpPr/>
          <p:nvPr/>
        </p:nvSpPr>
        <p:spPr>
          <a:xfrm>
            <a:off x="4419720" y="5637240"/>
            <a:ext cx="4267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E371-3CF5-4108-84A3-6E385F164DD4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76" name="Rectangle 1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20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Picture 10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32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9551-01D9-4191-898B-A18BA93D0832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ftr" idx="33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1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524" name="Rectangle 1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1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20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7" name="Picture 10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3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4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sldNum" idx="35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CE3F-9F35-4F1F-853E-3D0F3044A4C9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6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9_02.jpg"/>
          <p:cNvPicPr/>
          <p:nvPr/>
        </p:nvPicPr>
        <p:blipFill>
          <a:blip r:embed="rId2"/>
          <a:stretch/>
        </p:blipFill>
        <p:spPr>
          <a:xfrm>
            <a:off x="7753320" y="0"/>
            <a:ext cx="745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1_05.jpg"/>
          <p:cNvPicPr/>
          <p:nvPr/>
        </p:nvPicPr>
        <p:blipFill>
          <a:blip r:embed="rId3"/>
          <a:stretch/>
        </p:blipFill>
        <p:spPr>
          <a:xfrm>
            <a:off x="7810560" y="0"/>
            <a:ext cx="1333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17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6" name="Rectangle 9"/>
            <p:cNvSpPr/>
            <p:nvPr/>
          </p:nvSpPr>
          <p:spPr>
            <a:xfrm>
              <a:off x="7813800" y="6630840"/>
              <a:ext cx="1330200" cy="22860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6134040" y="6630840"/>
              <a:ext cx="1609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0" y="6630840"/>
              <a:ext cx="6095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21000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7924680" y="6609960"/>
            <a:ext cx="119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E82A-8565-4918-BB12-5B0BE559B272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457200" y="6609960"/>
            <a:ext cx="560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92" name="Rectangle 3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3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Picture 12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FC22-648A-4BB6-8025-938C3EEC02AB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2"/>
          <p:cNvGrpSpPr/>
          <p:nvPr/>
        </p:nvGrpSpPr>
        <p:grpSpPr>
          <a:xfrm>
            <a:off x="1438200" y="6629400"/>
            <a:ext cx="7705800" cy="228600"/>
            <a:chOff x="1438200" y="6629400"/>
            <a:chExt cx="7705800" cy="228600"/>
          </a:xfrm>
        </p:grpSpPr>
        <p:sp>
          <p:nvSpPr>
            <p:cNvPr id="140" name="Rectangle 26"/>
            <p:cNvSpPr/>
            <p:nvPr/>
          </p:nvSpPr>
          <p:spPr>
            <a:xfrm>
              <a:off x="8763120" y="662940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7"/>
            <p:cNvSpPr/>
            <p:nvPr/>
          </p:nvSpPr>
          <p:spPr>
            <a:xfrm>
              <a:off x="7142400" y="662940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8"/>
            <p:cNvSpPr/>
            <p:nvPr/>
          </p:nvSpPr>
          <p:spPr>
            <a:xfrm>
              <a:off x="1438200" y="6629400"/>
              <a:ext cx="56642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9" descr="9_01.jpg"/>
          <p:cNvPicPr/>
          <p:nvPr/>
        </p:nvPicPr>
        <p:blipFill>
          <a:blip r:embed="rId2"/>
          <a:stretch/>
        </p:blipFill>
        <p:spPr>
          <a:xfrm>
            <a:off x="0" y="0"/>
            <a:ext cx="136368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vert_bar_02.png"/>
          <p:cNvPicPr/>
          <p:nvPr/>
        </p:nvPicPr>
        <p:blipFill>
          <a:blip r:embed="rId3"/>
          <a:stretch/>
        </p:blipFill>
        <p:spPr>
          <a:xfrm>
            <a:off x="1365120" y="0"/>
            <a:ext cx="7308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7162560" y="6610320"/>
            <a:ext cx="1523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1"/>
          </p:nvPr>
        </p:nvSpPr>
        <p:spPr>
          <a:xfrm>
            <a:off x="8741880" y="6610320"/>
            <a:ext cx="38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94EE-1BA3-458E-8FA3-B461BF1D221B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2"/>
          </p:nvPr>
        </p:nvSpPr>
        <p:spPr>
          <a:xfrm>
            <a:off x="1523880" y="6610320"/>
            <a:ext cx="5562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2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3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14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190" name="Rectangle 16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7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8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4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40A2-0C19-4E10-B308-295A205A3799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5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3" descr="4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5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17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238" name="Rectangle 19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0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1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7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437C-189C-47A8-B593-1B53E47B3866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18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9" descr="2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11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286" name="Rectangle 12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3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0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680F-159B-49CF-B8F9-73C6A2076DC1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1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8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332" name="Rectangle 9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0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1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23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A056-A29D-4A3D-A23A-12E786D71D65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24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1" descr="3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3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15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380" name="Rectangle 16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7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8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26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A40E-FEE3-4CC7-A6CA-6CA6DF210732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ftr" idx="27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Урок физики в 7 кл.</a:t>
            </a:r>
            <a:endParaRPr b="0" lang="en-US" sz="4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6838920" cy="151272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  <a:effectLst>
            <a:outerShdw dist="36147" dir="2700000" blurRad="0" rotWithShape="0">
              <a:srgbClr val="dddddd">
                <a:alpha val="50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ма:  Сложение двух сил, направленных по одной прямой. Равнодействующая сил.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556000" y="4150080"/>
            <a:ext cx="52560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4d"/>
                </a:solidFill>
                <a:latin typeface="Calibri"/>
              </a:rPr>
              <a:t>Ладанова И.В.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  <a:p>
            <a:pPr algn="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4d"/>
                </a:solidFill>
                <a:latin typeface="Calibri"/>
              </a:rPr>
              <a:t>МКОУ «Верх-Жилинская ООШ»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7667640" y="5950080"/>
            <a:ext cx="865080" cy="50328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117" h="21600">
                <a:moveTo>
                  <a:pt x="0" y="0"/>
                </a:moveTo>
                <a:lnTo>
                  <a:pt x="37117" y="0"/>
                </a:lnTo>
                <a:lnTo>
                  <a:pt x="37117" y="21600"/>
                </a:lnTo>
                <a:lnTo>
                  <a:pt x="0" y="21600"/>
                </a:lnTo>
                <a:close/>
              </a:path>
              <a:path fill="lightenLess" w="37117" h="21600">
                <a:moveTo>
                  <a:pt x="0" y="0"/>
                </a:moveTo>
                <a:lnTo>
                  <a:pt x="37117" y="0"/>
                </a:lnTo>
                <a:lnTo>
                  <a:pt x="35717" y="1400"/>
                </a:lnTo>
                <a:lnTo>
                  <a:pt x="1400" y="1400"/>
                </a:lnTo>
                <a:close/>
              </a:path>
              <a:path fill="darken" w="37117" h="21600">
                <a:moveTo>
                  <a:pt x="37117" y="0"/>
                </a:moveTo>
                <a:lnTo>
                  <a:pt x="37117" y="21600"/>
                </a:lnTo>
                <a:lnTo>
                  <a:pt x="35717" y="20200"/>
                </a:lnTo>
                <a:lnTo>
                  <a:pt x="35717" y="1400"/>
                </a:lnTo>
                <a:close/>
              </a:path>
              <a:path fill="darkenLess" w="37117" h="21600">
                <a:moveTo>
                  <a:pt x="37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17" y="20200"/>
                </a:lnTo>
                <a:close/>
              </a:path>
              <a:path fill="lighten" w="37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117" h="21600">
                <a:moveTo>
                  <a:pt x="11552" y="3794"/>
                </a:moveTo>
                <a:lnTo>
                  <a:pt x="25565" y="10800"/>
                </a:lnTo>
                <a:lnTo>
                  <a:pt x="11552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">
            <a:hlinkClick r:id="" action="ppaction://hlinkshowjump?jump=previousslide"/>
          </p:cNvPr>
          <p:cNvSpPr/>
          <p:nvPr/>
        </p:nvSpPr>
        <p:spPr>
          <a:xfrm>
            <a:off x="6588000" y="5950080"/>
            <a:ext cx="1008360" cy="503280"/>
          </a:xfrm>
          <a:custGeom>
            <a:avLst/>
            <a:gdLst>
              <a:gd name="textAreaLeft" fmla="*/ 32400 w 1008360"/>
              <a:gd name="textAreaRight" fmla="*/ 975960 w 1008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3262" h="21600">
                <a:moveTo>
                  <a:pt x="0" y="0"/>
                </a:moveTo>
                <a:lnTo>
                  <a:pt x="43262" y="0"/>
                </a:lnTo>
                <a:lnTo>
                  <a:pt x="43262" y="21600"/>
                </a:lnTo>
                <a:lnTo>
                  <a:pt x="0" y="21600"/>
                </a:lnTo>
                <a:close/>
              </a:path>
              <a:path fill="lightenLess" w="43262" h="21600">
                <a:moveTo>
                  <a:pt x="0" y="0"/>
                </a:moveTo>
                <a:lnTo>
                  <a:pt x="43262" y="0"/>
                </a:lnTo>
                <a:lnTo>
                  <a:pt x="41862" y="1400"/>
                </a:lnTo>
                <a:lnTo>
                  <a:pt x="1400" y="1400"/>
                </a:lnTo>
                <a:close/>
              </a:path>
              <a:path fill="darken" w="43262" h="21600">
                <a:moveTo>
                  <a:pt x="43262" y="0"/>
                </a:moveTo>
                <a:lnTo>
                  <a:pt x="43262" y="21600"/>
                </a:lnTo>
                <a:lnTo>
                  <a:pt x="41862" y="20200"/>
                </a:lnTo>
                <a:lnTo>
                  <a:pt x="41862" y="1400"/>
                </a:lnTo>
                <a:close/>
              </a:path>
              <a:path fill="darkenLess" w="43262" h="21600">
                <a:moveTo>
                  <a:pt x="432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62" y="20200"/>
                </a:lnTo>
                <a:close/>
              </a:path>
              <a:path fill="lighten" w="432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62" h="21600">
                <a:moveTo>
                  <a:pt x="14624" y="10800"/>
                </a:moveTo>
                <a:lnTo>
                  <a:pt x="28637" y="3794"/>
                </a:lnTo>
                <a:lnTo>
                  <a:pt x="28637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5"/>
          <p:cNvSpPr/>
          <p:nvPr/>
        </p:nvSpPr>
        <p:spPr>
          <a:xfrm>
            <a:off x="684360" y="765000"/>
            <a:ext cx="49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395280" y="189000"/>
            <a:ext cx="504036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ила, которая производит на тело такое же действие, как несколько одновременно действующих сил, называется равнодействующей этих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4140360" y="3645000"/>
            <a:ext cx="403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бозначение: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8"/>
          <p:cNvSpPr/>
          <p:nvPr/>
        </p:nvSpPr>
        <p:spPr>
          <a:xfrm>
            <a:off x="7380360" y="364500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9"/>
          <p:cNvSpPr/>
          <p:nvPr/>
        </p:nvSpPr>
        <p:spPr>
          <a:xfrm>
            <a:off x="7524720" y="6165720"/>
            <a:ext cx="1008000" cy="35892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0623" h="21600">
                <a:moveTo>
                  <a:pt x="0" y="0"/>
                </a:moveTo>
                <a:lnTo>
                  <a:pt x="60623" y="0"/>
                </a:lnTo>
                <a:lnTo>
                  <a:pt x="60623" y="21600"/>
                </a:lnTo>
                <a:lnTo>
                  <a:pt x="0" y="21600"/>
                </a:lnTo>
                <a:close/>
              </a:path>
              <a:path fill="lightenLess" w="60623" h="21600">
                <a:moveTo>
                  <a:pt x="0" y="0"/>
                </a:moveTo>
                <a:lnTo>
                  <a:pt x="60623" y="0"/>
                </a:lnTo>
                <a:lnTo>
                  <a:pt x="59223" y="1400"/>
                </a:lnTo>
                <a:lnTo>
                  <a:pt x="1400" y="1400"/>
                </a:lnTo>
                <a:close/>
              </a:path>
              <a:path fill="darken" w="60623" h="21600">
                <a:moveTo>
                  <a:pt x="60623" y="0"/>
                </a:moveTo>
                <a:lnTo>
                  <a:pt x="60623" y="21600"/>
                </a:lnTo>
                <a:lnTo>
                  <a:pt x="59223" y="20200"/>
                </a:lnTo>
                <a:lnTo>
                  <a:pt x="59223" y="1400"/>
                </a:lnTo>
                <a:close/>
              </a:path>
              <a:path fill="darkenLess" w="60623" h="21600">
                <a:moveTo>
                  <a:pt x="60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23" y="20200"/>
                </a:lnTo>
                <a:close/>
              </a:path>
              <a:path fill="lighten" w="60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623" h="21600">
                <a:moveTo>
                  <a:pt x="23305" y="3794"/>
                </a:moveTo>
                <a:lnTo>
                  <a:pt x="37318" y="10800"/>
                </a:lnTo>
                <a:lnTo>
                  <a:pt x="23305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0">
            <a:hlinkClick r:id="" action="ppaction://hlinkshowjump?jump=previousslide"/>
          </p:cNvPr>
          <p:cNvSpPr/>
          <p:nvPr/>
        </p:nvSpPr>
        <p:spPr>
          <a:xfrm>
            <a:off x="6443640" y="6165720"/>
            <a:ext cx="1008000" cy="35892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0623" h="21600">
                <a:moveTo>
                  <a:pt x="0" y="0"/>
                </a:moveTo>
                <a:lnTo>
                  <a:pt x="60623" y="0"/>
                </a:lnTo>
                <a:lnTo>
                  <a:pt x="60623" y="21600"/>
                </a:lnTo>
                <a:lnTo>
                  <a:pt x="0" y="21600"/>
                </a:lnTo>
                <a:close/>
              </a:path>
              <a:path fill="lightenLess" w="60623" h="21600">
                <a:moveTo>
                  <a:pt x="0" y="0"/>
                </a:moveTo>
                <a:lnTo>
                  <a:pt x="60623" y="0"/>
                </a:lnTo>
                <a:lnTo>
                  <a:pt x="59223" y="1400"/>
                </a:lnTo>
                <a:lnTo>
                  <a:pt x="1400" y="1400"/>
                </a:lnTo>
                <a:close/>
              </a:path>
              <a:path fill="darken" w="60623" h="21600">
                <a:moveTo>
                  <a:pt x="60623" y="0"/>
                </a:moveTo>
                <a:lnTo>
                  <a:pt x="60623" y="21600"/>
                </a:lnTo>
                <a:lnTo>
                  <a:pt x="59223" y="20200"/>
                </a:lnTo>
                <a:lnTo>
                  <a:pt x="59223" y="1400"/>
                </a:lnTo>
                <a:close/>
              </a:path>
              <a:path fill="darkenLess" w="60623" h="21600">
                <a:moveTo>
                  <a:pt x="60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23" y="20200"/>
                </a:lnTo>
                <a:close/>
              </a:path>
              <a:path fill="lighten" w="60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623" h="21600">
                <a:moveTo>
                  <a:pt x="23305" y="10800"/>
                </a:moveTo>
                <a:lnTo>
                  <a:pt x="37318" y="3794"/>
                </a:lnTo>
                <a:lnTo>
                  <a:pt x="37318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1"/>
          <p:cNvSpPr/>
          <p:nvPr/>
        </p:nvSpPr>
        <p:spPr>
          <a:xfrm>
            <a:off x="1116000" y="429264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2"/>
          <p:cNvSpPr/>
          <p:nvPr/>
        </p:nvSpPr>
        <p:spPr>
          <a:xfrm>
            <a:off x="1547640" y="4653000"/>
            <a:ext cx="32403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диница измерения: </a:t>
            </a:r>
            <a:r>
              <a:rPr b="1" lang="ru-RU" sz="28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utoShape 29"/>
          <p:cNvSpPr/>
          <p:nvPr/>
        </p:nvSpPr>
        <p:spPr>
          <a:xfrm>
            <a:off x="2411280" y="4221000"/>
            <a:ext cx="3529080" cy="86364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0"/>
          <p:cNvSpPr/>
          <p:nvPr/>
        </p:nvSpPr>
        <p:spPr>
          <a:xfrm>
            <a:off x="3059280" y="3141720"/>
            <a:ext cx="3817800" cy="431640"/>
          </a:xfrm>
          <a:prstGeom prst="rightArrow">
            <a:avLst>
              <a:gd name="adj1" fmla="val 50000"/>
              <a:gd name="adj2" fmla="val 221122"/>
            </a:avLst>
          </a:prstGeom>
          <a:solidFill>
            <a:srgbClr val="e19b0b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539640" y="189000"/>
            <a:ext cx="316872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внодействующая сил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направленных вдоль одной прямой в одну сторону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равна сумме этих сил и направлена в ту же стор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2916360" y="3213000"/>
            <a:ext cx="214200" cy="28728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6"/>
          <p:cNvSpPr/>
          <p:nvPr/>
        </p:nvSpPr>
        <p:spPr>
          <a:xfrm>
            <a:off x="3132000" y="3213000"/>
            <a:ext cx="2448000" cy="287280"/>
          </a:xfrm>
          <a:prstGeom prst="rightArrow">
            <a:avLst>
              <a:gd name="adj1" fmla="val 50000"/>
              <a:gd name="adj2" fmla="val 213033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7"/>
          <p:cNvSpPr/>
          <p:nvPr/>
        </p:nvSpPr>
        <p:spPr>
          <a:xfrm>
            <a:off x="3059280" y="3213000"/>
            <a:ext cx="1223640" cy="287280"/>
          </a:xfrm>
          <a:prstGeom prst="rightArrow">
            <a:avLst>
              <a:gd name="adj1" fmla="val 50000"/>
              <a:gd name="adj2" fmla="val 106485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4"/>
          <p:cNvSpPr/>
          <p:nvPr/>
        </p:nvSpPr>
        <p:spPr>
          <a:xfrm>
            <a:off x="3203640" y="3706920"/>
            <a:ext cx="43164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5"/>
          <p:cNvSpPr/>
          <p:nvPr/>
        </p:nvSpPr>
        <p:spPr>
          <a:xfrm>
            <a:off x="3276720" y="3716280"/>
            <a:ext cx="21564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4356000" y="3716280"/>
            <a:ext cx="50328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7"/>
          <p:cNvSpPr/>
          <p:nvPr/>
        </p:nvSpPr>
        <p:spPr>
          <a:xfrm>
            <a:off x="4427640" y="3716280"/>
            <a:ext cx="28872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5"/>
          <p:cNvSpPr/>
          <p:nvPr/>
        </p:nvSpPr>
        <p:spPr>
          <a:xfrm>
            <a:off x="5508720" y="3716280"/>
            <a:ext cx="79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9b0b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6"/>
          <p:cNvSpPr/>
          <p:nvPr/>
        </p:nvSpPr>
        <p:spPr>
          <a:xfrm>
            <a:off x="5580000" y="371628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7"/>
          <p:cNvSpPr/>
          <p:nvPr/>
        </p:nvSpPr>
        <p:spPr>
          <a:xfrm>
            <a:off x="2771640" y="4365720"/>
            <a:ext cx="3527640" cy="648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 +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0">
            <a:hlinkClick r:id="" action="ppaction://hlinkshowjump?jump=previousslide"/>
          </p:cNvPr>
          <p:cNvSpPr/>
          <p:nvPr/>
        </p:nvSpPr>
        <p:spPr>
          <a:xfrm>
            <a:off x="6804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31">
            <a:hlinkClick r:id="" action="ppaction://hlinkshowjump?jump=nextslide"/>
          </p:cNvPr>
          <p:cNvSpPr/>
          <p:nvPr/>
        </p:nvSpPr>
        <p:spPr>
          <a:xfrm>
            <a:off x="766764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7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500" autoRev="1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20"/>
          <p:cNvSpPr/>
          <p:nvPr/>
        </p:nvSpPr>
        <p:spPr>
          <a:xfrm>
            <a:off x="3564000" y="5589720"/>
            <a:ext cx="2808360" cy="576000"/>
          </a:xfrm>
          <a:prstGeom prst="roundRect">
            <a:avLst>
              <a:gd name="adj" fmla="val 16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684360" y="907920"/>
            <a:ext cx="518292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внодействующая сил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направленных вдоль одной прямой в противоположные стороны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направлена в сторону большей по модулю силы, а её модуль равен разности модулей составляющих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5"/>
          <p:cNvSpPr/>
          <p:nvPr/>
        </p:nvSpPr>
        <p:spPr>
          <a:xfrm>
            <a:off x="4643280" y="4365720"/>
            <a:ext cx="360360" cy="35856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4788000" y="4437000"/>
            <a:ext cx="3456000" cy="216000"/>
          </a:xfrm>
          <a:prstGeom prst="rightArrow">
            <a:avLst>
              <a:gd name="adj1" fmla="val 50000"/>
              <a:gd name="adj2" fmla="val 400000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8"/>
          <p:cNvSpPr/>
          <p:nvPr/>
        </p:nvSpPr>
        <p:spPr>
          <a:xfrm>
            <a:off x="3564000" y="4437000"/>
            <a:ext cx="1224000" cy="216000"/>
          </a:xfrm>
          <a:prstGeom prst="leftArrow">
            <a:avLst>
              <a:gd name="adj1" fmla="val 50000"/>
              <a:gd name="adj2" fmla="val 141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9"/>
          <p:cNvSpPr/>
          <p:nvPr/>
        </p:nvSpPr>
        <p:spPr>
          <a:xfrm>
            <a:off x="4788000" y="4292640"/>
            <a:ext cx="1944720" cy="503280"/>
          </a:xfrm>
          <a:prstGeom prst="rightArrow">
            <a:avLst>
              <a:gd name="adj1" fmla="val 50000"/>
              <a:gd name="adj2" fmla="val 96602"/>
            </a:avLst>
          </a:prstGeom>
          <a:solidFill>
            <a:srgbClr val="e19b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3132000" y="4653000"/>
            <a:ext cx="57636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3203640" y="465300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4"/>
          <p:cNvSpPr/>
          <p:nvPr/>
        </p:nvSpPr>
        <p:spPr>
          <a:xfrm>
            <a:off x="7812000" y="4724280"/>
            <a:ext cx="79236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7885080" y="472428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6"/>
          <p:cNvSpPr/>
          <p:nvPr/>
        </p:nvSpPr>
        <p:spPr>
          <a:xfrm>
            <a:off x="5219640" y="4797360"/>
            <a:ext cx="792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5292720" y="479736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9"/>
          <p:cNvSpPr/>
          <p:nvPr/>
        </p:nvSpPr>
        <p:spPr>
          <a:xfrm>
            <a:off x="3059280" y="5516640"/>
            <a:ext cx="3528720" cy="6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 –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21">
            <a:hlinkClick r:id="" action="ppaction://hlinkshowjump?jump=previousslide"/>
          </p:cNvPr>
          <p:cNvSpPr/>
          <p:nvPr/>
        </p:nvSpPr>
        <p:spPr>
          <a:xfrm>
            <a:off x="6877080" y="6237360"/>
            <a:ext cx="790560" cy="43164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546" h="21600">
                <a:moveTo>
                  <a:pt x="0" y="0"/>
                </a:moveTo>
                <a:lnTo>
                  <a:pt x="39546" y="0"/>
                </a:lnTo>
                <a:lnTo>
                  <a:pt x="39546" y="21600"/>
                </a:lnTo>
                <a:lnTo>
                  <a:pt x="0" y="21600"/>
                </a:lnTo>
                <a:close/>
              </a:path>
              <a:path fill="lightenLess" w="39546" h="21600">
                <a:moveTo>
                  <a:pt x="0" y="0"/>
                </a:moveTo>
                <a:lnTo>
                  <a:pt x="39546" y="0"/>
                </a:lnTo>
                <a:lnTo>
                  <a:pt x="38146" y="1400"/>
                </a:lnTo>
                <a:lnTo>
                  <a:pt x="1400" y="1400"/>
                </a:lnTo>
                <a:close/>
              </a:path>
              <a:path fill="darken" w="39546" h="21600">
                <a:moveTo>
                  <a:pt x="39546" y="0"/>
                </a:moveTo>
                <a:lnTo>
                  <a:pt x="39546" y="21600"/>
                </a:lnTo>
                <a:lnTo>
                  <a:pt x="38146" y="20200"/>
                </a:lnTo>
                <a:lnTo>
                  <a:pt x="38146" y="1400"/>
                </a:lnTo>
                <a:close/>
              </a:path>
              <a:path fill="darkenLess" w="39546" h="21600">
                <a:moveTo>
                  <a:pt x="39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46" y="20200"/>
                </a:lnTo>
                <a:close/>
              </a:path>
              <a:path fill="lighten" w="39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46" h="21600">
                <a:moveTo>
                  <a:pt x="12767" y="10800"/>
                </a:moveTo>
                <a:lnTo>
                  <a:pt x="26779" y="3794"/>
                </a:lnTo>
                <a:lnTo>
                  <a:pt x="26779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22">
            <a:hlinkClick r:id="" action="ppaction://hlinkshowjump?jump=nextslide"/>
          </p:cNvPr>
          <p:cNvSpPr/>
          <p:nvPr/>
        </p:nvSpPr>
        <p:spPr>
          <a:xfrm>
            <a:off x="7740720" y="623736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24988" y="10800"/>
                </a:lnTo>
                <a:lnTo>
                  <a:pt x="10976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1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500" autoRev="1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15"/>
          <p:cNvSpPr/>
          <p:nvPr/>
        </p:nvSpPr>
        <p:spPr>
          <a:xfrm>
            <a:off x="3924360" y="4508640"/>
            <a:ext cx="1655640" cy="718920"/>
          </a:xfrm>
          <a:prstGeom prst="roundRect">
            <a:avLst>
              <a:gd name="adj" fmla="val 16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539640" y="549360"/>
            <a:ext cx="475308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сли к телу приложены дв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вные по модулю и противоположные по направлению силы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то равнодействующая равна нулю, а тело движется прямолинейно и равном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5"/>
          <p:cNvSpPr/>
          <p:nvPr/>
        </p:nvSpPr>
        <p:spPr>
          <a:xfrm>
            <a:off x="2124000" y="3429000"/>
            <a:ext cx="287280" cy="28728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6"/>
          <p:cNvSpPr/>
          <p:nvPr/>
        </p:nvSpPr>
        <p:spPr>
          <a:xfrm>
            <a:off x="2268360" y="3429000"/>
            <a:ext cx="1657440" cy="289080"/>
          </a:xfrm>
          <a:prstGeom prst="rightArrow">
            <a:avLst>
              <a:gd name="adj1" fmla="val 50000"/>
              <a:gd name="adj2" fmla="val 14333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755640" y="3429000"/>
            <a:ext cx="1511280" cy="289080"/>
          </a:xfrm>
          <a:prstGeom prst="leftArrow">
            <a:avLst>
              <a:gd name="adj1" fmla="val 50000"/>
              <a:gd name="adj2" fmla="val 13069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684360" y="3789360"/>
            <a:ext cx="64764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3348000" y="3789360"/>
            <a:ext cx="50328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1"/>
          <p:cNvSpPr/>
          <p:nvPr/>
        </p:nvSpPr>
        <p:spPr>
          <a:xfrm>
            <a:off x="755640" y="378936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2"/>
          <p:cNvSpPr/>
          <p:nvPr/>
        </p:nvSpPr>
        <p:spPr>
          <a:xfrm>
            <a:off x="3419640" y="3789360"/>
            <a:ext cx="21564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3"/>
          <p:cNvSpPr/>
          <p:nvPr/>
        </p:nvSpPr>
        <p:spPr>
          <a:xfrm>
            <a:off x="2916360" y="450864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3564000" y="4581360"/>
            <a:ext cx="2374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6"/>
          <p:cNvSpPr/>
          <p:nvPr/>
        </p:nvSpPr>
        <p:spPr>
          <a:xfrm>
            <a:off x="5940360" y="3500280"/>
            <a:ext cx="1944720" cy="0"/>
          </a:xfrm>
          <a:prstGeom prst="line">
            <a:avLst/>
          </a:prstGeom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7"/>
          <p:cNvSpPr/>
          <p:nvPr/>
        </p:nvSpPr>
        <p:spPr>
          <a:xfrm>
            <a:off x="6732720" y="2997360"/>
            <a:ext cx="576000" cy="504720"/>
          </a:xfrm>
          <a:prstGeom prst="rect">
            <a:avLst/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8"/>
          <p:cNvSpPr/>
          <p:nvPr/>
        </p:nvSpPr>
        <p:spPr>
          <a:xfrm>
            <a:off x="6877080" y="3500280"/>
            <a:ext cx="216000" cy="1008360"/>
          </a:xfrm>
          <a:prstGeom prst="downArrow">
            <a:avLst>
              <a:gd name="adj1" fmla="val 50000"/>
              <a:gd name="adj2" fmla="val 116708"/>
            </a:avLst>
          </a:prstGeom>
          <a:solidFill>
            <a:srgbClr val="f5b123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9"/>
          <p:cNvSpPr/>
          <p:nvPr/>
        </p:nvSpPr>
        <p:spPr>
          <a:xfrm>
            <a:off x="6877080" y="2492280"/>
            <a:ext cx="216000" cy="1008000"/>
          </a:xfrm>
          <a:prstGeom prst="upArrow">
            <a:avLst>
              <a:gd name="adj1" fmla="val 50000"/>
              <a:gd name="adj2" fmla="val 116667"/>
            </a:avLst>
          </a:prstGeom>
          <a:solidFill>
            <a:srgbClr val="00ffcc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0"/>
          <p:cNvSpPr/>
          <p:nvPr/>
        </p:nvSpPr>
        <p:spPr>
          <a:xfrm>
            <a:off x="7236000" y="4005360"/>
            <a:ext cx="647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1"/>
          <p:cNvSpPr/>
          <p:nvPr/>
        </p:nvSpPr>
        <p:spPr>
          <a:xfrm>
            <a:off x="7236000" y="2492280"/>
            <a:ext cx="502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22"/>
          <p:cNvSpPr/>
          <p:nvPr/>
        </p:nvSpPr>
        <p:spPr>
          <a:xfrm>
            <a:off x="7308720" y="2492280"/>
            <a:ext cx="216000" cy="0"/>
          </a:xfrm>
          <a:prstGeom prst="line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23"/>
          <p:cNvSpPr/>
          <p:nvPr/>
        </p:nvSpPr>
        <p:spPr>
          <a:xfrm>
            <a:off x="7308720" y="4076640"/>
            <a:ext cx="2160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24">
            <a:hlinkClick r:id="" action="ppaction://hlinkshowjump?jump=nextslide"/>
          </p:cNvPr>
          <p:cNvSpPr/>
          <p:nvPr/>
        </p:nvSpPr>
        <p:spPr>
          <a:xfrm>
            <a:off x="781200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25">
            <a:hlinkClick r:id="" action="ppaction://hlinkshowjump?jump=previousslide"/>
          </p:cNvPr>
          <p:cNvSpPr/>
          <p:nvPr/>
        </p:nvSpPr>
        <p:spPr>
          <a:xfrm>
            <a:off x="687708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6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2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3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8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4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5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500" autoRev="1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21"/>
          <p:cNvSpPr/>
          <p:nvPr/>
        </p:nvSpPr>
        <p:spPr>
          <a:xfrm flipV="1">
            <a:off x="2195640" y="3068640"/>
            <a:ext cx="2879640" cy="504720"/>
          </a:xfrm>
          <a:prstGeom prst="rightArrow">
            <a:avLst>
              <a:gd name="adj1" fmla="val 50000"/>
              <a:gd name="adj2" fmla="val 142636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8"/>
          <p:cNvSpPr/>
          <p:nvPr/>
        </p:nvSpPr>
        <p:spPr>
          <a:xfrm>
            <a:off x="1116000" y="692280"/>
            <a:ext cx="6551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пределите равнодействующую с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900000" y="1268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1"/>
          <p:cNvSpPr/>
          <p:nvPr/>
        </p:nvSpPr>
        <p:spPr>
          <a:xfrm>
            <a:off x="2700360" y="1700280"/>
            <a:ext cx="216000" cy="28872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2771640" y="1628640"/>
            <a:ext cx="2448000" cy="432000"/>
          </a:xfrm>
          <a:prstGeom prst="rightArrow">
            <a:avLst>
              <a:gd name="adj1" fmla="val 50000"/>
              <a:gd name="adj2" fmla="val 14166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13"/>
          <p:cNvSpPr/>
          <p:nvPr/>
        </p:nvSpPr>
        <p:spPr>
          <a:xfrm>
            <a:off x="2050920" y="1628640"/>
            <a:ext cx="720720" cy="432000"/>
          </a:xfrm>
          <a:prstGeom prst="leftArrow">
            <a:avLst>
              <a:gd name="adj1" fmla="val 50000"/>
              <a:gd name="adj2" fmla="val 41708"/>
            </a:avLst>
          </a:prstGeom>
          <a:solidFill>
            <a:srgbClr val="dddddd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1619280" y="1989000"/>
            <a:ext cx="223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5076720" y="1916280"/>
            <a:ext cx="1295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3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8"/>
          <p:cNvSpPr/>
          <p:nvPr/>
        </p:nvSpPr>
        <p:spPr>
          <a:xfrm>
            <a:off x="90000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19"/>
          <p:cNvSpPr/>
          <p:nvPr/>
        </p:nvSpPr>
        <p:spPr>
          <a:xfrm>
            <a:off x="2124000" y="3213000"/>
            <a:ext cx="144360" cy="21600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20"/>
          <p:cNvSpPr/>
          <p:nvPr/>
        </p:nvSpPr>
        <p:spPr>
          <a:xfrm>
            <a:off x="2195640" y="3068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dddddd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2"/>
          <p:cNvSpPr/>
          <p:nvPr/>
        </p:nvSpPr>
        <p:spPr>
          <a:xfrm>
            <a:off x="1692360" y="3500280"/>
            <a:ext cx="1225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3"/>
          <p:cNvSpPr/>
          <p:nvPr/>
        </p:nvSpPr>
        <p:spPr>
          <a:xfrm>
            <a:off x="5076720" y="3429000"/>
            <a:ext cx="1513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3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4"/>
          <p:cNvSpPr/>
          <p:nvPr/>
        </p:nvSpPr>
        <p:spPr>
          <a:xfrm>
            <a:off x="900000" y="42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25"/>
          <p:cNvSpPr/>
          <p:nvPr/>
        </p:nvSpPr>
        <p:spPr>
          <a:xfrm>
            <a:off x="3492360" y="4653000"/>
            <a:ext cx="216000" cy="28872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27"/>
          <p:cNvSpPr/>
          <p:nvPr/>
        </p:nvSpPr>
        <p:spPr>
          <a:xfrm>
            <a:off x="3564000" y="4581360"/>
            <a:ext cx="1584360" cy="432000"/>
          </a:xfrm>
          <a:prstGeom prst="rightArrow">
            <a:avLst>
              <a:gd name="adj1" fmla="val 50000"/>
              <a:gd name="adj2" fmla="val 91688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8"/>
          <p:cNvSpPr/>
          <p:nvPr/>
        </p:nvSpPr>
        <p:spPr>
          <a:xfrm>
            <a:off x="2124000" y="4581360"/>
            <a:ext cx="1440000" cy="432000"/>
          </a:xfrm>
          <a:prstGeom prst="leftArrow">
            <a:avLst>
              <a:gd name="adj1" fmla="val 50000"/>
              <a:gd name="adj2" fmla="val 8333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9"/>
          <p:cNvSpPr/>
          <p:nvPr/>
        </p:nvSpPr>
        <p:spPr>
          <a:xfrm>
            <a:off x="2340000" y="5084640"/>
            <a:ext cx="1079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2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0"/>
          <p:cNvSpPr/>
          <p:nvPr/>
        </p:nvSpPr>
        <p:spPr>
          <a:xfrm>
            <a:off x="4643280" y="5084640"/>
            <a:ext cx="1297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2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32">
            <a:hlinkClick r:id="" action="ppaction://hlinkshowjump?jump=nextslide"/>
          </p:cNvPr>
          <p:cNvSpPr/>
          <p:nvPr/>
        </p:nvSpPr>
        <p:spPr>
          <a:xfrm>
            <a:off x="7740720" y="6165720"/>
            <a:ext cx="718920" cy="43200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34" h="21600">
                <a:moveTo>
                  <a:pt x="0" y="0"/>
                </a:moveTo>
                <a:lnTo>
                  <a:pt x="35934" y="0"/>
                </a:lnTo>
                <a:lnTo>
                  <a:pt x="35934" y="21600"/>
                </a:lnTo>
                <a:lnTo>
                  <a:pt x="0" y="21600"/>
                </a:lnTo>
                <a:close/>
              </a:path>
              <a:path fill="lightenLess" w="35934" h="21600">
                <a:moveTo>
                  <a:pt x="0" y="0"/>
                </a:moveTo>
                <a:lnTo>
                  <a:pt x="35934" y="0"/>
                </a:lnTo>
                <a:lnTo>
                  <a:pt x="34534" y="1400"/>
                </a:lnTo>
                <a:lnTo>
                  <a:pt x="1400" y="1400"/>
                </a:lnTo>
                <a:close/>
              </a:path>
              <a:path fill="darken" w="35934" h="21600">
                <a:moveTo>
                  <a:pt x="35934" y="0"/>
                </a:moveTo>
                <a:lnTo>
                  <a:pt x="35934" y="21600"/>
                </a:lnTo>
                <a:lnTo>
                  <a:pt x="34534" y="20200"/>
                </a:lnTo>
                <a:lnTo>
                  <a:pt x="34534" y="1400"/>
                </a:lnTo>
                <a:close/>
              </a:path>
              <a:path fill="darkenLess" w="35934" h="21600">
                <a:moveTo>
                  <a:pt x="359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34" y="20200"/>
                </a:lnTo>
                <a:close/>
              </a:path>
              <a:path fill="lighten" w="359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34" h="21600">
                <a:moveTo>
                  <a:pt x="10961" y="3794"/>
                </a:moveTo>
                <a:lnTo>
                  <a:pt x="24974" y="10800"/>
                </a:lnTo>
                <a:lnTo>
                  <a:pt x="10961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33">
            <a:hlinkClick r:id="" action="ppaction://hlinkshowjump?jump=previousslide"/>
          </p:cNvPr>
          <p:cNvSpPr/>
          <p:nvPr/>
        </p:nvSpPr>
        <p:spPr>
          <a:xfrm>
            <a:off x="673272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4" descr="репка"/>
          <p:cNvPicPr/>
          <p:nvPr/>
        </p:nvPicPr>
        <p:blipFill>
          <a:blip r:embed="rId1"/>
          <a:stretch/>
        </p:blipFill>
        <p:spPr>
          <a:xfrm>
            <a:off x="539640" y="404640"/>
            <a:ext cx="4896000" cy="361188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5"/>
          <p:cNvSpPr/>
          <p:nvPr/>
        </p:nvSpPr>
        <p:spPr>
          <a:xfrm>
            <a:off x="1979640" y="422100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1116000" y="4149720"/>
            <a:ext cx="727092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д, взявшись за репку, развивает силу тяги до 600 Н, бабка до 100 Н, внучка до 50 Н, Жучка до 30 Н, кошка до 10 Н и мышка до 2 Н. Чему равна равнодействующая всех сил, направленных по одной прямой в одну и ту же сторону? Справилась бы с репкой эта компания без мышки, если силы, удерживающие репку, равны 791 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7"/>
          <p:cNvSpPr/>
          <p:nvPr/>
        </p:nvSpPr>
        <p:spPr>
          <a:xfrm>
            <a:off x="5940360" y="2852640"/>
            <a:ext cx="2232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omic Sans MS"/>
              </a:rPr>
              <a:t>Решите задач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8">
            <a:hlinkClick r:id="" action="ppaction://hlinkshowjump?jump=nextslide"/>
          </p:cNvPr>
          <p:cNvSpPr/>
          <p:nvPr/>
        </p:nvSpPr>
        <p:spPr>
          <a:xfrm>
            <a:off x="7885080" y="6165720"/>
            <a:ext cx="719280" cy="4302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36102" h="21600">
                <a:moveTo>
                  <a:pt x="0" y="0"/>
                </a:moveTo>
                <a:lnTo>
                  <a:pt x="36102" y="0"/>
                </a:lnTo>
                <a:lnTo>
                  <a:pt x="36102" y="21600"/>
                </a:lnTo>
                <a:lnTo>
                  <a:pt x="0" y="21600"/>
                </a:lnTo>
                <a:close/>
              </a:path>
              <a:path fill="lightenLess" w="36102" h="21600">
                <a:moveTo>
                  <a:pt x="0" y="0"/>
                </a:moveTo>
                <a:lnTo>
                  <a:pt x="36102" y="0"/>
                </a:lnTo>
                <a:lnTo>
                  <a:pt x="34702" y="1400"/>
                </a:lnTo>
                <a:lnTo>
                  <a:pt x="1400" y="1400"/>
                </a:lnTo>
                <a:close/>
              </a:path>
              <a:path fill="darken" w="36102" h="21600">
                <a:moveTo>
                  <a:pt x="36102" y="0"/>
                </a:moveTo>
                <a:lnTo>
                  <a:pt x="36102" y="21600"/>
                </a:lnTo>
                <a:lnTo>
                  <a:pt x="34702" y="20200"/>
                </a:lnTo>
                <a:lnTo>
                  <a:pt x="34702" y="1400"/>
                </a:lnTo>
                <a:close/>
              </a:path>
              <a:path fill="darkenLess" w="36102" h="21600">
                <a:moveTo>
                  <a:pt x="36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702" y="20200"/>
                </a:lnTo>
                <a:close/>
              </a:path>
              <a:path fill="lighten" w="36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102" h="21600">
                <a:moveTo>
                  <a:pt x="11045" y="3794"/>
                </a:moveTo>
                <a:lnTo>
                  <a:pt x="25058" y="10800"/>
                </a:lnTo>
                <a:lnTo>
                  <a:pt x="11045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10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4" descr="парашют"/>
          <p:cNvPicPr/>
          <p:nvPr/>
        </p:nvPicPr>
        <p:blipFill>
          <a:blip r:embed="rId1"/>
          <a:stretch/>
        </p:blipFill>
        <p:spPr>
          <a:xfrm>
            <a:off x="0" y="0"/>
            <a:ext cx="5256360" cy="3941640"/>
          </a:xfrm>
          <a:prstGeom prst="rect">
            <a:avLst/>
          </a:prstGeom>
          <a:ln w="0">
            <a:noFill/>
          </a:ln>
        </p:spPr>
      </p:pic>
      <p:sp>
        <p:nvSpPr>
          <p:cNvPr id="662" name="Text Box 6"/>
          <p:cNvSpPr/>
          <p:nvPr/>
        </p:nvSpPr>
        <p:spPr>
          <a:xfrm>
            <a:off x="2050920" y="4365720"/>
            <a:ext cx="597708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портсмен равномерно спускается на парашюте. Какова сила тяжести, действующая на парашютиста вместе с парашютом? Сила сопротивления воздуха 800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7">
            <a:hlinkClick r:id="" action="ppaction://hlinkshowjump?jump=nextslide"/>
          </p:cNvPr>
          <p:cNvSpPr/>
          <p:nvPr/>
        </p:nvSpPr>
        <p:spPr>
          <a:xfrm>
            <a:off x="788508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8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1"/>
          <p:cNvSpPr/>
          <p:nvPr/>
        </p:nvSpPr>
        <p:spPr>
          <a:xfrm>
            <a:off x="673272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4"/>
          <p:cNvSpPr/>
          <p:nvPr/>
        </p:nvSpPr>
        <p:spPr>
          <a:xfrm>
            <a:off x="1332000" y="476280"/>
            <a:ext cx="676908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omic Sans MS"/>
              </a:rPr>
              <a:t>Благодарю за внимание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5">
            <a:hlinkClick r:id="" action="ppaction://hlinkshowjump?jump=firstslide"/>
          </p:cNvPr>
          <p:cNvSpPr/>
          <p:nvPr/>
        </p:nvSpPr>
        <p:spPr>
          <a:xfrm>
            <a:off x="7524720" y="5805360"/>
            <a:ext cx="934920" cy="576360"/>
          </a:xfrm>
          <a:custGeom>
            <a:avLst/>
            <a:gdLst>
              <a:gd name="textAreaLeft" fmla="*/ 37080 w 934920"/>
              <a:gd name="textAreaRight" fmla="*/ 897840 w 934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29" h="21600">
                <a:moveTo>
                  <a:pt x="0" y="0"/>
                </a:moveTo>
                <a:lnTo>
                  <a:pt x="35029" y="0"/>
                </a:lnTo>
                <a:lnTo>
                  <a:pt x="35029" y="21600"/>
                </a:lnTo>
                <a:lnTo>
                  <a:pt x="0" y="21600"/>
                </a:lnTo>
                <a:close/>
              </a:path>
              <a:path fill="lightenLess" w="35029" h="21600">
                <a:moveTo>
                  <a:pt x="0" y="0"/>
                </a:moveTo>
                <a:lnTo>
                  <a:pt x="35029" y="0"/>
                </a:lnTo>
                <a:lnTo>
                  <a:pt x="33629" y="1400"/>
                </a:lnTo>
                <a:lnTo>
                  <a:pt x="1400" y="1400"/>
                </a:lnTo>
                <a:close/>
              </a:path>
              <a:path fill="darken" w="35029" h="21600">
                <a:moveTo>
                  <a:pt x="35029" y="0"/>
                </a:moveTo>
                <a:lnTo>
                  <a:pt x="35029" y="21600"/>
                </a:lnTo>
                <a:lnTo>
                  <a:pt x="33629" y="20200"/>
                </a:lnTo>
                <a:lnTo>
                  <a:pt x="33629" y="1400"/>
                </a:lnTo>
                <a:close/>
              </a:path>
              <a:path fill="darkenLess" w="35029" h="21600">
                <a:moveTo>
                  <a:pt x="35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29" y="20200"/>
                </a:lnTo>
                <a:close/>
              </a:path>
              <a:path fill="lighten" w="35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29" h="21600">
                <a:moveTo>
                  <a:pt x="17515" y="3837"/>
                </a:moveTo>
                <a:lnTo>
                  <a:pt x="20091" y="6448"/>
                </a:lnTo>
                <a:lnTo>
                  <a:pt x="20091" y="4707"/>
                </a:lnTo>
                <a:lnTo>
                  <a:pt x="21866" y="4707"/>
                </a:lnTo>
                <a:lnTo>
                  <a:pt x="21866" y="8224"/>
                </a:lnTo>
                <a:lnTo>
                  <a:pt x="24478" y="10800"/>
                </a:lnTo>
                <a:lnTo>
                  <a:pt x="22824" y="10800"/>
                </a:lnTo>
                <a:lnTo>
                  <a:pt x="22824" y="17989"/>
                </a:lnTo>
                <a:lnTo>
                  <a:pt x="12205" y="17989"/>
                </a:lnTo>
                <a:lnTo>
                  <a:pt x="12205" y="10800"/>
                </a:lnTo>
                <a:lnTo>
                  <a:pt x="10552" y="10800"/>
                </a:lnTo>
                <a:close/>
              </a:path>
              <a:path fill="darkenLess" w="35029" h="21600">
                <a:moveTo>
                  <a:pt x="20091" y="6448"/>
                </a:moveTo>
                <a:lnTo>
                  <a:pt x="20091" y="4707"/>
                </a:lnTo>
                <a:lnTo>
                  <a:pt x="21866" y="4707"/>
                </a:lnTo>
                <a:lnTo>
                  <a:pt x="21866" y="8224"/>
                </a:lnTo>
                <a:close/>
              </a:path>
              <a:path fill="darkenLess" w="35029" h="21600">
                <a:moveTo>
                  <a:pt x="16592" y="14299"/>
                </a:moveTo>
                <a:lnTo>
                  <a:pt x="18437" y="14299"/>
                </a:lnTo>
                <a:lnTo>
                  <a:pt x="18437" y="17989"/>
                </a:lnTo>
                <a:lnTo>
                  <a:pt x="22824" y="17989"/>
                </a:lnTo>
                <a:lnTo>
                  <a:pt x="22824" y="10800"/>
                </a:lnTo>
                <a:lnTo>
                  <a:pt x="12205" y="10800"/>
                </a:lnTo>
                <a:lnTo>
                  <a:pt x="12205" y="17989"/>
                </a:lnTo>
                <a:lnTo>
                  <a:pt x="16592" y="17989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0:46:43Z</dcterms:created>
  <dc:creator/>
  <dc:description/>
  <dc:language>en-US</dc:language>
  <cp:lastModifiedBy>Пк</cp:lastModifiedBy>
  <dcterms:modified xsi:type="dcterms:W3CDTF">2012-10-28T07:34:04Z</dcterms:modified>
  <cp:revision>26</cp:revision>
  <dc:subject/>
  <dc:title>Урок физики в 7 кл.</dc:title>
</cp:coreProperties>
</file>