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083-232B-45AF-B32F-030783EE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45B-39D8-4FAF-BE49-F1896150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11D852-7FDE-4484-B97B-D9BC6CFD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8A3481-22DE-4061-AA07-EDF7E8CD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83FE64-8F9C-469A-8112-E2B683F0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460198-D85E-4AB0-86BF-084A0FA7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2E058D-804D-4E58-9265-0922A21A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9D09B4-6911-4986-B0A4-2C1B4307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02DB75-9E61-4F6C-85DB-911CBFE6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0AD7D3-4005-4A4B-B8EA-4B728EE2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C1BEE7-C2E8-4DAB-9213-39AA8FA3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5D4F5-7556-4558-9A03-7034B2E1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7E6-4BE1-4A29-843B-5B362D25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1DB5D-5A9F-4BE6-A9C5-509A5F26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36487-1C94-4846-9B36-BBB2E41D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13BEF-78AB-4080-9CDB-31D0D43B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E3A67-8E5B-43D1-92F6-C0FDA9E9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6F4CB-6057-4F95-92C7-AE5A6B2D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DD9C1-F13C-4AF8-B447-30DFFEDD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F147A-3380-4F89-ABD9-328D3A50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09C09-6A7C-4356-B13A-34BA61BE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F5785-90C9-4496-9DC8-00ED7DB1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66816-CD39-4633-B331-E268FCD8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FDE-F13A-47A1-96CD-476F67C5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4DB5E-4BF9-4982-BE62-203DFAB8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57D1D6-85BA-4581-9696-C8664E3A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A066E6-B79B-44CD-8494-EBF1D11F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BE6DF8-B0BE-4018-BD29-D995AFA2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3128F6-5B45-4818-92BB-6FC1F3C6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60CD97-5633-4FBF-A9B9-DDE2D8EB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A4F8D1-7048-4876-85AB-3F9BEE89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824D35-B27F-4198-B60C-9A0BADCB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5D102C-5A32-4EFD-A3F4-26E25438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C98C8F-14CF-4897-8B00-AFECE985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E7AC9-C562-4F0C-8AF9-272B4F4E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92B4B7-FB5D-48E0-A8F2-04112AEF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F6EADF-D5ED-4BEC-A592-3746E2BB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FDF804-78B8-4AAE-943F-C5D236AA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51A2B5-3034-47E7-87AF-D9990988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E766C8-A57B-41C6-B126-D14352FA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838C5C-37B8-4BD3-B79F-9A225A4E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E109D8-6FB6-4C96-B26B-16C0680C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E5FF63-F4EC-4D27-BF3C-56C15B9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29DFE0-0221-4C4A-B800-26A10F21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35C60A-728B-4104-A321-AE176B3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52EF0-EFF0-451F-BF94-F2FE0E41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1D6042-10F6-4D5E-848D-68C5F9F6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7CF89F-B102-429B-9562-5D800D95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F4D991-12F6-4C20-B934-56DB9406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0D6985-0991-466F-A614-BB4EE4F6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81B103-52EF-4C8E-B412-82D33179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80296-33E1-4416-9C66-5C1EE921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67F0C-53AA-4D8B-B0A0-009DFCF4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68624-CA40-4314-BA05-E619E3C9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F9A9A-D550-4AAE-A830-DACD0D14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54675-6DA1-4065-8969-73C2B753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B45-0D77-4D88-8B2A-B5741B2A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DA75B-81B0-4AF0-AF0B-7F0FC57E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17DE9-C304-4985-9851-12794D2D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9CB67-C761-46E1-87D0-D2E18BC1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EC9F6-8189-47EC-92C7-358964FC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84318-D36B-42DF-8891-4B09E943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C342E-0B6D-4D24-8D8B-E1C287D6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E8219-7663-43E2-A957-8985D41B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E1A59-B97E-4C0B-A8CF-7DDA1AA2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599DB-BF37-434E-9286-A6ED617A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9DCB0-7720-4F68-B0C3-B8E9A5DA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10A-D575-4554-9540-16547B2C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528E7-230E-4C75-98F6-9DF81CE7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58D92-CDFD-4EA1-8589-3628AE71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0E905-C69F-444B-BA1F-CBA42AB0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95728-FD18-4EF2-BBEF-BF4884CE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F98B8-3044-4B16-B6B1-B421778E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67273-9BC6-40FB-BB20-F6248883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7DCB7-18EE-4667-8FE1-F15B1967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D98A93-C44E-4885-939D-3C492B5D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8C73A-49E8-4B02-A74C-AE7A0274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127951-4C85-41B8-938E-E9CD325C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C63-0477-48B4-A6BF-F6B9D281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2082C-2CA6-4EAE-9EE5-E3FB0B9F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2AEC2-D085-4F38-86DE-FD561ABD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06DB2-ADE2-469C-A9AE-D2F782EE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14B27-DD1D-4E89-A5AB-6034B07D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CD0DE6-F1C7-48FF-81F2-76C6848A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0E7BC-6C17-41CE-B7F0-EC7AA018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310B9-7262-4A95-A099-B30345C0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9F434-E4CE-4897-A222-2597F955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820AF-9AFB-407D-9CDA-27D17C81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81B44-8160-4732-A825-AA67A188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026-4435-476C-ACB0-CF434ADE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C9C3B-5CAC-4924-9354-D8144073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7EB2B-92A8-4117-B415-7AF7D861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D2EF8-0E95-4C6B-84BE-BA818529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57998C-A6B3-460B-9231-0B184182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D5AAC-1D40-499C-A7F3-502F98B8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9B5E2-8791-44B0-9F78-E988CCD6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E6397-D6C7-44C5-8F9B-93D45E20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974AC-CC4F-40C3-BA5E-F5BF5AE8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56F4D-4E03-4BE5-984C-616BA5E7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2B38F-89E4-43F3-AC6A-15853E26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CDE-DF86-4570-9FBB-B87232A3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E7715-D170-4BAD-9385-890F6D47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BD69B-5C96-443F-A90F-36E0099C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D3EF1-AAD8-4875-B4FC-D7824B3E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EC206-8AEC-46CF-9859-D260AF4F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9A1A4-017E-469C-9CF5-B9691508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A0FC2-82FA-4E15-A197-007E30D5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4087A-FC37-4822-83C4-46A15740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E77D7-A555-4608-9E4D-15AFED34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B847A-DA99-4581-A862-964B2C0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CD050-CE57-45BA-8304-82AFB987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A7C-A3C1-4B3D-882A-62D4A06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E7FC6-EC84-4580-98F8-F23102DB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E3F54-A96D-4E45-A3FF-75BE6BF2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D867C-1B41-4E4C-9516-F66A7246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96DFF-8434-4104-9239-D58A3A81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AE798-126A-4501-8A62-F37A2570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952B0-3143-49C8-9BF2-636343A8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4C119-98D0-41B2-B1DF-7D3CD90E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F338E-508D-4E92-B506-3F261002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7E953-2437-4E4B-8E2F-7024B385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402FA-EDE5-421F-9DCE-B793BB65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EF4-8852-43B3-AB0F-B497DB3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27A81-D88F-431C-BB55-300E320D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F9DD95-2BF3-4874-9DDC-62653F1A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BF208-7CD1-4156-8E8D-0C294F89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B45E6B-92FA-4725-ACAE-868E5B16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DC17DF-DC82-4E18-9A18-402A8155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E9A664-01E4-4705-A6E6-BC3C8101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B97311-47E0-4F38-BD19-8E77761E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B3F9B5-50D5-4CA8-B3BD-FC6A4E2A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1ACCCC-705D-4B24-B897-1636485A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AA35FA-4D60-4793-90DC-98D4E234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306-25B3-45DC-9CAC-AEDF370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9A9F6A-9307-4AAA-B317-931E7061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8DFF8F-5218-4E34-B5C8-499894F7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2D6913-19CA-4D25-9BE8-2F5E383C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7BDD55-72FC-4CE3-AE21-3A4EA4F3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A52F8D-D41A-455B-868A-08478CA3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D9E375-FA5F-4B5A-96BB-7B727F87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80163-882A-4CC1-885C-F40EFD24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2021A3-BA98-45FF-8BBA-5990414B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33959D-E30C-4CE9-8231-014F1293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BD0E9-E596-4FC6-AE65-5D1B20A9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BC1E-DC07-4F56-8D8F-61DD3D911157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2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7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4419720" y="1523880"/>
            <a:ext cx="426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4419720" y="5637240"/>
            <a:ext cx="426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A2C0-FEB5-4730-AADC-9CAFE3D8D6C1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76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2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2F70-EF67-4E39-A262-1F3BCE7F8A12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524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7F33-D5B2-41A3-93DD-3A8C5A667DD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9_02.jpg"/>
          <p:cNvPicPr/>
          <p:nvPr/>
        </p:nvPicPr>
        <p:blipFill>
          <a:blip r:embed="rId2"/>
          <a:stretch/>
        </p:blipFill>
        <p:spPr>
          <a:xfrm>
            <a:off x="7753320" y="0"/>
            <a:ext cx="74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_05.jpg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6" name="Rectangle 9"/>
            <p:cNvSpPr/>
            <p:nvPr/>
          </p:nvSpPr>
          <p:spPr>
            <a:xfrm>
              <a:off x="7813800" y="6630840"/>
              <a:ext cx="1330200" cy="22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134040" y="6630840"/>
              <a:ext cx="1609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6630840"/>
              <a:ext cx="6095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1000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924680" y="6609960"/>
            <a:ext cx="119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6685-6ACE-4E90-B854-08640435FAD4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457200" y="6609960"/>
            <a:ext cx="560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92" name="Rectangle 3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52E0-3079-4EC0-ACD5-2C8CA9CA0447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1438200" y="6629400"/>
            <a:ext cx="7705800" cy="228600"/>
            <a:chOff x="1438200" y="6629400"/>
            <a:chExt cx="7705800" cy="228600"/>
          </a:xfrm>
        </p:grpSpPr>
        <p:sp>
          <p:nvSpPr>
            <p:cNvPr id="140" name="Rectangle 26"/>
            <p:cNvSpPr/>
            <p:nvPr/>
          </p:nvSpPr>
          <p:spPr>
            <a:xfrm>
              <a:off x="8763120" y="662940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7142400" y="662940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1438200" y="6629400"/>
              <a:ext cx="56642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9_01.jpg"/>
          <p:cNvPicPr/>
          <p:nvPr/>
        </p:nvPicPr>
        <p:blipFill>
          <a:blip r:embed="rId2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vert_bar_02.png"/>
          <p:cNvPicPr/>
          <p:nvPr/>
        </p:nvPicPr>
        <p:blipFill>
          <a:blip r:embed="rId3"/>
          <a:stretch/>
        </p:blipFill>
        <p:spPr>
          <a:xfrm>
            <a:off x="1365120" y="0"/>
            <a:ext cx="730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162560" y="6610320"/>
            <a:ext cx="1523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741880" y="6610320"/>
            <a:ext cx="38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A3ED-3207-4363-B53B-850EE11368E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1523880" y="6610320"/>
            <a:ext cx="5562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19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4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F76C-9F96-44F5-9092-A063C2A849F3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5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38" name="Rectangle 1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06E9-DE22-4D4C-93C4-3442200855B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2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1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8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DA2E-7BA1-43B0-8306-B15094A952D7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32" name="Rectangle 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9F15-F32E-4AED-8CF1-49BC6C03B2C5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3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8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6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B91B-61D5-4387-9866-B4AF28B92C0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27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рок физики в 7 кл.</a:t>
            </a:r>
            <a:endParaRPr b="0" lang="en-US" sz="4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838920" cy="1512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Сложение двух сил, направленных по одной прямой. Равнодействующая сил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556000" y="4150080"/>
            <a:ext cx="525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Ладанова И.В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МКОУ «Верх-Жилинская ООШ»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667640" y="595008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1552" y="3794"/>
                </a:moveTo>
                <a:lnTo>
                  <a:pt x="25565" y="10800"/>
                </a:lnTo>
                <a:lnTo>
                  <a:pt x="11552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>
            <a:hlinkClick r:id="" action="ppaction://hlinkshowjump?jump=previousslide"/>
          </p:cNvPr>
          <p:cNvSpPr/>
          <p:nvPr/>
        </p:nvSpPr>
        <p:spPr>
          <a:xfrm>
            <a:off x="6588000" y="5950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2" h="21600">
                <a:moveTo>
                  <a:pt x="14624" y="10800"/>
                </a:moveTo>
                <a:lnTo>
                  <a:pt x="28637" y="3794"/>
                </a:lnTo>
                <a:lnTo>
                  <a:pt x="28637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76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5280" y="189000"/>
            <a:ext cx="504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ла, которая производит на тело такое же действие, как несколько одновременно действующих сил, называется равнодействующей эти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140360" y="3645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значение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7380360" y="3645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52472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10800"/>
                </a:moveTo>
                <a:lnTo>
                  <a:pt x="37318" y="3794"/>
                </a:lnTo>
                <a:lnTo>
                  <a:pt x="37318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116000" y="4292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1547640" y="4653000"/>
            <a:ext cx="3240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диница измерения: </a:t>
            </a:r>
            <a:r>
              <a:rPr b="1" lang="ru-RU" sz="28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9"/>
          <p:cNvSpPr/>
          <p:nvPr/>
        </p:nvSpPr>
        <p:spPr>
          <a:xfrm>
            <a:off x="2411280" y="422100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059280" y="3141720"/>
            <a:ext cx="3817800" cy="431640"/>
          </a:xfrm>
          <a:prstGeom prst="rightArrow">
            <a:avLst>
              <a:gd name="adj1" fmla="val 50000"/>
              <a:gd name="adj2" fmla="val 221122"/>
            </a:avLst>
          </a:prstGeom>
          <a:solidFill>
            <a:srgbClr val="e19b0b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9640" y="189000"/>
            <a:ext cx="316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одну сторон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равна сумме этих сил и направлена в ту же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916360" y="3213000"/>
            <a:ext cx="21420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132000" y="3213000"/>
            <a:ext cx="2448000" cy="287280"/>
          </a:xfrm>
          <a:prstGeom prst="rightArrow">
            <a:avLst>
              <a:gd name="adj1" fmla="val 50000"/>
              <a:gd name="adj2" fmla="val 213033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3059280" y="321300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203640" y="3706920"/>
            <a:ext cx="431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3276720" y="371628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356000" y="371628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427640" y="3716280"/>
            <a:ext cx="28872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508720" y="3716280"/>
            <a:ext cx="79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71640" y="4365720"/>
            <a:ext cx="3527640" cy="64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+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1">
            <a:hlinkClick r:id="" action="ppaction://hlinkshowjump?jump=nextslide"/>
          </p:cNvPr>
          <p:cNvSpPr/>
          <p:nvPr/>
        </p:nvSpPr>
        <p:spPr>
          <a:xfrm>
            <a:off x="766764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"/>
          <p:cNvSpPr/>
          <p:nvPr/>
        </p:nvSpPr>
        <p:spPr>
          <a:xfrm>
            <a:off x="3564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4360" y="907920"/>
            <a:ext cx="5182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противополож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направлена в сторону большей по модулю силы, а её модуль равен разности модулей составляющ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"/>
          <p:cNvSpPr/>
          <p:nvPr/>
        </p:nvSpPr>
        <p:spPr>
          <a:xfrm>
            <a:off x="4643280" y="4365720"/>
            <a:ext cx="360360" cy="35856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4788000" y="4437000"/>
            <a:ext cx="3456000" cy="2160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564000" y="443700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88000" y="429264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e19b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132000" y="4653000"/>
            <a:ext cx="576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3203640" y="4653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7812000" y="47242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219640" y="4797360"/>
            <a:ext cx="79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5292720" y="4797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059280" y="5516640"/>
            <a:ext cx="352872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–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1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46" h="21600">
                <a:moveTo>
                  <a:pt x="12767" y="10800"/>
                </a:moveTo>
                <a:lnTo>
                  <a:pt x="26779" y="3794"/>
                </a:lnTo>
                <a:lnTo>
                  <a:pt x="26779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5"/>
          <p:cNvSpPr/>
          <p:nvPr/>
        </p:nvSpPr>
        <p:spPr>
          <a:xfrm>
            <a:off x="3924360" y="4508640"/>
            <a:ext cx="1655640" cy="71892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49360"/>
            <a:ext cx="47530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к телу приложены д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вные по модулю и противоположные по направлению сил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то равнодействующая равна нулю, а тело движется прямолинейно и равн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124000" y="3429000"/>
            <a:ext cx="28728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2268360" y="3429000"/>
            <a:ext cx="1657440" cy="289080"/>
          </a:xfrm>
          <a:prstGeom prst="rightArrow">
            <a:avLst>
              <a:gd name="adj1" fmla="val 50000"/>
              <a:gd name="adj2" fmla="val 14333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755640" y="3429000"/>
            <a:ext cx="1511280" cy="289080"/>
          </a:xfrm>
          <a:prstGeom prst="leftArrow">
            <a:avLst>
              <a:gd name="adj1" fmla="val 50000"/>
              <a:gd name="adj2" fmla="val 13069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84360" y="3789360"/>
            <a:ext cx="647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3348000" y="378936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755640" y="3789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3419640" y="378936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291636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64000" y="4581360"/>
            <a:ext cx="237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6"/>
          <p:cNvSpPr/>
          <p:nvPr/>
        </p:nvSpPr>
        <p:spPr>
          <a:xfrm>
            <a:off x="5940360" y="3500280"/>
            <a:ext cx="1944720" cy="0"/>
          </a:xfrm>
          <a:prstGeom prst="line">
            <a:avLst/>
          </a:prstGeom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6732720" y="2997360"/>
            <a:ext cx="576000" cy="504720"/>
          </a:xfrm>
          <a:prstGeom prst="rect">
            <a:avLst/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6877080" y="350028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5b123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9"/>
          <p:cNvSpPr/>
          <p:nvPr/>
        </p:nvSpPr>
        <p:spPr>
          <a:xfrm>
            <a:off x="6877080" y="24922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ffcc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236000" y="4005360"/>
            <a:ext cx="64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236000" y="2492280"/>
            <a:ext cx="502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2"/>
          <p:cNvSpPr/>
          <p:nvPr/>
        </p:nvSpPr>
        <p:spPr>
          <a:xfrm>
            <a:off x="7308720" y="2492280"/>
            <a:ext cx="216000" cy="0"/>
          </a:xfrm>
          <a:prstGeom prst="line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7308720" y="407664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4">
            <a:hlinkClick r:id="" action="ppaction://hlinkshowjump?jump=nextslide"/>
          </p:cNvPr>
          <p:cNvSpPr/>
          <p:nvPr/>
        </p:nvSpPr>
        <p:spPr>
          <a:xfrm>
            <a:off x="781200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5">
            <a:hlinkClick r:id="" action="ppaction://hlinkshowjump?jump=previousslide"/>
          </p:cNvPr>
          <p:cNvSpPr/>
          <p:nvPr/>
        </p:nvSpPr>
        <p:spPr>
          <a:xfrm>
            <a:off x="687708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1"/>
          <p:cNvSpPr/>
          <p:nvPr/>
        </p:nvSpPr>
        <p:spPr>
          <a:xfrm flipV="1">
            <a:off x="2195640" y="3068640"/>
            <a:ext cx="2879640" cy="504720"/>
          </a:xfrm>
          <a:prstGeom prst="rightArrow">
            <a:avLst>
              <a:gd name="adj1" fmla="val 50000"/>
              <a:gd name="adj2" fmla="val 142636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116000" y="692280"/>
            <a:ext cx="65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е равнодействующую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900000" y="126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2700360" y="170028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771640" y="1628640"/>
            <a:ext cx="2448000" cy="432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050920" y="162864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619280" y="1989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5076720" y="191628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900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9"/>
          <p:cNvSpPr/>
          <p:nvPr/>
        </p:nvSpPr>
        <p:spPr>
          <a:xfrm>
            <a:off x="2124000" y="3213000"/>
            <a:ext cx="144360" cy="21600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219564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692360" y="3500280"/>
            <a:ext cx="122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5076720" y="3429000"/>
            <a:ext cx="151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900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3492360" y="465300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3564000" y="4581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124000" y="458136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340000" y="508464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643280" y="5084640"/>
            <a:ext cx="129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2">
            <a:hlinkClick r:id="" action="ppaction://hlinkshowjump?jump=nextslide"/>
          </p:cNvPr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673272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репка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611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979640" y="422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6000" y="4149720"/>
            <a:ext cx="7270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д, взявшись за репку, развивает силу тяги до 600 Н, бабка до 100 Н, внучка до 50 Н, Жучка до 30 Н, кошка до 10 Н и мышка до 2 Н. Чему равна равнодействующая всех сил, направленных по одной прямой в одну и ту же сторону? Справилась бы с репкой эта компания без мышки, если силы, удерживающие репку, равны 791 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940360" y="2852640"/>
            <a:ext cx="223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02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6102" h="21600">
                <a:moveTo>
                  <a:pt x="0" y="0"/>
                </a:moveTo>
                <a:lnTo>
                  <a:pt x="36102" y="0"/>
                </a:lnTo>
                <a:lnTo>
                  <a:pt x="36102" y="21600"/>
                </a:lnTo>
                <a:lnTo>
                  <a:pt x="0" y="21600"/>
                </a:lnTo>
                <a:close/>
              </a:path>
              <a:path fill="lightenLess" w="36102" h="21600">
                <a:moveTo>
                  <a:pt x="0" y="0"/>
                </a:moveTo>
                <a:lnTo>
                  <a:pt x="36102" y="0"/>
                </a:lnTo>
                <a:lnTo>
                  <a:pt x="34702" y="1400"/>
                </a:lnTo>
                <a:lnTo>
                  <a:pt x="1400" y="1400"/>
                </a:lnTo>
                <a:close/>
              </a:path>
              <a:path fill="darken" w="36102" h="21600">
                <a:moveTo>
                  <a:pt x="36102" y="0"/>
                </a:moveTo>
                <a:lnTo>
                  <a:pt x="36102" y="21600"/>
                </a:lnTo>
                <a:lnTo>
                  <a:pt x="34702" y="20200"/>
                </a:lnTo>
                <a:lnTo>
                  <a:pt x="34702" y="1400"/>
                </a:lnTo>
                <a:close/>
              </a:path>
              <a:path fill="darkenLess" w="36102" h="21600">
                <a:moveTo>
                  <a:pt x="3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2" y="20200"/>
                </a:lnTo>
                <a:close/>
              </a:path>
              <a:path fill="lighten" w="3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2" h="21600">
                <a:moveTo>
                  <a:pt x="11045" y="3794"/>
                </a:moveTo>
                <a:lnTo>
                  <a:pt x="25058" y="10800"/>
                </a:lnTo>
                <a:lnTo>
                  <a:pt x="1104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парашют"/>
          <p:cNvPicPr/>
          <p:nvPr/>
        </p:nvPicPr>
        <p:blipFill>
          <a:blip r:embed="rId1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6"/>
          <p:cNvSpPr/>
          <p:nvPr/>
        </p:nvSpPr>
        <p:spPr>
          <a:xfrm>
            <a:off x="2050920" y="4365720"/>
            <a:ext cx="5977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ртсмен равномерно спускается на парашюте. Какова сила тяжести, действующая на парашютиста вместе с парашютом? Сила сопротивления воздуха 8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732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32000" y="476280"/>
            <a:ext cx="6769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mic Sans MS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firstslide"/>
          </p:cNvPr>
          <p:cNvSpPr/>
          <p:nvPr/>
        </p:nvSpPr>
        <p:spPr>
          <a:xfrm>
            <a:off x="7524720" y="5805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7515" y="3837"/>
                </a:moveTo>
                <a:lnTo>
                  <a:pt x="20091" y="6448"/>
                </a:ln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lnTo>
                  <a:pt x="24478" y="10800"/>
                </a:lnTo>
                <a:lnTo>
                  <a:pt x="22824" y="10800"/>
                </a:lnTo>
                <a:lnTo>
                  <a:pt x="22824" y="17989"/>
                </a:lnTo>
                <a:lnTo>
                  <a:pt x="12205" y="17989"/>
                </a:lnTo>
                <a:lnTo>
                  <a:pt x="12205" y="10800"/>
                </a:lnTo>
                <a:lnTo>
                  <a:pt x="10552" y="10800"/>
                </a:lnTo>
                <a:close/>
              </a:path>
              <a:path fill="darkenLess" w="35029" h="21600">
                <a:moveTo>
                  <a:pt x="20091" y="6448"/>
                </a:move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close/>
              </a:path>
              <a:path fill="darkenLess" w="35029" h="21600">
                <a:moveTo>
                  <a:pt x="16592" y="14299"/>
                </a:moveTo>
                <a:lnTo>
                  <a:pt x="18437" y="14299"/>
                </a:lnTo>
                <a:lnTo>
                  <a:pt x="18437" y="17989"/>
                </a:lnTo>
                <a:lnTo>
                  <a:pt x="22824" y="17989"/>
                </a:lnTo>
                <a:lnTo>
                  <a:pt x="22824" y="10800"/>
                </a:lnTo>
                <a:lnTo>
                  <a:pt x="12205" y="10800"/>
                </a:lnTo>
                <a:lnTo>
                  <a:pt x="12205" y="17989"/>
                </a:lnTo>
                <a:lnTo>
                  <a:pt x="16592" y="17989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6:43Z</dcterms:created>
  <dc:creator/>
  <dc:description/>
  <dc:language>en-US</dc:language>
  <cp:lastModifiedBy>Пк</cp:lastModifiedBy>
  <dcterms:modified xsi:type="dcterms:W3CDTF">2012-10-28T07:34:04Z</dcterms:modified>
  <cp:revision>26</cp:revision>
  <dc:subject/>
  <dc:title>Урок физики в 7 кл.</dc:title>
</cp:coreProperties>
</file>