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0.png" ContentType="image/png"/>
  <Override PartName="/ppt/media/image14.jpeg" ContentType="image/jpeg"/>
  <Override PartName="/ppt/media/image9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8C35-F200-4867-8115-8E3384781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A2BF-A5F0-4EE7-A6EB-51F8CDA3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9D825A-F56E-43AE-A613-CC84CE11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E59BC9-1091-45B0-A3CD-2504288B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702241-B91E-4881-BBD4-9E6A5DA2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D0582F-C1C7-4D3E-911B-D32929FA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808694-7B37-4973-91D8-DA64B059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456686-8055-4DD3-8A5E-5787CAB1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A8790C-80E6-4B79-9BD8-C31804CC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47B0E9-581B-4A10-9DC9-9DCF1C59F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AF7847-41FE-4E30-AFB7-E99AFCF54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7774C2-D430-4CED-921C-5DC3C4AE3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4A76-8B74-48A1-9EEA-4B2C76006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8866D-5717-47C3-A7D2-ECB5289D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3B4BA7-E514-4849-A11B-B842CB74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55F8CB-263B-48CB-9905-8E11235F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4D15FC-D62F-464C-94DF-D6E103FD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FAFB6-1BDE-42E0-8AF5-9C1A0246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8160A4-93F9-4B6B-92D9-6A4C0DC4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EABA9F-8F52-4165-BAC5-FAAECC8A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AD661-4204-432C-8FDB-EED3C2E7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28E5DF-EEE0-4A2E-8B73-CDCDA93F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363A7E-6FBE-4FA6-B9B6-D5A23A663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0499-F835-4C50-889D-E9B184B58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3BEDE9-E09D-4688-B90B-9EB97756C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C495762-87BA-49A0-9CBD-A82E2077E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784566-74E0-4D1F-9321-439C67C8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37613A6-D2F2-4692-BC0A-9728E913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70CCB16-B618-4162-B7CA-B41E1BE6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B3F956-9EB8-4B1E-B98D-1EABE5C5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D02460F-70B7-4AE0-B374-3AD7602D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28EDD7-DBF1-4E51-ADAF-2B0E1E8A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BC2F67F-63A6-470F-9FDE-56AFC704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05D938A-131F-4851-A4C6-75820D1E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35745-BB7C-49B2-9E26-F05CB23BF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26827DD-2FCC-47C6-BCB1-F7640A74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2FF1E5-5E8C-4850-826F-E91CFB80A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49E1E63-7C25-44E1-8818-492836A50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31F0827-2DA6-4392-91A0-72F9B9B14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3537BE4-DF71-409D-A794-21FCF1A4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1EE41CE-FA5D-4C04-9BB5-E3C052978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BC31446-DF7D-4307-8D04-535F3052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C027E4E-8AF3-4E0B-B7DA-7B0BE7FE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57DE28E-3399-46F7-9F74-9D5673B3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5009769-9152-4AA0-B5CC-D4B4BE90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7CCF8-0A20-47C1-A1BA-A20B55F8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5729118-8C02-4BA4-B937-CE5F2EE8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A379C9D-00B2-45FB-9249-C87BAF95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3CE8BD9-5304-445A-854D-E8DB65AF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E2734B0-E993-4540-9677-614CF412D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209C9FE-21DC-4B79-8BF4-7D4BD9A84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DB672-528C-477F-ACC6-4F8AF22C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DA4DA-750F-414E-993B-E46D8693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E0AC0-6356-48CA-AD7A-6E3B3159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F3435-5D87-492C-939D-01564DB4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B78F6-994F-48F0-8AE0-202832A6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A4ED-3F4B-4709-9020-13E59C16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7C8669-D1F2-4563-AFDC-5A0F08B8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DD181-7D0D-47CD-8E2C-682EF5FD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D11D5-F6AB-41CA-A88B-0E797E92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9164B-DCE0-4784-8962-34CF6727A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F41D3-D490-434F-9F37-214F1DF5A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EF2517-82F8-4F48-8DA0-D5DD1BED9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A9AB09-18A5-4DFC-9B78-6A4738B5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01ECC1-27B4-4136-996E-00C19C92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4899BE-FDDF-4B9A-B024-D0DFFD33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2E0E66-25F7-49A8-9D60-B621E2B8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E940-4164-4239-BE22-E9DEDC79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E73DED-9348-4013-BBD0-6D682893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C39BC8-ADB9-4077-A959-4CD533B0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3C9EA9-B3B5-4DA8-974B-F448202E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EF6899-0EBB-4800-81E0-05CA1A57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84ADD3-8382-4B7F-9084-E76F667D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7F9D0F-AA98-4746-BEF7-5C141296F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C312B7-E8F8-46D0-AFAC-98FC67F75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E754CC-1955-4CF8-977B-9D35F567B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F98CC8-C5D6-4ACC-A8AC-0B6F4C06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32B8BA-22FE-4EA4-BBD1-2579FF6E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34C7-3E09-4C20-ADE6-F98B113F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74963D-6498-4793-9E3F-416FB19B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9EBF3D-DC3F-4FF5-9956-E74FDB37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0BF2B6-09A3-4521-A2AB-78007BF2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41E0B2-19CD-4605-936A-C7E60F3E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0BD98A-6392-4D2C-8330-A0DAA274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56C613-0D08-4192-A7B4-02ACA85A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945F6C-8CDA-41CE-B592-A441E283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6007FC-116D-49AF-A602-5FDE132E6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064557-0B8D-4519-A5AD-630E08771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38B961-8B0B-4C05-8B84-73F042300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1DBC-0086-4625-90B1-69CFE335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2D228C-3B02-4A5A-BDFE-8EC0E64F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BCFCC1-FCBA-4C38-88AD-4AC59138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729020-D701-4994-A43F-E7DFDF49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CB0289-3B61-40C0-A38B-DA05C11D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666B2B-7002-45BF-AF7A-47FF5FDA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10A6D7-6A19-4BCE-8D3A-7C8DF4F3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C26233-2466-4A0C-969D-D87CAD88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3BE3F7-4756-4E14-9E02-3DDFE1F6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216250-106D-498F-9C09-F938899E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78B6BA-36B3-4DAA-98B5-EF5861D8A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C09A-8098-4E81-A118-7E73B490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0C2D36-5FA2-479A-832D-F0F6EDC14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656C86-3598-422E-A566-220E545E1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E965BC-60D3-43EE-A212-DCFC4BA9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96B22D-591E-4C83-877A-A450D965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7E2FC7-7E0F-47E0-9249-F1589BA0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A621FA-D98E-47E8-8FAA-420A02C6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9C8E53-F705-4C37-BC59-BB73B151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BFD78A-F4B1-4BA9-B479-63DC8675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988FED-F675-4E50-82D7-9E33964E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169EAA-80AB-4B27-A1DC-DF98F5E1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D4A5-0AD6-4CCD-ABDD-6FA0A087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4BB4D3-B10F-4E62-9EE7-C4AC4098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FA4ED7-E751-46FC-AC7E-0051E0FA9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7618A6-088A-49DD-A818-6451AC33A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1DD767-3D19-497D-8E9C-8ACAEFDB3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BD5D6F-5B5E-45D9-B921-C9113212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F22EC7-2D58-4810-97B5-A6966F44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353C8E-CF26-47EC-A285-22BE61EA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EF87E4-A13D-4E2F-BEF3-97A5783C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6ECF6E-9236-4C78-B7F4-47CFA871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FC8E46-DF1A-4FFE-A652-E4FF01D3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2746-30E7-41E1-95D8-EF21971C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1E5F73-0BC0-4079-9148-B7E5ABD2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58F520-FE78-4779-9D63-1E6C7CE2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19E59F-85B7-494D-8DB0-82E2EEC0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5AEFED-3670-4CDD-847E-601C6652E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2D347E-735A-42E0-88C6-08D24A597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1AF532-3B6D-4E33-89D4-A3324C998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5BD4D0-396F-46F7-8969-4E7B32BC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290D1B-4708-4C0C-AF11-CE6227B3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D98E45-9DD3-430A-8E48-BFC7D10D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D3E3E1-3882-486D-B4BB-DCCBFDF1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C61A-A0F8-4AB0-8C3E-0EF01511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92CF12-A0B6-4AD1-9007-95270DAE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CDED35-A3F1-41A7-B38B-EE1C9617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88D70A-629A-4CFB-B5CC-3992744C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0227F0-40EC-46EF-9C9D-8CA663C2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B5D24B-A818-4C7D-8063-204652B0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1AD192-2690-45A9-9DD4-860DD13D4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9D64D5-0A19-467F-B474-4FEC1F36B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14519D-8BA4-4E4E-A255-EB2965846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C7AE46-6D60-473E-A8E6-6C1C84CC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FC9F64-CB33-4B41-81AF-F2AF70AE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EC80-059C-4D24-80E2-8B53E22F709D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5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426" name="Rectangle 12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3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4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Picture 7" descr="4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8" descr="bar_06.png"/>
          <p:cNvPicPr/>
          <p:nvPr/>
        </p:nvPicPr>
        <p:blipFill>
          <a:blip r:embed="rId3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sp>
        <p:nvSpPr>
          <p:cNvPr id="431" name="Straight Connector 9"/>
          <p:cNvSpPr/>
          <p:nvPr/>
        </p:nvSpPr>
        <p:spPr>
          <a:xfrm>
            <a:off x="4419720" y="1523880"/>
            <a:ext cx="426708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10"/>
          <p:cNvSpPr/>
          <p:nvPr/>
        </p:nvSpPr>
        <p:spPr>
          <a:xfrm>
            <a:off x="4419720" y="5637240"/>
            <a:ext cx="42670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853A-F60C-44CC-BF7E-6BD435F78836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10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476" name="Rectangle 11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2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20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9" name="Picture 10" descr="bar_06.png"/>
          <p:cNvPicPr/>
          <p:nvPr/>
        </p:nvPicPr>
        <p:blipFill>
          <a:blip r:embed="rId2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2_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sldNum" idx="32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66AB-99A6-4F36-B959-9B76B5A3CB6C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ftr" idx="33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Group 10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524" name="Rectangle 11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12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20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7" name="Picture 10" descr="bar_06.png"/>
          <p:cNvPicPr/>
          <p:nvPr/>
        </p:nvPicPr>
        <p:blipFill>
          <a:blip r:embed="rId2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3" descr="2_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4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sldNum" idx="35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577F-A65A-4A0A-912B-730911FB8BFA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6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9_02.jpg"/>
          <p:cNvPicPr/>
          <p:nvPr/>
        </p:nvPicPr>
        <p:blipFill>
          <a:blip r:embed="rId2"/>
          <a:stretch/>
        </p:blipFill>
        <p:spPr>
          <a:xfrm>
            <a:off x="7753320" y="0"/>
            <a:ext cx="745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1_05.jpg"/>
          <p:cNvPicPr/>
          <p:nvPr/>
        </p:nvPicPr>
        <p:blipFill>
          <a:blip r:embed="rId3"/>
          <a:stretch/>
        </p:blipFill>
        <p:spPr>
          <a:xfrm>
            <a:off x="7810560" y="0"/>
            <a:ext cx="13334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17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46" name="Rectangle 9"/>
            <p:cNvSpPr/>
            <p:nvPr/>
          </p:nvSpPr>
          <p:spPr>
            <a:xfrm>
              <a:off x="7813800" y="6630840"/>
              <a:ext cx="1330200" cy="22860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0"/>
            <p:cNvSpPr/>
            <p:nvPr/>
          </p:nvSpPr>
          <p:spPr>
            <a:xfrm>
              <a:off x="6134040" y="6630840"/>
              <a:ext cx="1609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0" y="6630840"/>
              <a:ext cx="6095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21000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7924680" y="6609960"/>
            <a:ext cx="119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4E87-8972-49EC-8C12-FE978B86116E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457200" y="6609960"/>
            <a:ext cx="560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20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92" name="Rectangle 31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32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33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Picture 12" descr="bar_06.png"/>
          <p:cNvPicPr/>
          <p:nvPr/>
        </p:nvPicPr>
        <p:blipFill>
          <a:blip r:embed="rId2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2_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2205-F985-4A57-A715-FD6A9B19D276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22"/>
          <p:cNvGrpSpPr/>
          <p:nvPr/>
        </p:nvGrpSpPr>
        <p:grpSpPr>
          <a:xfrm>
            <a:off x="1438200" y="6629400"/>
            <a:ext cx="7705800" cy="228600"/>
            <a:chOff x="1438200" y="6629400"/>
            <a:chExt cx="7705800" cy="228600"/>
          </a:xfrm>
        </p:grpSpPr>
        <p:sp>
          <p:nvSpPr>
            <p:cNvPr id="140" name="Rectangle 26"/>
            <p:cNvSpPr/>
            <p:nvPr/>
          </p:nvSpPr>
          <p:spPr>
            <a:xfrm>
              <a:off x="8763120" y="662940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7"/>
            <p:cNvSpPr/>
            <p:nvPr/>
          </p:nvSpPr>
          <p:spPr>
            <a:xfrm>
              <a:off x="7142400" y="662940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28"/>
            <p:cNvSpPr/>
            <p:nvPr/>
          </p:nvSpPr>
          <p:spPr>
            <a:xfrm>
              <a:off x="1438200" y="6629400"/>
              <a:ext cx="56642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Picture 9" descr="9_01.jpg"/>
          <p:cNvPicPr/>
          <p:nvPr/>
        </p:nvPicPr>
        <p:blipFill>
          <a:blip r:embed="rId2"/>
          <a:stretch/>
        </p:blipFill>
        <p:spPr>
          <a:xfrm>
            <a:off x="0" y="0"/>
            <a:ext cx="136368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9" descr="vert_bar_02.png"/>
          <p:cNvPicPr/>
          <p:nvPr/>
        </p:nvPicPr>
        <p:blipFill>
          <a:blip r:embed="rId3"/>
          <a:stretch/>
        </p:blipFill>
        <p:spPr>
          <a:xfrm>
            <a:off x="1365120" y="0"/>
            <a:ext cx="7308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7162560" y="6610320"/>
            <a:ext cx="1523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11"/>
          </p:nvPr>
        </p:nvSpPr>
        <p:spPr>
          <a:xfrm>
            <a:off x="8741880" y="6610320"/>
            <a:ext cx="38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BEFF-18AC-4681-A9DD-767C2A8FDE99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12"/>
          </p:nvPr>
        </p:nvSpPr>
        <p:spPr>
          <a:xfrm>
            <a:off x="1523880" y="6610320"/>
            <a:ext cx="5562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2" descr="bar_06.png"/>
          <p:cNvPicPr/>
          <p:nvPr/>
        </p:nvPicPr>
        <p:blipFill>
          <a:blip r:embed="rId2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3_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grpSp>
        <p:nvGrpSpPr>
          <p:cNvPr id="189" name="Group 14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190" name="Rectangle 16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7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8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sldNum" idx="14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E965-EE5F-468C-A466-5A20EDE24DB8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5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3" descr="4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5" descr="bar_06.png"/>
          <p:cNvPicPr/>
          <p:nvPr/>
        </p:nvPicPr>
        <p:blipFill>
          <a:blip r:embed="rId3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grpSp>
        <p:nvGrpSpPr>
          <p:cNvPr id="237" name="Group 17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238" name="Rectangle 19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0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1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7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20A1-8AF1-4F1C-8F82-AC31A33DE667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ftr" idx="18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9" descr="2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" descr="bar_06.png"/>
          <p:cNvPicPr/>
          <p:nvPr/>
        </p:nvPicPr>
        <p:blipFill>
          <a:blip r:embed="rId3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grpSp>
        <p:nvGrpSpPr>
          <p:cNvPr id="285" name="Group 11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286" name="Rectangle 12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3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4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20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CAF7-218C-4F97-AEAD-2210D28F0605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ftr" idx="21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8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332" name="Rectangle 9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0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1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23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72FE-389C-498B-BD0A-CF2F2D485073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ftr" idx="24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11" descr="3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3" descr="bar_06.png"/>
          <p:cNvPicPr/>
          <p:nvPr/>
        </p:nvPicPr>
        <p:blipFill>
          <a:blip r:embed="rId3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grpSp>
        <p:nvGrpSpPr>
          <p:cNvPr id="379" name="Group 15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380" name="Rectangle 16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7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8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sldNum" idx="26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37E6-6B06-4B3C-B5E9-02B4DFA7B66A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ftr" idx="27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dddddd"/>
            </a:outerShdw>
          </a:effectLst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Урок физики в 7 кл.</a:t>
            </a:r>
            <a:endParaRPr b="0" lang="en-US" sz="48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6838920" cy="151272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  <a:effectLst>
            <a:outerShdw dist="36147" dir="2700000" blurRad="0" rotWithShape="0">
              <a:srgbClr val="dddddd">
                <a:alpha val="50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ма:  Сложение двух сил, направленных по одной прямой. Равнодействующая сил.</a:t>
            </a:r>
            <a:endParaRPr b="0" lang="en-US" sz="28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2556000" y="4150080"/>
            <a:ext cx="525600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algn="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4d"/>
                </a:solidFill>
                <a:latin typeface="Calibri"/>
              </a:rPr>
              <a:t>Ладанова И.В.</a:t>
            </a:r>
            <a:endParaRPr b="0" lang="en-US" sz="2800" spc="-1" strike="noStrike">
              <a:solidFill>
                <a:srgbClr val="3f3f4d"/>
              </a:solidFill>
              <a:latin typeface="Calibri"/>
            </a:endParaRPr>
          </a:p>
          <a:p>
            <a:pPr algn="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4d"/>
                </a:solidFill>
                <a:latin typeface="Calibri"/>
              </a:rPr>
              <a:t>МКОУ «Верх-Жилинская ООШ»</a:t>
            </a:r>
            <a:endParaRPr b="0" lang="en-US" sz="28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73" name="AutoShape 4"/>
          <p:cNvSpPr/>
          <p:nvPr/>
        </p:nvSpPr>
        <p:spPr>
          <a:xfrm>
            <a:off x="7667640" y="5950080"/>
            <a:ext cx="865080" cy="503280"/>
          </a:xfrm>
          <a:custGeom>
            <a:avLst/>
            <a:gdLst>
              <a:gd name="textAreaLeft" fmla="*/ 32400 w 865080"/>
              <a:gd name="textAreaRight" fmla="*/ 832680 w 86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7117" h="21600">
                <a:moveTo>
                  <a:pt x="0" y="0"/>
                </a:moveTo>
                <a:lnTo>
                  <a:pt x="37117" y="0"/>
                </a:lnTo>
                <a:lnTo>
                  <a:pt x="37117" y="21600"/>
                </a:lnTo>
                <a:lnTo>
                  <a:pt x="0" y="21600"/>
                </a:lnTo>
                <a:close/>
              </a:path>
              <a:path fill="lightenLess" w="37117" h="21600">
                <a:moveTo>
                  <a:pt x="0" y="0"/>
                </a:moveTo>
                <a:lnTo>
                  <a:pt x="37117" y="0"/>
                </a:lnTo>
                <a:lnTo>
                  <a:pt x="35717" y="1400"/>
                </a:lnTo>
                <a:lnTo>
                  <a:pt x="1400" y="1400"/>
                </a:lnTo>
                <a:close/>
              </a:path>
              <a:path fill="darken" w="37117" h="21600">
                <a:moveTo>
                  <a:pt x="37117" y="0"/>
                </a:moveTo>
                <a:lnTo>
                  <a:pt x="37117" y="21600"/>
                </a:lnTo>
                <a:lnTo>
                  <a:pt x="35717" y="20200"/>
                </a:lnTo>
                <a:lnTo>
                  <a:pt x="35717" y="1400"/>
                </a:lnTo>
                <a:close/>
              </a:path>
              <a:path fill="darkenLess" w="37117" h="21600">
                <a:moveTo>
                  <a:pt x="37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17" y="20200"/>
                </a:lnTo>
                <a:close/>
              </a:path>
              <a:path fill="lighten" w="37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117" h="21600">
                <a:moveTo>
                  <a:pt x="11552" y="3794"/>
                </a:moveTo>
                <a:lnTo>
                  <a:pt x="25565" y="10800"/>
                </a:lnTo>
                <a:lnTo>
                  <a:pt x="11552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5">
            <a:hlinkClick r:id="" action="ppaction://hlinkshowjump?jump=previousslide"/>
          </p:cNvPr>
          <p:cNvSpPr/>
          <p:nvPr/>
        </p:nvSpPr>
        <p:spPr>
          <a:xfrm>
            <a:off x="6588000" y="5950080"/>
            <a:ext cx="1008360" cy="503280"/>
          </a:xfrm>
          <a:custGeom>
            <a:avLst/>
            <a:gdLst>
              <a:gd name="textAreaLeft" fmla="*/ 32400 w 1008360"/>
              <a:gd name="textAreaRight" fmla="*/ 975960 w 1008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3262" h="21600">
                <a:moveTo>
                  <a:pt x="0" y="0"/>
                </a:moveTo>
                <a:lnTo>
                  <a:pt x="43262" y="0"/>
                </a:lnTo>
                <a:lnTo>
                  <a:pt x="43262" y="21600"/>
                </a:lnTo>
                <a:lnTo>
                  <a:pt x="0" y="21600"/>
                </a:lnTo>
                <a:close/>
              </a:path>
              <a:path fill="lightenLess" w="43262" h="21600">
                <a:moveTo>
                  <a:pt x="0" y="0"/>
                </a:moveTo>
                <a:lnTo>
                  <a:pt x="43262" y="0"/>
                </a:lnTo>
                <a:lnTo>
                  <a:pt x="41862" y="1400"/>
                </a:lnTo>
                <a:lnTo>
                  <a:pt x="1400" y="1400"/>
                </a:lnTo>
                <a:close/>
              </a:path>
              <a:path fill="darken" w="43262" h="21600">
                <a:moveTo>
                  <a:pt x="43262" y="0"/>
                </a:moveTo>
                <a:lnTo>
                  <a:pt x="43262" y="21600"/>
                </a:lnTo>
                <a:lnTo>
                  <a:pt x="41862" y="20200"/>
                </a:lnTo>
                <a:lnTo>
                  <a:pt x="41862" y="1400"/>
                </a:lnTo>
                <a:close/>
              </a:path>
              <a:path fill="darkenLess" w="43262" h="21600">
                <a:moveTo>
                  <a:pt x="432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62" y="20200"/>
                </a:lnTo>
                <a:close/>
              </a:path>
              <a:path fill="lighten" w="432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62" h="21600">
                <a:moveTo>
                  <a:pt x="14624" y="10800"/>
                </a:moveTo>
                <a:lnTo>
                  <a:pt x="28637" y="3794"/>
                </a:lnTo>
                <a:lnTo>
                  <a:pt x="28637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5"/>
          <p:cNvSpPr/>
          <p:nvPr/>
        </p:nvSpPr>
        <p:spPr>
          <a:xfrm>
            <a:off x="684360" y="765000"/>
            <a:ext cx="49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395280" y="189000"/>
            <a:ext cx="5040360" cy="350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ила, которая производит на тело такое же действие, как несколько одновременно действующих сил, называется равнодействующей этих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4140360" y="3645000"/>
            <a:ext cx="4032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Обозначение: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8"/>
          <p:cNvSpPr/>
          <p:nvPr/>
        </p:nvSpPr>
        <p:spPr>
          <a:xfrm>
            <a:off x="7380360" y="364500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9"/>
          <p:cNvSpPr/>
          <p:nvPr/>
        </p:nvSpPr>
        <p:spPr>
          <a:xfrm>
            <a:off x="7524720" y="6165720"/>
            <a:ext cx="1008000" cy="358920"/>
          </a:xfrm>
          <a:custGeom>
            <a:avLst/>
            <a:gdLst>
              <a:gd name="textAreaLeft" fmla="*/ 23040 w 1008000"/>
              <a:gd name="textAreaRight" fmla="*/ 984960 w 1008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0623" h="21600">
                <a:moveTo>
                  <a:pt x="0" y="0"/>
                </a:moveTo>
                <a:lnTo>
                  <a:pt x="60623" y="0"/>
                </a:lnTo>
                <a:lnTo>
                  <a:pt x="60623" y="21600"/>
                </a:lnTo>
                <a:lnTo>
                  <a:pt x="0" y="21600"/>
                </a:lnTo>
                <a:close/>
              </a:path>
              <a:path fill="lightenLess" w="60623" h="21600">
                <a:moveTo>
                  <a:pt x="0" y="0"/>
                </a:moveTo>
                <a:lnTo>
                  <a:pt x="60623" y="0"/>
                </a:lnTo>
                <a:lnTo>
                  <a:pt x="59223" y="1400"/>
                </a:lnTo>
                <a:lnTo>
                  <a:pt x="1400" y="1400"/>
                </a:lnTo>
                <a:close/>
              </a:path>
              <a:path fill="darken" w="60623" h="21600">
                <a:moveTo>
                  <a:pt x="60623" y="0"/>
                </a:moveTo>
                <a:lnTo>
                  <a:pt x="60623" y="21600"/>
                </a:lnTo>
                <a:lnTo>
                  <a:pt x="59223" y="20200"/>
                </a:lnTo>
                <a:lnTo>
                  <a:pt x="59223" y="1400"/>
                </a:lnTo>
                <a:close/>
              </a:path>
              <a:path fill="darkenLess" w="60623" h="21600">
                <a:moveTo>
                  <a:pt x="606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223" y="20200"/>
                </a:lnTo>
                <a:close/>
              </a:path>
              <a:path fill="lighten" w="606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623" h="21600">
                <a:moveTo>
                  <a:pt x="23305" y="3794"/>
                </a:moveTo>
                <a:lnTo>
                  <a:pt x="37318" y="10800"/>
                </a:lnTo>
                <a:lnTo>
                  <a:pt x="23305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10">
            <a:hlinkClick r:id="" action="ppaction://hlinkshowjump?jump=previousslide"/>
          </p:cNvPr>
          <p:cNvSpPr/>
          <p:nvPr/>
        </p:nvSpPr>
        <p:spPr>
          <a:xfrm>
            <a:off x="6443640" y="6165720"/>
            <a:ext cx="1008000" cy="358920"/>
          </a:xfrm>
          <a:custGeom>
            <a:avLst/>
            <a:gdLst>
              <a:gd name="textAreaLeft" fmla="*/ 23040 w 1008000"/>
              <a:gd name="textAreaRight" fmla="*/ 984960 w 1008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0623" h="21600">
                <a:moveTo>
                  <a:pt x="0" y="0"/>
                </a:moveTo>
                <a:lnTo>
                  <a:pt x="60623" y="0"/>
                </a:lnTo>
                <a:lnTo>
                  <a:pt x="60623" y="21600"/>
                </a:lnTo>
                <a:lnTo>
                  <a:pt x="0" y="21600"/>
                </a:lnTo>
                <a:close/>
              </a:path>
              <a:path fill="lightenLess" w="60623" h="21600">
                <a:moveTo>
                  <a:pt x="0" y="0"/>
                </a:moveTo>
                <a:lnTo>
                  <a:pt x="60623" y="0"/>
                </a:lnTo>
                <a:lnTo>
                  <a:pt x="59223" y="1400"/>
                </a:lnTo>
                <a:lnTo>
                  <a:pt x="1400" y="1400"/>
                </a:lnTo>
                <a:close/>
              </a:path>
              <a:path fill="darken" w="60623" h="21600">
                <a:moveTo>
                  <a:pt x="60623" y="0"/>
                </a:moveTo>
                <a:lnTo>
                  <a:pt x="60623" y="21600"/>
                </a:lnTo>
                <a:lnTo>
                  <a:pt x="59223" y="20200"/>
                </a:lnTo>
                <a:lnTo>
                  <a:pt x="59223" y="1400"/>
                </a:lnTo>
                <a:close/>
              </a:path>
              <a:path fill="darkenLess" w="60623" h="21600">
                <a:moveTo>
                  <a:pt x="606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223" y="20200"/>
                </a:lnTo>
                <a:close/>
              </a:path>
              <a:path fill="lighten" w="606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623" h="21600">
                <a:moveTo>
                  <a:pt x="23305" y="10800"/>
                </a:moveTo>
                <a:lnTo>
                  <a:pt x="37318" y="3794"/>
                </a:lnTo>
                <a:lnTo>
                  <a:pt x="37318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1"/>
          <p:cNvSpPr/>
          <p:nvPr/>
        </p:nvSpPr>
        <p:spPr>
          <a:xfrm>
            <a:off x="1116000" y="4292640"/>
            <a:ext cx="26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2"/>
          <p:cNvSpPr/>
          <p:nvPr/>
        </p:nvSpPr>
        <p:spPr>
          <a:xfrm>
            <a:off x="1547640" y="4653000"/>
            <a:ext cx="32403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диница измерения: </a:t>
            </a:r>
            <a:r>
              <a:rPr b="1" lang="ru-RU" sz="2800" spc="-1" strike="noStrike">
                <a:solidFill>
                  <a:srgbClr val="e19b0b"/>
                </a:solidFill>
                <a:latin typeface="Comic Sans MS"/>
              </a:rPr>
              <a:t>1 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10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AutoShape 29"/>
          <p:cNvSpPr/>
          <p:nvPr/>
        </p:nvSpPr>
        <p:spPr>
          <a:xfrm>
            <a:off x="2411280" y="4221000"/>
            <a:ext cx="3529080" cy="863640"/>
          </a:xfrm>
          <a:prstGeom prst="roundRect">
            <a:avLst>
              <a:gd name="adj" fmla="val 16667"/>
            </a:avLst>
          </a:prstGeom>
          <a:solidFill>
            <a:srgbClr val="00ffcc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10"/>
          <p:cNvSpPr/>
          <p:nvPr/>
        </p:nvSpPr>
        <p:spPr>
          <a:xfrm>
            <a:off x="3059280" y="3141720"/>
            <a:ext cx="3817800" cy="431640"/>
          </a:xfrm>
          <a:prstGeom prst="rightArrow">
            <a:avLst>
              <a:gd name="adj1" fmla="val 50000"/>
              <a:gd name="adj2" fmla="val 221122"/>
            </a:avLst>
          </a:prstGeom>
          <a:solidFill>
            <a:srgbClr val="e19b0b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539640" y="189000"/>
            <a:ext cx="316872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внодействующая сил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направленных вдоль одной прямой в одну сторону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, равна сумме этих сил и направлена в ту же сторо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5"/>
          <p:cNvSpPr/>
          <p:nvPr/>
        </p:nvSpPr>
        <p:spPr>
          <a:xfrm>
            <a:off x="2916360" y="3213000"/>
            <a:ext cx="214200" cy="28728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6"/>
          <p:cNvSpPr/>
          <p:nvPr/>
        </p:nvSpPr>
        <p:spPr>
          <a:xfrm>
            <a:off x="3132000" y="3213000"/>
            <a:ext cx="2448000" cy="287280"/>
          </a:xfrm>
          <a:prstGeom prst="rightArrow">
            <a:avLst>
              <a:gd name="adj1" fmla="val 50000"/>
              <a:gd name="adj2" fmla="val 213033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7"/>
          <p:cNvSpPr/>
          <p:nvPr/>
        </p:nvSpPr>
        <p:spPr>
          <a:xfrm>
            <a:off x="3059280" y="3213000"/>
            <a:ext cx="1223640" cy="287280"/>
          </a:xfrm>
          <a:prstGeom prst="rightArrow">
            <a:avLst>
              <a:gd name="adj1" fmla="val 50000"/>
              <a:gd name="adj2" fmla="val 106485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4"/>
          <p:cNvSpPr/>
          <p:nvPr/>
        </p:nvSpPr>
        <p:spPr>
          <a:xfrm>
            <a:off x="3203640" y="3706920"/>
            <a:ext cx="43164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0" lang="en-US" sz="18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5"/>
          <p:cNvSpPr/>
          <p:nvPr/>
        </p:nvSpPr>
        <p:spPr>
          <a:xfrm>
            <a:off x="3276720" y="3716280"/>
            <a:ext cx="21564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6"/>
          <p:cNvSpPr/>
          <p:nvPr/>
        </p:nvSpPr>
        <p:spPr>
          <a:xfrm>
            <a:off x="4356000" y="3716280"/>
            <a:ext cx="50328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0" lang="en-US" sz="18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7"/>
          <p:cNvSpPr/>
          <p:nvPr/>
        </p:nvSpPr>
        <p:spPr>
          <a:xfrm>
            <a:off x="4427640" y="3716280"/>
            <a:ext cx="28872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25"/>
          <p:cNvSpPr/>
          <p:nvPr/>
        </p:nvSpPr>
        <p:spPr>
          <a:xfrm>
            <a:off x="5508720" y="3716280"/>
            <a:ext cx="792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19b0b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26"/>
          <p:cNvSpPr/>
          <p:nvPr/>
        </p:nvSpPr>
        <p:spPr>
          <a:xfrm>
            <a:off x="5580000" y="371628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27"/>
          <p:cNvSpPr/>
          <p:nvPr/>
        </p:nvSpPr>
        <p:spPr>
          <a:xfrm>
            <a:off x="2771640" y="4365720"/>
            <a:ext cx="3527640" cy="648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R = F</a:t>
            </a:r>
            <a:r>
              <a:rPr b="1" lang="en-US" sz="32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 + F</a:t>
            </a:r>
            <a:r>
              <a:rPr b="1" lang="en-US" sz="32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0">
            <a:hlinkClick r:id="" action="ppaction://hlinkshowjump?jump=previousslide"/>
          </p:cNvPr>
          <p:cNvSpPr/>
          <p:nvPr/>
        </p:nvSpPr>
        <p:spPr>
          <a:xfrm>
            <a:off x="680400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31">
            <a:hlinkClick r:id="" action="ppaction://hlinkshowjump?jump=nextslide"/>
          </p:cNvPr>
          <p:cNvSpPr/>
          <p:nvPr/>
        </p:nvSpPr>
        <p:spPr>
          <a:xfrm>
            <a:off x="7667640" y="6165720"/>
            <a:ext cx="719280" cy="43200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52" h="21600">
                <a:moveTo>
                  <a:pt x="0" y="0"/>
                </a:moveTo>
                <a:lnTo>
                  <a:pt x="35952" y="0"/>
                </a:lnTo>
                <a:lnTo>
                  <a:pt x="35952" y="21600"/>
                </a:lnTo>
                <a:lnTo>
                  <a:pt x="0" y="21600"/>
                </a:lnTo>
                <a:close/>
              </a:path>
              <a:path fill="lightenLess" w="35952" h="21600">
                <a:moveTo>
                  <a:pt x="0" y="0"/>
                </a:moveTo>
                <a:lnTo>
                  <a:pt x="35952" y="0"/>
                </a:lnTo>
                <a:lnTo>
                  <a:pt x="34552" y="1400"/>
                </a:lnTo>
                <a:lnTo>
                  <a:pt x="1400" y="1400"/>
                </a:lnTo>
                <a:close/>
              </a:path>
              <a:path fill="darken" w="35952" h="21600">
                <a:moveTo>
                  <a:pt x="35952" y="0"/>
                </a:moveTo>
                <a:lnTo>
                  <a:pt x="35952" y="21600"/>
                </a:lnTo>
                <a:lnTo>
                  <a:pt x="34552" y="20200"/>
                </a:lnTo>
                <a:lnTo>
                  <a:pt x="34552" y="1400"/>
                </a:lnTo>
                <a:close/>
              </a:path>
              <a:path fill="darkenLess" w="35952" h="21600">
                <a:moveTo>
                  <a:pt x="35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52" y="20200"/>
                </a:lnTo>
                <a:close/>
              </a:path>
              <a:path fill="lighten" w="35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52" h="21600">
                <a:moveTo>
                  <a:pt x="10970" y="3794"/>
                </a:moveTo>
                <a:lnTo>
                  <a:pt x="24983" y="10800"/>
                </a:lnTo>
                <a:lnTo>
                  <a:pt x="10970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250" autoRev="1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5" dur="250" autoRev="1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" dur="250" autoRev="1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autoRev="1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1" dur="500" autoRev="1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" dur="500" autoRev="1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1500" autoRev="1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7" dur="1500" autoRev="1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" dur="1500" autoRev="1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10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500" autoRev="1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AutoShape 20"/>
          <p:cNvSpPr/>
          <p:nvPr/>
        </p:nvSpPr>
        <p:spPr>
          <a:xfrm>
            <a:off x="3564000" y="5589720"/>
            <a:ext cx="2808360" cy="576000"/>
          </a:xfrm>
          <a:prstGeom prst="roundRect">
            <a:avLst>
              <a:gd name="adj" fmla="val 16667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684360" y="907920"/>
            <a:ext cx="518292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внодействующая сил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направленных вдоль одной прямой в противоположные стороны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, направлена в сторону большей по модулю силы, а её модуль равен разности модулей составляющих с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5"/>
          <p:cNvSpPr/>
          <p:nvPr/>
        </p:nvSpPr>
        <p:spPr>
          <a:xfrm>
            <a:off x="4643280" y="4365720"/>
            <a:ext cx="360360" cy="35856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"/>
          <p:cNvSpPr/>
          <p:nvPr/>
        </p:nvSpPr>
        <p:spPr>
          <a:xfrm>
            <a:off x="4788000" y="4437000"/>
            <a:ext cx="3456000" cy="216000"/>
          </a:xfrm>
          <a:prstGeom prst="rightArrow">
            <a:avLst>
              <a:gd name="adj1" fmla="val 50000"/>
              <a:gd name="adj2" fmla="val 400000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8"/>
          <p:cNvSpPr/>
          <p:nvPr/>
        </p:nvSpPr>
        <p:spPr>
          <a:xfrm>
            <a:off x="3564000" y="4437000"/>
            <a:ext cx="1224000" cy="216000"/>
          </a:xfrm>
          <a:prstGeom prst="leftArrow">
            <a:avLst>
              <a:gd name="adj1" fmla="val 50000"/>
              <a:gd name="adj2" fmla="val 141667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9"/>
          <p:cNvSpPr/>
          <p:nvPr/>
        </p:nvSpPr>
        <p:spPr>
          <a:xfrm>
            <a:off x="4788000" y="4292640"/>
            <a:ext cx="1944720" cy="503280"/>
          </a:xfrm>
          <a:prstGeom prst="rightArrow">
            <a:avLst>
              <a:gd name="adj1" fmla="val 50000"/>
              <a:gd name="adj2" fmla="val 96602"/>
            </a:avLst>
          </a:prstGeom>
          <a:solidFill>
            <a:srgbClr val="e19b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0"/>
          <p:cNvSpPr/>
          <p:nvPr/>
        </p:nvSpPr>
        <p:spPr>
          <a:xfrm>
            <a:off x="3132000" y="4653000"/>
            <a:ext cx="57636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1" lang="en-US" sz="18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1"/>
          <p:cNvSpPr/>
          <p:nvPr/>
        </p:nvSpPr>
        <p:spPr>
          <a:xfrm>
            <a:off x="3203640" y="465300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4"/>
          <p:cNvSpPr/>
          <p:nvPr/>
        </p:nvSpPr>
        <p:spPr>
          <a:xfrm>
            <a:off x="7812000" y="4724280"/>
            <a:ext cx="79236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1" lang="en-US" sz="18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5"/>
          <p:cNvSpPr/>
          <p:nvPr/>
        </p:nvSpPr>
        <p:spPr>
          <a:xfrm>
            <a:off x="7885080" y="472428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6"/>
          <p:cNvSpPr/>
          <p:nvPr/>
        </p:nvSpPr>
        <p:spPr>
          <a:xfrm>
            <a:off x="5219640" y="4797360"/>
            <a:ext cx="792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7"/>
          <p:cNvSpPr/>
          <p:nvPr/>
        </p:nvSpPr>
        <p:spPr>
          <a:xfrm>
            <a:off x="5292720" y="479736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9"/>
          <p:cNvSpPr/>
          <p:nvPr/>
        </p:nvSpPr>
        <p:spPr>
          <a:xfrm>
            <a:off x="3059280" y="5516640"/>
            <a:ext cx="3528720" cy="64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R = F</a:t>
            </a:r>
            <a:r>
              <a:rPr b="1" lang="en-US" sz="32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 – F</a:t>
            </a:r>
            <a:r>
              <a:rPr b="1" lang="en-US" sz="32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21">
            <a:hlinkClick r:id="" action="ppaction://hlinkshowjump?jump=previousslide"/>
          </p:cNvPr>
          <p:cNvSpPr/>
          <p:nvPr/>
        </p:nvSpPr>
        <p:spPr>
          <a:xfrm>
            <a:off x="6877080" y="6237360"/>
            <a:ext cx="790560" cy="43164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546" h="21600">
                <a:moveTo>
                  <a:pt x="0" y="0"/>
                </a:moveTo>
                <a:lnTo>
                  <a:pt x="39546" y="0"/>
                </a:lnTo>
                <a:lnTo>
                  <a:pt x="39546" y="21600"/>
                </a:lnTo>
                <a:lnTo>
                  <a:pt x="0" y="21600"/>
                </a:lnTo>
                <a:close/>
              </a:path>
              <a:path fill="lightenLess" w="39546" h="21600">
                <a:moveTo>
                  <a:pt x="0" y="0"/>
                </a:moveTo>
                <a:lnTo>
                  <a:pt x="39546" y="0"/>
                </a:lnTo>
                <a:lnTo>
                  <a:pt x="38146" y="1400"/>
                </a:lnTo>
                <a:lnTo>
                  <a:pt x="1400" y="1400"/>
                </a:lnTo>
                <a:close/>
              </a:path>
              <a:path fill="darken" w="39546" h="21600">
                <a:moveTo>
                  <a:pt x="39546" y="0"/>
                </a:moveTo>
                <a:lnTo>
                  <a:pt x="39546" y="21600"/>
                </a:lnTo>
                <a:lnTo>
                  <a:pt x="38146" y="20200"/>
                </a:lnTo>
                <a:lnTo>
                  <a:pt x="38146" y="1400"/>
                </a:lnTo>
                <a:close/>
              </a:path>
              <a:path fill="darkenLess" w="39546" h="21600">
                <a:moveTo>
                  <a:pt x="39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46" y="20200"/>
                </a:lnTo>
                <a:close/>
              </a:path>
              <a:path fill="lighten" w="39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46" h="21600">
                <a:moveTo>
                  <a:pt x="12767" y="10800"/>
                </a:moveTo>
                <a:lnTo>
                  <a:pt x="26779" y="3794"/>
                </a:lnTo>
                <a:lnTo>
                  <a:pt x="26779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22">
            <a:hlinkClick r:id="" action="ppaction://hlinkshowjump?jump=nextslide"/>
          </p:cNvPr>
          <p:cNvSpPr/>
          <p:nvPr/>
        </p:nvSpPr>
        <p:spPr>
          <a:xfrm>
            <a:off x="7740720" y="623736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4" h="21600">
                <a:moveTo>
                  <a:pt x="10976" y="3794"/>
                </a:moveTo>
                <a:lnTo>
                  <a:pt x="24988" y="10800"/>
                </a:lnTo>
                <a:lnTo>
                  <a:pt x="10976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250" autoRev="1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1" dur="250" autoRev="1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2" dur="250" autoRev="1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250" autoRev="1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7" dur="250" autoRev="1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" dur="250" autoRev="1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250" autoRev="1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3" dur="250" autoRev="1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4" dur="250" autoRev="1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500" autoRev="1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15"/>
          <p:cNvSpPr/>
          <p:nvPr/>
        </p:nvSpPr>
        <p:spPr>
          <a:xfrm>
            <a:off x="3924360" y="4508640"/>
            <a:ext cx="1655640" cy="718920"/>
          </a:xfrm>
          <a:prstGeom prst="roundRect">
            <a:avLst>
              <a:gd name="adj" fmla="val 16667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539640" y="549360"/>
            <a:ext cx="475308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Если к телу приложены дв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равные по модулю и противоположные по направлению силы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, то равнодействующая равна нулю, а тело движется прямолинейно и равномер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val 5"/>
          <p:cNvSpPr/>
          <p:nvPr/>
        </p:nvSpPr>
        <p:spPr>
          <a:xfrm>
            <a:off x="2124000" y="3429000"/>
            <a:ext cx="287280" cy="28728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6"/>
          <p:cNvSpPr/>
          <p:nvPr/>
        </p:nvSpPr>
        <p:spPr>
          <a:xfrm>
            <a:off x="2268360" y="3429000"/>
            <a:ext cx="1657440" cy="289080"/>
          </a:xfrm>
          <a:prstGeom prst="rightArrow">
            <a:avLst>
              <a:gd name="adj1" fmla="val 50000"/>
              <a:gd name="adj2" fmla="val 143337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755640" y="3429000"/>
            <a:ext cx="1511280" cy="289080"/>
          </a:xfrm>
          <a:prstGeom prst="leftArrow">
            <a:avLst>
              <a:gd name="adj1" fmla="val 50000"/>
              <a:gd name="adj2" fmla="val 130697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9"/>
          <p:cNvSpPr/>
          <p:nvPr/>
        </p:nvSpPr>
        <p:spPr>
          <a:xfrm>
            <a:off x="684360" y="3789360"/>
            <a:ext cx="64764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1" lang="en-US" sz="18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0"/>
          <p:cNvSpPr/>
          <p:nvPr/>
        </p:nvSpPr>
        <p:spPr>
          <a:xfrm>
            <a:off x="3348000" y="3789360"/>
            <a:ext cx="50328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1" lang="en-US" sz="18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1"/>
          <p:cNvSpPr/>
          <p:nvPr/>
        </p:nvSpPr>
        <p:spPr>
          <a:xfrm>
            <a:off x="755640" y="378936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2"/>
          <p:cNvSpPr/>
          <p:nvPr/>
        </p:nvSpPr>
        <p:spPr>
          <a:xfrm>
            <a:off x="3419640" y="3789360"/>
            <a:ext cx="21564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3"/>
          <p:cNvSpPr/>
          <p:nvPr/>
        </p:nvSpPr>
        <p:spPr>
          <a:xfrm>
            <a:off x="2916360" y="450864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4"/>
          <p:cNvSpPr/>
          <p:nvPr/>
        </p:nvSpPr>
        <p:spPr>
          <a:xfrm>
            <a:off x="3564000" y="4581360"/>
            <a:ext cx="2374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R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6"/>
          <p:cNvSpPr/>
          <p:nvPr/>
        </p:nvSpPr>
        <p:spPr>
          <a:xfrm>
            <a:off x="5940360" y="3500280"/>
            <a:ext cx="1944720" cy="0"/>
          </a:xfrm>
          <a:prstGeom prst="line">
            <a:avLst/>
          </a:prstGeom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7"/>
          <p:cNvSpPr/>
          <p:nvPr/>
        </p:nvSpPr>
        <p:spPr>
          <a:xfrm>
            <a:off x="6732720" y="2997360"/>
            <a:ext cx="576000" cy="504720"/>
          </a:xfrm>
          <a:prstGeom prst="rect">
            <a:avLst/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18"/>
          <p:cNvSpPr/>
          <p:nvPr/>
        </p:nvSpPr>
        <p:spPr>
          <a:xfrm>
            <a:off x="6877080" y="3500280"/>
            <a:ext cx="216000" cy="1008360"/>
          </a:xfrm>
          <a:prstGeom prst="downArrow">
            <a:avLst>
              <a:gd name="adj1" fmla="val 50000"/>
              <a:gd name="adj2" fmla="val 116708"/>
            </a:avLst>
          </a:prstGeom>
          <a:solidFill>
            <a:srgbClr val="f5b123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19"/>
          <p:cNvSpPr/>
          <p:nvPr/>
        </p:nvSpPr>
        <p:spPr>
          <a:xfrm>
            <a:off x="6877080" y="2492280"/>
            <a:ext cx="216000" cy="1008000"/>
          </a:xfrm>
          <a:prstGeom prst="upArrow">
            <a:avLst>
              <a:gd name="adj1" fmla="val 50000"/>
              <a:gd name="adj2" fmla="val 116667"/>
            </a:avLst>
          </a:prstGeom>
          <a:solidFill>
            <a:srgbClr val="00ffcc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20"/>
          <p:cNvSpPr/>
          <p:nvPr/>
        </p:nvSpPr>
        <p:spPr>
          <a:xfrm>
            <a:off x="7236000" y="4005360"/>
            <a:ext cx="647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21"/>
          <p:cNvSpPr/>
          <p:nvPr/>
        </p:nvSpPr>
        <p:spPr>
          <a:xfrm>
            <a:off x="7236000" y="2492280"/>
            <a:ext cx="502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22"/>
          <p:cNvSpPr/>
          <p:nvPr/>
        </p:nvSpPr>
        <p:spPr>
          <a:xfrm>
            <a:off x="7308720" y="2492280"/>
            <a:ext cx="216000" cy="0"/>
          </a:xfrm>
          <a:prstGeom prst="line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23"/>
          <p:cNvSpPr/>
          <p:nvPr/>
        </p:nvSpPr>
        <p:spPr>
          <a:xfrm>
            <a:off x="7308720" y="4076640"/>
            <a:ext cx="2160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24">
            <a:hlinkClick r:id="" action="ppaction://hlinkshowjump?jump=nextslide"/>
          </p:cNvPr>
          <p:cNvSpPr/>
          <p:nvPr/>
        </p:nvSpPr>
        <p:spPr>
          <a:xfrm>
            <a:off x="7812000" y="6165720"/>
            <a:ext cx="719280" cy="43200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52" h="21600">
                <a:moveTo>
                  <a:pt x="0" y="0"/>
                </a:moveTo>
                <a:lnTo>
                  <a:pt x="35952" y="0"/>
                </a:lnTo>
                <a:lnTo>
                  <a:pt x="35952" y="21600"/>
                </a:lnTo>
                <a:lnTo>
                  <a:pt x="0" y="21600"/>
                </a:lnTo>
                <a:close/>
              </a:path>
              <a:path fill="lightenLess" w="35952" h="21600">
                <a:moveTo>
                  <a:pt x="0" y="0"/>
                </a:moveTo>
                <a:lnTo>
                  <a:pt x="35952" y="0"/>
                </a:lnTo>
                <a:lnTo>
                  <a:pt x="34552" y="1400"/>
                </a:lnTo>
                <a:lnTo>
                  <a:pt x="1400" y="1400"/>
                </a:lnTo>
                <a:close/>
              </a:path>
              <a:path fill="darken" w="35952" h="21600">
                <a:moveTo>
                  <a:pt x="35952" y="0"/>
                </a:moveTo>
                <a:lnTo>
                  <a:pt x="35952" y="21600"/>
                </a:lnTo>
                <a:lnTo>
                  <a:pt x="34552" y="20200"/>
                </a:lnTo>
                <a:lnTo>
                  <a:pt x="34552" y="1400"/>
                </a:lnTo>
                <a:close/>
              </a:path>
              <a:path fill="darkenLess" w="35952" h="21600">
                <a:moveTo>
                  <a:pt x="35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52" y="20200"/>
                </a:lnTo>
                <a:close/>
              </a:path>
              <a:path fill="lighten" w="35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52" h="21600">
                <a:moveTo>
                  <a:pt x="10970" y="3794"/>
                </a:moveTo>
                <a:lnTo>
                  <a:pt x="24983" y="10800"/>
                </a:lnTo>
                <a:lnTo>
                  <a:pt x="10970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25">
            <a:hlinkClick r:id="" action="ppaction://hlinkshowjump?jump=previousslide"/>
          </p:cNvPr>
          <p:cNvSpPr/>
          <p:nvPr/>
        </p:nvSpPr>
        <p:spPr>
          <a:xfrm>
            <a:off x="687708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500" autoRev="1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6" dur="500" autoRev="1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" dur="500" autoRev="1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500" autoRev="1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2" dur="500" autoRev="1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3" dur="500" autoRev="1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autoRev="1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8" dur="500" autoRev="1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" dur="500" autoRev="1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autoRev="1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4" dur="500" autoRev="1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5" dur="500" autoRev="1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500" autoRev="1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500" autoRev="1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AutoShape 21"/>
          <p:cNvSpPr/>
          <p:nvPr/>
        </p:nvSpPr>
        <p:spPr>
          <a:xfrm flipV="1">
            <a:off x="2195640" y="3068640"/>
            <a:ext cx="2879640" cy="504720"/>
          </a:xfrm>
          <a:prstGeom prst="rightArrow">
            <a:avLst>
              <a:gd name="adj1" fmla="val 50000"/>
              <a:gd name="adj2" fmla="val 142636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8"/>
          <p:cNvSpPr/>
          <p:nvPr/>
        </p:nvSpPr>
        <p:spPr>
          <a:xfrm>
            <a:off x="1116000" y="692280"/>
            <a:ext cx="6551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пределите равнодействующую си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0"/>
          <p:cNvSpPr/>
          <p:nvPr/>
        </p:nvSpPr>
        <p:spPr>
          <a:xfrm>
            <a:off x="900000" y="1268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11"/>
          <p:cNvSpPr/>
          <p:nvPr/>
        </p:nvSpPr>
        <p:spPr>
          <a:xfrm>
            <a:off x="2700360" y="1700280"/>
            <a:ext cx="216000" cy="28872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12"/>
          <p:cNvSpPr/>
          <p:nvPr/>
        </p:nvSpPr>
        <p:spPr>
          <a:xfrm>
            <a:off x="2771640" y="1628640"/>
            <a:ext cx="2448000" cy="432000"/>
          </a:xfrm>
          <a:prstGeom prst="rightArrow">
            <a:avLst>
              <a:gd name="adj1" fmla="val 50000"/>
              <a:gd name="adj2" fmla="val 141667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AutoShape 13"/>
          <p:cNvSpPr/>
          <p:nvPr/>
        </p:nvSpPr>
        <p:spPr>
          <a:xfrm>
            <a:off x="2050920" y="1628640"/>
            <a:ext cx="720720" cy="432000"/>
          </a:xfrm>
          <a:prstGeom prst="leftArrow">
            <a:avLst>
              <a:gd name="adj1" fmla="val 50000"/>
              <a:gd name="adj2" fmla="val 41708"/>
            </a:avLst>
          </a:prstGeom>
          <a:solidFill>
            <a:srgbClr val="dddddd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4"/>
          <p:cNvSpPr/>
          <p:nvPr/>
        </p:nvSpPr>
        <p:spPr>
          <a:xfrm>
            <a:off x="1619280" y="1989000"/>
            <a:ext cx="2232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1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5"/>
          <p:cNvSpPr/>
          <p:nvPr/>
        </p:nvSpPr>
        <p:spPr>
          <a:xfrm>
            <a:off x="5076720" y="1916280"/>
            <a:ext cx="1295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3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8"/>
          <p:cNvSpPr/>
          <p:nvPr/>
        </p:nvSpPr>
        <p:spPr>
          <a:xfrm>
            <a:off x="900000" y="306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19"/>
          <p:cNvSpPr/>
          <p:nvPr/>
        </p:nvSpPr>
        <p:spPr>
          <a:xfrm>
            <a:off x="2124000" y="3213000"/>
            <a:ext cx="144360" cy="21600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20"/>
          <p:cNvSpPr/>
          <p:nvPr/>
        </p:nvSpPr>
        <p:spPr>
          <a:xfrm>
            <a:off x="2195640" y="3068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dddddd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22"/>
          <p:cNvSpPr/>
          <p:nvPr/>
        </p:nvSpPr>
        <p:spPr>
          <a:xfrm>
            <a:off x="1692360" y="3500280"/>
            <a:ext cx="1225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1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23"/>
          <p:cNvSpPr/>
          <p:nvPr/>
        </p:nvSpPr>
        <p:spPr>
          <a:xfrm>
            <a:off x="5076720" y="3429000"/>
            <a:ext cx="1513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3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4"/>
          <p:cNvSpPr/>
          <p:nvPr/>
        </p:nvSpPr>
        <p:spPr>
          <a:xfrm>
            <a:off x="900000" y="422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val 25"/>
          <p:cNvSpPr/>
          <p:nvPr/>
        </p:nvSpPr>
        <p:spPr>
          <a:xfrm>
            <a:off x="3492360" y="4653000"/>
            <a:ext cx="216000" cy="28872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27"/>
          <p:cNvSpPr/>
          <p:nvPr/>
        </p:nvSpPr>
        <p:spPr>
          <a:xfrm>
            <a:off x="3564000" y="4581360"/>
            <a:ext cx="1584360" cy="432000"/>
          </a:xfrm>
          <a:prstGeom prst="rightArrow">
            <a:avLst>
              <a:gd name="adj1" fmla="val 50000"/>
              <a:gd name="adj2" fmla="val 91688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28"/>
          <p:cNvSpPr/>
          <p:nvPr/>
        </p:nvSpPr>
        <p:spPr>
          <a:xfrm>
            <a:off x="2124000" y="4581360"/>
            <a:ext cx="1440000" cy="432000"/>
          </a:xfrm>
          <a:prstGeom prst="leftArrow">
            <a:avLst>
              <a:gd name="adj1" fmla="val 50000"/>
              <a:gd name="adj2" fmla="val 83333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9"/>
          <p:cNvSpPr/>
          <p:nvPr/>
        </p:nvSpPr>
        <p:spPr>
          <a:xfrm>
            <a:off x="2340000" y="5084640"/>
            <a:ext cx="1079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2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30"/>
          <p:cNvSpPr/>
          <p:nvPr/>
        </p:nvSpPr>
        <p:spPr>
          <a:xfrm>
            <a:off x="4643280" y="5084640"/>
            <a:ext cx="1297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2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32">
            <a:hlinkClick r:id="" action="ppaction://hlinkshowjump?jump=nextslide"/>
          </p:cNvPr>
          <p:cNvSpPr/>
          <p:nvPr/>
        </p:nvSpPr>
        <p:spPr>
          <a:xfrm>
            <a:off x="7740720" y="6165720"/>
            <a:ext cx="718920" cy="43200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34" h="21600">
                <a:moveTo>
                  <a:pt x="0" y="0"/>
                </a:moveTo>
                <a:lnTo>
                  <a:pt x="35934" y="0"/>
                </a:lnTo>
                <a:lnTo>
                  <a:pt x="35934" y="21600"/>
                </a:lnTo>
                <a:lnTo>
                  <a:pt x="0" y="21600"/>
                </a:lnTo>
                <a:close/>
              </a:path>
              <a:path fill="lightenLess" w="35934" h="21600">
                <a:moveTo>
                  <a:pt x="0" y="0"/>
                </a:moveTo>
                <a:lnTo>
                  <a:pt x="35934" y="0"/>
                </a:lnTo>
                <a:lnTo>
                  <a:pt x="34534" y="1400"/>
                </a:lnTo>
                <a:lnTo>
                  <a:pt x="1400" y="1400"/>
                </a:lnTo>
                <a:close/>
              </a:path>
              <a:path fill="darken" w="35934" h="21600">
                <a:moveTo>
                  <a:pt x="35934" y="0"/>
                </a:moveTo>
                <a:lnTo>
                  <a:pt x="35934" y="21600"/>
                </a:lnTo>
                <a:lnTo>
                  <a:pt x="34534" y="20200"/>
                </a:lnTo>
                <a:lnTo>
                  <a:pt x="34534" y="1400"/>
                </a:lnTo>
                <a:close/>
              </a:path>
              <a:path fill="darkenLess" w="35934" h="21600">
                <a:moveTo>
                  <a:pt x="359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34" y="20200"/>
                </a:lnTo>
                <a:close/>
              </a:path>
              <a:path fill="lighten" w="359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34" h="21600">
                <a:moveTo>
                  <a:pt x="10961" y="3794"/>
                </a:moveTo>
                <a:lnTo>
                  <a:pt x="24974" y="10800"/>
                </a:lnTo>
                <a:lnTo>
                  <a:pt x="10961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33">
            <a:hlinkClick r:id="" action="ppaction://hlinkshowjump?jump=previousslide"/>
          </p:cNvPr>
          <p:cNvSpPr/>
          <p:nvPr/>
        </p:nvSpPr>
        <p:spPr>
          <a:xfrm>
            <a:off x="673272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" dur="10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500" autoRev="1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6" dur="500" autoRev="1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7" dur="500" autoRev="1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4" descr="репка"/>
          <p:cNvPicPr/>
          <p:nvPr/>
        </p:nvPicPr>
        <p:blipFill>
          <a:blip r:embed="rId1"/>
          <a:stretch/>
        </p:blipFill>
        <p:spPr>
          <a:xfrm>
            <a:off x="539640" y="404640"/>
            <a:ext cx="4896000" cy="3611880"/>
          </a:xfrm>
          <a:prstGeom prst="rect">
            <a:avLst/>
          </a:prstGeom>
          <a:ln w="0">
            <a:noFill/>
          </a:ln>
        </p:spPr>
      </p:pic>
      <p:sp>
        <p:nvSpPr>
          <p:cNvPr id="656" name="Text Box 5"/>
          <p:cNvSpPr/>
          <p:nvPr/>
        </p:nvSpPr>
        <p:spPr>
          <a:xfrm>
            <a:off x="1979640" y="422100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6"/>
          <p:cNvSpPr/>
          <p:nvPr/>
        </p:nvSpPr>
        <p:spPr>
          <a:xfrm>
            <a:off x="1116000" y="4149720"/>
            <a:ext cx="727092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ед, взявшись за репку, развивает силу тяги до 600 Н, бабка до 100 Н, внучка до 50 Н, Жучка до 30 Н, кошка до 10 Н и мышка до 2 Н. Чему равна равнодействующая всех сил, направленных по одной прямой в одну и ту же сторону? Справилась бы с репкой эта компания без мышки, если силы, удерживающие репку, равны 791 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7"/>
          <p:cNvSpPr/>
          <p:nvPr/>
        </p:nvSpPr>
        <p:spPr>
          <a:xfrm>
            <a:off x="5940360" y="2852640"/>
            <a:ext cx="2232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omic Sans MS"/>
              </a:rPr>
              <a:t>Решите задач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utoShape 8">
            <a:hlinkClick r:id="" action="ppaction://hlinkshowjump?jump=nextslide"/>
          </p:cNvPr>
          <p:cNvSpPr/>
          <p:nvPr/>
        </p:nvSpPr>
        <p:spPr>
          <a:xfrm>
            <a:off x="7885080" y="6165720"/>
            <a:ext cx="719280" cy="43020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36102" h="21600">
                <a:moveTo>
                  <a:pt x="0" y="0"/>
                </a:moveTo>
                <a:lnTo>
                  <a:pt x="36102" y="0"/>
                </a:lnTo>
                <a:lnTo>
                  <a:pt x="36102" y="21600"/>
                </a:lnTo>
                <a:lnTo>
                  <a:pt x="0" y="21600"/>
                </a:lnTo>
                <a:close/>
              </a:path>
              <a:path fill="lightenLess" w="36102" h="21600">
                <a:moveTo>
                  <a:pt x="0" y="0"/>
                </a:moveTo>
                <a:lnTo>
                  <a:pt x="36102" y="0"/>
                </a:lnTo>
                <a:lnTo>
                  <a:pt x="34702" y="1400"/>
                </a:lnTo>
                <a:lnTo>
                  <a:pt x="1400" y="1400"/>
                </a:lnTo>
                <a:close/>
              </a:path>
              <a:path fill="darken" w="36102" h="21600">
                <a:moveTo>
                  <a:pt x="36102" y="0"/>
                </a:moveTo>
                <a:lnTo>
                  <a:pt x="36102" y="21600"/>
                </a:lnTo>
                <a:lnTo>
                  <a:pt x="34702" y="20200"/>
                </a:lnTo>
                <a:lnTo>
                  <a:pt x="34702" y="1400"/>
                </a:lnTo>
                <a:close/>
              </a:path>
              <a:path fill="darkenLess" w="36102" h="21600">
                <a:moveTo>
                  <a:pt x="361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702" y="20200"/>
                </a:lnTo>
                <a:close/>
              </a:path>
              <a:path fill="lighten" w="361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102" h="21600">
                <a:moveTo>
                  <a:pt x="11045" y="3794"/>
                </a:moveTo>
                <a:lnTo>
                  <a:pt x="25058" y="10800"/>
                </a:lnTo>
                <a:lnTo>
                  <a:pt x="11045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10">
            <a:hlinkClick r:id="" action="ppaction://hlinkshowjump?jump=previousslide"/>
          </p:cNvPr>
          <p:cNvSpPr/>
          <p:nvPr/>
        </p:nvSpPr>
        <p:spPr>
          <a:xfrm>
            <a:off x="702000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4" descr="парашют"/>
          <p:cNvPicPr/>
          <p:nvPr/>
        </p:nvPicPr>
        <p:blipFill>
          <a:blip r:embed="rId1"/>
          <a:stretch/>
        </p:blipFill>
        <p:spPr>
          <a:xfrm>
            <a:off x="0" y="0"/>
            <a:ext cx="5256360" cy="3941640"/>
          </a:xfrm>
          <a:prstGeom prst="rect">
            <a:avLst/>
          </a:prstGeom>
          <a:ln w="0">
            <a:noFill/>
          </a:ln>
        </p:spPr>
      </p:pic>
      <p:sp>
        <p:nvSpPr>
          <p:cNvPr id="662" name="Text Box 6"/>
          <p:cNvSpPr/>
          <p:nvPr/>
        </p:nvSpPr>
        <p:spPr>
          <a:xfrm>
            <a:off x="2050920" y="4365720"/>
            <a:ext cx="597708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портсмен равномерно спускается на парашюте. Какова сила тяжести, действующая на парашютиста вместе с парашютом? Сила сопротивления воздуха 800 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7">
            <a:hlinkClick r:id="" action="ppaction://hlinkshowjump?jump=nextslide"/>
          </p:cNvPr>
          <p:cNvSpPr/>
          <p:nvPr/>
        </p:nvSpPr>
        <p:spPr>
          <a:xfrm>
            <a:off x="7885080" y="6165720"/>
            <a:ext cx="719280" cy="43200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52" h="21600">
                <a:moveTo>
                  <a:pt x="0" y="0"/>
                </a:moveTo>
                <a:lnTo>
                  <a:pt x="35952" y="0"/>
                </a:lnTo>
                <a:lnTo>
                  <a:pt x="35952" y="21600"/>
                </a:lnTo>
                <a:lnTo>
                  <a:pt x="0" y="21600"/>
                </a:lnTo>
                <a:close/>
              </a:path>
              <a:path fill="lightenLess" w="35952" h="21600">
                <a:moveTo>
                  <a:pt x="0" y="0"/>
                </a:moveTo>
                <a:lnTo>
                  <a:pt x="35952" y="0"/>
                </a:lnTo>
                <a:lnTo>
                  <a:pt x="34552" y="1400"/>
                </a:lnTo>
                <a:lnTo>
                  <a:pt x="1400" y="1400"/>
                </a:lnTo>
                <a:close/>
              </a:path>
              <a:path fill="darken" w="35952" h="21600">
                <a:moveTo>
                  <a:pt x="35952" y="0"/>
                </a:moveTo>
                <a:lnTo>
                  <a:pt x="35952" y="21600"/>
                </a:lnTo>
                <a:lnTo>
                  <a:pt x="34552" y="20200"/>
                </a:lnTo>
                <a:lnTo>
                  <a:pt x="34552" y="1400"/>
                </a:lnTo>
                <a:close/>
              </a:path>
              <a:path fill="darkenLess" w="35952" h="21600">
                <a:moveTo>
                  <a:pt x="35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52" y="20200"/>
                </a:lnTo>
                <a:close/>
              </a:path>
              <a:path fill="lighten" w="35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52" h="21600">
                <a:moveTo>
                  <a:pt x="10970" y="3794"/>
                </a:moveTo>
                <a:lnTo>
                  <a:pt x="24983" y="10800"/>
                </a:lnTo>
                <a:lnTo>
                  <a:pt x="10970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8">
            <a:hlinkClick r:id="" action="ppaction://hlinkshowjump?jump=previousslide"/>
          </p:cNvPr>
          <p:cNvSpPr/>
          <p:nvPr/>
        </p:nvSpPr>
        <p:spPr>
          <a:xfrm>
            <a:off x="702000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1"/>
          <p:cNvSpPr/>
          <p:nvPr/>
        </p:nvSpPr>
        <p:spPr>
          <a:xfrm>
            <a:off x="6732720" y="1268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4"/>
          <p:cNvSpPr/>
          <p:nvPr/>
        </p:nvSpPr>
        <p:spPr>
          <a:xfrm>
            <a:off x="1332000" y="476280"/>
            <a:ext cx="676908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omic Sans MS"/>
              </a:rPr>
              <a:t>Благодарю за внимание 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5">
            <a:hlinkClick r:id="" action="ppaction://hlinkshowjump?jump=firstslide"/>
          </p:cNvPr>
          <p:cNvSpPr/>
          <p:nvPr/>
        </p:nvSpPr>
        <p:spPr>
          <a:xfrm>
            <a:off x="7524720" y="5805360"/>
            <a:ext cx="934920" cy="576360"/>
          </a:xfrm>
          <a:custGeom>
            <a:avLst/>
            <a:gdLst>
              <a:gd name="textAreaLeft" fmla="*/ 37080 w 934920"/>
              <a:gd name="textAreaRight" fmla="*/ 897840 w 934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5029" h="21600">
                <a:moveTo>
                  <a:pt x="0" y="0"/>
                </a:moveTo>
                <a:lnTo>
                  <a:pt x="35029" y="0"/>
                </a:lnTo>
                <a:lnTo>
                  <a:pt x="35029" y="21600"/>
                </a:lnTo>
                <a:lnTo>
                  <a:pt x="0" y="21600"/>
                </a:lnTo>
                <a:close/>
              </a:path>
              <a:path fill="lightenLess" w="35029" h="21600">
                <a:moveTo>
                  <a:pt x="0" y="0"/>
                </a:moveTo>
                <a:lnTo>
                  <a:pt x="35029" y="0"/>
                </a:lnTo>
                <a:lnTo>
                  <a:pt x="33629" y="1400"/>
                </a:lnTo>
                <a:lnTo>
                  <a:pt x="1400" y="1400"/>
                </a:lnTo>
                <a:close/>
              </a:path>
              <a:path fill="darken" w="35029" h="21600">
                <a:moveTo>
                  <a:pt x="35029" y="0"/>
                </a:moveTo>
                <a:lnTo>
                  <a:pt x="35029" y="21600"/>
                </a:lnTo>
                <a:lnTo>
                  <a:pt x="33629" y="20200"/>
                </a:lnTo>
                <a:lnTo>
                  <a:pt x="33629" y="1400"/>
                </a:lnTo>
                <a:close/>
              </a:path>
              <a:path fill="darkenLess" w="35029" h="21600">
                <a:moveTo>
                  <a:pt x="350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29" y="20200"/>
                </a:lnTo>
                <a:close/>
              </a:path>
              <a:path fill="lighten" w="350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29" h="21600">
                <a:moveTo>
                  <a:pt x="17515" y="3837"/>
                </a:moveTo>
                <a:lnTo>
                  <a:pt x="20091" y="6448"/>
                </a:lnTo>
                <a:lnTo>
                  <a:pt x="20091" y="4707"/>
                </a:lnTo>
                <a:lnTo>
                  <a:pt x="21866" y="4707"/>
                </a:lnTo>
                <a:lnTo>
                  <a:pt x="21866" y="8224"/>
                </a:lnTo>
                <a:lnTo>
                  <a:pt x="24478" y="10800"/>
                </a:lnTo>
                <a:lnTo>
                  <a:pt x="22824" y="10800"/>
                </a:lnTo>
                <a:lnTo>
                  <a:pt x="22824" y="17989"/>
                </a:lnTo>
                <a:lnTo>
                  <a:pt x="12205" y="17989"/>
                </a:lnTo>
                <a:lnTo>
                  <a:pt x="12205" y="10800"/>
                </a:lnTo>
                <a:lnTo>
                  <a:pt x="10552" y="10800"/>
                </a:lnTo>
                <a:close/>
              </a:path>
              <a:path fill="darkenLess" w="35029" h="21600">
                <a:moveTo>
                  <a:pt x="20091" y="6448"/>
                </a:moveTo>
                <a:lnTo>
                  <a:pt x="20091" y="4707"/>
                </a:lnTo>
                <a:lnTo>
                  <a:pt x="21866" y="4707"/>
                </a:lnTo>
                <a:lnTo>
                  <a:pt x="21866" y="8224"/>
                </a:lnTo>
                <a:close/>
              </a:path>
              <a:path fill="darkenLess" w="35029" h="21600">
                <a:moveTo>
                  <a:pt x="16592" y="14299"/>
                </a:moveTo>
                <a:lnTo>
                  <a:pt x="18437" y="14299"/>
                </a:lnTo>
                <a:lnTo>
                  <a:pt x="18437" y="17989"/>
                </a:lnTo>
                <a:lnTo>
                  <a:pt x="22824" y="17989"/>
                </a:lnTo>
                <a:lnTo>
                  <a:pt x="22824" y="10800"/>
                </a:lnTo>
                <a:lnTo>
                  <a:pt x="12205" y="10800"/>
                </a:lnTo>
                <a:lnTo>
                  <a:pt x="12205" y="17989"/>
                </a:lnTo>
                <a:lnTo>
                  <a:pt x="16592" y="17989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4T10:46:43Z</dcterms:created>
  <dc:creator/>
  <dc:description/>
  <dc:language>en-US</dc:language>
  <cp:lastModifiedBy>Пк</cp:lastModifiedBy>
  <dcterms:modified xsi:type="dcterms:W3CDTF">2012-10-28T07:34:04Z</dcterms:modified>
  <cp:revision>26</cp:revision>
  <dc:subject/>
  <dc:title>Урок физики в 7 кл.</dc:title>
</cp:coreProperties>
</file>