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118-D343-425F-A46E-006B2239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F139-B5B6-4148-A0F9-331A0242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9ED210-35C5-4AC3-A7C8-44509398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4188D2-3805-42BE-B600-7190A987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E2F64D-53DF-4304-9171-0FA72C60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A042DD-7434-4476-8668-586F38DF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F8EF73-D6D4-4802-A47C-8BA26D8D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E03F27-BB5A-4139-9195-EBECE736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7A6FD7-E298-4098-8F07-5B5A3715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F532D0-B6BB-400B-A3B1-0E194BFB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211620-8B8A-4D4A-AE79-A94CC3DC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0F3E4-96F2-422A-8E9E-C9DBADAC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C4F7-D780-40C3-871B-800279F2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9E4DC-FE19-4640-959E-B290D91D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6DEAD-FF40-4D4F-908B-35D83612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01FA2-9743-4DB9-ADF0-9CCCCA64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CFE56-AE5D-4B9F-89B8-9083C7E9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2D6B3-E2C7-45BA-B164-9861235E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4909C-CDBA-4A39-819E-D8AE6210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2065E-00AC-431E-924A-B8C6F508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25CF7-70CF-4B09-AB55-4C50BFB9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0A58C-E7A0-4011-94F3-29297700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EB35A-5557-4A8A-8C4E-277459B9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78B-11E0-47C4-A07C-42A1191F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2731C-6607-44CC-B8ED-BBC39EDA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6B48B6-A455-4D4F-BEAB-2E1E775B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994EF8-4678-4652-8A28-D5C95DE9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B3BFF1-EC3F-4D1C-9105-9E7C4ABE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3169E9-CFC0-4E21-B114-86A49C01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02BB95-D022-451C-9449-FBBABE97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C3C14D-3E9B-49D5-A82F-603C6857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14EC68-D879-4D6A-B079-E68A5E1E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E480E4-076E-4C5C-B3D8-21EC9BE9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326BE8-6DFC-4BF1-81ED-7A853222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14BE5-0AC2-4B1E-8647-D0DC1C0E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08267B-FB20-4E8E-A9A8-6F86A1D8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1A443F-4839-494E-AE82-FFAEDB7B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1D3A9C-56A4-4730-82B6-8A032270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2B70E8-A814-4257-96A9-6C99BD4D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8C3E3B-6A08-4C5F-8ADE-331F8E47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D56311-FD71-445A-8FE2-822CC7B2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19C9B3-7677-42D7-B30E-4C0A3C19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399A47-A83D-4850-BA45-17B24865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7C36AA-67CE-4B08-A244-57947B6F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EEA12F-EE46-48DA-91C6-CAF3C7B6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7BF70-289C-469A-A91D-D85525E4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9DBDE8-9A44-4E6F-AAAC-03BCC2B3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E82AF0-BF15-4455-95B2-833363CE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298236-447C-4017-85CE-FB316835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5CD077-6A46-41D7-9122-1784A645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0DD219-8DDF-45AC-987D-7F0E7822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BBBCC-7315-4FCA-B0F8-8EBDA5D2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A9846-ED9D-48CB-A512-ED6AA642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45CD6-8F36-480C-A81E-627255AE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F9FCE-D8A8-42DA-B60B-E7EEDC7E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DE63E-7EDE-4BE9-961C-7AFF3296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786-A444-49CC-82FB-72DB1D0F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88D20-9CBE-4CCF-B292-072D0C3C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B08AE-36CA-4A32-9E8F-226F0838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2D9A2-52FA-4D60-92B7-669B0CE8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D6500-6E10-4A4F-B630-2064C49E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8133E-C3E4-4C66-9385-913D81AF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44144-274D-45FC-AA79-503FBC3C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305F1-9D1B-4218-BE22-9880377C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0C22D-4B46-460A-8457-724BC928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38278-CFAC-4B25-A9BA-DBE2CF6E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83C9B-5EE0-48BA-999D-CADF75E4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C09-A2D6-416F-AD23-B7CD5E57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50BC3-17A5-41B0-8093-B56E0046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04774-BE49-4584-9FB5-7A8B883B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C882E-FF58-42C9-A30B-696F87EE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213AF-ABD8-435D-94BD-46BD9D69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1273F-B18E-49CD-8C45-A3D4DB79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C9624-E348-4A8B-9E77-616D617D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70AE0-90FF-4982-8360-5D14F708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C615D0-9E45-4ADF-988D-E0836EA4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067E86-D0A4-4902-9FFB-792DFB01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D61777-F15F-4E7E-8584-746F226D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D05A-2147-4361-802E-99DBB318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E1C8F6-5C9C-4EBF-A0F3-5A85265C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1597C5-9781-494A-80AC-9274782C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0EBE73-4DC4-4191-80D8-4367F96A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DD132B-FC57-49B4-B890-B7CDC7DA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EFBD1B-9AE5-476E-8878-5F76B6F4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22F1AB-9065-4773-9679-3751A081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174F74-1121-4359-834E-EE882F71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92114C-064B-4E1D-80C9-F639C966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1D242B-E68A-48EE-AA2A-F9D148B0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DA5DD9-6123-445A-AA20-60DE7631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B59-72FB-4607-9821-C1BCDB1C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A3209B-9952-4DD8-A9F2-0F26401E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2FE47-04E3-4023-92DA-17F9231F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0A6FDB-2BBD-457A-A96B-F653227A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44D4E8-662F-437B-8292-483A027D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E3EC7B-EECC-4968-B337-498C690F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D1C2CD-8096-4882-88B4-B91EC81D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C3DB8C-9816-454A-A931-EEDBFEA7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E64F2-D50E-44AF-8526-B815279C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1E2029-35C5-4EE8-ADF8-252A92C9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279D94-B1DD-41CB-9716-E7C0D8D2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88A2-122C-40CF-95E8-3F99EA61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5733D-3260-4D27-9882-9497C8A9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D84E50-4699-42C2-9041-D9145239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0B200C-5340-4FA3-AAF1-758EA5ED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53E18A-8CA6-445D-AB22-11E8C14D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29DA4C-5A7F-42A0-9EF0-7EEB02F0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7A6771-3861-4D10-A044-F566651D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C2547A-465B-4BFF-B422-09A8CD99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33A200-E686-48B3-9F32-28969560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47AEB6-754B-464B-857F-C02A88B0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47A549-B01B-4303-8037-2F8D1816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9B7-A34E-4510-9874-CA014853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8C57F7-F1AA-440A-B16C-AC6E1011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E94B2C-7F96-4661-9F9E-153B9AC4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470B1B-B0BD-4594-A343-3B353D58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46BA9B-47B3-494D-A9E6-CA707467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FF16B4-16F2-4F7E-94F1-774FE787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B031B-4D1E-4893-A254-6B77C8D6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9ACF01-E42B-42B6-A438-EBCFA4C6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3A2A1-2F08-4BC6-9160-0EE09676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639B70-D055-4030-8B57-14E6A352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52F21B-ECEF-40C2-83A7-439B3C0C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F789-131B-4310-8687-AD60D093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620830-AF8B-4EEC-9406-70FA3D53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1830BC-4381-4938-8D50-23021D6C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09BE36-4FFE-4425-A563-A24FD6C6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A6508E-045F-40C7-85D2-42560688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4BB5B7-1AEE-4DC4-8D0D-E91AAF69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3BA209-8840-4D85-AA22-81C163A8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9E1C7D-0F20-4690-AE00-710D8C2F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087949-9F4A-49DB-957F-D1CD3E62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E7FFDE-6B22-49EB-95E2-62EFDD3A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ED17E5-88AA-429B-B709-D1BBE18C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1A7E-2DFA-4B38-A264-F5EE879D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811BBD-1841-41D7-B32B-FD2A8291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98B635-BDB4-424F-8981-62E31CBD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6ECD62-2FA8-4A4E-8DDA-81EE9271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7F944D-64F0-4262-9B91-3EFF3115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555D7A-3BA8-4120-9892-EA63B76D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513927-6098-41D6-9E66-FF34CC28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820C2E-4DDE-4CC6-8D2B-AE9A8443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24A692-2E5E-41D2-AF15-B30B48F6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CC3BEF-74B4-4DFA-B243-334464E5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984900-A1C8-4A93-B00E-9F1F678C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3CCA-3842-4A3C-8D2E-0412B74E4539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2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Picture 7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sp>
        <p:nvSpPr>
          <p:cNvPr id="431" name="Straight Connector 9"/>
          <p:cNvSpPr/>
          <p:nvPr/>
        </p:nvSpPr>
        <p:spPr>
          <a:xfrm>
            <a:off x="4419720" y="1523880"/>
            <a:ext cx="4267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0"/>
          <p:cNvSpPr/>
          <p:nvPr/>
        </p:nvSpPr>
        <p:spPr>
          <a:xfrm>
            <a:off x="4419720" y="5637240"/>
            <a:ext cx="4267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20A6-1F58-4DA7-80DA-BB5E516A0D78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76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32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0180-D242-47A1-95F0-E383E367747E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33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524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7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35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9725-B4F8-415F-BFE1-5A3BF95C242D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6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9_02.jpg"/>
          <p:cNvPicPr/>
          <p:nvPr/>
        </p:nvPicPr>
        <p:blipFill>
          <a:blip r:embed="rId2"/>
          <a:stretch/>
        </p:blipFill>
        <p:spPr>
          <a:xfrm>
            <a:off x="7753320" y="0"/>
            <a:ext cx="745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1_05.jpg"/>
          <p:cNvPicPr/>
          <p:nvPr/>
        </p:nvPicPr>
        <p:blipFill>
          <a:blip r:embed="rId3"/>
          <a:stretch/>
        </p:blipFill>
        <p:spPr>
          <a:xfrm>
            <a:off x="7810560" y="0"/>
            <a:ext cx="1333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6" name="Rectangle 9"/>
            <p:cNvSpPr/>
            <p:nvPr/>
          </p:nvSpPr>
          <p:spPr>
            <a:xfrm>
              <a:off x="7813800" y="6630840"/>
              <a:ext cx="1330200" cy="2286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6134040" y="6630840"/>
              <a:ext cx="1609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0" y="6630840"/>
              <a:ext cx="6095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21000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7924680" y="6609960"/>
            <a:ext cx="119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9AA2-89B1-4D42-824C-F29558321D06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457200" y="6609960"/>
            <a:ext cx="560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92" name="Rectangle 3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3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8D16-CC66-4A67-BE49-326AA6DB8645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1438200" y="6629400"/>
            <a:ext cx="7705800" cy="228600"/>
            <a:chOff x="1438200" y="6629400"/>
            <a:chExt cx="7705800" cy="228600"/>
          </a:xfrm>
        </p:grpSpPr>
        <p:sp>
          <p:nvSpPr>
            <p:cNvPr id="140" name="Rectangle 26"/>
            <p:cNvSpPr/>
            <p:nvPr/>
          </p:nvSpPr>
          <p:spPr>
            <a:xfrm>
              <a:off x="8763120" y="662940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7"/>
            <p:cNvSpPr/>
            <p:nvPr/>
          </p:nvSpPr>
          <p:spPr>
            <a:xfrm>
              <a:off x="7142400" y="662940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8"/>
            <p:cNvSpPr/>
            <p:nvPr/>
          </p:nvSpPr>
          <p:spPr>
            <a:xfrm>
              <a:off x="1438200" y="6629400"/>
              <a:ext cx="56642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9" descr="9_01.jpg"/>
          <p:cNvPicPr/>
          <p:nvPr/>
        </p:nvPicPr>
        <p:blipFill>
          <a:blip r:embed="rId2"/>
          <a:stretch/>
        </p:blipFill>
        <p:spPr>
          <a:xfrm>
            <a:off x="0" y="0"/>
            <a:ext cx="13636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vert_bar_02.png"/>
          <p:cNvPicPr/>
          <p:nvPr/>
        </p:nvPicPr>
        <p:blipFill>
          <a:blip r:embed="rId3"/>
          <a:stretch/>
        </p:blipFill>
        <p:spPr>
          <a:xfrm>
            <a:off x="1365120" y="0"/>
            <a:ext cx="730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7162560" y="6610320"/>
            <a:ext cx="1523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1"/>
          </p:nvPr>
        </p:nvSpPr>
        <p:spPr>
          <a:xfrm>
            <a:off x="8741880" y="6610320"/>
            <a:ext cx="38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814A-C9AB-4B73-8EB6-E5FA21196474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2"/>
          </p:nvPr>
        </p:nvSpPr>
        <p:spPr>
          <a:xfrm>
            <a:off x="1523880" y="6610320"/>
            <a:ext cx="5562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3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4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19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4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21E6-3E5B-4557-97DB-05FFDD3DC17E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5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3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38" name="Rectangle 1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7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86CE-95A6-4FDE-BA78-B8F3CB068103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8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2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11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8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EEEE-3BD2-4AAA-B4B1-2D0B121053EC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1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8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32" name="Rectangle 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B737-AC39-414B-B82F-D0B817218E23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4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1" descr="3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3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8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6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E5BC-B7E5-43CC-8303-B22194D74F22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ftr" idx="27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Урок физики в 7 кл.</a:t>
            </a:r>
            <a:endParaRPr b="0" lang="en-US" sz="4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6838920" cy="15127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36147" dir="2700000" blurRad="0" rotWithShape="0">
              <a:srgbClr val="dddddd">
                <a:alpha val="50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 Сложение двух сил, направленных по одной прямой. Равнодействующая сил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556000" y="4150080"/>
            <a:ext cx="52560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Ладанова И.В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МКОУ «Верх-Жилинская ООШ»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7667640" y="595008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117" h="21600">
                <a:moveTo>
                  <a:pt x="11552" y="3794"/>
                </a:moveTo>
                <a:lnTo>
                  <a:pt x="25565" y="10800"/>
                </a:lnTo>
                <a:lnTo>
                  <a:pt x="11552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>
            <a:hlinkClick r:id="" action="ppaction://hlinkshowjump?jump=previousslide"/>
          </p:cNvPr>
          <p:cNvSpPr/>
          <p:nvPr/>
        </p:nvSpPr>
        <p:spPr>
          <a:xfrm>
            <a:off x="6588000" y="5950080"/>
            <a:ext cx="1008360" cy="503280"/>
          </a:xfrm>
          <a:custGeom>
            <a:avLst/>
            <a:gdLst>
              <a:gd name="textAreaLeft" fmla="*/ 32400 w 1008360"/>
              <a:gd name="textAreaRight" fmla="*/ 975960 w 100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3262" h="21600">
                <a:moveTo>
                  <a:pt x="0" y="0"/>
                </a:moveTo>
                <a:lnTo>
                  <a:pt x="43262" y="0"/>
                </a:lnTo>
                <a:lnTo>
                  <a:pt x="43262" y="21600"/>
                </a:lnTo>
                <a:lnTo>
                  <a:pt x="0" y="21600"/>
                </a:lnTo>
                <a:close/>
              </a:path>
              <a:path fill="lightenLess" w="43262" h="21600">
                <a:moveTo>
                  <a:pt x="0" y="0"/>
                </a:moveTo>
                <a:lnTo>
                  <a:pt x="43262" y="0"/>
                </a:lnTo>
                <a:lnTo>
                  <a:pt x="41862" y="1400"/>
                </a:lnTo>
                <a:lnTo>
                  <a:pt x="1400" y="1400"/>
                </a:lnTo>
                <a:close/>
              </a:path>
              <a:path fill="darken" w="43262" h="21600">
                <a:moveTo>
                  <a:pt x="43262" y="0"/>
                </a:moveTo>
                <a:lnTo>
                  <a:pt x="43262" y="21600"/>
                </a:lnTo>
                <a:lnTo>
                  <a:pt x="41862" y="20200"/>
                </a:lnTo>
                <a:lnTo>
                  <a:pt x="41862" y="1400"/>
                </a:lnTo>
                <a:close/>
              </a:path>
              <a:path fill="darkenLess" w="43262" h="21600">
                <a:moveTo>
                  <a:pt x="43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62" y="20200"/>
                </a:lnTo>
                <a:close/>
              </a:path>
              <a:path fill="lighten" w="43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62" h="21600">
                <a:moveTo>
                  <a:pt x="14624" y="10800"/>
                </a:moveTo>
                <a:lnTo>
                  <a:pt x="28637" y="3794"/>
                </a:lnTo>
                <a:lnTo>
                  <a:pt x="28637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5"/>
          <p:cNvSpPr/>
          <p:nvPr/>
        </p:nvSpPr>
        <p:spPr>
          <a:xfrm>
            <a:off x="684360" y="765000"/>
            <a:ext cx="49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395280" y="189000"/>
            <a:ext cx="504036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ила, которая производит на тело такое же действие, как несколько одновременно действующих сил, называется равнодействующей эти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4140360" y="3645000"/>
            <a:ext cx="403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бозначение: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8"/>
          <p:cNvSpPr/>
          <p:nvPr/>
        </p:nvSpPr>
        <p:spPr>
          <a:xfrm>
            <a:off x="7380360" y="3645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9"/>
          <p:cNvSpPr/>
          <p:nvPr/>
        </p:nvSpPr>
        <p:spPr>
          <a:xfrm>
            <a:off x="752472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3794"/>
                </a:moveTo>
                <a:lnTo>
                  <a:pt x="37318" y="10800"/>
                </a:lnTo>
                <a:lnTo>
                  <a:pt x="2330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0">
            <a:hlinkClick r:id="" action="ppaction://hlinkshowjump?jump=previousslide"/>
          </p:cNvPr>
          <p:cNvSpPr/>
          <p:nvPr/>
        </p:nvSpPr>
        <p:spPr>
          <a:xfrm>
            <a:off x="644364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10800"/>
                </a:moveTo>
                <a:lnTo>
                  <a:pt x="37318" y="3794"/>
                </a:lnTo>
                <a:lnTo>
                  <a:pt x="37318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1116000" y="429264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1547640" y="4653000"/>
            <a:ext cx="3240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диница измерения: </a:t>
            </a:r>
            <a:r>
              <a:rPr b="1" lang="ru-RU" sz="28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29"/>
          <p:cNvSpPr/>
          <p:nvPr/>
        </p:nvSpPr>
        <p:spPr>
          <a:xfrm>
            <a:off x="2411280" y="4221000"/>
            <a:ext cx="3529080" cy="86364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3059280" y="3141720"/>
            <a:ext cx="3817800" cy="431640"/>
          </a:xfrm>
          <a:prstGeom prst="rightArrow">
            <a:avLst>
              <a:gd name="adj1" fmla="val 50000"/>
              <a:gd name="adj2" fmla="val 221122"/>
            </a:avLst>
          </a:prstGeom>
          <a:solidFill>
            <a:srgbClr val="e19b0b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539640" y="189000"/>
            <a:ext cx="31687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одну сторону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равна сумме этих сил и направлена в ту же ст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916360" y="3213000"/>
            <a:ext cx="21420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6"/>
          <p:cNvSpPr/>
          <p:nvPr/>
        </p:nvSpPr>
        <p:spPr>
          <a:xfrm>
            <a:off x="3132000" y="3213000"/>
            <a:ext cx="2448000" cy="287280"/>
          </a:xfrm>
          <a:prstGeom prst="rightArrow">
            <a:avLst>
              <a:gd name="adj1" fmla="val 50000"/>
              <a:gd name="adj2" fmla="val 213033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7"/>
          <p:cNvSpPr/>
          <p:nvPr/>
        </p:nvSpPr>
        <p:spPr>
          <a:xfrm>
            <a:off x="3059280" y="3213000"/>
            <a:ext cx="1223640" cy="287280"/>
          </a:xfrm>
          <a:prstGeom prst="rightArrow">
            <a:avLst>
              <a:gd name="adj1" fmla="val 50000"/>
              <a:gd name="adj2" fmla="val 106485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4"/>
          <p:cNvSpPr/>
          <p:nvPr/>
        </p:nvSpPr>
        <p:spPr>
          <a:xfrm>
            <a:off x="3203640" y="3706920"/>
            <a:ext cx="431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3276720" y="371628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4356000" y="371628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4427640" y="3716280"/>
            <a:ext cx="28872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5"/>
          <p:cNvSpPr/>
          <p:nvPr/>
        </p:nvSpPr>
        <p:spPr>
          <a:xfrm>
            <a:off x="5508720" y="3716280"/>
            <a:ext cx="79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6"/>
          <p:cNvSpPr/>
          <p:nvPr/>
        </p:nvSpPr>
        <p:spPr>
          <a:xfrm>
            <a:off x="5580000" y="3716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7"/>
          <p:cNvSpPr/>
          <p:nvPr/>
        </p:nvSpPr>
        <p:spPr>
          <a:xfrm>
            <a:off x="2771640" y="4365720"/>
            <a:ext cx="3527640" cy="648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+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0">
            <a:hlinkClick r:id="" action="ppaction://hlinkshowjump?jump=previousslide"/>
          </p:cNvPr>
          <p:cNvSpPr/>
          <p:nvPr/>
        </p:nvSpPr>
        <p:spPr>
          <a:xfrm>
            <a:off x="6804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1">
            <a:hlinkClick r:id="" action="ppaction://hlinkshowjump?jump=nextslide"/>
          </p:cNvPr>
          <p:cNvSpPr/>
          <p:nvPr/>
        </p:nvSpPr>
        <p:spPr>
          <a:xfrm>
            <a:off x="766764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500" autoRev="1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20"/>
          <p:cNvSpPr/>
          <p:nvPr/>
        </p:nvSpPr>
        <p:spPr>
          <a:xfrm>
            <a:off x="3564000" y="5589720"/>
            <a:ext cx="2808360" cy="57600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684360" y="907920"/>
            <a:ext cx="51829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противоположные сторон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направлена в сторону большей по модулю силы, а её модуль равен разности модулей составляющих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"/>
          <p:cNvSpPr/>
          <p:nvPr/>
        </p:nvSpPr>
        <p:spPr>
          <a:xfrm>
            <a:off x="4643280" y="4365720"/>
            <a:ext cx="360360" cy="35856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4788000" y="4437000"/>
            <a:ext cx="3456000" cy="216000"/>
          </a:xfrm>
          <a:prstGeom prst="rightArrow">
            <a:avLst>
              <a:gd name="adj1" fmla="val 50000"/>
              <a:gd name="adj2" fmla="val 400000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8"/>
          <p:cNvSpPr/>
          <p:nvPr/>
        </p:nvSpPr>
        <p:spPr>
          <a:xfrm>
            <a:off x="3564000" y="4437000"/>
            <a:ext cx="1224000" cy="216000"/>
          </a:xfrm>
          <a:prstGeom prst="lef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9"/>
          <p:cNvSpPr/>
          <p:nvPr/>
        </p:nvSpPr>
        <p:spPr>
          <a:xfrm>
            <a:off x="4788000" y="4292640"/>
            <a:ext cx="1944720" cy="503280"/>
          </a:xfrm>
          <a:prstGeom prst="rightArrow">
            <a:avLst>
              <a:gd name="adj1" fmla="val 50000"/>
              <a:gd name="adj2" fmla="val 96602"/>
            </a:avLst>
          </a:prstGeom>
          <a:solidFill>
            <a:srgbClr val="e19b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3132000" y="4653000"/>
            <a:ext cx="576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3203640" y="4653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"/>
          <p:cNvSpPr/>
          <p:nvPr/>
        </p:nvSpPr>
        <p:spPr>
          <a:xfrm>
            <a:off x="7812000" y="4724280"/>
            <a:ext cx="792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7885080" y="4724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6"/>
          <p:cNvSpPr/>
          <p:nvPr/>
        </p:nvSpPr>
        <p:spPr>
          <a:xfrm>
            <a:off x="5219640" y="4797360"/>
            <a:ext cx="79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5292720" y="4797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3059280" y="5516640"/>
            <a:ext cx="352872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–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21">
            <a:hlinkClick r:id="" action="ppaction://hlinkshowjump?jump=previousslide"/>
          </p:cNvPr>
          <p:cNvSpPr/>
          <p:nvPr/>
        </p:nvSpPr>
        <p:spPr>
          <a:xfrm>
            <a:off x="6877080" y="6237360"/>
            <a:ext cx="790560" cy="43164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546" h="21600">
                <a:moveTo>
                  <a:pt x="0" y="0"/>
                </a:moveTo>
                <a:lnTo>
                  <a:pt x="39546" y="0"/>
                </a:lnTo>
                <a:lnTo>
                  <a:pt x="39546" y="21600"/>
                </a:lnTo>
                <a:lnTo>
                  <a:pt x="0" y="21600"/>
                </a:lnTo>
                <a:close/>
              </a:path>
              <a:path fill="lightenLess" w="39546" h="21600">
                <a:moveTo>
                  <a:pt x="0" y="0"/>
                </a:moveTo>
                <a:lnTo>
                  <a:pt x="39546" y="0"/>
                </a:lnTo>
                <a:lnTo>
                  <a:pt x="38146" y="1400"/>
                </a:lnTo>
                <a:lnTo>
                  <a:pt x="1400" y="1400"/>
                </a:lnTo>
                <a:close/>
              </a:path>
              <a:path fill="darken" w="39546" h="21600">
                <a:moveTo>
                  <a:pt x="39546" y="0"/>
                </a:moveTo>
                <a:lnTo>
                  <a:pt x="39546" y="21600"/>
                </a:lnTo>
                <a:lnTo>
                  <a:pt x="38146" y="20200"/>
                </a:lnTo>
                <a:lnTo>
                  <a:pt x="38146" y="1400"/>
                </a:lnTo>
                <a:close/>
              </a:path>
              <a:path fill="darkenLess" w="39546" h="21600">
                <a:moveTo>
                  <a:pt x="39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46" y="20200"/>
                </a:lnTo>
                <a:close/>
              </a:path>
              <a:path fill="lighten" w="39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46" h="21600">
                <a:moveTo>
                  <a:pt x="12767" y="10800"/>
                </a:moveTo>
                <a:lnTo>
                  <a:pt x="26779" y="3794"/>
                </a:lnTo>
                <a:lnTo>
                  <a:pt x="26779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22">
            <a:hlinkClick r:id="" action="ppaction://hlinkshowjump?jump=nextslide"/>
          </p:cNvPr>
          <p:cNvSpPr/>
          <p:nvPr/>
        </p:nvSpPr>
        <p:spPr>
          <a:xfrm>
            <a:off x="7740720" y="623736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24988" y="10800"/>
                </a:lnTo>
                <a:lnTo>
                  <a:pt x="10976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500" autoRev="1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15"/>
          <p:cNvSpPr/>
          <p:nvPr/>
        </p:nvSpPr>
        <p:spPr>
          <a:xfrm>
            <a:off x="3924360" y="4508640"/>
            <a:ext cx="1655640" cy="71892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539640" y="549360"/>
            <a:ext cx="475308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сли к телу приложены дв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вные по модулю и противоположные по направлению сил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то равнодействующая равна нулю, а тело движется прямолинейно и равном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5"/>
          <p:cNvSpPr/>
          <p:nvPr/>
        </p:nvSpPr>
        <p:spPr>
          <a:xfrm>
            <a:off x="2124000" y="3429000"/>
            <a:ext cx="28728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6"/>
          <p:cNvSpPr/>
          <p:nvPr/>
        </p:nvSpPr>
        <p:spPr>
          <a:xfrm>
            <a:off x="2268360" y="3429000"/>
            <a:ext cx="1657440" cy="289080"/>
          </a:xfrm>
          <a:prstGeom prst="rightArrow">
            <a:avLst>
              <a:gd name="adj1" fmla="val 50000"/>
              <a:gd name="adj2" fmla="val 14333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755640" y="3429000"/>
            <a:ext cx="1511280" cy="289080"/>
          </a:xfrm>
          <a:prstGeom prst="leftArrow">
            <a:avLst>
              <a:gd name="adj1" fmla="val 50000"/>
              <a:gd name="adj2" fmla="val 13069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684360" y="3789360"/>
            <a:ext cx="647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3348000" y="378936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1"/>
          <p:cNvSpPr/>
          <p:nvPr/>
        </p:nvSpPr>
        <p:spPr>
          <a:xfrm>
            <a:off x="755640" y="3789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2"/>
          <p:cNvSpPr/>
          <p:nvPr/>
        </p:nvSpPr>
        <p:spPr>
          <a:xfrm>
            <a:off x="3419640" y="378936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2916360" y="450864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64000" y="4581360"/>
            <a:ext cx="2374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6"/>
          <p:cNvSpPr/>
          <p:nvPr/>
        </p:nvSpPr>
        <p:spPr>
          <a:xfrm>
            <a:off x="5940360" y="3500280"/>
            <a:ext cx="1944720" cy="0"/>
          </a:xfrm>
          <a:prstGeom prst="line">
            <a:avLst/>
          </a:prstGeom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7"/>
          <p:cNvSpPr/>
          <p:nvPr/>
        </p:nvSpPr>
        <p:spPr>
          <a:xfrm>
            <a:off x="6732720" y="2997360"/>
            <a:ext cx="576000" cy="504720"/>
          </a:xfrm>
          <a:prstGeom prst="rect">
            <a:avLst/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8"/>
          <p:cNvSpPr/>
          <p:nvPr/>
        </p:nvSpPr>
        <p:spPr>
          <a:xfrm>
            <a:off x="6877080" y="3500280"/>
            <a:ext cx="216000" cy="1008360"/>
          </a:xfrm>
          <a:prstGeom prst="downArrow">
            <a:avLst>
              <a:gd name="adj1" fmla="val 50000"/>
              <a:gd name="adj2" fmla="val 116708"/>
            </a:avLst>
          </a:prstGeom>
          <a:solidFill>
            <a:srgbClr val="f5b123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9"/>
          <p:cNvSpPr/>
          <p:nvPr/>
        </p:nvSpPr>
        <p:spPr>
          <a:xfrm>
            <a:off x="6877080" y="2492280"/>
            <a:ext cx="216000" cy="1008000"/>
          </a:xfrm>
          <a:prstGeom prst="upArrow">
            <a:avLst>
              <a:gd name="adj1" fmla="val 50000"/>
              <a:gd name="adj2" fmla="val 116667"/>
            </a:avLst>
          </a:prstGeom>
          <a:solidFill>
            <a:srgbClr val="00ffcc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7236000" y="4005360"/>
            <a:ext cx="647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1"/>
          <p:cNvSpPr/>
          <p:nvPr/>
        </p:nvSpPr>
        <p:spPr>
          <a:xfrm>
            <a:off x="7236000" y="2492280"/>
            <a:ext cx="502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2"/>
          <p:cNvSpPr/>
          <p:nvPr/>
        </p:nvSpPr>
        <p:spPr>
          <a:xfrm>
            <a:off x="7308720" y="2492280"/>
            <a:ext cx="216000" cy="0"/>
          </a:xfrm>
          <a:prstGeom prst="line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3"/>
          <p:cNvSpPr/>
          <p:nvPr/>
        </p:nvSpPr>
        <p:spPr>
          <a:xfrm>
            <a:off x="7308720" y="4076640"/>
            <a:ext cx="2160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24">
            <a:hlinkClick r:id="" action="ppaction://hlinkshowjump?jump=nextslide"/>
          </p:cNvPr>
          <p:cNvSpPr/>
          <p:nvPr/>
        </p:nvSpPr>
        <p:spPr>
          <a:xfrm>
            <a:off x="781200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25">
            <a:hlinkClick r:id="" action="ppaction://hlinkshowjump?jump=previousslide"/>
          </p:cNvPr>
          <p:cNvSpPr/>
          <p:nvPr/>
        </p:nvSpPr>
        <p:spPr>
          <a:xfrm>
            <a:off x="687708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2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1"/>
          <p:cNvSpPr/>
          <p:nvPr/>
        </p:nvSpPr>
        <p:spPr>
          <a:xfrm flipV="1">
            <a:off x="2195640" y="3068640"/>
            <a:ext cx="2879640" cy="504720"/>
          </a:xfrm>
          <a:prstGeom prst="rightArrow">
            <a:avLst>
              <a:gd name="adj1" fmla="val 50000"/>
              <a:gd name="adj2" fmla="val 142636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1116000" y="692280"/>
            <a:ext cx="655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пределите равнодействующую с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900000" y="126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1"/>
          <p:cNvSpPr/>
          <p:nvPr/>
        </p:nvSpPr>
        <p:spPr>
          <a:xfrm>
            <a:off x="2700360" y="170028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771640" y="1628640"/>
            <a:ext cx="2448000" cy="432000"/>
          </a:xfrm>
          <a:prstGeom prst="righ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050920" y="1628640"/>
            <a:ext cx="720720" cy="432000"/>
          </a:xfrm>
          <a:prstGeom prst="leftArrow">
            <a:avLst>
              <a:gd name="adj1" fmla="val 50000"/>
              <a:gd name="adj2" fmla="val 41708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1619280" y="1989000"/>
            <a:ext cx="223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5076720" y="1916280"/>
            <a:ext cx="129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900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9"/>
          <p:cNvSpPr/>
          <p:nvPr/>
        </p:nvSpPr>
        <p:spPr>
          <a:xfrm>
            <a:off x="2124000" y="3213000"/>
            <a:ext cx="144360" cy="21600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20"/>
          <p:cNvSpPr/>
          <p:nvPr/>
        </p:nvSpPr>
        <p:spPr>
          <a:xfrm>
            <a:off x="2195640" y="3068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2"/>
          <p:cNvSpPr/>
          <p:nvPr/>
        </p:nvSpPr>
        <p:spPr>
          <a:xfrm>
            <a:off x="1692360" y="3500280"/>
            <a:ext cx="1225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3"/>
          <p:cNvSpPr/>
          <p:nvPr/>
        </p:nvSpPr>
        <p:spPr>
          <a:xfrm>
            <a:off x="5076720" y="3429000"/>
            <a:ext cx="1513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4"/>
          <p:cNvSpPr/>
          <p:nvPr/>
        </p:nvSpPr>
        <p:spPr>
          <a:xfrm>
            <a:off x="90000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25"/>
          <p:cNvSpPr/>
          <p:nvPr/>
        </p:nvSpPr>
        <p:spPr>
          <a:xfrm>
            <a:off x="3492360" y="465300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27"/>
          <p:cNvSpPr/>
          <p:nvPr/>
        </p:nvSpPr>
        <p:spPr>
          <a:xfrm>
            <a:off x="3564000" y="4581360"/>
            <a:ext cx="1584360" cy="432000"/>
          </a:xfrm>
          <a:prstGeom prst="rightArrow">
            <a:avLst>
              <a:gd name="adj1" fmla="val 50000"/>
              <a:gd name="adj2" fmla="val 91688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8"/>
          <p:cNvSpPr/>
          <p:nvPr/>
        </p:nvSpPr>
        <p:spPr>
          <a:xfrm>
            <a:off x="2124000" y="4581360"/>
            <a:ext cx="1440000" cy="4320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9"/>
          <p:cNvSpPr/>
          <p:nvPr/>
        </p:nvSpPr>
        <p:spPr>
          <a:xfrm>
            <a:off x="2340000" y="5084640"/>
            <a:ext cx="1079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0"/>
          <p:cNvSpPr/>
          <p:nvPr/>
        </p:nvSpPr>
        <p:spPr>
          <a:xfrm>
            <a:off x="4643280" y="5084640"/>
            <a:ext cx="129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32">
            <a:hlinkClick r:id="" action="ppaction://hlinkshowjump?jump=nextslide"/>
          </p:cNvPr>
          <p:cNvSpPr/>
          <p:nvPr/>
        </p:nvSpPr>
        <p:spPr>
          <a:xfrm>
            <a:off x="7740720" y="6165720"/>
            <a:ext cx="718920" cy="43200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34" h="21600">
                <a:moveTo>
                  <a:pt x="0" y="0"/>
                </a:moveTo>
                <a:lnTo>
                  <a:pt x="35934" y="0"/>
                </a:lnTo>
                <a:lnTo>
                  <a:pt x="35934" y="21600"/>
                </a:lnTo>
                <a:lnTo>
                  <a:pt x="0" y="21600"/>
                </a:lnTo>
                <a:close/>
              </a:path>
              <a:path fill="lightenLess" w="35934" h="21600">
                <a:moveTo>
                  <a:pt x="0" y="0"/>
                </a:moveTo>
                <a:lnTo>
                  <a:pt x="35934" y="0"/>
                </a:lnTo>
                <a:lnTo>
                  <a:pt x="34534" y="1400"/>
                </a:lnTo>
                <a:lnTo>
                  <a:pt x="1400" y="1400"/>
                </a:lnTo>
                <a:close/>
              </a:path>
              <a:path fill="darken" w="35934" h="21600">
                <a:moveTo>
                  <a:pt x="35934" y="0"/>
                </a:moveTo>
                <a:lnTo>
                  <a:pt x="35934" y="21600"/>
                </a:lnTo>
                <a:lnTo>
                  <a:pt x="34534" y="20200"/>
                </a:lnTo>
                <a:lnTo>
                  <a:pt x="34534" y="1400"/>
                </a:lnTo>
                <a:close/>
              </a:path>
              <a:path fill="darkenLess" w="35934" h="21600">
                <a:moveTo>
                  <a:pt x="359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34" y="20200"/>
                </a:lnTo>
                <a:close/>
              </a:path>
              <a:path fill="lighten" w="359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34" h="21600">
                <a:moveTo>
                  <a:pt x="10961" y="3794"/>
                </a:moveTo>
                <a:lnTo>
                  <a:pt x="24974" y="10800"/>
                </a:lnTo>
                <a:lnTo>
                  <a:pt x="10961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3">
            <a:hlinkClick r:id="" action="ppaction://hlinkshowjump?jump=previousslide"/>
          </p:cNvPr>
          <p:cNvSpPr/>
          <p:nvPr/>
        </p:nvSpPr>
        <p:spPr>
          <a:xfrm>
            <a:off x="673272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4" descr="репка"/>
          <p:cNvPicPr/>
          <p:nvPr/>
        </p:nvPicPr>
        <p:blipFill>
          <a:blip r:embed="rId1"/>
          <a:stretch/>
        </p:blipFill>
        <p:spPr>
          <a:xfrm>
            <a:off x="539640" y="404640"/>
            <a:ext cx="4896000" cy="361188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5"/>
          <p:cNvSpPr/>
          <p:nvPr/>
        </p:nvSpPr>
        <p:spPr>
          <a:xfrm>
            <a:off x="1979640" y="4221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1116000" y="4149720"/>
            <a:ext cx="72709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д, взявшись за репку, развивает силу тяги до 600 Н, бабка до 100 Н, внучка до 50 Н, Жучка до 30 Н, кошка до 10 Н и мышка до 2 Н. Чему равна равнодействующая всех сил, направленных по одной прямой в одну и ту же сторону? Справилась бы с репкой эта компания без мышки, если силы, удерживающие репку, равны 791 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5940360" y="2852640"/>
            <a:ext cx="2232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Решите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8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02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6102" h="21600">
                <a:moveTo>
                  <a:pt x="0" y="0"/>
                </a:moveTo>
                <a:lnTo>
                  <a:pt x="36102" y="0"/>
                </a:lnTo>
                <a:lnTo>
                  <a:pt x="36102" y="21600"/>
                </a:lnTo>
                <a:lnTo>
                  <a:pt x="0" y="21600"/>
                </a:lnTo>
                <a:close/>
              </a:path>
              <a:path fill="lightenLess" w="36102" h="21600">
                <a:moveTo>
                  <a:pt x="0" y="0"/>
                </a:moveTo>
                <a:lnTo>
                  <a:pt x="36102" y="0"/>
                </a:lnTo>
                <a:lnTo>
                  <a:pt x="34702" y="1400"/>
                </a:lnTo>
                <a:lnTo>
                  <a:pt x="1400" y="1400"/>
                </a:lnTo>
                <a:close/>
              </a:path>
              <a:path fill="darken" w="36102" h="21600">
                <a:moveTo>
                  <a:pt x="36102" y="0"/>
                </a:moveTo>
                <a:lnTo>
                  <a:pt x="36102" y="21600"/>
                </a:lnTo>
                <a:lnTo>
                  <a:pt x="34702" y="20200"/>
                </a:lnTo>
                <a:lnTo>
                  <a:pt x="34702" y="1400"/>
                </a:lnTo>
                <a:close/>
              </a:path>
              <a:path fill="darkenLess" w="36102" h="21600">
                <a:moveTo>
                  <a:pt x="36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702" y="20200"/>
                </a:lnTo>
                <a:close/>
              </a:path>
              <a:path fill="lighten" w="36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102" h="21600">
                <a:moveTo>
                  <a:pt x="11045" y="3794"/>
                </a:moveTo>
                <a:lnTo>
                  <a:pt x="25058" y="10800"/>
                </a:lnTo>
                <a:lnTo>
                  <a:pt x="1104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0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" descr="парашют"/>
          <p:cNvPicPr/>
          <p:nvPr/>
        </p:nvPicPr>
        <p:blipFill>
          <a:blip r:embed="rId1"/>
          <a:stretch/>
        </p:blipFill>
        <p:spPr>
          <a:xfrm>
            <a:off x="0" y="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6"/>
          <p:cNvSpPr/>
          <p:nvPr/>
        </p:nvSpPr>
        <p:spPr>
          <a:xfrm>
            <a:off x="2050920" y="4365720"/>
            <a:ext cx="59770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портсмен равномерно спускается на парашюте. Какова сила тяжести, действующая на парашютиста вместе с парашютом? Сила сопротивления воздуха 800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7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8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6732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4"/>
          <p:cNvSpPr/>
          <p:nvPr/>
        </p:nvSpPr>
        <p:spPr>
          <a:xfrm>
            <a:off x="1332000" y="476280"/>
            <a:ext cx="67690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omic Sans MS"/>
              </a:rPr>
              <a:t>Благодарю за внимание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5">
            <a:hlinkClick r:id="" action="ppaction://hlinkshowjump?jump=firstslide"/>
          </p:cNvPr>
          <p:cNvSpPr/>
          <p:nvPr/>
        </p:nvSpPr>
        <p:spPr>
          <a:xfrm>
            <a:off x="7524720" y="5805360"/>
            <a:ext cx="934920" cy="576360"/>
          </a:xfrm>
          <a:custGeom>
            <a:avLst/>
            <a:gdLst>
              <a:gd name="textAreaLeft" fmla="*/ 37080 w 934920"/>
              <a:gd name="textAreaRight" fmla="*/ 897840 w 934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29" h="21600">
                <a:moveTo>
                  <a:pt x="0" y="0"/>
                </a:moveTo>
                <a:lnTo>
                  <a:pt x="35029" y="0"/>
                </a:lnTo>
                <a:lnTo>
                  <a:pt x="35029" y="21600"/>
                </a:lnTo>
                <a:lnTo>
                  <a:pt x="0" y="21600"/>
                </a:lnTo>
                <a:close/>
              </a:path>
              <a:path fill="lightenLess" w="35029" h="21600">
                <a:moveTo>
                  <a:pt x="0" y="0"/>
                </a:moveTo>
                <a:lnTo>
                  <a:pt x="35029" y="0"/>
                </a:lnTo>
                <a:lnTo>
                  <a:pt x="33629" y="1400"/>
                </a:lnTo>
                <a:lnTo>
                  <a:pt x="1400" y="1400"/>
                </a:lnTo>
                <a:close/>
              </a:path>
              <a:path fill="darken" w="35029" h="21600">
                <a:moveTo>
                  <a:pt x="35029" y="0"/>
                </a:moveTo>
                <a:lnTo>
                  <a:pt x="35029" y="21600"/>
                </a:lnTo>
                <a:lnTo>
                  <a:pt x="33629" y="20200"/>
                </a:lnTo>
                <a:lnTo>
                  <a:pt x="33629" y="1400"/>
                </a:lnTo>
                <a:close/>
              </a:path>
              <a:path fill="darkenLess" w="35029" h="21600">
                <a:moveTo>
                  <a:pt x="35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29" y="20200"/>
                </a:lnTo>
                <a:close/>
              </a:path>
              <a:path fill="lighten" w="35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29" h="21600">
                <a:moveTo>
                  <a:pt x="17515" y="3837"/>
                </a:moveTo>
                <a:lnTo>
                  <a:pt x="20091" y="6448"/>
                </a:ln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lnTo>
                  <a:pt x="24478" y="10800"/>
                </a:lnTo>
                <a:lnTo>
                  <a:pt x="22824" y="10800"/>
                </a:lnTo>
                <a:lnTo>
                  <a:pt x="22824" y="17989"/>
                </a:lnTo>
                <a:lnTo>
                  <a:pt x="12205" y="17989"/>
                </a:lnTo>
                <a:lnTo>
                  <a:pt x="12205" y="10800"/>
                </a:lnTo>
                <a:lnTo>
                  <a:pt x="10552" y="10800"/>
                </a:lnTo>
                <a:close/>
              </a:path>
              <a:path fill="darkenLess" w="35029" h="21600">
                <a:moveTo>
                  <a:pt x="20091" y="6448"/>
                </a:move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close/>
              </a:path>
              <a:path fill="darkenLess" w="35029" h="21600">
                <a:moveTo>
                  <a:pt x="16592" y="14299"/>
                </a:moveTo>
                <a:lnTo>
                  <a:pt x="18437" y="14299"/>
                </a:lnTo>
                <a:lnTo>
                  <a:pt x="18437" y="17989"/>
                </a:lnTo>
                <a:lnTo>
                  <a:pt x="22824" y="17989"/>
                </a:lnTo>
                <a:lnTo>
                  <a:pt x="22824" y="10800"/>
                </a:lnTo>
                <a:lnTo>
                  <a:pt x="12205" y="10800"/>
                </a:lnTo>
                <a:lnTo>
                  <a:pt x="12205" y="17989"/>
                </a:lnTo>
                <a:lnTo>
                  <a:pt x="16592" y="17989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0:46:43Z</dcterms:created>
  <dc:creator/>
  <dc:description/>
  <dc:language>en-US</dc:language>
  <cp:lastModifiedBy>Пк</cp:lastModifiedBy>
  <dcterms:modified xsi:type="dcterms:W3CDTF">2012-10-28T07:34:04Z</dcterms:modified>
  <cp:revision>26</cp:revision>
  <dc:subject/>
  <dc:title>Урок физики в 7 кл.</dc:title>
</cp:coreProperties>
</file>