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B5C-9C68-4D3E-9D95-94C2A1FB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DFB-B1F5-4C57-BE4D-D2A7BBB9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CD6488-6F18-4725-B1FE-DBC2B1E2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F505A1-87BA-4A89-A657-D6A93C6A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8649D6-4B33-4A54-9DB1-5F3F5343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2857DB-4707-476C-8334-3465BD9B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9A7BAB-6A2D-400A-924B-B8C915F1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C254B3-E797-4895-BBC9-4CD6245E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EAC7B0-F848-4688-BA18-B47312E6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43D6A6-D39C-4C78-8120-D668580C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699C00-B81C-43BF-9330-8703B22E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6E776-5D6C-4FA2-BEF8-C5B0BB7C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4D7-F71E-43B9-840E-1035EF2C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DCC9E-787D-4BDB-9423-617F37B2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E5C86-7727-48A5-BCE5-F7A79C1D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7C4EF-E876-47B6-AB0B-6BC00D8B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ED81E-2002-43AA-847D-CA1300DE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667C5-CB62-4398-B78C-4F2F84C5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CD963-9DB1-44DA-9F35-347F0E6D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DD61D-D3C1-4721-9B2B-9BB3C12E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CD7E7-BD54-450B-8F52-84D488BC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01DED-62A2-4637-A867-A0A84B9C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12830-D597-458C-AF81-28861261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FCC-1C8F-4790-99F2-8FBD9082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FAF82-F096-4C15-B468-814A2FD4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12FFBF-0F4B-479D-AB0E-A2E7EBD1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46DBC8-4484-4AA5-AEE8-BB32BF46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AECEE3-E777-49D0-97AF-AEEED09B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1A4670-8BAF-43BC-BC54-0E840A73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EDBC12-B978-47CD-BC58-BCBBA976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A6CEE6-D057-42D2-A2AC-B292626A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5193CA-ED6B-46E3-A2B1-EFEF5B2F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57A926-3211-4500-95AB-7361F493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BBD4F8-4C77-44EE-B07E-FC39DD67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F5D3D-0A12-4BE3-B8FE-971F8552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17F75A-C1DF-41D8-99A9-CE086F76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C72177-E26E-40ED-9404-330E13F6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632606-6EA1-44B4-9906-D8F01CA7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4DDA6A-A6BC-4469-A1C0-7610B5C2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1E54DE-025D-47AE-AC58-3D1D225B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022195-B55F-4E0C-9AE7-0B06E8A4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97EE23-8759-4A2F-B949-164943FB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B86349-CA4C-4F3C-9BEF-5EC1D23A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DC1079-685A-46B4-A3A5-B28155C9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E579FA-BA60-42BA-84D6-6E47D30A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4DE79-A5EF-4D6F-B885-6EB8F6F9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DCA22C-6F0B-4EDB-9D14-E30C36A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67A379-B59D-460E-B4FC-ED075FC1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2446A6-A277-43C9-BF4B-DECD4A1A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1ACE69-F024-4AD0-89CF-16083B46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0852F8-839B-4615-99A4-B4A461F3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0AB84-278D-453C-90BF-9328A1D0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4D0A9-63A1-4A4E-9B57-F227E28E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1A2CE-6FA7-450F-9BB8-3733CB94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7AFFB-8B52-4A28-BBA8-A8F50CC0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BD84B-6C2D-4468-8638-F61C481E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43B-0C74-48C5-8E11-7901E265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8D0DE-ED61-4352-9F91-4E541BD5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527D4-4EAC-4C2F-9CDD-9663C500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6AEF3-7852-4A65-9E0E-4229E692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CC10A-57BE-4C52-8519-2BA1B16E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C8139-8280-41EA-A726-6C0B510F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70E59-C987-4213-8F1E-5C63FD07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3B082-D2E2-4A2A-90C1-C0F9CA6C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7A65C-A223-4042-9BCF-887A9910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49EE6-442C-4EFB-B168-8EB3CFE3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58445-FF6F-4766-8064-96E212AB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7A1-7A01-45CB-B14A-DFA3AFA7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217B4-EDCC-4C7D-BDEB-A2C074F1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856F5-CFA1-4B0D-A4EB-FFD62003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74FBE-0411-45FA-AB00-877D5A2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7A70D-B027-4075-B030-ED1C46F9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A8958-D445-48A5-9CAB-58E41DFB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8C8DF-DCA4-422B-9CA7-47A73814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4E603-444E-451E-AB3E-AEA22CF6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09BCFF-DDD0-47BB-BB8C-B06CBE0F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5D5A1-0736-44F5-99A5-5CF897EE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EED8E-2631-4593-814E-3101415C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A29-448A-4663-9501-1E04F93D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4507A-7BF3-4768-9ADC-CEECF36C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59CBE-BCEB-4A7F-88B3-0E2E38CA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D71D3-167C-4E52-A923-2C536BA1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453D5-A58A-414F-85CD-32CCC91E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973C8-A1F4-44B1-A29A-4B91A48A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1B0A8-61EE-4C3A-86A0-DFCCCA1A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5E1C7-A473-46B8-A9EB-A3FE50A3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C5100-57D5-427C-9F8B-C7703D85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C2A41-525A-409D-BE5D-59FC4B9A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BE6A2-BD85-42FA-94CB-1116BEEF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611-5AC2-423E-AC7A-5448DDD1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98429-B5E0-46D1-A57C-79033A9B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6735D-5B17-43EB-AB7C-A2220E46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13A2E-9D93-48E0-8D2C-0BBE1EB3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BD342-E54F-4A9F-84D7-37F62525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3E577-ED29-4920-A9F6-52A65FEE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58BD7-4DE4-4B1E-8FFA-DC46C0A8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8576A-DA46-4E1D-95B9-26200B44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1252B-8472-47CF-941D-21528B43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4E6AF6-9988-49AB-B473-C5D15D1E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402A4-FAEE-40C2-AD8E-A141D406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CF6-D27B-4AF4-93FD-F8912773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9CB23-E210-49E7-B2F9-CE3B6756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260ED-BDF9-434E-97B4-7F3EA7BF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76CA2-7884-4BAE-8477-84D43D37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7127D-F0C3-46BD-9143-BDB0AC37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0DC692-F773-4EBD-AF62-E06D41F5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B2BFDE-1998-4D89-B495-0A972BC7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9285DC-49A1-4416-A139-8611BDE3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DB2DB-FDAC-4D32-9BB0-26C10867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2ED0F-6C3B-430B-9D06-2EAB3207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9CA45-071A-40FD-B88C-016075E7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191-A172-4792-A936-75CD8574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2B1843-E415-4824-A21E-9A34B590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AF012-136B-493F-B6B5-0248A24D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427F5-F99D-416E-8BBA-AE6A73DE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999B0-0A37-4DA2-83B6-8D74FC2C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C4835-C1A2-4EDC-B142-BA412AB0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CFE61-A9B8-4414-AB14-6A29FC31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4AD93-D673-4FA9-9672-168C958D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74186-C890-41CC-8C7B-28D55B0A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1BD77-057A-47F4-BF73-902338A9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FD60D-F1C7-4E42-974B-22C64499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943-F975-48DE-9895-4D9D91FA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1BD48-8332-4763-AC23-720B4F0A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CA439-CBB5-4FCC-AA80-715EDFBC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F0E9EA-DE5D-4834-9058-BB4A6476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04A3D-1E68-4B4C-9CFA-7B99EC68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B30AF-F0DD-4C8D-98EC-698EB0BE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7685F9-6207-49E7-A096-0B084CD1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9500DA-A8E5-481F-B6B1-EC6DB4D4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388DDE-5DEC-4A43-B541-2F2EE71B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074F8C-79F0-43A0-BE15-C380D54A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321030-79DD-4A7D-B98D-5EE54175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3B2-75F7-48A2-963D-E9B9A234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1BA095-F16D-4EEE-8EAF-459A7393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994FF2-A32A-4ED3-86C2-BF9FE09B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E87C39-BB3C-4020-9DD1-DDB39389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B600D-FF95-4BCC-A561-DEAE14CD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56C507-D518-4B5E-9A6F-44B42936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5A814D-1AA6-42B5-8D11-F64BCE50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E83076-557E-488A-BAB2-33248B8C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E6577C-1A0F-4630-ACF8-56FD16CA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4972FA-F3BC-4835-8482-39E82A74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4A5CDF-33F3-45C2-9370-03231D2B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BD54-C8E7-4AD9-A22C-33EB13C5B0B0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2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7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9"/>
          <p:cNvSpPr/>
          <p:nvPr/>
        </p:nvSpPr>
        <p:spPr>
          <a:xfrm>
            <a:off x="4419720" y="1523880"/>
            <a:ext cx="426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4419720" y="5637240"/>
            <a:ext cx="4267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01BE-B805-488C-86AE-E1D4FDF1119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76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2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9211-5683-4211-87AD-10B3FFE7451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524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5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7B0A-32AE-4FD4-8087-C397EE11C862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6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9_02.jpg"/>
          <p:cNvPicPr/>
          <p:nvPr/>
        </p:nvPicPr>
        <p:blipFill>
          <a:blip r:embed="rId2"/>
          <a:stretch/>
        </p:blipFill>
        <p:spPr>
          <a:xfrm>
            <a:off x="7753320" y="0"/>
            <a:ext cx="74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_05.jpg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6" name="Rectangle 9"/>
            <p:cNvSpPr/>
            <p:nvPr/>
          </p:nvSpPr>
          <p:spPr>
            <a:xfrm>
              <a:off x="7813800" y="6630840"/>
              <a:ext cx="1330200" cy="22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6134040" y="6630840"/>
              <a:ext cx="1609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6630840"/>
              <a:ext cx="6095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1000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924680" y="6609960"/>
            <a:ext cx="119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5A12-4FF3-4386-A66E-B540039C2BE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457200" y="6609960"/>
            <a:ext cx="560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92" name="Rectangle 3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99B9-EC22-4BC7-8C2B-1B4E96771704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1438200" y="6629400"/>
            <a:ext cx="7705800" cy="228600"/>
            <a:chOff x="1438200" y="6629400"/>
            <a:chExt cx="7705800" cy="228600"/>
          </a:xfrm>
        </p:grpSpPr>
        <p:sp>
          <p:nvSpPr>
            <p:cNvPr id="140" name="Rectangle 26"/>
            <p:cNvSpPr/>
            <p:nvPr/>
          </p:nvSpPr>
          <p:spPr>
            <a:xfrm>
              <a:off x="8763120" y="662940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7142400" y="662940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1438200" y="6629400"/>
              <a:ext cx="56642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9_01.jpg"/>
          <p:cNvPicPr/>
          <p:nvPr/>
        </p:nvPicPr>
        <p:blipFill>
          <a:blip r:embed="rId2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vert_bar_02.png"/>
          <p:cNvPicPr/>
          <p:nvPr/>
        </p:nvPicPr>
        <p:blipFill>
          <a:blip r:embed="rId3"/>
          <a:stretch/>
        </p:blipFill>
        <p:spPr>
          <a:xfrm>
            <a:off x="1365120" y="0"/>
            <a:ext cx="730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162560" y="6610320"/>
            <a:ext cx="1523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8741880" y="6610320"/>
            <a:ext cx="38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3857-B989-479C-9415-3D766E891FF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1523880" y="6610320"/>
            <a:ext cx="5562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19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4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BC9B-2811-4346-AF6A-B7ABD0CA7CE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5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38" name="Rectangle 1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C6F1-FE43-4448-B65F-31084DABA5B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2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1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8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C720-E17D-42DB-B41E-EF07185E5CB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1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32" name="Rectangle 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2BE0-9B44-42F5-8F54-04BEAA8FADB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1" descr="3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8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6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2145-4836-4063-95D0-C47E750D2402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27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рок физики в 7 кл.</a:t>
            </a:r>
            <a:endParaRPr b="0" lang="en-US" sz="4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838920" cy="15127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Сложение двух сил, направленных по одной прямой. Равнодействующая сил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556000" y="4150080"/>
            <a:ext cx="525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Ладанова И.В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МКОУ «Верх-Жилинская ООШ»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667640" y="595008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17" h="21600">
                <a:moveTo>
                  <a:pt x="11552" y="3794"/>
                </a:moveTo>
                <a:lnTo>
                  <a:pt x="25565" y="10800"/>
                </a:lnTo>
                <a:lnTo>
                  <a:pt x="11552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>
            <a:hlinkClick r:id="" action="ppaction://hlinkshowjump?jump=previousslide"/>
          </p:cNvPr>
          <p:cNvSpPr/>
          <p:nvPr/>
        </p:nvSpPr>
        <p:spPr>
          <a:xfrm>
            <a:off x="6588000" y="5950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2" h="21600">
                <a:moveTo>
                  <a:pt x="14624" y="10800"/>
                </a:moveTo>
                <a:lnTo>
                  <a:pt x="28637" y="3794"/>
                </a:lnTo>
                <a:lnTo>
                  <a:pt x="28637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765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5280" y="189000"/>
            <a:ext cx="504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ла, которая производит на тело такое же действие, как несколько одновременно действующих сил, называется равнодействующей эти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140360" y="3645000"/>
            <a:ext cx="40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значение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7380360" y="3645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752472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3794"/>
                </a:moveTo>
                <a:lnTo>
                  <a:pt x="37318" y="10800"/>
                </a:lnTo>
                <a:lnTo>
                  <a:pt x="2330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10800"/>
                </a:moveTo>
                <a:lnTo>
                  <a:pt x="37318" y="3794"/>
                </a:lnTo>
                <a:lnTo>
                  <a:pt x="37318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116000" y="4292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1547640" y="4653000"/>
            <a:ext cx="3240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диница измерения: </a:t>
            </a:r>
            <a:r>
              <a:rPr b="1" lang="ru-RU" sz="28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9"/>
          <p:cNvSpPr/>
          <p:nvPr/>
        </p:nvSpPr>
        <p:spPr>
          <a:xfrm>
            <a:off x="2411280" y="422100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059280" y="3141720"/>
            <a:ext cx="3817800" cy="431640"/>
          </a:xfrm>
          <a:prstGeom prst="rightArrow">
            <a:avLst>
              <a:gd name="adj1" fmla="val 50000"/>
              <a:gd name="adj2" fmla="val 221122"/>
            </a:avLst>
          </a:prstGeom>
          <a:solidFill>
            <a:srgbClr val="e19b0b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9640" y="189000"/>
            <a:ext cx="316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одну сторону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равна сумме этих сил и направлена в ту же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916360" y="3213000"/>
            <a:ext cx="21420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3132000" y="3213000"/>
            <a:ext cx="2448000" cy="287280"/>
          </a:xfrm>
          <a:prstGeom prst="rightArrow">
            <a:avLst>
              <a:gd name="adj1" fmla="val 50000"/>
              <a:gd name="adj2" fmla="val 213033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>
            <a:off x="3059280" y="321300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3203640" y="3706920"/>
            <a:ext cx="431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3276720" y="371628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356000" y="371628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427640" y="3716280"/>
            <a:ext cx="28872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508720" y="3716280"/>
            <a:ext cx="79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71640" y="4365720"/>
            <a:ext cx="3527640" cy="64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+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1">
            <a:hlinkClick r:id="" action="ppaction://hlinkshowjump?jump=nextslide"/>
          </p:cNvPr>
          <p:cNvSpPr/>
          <p:nvPr/>
        </p:nvSpPr>
        <p:spPr>
          <a:xfrm>
            <a:off x="766764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"/>
          <p:cNvSpPr/>
          <p:nvPr/>
        </p:nvSpPr>
        <p:spPr>
          <a:xfrm>
            <a:off x="3564000" y="5589720"/>
            <a:ext cx="2808360" cy="57600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84360" y="907920"/>
            <a:ext cx="5182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противополож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направлена в сторону большей по модулю силы, а её модуль равен разности модулей составляющ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"/>
          <p:cNvSpPr/>
          <p:nvPr/>
        </p:nvSpPr>
        <p:spPr>
          <a:xfrm>
            <a:off x="4643280" y="4365720"/>
            <a:ext cx="360360" cy="35856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4788000" y="4437000"/>
            <a:ext cx="3456000" cy="2160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564000" y="443700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4788000" y="429264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e19b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132000" y="4653000"/>
            <a:ext cx="576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3203640" y="4653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7812000" y="472428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7885080" y="4724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219640" y="4797360"/>
            <a:ext cx="79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5292720" y="4797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3059280" y="5516640"/>
            <a:ext cx="352872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–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1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790560" cy="43164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546" h="21600">
                <a:moveTo>
                  <a:pt x="0" y="0"/>
                </a:moveTo>
                <a:lnTo>
                  <a:pt x="39546" y="0"/>
                </a:lnTo>
                <a:lnTo>
                  <a:pt x="39546" y="21600"/>
                </a:lnTo>
                <a:lnTo>
                  <a:pt x="0" y="21600"/>
                </a:lnTo>
                <a:close/>
              </a:path>
              <a:path fill="lightenLess" w="39546" h="21600">
                <a:moveTo>
                  <a:pt x="0" y="0"/>
                </a:moveTo>
                <a:lnTo>
                  <a:pt x="39546" y="0"/>
                </a:lnTo>
                <a:lnTo>
                  <a:pt x="38146" y="1400"/>
                </a:lnTo>
                <a:lnTo>
                  <a:pt x="1400" y="1400"/>
                </a:lnTo>
                <a:close/>
              </a:path>
              <a:path fill="darken" w="39546" h="21600">
                <a:moveTo>
                  <a:pt x="39546" y="0"/>
                </a:moveTo>
                <a:lnTo>
                  <a:pt x="39546" y="21600"/>
                </a:lnTo>
                <a:lnTo>
                  <a:pt x="38146" y="20200"/>
                </a:lnTo>
                <a:lnTo>
                  <a:pt x="38146" y="1400"/>
                </a:lnTo>
                <a:close/>
              </a:path>
              <a:path fill="darkenLess" w="39546" h="21600">
                <a:moveTo>
                  <a:pt x="3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46" y="20200"/>
                </a:lnTo>
                <a:close/>
              </a:path>
              <a:path fill="lighten" w="3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46" h="21600">
                <a:moveTo>
                  <a:pt x="12767" y="10800"/>
                </a:moveTo>
                <a:lnTo>
                  <a:pt x="26779" y="3794"/>
                </a:lnTo>
                <a:lnTo>
                  <a:pt x="26779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5"/>
          <p:cNvSpPr/>
          <p:nvPr/>
        </p:nvSpPr>
        <p:spPr>
          <a:xfrm>
            <a:off x="3924360" y="4508640"/>
            <a:ext cx="1655640" cy="71892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39640" y="549360"/>
            <a:ext cx="475308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к телу приложены дв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вные по модулю и противоположные по направлению сил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то равнодействующая равна нулю, а тело движется прямолинейно и равн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2124000" y="3429000"/>
            <a:ext cx="28728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2268360" y="3429000"/>
            <a:ext cx="1657440" cy="289080"/>
          </a:xfrm>
          <a:prstGeom prst="rightArrow">
            <a:avLst>
              <a:gd name="adj1" fmla="val 50000"/>
              <a:gd name="adj2" fmla="val 14333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755640" y="3429000"/>
            <a:ext cx="1511280" cy="289080"/>
          </a:xfrm>
          <a:prstGeom prst="leftArrow">
            <a:avLst>
              <a:gd name="adj1" fmla="val 50000"/>
              <a:gd name="adj2" fmla="val 13069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84360" y="3789360"/>
            <a:ext cx="647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3348000" y="378936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755640" y="3789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3419640" y="378936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291636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64000" y="4581360"/>
            <a:ext cx="237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6"/>
          <p:cNvSpPr/>
          <p:nvPr/>
        </p:nvSpPr>
        <p:spPr>
          <a:xfrm>
            <a:off x="5940360" y="3500280"/>
            <a:ext cx="1944720" cy="0"/>
          </a:xfrm>
          <a:prstGeom prst="line">
            <a:avLst/>
          </a:prstGeom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6732720" y="2997360"/>
            <a:ext cx="576000" cy="504720"/>
          </a:xfrm>
          <a:prstGeom prst="rect">
            <a:avLst/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8"/>
          <p:cNvSpPr/>
          <p:nvPr/>
        </p:nvSpPr>
        <p:spPr>
          <a:xfrm>
            <a:off x="6877080" y="350028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5b123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9"/>
          <p:cNvSpPr/>
          <p:nvPr/>
        </p:nvSpPr>
        <p:spPr>
          <a:xfrm>
            <a:off x="6877080" y="24922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ffcc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236000" y="4005360"/>
            <a:ext cx="64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236000" y="2492280"/>
            <a:ext cx="502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2"/>
          <p:cNvSpPr/>
          <p:nvPr/>
        </p:nvSpPr>
        <p:spPr>
          <a:xfrm>
            <a:off x="7308720" y="2492280"/>
            <a:ext cx="216000" cy="0"/>
          </a:xfrm>
          <a:prstGeom prst="line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7308720" y="407664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4">
            <a:hlinkClick r:id="" action="ppaction://hlinkshowjump?jump=nextslide"/>
          </p:cNvPr>
          <p:cNvSpPr/>
          <p:nvPr/>
        </p:nvSpPr>
        <p:spPr>
          <a:xfrm>
            <a:off x="781200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5">
            <a:hlinkClick r:id="" action="ppaction://hlinkshowjump?jump=previousslide"/>
          </p:cNvPr>
          <p:cNvSpPr/>
          <p:nvPr/>
        </p:nvSpPr>
        <p:spPr>
          <a:xfrm>
            <a:off x="687708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1"/>
          <p:cNvSpPr/>
          <p:nvPr/>
        </p:nvSpPr>
        <p:spPr>
          <a:xfrm flipV="1">
            <a:off x="2195640" y="3068640"/>
            <a:ext cx="2879640" cy="504720"/>
          </a:xfrm>
          <a:prstGeom prst="rightArrow">
            <a:avLst>
              <a:gd name="adj1" fmla="val 50000"/>
              <a:gd name="adj2" fmla="val 142636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1116000" y="692280"/>
            <a:ext cx="65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е равнодействующую с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900000" y="126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2700360" y="170028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771640" y="1628640"/>
            <a:ext cx="2448000" cy="432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050920" y="162864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619280" y="198900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5076720" y="1916280"/>
            <a:ext cx="12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900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9"/>
          <p:cNvSpPr/>
          <p:nvPr/>
        </p:nvSpPr>
        <p:spPr>
          <a:xfrm>
            <a:off x="2124000" y="3213000"/>
            <a:ext cx="144360" cy="21600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219564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1692360" y="3500280"/>
            <a:ext cx="122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5076720" y="3429000"/>
            <a:ext cx="151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900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>
            <a:off x="3492360" y="465300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7"/>
          <p:cNvSpPr/>
          <p:nvPr/>
        </p:nvSpPr>
        <p:spPr>
          <a:xfrm>
            <a:off x="3564000" y="45813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8"/>
          <p:cNvSpPr/>
          <p:nvPr/>
        </p:nvSpPr>
        <p:spPr>
          <a:xfrm>
            <a:off x="2124000" y="458136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9"/>
          <p:cNvSpPr/>
          <p:nvPr/>
        </p:nvSpPr>
        <p:spPr>
          <a:xfrm>
            <a:off x="2340000" y="5084640"/>
            <a:ext cx="1079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4643280" y="5084640"/>
            <a:ext cx="129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2">
            <a:hlinkClick r:id="" action="ppaction://hlinkshowjump?jump=nextslide"/>
          </p:cNvPr>
          <p:cNvSpPr/>
          <p:nvPr/>
        </p:nvSpPr>
        <p:spPr>
          <a:xfrm>
            <a:off x="7740720" y="6165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3794"/>
                </a:moveTo>
                <a:lnTo>
                  <a:pt x="24974" y="10800"/>
                </a:lnTo>
                <a:lnTo>
                  <a:pt x="10961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673272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репка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6118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1979640" y="422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1116000" y="4149720"/>
            <a:ext cx="7270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д, взявшись за репку, развивает силу тяги до 600 Н, бабка до 100 Н, внучка до 50 Н, Жучка до 30 Н, кошка до 10 Н и мышка до 2 Н. Чему равна равнодействующая всех сил, направленных по одной прямой в одну и ту же сторону? Справилась бы с репкой эта компания без мышки, если силы, удерживающие репку, равны 791 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5940360" y="2852640"/>
            <a:ext cx="2232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02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6102" h="21600">
                <a:moveTo>
                  <a:pt x="0" y="0"/>
                </a:moveTo>
                <a:lnTo>
                  <a:pt x="36102" y="0"/>
                </a:lnTo>
                <a:lnTo>
                  <a:pt x="36102" y="21600"/>
                </a:lnTo>
                <a:lnTo>
                  <a:pt x="0" y="21600"/>
                </a:lnTo>
                <a:close/>
              </a:path>
              <a:path fill="lightenLess" w="36102" h="21600">
                <a:moveTo>
                  <a:pt x="0" y="0"/>
                </a:moveTo>
                <a:lnTo>
                  <a:pt x="36102" y="0"/>
                </a:lnTo>
                <a:lnTo>
                  <a:pt x="34702" y="1400"/>
                </a:lnTo>
                <a:lnTo>
                  <a:pt x="1400" y="1400"/>
                </a:lnTo>
                <a:close/>
              </a:path>
              <a:path fill="darken" w="36102" h="21600">
                <a:moveTo>
                  <a:pt x="36102" y="0"/>
                </a:moveTo>
                <a:lnTo>
                  <a:pt x="36102" y="21600"/>
                </a:lnTo>
                <a:lnTo>
                  <a:pt x="34702" y="20200"/>
                </a:lnTo>
                <a:lnTo>
                  <a:pt x="34702" y="1400"/>
                </a:lnTo>
                <a:close/>
              </a:path>
              <a:path fill="darkenLess" w="36102" h="21600">
                <a:moveTo>
                  <a:pt x="3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02" y="20200"/>
                </a:lnTo>
                <a:close/>
              </a:path>
              <a:path fill="lighten" w="3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02" h="21600">
                <a:moveTo>
                  <a:pt x="11045" y="3794"/>
                </a:moveTo>
                <a:lnTo>
                  <a:pt x="25058" y="10800"/>
                </a:lnTo>
                <a:lnTo>
                  <a:pt x="1104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парашют"/>
          <p:cNvPicPr/>
          <p:nvPr/>
        </p:nvPicPr>
        <p:blipFill>
          <a:blip r:embed="rId1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6"/>
          <p:cNvSpPr/>
          <p:nvPr/>
        </p:nvSpPr>
        <p:spPr>
          <a:xfrm>
            <a:off x="2050920" y="4365720"/>
            <a:ext cx="59770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ортсмен равномерно спускается на парашюте. Какова сила тяжести, действующая на парашютиста вместе с парашютом? Сила сопротивления воздуха 800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732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32000" y="476280"/>
            <a:ext cx="6769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mic Sans MS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">
            <a:hlinkClick r:id="" action="ppaction://hlinkshowjump?jump=firstslide"/>
          </p:cNvPr>
          <p:cNvSpPr/>
          <p:nvPr/>
        </p:nvSpPr>
        <p:spPr>
          <a:xfrm>
            <a:off x="7524720" y="5805360"/>
            <a:ext cx="934920" cy="57636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7515" y="3837"/>
                </a:moveTo>
                <a:lnTo>
                  <a:pt x="20091" y="6448"/>
                </a:ln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lnTo>
                  <a:pt x="24478" y="10800"/>
                </a:lnTo>
                <a:lnTo>
                  <a:pt x="22824" y="10800"/>
                </a:lnTo>
                <a:lnTo>
                  <a:pt x="22824" y="17989"/>
                </a:lnTo>
                <a:lnTo>
                  <a:pt x="12205" y="17989"/>
                </a:lnTo>
                <a:lnTo>
                  <a:pt x="12205" y="10800"/>
                </a:lnTo>
                <a:lnTo>
                  <a:pt x="10552" y="10800"/>
                </a:lnTo>
                <a:close/>
              </a:path>
              <a:path fill="darkenLess" w="35029" h="21600">
                <a:moveTo>
                  <a:pt x="20091" y="6448"/>
                </a:move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close/>
              </a:path>
              <a:path fill="darkenLess" w="35029" h="21600">
                <a:moveTo>
                  <a:pt x="16592" y="14299"/>
                </a:moveTo>
                <a:lnTo>
                  <a:pt x="18437" y="14299"/>
                </a:lnTo>
                <a:lnTo>
                  <a:pt x="18437" y="17989"/>
                </a:lnTo>
                <a:lnTo>
                  <a:pt x="22824" y="17989"/>
                </a:lnTo>
                <a:lnTo>
                  <a:pt x="22824" y="10800"/>
                </a:lnTo>
                <a:lnTo>
                  <a:pt x="12205" y="10800"/>
                </a:lnTo>
                <a:lnTo>
                  <a:pt x="12205" y="17989"/>
                </a:lnTo>
                <a:lnTo>
                  <a:pt x="16592" y="17989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6:43Z</dcterms:created>
  <dc:creator/>
  <dc:description/>
  <dc:language>en-US</dc:language>
  <cp:lastModifiedBy>Пк</cp:lastModifiedBy>
  <dcterms:modified xsi:type="dcterms:W3CDTF">2012-10-28T07:34:04Z</dcterms:modified>
  <cp:revision>26</cp:revision>
  <dc:subject/>
  <dc:title>Урок физики в 7 кл.</dc:title>
</cp:coreProperties>
</file>