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C923-9CBC-460F-9D9D-59F3357D3C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E2FA-87E4-4B51-A4ED-9DDD0D3D17D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820E-0476-4CDD-872B-2AE6789667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335C-EB6D-47F0-9221-0D52E1D5607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6105-020A-4A28-86E4-2263384F7C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C690-1236-4440-9D7E-E5F71ECF52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B760-3243-48F7-9026-3D34965265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78EE-0773-4CBE-8C64-B7267FF1BE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AE1C-98E8-4261-A3DE-01F5EF7D0D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9EB2-C893-4703-BC37-03958A5362C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816C-BF50-43C0-9BC1-BBCFF7BEEA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A9EA-E982-4723-B5B2-07A8085A225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4EA1-7D7C-42DF-9220-642535D304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7C20-481C-4EC6-9774-9CA4FD73420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FDFC-03E0-4F9C-914A-94A53CA8655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72EB-F41D-4334-93F4-C8A0024A3D8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8B47-39DD-4C89-8B57-45742055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764-093E-489F-A7E5-EFF36E6B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30A-A12F-4F22-BAC1-7D465206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9D6-BF19-4455-B6FD-8058AC00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525-0B4A-494A-AB7B-00D66511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F5A-147B-499D-A46B-0787634F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2BE-3A49-43C5-93AB-E2D19B92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A2D-DD58-4239-B5AA-CC8C5355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7F6-63C8-4DFD-BE98-DCE05AAE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D7B-2B5A-43FD-820D-EF8390B3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BAB-AB6E-4602-B274-C153585A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911-6034-4FE9-9DD6-1B743FBA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14AE-4AF0-420B-96C5-70F29CA3A139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image" Target="../media/image2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esh_snow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71600"/>
            <a:ext cx="6572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 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еница 8 «А « класс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рговцева Наталь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уководитель: учитель физи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щенко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80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униципальное бюджетное 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9 г. Белово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лияние атмосферного давления и температуры на формирование снежинок. </a:t>
            </a:r>
            <a:br>
              <a:rPr sz="4300"/>
            </a:br>
            <a:br>
              <a:rPr sz="4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51 году Международная Комиссия по Снегу и Льду приняла классификацию твёрдых осадков. Согласно ей все снежные кристаллы можно разделить на следующие группы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                       3.                     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                       4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30081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Звездчатые дендрит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.Игл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3.Столбц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4.Столбцы с наконечником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8" name="Рисунок 4" descr="*Дендриты (деревоподобные) снежинки"/>
          <p:cNvPicPr/>
          <p:nvPr/>
        </p:nvPicPr>
        <p:blipFill>
          <a:blip r:embed="rId2"/>
          <a:stretch/>
        </p:blipFill>
        <p:spPr>
          <a:xfrm>
            <a:off x="4067280" y="404640"/>
            <a:ext cx="201744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*Иглы"/>
          <p:cNvPicPr/>
          <p:nvPr/>
        </p:nvPicPr>
        <p:blipFill>
          <a:blip r:embed="rId3"/>
          <a:stretch/>
        </p:blipFill>
        <p:spPr>
          <a:xfrm>
            <a:off x="4067280" y="3017880"/>
            <a:ext cx="2089080" cy="2066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*Колонны"/>
          <p:cNvPicPr/>
          <p:nvPr/>
        </p:nvPicPr>
        <p:blipFill>
          <a:blip r:embed="rId4"/>
          <a:stretch/>
        </p:blipFill>
        <p:spPr>
          <a:xfrm>
            <a:off x="6732720" y="47628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*Колонны с шапками"/>
          <p:cNvPicPr/>
          <p:nvPr/>
        </p:nvPicPr>
        <p:blipFill>
          <a:blip r:embed="rId5"/>
          <a:stretch/>
        </p:blipFill>
        <p:spPr>
          <a:xfrm>
            <a:off x="6659640" y="3017880"/>
            <a:ext cx="1944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72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лоская снежинка образовалас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9-23.11.10 г.,28.-30.11.10г., 18-19.12.10 г.,  14.01.11 г., 27-28.01.11 г.,31.01.11г., 01.02.11г.,06.02.11 г., 26.01.12 г., 14.02.12г., 15.03.12 г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Содержимое 3" descr="плоская снежинка"/>
          <p:cNvPicPr/>
          <p:nvPr/>
        </p:nvPicPr>
        <p:blipFill>
          <a:blip r:embed="rId2"/>
          <a:stretch/>
        </p:blipFill>
        <p:spPr>
          <a:xfrm>
            <a:off x="1917720" y="1785960"/>
            <a:ext cx="5308560" cy="478620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плоская снежинка"/>
          <p:cNvPicPr/>
          <p:nvPr/>
        </p:nvPicPr>
        <p:blipFill>
          <a:blip r:embed="rId3"/>
          <a:stretch/>
        </p:blipFill>
        <p:spPr>
          <a:xfrm>
            <a:off x="1908000" y="1773360"/>
            <a:ext cx="5308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реугольная снежинка образовалась 24.11.10г. при влажности 94 %, атмосферном давлении750 мм.рт.ст., температуре -2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5" descr="Описание: http://uvovki.obychnogo.net/files/u1/sneginka06.jpg"/>
          <p:cNvPicPr/>
          <p:nvPr/>
        </p:nvPicPr>
        <p:blipFill>
          <a:blip r:embed="rId2"/>
          <a:stretch/>
        </p:blipFill>
        <p:spPr>
          <a:xfrm>
            <a:off x="2928960" y="1714680"/>
            <a:ext cx="4105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долговатая снежинка образовалась 25.11.10г. при влажности 92 %, атмосферном давлении749 мм.рт.ст. и температуре -5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Содержимое 3" descr="продолговатая снежинка"/>
          <p:cNvPicPr/>
          <p:nvPr/>
        </p:nvPicPr>
        <p:blipFill>
          <a:blip r:embed="rId2"/>
          <a:stretch/>
        </p:blipFill>
        <p:spPr>
          <a:xfrm>
            <a:off x="1857240" y="1928880"/>
            <a:ext cx="557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 15.02.12 г. при влажности  86 % , атмосферном давлении761 мм.рт.ст. 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емпературе -2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uvovki.obychnogo.net/files/u1/sneginka08.jpg"/>
          <p:cNvPicPr/>
          <p:nvPr/>
        </p:nvPicPr>
        <p:blipFill>
          <a:blip r:embed="rId2"/>
          <a:stretch/>
        </p:blipFill>
        <p:spPr>
          <a:xfrm rot="21370800">
            <a:off x="2252520" y="1886040"/>
            <a:ext cx="48085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15.01.11. при влажности 93 %, атмосферном давлении758 мм.рт.ст. , температуре -1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3" descr="древообразная снежинка"/>
          <p:cNvPicPr/>
          <p:nvPr/>
        </p:nvPicPr>
        <p:blipFill>
          <a:blip r:embed="rId2"/>
          <a:stretch/>
        </p:blipFill>
        <p:spPr>
          <a:xfrm>
            <a:off x="1766880" y="1600200"/>
            <a:ext cx="561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нежинка-гибрид образовалась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6.12.10г., 24.01.12г., 12.02.12г., 13.02.12г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http://uvovki.obychnogo.net/files/u1/sneginka12.jpg"/>
          <p:cNvPicPr/>
          <p:nvPr/>
        </p:nvPicPr>
        <p:blipFill>
          <a:blip r:embed="rId2"/>
          <a:stretch/>
        </p:blipFill>
        <p:spPr>
          <a:xfrm>
            <a:off x="22860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Снежная пушка , которая покрывает склоны искусственным снегом для раннего катания на лыжах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Documents and Settings\вал\Рабочий стол\общая\Торговцева Н. физика\img.php.jpg"/>
          <p:cNvPicPr/>
          <p:nvPr/>
        </p:nvPicPr>
        <p:blipFill>
          <a:blip r:embed="rId2"/>
          <a:stretch/>
        </p:blipFill>
        <p:spPr>
          <a:xfrm>
            <a:off x="171468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Формы снежино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1.Плоск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.Треуголь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3.Продолговат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4.Древообраз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5.Гибрид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9" name="Рисунок 5" descr="плоская снежинка"/>
          <p:cNvPicPr/>
          <p:nvPr/>
        </p:nvPicPr>
        <p:blipFill>
          <a:blip r:embed="rId2"/>
          <a:stretch/>
        </p:blipFill>
        <p:spPr>
          <a:xfrm>
            <a:off x="4068720" y="333360"/>
            <a:ext cx="199548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продолговатая снежинка"/>
          <p:cNvPicPr/>
          <p:nvPr/>
        </p:nvPicPr>
        <p:blipFill>
          <a:blip r:embed="rId3"/>
          <a:stretch/>
        </p:blipFill>
        <p:spPr>
          <a:xfrm>
            <a:off x="4071960" y="2462040"/>
            <a:ext cx="2000160" cy="166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http://uvovki.obychnogo.net/files/u1/sneginka08.jpg"/>
          <p:cNvPicPr/>
          <p:nvPr/>
        </p:nvPicPr>
        <p:blipFill>
          <a:blip r:embed="rId4"/>
          <a:stretch/>
        </p:blipFill>
        <p:spPr>
          <a:xfrm>
            <a:off x="6858000" y="2428920"/>
            <a:ext cx="1857240" cy="1725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Описание: вот из такой красоты состоит снег"/>
          <p:cNvPicPr/>
          <p:nvPr/>
        </p:nvPicPr>
        <p:blipFill>
          <a:blip r:embed="rId5"/>
          <a:stretch/>
        </p:blipFill>
        <p:spPr>
          <a:xfrm>
            <a:off x="6919920" y="357120"/>
            <a:ext cx="1795320" cy="1749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Описание: http://uvovki.obychnogo.net/files/u1/sneginka12.jpg"/>
          <p:cNvPicPr/>
          <p:nvPr/>
        </p:nvPicPr>
        <p:blipFill>
          <a:blip r:embed="rId6"/>
          <a:stretch/>
        </p:blipFill>
        <p:spPr>
          <a:xfrm>
            <a:off x="5572080" y="4429080"/>
            <a:ext cx="1997280" cy="2040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Описание: вот из такой красоты состоит снег"/>
          <p:cNvPicPr/>
          <p:nvPr/>
        </p:nvPicPr>
        <p:blipFill>
          <a:blip r:embed="rId7"/>
          <a:stretch/>
        </p:blipFill>
        <p:spPr>
          <a:xfrm>
            <a:off x="6929280" y="357120"/>
            <a:ext cx="1795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3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www.o8ode.ru/article/krie/klaccifikacia_cneginok.htm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8%D0%BD%D0%BA%D0%B8&amp;img_url=www.xrest.ru%2Fimages%2Fcollection%2F00296%2F734%2Forigina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D%D0%B0%D1%8F%20%D0%BF%D1%83%D1%88%D0%BA%D0%B0&amp;img_url=www.ledorub.ru%2Fsneg%2Fpic%2Fsg_03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6%ED%E0%FF_%EF%F3%F8%EA%E0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1&amp;text=%D0%B0%D0%BB%D0%BC%D0%B0%D0%B7%D0%BD%D0%B0%D1%8F%20%D0%BF%D1%8B%D0%BB%D1%8C&amp;img_url=img-fotki.yandex.ru%2Fget%2F4808%2Fzenit-ps.7%2F0_54728_b001d21c_X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mbria"/>
              </a:rPr>
              <a:t>Первое сентября . Физика №3 2009г.,стр.45-47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7" name="Picture 1033" descr="image016"/>
          <p:cNvPicPr/>
          <p:nvPr/>
        </p:nvPicPr>
        <p:blipFill>
          <a:blip r:embed="rId2"/>
          <a:stretch/>
        </p:blipFill>
        <p:spPr>
          <a:xfrm>
            <a:off x="6858000" y="4361040"/>
            <a:ext cx="20001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исследование влияния атмосферного давления и температуры на формирование снежинок, изучение их форм и вид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" name="Рисунок 3" descr="вот из такой красоты состоит снег"/>
          <p:cNvPicPr/>
          <p:nvPr/>
        </p:nvPicPr>
        <p:blipFill>
          <a:blip r:embed="rId2"/>
          <a:stretch/>
        </p:blipFill>
        <p:spPr>
          <a:xfrm rot="395400">
            <a:off x="4929120" y="2499840"/>
            <a:ext cx="37782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вал\Рабочий стол\29.jpg"/>
          <p:cNvPicPr/>
          <p:nvPr/>
        </p:nvPicPr>
        <p:blipFill>
          <a:blip r:embed="rId3"/>
          <a:stretch/>
        </p:blipFill>
        <p:spPr>
          <a:xfrm rot="20134800">
            <a:off x="336600" y="21697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uvovki.obychnogo.net/files/u1/sneginka13.jpg"/>
          <p:cNvPicPr/>
          <p:nvPr/>
        </p:nvPicPr>
        <p:blipFill>
          <a:blip r:embed="rId4"/>
          <a:stretch/>
        </p:blipFill>
        <p:spPr>
          <a:xfrm rot="203400">
            <a:off x="2436840" y="4361040"/>
            <a:ext cx="2193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1029" descr="bd07218_"/>
          <p:cNvPicPr/>
          <p:nvPr/>
        </p:nvPicPr>
        <p:blipFill>
          <a:blip r:embed="rId2"/>
          <a:stretch/>
        </p:blipFill>
        <p:spPr>
          <a:xfrm>
            <a:off x="3000240" y="2214720"/>
            <a:ext cx="3214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1.Узнать, при каких погодных условиях формируются снежинк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2. Изучить структуру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3. Выяснить, как на формирование снежинок влияет температура и атмосферное давлени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" name="Picture 3" descr="10"/>
          <p:cNvPicPr/>
          <p:nvPr/>
        </p:nvPicPr>
        <p:blipFill>
          <a:blip r:embed="rId2"/>
          <a:stretch/>
        </p:blipFill>
        <p:spPr>
          <a:xfrm>
            <a:off x="3214800" y="4357800"/>
            <a:ext cx="2948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Эмпир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Наблюдение (наблюдение формирования снежинок при разных погодных условиях, рассмотрение структуры и форм снежинок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Сравнение (сравнение форм снежинок при разных погодных условиях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Измерение (измерение атмосферного давления, температуры воздуха, влажности воздух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еорет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Изучение и рассмотрение структуры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Рассмотрение  и изучение форм снежино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" name="Picture 1024" descr="PE01676_"/>
          <p:cNvPicPr/>
          <p:nvPr/>
        </p:nvPicPr>
        <p:blipFill>
          <a:blip r:embed="rId2"/>
          <a:stretch/>
        </p:blipFill>
        <p:spPr>
          <a:xfrm>
            <a:off x="5072040" y="3500280"/>
            <a:ext cx="3016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C:\Documents and Settings\вал\Рабочий стол\skidor675.jpg"/>
          <p:cNvPicPr/>
          <p:nvPr/>
        </p:nvPicPr>
        <p:blipFill>
          <a:blip r:embed="rId2"/>
          <a:stretch/>
        </p:blipFill>
        <p:spPr>
          <a:xfrm rot="231000">
            <a:off x="4285800" y="4142880"/>
            <a:ext cx="4591080" cy="2292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-197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искусственного снега в настоящее время имеет большое значение. Искусственный снег, созданный при помощи снежных пушек,  применяется на горнолыжных курортах для подготовки склонов к катанию, при подготовке горнолыжных трасс к олимпийским игр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практически любой снежинки начинается с вот такой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"заготовки":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формирование снежинки"/>
          <p:cNvPicPr/>
          <p:nvPr/>
        </p:nvPicPr>
        <p:blipFill>
          <a:blip r:embed="rId2"/>
          <a:stretch/>
        </p:blipFill>
        <p:spPr>
          <a:xfrm>
            <a:off x="1857240" y="171468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лый снег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лый цвет снега происходит от заключенного в снежинках воздуха. Свет отражается от поверхностей между кристаллами и воздухом и рассеивается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" name="Рисунок 3" descr="http://upload.wikimedia.org/wikipedia/commons/thumb/b/b8/Fresh_snow.JPG/250px-Fresh_sn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500280"/>
            <a:ext cx="3887640" cy="2989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upload.wikimedia.org/wikipedia/commons/thumb/7/72/Snow_Scene_at_Shipka_Pass_1.JPG/250px-Snow_Scene_at_Shipka_Pass_1.JPG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Алмазная пыл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Если мороз около 40°C, то зарождающиеся в атмосфере кристаллики льда выпадают в виде «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алмазной пыли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4" name="Picture 2" descr="C:\Users\ната\Desktop\0_54728_b001d21c_XL.jpg"/>
          <p:cNvPicPr/>
          <p:nvPr/>
        </p:nvPicPr>
        <p:blipFill>
          <a:blip r:embed="rId2"/>
          <a:stretch/>
        </p:blipFill>
        <p:spPr>
          <a:xfrm>
            <a:off x="1744560" y="270828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8:45Z</dcterms:created>
  <dc:creator>вал</dc:creator>
  <dc:description/>
  <dc:language>en-US</dc:language>
  <cp:lastModifiedBy>КарМаН</cp:lastModifiedBy>
  <dcterms:modified xsi:type="dcterms:W3CDTF">2012-04-13T19:29:42Z</dcterms:modified>
  <cp:revision>63</cp:revision>
  <dc:subject/>
  <dc:title>Муниципальное общеобразовательное учреждение «Средняя общеобразовательная школа № 19 г. Белово»      Влияние внешних факторов на формирование снежинок</dc:title>
</cp:coreProperties>
</file>