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wmf" ContentType="image/x-wmf"/>
  <Override PartName="/ppt/media/image19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5.wmf" ContentType="image/x-wmf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F2BE7-3B46-4C29-9EA1-24F1055F60A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F0C24-AA91-4084-95E8-BA3F03EF059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22A5B-E5F7-4ECA-97E1-A6C3C9089FF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0F073-2128-4870-AF05-7D1F84A4D95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FFB9E-FC14-4CB2-A9A2-6CE7A1CDDBD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97122-FE67-4139-B805-C3089C91418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6E31A-06DD-4910-BD48-2E39179C6D7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91391-C0F3-48B1-8608-7381BE35967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5C9C5-672A-4D8A-B7D0-4329549D0E5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A4397-209C-4673-AB62-7CD255EE825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A1B1E-AC2A-40AE-B600-9C142345C8F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36FFE-3F76-4D67-AEC5-31A5EC5355C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3D83A-6759-4C84-9C93-9B68FDB9C69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7DEBC-E950-4211-9004-9EB6F5E40AC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A050F-F055-4AFC-9E08-A72B1FCF8A4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70F22-0084-426D-A458-F165CCD3214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1383-0EDC-4B1E-B634-ED5D83FED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1C98-4685-4C51-8C1D-729AE7336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53AF-8561-4AC8-A50B-CDDE59296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83E3-0C9F-4B01-8BF6-C6C6948B3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A42C-E7D3-40DD-8709-4882E8ED9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73D6-2A80-4740-A8B8-0DFC47F08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1108-FD09-4076-9EDF-7E85971B2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6444-4B92-47DB-84C2-61F7C2FA0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7D50-81E9-496C-A660-86B6A6385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0041-E567-4EF7-AA8D-28F92AAD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83E1-7666-446F-9DFF-A17364264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68A8-6A78-4109-B1E2-3BEDCE5A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41B2F-F5B2-46B5-9A4C-4DEF54B37D71}" type="slidenum">
              <a:rPr b="0" lang="en-US" sz="12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.jpeg"/><Relationship Id="rId6" Type="http://schemas.openxmlformats.org/officeDocument/2006/relationships/image" Target="../media/image23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60;&#1072;&#1081;&#1083;:Fresh_snow.JPG" TargetMode="External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571840" y="4071600"/>
            <a:ext cx="657216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Выполнила :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ученица 8 «А « класса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Торговцева Наталья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Руководитель: учитель физики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Сащенко Светлана Александровна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55640" y="1483920"/>
            <a:ext cx="7772400" cy="1800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Муниципальное бюджетное  общеобразовательное учреждение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«Средняя общеобразовательная школа № 19 г. Белово»</a:t>
            </a:r>
            <a:br>
              <a:rPr sz="2200"/>
            </a:br>
            <a:br>
              <a:rPr sz="2200"/>
            </a:br>
            <a:br>
              <a:rPr sz="2200"/>
            </a:b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Влияние атмосферного давления и температуры на формирование снежинок. </a:t>
            </a:r>
            <a:br>
              <a:rPr sz="4300"/>
            </a:br>
            <a:br>
              <a:rPr sz="48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3008160" cy="32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В 1951 году Международная Комиссия по Снегу и Льду приняла классификацию твёрдых осадков. Согласно ей все снежные кристаллы можно разделить на следующие группы: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1.                        3.                       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2.                         4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5280" y="3716280"/>
            <a:ext cx="3008160" cy="24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1.Звездчатые дендриты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2.Иглы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3.Столбцы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4.Столбцы с наконечником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78" name="Рисунок 4" descr="*Дендриты (деревоподобные) снежинки"/>
          <p:cNvPicPr/>
          <p:nvPr/>
        </p:nvPicPr>
        <p:blipFill>
          <a:blip r:embed="rId2"/>
          <a:stretch/>
        </p:blipFill>
        <p:spPr>
          <a:xfrm>
            <a:off x="4067280" y="404640"/>
            <a:ext cx="2017440" cy="194472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5" descr="*Иглы"/>
          <p:cNvPicPr/>
          <p:nvPr/>
        </p:nvPicPr>
        <p:blipFill>
          <a:blip r:embed="rId3"/>
          <a:stretch/>
        </p:blipFill>
        <p:spPr>
          <a:xfrm>
            <a:off x="4067280" y="3017880"/>
            <a:ext cx="2089080" cy="206676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6" descr="*Колонны"/>
          <p:cNvPicPr/>
          <p:nvPr/>
        </p:nvPicPr>
        <p:blipFill>
          <a:blip r:embed="rId4"/>
          <a:stretch/>
        </p:blipFill>
        <p:spPr>
          <a:xfrm>
            <a:off x="6732720" y="476280"/>
            <a:ext cx="1871640" cy="187308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7" descr="*Колонны с шапками"/>
          <p:cNvPicPr/>
          <p:nvPr/>
        </p:nvPicPr>
        <p:blipFill>
          <a:blip r:embed="rId5"/>
          <a:stretch/>
        </p:blipFill>
        <p:spPr>
          <a:xfrm>
            <a:off x="6659640" y="3017880"/>
            <a:ext cx="194472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84726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лоская снежинка образовалась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19-23.11.10 г.,28.-30.11.10г., 18-19.12.10 г.,  14.01.11 г., 27-28.01.11 г.,31.01.11г., 01.02.11г.,06.02.11 г., 26.01.12 г., 14.02.12г., 15.03.12 г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3" name="Содержимое 3" descr="плоская снежинка"/>
          <p:cNvPicPr/>
          <p:nvPr/>
        </p:nvPicPr>
        <p:blipFill>
          <a:blip r:embed="rId2"/>
          <a:stretch/>
        </p:blipFill>
        <p:spPr>
          <a:xfrm>
            <a:off x="1917720" y="1785960"/>
            <a:ext cx="5308560" cy="4786200"/>
          </a:xfrm>
          <a:prstGeom prst="rect">
            <a:avLst/>
          </a:prstGeom>
          <a:ln w="0">
            <a:noFill/>
          </a:ln>
        </p:spPr>
      </p:pic>
      <p:pic>
        <p:nvPicPr>
          <p:cNvPr id="84" name="Содержимое 3" descr="плоская снежинка"/>
          <p:cNvPicPr/>
          <p:nvPr/>
        </p:nvPicPr>
        <p:blipFill>
          <a:blip r:embed="rId3"/>
          <a:stretch/>
        </p:blipFill>
        <p:spPr>
          <a:xfrm>
            <a:off x="1908000" y="1773360"/>
            <a:ext cx="530892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Треугольная снежинка образовалась 24.11.10г. при влажности 94 %, атмосферном давлении750 мм.рт.ст., температуре -2 °С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6" name="Рисунок 5" descr="Описание: http://uvovki.obychnogo.net/files/u1/sneginka06.jpg"/>
          <p:cNvPicPr/>
          <p:nvPr/>
        </p:nvPicPr>
        <p:blipFill>
          <a:blip r:embed="rId2"/>
          <a:stretch/>
        </p:blipFill>
        <p:spPr>
          <a:xfrm>
            <a:off x="2928960" y="1714680"/>
            <a:ext cx="4105080" cy="40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Продолговатая снежинка образовалась 25.11.10г. при влажности 92 %, атмосферном давлении749 мм.рт.ст. и температуре -5 °С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8" name="Содержимое 3" descr="продолговатая снежинка"/>
          <p:cNvPicPr/>
          <p:nvPr/>
        </p:nvPicPr>
        <p:blipFill>
          <a:blip r:embed="rId2"/>
          <a:stretch/>
        </p:blipFill>
        <p:spPr>
          <a:xfrm>
            <a:off x="1857240" y="1928880"/>
            <a:ext cx="557244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Древообразная снежинка образовалась  15.02.12 г. при влажности  86 % , атмосферном давлении761 мм.рт.ст. , </a:t>
            </a:r>
            <a:br>
              <a:rPr sz="2500"/>
            </a:b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температуре -20 °С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0" name="Содержимое 3" descr="http://uvovki.obychnogo.net/files/u1/sneginka08.jpg"/>
          <p:cNvPicPr/>
          <p:nvPr/>
        </p:nvPicPr>
        <p:blipFill>
          <a:blip r:embed="rId2"/>
          <a:stretch/>
        </p:blipFill>
        <p:spPr>
          <a:xfrm rot="21370800">
            <a:off x="2252520" y="1886040"/>
            <a:ext cx="480852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Древообразная снежинка образовалась 15.01.11. при влажности 93 %, атмосферном давлении758 мм.рт.ст. , температуре -10 °С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2" name="Содержимое 3" descr="древообразная снежинка"/>
          <p:cNvPicPr/>
          <p:nvPr/>
        </p:nvPicPr>
        <p:blipFill>
          <a:blip r:embed="rId2"/>
          <a:stretch/>
        </p:blipFill>
        <p:spPr>
          <a:xfrm>
            <a:off x="1766880" y="1600200"/>
            <a:ext cx="56102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9680" y="142920"/>
            <a:ext cx="864396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Снежинка-гибрид образовалась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26.12.10г., 24.01.12г., 12.02.12г., 13.02.12г. 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4" name="Содержимое 3" descr="http://uvovki.obychnogo.net/files/u1/sneginka12.jpg"/>
          <p:cNvPicPr/>
          <p:nvPr/>
        </p:nvPicPr>
        <p:blipFill>
          <a:blip r:embed="rId2"/>
          <a:stretch/>
        </p:blipFill>
        <p:spPr>
          <a:xfrm>
            <a:off x="2286000" y="1428840"/>
            <a:ext cx="50720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Снежная пушка , которая покрывает склоны искусственным снегом для раннего катания на лыжах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6" name="Picture 2" descr="C:\Documents and Settings\вал\Рабочий стол\общая\Торговцева Н. физика\img.php.jpg"/>
          <p:cNvPicPr/>
          <p:nvPr/>
        </p:nvPicPr>
        <p:blipFill>
          <a:blip r:embed="rId2"/>
          <a:stretch/>
        </p:blipFill>
        <p:spPr>
          <a:xfrm>
            <a:off x="1714680" y="178596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alibri"/>
              </a:rPr>
              <a:t>Формы снежинок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325764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mbria"/>
              </a:rPr>
              <a:t>1.Плоская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mbria"/>
              </a:rPr>
              <a:t>2.Треугольная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mbria"/>
              </a:rPr>
              <a:t>3.Продолговатая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mbria"/>
              </a:rPr>
              <a:t>4.Древообразная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mbria"/>
              </a:rPr>
              <a:t>5.Гибрид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99" name="Рисунок 5" descr="плоская снежинка"/>
          <p:cNvPicPr/>
          <p:nvPr/>
        </p:nvPicPr>
        <p:blipFill>
          <a:blip r:embed="rId2"/>
          <a:stretch/>
        </p:blipFill>
        <p:spPr>
          <a:xfrm>
            <a:off x="4068720" y="333360"/>
            <a:ext cx="1995480" cy="179244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8" descr="продолговатая снежинка"/>
          <p:cNvPicPr/>
          <p:nvPr/>
        </p:nvPicPr>
        <p:blipFill>
          <a:blip r:embed="rId3"/>
          <a:stretch/>
        </p:blipFill>
        <p:spPr>
          <a:xfrm>
            <a:off x="4071960" y="2462040"/>
            <a:ext cx="2000160" cy="166212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9" descr="http://uvovki.obychnogo.net/files/u1/sneginka08.jpg"/>
          <p:cNvPicPr/>
          <p:nvPr/>
        </p:nvPicPr>
        <p:blipFill>
          <a:blip r:embed="rId4"/>
          <a:stretch/>
        </p:blipFill>
        <p:spPr>
          <a:xfrm>
            <a:off x="6858000" y="2428920"/>
            <a:ext cx="1857240" cy="172548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4" descr="Описание: вот из такой красоты состоит снег"/>
          <p:cNvPicPr/>
          <p:nvPr/>
        </p:nvPicPr>
        <p:blipFill>
          <a:blip r:embed="rId5"/>
          <a:stretch/>
        </p:blipFill>
        <p:spPr>
          <a:xfrm>
            <a:off x="6919920" y="357120"/>
            <a:ext cx="1795320" cy="174960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11" descr="Описание: http://uvovki.obychnogo.net/files/u1/sneginka12.jpg"/>
          <p:cNvPicPr/>
          <p:nvPr/>
        </p:nvPicPr>
        <p:blipFill>
          <a:blip r:embed="rId6"/>
          <a:stretch/>
        </p:blipFill>
        <p:spPr>
          <a:xfrm>
            <a:off x="5572080" y="4429080"/>
            <a:ext cx="1997280" cy="204012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4" descr="Описание: вот из такой красоты состоит снег"/>
          <p:cNvPicPr/>
          <p:nvPr/>
        </p:nvPicPr>
        <p:blipFill>
          <a:blip r:embed="rId7"/>
          <a:stretch/>
        </p:blipFill>
        <p:spPr>
          <a:xfrm>
            <a:off x="6929280" y="357120"/>
            <a:ext cx="1795680" cy="17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Литература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85840" y="928440"/>
            <a:ext cx="840096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ambria"/>
              </a:rPr>
              <a:t>http://ru.wikipedia.org/wiki/%D1%ED%E5%E3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ambria"/>
              </a:rPr>
              <a:t>http://www.o8ode.ru/article/krie/klaccifikacia_cneginok.htm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ambria"/>
              </a:rPr>
              <a:t>http://images.yandex.ru/yandsearch?p=0&amp;text=%D1%81%D0%BD%D0%B5%D0%B6%D0%B8%D0%BD%D0%BA%D0%B8&amp;img_url=www.xrest.ru%2Fimages%2Fcollection%2F00296%2F734%2Foriginal.jpg&amp;rpt=simage&amp;noreask=1&amp;lr=64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ambria"/>
              </a:rPr>
              <a:t>http://images.yandex.ru/yandsearch?p=0&amp;text=%D1%81%D0%BD%D0%B5%D0%B6%D0%BD%D0%B0%D1%8F%20%D0%BF%D1%83%D1%88%D0%BA%D0%B0&amp;img_url=www.ledorub.ru%2Fsneg%2Fpic%2Fsg_03.jpg&amp;rpt=simage&amp;noreask=1&amp;lr=64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ambria"/>
              </a:rPr>
              <a:t>http://ru.wikipedia.org/wiki/%D1%ED%E5%E6%ED%E0%FF_%EF%F3%F8%EA%E0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ambria"/>
              </a:rPr>
              <a:t>http://images.yandex.ru/yandsearch?p=1&amp;text=%D0%B0%D0%BB%D0%BC%D0%B0%D0%B7%D0%BD%D0%B0%D1%8F%20%D0%BF%D1%8B%D0%BB%D1%8C&amp;img_url=img-fotki.yandex.ru%2Fget%2F4808%2Fzenit-ps.7%2F0_54728_b001d21c_XL.jpg&amp;rpt=simage&amp;noreask=1&amp;lr=64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Cambria"/>
              </a:rPr>
              <a:t>Первое сентября . Физика №3 2009г.,стр.45-47</a:t>
            </a:r>
            <a:r>
              <a:rPr b="1" lang="ru-RU" sz="1800" spc="-1" strike="noStrike">
                <a:solidFill>
                  <a:srgbClr val="ffff00"/>
                </a:solidFill>
                <a:latin typeface="Cambri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107" name="Picture 1033" descr="image016"/>
          <p:cNvPicPr/>
          <p:nvPr/>
        </p:nvPicPr>
        <p:blipFill>
          <a:blip r:embed="rId2"/>
          <a:stretch/>
        </p:blipFill>
        <p:spPr>
          <a:xfrm>
            <a:off x="6858000" y="4361040"/>
            <a:ext cx="200016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13840"/>
            <a:ext cx="82296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mbria"/>
              </a:rPr>
              <a:t>Цель:</a:t>
            </a: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исследование влияния атмосферного давления и температуры на формирование снежинок, изучение их форм и видов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52" name="Рисунок 3" descr="вот из такой красоты состоит снег"/>
          <p:cNvPicPr/>
          <p:nvPr/>
        </p:nvPicPr>
        <p:blipFill>
          <a:blip r:embed="rId2"/>
          <a:stretch/>
        </p:blipFill>
        <p:spPr>
          <a:xfrm rot="395400">
            <a:off x="4929120" y="2499840"/>
            <a:ext cx="3778200" cy="4071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C:\Documents and Settings\вал\Рабочий стол\29.jpg"/>
          <p:cNvPicPr/>
          <p:nvPr/>
        </p:nvPicPr>
        <p:blipFill>
          <a:blip r:embed="rId3"/>
          <a:stretch/>
        </p:blipFill>
        <p:spPr>
          <a:xfrm rot="20134800">
            <a:off x="336600" y="2169720"/>
            <a:ext cx="3046320" cy="22860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5" descr="http://uvovki.obychnogo.net/files/u1/sneginka13.jpg"/>
          <p:cNvPicPr/>
          <p:nvPr/>
        </p:nvPicPr>
        <p:blipFill>
          <a:blip r:embed="rId4"/>
          <a:stretch/>
        </p:blipFill>
        <p:spPr>
          <a:xfrm rot="203400">
            <a:off x="2436840" y="4361040"/>
            <a:ext cx="21938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СПАСИБО ЗА ВНИМАНИЕ!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9" name="Picture 1029" descr="bd07218_"/>
          <p:cNvPicPr/>
          <p:nvPr/>
        </p:nvPicPr>
        <p:blipFill>
          <a:blip r:embed="rId2"/>
          <a:stretch/>
        </p:blipFill>
        <p:spPr>
          <a:xfrm>
            <a:off x="3000240" y="2214720"/>
            <a:ext cx="3214800" cy="37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Задачи: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1600200"/>
            <a:ext cx="91440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1.Узнать, при каких погодных условиях формируются снежинки;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2. Изучить структуру снежинок;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3. Выяснить, как на формирование снежинок влияет температура и атмосферное давление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57" name="Picture 3" descr="10"/>
          <p:cNvPicPr/>
          <p:nvPr/>
        </p:nvPicPr>
        <p:blipFill>
          <a:blip r:embed="rId2"/>
          <a:stretch/>
        </p:blipFill>
        <p:spPr>
          <a:xfrm>
            <a:off x="3214800" y="4357800"/>
            <a:ext cx="29480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Эмпирические методы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Наблюдение (наблюдение формирования снежинок при разных погодных условиях, рассмотрение структуры и форм снежинок)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Сравнение (сравнение форм снежинок при разных погодных условиях)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Измерение (измерение атмосферного давления, температуры воздуха, влажности воздуха)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Теоретические методы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1. Изучение и рассмотрение структуры снежинок;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2.Рассмотрение  и изучение форм снежинок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62" name="Picture 1024" descr="PE01676_"/>
          <p:cNvPicPr/>
          <p:nvPr/>
        </p:nvPicPr>
        <p:blipFill>
          <a:blip r:embed="rId2"/>
          <a:stretch/>
        </p:blipFill>
        <p:spPr>
          <a:xfrm>
            <a:off x="5072040" y="3500280"/>
            <a:ext cx="301644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Актуальность темы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4" name="Picture 4" descr="C:\Documents and Settings\вал\Рабочий стол\skidor675.jpg"/>
          <p:cNvPicPr/>
          <p:nvPr/>
        </p:nvPicPr>
        <p:blipFill>
          <a:blip r:embed="rId2"/>
          <a:stretch/>
        </p:blipFill>
        <p:spPr>
          <a:xfrm rot="231000">
            <a:off x="4285800" y="4142880"/>
            <a:ext cx="4591080" cy="229248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5"/>
          <p:cNvSpPr/>
          <p:nvPr/>
        </p:nvSpPr>
        <p:spPr>
          <a:xfrm>
            <a:off x="0" y="-197640"/>
            <a:ext cx="914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Создание искусственного снега в настоящее время имеет большое значение. Искусственный снег, созданный при помощи снежных пушек,  применяется на горнолыжных курортах для подготовки склонов к катанию, при подготовке горнолыжных трасс к олимпийским играм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Формирование практически любой снежинки начинается с вот такой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"заготовки":</a:t>
            </a:r>
            <a:br>
              <a:rPr sz="2800"/>
            </a:b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7" name="Содержимое 3" descr="формирование снежинки"/>
          <p:cNvPicPr/>
          <p:nvPr/>
        </p:nvPicPr>
        <p:blipFill>
          <a:blip r:embed="rId2"/>
          <a:stretch/>
        </p:blipFill>
        <p:spPr>
          <a:xfrm>
            <a:off x="1857240" y="1714680"/>
            <a:ext cx="492948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Белый снег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Белый цвет снега происходит от заключенного в снежинках воздуха. Свет отражается от поверхностей между кристаллами и воздухом и рассеивается. 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70" name="Рисунок 3" descr="http://upload.wikimedia.org/wikipedia/commons/thumb/b/b8/Fresh_snow.JPG/250px-Fresh_snow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360" y="3500280"/>
            <a:ext cx="3887640" cy="298944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4" descr="http://upload.wikimedia.org/wikipedia/commons/thumb/7/72/Snow_Scene_at_Shipka_Pass_1.JPG/250px-Snow_Scene_at_Shipka_Pass_1.JPG"/>
          <p:cNvPicPr/>
          <p:nvPr/>
        </p:nvPicPr>
        <p:blipFill>
          <a:blip r:embed="rId4"/>
          <a:stretch/>
        </p:blipFill>
        <p:spPr>
          <a:xfrm>
            <a:off x="5219640" y="3500280"/>
            <a:ext cx="33130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«Алмазная пыль»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Если мороз около 40°C, то зарождающиеся в атмосфере кристаллики льда выпадают в виде «</a:t>
            </a: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алмазной пыли</a:t>
            </a: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»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74" name="Picture 2" descr="C:\Users\ната\Desktop\0_54728_b001d21c_XL.jpg"/>
          <p:cNvPicPr/>
          <p:nvPr/>
        </p:nvPicPr>
        <p:blipFill>
          <a:blip r:embed="rId2"/>
          <a:stretch/>
        </p:blipFill>
        <p:spPr>
          <a:xfrm>
            <a:off x="1744560" y="2708280"/>
            <a:ext cx="5113440" cy="38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18:18:45Z</dcterms:created>
  <dc:creator>вал</dc:creator>
  <dc:description/>
  <dc:language>en-US</dc:language>
  <cp:lastModifiedBy>КарМаН</cp:lastModifiedBy>
  <dcterms:modified xsi:type="dcterms:W3CDTF">2012-04-13T19:29:42Z</dcterms:modified>
  <cp:revision>63</cp:revision>
  <dc:subject/>
  <dc:title>Муниципальное общеобразовательное учреждение «Средняя общеобразовательная школа № 19 г. Белово»      Влияние внешних факторов на формирование снежинок</dc:title>
</cp:coreProperties>
</file>