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4F4B-C240-4C66-8A0F-2EE731D5E7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983B-0EE1-49C5-9C5D-E05B7D72FD9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5C50-820B-414F-BB99-A4FF27ACCE7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561C-0735-4F3A-9D54-99DF2C448B9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F6C2-D0E2-432E-BBA5-9892A9C2CA7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E7C2-1989-4D13-B5E4-1F822B09936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2568-6BC7-4FCA-A03E-02B62828E45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6F96-566E-404B-8BE4-75D3055C0B7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5298-3C62-4672-A958-B8B9B92A8F8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ACDA-E5B9-4FBD-B31C-72F130D23EA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20CB-C2EB-47E2-8EC6-DF1F19BBBEF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6891-2DC7-4BE3-8234-4739420322D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0CBB-AE71-4DEE-82B1-2E17B868D92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A8A2-198D-4DA3-9BFC-E17A6482333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4E94-C86D-4A45-A97D-054B5871EB6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46E3-96F3-44FD-81C9-1E33F9AB121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BCC-F87C-400C-B5AB-09C9F17A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416-C168-4319-A629-477B0F80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1D76-68B2-49B7-BDEF-09980CAD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0AAC-05C1-4164-B17D-4A57E0F8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F33-3E01-4096-864C-06404AEC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CFF-4132-4F33-9270-717CAB6B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4F0-4230-4876-A99C-9BECA69F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82C-2C4B-4E1F-807F-27CF5097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3CBF-7FD0-4F59-8BF1-20BB4D9F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EC4-517C-47B7-99D6-CB15D508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68B8-500B-49CC-A9AF-94054C05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ABD7-176A-4C5A-868F-46AA10B1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3C1D-B977-43EF-BD1D-431FDFDF98BC}" type="slidenum">
              <a:rPr b="0" lang="en-US" sz="12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.jpeg"/><Relationship Id="rId6" Type="http://schemas.openxmlformats.org/officeDocument/2006/relationships/image" Target="../media/image23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Fresh_snow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71840" y="4071600"/>
            <a:ext cx="65721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ыполнила :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ученица 8 «А « класс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Торговцева Наталь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уководитель: учитель физики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ащенко Светлана Александров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80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униципальное бюджетное 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«Средняя общеобразовательная школа № 19 г. Белово»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лияние атмосферного давления и температуры на формирование снежинок. </a:t>
            </a:r>
            <a:br>
              <a:rPr sz="4300"/>
            </a:br>
            <a:br>
              <a:rPr sz="48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00816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1951 году Международная Комиссия по Снегу и Льду приняла классификацию твёрдых осадков. Согласно ей все снежные кристаллы можно разделить на следующие группы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.                        3.                       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.                         4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3716280"/>
            <a:ext cx="300816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1.Звездчатые дендрит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2.Игл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3.Столбц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4.Столбцы с наконечником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8" name="Рисунок 4" descr="*Дендриты (деревоподобные) снежинки"/>
          <p:cNvPicPr/>
          <p:nvPr/>
        </p:nvPicPr>
        <p:blipFill>
          <a:blip r:embed="rId2"/>
          <a:stretch/>
        </p:blipFill>
        <p:spPr>
          <a:xfrm>
            <a:off x="4067280" y="404640"/>
            <a:ext cx="201744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*Иглы"/>
          <p:cNvPicPr/>
          <p:nvPr/>
        </p:nvPicPr>
        <p:blipFill>
          <a:blip r:embed="rId3"/>
          <a:stretch/>
        </p:blipFill>
        <p:spPr>
          <a:xfrm>
            <a:off x="4067280" y="3017880"/>
            <a:ext cx="2089080" cy="2066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*Колонны"/>
          <p:cNvPicPr/>
          <p:nvPr/>
        </p:nvPicPr>
        <p:blipFill>
          <a:blip r:embed="rId4"/>
          <a:stretch/>
        </p:blipFill>
        <p:spPr>
          <a:xfrm>
            <a:off x="6732720" y="476280"/>
            <a:ext cx="1871640" cy="1873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*Колонны с шапками"/>
          <p:cNvPicPr/>
          <p:nvPr/>
        </p:nvPicPr>
        <p:blipFill>
          <a:blip r:embed="rId5"/>
          <a:stretch/>
        </p:blipFill>
        <p:spPr>
          <a:xfrm>
            <a:off x="6659640" y="3017880"/>
            <a:ext cx="1944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472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лоская снежинка образовалась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9-23.11.10 г.,28.-30.11.10г., 18-19.12.10 г.,  14.01.11 г., 27-28.01.11 г.,31.01.11г., 01.02.11г.,06.02.11 г., 26.01.12 г., 14.02.12г., 15.03.12 г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Содержимое 3" descr="плоская снежинка"/>
          <p:cNvPicPr/>
          <p:nvPr/>
        </p:nvPicPr>
        <p:blipFill>
          <a:blip r:embed="rId2"/>
          <a:stretch/>
        </p:blipFill>
        <p:spPr>
          <a:xfrm>
            <a:off x="1917720" y="1785960"/>
            <a:ext cx="5308560" cy="478620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3" descr="плоская снежинка"/>
          <p:cNvPicPr/>
          <p:nvPr/>
        </p:nvPicPr>
        <p:blipFill>
          <a:blip r:embed="rId3"/>
          <a:stretch/>
        </p:blipFill>
        <p:spPr>
          <a:xfrm>
            <a:off x="1908000" y="1773360"/>
            <a:ext cx="53089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Треугольная снежинка образовалась 24.11.10г. при влажности 94 %, атмосферном давлении750 мм.рт.ст., температуре -2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Рисунок 5" descr="Описание: http://uvovki.obychnogo.net/files/u1/sneginka06.jpg"/>
          <p:cNvPicPr/>
          <p:nvPr/>
        </p:nvPicPr>
        <p:blipFill>
          <a:blip r:embed="rId2"/>
          <a:stretch/>
        </p:blipFill>
        <p:spPr>
          <a:xfrm>
            <a:off x="2928960" y="1714680"/>
            <a:ext cx="41050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Продолговатая снежинка образовалась 25.11.10г. при влажности 92 %, атмосферном давлении749 мм.рт.ст. и температуре -5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Содержимое 3" descr="продолговатая снежинка"/>
          <p:cNvPicPr/>
          <p:nvPr/>
        </p:nvPicPr>
        <p:blipFill>
          <a:blip r:embed="rId2"/>
          <a:stretch/>
        </p:blipFill>
        <p:spPr>
          <a:xfrm>
            <a:off x="1857240" y="1928880"/>
            <a:ext cx="5572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Древообразная снежинка образовалась  15.02.12 г. при влажности  86 % , атмосферном давлении761 мм.рт.ст. , 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температуре -20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Содержимое 3" descr="http://uvovki.obychnogo.net/files/u1/sneginka08.jpg"/>
          <p:cNvPicPr/>
          <p:nvPr/>
        </p:nvPicPr>
        <p:blipFill>
          <a:blip r:embed="rId2"/>
          <a:stretch/>
        </p:blipFill>
        <p:spPr>
          <a:xfrm rot="21370800">
            <a:off x="2252520" y="1886040"/>
            <a:ext cx="480852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Древообразная снежинка образовалась 15.01.11. при влажности 93 %, атмосферном давлении758 мм.рт.ст. , температуре -10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Содержимое 3" descr="древообразная снежинка"/>
          <p:cNvPicPr/>
          <p:nvPr/>
        </p:nvPicPr>
        <p:blipFill>
          <a:blip r:embed="rId2"/>
          <a:stretch/>
        </p:blipFill>
        <p:spPr>
          <a:xfrm>
            <a:off x="1766880" y="1600200"/>
            <a:ext cx="561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6439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Снежинка-гибрид образовалась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6.12.10г., 24.01.12г., 12.02.12г., 13.02.12г. 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Содержимое 3" descr="http://uvovki.obychnogo.net/files/u1/sneginka12.jpg"/>
          <p:cNvPicPr/>
          <p:nvPr/>
        </p:nvPicPr>
        <p:blipFill>
          <a:blip r:embed="rId2"/>
          <a:stretch/>
        </p:blipFill>
        <p:spPr>
          <a:xfrm>
            <a:off x="2286000" y="1428840"/>
            <a:ext cx="5072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Снежная пушка , которая покрывает склоны искусственным снегом для раннего катания на лыжах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Documents and Settings\вал\Рабочий стол\общая\Торговцева Н. физика\img.php.jpg"/>
          <p:cNvPicPr/>
          <p:nvPr/>
        </p:nvPicPr>
        <p:blipFill>
          <a:blip r:embed="rId2"/>
          <a:stretch/>
        </p:blipFill>
        <p:spPr>
          <a:xfrm>
            <a:off x="1714680" y="17859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Формы снежино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257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1.Плоск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2.Треугольн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3.Продолговат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4.Древообразн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5.Гибрид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9" name="Рисунок 5" descr="плоская снежинка"/>
          <p:cNvPicPr/>
          <p:nvPr/>
        </p:nvPicPr>
        <p:blipFill>
          <a:blip r:embed="rId2"/>
          <a:stretch/>
        </p:blipFill>
        <p:spPr>
          <a:xfrm>
            <a:off x="4068720" y="333360"/>
            <a:ext cx="1995480" cy="1792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продолговатая снежинка"/>
          <p:cNvPicPr/>
          <p:nvPr/>
        </p:nvPicPr>
        <p:blipFill>
          <a:blip r:embed="rId3"/>
          <a:stretch/>
        </p:blipFill>
        <p:spPr>
          <a:xfrm>
            <a:off x="4071960" y="2462040"/>
            <a:ext cx="2000160" cy="16621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http://uvovki.obychnogo.net/files/u1/sneginka08.jpg"/>
          <p:cNvPicPr/>
          <p:nvPr/>
        </p:nvPicPr>
        <p:blipFill>
          <a:blip r:embed="rId4"/>
          <a:stretch/>
        </p:blipFill>
        <p:spPr>
          <a:xfrm>
            <a:off x="6858000" y="2428920"/>
            <a:ext cx="1857240" cy="1725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Описание: вот из такой красоты состоит снег"/>
          <p:cNvPicPr/>
          <p:nvPr/>
        </p:nvPicPr>
        <p:blipFill>
          <a:blip r:embed="rId5"/>
          <a:stretch/>
        </p:blipFill>
        <p:spPr>
          <a:xfrm>
            <a:off x="6919920" y="357120"/>
            <a:ext cx="1795320" cy="17496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Описание: http://uvovki.obychnogo.net/files/u1/sneginka12.jpg"/>
          <p:cNvPicPr/>
          <p:nvPr/>
        </p:nvPicPr>
        <p:blipFill>
          <a:blip r:embed="rId6"/>
          <a:stretch/>
        </p:blipFill>
        <p:spPr>
          <a:xfrm>
            <a:off x="5572080" y="4429080"/>
            <a:ext cx="1997280" cy="2040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Описание: вот из такой красоты состоит снег"/>
          <p:cNvPicPr/>
          <p:nvPr/>
        </p:nvPicPr>
        <p:blipFill>
          <a:blip r:embed="rId7"/>
          <a:stretch/>
        </p:blipFill>
        <p:spPr>
          <a:xfrm>
            <a:off x="6929280" y="357120"/>
            <a:ext cx="17956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Литератур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928440"/>
            <a:ext cx="840096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ru.wikipedia.org/wiki/%D1%ED%E5%E3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www.o8ode.ru/article/krie/klaccifikacia_cneginok.htm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0&amp;text=%D1%81%D0%BD%D0%B5%D0%B6%D0%B8%D0%BD%D0%BA%D0%B8&amp;img_url=www.xrest.ru%2Fimages%2Fcollection%2F00296%2F734%2Foriginal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0&amp;text=%D1%81%D0%BD%D0%B5%D0%B6%D0%BD%D0%B0%D1%8F%20%D0%BF%D1%83%D1%88%D0%BA%D0%B0&amp;img_url=www.ledorub.ru%2Fsneg%2Fpic%2Fsg_03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ru.wikipedia.org/wiki/%D1%ED%E5%E6%ED%E0%FF_%EF%F3%F8%EA%E0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1&amp;text=%D0%B0%D0%BB%D0%BC%D0%B0%D0%B7%D0%BD%D0%B0%D1%8F%20%D0%BF%D1%8B%D0%BB%D1%8C&amp;img_url=img-fotki.yandex.ru%2Fget%2F4808%2Fzenit-ps.7%2F0_54728_b001d21c_XL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mbria"/>
              </a:rPr>
              <a:t>Первое сентября . Физика №3 2009г.,стр.45-47</a:t>
            </a: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7" name="Picture 1033" descr="image016"/>
          <p:cNvPicPr/>
          <p:nvPr/>
        </p:nvPicPr>
        <p:blipFill>
          <a:blip r:embed="rId2"/>
          <a:stretch/>
        </p:blipFill>
        <p:spPr>
          <a:xfrm>
            <a:off x="6858000" y="4361040"/>
            <a:ext cx="200016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138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Цель: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исследование влияния атмосферного давления и температуры на формирование снежинок, изучение их форм и видов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2" name="Рисунок 3" descr="вот из такой красоты состоит снег"/>
          <p:cNvPicPr/>
          <p:nvPr/>
        </p:nvPicPr>
        <p:blipFill>
          <a:blip r:embed="rId2"/>
          <a:stretch/>
        </p:blipFill>
        <p:spPr>
          <a:xfrm rot="395400">
            <a:off x="4929120" y="2499840"/>
            <a:ext cx="37782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вал\Рабочий стол\29.jpg"/>
          <p:cNvPicPr/>
          <p:nvPr/>
        </p:nvPicPr>
        <p:blipFill>
          <a:blip r:embed="rId3"/>
          <a:stretch/>
        </p:blipFill>
        <p:spPr>
          <a:xfrm rot="20134800">
            <a:off x="336600" y="2169720"/>
            <a:ext cx="304632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http://uvovki.obychnogo.net/files/u1/sneginka13.jpg"/>
          <p:cNvPicPr/>
          <p:nvPr/>
        </p:nvPicPr>
        <p:blipFill>
          <a:blip r:embed="rId4"/>
          <a:stretch/>
        </p:blipFill>
        <p:spPr>
          <a:xfrm rot="203400">
            <a:off x="2436840" y="4361040"/>
            <a:ext cx="2193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1029" descr="bd07218_"/>
          <p:cNvPicPr/>
          <p:nvPr/>
        </p:nvPicPr>
        <p:blipFill>
          <a:blip r:embed="rId2"/>
          <a:stretch/>
        </p:blipFill>
        <p:spPr>
          <a:xfrm>
            <a:off x="3000240" y="2214720"/>
            <a:ext cx="32148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1.Узнать, при каких погодных условиях формируются снежинки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2. Изучить структуру снежинок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3. Выяснить, как на формирование снежинок влияет температура и атмосферное давление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7" name="Picture 3" descr="10"/>
          <p:cNvPicPr/>
          <p:nvPr/>
        </p:nvPicPr>
        <p:blipFill>
          <a:blip r:embed="rId2"/>
          <a:stretch/>
        </p:blipFill>
        <p:spPr>
          <a:xfrm>
            <a:off x="3214800" y="4357800"/>
            <a:ext cx="2948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Эмпирические методы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Наблюдение (наблюдение формирования снежинок при разных погодных условиях, рассмотрение структуры и форм снежинок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Сравнение (сравнение форм снежинок при разных погодных условиях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Измерение (измерение атмосферного давления, температуры воздуха, влажности воздуха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еоретические методы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. Изучение и рассмотрение структуры снежинок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.Рассмотрение  и изучение форм снежинок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2" name="Picture 1024" descr="PE01676_"/>
          <p:cNvPicPr/>
          <p:nvPr/>
        </p:nvPicPr>
        <p:blipFill>
          <a:blip r:embed="rId2"/>
          <a:stretch/>
        </p:blipFill>
        <p:spPr>
          <a:xfrm>
            <a:off x="5072040" y="3500280"/>
            <a:ext cx="3016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Актуальность темы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4" descr="C:\Documents and Settings\вал\Рабочий стол\skidor675.jpg"/>
          <p:cNvPicPr/>
          <p:nvPr/>
        </p:nvPicPr>
        <p:blipFill>
          <a:blip r:embed="rId2"/>
          <a:stretch/>
        </p:blipFill>
        <p:spPr>
          <a:xfrm rot="231000">
            <a:off x="4285800" y="4142880"/>
            <a:ext cx="4591080" cy="2292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0" y="-1976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здание искусственного снега в настоящее время имеет большое значение. Искусственный снег, созданный при помощи снежных пушек,  применяется на горнолыжных курортах для подготовки склонов к катанию, при подготовке горнолыжных трасс к олимпийским играм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ормирование практически любой снежинки начинается с вот такой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"заготовки":</a:t>
            </a:r>
            <a:br>
              <a:rPr sz="2800"/>
            </a:b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Содержимое 3" descr="формирование снежинки"/>
          <p:cNvPicPr/>
          <p:nvPr/>
        </p:nvPicPr>
        <p:blipFill>
          <a:blip r:embed="rId2"/>
          <a:stretch/>
        </p:blipFill>
        <p:spPr>
          <a:xfrm>
            <a:off x="1857240" y="1714680"/>
            <a:ext cx="4929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Белый снег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Белый цвет снега происходит от заключенного в снежинках воздуха. Свет отражается от поверхностей между кристаллами и воздухом и рассеивается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0" name="Рисунок 3" descr="http://upload.wikimedia.org/wikipedia/commons/thumb/b/b8/Fresh_snow.JPG/250px-Fresh_snow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500280"/>
            <a:ext cx="3887640" cy="29894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ttp://upload.wikimedia.org/wikipedia/commons/thumb/7/72/Snow_Scene_at_Shipka_Pass_1.JPG/250px-Snow_Scene_at_Shipka_Pass_1.JPG"/>
          <p:cNvPicPr/>
          <p:nvPr/>
        </p:nvPicPr>
        <p:blipFill>
          <a:blip r:embed="rId4"/>
          <a:stretch/>
        </p:blipFill>
        <p:spPr>
          <a:xfrm>
            <a:off x="5219640" y="3500280"/>
            <a:ext cx="33130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«Алмазная пыль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Если мороз около 40°C, то зарождающиеся в атмосфере кристаллики льда выпадают в виде «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алмазной пыли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4" name="Picture 2" descr="C:\Users\ната\Desktop\0_54728_b001d21c_XL.jpg"/>
          <p:cNvPicPr/>
          <p:nvPr/>
        </p:nvPicPr>
        <p:blipFill>
          <a:blip r:embed="rId2"/>
          <a:stretch/>
        </p:blipFill>
        <p:spPr>
          <a:xfrm>
            <a:off x="1744560" y="2708280"/>
            <a:ext cx="51134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8:18:45Z</dcterms:created>
  <dc:creator>вал</dc:creator>
  <dc:description/>
  <dc:language>en-US</dc:language>
  <cp:lastModifiedBy>КарМаН</cp:lastModifiedBy>
  <dcterms:modified xsi:type="dcterms:W3CDTF">2012-04-13T19:29:42Z</dcterms:modified>
  <cp:revision>63</cp:revision>
  <dc:subject/>
  <dc:title>Муниципальное общеобразовательное учреждение «Средняя общеобразовательная школа № 19 г. Белово»      Влияние внешних факторов на формирование снежинок</dc:title>
</cp:coreProperties>
</file>