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8121-7AF1-4ADC-A8AD-435CADF299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CDAC-8BA1-47C0-A639-48698C8410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EEC2-FB23-4A4E-8EF8-9CD554BD3F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F5B1-6798-4309-B7CF-40BE414F6AE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82C8-1201-4D08-BE33-91AA4E2B1DB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42C-B79B-4FE9-A986-ABB897AAACF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86F-A911-4A73-B59A-CF142925EE3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6B6F-177F-4C6F-9E58-0687332AE8A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F31F-B901-4731-B389-74029615421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9CA-30A4-4CCA-8EBE-639C40BFF17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C522-3831-446C-B6D2-DA604FE360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A713-1B3B-4736-9145-96301E8248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2EE2-9453-4520-BBF0-B25E83EB10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B21B-A291-460D-BC34-BF80A28600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9A8F-2A27-4FA7-88C7-1BE3423AB4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D636-88B0-40B4-B237-EDD6A8230A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412-C887-4160-AA52-AE4E4231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65D-15EF-40C3-8B01-24D7BDCC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9E9-0C18-4E58-89AD-A1FBE2C68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19E-38BB-49E9-9AA3-CDBBCC86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0A5-88E4-4ACE-BCBB-FFF3ACE8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445-45E6-4244-B63B-407A20F2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B43-802D-4948-97E9-8CF53899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84C-C62D-40C3-8831-06508867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7C8-96C0-40EF-8A2E-D7710173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A55-C811-4D89-B623-95A2C25D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F78-1FFA-4769-BF4C-0EDBB560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A99-4450-4BDD-B186-1BC3041E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3401-F7A5-4DA8-8A42-59034F31DE97}" type="slidenum">
              <a:rPr b="0" lang="en-US" sz="12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image" Target="../media/image23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60;&#1072;&#1081;&#1083;:Fresh_snow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71840" y="4071600"/>
            <a:ext cx="65721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ыполнила :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ченица 8 «А « класс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орговцева Наталь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уководитель: учитель физик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ащенко Светлана Александров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1800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униципальное бюджетное 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«Средняя общеобразовательная школа № 19 г. Белово»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лияние атмосферного давления и температуры на формирование снежинок. </a:t>
            </a:r>
            <a:br>
              <a:rPr sz="4300"/>
            </a:br>
            <a:br>
              <a:rPr sz="48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300816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В 1951 году Международная Комиссия по Снегу и Льду приняла классификацию твёрдых осадков. Согласно ей все снежные кристаллы можно разделить на следующие группы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                       3.                       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                         4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3008160" cy="24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1.Звездчатые дендрит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2.Игл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3.Столбцы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4.Столбцы с наконечником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8" name="Рисунок 4" descr="*Дендриты (деревоподобные) снежинки"/>
          <p:cNvPicPr/>
          <p:nvPr/>
        </p:nvPicPr>
        <p:blipFill>
          <a:blip r:embed="rId2"/>
          <a:stretch/>
        </p:blipFill>
        <p:spPr>
          <a:xfrm>
            <a:off x="4067280" y="404640"/>
            <a:ext cx="2017440" cy="19447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*Иглы"/>
          <p:cNvPicPr/>
          <p:nvPr/>
        </p:nvPicPr>
        <p:blipFill>
          <a:blip r:embed="rId3"/>
          <a:stretch/>
        </p:blipFill>
        <p:spPr>
          <a:xfrm>
            <a:off x="4067280" y="3017880"/>
            <a:ext cx="2089080" cy="2066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*Колонны"/>
          <p:cNvPicPr/>
          <p:nvPr/>
        </p:nvPicPr>
        <p:blipFill>
          <a:blip r:embed="rId4"/>
          <a:stretch/>
        </p:blipFill>
        <p:spPr>
          <a:xfrm>
            <a:off x="6732720" y="476280"/>
            <a:ext cx="1871640" cy="18730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*Колонны с шапками"/>
          <p:cNvPicPr/>
          <p:nvPr/>
        </p:nvPicPr>
        <p:blipFill>
          <a:blip r:embed="rId5"/>
          <a:stretch/>
        </p:blipFill>
        <p:spPr>
          <a:xfrm>
            <a:off x="6659640" y="3017880"/>
            <a:ext cx="1944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472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лоская снежинка образовалас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19-23.11.10 г.,28.-30.11.10г., 18-19.12.10 г.,  14.01.11 г., 27-28.01.11 г.,31.01.11г., 01.02.11г.,06.02.11 г., 26.01.12 г., 14.02.12г., 15.03.12 г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Содержимое 3" descr="плоская снежинка"/>
          <p:cNvPicPr/>
          <p:nvPr/>
        </p:nvPicPr>
        <p:blipFill>
          <a:blip r:embed="rId2"/>
          <a:stretch/>
        </p:blipFill>
        <p:spPr>
          <a:xfrm>
            <a:off x="1917720" y="1785960"/>
            <a:ext cx="5308560" cy="4786200"/>
          </a:xfrm>
          <a:prstGeom prst="rect">
            <a:avLst/>
          </a:prstGeom>
          <a:ln w="0">
            <a:noFill/>
          </a:ln>
        </p:spPr>
      </p:pic>
      <p:pic>
        <p:nvPicPr>
          <p:cNvPr id="84" name="Содержимое 3" descr="плоская снежинка"/>
          <p:cNvPicPr/>
          <p:nvPr/>
        </p:nvPicPr>
        <p:blipFill>
          <a:blip r:embed="rId3"/>
          <a:stretch/>
        </p:blipFill>
        <p:spPr>
          <a:xfrm>
            <a:off x="1908000" y="1773360"/>
            <a:ext cx="53089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реугольная снежинка образовалась 24.11.10г. при влажности 94 %, атмосферном давлении750 мм.рт.ст., температуре -2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Рисунок 5" descr="Описание: http://uvovki.obychnogo.net/files/u1/sneginka06.jpg"/>
          <p:cNvPicPr/>
          <p:nvPr/>
        </p:nvPicPr>
        <p:blipFill>
          <a:blip r:embed="rId2"/>
          <a:stretch/>
        </p:blipFill>
        <p:spPr>
          <a:xfrm>
            <a:off x="2928960" y="1714680"/>
            <a:ext cx="4105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долговатая снежинка образовалась 25.11.10г. при влажности 92 %, атмосферном давлении749 мм.рт.ст. и температуре -5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Содержимое 3" descr="продолговатая снежинка"/>
          <p:cNvPicPr/>
          <p:nvPr/>
        </p:nvPicPr>
        <p:blipFill>
          <a:blip r:embed="rId2"/>
          <a:stretch/>
        </p:blipFill>
        <p:spPr>
          <a:xfrm>
            <a:off x="1857240" y="1928880"/>
            <a:ext cx="55724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 15.02.12 г. при влажности  86 % , атмосферном давлении761 мм.рт.ст. , 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температуре -2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Содержимое 3" descr="http://uvovki.obychnogo.net/files/u1/sneginka08.jpg"/>
          <p:cNvPicPr/>
          <p:nvPr/>
        </p:nvPicPr>
        <p:blipFill>
          <a:blip r:embed="rId2"/>
          <a:stretch/>
        </p:blipFill>
        <p:spPr>
          <a:xfrm rot="21370800">
            <a:off x="2252520" y="1886040"/>
            <a:ext cx="480852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Древообразная снежинка образовалась 15.01.11. при влажности 93 %, атмосферном давлении758 мм.рт.ст. , температуре -10 °С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Содержимое 3" descr="древообразная снежинка"/>
          <p:cNvPicPr/>
          <p:nvPr/>
        </p:nvPicPr>
        <p:blipFill>
          <a:blip r:embed="rId2"/>
          <a:stretch/>
        </p:blipFill>
        <p:spPr>
          <a:xfrm>
            <a:off x="1766880" y="1600200"/>
            <a:ext cx="561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864396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Снежинка-гибрид образовалась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6.12.10г., 24.01.12г., 12.02.12г., 13.02.12г. 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Содержимое 3" descr="http://uvovki.obychnogo.net/files/u1/sneginka12.jpg"/>
          <p:cNvPicPr/>
          <p:nvPr/>
        </p:nvPicPr>
        <p:blipFill>
          <a:blip r:embed="rId2"/>
          <a:stretch/>
        </p:blipFill>
        <p:spPr>
          <a:xfrm>
            <a:off x="2286000" y="1428840"/>
            <a:ext cx="5072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Снежная пушка , которая покрывает склоны искусственным снегом для раннего катания на лыжах.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C:\Documents and Settings\вал\Рабочий стол\общая\Торговцева Н. физика\img.php.jpg"/>
          <p:cNvPicPr/>
          <p:nvPr/>
        </p:nvPicPr>
        <p:blipFill>
          <a:blip r:embed="rId2"/>
          <a:stretch/>
        </p:blipFill>
        <p:spPr>
          <a:xfrm>
            <a:off x="1714680" y="17859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alibri"/>
              </a:rPr>
              <a:t>Формы снежино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2576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1.Плоск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.Треуголь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3.Продолговат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4.Древообразна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5.Гибрид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99" name="Рисунок 5" descr="плоская снежинка"/>
          <p:cNvPicPr/>
          <p:nvPr/>
        </p:nvPicPr>
        <p:blipFill>
          <a:blip r:embed="rId2"/>
          <a:stretch/>
        </p:blipFill>
        <p:spPr>
          <a:xfrm>
            <a:off x="4068720" y="333360"/>
            <a:ext cx="1995480" cy="17924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8" descr="продолговатая снежинка"/>
          <p:cNvPicPr/>
          <p:nvPr/>
        </p:nvPicPr>
        <p:blipFill>
          <a:blip r:embed="rId3"/>
          <a:stretch/>
        </p:blipFill>
        <p:spPr>
          <a:xfrm>
            <a:off x="4071960" y="2462040"/>
            <a:ext cx="2000160" cy="16621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9" descr="http://uvovki.obychnogo.net/files/u1/sneginka08.jpg"/>
          <p:cNvPicPr/>
          <p:nvPr/>
        </p:nvPicPr>
        <p:blipFill>
          <a:blip r:embed="rId4"/>
          <a:stretch/>
        </p:blipFill>
        <p:spPr>
          <a:xfrm>
            <a:off x="6858000" y="2428920"/>
            <a:ext cx="1857240" cy="17254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Описание: вот из такой красоты состоит снег"/>
          <p:cNvPicPr/>
          <p:nvPr/>
        </p:nvPicPr>
        <p:blipFill>
          <a:blip r:embed="rId5"/>
          <a:stretch/>
        </p:blipFill>
        <p:spPr>
          <a:xfrm>
            <a:off x="6919920" y="357120"/>
            <a:ext cx="1795320" cy="17496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Описание: http://uvovki.obychnogo.net/files/u1/sneginka12.jpg"/>
          <p:cNvPicPr/>
          <p:nvPr/>
        </p:nvPicPr>
        <p:blipFill>
          <a:blip r:embed="rId6"/>
          <a:stretch/>
        </p:blipFill>
        <p:spPr>
          <a:xfrm>
            <a:off x="5572080" y="4429080"/>
            <a:ext cx="1997280" cy="2040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Описание: вот из такой красоты состоит снег"/>
          <p:cNvPicPr/>
          <p:nvPr/>
        </p:nvPicPr>
        <p:blipFill>
          <a:blip r:embed="rId7"/>
          <a:stretch/>
        </p:blipFill>
        <p:spPr>
          <a:xfrm>
            <a:off x="6929280" y="357120"/>
            <a:ext cx="17956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92844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3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www.o8ode.ru/article/krie/klaccifikacia_cneginok.htm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8%D0%BD%D0%BA%D0%B8&amp;img_url=www.xrest.ru%2Fimages%2Fcollection%2F00296%2F734%2Forigina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0&amp;text=%D1%81%D0%BD%D0%B5%D0%B6%D0%BD%D0%B0%D1%8F%20%D0%BF%D1%83%D1%88%D0%BA%D0%B0&amp;img_url=www.ledorub.ru%2Fsneg%2Fpic%2Fsg_03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ru.wikipedia.org/wiki/%D1%ED%E5%E6%ED%E0%FF_%EF%F3%F8%EA%E0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ambria"/>
              </a:rPr>
              <a:t>http://images.yandex.ru/yandsearch?p=1&amp;text=%D0%B0%D0%BB%D0%BC%D0%B0%D0%B7%D0%BD%D0%B0%D1%8F%20%D0%BF%D1%8B%D0%BB%D1%8C&amp;img_url=img-fotki.yandex.ru%2Fget%2F4808%2Fzenit-ps.7%2F0_54728_b001d21c_XL.jpg&amp;rpt=simage&amp;noreask=1&amp;lr=64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mbria"/>
              </a:rPr>
              <a:t>Первое сентября . Физика №3 2009г.,стр.45-47</a:t>
            </a: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107" name="Picture 1033" descr="image016"/>
          <p:cNvPicPr/>
          <p:nvPr/>
        </p:nvPicPr>
        <p:blipFill>
          <a:blip r:embed="rId2"/>
          <a:stretch/>
        </p:blipFill>
        <p:spPr>
          <a:xfrm>
            <a:off x="6858000" y="4361040"/>
            <a:ext cx="200016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38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mbria"/>
              </a:rPr>
              <a:t>исследование влияния атмосферного давления и температуры на формирование снежинок, изучение их форм и видов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2" name="Рисунок 3" descr="вот из такой красоты состоит снег"/>
          <p:cNvPicPr/>
          <p:nvPr/>
        </p:nvPicPr>
        <p:blipFill>
          <a:blip r:embed="rId2"/>
          <a:stretch/>
        </p:blipFill>
        <p:spPr>
          <a:xfrm rot="395400">
            <a:off x="4929120" y="2499840"/>
            <a:ext cx="3778200" cy="407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вал\Рабочий стол\29.jpg"/>
          <p:cNvPicPr/>
          <p:nvPr/>
        </p:nvPicPr>
        <p:blipFill>
          <a:blip r:embed="rId3"/>
          <a:stretch/>
        </p:blipFill>
        <p:spPr>
          <a:xfrm rot="20134800">
            <a:off x="336600" y="2169720"/>
            <a:ext cx="30463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uvovki.obychnogo.net/files/u1/sneginka13.jpg"/>
          <p:cNvPicPr/>
          <p:nvPr/>
        </p:nvPicPr>
        <p:blipFill>
          <a:blip r:embed="rId4"/>
          <a:stretch/>
        </p:blipFill>
        <p:spPr>
          <a:xfrm rot="203400">
            <a:off x="2436840" y="4361040"/>
            <a:ext cx="2193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1029" descr="bd07218_"/>
          <p:cNvPicPr/>
          <p:nvPr/>
        </p:nvPicPr>
        <p:blipFill>
          <a:blip r:embed="rId2"/>
          <a:stretch/>
        </p:blipFill>
        <p:spPr>
          <a:xfrm>
            <a:off x="3000240" y="2214720"/>
            <a:ext cx="32148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Задачи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60020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1.Узнать, при каких погодных условиях формируются снежинки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2. Изучить структуру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3. Выяснить, как на формирование снежинок влияет температура и атмосферное давление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" name="Picture 3" descr="10"/>
          <p:cNvPicPr/>
          <p:nvPr/>
        </p:nvPicPr>
        <p:blipFill>
          <a:blip r:embed="rId2"/>
          <a:stretch/>
        </p:blipFill>
        <p:spPr>
          <a:xfrm>
            <a:off x="3214800" y="4357800"/>
            <a:ext cx="2948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Эмпир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.Наблюдение (наблюдение формирования снежинок при разных погодных условиях, рассмотрение структуры и форм снежинок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Сравнение (сравнение форм снежинок при разных погодных условиях)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.Измерение (измерение атмосферного давления, температуры воздуха, влажности воздух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Теоретические методы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1. Изучение и рассмотрение структуры снежинок;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2.Рассмотрение  и изучение форм снежинок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2" name="Picture 1024" descr="PE01676_"/>
          <p:cNvPicPr/>
          <p:nvPr/>
        </p:nvPicPr>
        <p:blipFill>
          <a:blip r:embed="rId2"/>
          <a:stretch/>
        </p:blipFill>
        <p:spPr>
          <a:xfrm>
            <a:off x="5072040" y="3500280"/>
            <a:ext cx="30164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Актуальность тем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Picture 4" descr="C:\Documents and Settings\вал\Рабочий стол\skidor675.jpg"/>
          <p:cNvPicPr/>
          <p:nvPr/>
        </p:nvPicPr>
        <p:blipFill>
          <a:blip r:embed="rId2"/>
          <a:stretch/>
        </p:blipFill>
        <p:spPr>
          <a:xfrm rot="231000">
            <a:off x="4285800" y="4142880"/>
            <a:ext cx="4591080" cy="2292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0" y="-19764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здание искусственного снега в настоящее время имеет большое значение. Искусственный снег, созданный при помощи снежных пушек,  применяется на горнолыжных курортах для подготовки склонов к катанию, при подготовке горнолыжных трасс к олимпийским играм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ормирование практически любой снежинки начинается с вот такой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"заготовки":</a:t>
            </a:r>
            <a:br>
              <a:rPr sz="2800"/>
            </a:b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Содержимое 3" descr="формирование снежинки"/>
          <p:cNvPicPr/>
          <p:nvPr/>
        </p:nvPicPr>
        <p:blipFill>
          <a:blip r:embed="rId2"/>
          <a:stretch/>
        </p:blipFill>
        <p:spPr>
          <a:xfrm>
            <a:off x="1857240" y="171468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Белый снег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Белый цвет снега происходит от заключенного в снежинках воздуха. Свет отражается от поверхностей между кристаллами и воздухом и рассеивается.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0" name="Рисунок 3" descr="http://upload.wikimedia.org/wikipedia/commons/thumb/b/b8/Fresh_snow.JPG/250px-Fresh_snow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500280"/>
            <a:ext cx="3887640" cy="2989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upload.wikimedia.org/wikipedia/commons/thumb/7/72/Snow_Scene_at_Shipka_Pass_1.JPG/250px-Snow_Scene_at_Shipka_Pass_1.JPG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«Алмазная пыль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Если мороз около 40°C, то зарождающиеся в атмосфере кристаллики льда выпадают в виде «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алмазной пыли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»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74" name="Picture 2" descr="C:\Users\ната\Desktop\0_54728_b001d21c_XL.jpg"/>
          <p:cNvPicPr/>
          <p:nvPr/>
        </p:nvPicPr>
        <p:blipFill>
          <a:blip r:embed="rId2"/>
          <a:stretch/>
        </p:blipFill>
        <p:spPr>
          <a:xfrm>
            <a:off x="1744560" y="2708280"/>
            <a:ext cx="5113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8:18:45Z</dcterms:created>
  <dc:creator>вал</dc:creator>
  <dc:description/>
  <dc:language>en-US</dc:language>
  <cp:lastModifiedBy>КарМаН</cp:lastModifiedBy>
  <dcterms:modified xsi:type="dcterms:W3CDTF">2012-04-13T19:29:42Z</dcterms:modified>
  <cp:revision>63</cp:revision>
  <dc:subject/>
  <dc:title>Муниципальное общеобразовательное учреждение «Средняя общеобразовательная школа № 19 г. Белово»      Влияние внешних факторов на формирование снежинок</dc:title>
</cp:coreProperties>
</file>