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0.png" ContentType="image/png"/>
  <Override PartName="/ppt/media/image27.jpeg" ContentType="image/jpeg"/>
  <Override PartName="/ppt/media/image13.gif" ContentType="image/gif"/>
  <Override PartName="/ppt/media/image23.gif" ContentType="image/gif"/>
  <Override PartName="/ppt/media/image16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12.jpeg" ContentType="image/jpeg"/>
  <Override PartName="/ppt/media/image4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17.png" ContentType="image/png"/>
  <Override PartName="/ppt/media/image18.gif" ContentType="image/gif"/>
  <Override PartName="/ppt/media/image20.gif" ContentType="image/gif"/>
  <Override PartName="/ppt/media/image22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C65DA-DE66-4C02-836D-288C5581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6398E-BBA9-47A1-8312-C9E1B0F7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EF9C5-D8BD-484B-BD55-114E5CD3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0C87C-C769-44AE-AFF0-18A258D5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1CB93-DBF5-4057-8FAF-C79AE9D8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83E8A-B6B8-417F-B953-0B2EB13E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0C1C3-D5FD-4F67-8C1D-9D9CF7E2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E8D77-BE67-4401-865B-27CE29D7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223F8-A254-422B-819B-79F997F7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4F98C-A83A-4488-8DD5-D0CF2D67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280A8-1DFE-4607-8F35-0CA6DE62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B3024-D234-442D-9F49-3F23D9D2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FDF19-D907-4FDF-A7C4-43AB7595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F8303-00BC-4E47-B1B1-22C175B5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35D82-A316-4E23-B669-AAA767F7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BF537-C11E-4B69-ADF9-B3CEA5A5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2B270-20E2-4EED-9941-E26019C8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5B805-B815-499F-9408-86F6444C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48F5A-D02B-4285-AD39-D30F56B6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F67CF-2ABF-445D-8221-8469902D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FF4D6-149E-498D-B65A-997D6D9F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CD0DA-412A-42E8-998E-024F3FB9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054E7-1D2B-4505-B7C1-175AE71B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0ABBA-10F2-4F6E-A6F5-29D0963F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20ED4-BB7F-4375-882E-241AEEF3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9DEE6-8F8C-49DD-BCE2-CA6DA2FE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A5811-CDCA-4771-84EA-083DF70C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02934-BA85-4FAC-976A-5F876C5E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4B095-176B-4413-AA93-58913DCD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3D3D4-78E2-45F9-A655-16003C64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29B-8398-4949-A8A6-255AF619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CFDA1-4DEC-4B30-B82E-FD02795C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753C1-1086-4584-97DE-4C3FBFA7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B9AEC-B207-4781-9A8A-7FA28D01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A8146-B4DD-468A-BDDB-888C9E1E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44868-000E-467E-9CD4-7A8BD7B6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C5B99-3B79-4749-AE81-E46B5176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9E952-2073-4E6F-A1B7-2D1C826B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4F98C-FE0C-4F90-9176-24433451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52805-C075-486B-AB3E-77A6F86B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AE8D9-C9DD-4B55-810B-082054B0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6C0-7C5F-42BA-A84A-0DA098BC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E0FC3-17FF-4A11-9616-F5FB4CC0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24E99-5BF1-4090-A828-CE9F4D44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66208-173C-4AB3-BB0A-909DADA9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248D4-2AE5-4C6E-AF90-84BE8486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86BB8-009D-441F-9274-0BFA77D5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7C317-99E4-4907-9CDC-B8F37FFB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C46E9-2F74-4A05-9239-557A092B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E93E8-C5FD-4761-9139-25FACFA1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A22CC-2D5E-42D5-9688-C3A6B356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45247-8F6E-466F-9BB6-116EDB5E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01A-7DA1-4FD1-AAEC-D75EA492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7E2DC-A159-4CBC-885E-DB8B00C0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6F361-DC8E-47B1-82F0-40E45B22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285D2-1F5C-4254-B431-C8EDA48B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80949-CF0C-4371-A8A6-348A7032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6DAB1-5866-4B31-B12A-46AAD0B9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C13B1-5E7B-4632-B53A-8C30D1D7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3F4FD-E701-46DD-8264-66D88DC0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4DD210-AF6A-4E63-BF09-1A6E78D0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4F0A6-FCFF-4F2E-8A96-FAC067A2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54412-6B16-4036-84BA-E744F498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C54-D61F-4FD8-8F07-7CC5F532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7F2FF-46B1-4852-B0BF-301DF428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16ED9-3A00-4FBC-99E4-A2EC72D5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BED5A-EF78-4653-9E8C-22D9807E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56108-AF29-4FE9-88D7-C75FB5B6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E9F44-9A6C-41A6-91F7-BC98079C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FA67E-1F64-4C40-A1A2-79C468DC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C78DA-1839-45B9-A17F-F41D844F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7C57B-C0C9-456F-9507-C9769A69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2CA5C-5EC1-4A24-AA12-7975FF18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E30440-4E72-467E-A481-F43204E2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42B-720C-4754-8AD8-BAB3547B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9E196-5C72-40D9-950A-E2D16CCA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C83DCC-9B3B-4A84-A1D9-2B0DC2A5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25B13-8FB4-4EDB-BA2B-7E2486AE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8E0A67-C23A-4C64-86DD-20975350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0F2990-C870-4AFB-AF93-EC41DE6E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BFC617-D7EE-4CEE-B0DC-994F2AE0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FC7EC-6215-406F-A898-65DDE89A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80B83-CAF0-4DBE-9676-7891653B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72B30-D314-428F-8B18-905149A7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141CAC-916A-4FED-93DF-4EE877B6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6520-6CE3-4F70-AA56-2A2FD976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2E9E7A-7711-422F-9D3D-474D10DE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B65E2-88FF-450F-AA59-7841B5BE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A5CAC-8148-4F0D-8915-001018A8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136CFE-50DE-482A-B16F-24ABDD1A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E27617-4A26-4C0F-A715-EFCBFB60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99443-EA3A-42FE-A0C2-DC6A5815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B68CF9-264A-472E-BE4B-0B64BC54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CAF3FA-0A19-4729-95E3-B69CDCC0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8E341C-9206-4899-9716-C927BEEC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6E28D3-894B-45EC-BEEB-C4E8388E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423-F848-40C7-8DF3-AE642AD7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AF153D-0DFD-443F-B100-29010156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FEDDD2-139D-4DF9-89E4-520D86F1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5194E9-2DFB-4F9F-8C15-6C2E7557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37AEA1-AB94-4EA5-85C1-00B55605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777595-0F7A-4BBF-8511-A6A6BF8B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2BA369-8032-4D9E-A0DB-BBF17738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46E52E-6E6A-40A4-BBDF-6534E80C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54CA4D-877C-422B-BADA-1621FDDD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7D9A07-55A3-4EF0-A250-B73B6A08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B56488-248D-41D5-B2DC-7A40D4B8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ABB-008F-4C28-9DE2-D28B42F3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41D9C5-514E-4D85-AF1D-E19CF487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643110-8CDA-4E6A-BF20-EB1167CA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270DB2-F1DF-4194-B05A-D93974C9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A786E9-77BC-4DD7-8DBD-D85E37D1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B45BFD-6F0C-419F-B62A-E16A0008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B4ED35-77CB-4378-95E1-D1B48EF8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D912A6-C83B-4FE1-9D27-70603848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181B08C-421F-4E91-8683-809CEE66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83572A3-B881-466C-9707-1D33A633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A0CF88-75CA-484E-898D-DF41E515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02D-97CE-44DC-8AF8-EAA115B0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E03A60-522B-4E34-880B-9B098F4C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A031259-5172-46C0-8DBE-2A1F4176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94FE63-F64E-456A-9FD8-82A26374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AAD468F-996E-4845-9D43-D2479AF6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C172EE-9FCB-45BB-9112-952FDD84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9D28B1F-860B-4E17-AC07-865F015A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857B33-9D9E-46D1-83B5-FE2FEE26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03D919-33FB-484D-AAE6-C7A49202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8A89D0-8076-42D1-839D-824DC8C3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47D430-9F58-4F5A-9892-4EB5261D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F90A-82C3-455D-9D72-A9418234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3E11F4-2251-47AC-80B7-4D91EBBB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F21D09-3AC5-4420-9384-D0189922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996B13-3654-49FE-8F0A-DD286B46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EEEAC0-36C9-4626-A945-AE13EDB1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E515B1-2AEC-4313-87CE-A6AB2044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94CE76-5C13-4454-AAC2-15E081DE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69D638-77B7-4BE9-AAEC-3ADA0ABE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5F419E-90CB-4E2F-BFD1-BCF514B2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0A269E-4888-4DB5-867E-44BAA208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0BC8556-E0EE-4183-8927-DA375BE3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697-F116-4FDF-9D7A-0756DA69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269213F-0ECF-416D-B6D6-25111D2B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672D0E-A52A-49B1-BBDB-C70E8C17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015FAE6-233E-4CE9-ACEA-BFC67293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53A4B42-C786-4022-833E-1BCDA487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C6BA0F-E9BF-40DA-B1AD-9E77E65E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F681EDD-6640-4F7B-B1E9-C88974A1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6956D2A-B39B-4787-AA6F-AB3579FB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634F386-CD56-45D4-BB24-FE4AC1CC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985F4E5-2820-4EDF-8867-75E1479D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6D05E9C-BBAC-43B2-B326-54741C61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A91-7068-4FCA-8854-36EE0D94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FA62145-66F3-492D-9D3F-7CF889DB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69D122-60D0-41F0-B0E2-4732805A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3CDA27-A147-4889-9C47-26271533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7FCCF5-6C8E-4ECC-B7DC-E4C34CFF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31CECA-120A-4949-A13C-B7C903C0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EBB68D-62FD-45CD-BF48-4C3D70EC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78DC73-E2EA-4C73-8D89-A9B50863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5AD5D1-FEF3-41EE-9951-966C5885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971644-AF06-4484-B014-FDAEE452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71D22B-2889-44F0-85DD-644DD8F8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C538-4A9A-4BFE-857D-A7679A75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283E47-0976-4626-8922-E18D662D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A98960-B052-4C93-B31C-A8078557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1F6AC3-0218-42A7-B7DC-C4AC627B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909424-113A-4532-BBA2-78813AE0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380540-281D-42D0-AF11-360B062B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6D2B31-74FB-4E99-BEB8-AFFEC427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1AF015-251E-4A8F-A1EA-F87B1B7F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5B7DDD-34F9-4083-A168-FE60C960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031DA1-12B4-4BC6-874C-4C44FE6F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61C95C-8B10-459E-B7A6-129B859B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25C4-8C22-45A0-97BE-1C16EBCC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5702AA-976D-4156-9C64-36935F1E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1628B6-AFF4-4931-9A70-A7B0069A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2C0132-40EA-4FE8-9C60-8C386000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AD885B-8F45-4D68-8DF0-7CD8137E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D31BE4-CE98-47DF-9FE9-0D27F40B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1A8238-0F35-4F5F-814A-EAF4013E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D8B6E6-2440-4C4D-A0BB-ADE2CC3A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8D6057-1403-4F05-90F6-DCA78C75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0B22D2-E91A-4E2B-BDEE-37C3917C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884B50-6C2C-4073-B461-8CD32992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D479-ED61-4534-B20F-9397DA77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592DC7-7456-4668-AF3C-8C9424A9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26F79E-68AB-48BC-A4A5-C390FCF0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A6D6C4-F76A-4F6A-8C7C-B0C58D4A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666357-16A0-415A-9621-285CABFB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914FCB-70DB-45A2-BA16-F4D88E4C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9F99A7-2F80-45A6-B8D9-19B77E88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A5C70D-1668-46FC-852E-81173917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3BD9A2-9BE1-4E9C-BB6A-F62C1B2E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CB3EAA-887E-4A73-9F30-06D0BB10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6DF7E4-62B2-4C93-86A0-7E4A9161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0746-CB07-4BC8-A9DE-361EBE7C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47CDA2-457E-4D24-91FC-F0664A16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FD011F-91C5-49A4-8286-80F9FC34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40FBF9-5941-4491-842D-DC7F459D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43D4B3-EFD6-4DB3-AC37-09930A94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545F76-6D71-4C54-BB46-65EBC97A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8A6E7E-320C-4D20-BE63-4B80CC6B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1825F5-C29E-4F3C-B335-D96D832B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45EF0B-2ACD-4B2C-8AC7-2E39648C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6F7925-9872-4DE3-8FB8-21B2A93E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E16562D-A7E3-44C1-9911-786C759D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431F-5D8A-49B4-8CC3-F6C8E5C2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E1D1626-1DD5-45B7-9560-A8AFC7C8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91A317F-FBE4-477A-942C-01709661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D358D9E-A5A9-4F12-9947-2AB2FB47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63C3EE2-87AA-4330-A937-41AD59F0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69175AB-85BE-4036-906D-78783A81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99478E9-58F6-4FD5-8EC2-1866648D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ED1DD6A-1515-45BD-B67B-CA1368A6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3015A4B-EFF6-4951-A609-803F6144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8A337FC-B7FE-48C2-B479-4DE855EF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749A141-EB27-40E5-BC98-3936572B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BEC3-BB0D-4F85-9264-B4E3E0B7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D270228-C941-4B18-85DC-422420AF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DDDED81-882C-45C4-930A-FE368C0E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AC925C7-513D-41F1-825E-C223B66C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61625A2-44A3-415D-868A-57321DA5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E18C4CE-2726-4C28-9924-0481FAB6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2716F73-2224-4907-918E-77C86A3F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711EE26-DD46-4808-A146-C6059552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895253C-3AEF-4835-864E-0D28A9E8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B9386B5-6759-4E67-841F-59694A97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2F8AE84-64E6-417F-B401-7175BE9B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FEB5-5AA7-4BE5-894E-56BB881C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B7F9952-C1B8-4DED-BE7F-89F63E15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EED2398-E9F5-4856-86A8-F787A202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7D78BC8-A3C9-488A-A537-C3972D05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C6021C-1E8B-4102-98AA-747D160D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4B614E-90D0-41B8-A294-46E4E647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0DEB41-E9AA-4AC7-8770-B907EF3C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2B2AF0-D997-42FA-82A6-8E219BFB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DEC3F2-64DC-4670-872E-8ECF3B5C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9AEBF2-1AF4-49BE-89D3-376844C1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C98ABE-3340-4F37-81B6-A90FC648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9F7C-E75A-4690-9EED-DED5FCCC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EC2C22-4426-4254-885B-386DAD80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08EF57-3A12-44E9-BBAB-1020B7E9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429715-6782-4F3C-A168-24382D0C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F010F3-89BF-4EC4-9A90-511FCDEA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575427-7395-4D0D-8139-E516ADE9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9F9564-CF18-46E3-9A8A-689B569E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81000F-1825-4D93-BCB1-E982FC50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E570C1-F832-4F58-BCA8-13320D4D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878DD7-5CC1-4F7F-B25A-6CCE0AB8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6B42AA-4CDF-4F38-8C47-6FA584B0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EB72-BEDA-4151-BEA0-7C639D93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EE9C29-BA8B-4E20-801C-25478A1C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1F73A1-735C-48E9-BF18-703EF821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DF44A3-FFC6-4EB6-B7A8-099FA4F6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244DD6-A431-4EF9-AAAF-D438A187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17B2CB-A6F0-4084-B048-E78D3642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AA96B3-69BD-4988-9CF6-975A8566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4872B9-FAF9-49CA-A15E-96258F6E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32FD-5DF0-4D34-A823-876B99AD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9D43-ADBC-4BCC-8B4C-047BB7FB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E7D3-C812-4E99-9C19-274AA90E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478BE-3BD2-47EF-9E01-0B0D3448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092D2-63E2-4D6D-98AD-C602AC72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21991-536B-4317-A00E-952CABC6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1304D-5331-4009-A927-BC05A0E3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524E6-4BCA-42BA-87D8-D625390E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54007-1D3A-4168-BC94-9A9CD500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4F732-F299-4861-94CD-11661699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2F2E7-9F68-45B9-8A3B-3FB7764B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6128E-9BEA-42AB-9B7B-52772A8E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E836C-4077-4FCA-9006-47CBD014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AA13B-4017-4F62-9CBA-EFD20ABD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AACAF-94F8-450E-ACB2-E9176961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6269C-7AFF-4E90-AA49-AF556540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07D19-BC31-4DA2-B0CE-DAF2FB88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D7EC8-FBC7-4D0B-B4C7-C7777854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BCF3C-5744-4D2C-BF1A-1060F6AE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6D917-921B-48C0-A30A-043E9B8A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66F8C-8256-497A-BB6B-D981385C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0CD9E-C3D1-4581-9827-6C6C2640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6F4D3-8B75-4ADD-8FC6-543CF50D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84831-D28D-43A1-A64D-D5517BA0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33FF5-457D-4F4E-9A28-762C2030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1AABD-35C0-4B38-BB7D-DA94B18C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81BF7-27B2-4439-9EF7-5572DF3E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3F8A0-7DBC-44E2-8EA3-C7EE32C2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7EDE8-D52B-45D8-A8C6-A715DF2D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3F33C-7182-4636-9867-1BA09913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837C9-66AD-459B-A3C3-19E6E00A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89C7F-0F17-4418-9037-8135E6BA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A2E29-CD0B-4805-A70C-DDD87F77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3722D-D9AF-4947-B5E6-5229A08E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BEDE3-E176-4FDB-8A30-E9E0E351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351FA-460C-468E-B3A9-2EB13141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42D86-291D-4213-8DD6-FBFC9358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15F68-226A-486F-9E90-F604E448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041D9-0B49-4A95-9F02-7099A224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2311B-426A-40BA-A408-C0C1CFBA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B34FA-97FE-4A3A-AB02-578309D4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1855F-399D-44F7-BC2E-1D0D3BE0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B62F2-5C15-4F43-9347-64651EFD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D3566-F20B-4B11-8247-1F24E3C1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234F3-04E8-4B5F-A8B5-29EDAC63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AD542-3C25-4C46-9000-F9A874B3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48926-7AB9-48CA-B2FB-8EB9A227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A56CC-86AA-40DE-ACAD-3706A263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28623-323E-4511-9BE8-6AC1AD62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013A2-E773-4D8B-B744-450839E2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742CF-D1A2-453C-8496-4092964F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9FA88-5496-4045-9310-A742E983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9D8C2-BB1B-4D5B-B733-50400B0D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57C53-5639-4134-86E5-8D82C005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D1689-6E1E-4263-8400-058FBB1E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11C00-E233-4BB8-A00B-B44828DB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0F24A-205A-4704-B65F-5DBF4591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245C5-A50D-4A1A-AD0D-07BF9AC0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3866F-88E6-44E8-BB19-12D8A2B4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D36CF-E3A5-46DE-89CE-DC338CE2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67129-553A-42F9-A22E-A93ADABE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A3B20-17F2-4295-B1E4-75C0A8CD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B5A80-6553-4FEC-957D-985FC7D6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F351F-C393-4AEA-BAD9-7E9F3E50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5CC38-1C93-4971-9A26-252EBE27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9B155-758A-483F-BC3A-A00560C0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043A-86E7-41F4-A737-8E47BC14BDC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C444-3B94-4D09-BBD7-6B51DBF529C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86F2-11B6-457D-80AC-30A060E583A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C28C-4323-4C29-855B-F7C9ED23678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0AB9-A8DC-41AC-B5AF-7634A8521B7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4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EE5F-4AC4-454C-9D82-E43BFC89C47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82A5-4421-4203-BDAB-DD2ECFD948F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C84A-34CE-4012-9BBE-C27E1FAED37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904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8A90-8D10-44E2-9F1B-B9CFC9EBBE6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4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5D08-622B-4B28-A26E-B897696DD6C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62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09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0214-906C-4DEB-9AF4-DFDB76F0C4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05B0-EEB7-4D43-9681-0FCA0F92CF9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3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5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5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60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0744-CCFB-4461-B7BA-299975F477E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8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6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6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D40E-5759-4FD2-BFA1-4D374D8267B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2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5079-A96A-4410-84F6-187A19EEC32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6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6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6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2C07-B68F-4391-846F-03F8A0E8444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7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sldNum" idx="7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B673-543A-42E8-9259-4C01062A0CF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ftr" idx="7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7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sldNum" idx="7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04A8-FD1D-4102-BA14-035F19EA0B7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ftr" idx="7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9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ADC7-B2E2-4306-B367-DE7832FE053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7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8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8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9698-E040-4D33-9BD9-6D6D777BAC4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4B84-7EB2-40E4-9402-4312B307F8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9A3F-1393-4863-A57D-202BDDBBC06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C12E-55B7-480F-AEFE-EDFB95A7E61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304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351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9238-7C6C-44AF-ABD8-7FBCFF8615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28AF-DD35-4F24-A0DD-3E537999F14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D422-44BE-4B0A-97A0-07B869E9734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50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56F0-282E-4858-B488-CC059A000FC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3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pn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e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WordArt 4"/>
          <p:cNvSpPr txBox="1"/>
          <p:nvPr/>
        </p:nvSpPr>
        <p:spPr>
          <a:xfrm>
            <a:off x="609480" y="914400"/>
            <a:ext cx="8077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Т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6" name="Text Box 5"/>
          <p:cNvSpPr/>
          <p:nvPr/>
        </p:nvSpPr>
        <p:spPr>
          <a:xfrm>
            <a:off x="1752480" y="3352680"/>
            <a:ext cx="5867640" cy="398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b6924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37f5b"/>
                </a:solidFill>
                <a:latin typeface="Arial"/>
              </a:rPr>
              <a:t>Учебно-методическое пособие для студ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Прямоугольник 3"/>
          <p:cNvSpPr/>
          <p:nvPr/>
        </p:nvSpPr>
        <p:spPr>
          <a:xfrm>
            <a:off x="2362320" y="4876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Преподаватель ГОУ СП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«Благовещенский медицинский технику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Качанова Ирина Алекс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Box 5"/>
          <p:cNvSpPr/>
          <p:nvPr/>
        </p:nvSpPr>
        <p:spPr>
          <a:xfrm>
            <a:off x="4343400" y="5867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바탕"/>
                <a:ea typeface="바탕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228240" y="11430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, измеряемая количеством энергии, которую излучает источник света за единицу времени называется </a:t>
            </a:r>
            <a:r>
              <a:rPr b="1" lang="ru-RU" sz="3200" spc="-1" strike="noStrike">
                <a:solidFill>
                  <a:srgbClr val="be3802"/>
                </a:solidFill>
                <a:latin typeface="Arial"/>
              </a:rPr>
              <a:t>световым пото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3"/>
          <p:cNvSpPr/>
          <p:nvPr/>
        </p:nvSpPr>
        <p:spPr>
          <a:xfrm>
            <a:off x="2743200" y="22860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от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4" name="Object 3"/>
              <p:cNvSpPr txBox="1"/>
              <p:nvPr/>
            </p:nvSpPr>
            <p:spPr>
              <a:xfrm>
                <a:off x="990720" y="3429000"/>
                <a:ext cx="17524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65" name="Прямая со стрелкой 9"/>
          <p:cNvCxnSpPr/>
          <p:nvPr/>
        </p:nvCxnSpPr>
        <p:spPr>
          <a:xfrm flipH="1">
            <a:off x="1218960" y="4419360"/>
            <a:ext cx="2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6" name="Прямая со стрелкой 11"/>
          <p:cNvCxnSpPr/>
          <p:nvPr/>
        </p:nvCxnSpPr>
        <p:spPr>
          <a:xfrm>
            <a:off x="2590920" y="44953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7" name="Прямая со стрелкой 12"/>
          <p:cNvCxnSpPr/>
          <p:nvPr/>
        </p:nvCxnSpPr>
        <p:spPr>
          <a:xfrm>
            <a:off x="2819160" y="380952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8" name="Прямоугольник 19"/>
          <p:cNvSpPr/>
          <p:nvPr/>
        </p:nvSpPr>
        <p:spPr>
          <a:xfrm>
            <a:off x="4205520" y="46483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мин., ча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Прямоугольник 20"/>
          <p:cNvSpPr/>
          <p:nvPr/>
        </p:nvSpPr>
        <p:spPr>
          <a:xfrm>
            <a:off x="4267080" y="3581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энерг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Прямоугольник 21"/>
          <p:cNvSpPr/>
          <p:nvPr/>
        </p:nvSpPr>
        <p:spPr>
          <a:xfrm>
            <a:off x="315720" y="563868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228600" y="990720"/>
            <a:ext cx="5867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тового потока, ограниченная конической или циклической поверхностью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товым пуч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Прямоугольник 3"/>
          <p:cNvSpPr/>
          <p:nvPr/>
        </p:nvSpPr>
        <p:spPr>
          <a:xfrm>
            <a:off x="927720" y="2286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учок. Световой луч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Picture 2" descr="Картинка 17 из 5169"/>
          <p:cNvPicPr/>
          <p:nvPr/>
        </p:nvPicPr>
        <p:blipFill>
          <a:blip r:embed="rId1"/>
          <a:stretch/>
        </p:blipFill>
        <p:spPr>
          <a:xfrm>
            <a:off x="5791320" y="838080"/>
            <a:ext cx="2666880" cy="191160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4" descr="Картинка 38 из 24455"/>
          <p:cNvPicPr/>
          <p:nvPr/>
        </p:nvPicPr>
        <p:blipFill>
          <a:blip r:embed="rId2"/>
          <a:stretch/>
        </p:blipFill>
        <p:spPr>
          <a:xfrm>
            <a:off x="304920" y="2971800"/>
            <a:ext cx="2666880" cy="1785960"/>
          </a:xfrm>
          <a:prstGeom prst="rect">
            <a:avLst/>
          </a:prstGeom>
          <a:ln w="0">
            <a:noFill/>
          </a:ln>
        </p:spPr>
      </p:pic>
      <p:sp>
        <p:nvSpPr>
          <p:cNvPr id="1475" name="Прямоугольник 6"/>
          <p:cNvSpPr/>
          <p:nvPr/>
        </p:nvSpPr>
        <p:spPr>
          <a:xfrm>
            <a:off x="3276720" y="3048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ветовой лу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линия, по направлению которой распространяется световой пу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Прямоугольник 7"/>
          <p:cNvSpPr/>
          <p:nvPr/>
        </p:nvSpPr>
        <p:spPr>
          <a:xfrm>
            <a:off x="239040" y="4952880"/>
            <a:ext cx="8634240" cy="58140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пучок – это поток световой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Прямоугольник 8"/>
          <p:cNvSpPr/>
          <p:nvPr/>
        </p:nvSpPr>
        <p:spPr>
          <a:xfrm>
            <a:off x="228600" y="5638680"/>
            <a:ext cx="8763120" cy="1068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луч – это направл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по которому распространяется эн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22824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ространства, ограниченная некоторой конической поверхностью, называется телесным углом          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9" name="Прямоугольник 3"/>
          <p:cNvSpPr/>
          <p:nvPr/>
        </p:nvSpPr>
        <p:spPr>
          <a:xfrm>
            <a:off x="2669400" y="22860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Телесный уго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Picture 2" descr="http://www.bymath.net/studyguide/geo/sec/geo20.gif"/>
          <p:cNvPicPr/>
          <p:nvPr/>
        </p:nvPicPr>
        <p:blipFill>
          <a:blip r:embed="rId1"/>
          <a:srcRect l="2862" t="0" r="14282" b="3882"/>
          <a:stretch/>
        </p:blipFill>
        <p:spPr>
          <a:xfrm>
            <a:off x="533520" y="1828800"/>
            <a:ext cx="1676160" cy="1792440"/>
          </a:xfrm>
          <a:prstGeom prst="rect">
            <a:avLst/>
          </a:prstGeom>
          <a:ln w="0">
            <a:noFill/>
          </a:ln>
        </p:spPr>
      </p:pic>
      <p:sp>
        <p:nvSpPr>
          <p:cNvPr id="1481" name="Прямоугольник 5"/>
          <p:cNvSpPr/>
          <p:nvPr/>
        </p:nvSpPr>
        <p:spPr>
          <a:xfrm>
            <a:off x="2362320" y="2133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сный угол измеряется частью сферической поверхности  ABC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3" name="Object 3"/>
              <p:cNvSpPr txBox="1"/>
              <p:nvPr/>
            </p:nvSpPr>
            <p:spPr>
              <a:xfrm>
                <a:off x="3581280" y="3733920"/>
                <a:ext cx="183852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5"/>
              <p:cNvSpPr txBox="1"/>
              <p:nvPr/>
            </p:nvSpPr>
            <p:spPr>
              <a:xfrm>
                <a:off x="6400800" y="1219320"/>
                <a:ext cx="8002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85" name="Прямая со стрелкой 12"/>
          <p:cNvCxnSpPr/>
          <p:nvPr/>
        </p:nvCxnSpPr>
        <p:spPr>
          <a:xfrm>
            <a:off x="5409720" y="411480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6" name="Прямая со стрелкой 13"/>
          <p:cNvCxnSpPr/>
          <p:nvPr/>
        </p:nvCxnSpPr>
        <p:spPr>
          <a:xfrm flipH="1" flipV="1">
            <a:off x="2894760" y="457164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7" name="Прямая со стрелкой 14"/>
          <p:cNvCxnSpPr/>
          <p:nvPr/>
        </p:nvCxnSpPr>
        <p:spPr>
          <a:xfrm>
            <a:off x="5257440" y="4952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8" name="TextBox 17"/>
          <p:cNvSpPr/>
          <p:nvPr/>
        </p:nvSpPr>
        <p:spPr>
          <a:xfrm>
            <a:off x="6248520" y="3733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сфер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Box 18"/>
          <p:cNvSpPr/>
          <p:nvPr/>
        </p:nvSpPr>
        <p:spPr>
          <a:xfrm>
            <a:off x="60958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ус сф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Прямоугольник 19"/>
          <p:cNvSpPr/>
          <p:nvPr/>
        </p:nvSpPr>
        <p:spPr>
          <a:xfrm>
            <a:off x="152280" y="4114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Object 7"/>
              <p:cNvSpPr txBox="1"/>
              <p:nvPr/>
            </p:nvSpPr>
            <p:spPr>
              <a:xfrm>
                <a:off x="2743200" y="5638680"/>
                <a:ext cx="25336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22860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энергии, которое излучается источником света за единицу времени внутри телесного угла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ой свет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3"/>
          <p:cNvSpPr/>
          <p:nvPr/>
        </p:nvSpPr>
        <p:spPr>
          <a:xfrm>
            <a:off x="1406520" y="152280"/>
            <a:ext cx="63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ила света. Освещен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6" name="Object 1"/>
              <p:cNvSpPr txBox="1"/>
              <p:nvPr/>
            </p:nvSpPr>
            <p:spPr>
              <a:xfrm>
                <a:off x="1676520" y="2057400"/>
                <a:ext cx="1066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97" name="Прямая со стрелкой 6"/>
          <p:cNvCxnSpPr/>
          <p:nvPr/>
        </p:nvCxnSpPr>
        <p:spPr>
          <a:xfrm>
            <a:off x="3048120" y="228600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8" name="Прямая со стрелкой 9"/>
          <p:cNvCxnSpPr/>
          <p:nvPr/>
        </p:nvCxnSpPr>
        <p:spPr>
          <a:xfrm flipH="1">
            <a:off x="1751760" y="274320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9" name="Прямая со стрелкой 10"/>
          <p:cNvCxnSpPr/>
          <p:nvPr/>
        </p:nvCxnSpPr>
        <p:spPr>
          <a:xfrm>
            <a:off x="2666520" y="2819160"/>
            <a:ext cx="11437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0" name="Прямоугольник 13"/>
          <p:cNvSpPr/>
          <p:nvPr/>
        </p:nvSpPr>
        <p:spPr>
          <a:xfrm>
            <a:off x="4125600" y="21337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Прямоугольник 17"/>
          <p:cNvSpPr/>
          <p:nvPr/>
        </p:nvSpPr>
        <p:spPr>
          <a:xfrm>
            <a:off x="396252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Прямоугольник 18"/>
          <p:cNvSpPr/>
          <p:nvPr/>
        </p:nvSpPr>
        <p:spPr>
          <a:xfrm>
            <a:off x="165960" y="3276720"/>
            <a:ext cx="34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све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ндела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Содержимое 2"/>
          <p:cNvSpPr/>
          <p:nvPr/>
        </p:nvSpPr>
        <p:spPr>
          <a:xfrm>
            <a:off x="228600" y="3962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световой энергии, подающей на единицу поверхности тела за одну секунду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ещ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Object 3"/>
              <p:cNvSpPr txBox="1"/>
              <p:nvPr/>
            </p:nvSpPr>
            <p:spPr>
              <a:xfrm>
                <a:off x="3124080" y="5181480"/>
                <a:ext cx="1219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6" name="Прямоугольник 29"/>
          <p:cNvSpPr/>
          <p:nvPr/>
        </p:nvSpPr>
        <p:spPr>
          <a:xfrm>
            <a:off x="4963680" y="51055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Box 30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Прямоугольник 31"/>
          <p:cNvSpPr/>
          <p:nvPr/>
        </p:nvSpPr>
        <p:spPr>
          <a:xfrm>
            <a:off x="169920" y="61722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ю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9" name="Прямая со стрелкой 32"/>
          <p:cNvCxnSpPr/>
          <p:nvPr/>
        </p:nvCxnSpPr>
        <p:spPr>
          <a:xfrm flipH="1">
            <a:off x="2437560" y="5791320"/>
            <a:ext cx="686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0" name="Прямая со стрелкой 33"/>
          <p:cNvCxnSpPr/>
          <p:nvPr/>
        </p:nvCxnSpPr>
        <p:spPr>
          <a:xfrm>
            <a:off x="4343040" y="6095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1" name="Прямая со стрелкой 34"/>
          <p:cNvCxnSpPr/>
          <p:nvPr/>
        </p:nvCxnSpPr>
        <p:spPr>
          <a:xfrm>
            <a:off x="4343040" y="5409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охранения зрения и создания нормальных условий труда необходимо поддерживать наиболее благоприятную освещ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тимальные нормы освещенности (л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тонких работ ........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тения ..................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грубых работ ......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идорах и на лестницах..........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ходы в помещениях.............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лицах  и площадях.............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дворах и подъездах............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ьма специфические требования предъявляются к освещенности операционного поля в хирургии. Падающий на операционное поле свет должен создавать равномерную оптимальную освещенность при минимальном тепловом эффекте, не утомлять врача и не создавать т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этой цели применяются лампы специальной конструкции, так называемы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теневые лам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Arial"/>
              </a:rPr>
              <a:t>Нормы освещ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ru.wikipedia.org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икипед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5terka.com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Геометрическая оп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3dfef"/>
                </a:solidFill>
                <a:uFillTx/>
                <a:latin typeface="Rockwell"/>
              </a:rPr>
              <a:t>images.yandex.ru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</a:t>
            </a:r>
            <a:r>
              <a:rPr b="1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Яндекс. Картинк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http://www.bymath.net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ся элементарная матема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cc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1828440" y="22856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Оптик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Источники свет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Фотометрия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оток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учок. Световой луч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ила света. Освещенность.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Нормы освещенности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390" name="WordArt 4"/>
          <p:cNvSpPr txBox="1"/>
          <p:nvPr/>
        </p:nvSpPr>
        <p:spPr>
          <a:xfrm>
            <a:off x="2362320" y="53352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 txBox="1"/>
          <p:nvPr/>
        </p:nvSpPr>
        <p:spPr>
          <a:xfrm>
            <a:off x="228240" y="990360"/>
            <a:ext cx="8534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дел физики, изучающий световые явления, получил название опти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 греч. «оптикос» зрительный)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световые явления обычно называются опти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Box 5"/>
          <p:cNvSpPr/>
          <p:nvPr/>
        </p:nvSpPr>
        <p:spPr>
          <a:xfrm>
            <a:off x="228600" y="342900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ветить на вопро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способы передачи воздействий существуют? Приведите приме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теории по изучению света были выдвинуты и чем они отличалис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азывают геометрической опти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Прямоугольник 6" descr=""/>
          <p:cNvPicPr/>
          <p:nvPr/>
        </p:nvPicPr>
        <p:blipFill>
          <a:blip r:embed="rId1"/>
          <a:stretch/>
        </p:blipFill>
        <p:spPr>
          <a:xfrm>
            <a:off x="3157560" y="19080"/>
            <a:ext cx="2500200" cy="865080"/>
          </a:xfrm>
          <a:prstGeom prst="rect">
            <a:avLst/>
          </a:prstGeom>
          <a:ln w="0">
            <a:noFill/>
          </a:ln>
        </p:spPr>
      </p:pic>
      <p:sp>
        <p:nvSpPr>
          <p:cNvPr id="1394" name="Прямоугольник 8"/>
          <p:cNvSpPr/>
          <p:nvPr/>
        </p:nvSpPr>
        <p:spPr>
          <a:xfrm>
            <a:off x="3049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бота с учебником Физика 11кл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.Я. Мякишев, Б.Б. Буханцев стр. 168 – 1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собы передачи воз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нос вещества от источника к приемнику. (ударить по стру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рение состояния среды между телами (без переноса вещества). (две струны поместить рядом и звуковые волны от первой струны дойдя до второй вызовут ее звуч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пус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0" y="1142640"/>
            <a:ext cx="4573440" cy="396252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поток частиц, идущих от источника во все стороны </a:t>
            </a:r>
            <a:r>
              <a:rPr b="0" lang="ru-RU" sz="20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(перенос вещества</a:t>
            </a:r>
            <a:r>
              <a:rPr b="0" lang="ru-RU" sz="2000" spc="-1" strike="noStrike">
                <a:solidFill>
                  <a:srgbClr val="3333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очему световые пучки, пересекаются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4572000" y="1142640"/>
            <a:ext cx="4572000" cy="3962520"/>
          </a:xfrm>
          <a:prstGeom prst="rect">
            <a:avLst/>
          </a:prstGeom>
          <a:solidFill>
            <a:srgbClr val="d3d3d9"/>
          </a:solidFill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Гюй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волны, распространяющиеся в особой гипотетической среде  - эфире, заполняющем все пространство проникающем внутрь всех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рямолинейное распространение и образование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пускулярная и волновая теории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7"/>
          <p:cNvSpPr/>
          <p:nvPr/>
        </p:nvSpPr>
        <p:spPr>
          <a:xfrm>
            <a:off x="152280" y="5181480"/>
            <a:ext cx="85345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о второй половин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– свет рассматривали как вол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Box 8"/>
          <p:cNvSpPr/>
          <p:nvPr/>
        </p:nvSpPr>
        <p:spPr>
          <a:xfrm>
            <a:off x="152280" y="5657760"/>
            <a:ext cx="8534520" cy="1191240"/>
          </a:xfrm>
          <a:prstGeom prst="rect">
            <a:avLst/>
          </a:prstGeom>
          <a:solidFill>
            <a:srgbClr val="95e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 начал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представления о природе сета измени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Свет при излучении и поглощении ведет себя подобно потоку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Picture 7" descr="Картинка 2 из 12497"/>
          <p:cNvPicPr/>
          <p:nvPr/>
        </p:nvPicPr>
        <p:blipFill>
          <a:blip r:embed="rId1"/>
          <a:stretch/>
        </p:blipFill>
        <p:spPr>
          <a:xfrm>
            <a:off x="5105520" y="4952880"/>
            <a:ext cx="1676160" cy="1408320"/>
          </a:xfrm>
          <a:prstGeom prst="rect">
            <a:avLst/>
          </a:prstGeom>
          <a:ln w="0">
            <a:noFill/>
          </a:ln>
        </p:spPr>
      </p:pic>
      <p:sp>
        <p:nvSpPr>
          <p:cNvPr id="1405" name="TextBox 1"/>
          <p:cNvSpPr/>
          <p:nvPr/>
        </p:nvSpPr>
        <p:spPr>
          <a:xfrm>
            <a:off x="152280" y="152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и и дифра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л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Box 2"/>
          <p:cNvSpPr/>
          <p:nvPr/>
        </p:nvSpPr>
        <p:spPr>
          <a:xfrm>
            <a:off x="457200" y="3429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я и погло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током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Прямоугольник 3"/>
          <p:cNvSpPr/>
          <p:nvPr/>
        </p:nvSpPr>
        <p:spPr>
          <a:xfrm>
            <a:off x="304920" y="1143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я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жение световых во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Picture 2" descr="D:\Irina\анимашки\физика\interference1.gif"/>
          <p:cNvPicPr/>
          <p:nvPr/>
        </p:nvPicPr>
        <p:blipFill>
          <a:blip r:embed="rId2"/>
          <a:stretch/>
        </p:blipFill>
        <p:spPr>
          <a:xfrm>
            <a:off x="990720" y="198108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409" name="Прямоугольник 5"/>
          <p:cNvSpPr/>
          <p:nvPr/>
        </p:nvSpPr>
        <p:spPr>
          <a:xfrm>
            <a:off x="4267080" y="1143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ифракция све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ибание малых препят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0" name="Picture 4" descr="Картинка 66 из 2014"/>
          <p:cNvPicPr/>
          <p:nvPr/>
        </p:nvPicPr>
        <p:blipFill>
          <a:blip r:embed="rId3"/>
          <a:stretch/>
        </p:blipFill>
        <p:spPr>
          <a:xfrm>
            <a:off x="5486400" y="1981080"/>
            <a:ext cx="1981080" cy="136692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5" descr="D:\Irina\анимашки\огонь, свет\солнце.gif"/>
          <p:cNvPicPr/>
          <p:nvPr/>
        </p:nvPicPr>
        <p:blipFill>
          <a:blip r:embed="rId4"/>
          <a:stretch/>
        </p:blipFill>
        <p:spPr>
          <a:xfrm>
            <a:off x="3352680" y="49528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1412" name="Прямоугольник 8"/>
          <p:cNvSpPr/>
          <p:nvPr/>
        </p:nvSpPr>
        <p:spPr>
          <a:xfrm>
            <a:off x="152280" y="44956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 испускания и распространения энергии в виде волн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 части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Прямоугольник 9"/>
          <p:cNvSpPr/>
          <p:nvPr/>
        </p:nvSpPr>
        <p:spPr>
          <a:xfrm>
            <a:off x="6477120" y="4572000"/>
            <a:ext cx="249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глощ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интенсивности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лучения свет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2" descr="Картинка 20 из 2227"/>
          <p:cNvPicPr/>
          <p:nvPr/>
        </p:nvPicPr>
        <p:blipFill>
          <a:blip r:embed="rId1"/>
          <a:stretch/>
        </p:blipFill>
        <p:spPr>
          <a:xfrm>
            <a:off x="6858000" y="152280"/>
            <a:ext cx="2171880" cy="164808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4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ометрическая оп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 оптики, изучающий законы распространения света в прозрачных средах,                   законы отражения света от зеркальных поверхностей и принципы построения изображений при прохождении света в оптических систе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3"/>
          <p:cNvSpPr/>
          <p:nvPr/>
        </p:nvSpPr>
        <p:spPr>
          <a:xfrm>
            <a:off x="762120" y="30481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Box 4"/>
          <p:cNvSpPr/>
          <p:nvPr/>
        </p:nvSpPr>
        <p:spPr>
          <a:xfrm>
            <a:off x="2133720" y="3657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ет распространяется прямолиней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9" name="Picture 3" descr="D:\Irina\анимашки\природа\62.gif"/>
          <p:cNvPicPr/>
          <p:nvPr/>
        </p:nvPicPr>
        <p:blipFill>
          <a:blip r:embed="rId2"/>
          <a:stretch/>
        </p:blipFill>
        <p:spPr>
          <a:xfrm>
            <a:off x="3276720" y="4419720"/>
            <a:ext cx="3085920" cy="209376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" descr="D:\Irina\анимашки\природа\природа2.gif"/>
          <p:cNvPicPr/>
          <p:nvPr/>
        </p:nvPicPr>
        <p:blipFill>
          <a:blip r:embed="rId3"/>
          <a:stretch/>
        </p:blipFill>
        <p:spPr>
          <a:xfrm>
            <a:off x="228600" y="4343400"/>
            <a:ext cx="2362320" cy="224640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5" descr="D:\Irina\анимашки\природа\природа5.gif"/>
          <p:cNvPicPr/>
          <p:nvPr/>
        </p:nvPicPr>
        <p:blipFill>
          <a:blip r:embed="rId4"/>
          <a:stretch/>
        </p:blipFill>
        <p:spPr>
          <a:xfrm>
            <a:off x="7010280" y="43434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14"/>
          <p:cNvSpPr/>
          <p:nvPr/>
        </p:nvSpPr>
        <p:spPr>
          <a:xfrm>
            <a:off x="884160" y="2606760"/>
            <a:ext cx="639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16"/>
          <p:cNvSpPr/>
          <p:nvPr/>
        </p:nvSpPr>
        <p:spPr>
          <a:xfrm>
            <a:off x="884160" y="2606760"/>
            <a:ext cx="27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18"/>
          <p:cNvSpPr/>
          <p:nvPr/>
        </p:nvSpPr>
        <p:spPr>
          <a:xfrm>
            <a:off x="884160" y="2606760"/>
            <a:ext cx="36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200"/>
          <p:cNvSpPr/>
          <p:nvPr/>
        </p:nvSpPr>
        <p:spPr>
          <a:xfrm>
            <a:off x="304920" y="609480"/>
            <a:ext cx="28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Искусстве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202"/>
          <p:cNvSpPr/>
          <p:nvPr/>
        </p:nvSpPr>
        <p:spPr>
          <a:xfrm>
            <a:off x="6248520" y="609480"/>
            <a:ext cx="2733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Естественные</a:t>
            </a:r>
            <a:r>
              <a:rPr b="0" lang="ru-RU" sz="2800" spc="-1" strike="noStrike">
                <a:solidFill>
                  <a:srgbClr val="db535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db5353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Группа 35"/>
          <p:cNvGrpSpPr/>
          <p:nvPr/>
        </p:nvGrpSpPr>
        <p:grpSpPr>
          <a:xfrm>
            <a:off x="4952880" y="3581280"/>
            <a:ext cx="1447920" cy="1395360"/>
            <a:chOff x="4952880" y="3581280"/>
            <a:chExt cx="1447920" cy="1395360"/>
          </a:xfrm>
        </p:grpSpPr>
        <p:sp>
          <p:nvSpPr>
            <p:cNvPr id="1428" name="Rectangle 197"/>
            <p:cNvSpPr/>
            <p:nvPr/>
          </p:nvSpPr>
          <p:spPr>
            <a:xfrm>
              <a:off x="4952880" y="4516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звезд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9" name="Picture 203" descr="звезда"/>
            <p:cNvPicPr/>
            <p:nvPr/>
          </p:nvPicPr>
          <p:blipFill>
            <a:blip r:embed="rId1"/>
            <a:stretch/>
          </p:blipFill>
          <p:spPr>
            <a:xfrm>
              <a:off x="5028840" y="3581280"/>
              <a:ext cx="937080" cy="90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0" name="Группа 34"/>
          <p:cNvGrpSpPr/>
          <p:nvPr/>
        </p:nvGrpSpPr>
        <p:grpSpPr>
          <a:xfrm>
            <a:off x="2819520" y="3581280"/>
            <a:ext cx="1295280" cy="1788840"/>
            <a:chOff x="2819520" y="3581280"/>
            <a:chExt cx="1295280" cy="1788840"/>
          </a:xfrm>
        </p:grpSpPr>
        <p:sp>
          <p:nvSpPr>
            <p:cNvPr id="1431" name="Rectangle 198"/>
            <p:cNvSpPr/>
            <p:nvPr/>
          </p:nvSpPr>
          <p:spPr>
            <a:xfrm>
              <a:off x="2928240" y="491040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м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2" name="Picture 204" descr="комета"/>
            <p:cNvPicPr/>
            <p:nvPr/>
          </p:nvPicPr>
          <p:blipFill>
            <a:blip r:embed="rId2"/>
            <a:stretch/>
          </p:blipFill>
          <p:spPr>
            <a:xfrm>
              <a:off x="2819520" y="3581280"/>
              <a:ext cx="1295280" cy="139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3" name="Группа 33"/>
          <p:cNvGrpSpPr/>
          <p:nvPr/>
        </p:nvGrpSpPr>
        <p:grpSpPr>
          <a:xfrm>
            <a:off x="5034240" y="5029200"/>
            <a:ext cx="1137960" cy="1679400"/>
            <a:chOff x="5034240" y="5029200"/>
            <a:chExt cx="1137960" cy="1679400"/>
          </a:xfrm>
        </p:grpSpPr>
        <p:sp>
          <p:nvSpPr>
            <p:cNvPr id="1434" name="Rectangle 196"/>
            <p:cNvSpPr/>
            <p:nvPr/>
          </p:nvSpPr>
          <p:spPr>
            <a:xfrm>
              <a:off x="5034240" y="6248880"/>
              <a:ext cx="11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олнц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5" name="Picture 205" descr="солнце"/>
            <p:cNvPicPr/>
            <p:nvPr/>
          </p:nvPicPr>
          <p:blipFill>
            <a:blip r:embed="rId3"/>
            <a:stretch/>
          </p:blipFill>
          <p:spPr>
            <a:xfrm>
              <a:off x="5105160" y="5029200"/>
              <a:ext cx="10670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6" name="Группа 32"/>
          <p:cNvGrpSpPr/>
          <p:nvPr/>
        </p:nvGrpSpPr>
        <p:grpSpPr>
          <a:xfrm>
            <a:off x="4807800" y="2362320"/>
            <a:ext cx="1179000" cy="1145520"/>
            <a:chOff x="4807800" y="2362320"/>
            <a:chExt cx="1179000" cy="1145520"/>
          </a:xfrm>
        </p:grpSpPr>
        <p:sp>
          <p:nvSpPr>
            <p:cNvPr id="1437" name="Rectangle 195"/>
            <p:cNvSpPr/>
            <p:nvPr/>
          </p:nvSpPr>
          <p:spPr>
            <a:xfrm>
              <a:off x="4807800" y="304812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уч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8" name="Picture 208" descr="лучина"/>
            <p:cNvPicPr/>
            <p:nvPr/>
          </p:nvPicPr>
          <p:blipFill>
            <a:blip r:embed="rId4"/>
            <a:stretch/>
          </p:blipFill>
          <p:spPr>
            <a:xfrm>
              <a:off x="4876560" y="2362320"/>
              <a:ext cx="95184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Группа 36"/>
          <p:cNvGrpSpPr/>
          <p:nvPr/>
        </p:nvGrpSpPr>
        <p:grpSpPr>
          <a:xfrm>
            <a:off x="3124080" y="2362320"/>
            <a:ext cx="1046160" cy="1298160"/>
            <a:chOff x="3124080" y="2362320"/>
            <a:chExt cx="1046160" cy="1298160"/>
          </a:xfrm>
        </p:grpSpPr>
        <p:sp>
          <p:nvSpPr>
            <p:cNvPr id="1440" name="Rectangle 193"/>
            <p:cNvSpPr/>
            <p:nvPr/>
          </p:nvSpPr>
          <p:spPr>
            <a:xfrm>
              <a:off x="3131640" y="320076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амп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1" name="Picture 209" descr="лампа"/>
            <p:cNvPicPr/>
            <p:nvPr/>
          </p:nvPicPr>
          <p:blipFill>
            <a:blip r:embed="rId5"/>
            <a:stretch/>
          </p:blipFill>
          <p:spPr>
            <a:xfrm>
              <a:off x="3124080" y="2362320"/>
              <a:ext cx="95472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2" name="Прямоугольник 23" descr=""/>
          <p:cNvPicPr/>
          <p:nvPr/>
        </p:nvPicPr>
        <p:blipFill>
          <a:blip r:embed="rId6"/>
          <a:stretch/>
        </p:blipFill>
        <p:spPr>
          <a:xfrm>
            <a:off x="2182680" y="-133200"/>
            <a:ext cx="46389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443" name="Группа 30"/>
          <p:cNvGrpSpPr/>
          <p:nvPr/>
        </p:nvGrpSpPr>
        <p:grpSpPr>
          <a:xfrm>
            <a:off x="3125160" y="380880"/>
            <a:ext cx="941040" cy="1908000"/>
            <a:chOff x="3125160" y="380880"/>
            <a:chExt cx="941040" cy="1908000"/>
          </a:xfrm>
        </p:grpSpPr>
        <p:sp>
          <p:nvSpPr>
            <p:cNvPr id="1444" name="Rectangle 194"/>
            <p:cNvSpPr/>
            <p:nvPr/>
          </p:nvSpPr>
          <p:spPr>
            <a:xfrm>
              <a:off x="3125160" y="18291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ве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5" name="Picture 2" descr="D:\Irina\анимашки\огонь, свет\ogon-212.gif"/>
            <p:cNvPicPr/>
            <p:nvPr/>
          </p:nvPicPr>
          <p:blipFill>
            <a:blip r:embed="rId7"/>
            <a:stretch/>
          </p:blipFill>
          <p:spPr>
            <a:xfrm>
              <a:off x="3276360" y="380880"/>
              <a:ext cx="76212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6" name="Группа 29"/>
          <p:cNvGrpSpPr/>
          <p:nvPr/>
        </p:nvGrpSpPr>
        <p:grpSpPr>
          <a:xfrm>
            <a:off x="2438280" y="5405400"/>
            <a:ext cx="2743200" cy="1450440"/>
            <a:chOff x="2438280" y="5405400"/>
            <a:chExt cx="2743200" cy="1450440"/>
          </a:xfrm>
        </p:grpSpPr>
        <p:sp>
          <p:nvSpPr>
            <p:cNvPr id="1447" name="Rectangle 149"/>
            <p:cNvSpPr/>
            <p:nvPr/>
          </p:nvSpPr>
          <p:spPr>
            <a:xfrm>
              <a:off x="2438280" y="6396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бактерии на рыб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8" name="Picture 3" descr="D:\Irina\анимашки\рыбы\рыбка.gif"/>
            <p:cNvPicPr/>
            <p:nvPr/>
          </p:nvPicPr>
          <p:blipFill>
            <a:blip r:embed="rId8"/>
            <a:stretch/>
          </p:blipFill>
          <p:spPr>
            <a:xfrm>
              <a:off x="2819160" y="5405400"/>
              <a:ext cx="161928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9" name="Группа 31"/>
          <p:cNvGrpSpPr/>
          <p:nvPr/>
        </p:nvGrpSpPr>
        <p:grpSpPr>
          <a:xfrm>
            <a:off x="4648320" y="533520"/>
            <a:ext cx="1371600" cy="1831680"/>
            <a:chOff x="4648320" y="533520"/>
            <a:chExt cx="1371600" cy="1831680"/>
          </a:xfrm>
        </p:grpSpPr>
        <p:pic>
          <p:nvPicPr>
            <p:cNvPr id="1450" name="Picture 5" descr="D:\Irina\анимашки\огонь, свет\15.gif"/>
            <p:cNvPicPr/>
            <p:nvPr/>
          </p:nvPicPr>
          <p:blipFill>
            <a:blip r:embed="rId9"/>
            <a:stretch/>
          </p:blipFill>
          <p:spPr>
            <a:xfrm>
              <a:off x="4648320" y="533520"/>
              <a:ext cx="1371600" cy="13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1" name="Rectangle 194"/>
            <p:cNvSpPr/>
            <p:nvPr/>
          </p:nvSpPr>
          <p:spPr>
            <a:xfrm>
              <a:off x="4805280" y="190548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сте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2" name="Прямоугольник 37" descr=""/>
          <p:cNvPicPr/>
          <p:nvPr/>
        </p:nvPicPr>
        <p:blipFill>
          <a:blip r:embed="rId10"/>
          <a:stretch/>
        </p:blipFill>
        <p:spPr>
          <a:xfrm>
            <a:off x="3932280" y="890640"/>
            <a:ext cx="17622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C -0.00417 0.01481 -0.0092 0.01713 -0.01528 0.025 C -0.0191 0.02963 -0.02274 0.03657 -0.02639 0.04143 C -0.03576 0.05347 -0.02361 0.03472 -0.03281 0.04699 C -0.03472 0.04953 -0.0375 0.05601 -0.03941 0.05787 C -0.04931 0.06689 -0.06094 0.07129 -0.07101 0.07476 C -0.07674 0.07916 -0.08247 0.08263 -0.08854 0.08564 C -0.09358 0.09467 -0.10556 0.10208 -0.11129 0.10254 C -0.14219 0.10532 -0.17153 0.10532 -0.20156 0.10532 E">
                                      <p:cBhvr>
                                        <p:cTn id="331" dur="2000" fill="hold"/>
                                        <p:tgtEl>
                                          <p:spTgt spid="1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C -0.00364 0.00093 -0.00694 0.00139 -0.00989 0.00324 C -0.02847 0.01412 -0.00416 0.00463 -0.01996 0.01019 C -0.02395 0.01459 -0.02934 0.0176 -0.03316 0.02246 C -0.03455 0.02431 -0.03524 0.02732 -0.03645 0.0294 C -0.04149 0.03658 -0.04722 0.04213 -0.05451 0.04676 C -0.06458 0.0625 -0.04757 0.03866 -0.06753 0.05556 C -0.08541 0.07084 -0.06336 0.06366 -0.08246 0.06783 C -0.08819 0.07685 -0.09652 0.0831 -0.10364 0.09074 C -0.12378 0.11204 -0.09479 0.08357 -0.11198 0.10463 C -0.11371 0.10672 -0.11666 0.10764 -0.11875 0.10972 C -0.12187 0.11297 -0.12378 0.1169 -0.12673 0.12014 C -0.13073 0.12894 -0.14027 0.14329 -0.14652 0.15 C -0.15104 0.1551 -0.16128 0.15741 -0.16632 0.16042 C -0.17343 0.16505 -0.18107 0.17292 -0.18784 0.17801 C -0.19878 0.18704 -0.21076 0.19607 -0.22222 0.20417 C -0.22604 0.20718 -0.22847 0.21158 -0.23194 0.21459 C -0.2342 0.21644 -0.24461 0.22084 -0.24705 0.22176 C -0.2559 0.23542 -0.27552 0.23542 -0.28958 0.23889 C -0.30191 0.24977 -0.29635 0.2507 -0.3125 0.25301 C -0.34705 0.26644 -0.28472 0.26042 -0.38993 0.25486 C -0.40555 0.24954 -0.43402 0.23773 -0.45069 0.2375 C -0.46736 0.23681 -0.48368 0.2375 -0.5 0.2375 E">
                                      <p:cBhvr>
                                        <p:cTn id="335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8 0.01736 C -0.07153 0.02477 -0.06997 0.02917 -0.07414 0.03611 C -0.07587 0.03889 -0.07796 0.04051 -0.07969 0.04282 C -0.08056 0.04398 -0.08247 0.0463 -0.08247 0.04653 C -0.08473 0.05509 -0.08785 0.06088 -0.09063 0.06875 C -0.09184 0.07732 -0.09375 0.08634 -0.09705 0.09306 C -0.09896 0.10857 -0.10608 0.11458 -0.11059 0.12708 C -0.11858 0.14884 -0.12535 0.17037 -0.13612 0.1875 C -0.13959 0.19282 -0.13993 0.20023 -0.14428 0.20301 C -0.15452 0.22222 -0.16771 0.22639 -0.1816 0.2287 C -0.19792 0.23866 -0.17257 0.2338 -0.21598 0.2338 E">
                                      <p:cBhvr>
                                        <p:cTn id="339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23 C -0.00781 -0.00301 -0.01372 0.0037 -0.02118 0.00671 C -0.03212 0.01852 -0.04653 0.02268 -0.05834 0.03287 C -0.07049 0.04329 -0.06962 0.04745 -0.08577 0.05208 C -0.09688 0.06412 -0.08247 0.04977 -0.10209 0.06273 C -0.10347 0.06389 -0.1309 0.08565 -0.13403 0.08889 C -0.1408 0.09606 -0.14688 0.10278 -0.15347 0.10972 C -0.15538 0.1118 -0.1559 0.11528 -0.15816 0.1169 C -0.16059 0.11852 -0.16372 0.11805 -0.16632 0.11852 C -0.17292 0.12963 -0.17813 0.13218 -0.18733 0.1412 C -0.19393 0.14768 -0.19531 0.15278 -0.20347 0.15694 C -0.20625 0.16018 -0.21025 0.16227 -0.21302 0.16574 C -0.21754 0.1713 -0.21927 0.1794 -0.22431 0.18495 C -0.22795 0.18889 -0.23299 0.1919 -0.23542 0.19699 C -0.23906 0.20509 -0.24288 0.21111 -0.25 0.2162 C -0.25851 0.23055 -0.24705 0.21319 -0.25955 0.225 C -0.26163 0.22685 -0.2625 0.23009 -0.26459 0.23218 C -0.26823 0.23565 -0.27917 0.24236 -0.28368 0.24421 C -0.29045 0.25463 -0.28281 0.24537 -0.29531 0.25116 C -0.29775 0.25255 -0.29931 0.25486 -0.30156 0.25625 C -0.30295 0.25741 -0.30486 0.25764 -0.30643 0.2581 C -0.31233 0.26759 -0.31979 0.2743 -0.32917 0.27893 C -0.34254 0.29375 -0.36406 0.3037 -0.38056 0.31412 C -0.38316 0.31574 -0.38646 0.3169 -0.38872 0.31921 C -0.39393 0.325 -0.4 0.33403 -0.40643 0.33843 C -0.41077 0.3456 -0.41476 0.35231 -0.4191 0.35949 C -0.42188 0.36366 -0.42726 0.37176 -0.42726 0.37199 C -0.42813 0.37569 -0.42952 0.38264 -0.43212 0.38565 C -0.43368 0.38773 -0.43681 0.38889 -0.43872 0.39074 C -0.45243 0.40741 -0.44202 0.40278 -0.45295 0.40648 C -0.4632 0.41389 -0.46372 0.41574 -0.47084 0.42593 C -0.47188 0.42917 -0.47292 0.43588 -0.47709 0.43634 C -0.49271 0.43866 -0.52361 0.43796 -0.52361 0.43819 E">
                                      <p:cBhvr>
                                        <p:cTn id="343" dur="2000" fill="hold"/>
                                        <p:tgtEl>
                                          <p:spTgt spid="1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0.06111 C 0.09375 0.05093 0.12274 0.03819 0.15521 0.03565 C 0.16788 0.03287 0.18073 0.03333 0.1934 0.02963 C 0.1993 0.02824 0.20451 0.02407 0.21007 0.02176 C 0.22152 0.01736 0.23333 0.01412 0.24496 0.01019 C 0.24878 0.0088 0.25659 0.00625 0.25659 0.00671 C 0.2717 -0.0044 0.28767 -0.02153 0.3033 -0.02894 C 0.31701 -0.04259 0.30937 -0.03611 0.32639 -0.04792 C 0.33524 -0.05463 0.34791 -0.07338 0.34791 -0.07315 C 0.35364 -0.08704 0.36076 -0.10093 0.36632 -0.11458 C 0.37257 -0.13125 0.3743 -0.14097 0.38437 -0.15556 C 0.39062 -0.17315 0.3835 -0.1588 0.39618 -0.17106 C 0.40086 -0.17593 0.40468 -0.18148 0.4092 -0.18657 C 0.41389 -0.1919 0.41996 -0.19491 0.4243 -0.2 C 0.43385 -0.21134 0.43975 -0.22431 0.44913 -0.23519 C 0.45295 -0.24815 0.44791 -0.2338 0.45746 -0.24907 C 0.4651 -0.26134 0.46979 -0.275 0.47899 -0.28611 C 0.48385 -0.30648 0.49757 -0.32292 0.50885 -0.33866 C 0.51475 -0.3463 0.51146 -0.34491 0.51562 -0.35625 C 0.51753 -0.36065 0.52118 -0.36458 0.52396 -0.36782 C 0.52396 -0.36759 0.52725 -0.38333 0.52725 -0.36782 C 0.52725 -0.35116 0.52205 -0.34421 0.52916 -0.35625 C 0.52708 -0.3625 0.52916 -0.36204 0.52552 -0.36204 E">
                                      <p:cBhvr>
                                        <p:cTn id="347" dur="20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1206 C 0.03299 -0.3206 -0.01996 -0.11898 0.17118 -0.23657 C 0.17379 -0.23773 0.1757 -0.26944 0.175 -0.26481 E">
                                      <p:cBhvr>
                                        <p:cTn id="351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09 C 0.01302 -0.11227 0.02396 -0.12176 0.03836 -0.12477 C 0.06423 -0.14004 0.09392 -0.14653 0.12152 -0.14954 C 0.13941 -0.15671 0.15729 -0.16597 0.175 -0.16852 C 0.18281 -0.17592 0.18715 -0.17963 0.19583 -0.18194 C 0.20573 -0.1956 0.19583 -0.18518 0.21267 -0.19143 C 0.21423 -0.1919 0.2151 -0.19421 0.21684 -0.1956 C 0.23559 -0.20903 0.2184 -0.19606 0.23107 -0.20278 C 0.24461 -0.20995 0.25521 -0.22477 0.26857 -0.2331 C 0.27656 -0.24467 0.2908 -0.24606 0.30104 -0.25254 C 0.30677 -0.26481 0.29965 -0.25254 0.31041 -0.26018 C 0.31215 -0.26134 0.3125 -0.26481 0.31406 -0.26551 C 0.32014 -0.26967 0.33003 -0.27037 0.33628 -0.27129 C 0.34392 -0.27384 0.35034 -0.27569 0.35833 -0.27731 C 0.36146 -0.2787 0.36441 -0.28148 0.36736 -0.28287 C 0.37205 -0.28426 0.37691 -0.28518 0.38177 -0.2868 C 0.38524 -0.28935 0.38871 -0.29143 0.39201 -0.29421 C 0.39461 -0.29606 0.4 -0.29815 0.4 -0.29768 C 0.40277 -0.30046 0.40833 -0.30509 0.40833 -0.30486 E">
                                      <p:cBhvr>
                                        <p:cTn id="355" dur="2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C 0.06284 -0.04583 0.13871 0.01065 0.20468 0.0169 C 0.21423 0.02361 0.20764 0.02014 0.225 0.02014 E">
                                      <p:cBhvr>
                                        <p:cTn id="359" dur="2000" fill="hold"/>
                                        <p:tgtEl>
                                          <p:spTgt spid="1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04920" y="9140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МЕТР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реч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ó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свет и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ré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измеряю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4"/>
          <p:cNvSpPr/>
          <p:nvPr/>
        </p:nvSpPr>
        <p:spPr>
          <a:xfrm>
            <a:off x="3054600" y="152280"/>
            <a:ext cx="30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Фотомет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Прямоугольник 6"/>
          <p:cNvSpPr/>
          <p:nvPr/>
        </p:nvSpPr>
        <p:spPr>
          <a:xfrm>
            <a:off x="152280" y="1447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дел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Т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кото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ают способы измерения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Прямоугольник 7"/>
          <p:cNvSpPr/>
          <p:nvPr/>
        </p:nvSpPr>
        <p:spPr>
          <a:xfrm>
            <a:off x="304920" y="2514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фотометрии как науки лежит разработ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ория светового поля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7" name="Picture 2" descr="Картинка 22 из 13090"/>
          <p:cNvPicPr/>
          <p:nvPr/>
        </p:nvPicPr>
        <p:blipFill>
          <a:blip r:embed="rId1"/>
          <a:stretch/>
        </p:blipFill>
        <p:spPr>
          <a:xfrm>
            <a:off x="152280" y="4191120"/>
            <a:ext cx="2590920" cy="21556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4" descr="Картинка 47 из 13089"/>
          <p:cNvPicPr/>
          <p:nvPr/>
        </p:nvPicPr>
        <p:blipFill>
          <a:blip r:embed="rId2"/>
          <a:stretch/>
        </p:blipFill>
        <p:spPr>
          <a:xfrm>
            <a:off x="6095880" y="4114800"/>
            <a:ext cx="2845080" cy="2133720"/>
          </a:xfrm>
          <a:prstGeom prst="rect">
            <a:avLst/>
          </a:prstGeom>
          <a:ln w="0">
            <a:noFill/>
          </a:ln>
        </p:spPr>
      </p:pic>
      <p:sp>
        <p:nvSpPr>
          <p:cNvPr id="1459" name="Прямоугольник 10"/>
          <p:cNvSpPr/>
          <p:nvPr/>
        </p:nvSpPr>
        <p:spPr>
          <a:xfrm>
            <a:off x="228600" y="3505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тово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— область  пространства, заполненная светом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Picture 6" descr="Картинка 16 из 13161"/>
          <p:cNvPicPr/>
          <p:nvPr/>
        </p:nvPicPr>
        <p:blipFill>
          <a:blip r:embed="rId3"/>
          <a:stretch/>
        </p:blipFill>
        <p:spPr>
          <a:xfrm>
            <a:off x="2971800" y="41148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4-02T18:42:0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