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0.png" ContentType="image/png"/>
  <Override PartName="/ppt/media/image27.jpeg" ContentType="image/jpeg"/>
  <Override PartName="/ppt/media/image13.gif" ContentType="image/gif"/>
  <Override PartName="/ppt/media/image23.gif" ContentType="image/gif"/>
  <Override PartName="/ppt/media/image16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12.jpeg" ContentType="image/jpeg"/>
  <Override PartName="/ppt/media/image4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17.png" ContentType="image/png"/>
  <Override PartName="/ppt/media/image18.gif" ContentType="image/gif"/>
  <Override PartName="/ppt/media/image20.gif" ContentType="image/gif"/>
  <Override PartName="/ppt/media/image22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204D7-33C3-4D63-A66B-84D5E759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0169D-3A24-4AEF-ADE4-BAD0AFBF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EE82D-4892-4793-AD93-720CA866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A5F09-9395-4E2F-AB9F-EC6E50F5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635BA-6546-4938-BAF3-843BB912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7500F-5CF2-4E13-B604-F769744D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8CD1F-56A4-4AFE-A920-9ADB44F6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F0964-EAEA-4521-B61F-9ECEE1F5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B10E8-AD27-4DBD-8DCE-74A3413A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B27BD-8025-423A-B53C-D0521004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13D24-F01D-4291-8A95-9F61DF6F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3D4E0-5AC6-4D30-9530-F026D48A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08CCF-F1AE-4CA3-A326-B7DC2FD2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6F83D-8B71-4F86-845F-B104B978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89415-38D7-476C-A3D1-57E201F8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5361F-44F0-4725-A784-459CBB56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3EA15-C17F-4EF2-90B9-B1A56DE2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BDA02-777E-435C-8317-54F63E5A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BF061-5DA1-42C9-82D1-4B1A02D5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EF661-8DE2-4B3C-BB3D-1F111721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3C2DF-6D45-46E4-8F4A-3AD6B624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F5DB6-8A3F-430A-B486-DA398608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1FE20-301A-4D03-9FEE-36650D0C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38AA3-6A25-429E-9DE9-6A0B0150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22203-1BF0-480B-9A2C-3716E985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93372-BA8E-413D-95AC-82550B53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1B087-F547-457F-8887-2C97BCC1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AE915-B177-4238-A090-62350E8D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296DC-755D-4821-8A14-47787C49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1B2B9-5E43-410C-A723-55E6BB84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38F-F84B-4B21-8D67-84FCCF33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2644E-B5B7-4ED1-84EE-D899728B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1B040-23F8-4962-ACEE-34F7D5FA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53F36-5242-4B0F-9D21-C210BE2A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902AF-907A-4747-8C89-D8F912E2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FDE44-F426-422E-9448-E045CECE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F1825-7EC8-4AC2-AD3F-6DBF92A6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AF6EB-178E-41E1-A10C-2AC2FDD1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4C5A0-FC20-4541-9326-855F22D0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95F1F-3008-4E85-9BC2-45754635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0C960-00CD-48EC-8777-FCF9A5FA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61D6-0939-4242-9828-1108DDA3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03A84-765C-439A-B285-4C00893E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3245C-108D-4762-B71F-BB760401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0FB82-62D5-4D8C-9E02-80195DC1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BCEAC-5BF1-44FF-88C2-84408C89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B29FD-021F-4140-A8DB-FD45EF4B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D6436-5DC8-4458-BF7C-31BF3A67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D31EB-8B2E-4F00-A7AC-D984A9AC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BCB3B-329C-4B71-8372-061EF093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B888C-41A7-4E46-A975-74774469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5E4A3-7794-4B0D-A210-FB62463B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595-F393-4C34-BC7A-57DF5BA1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ECA90-3C0A-4481-B593-B53FD5A6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E4D7E-896D-458F-BA7C-693498C8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3D7F9-3DA7-47A5-917C-1E1A8982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9813D-0E18-4420-B709-A783C915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A2318-B973-41E7-B7A7-C99AD756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974A9-1677-4890-B5E0-28146E12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CCCD8-DAF9-4765-9F28-124C1349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3AD4B-2A5F-4BBC-BE85-E9D9FCA5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36F0FD-55A4-4AD5-A939-65BC63C7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80C79-875B-4BEC-86D6-8459EC3A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3D4-B965-4011-A963-0BEEB961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C0C55-4582-4C45-B076-1098C45C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1CAAB-6BEE-4C04-B9DC-FDF03CBF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93A01-87EE-4AB0-BE5D-D4E3E91C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DDC38-8A21-4373-B696-7BDF1E09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61250-2CAD-498A-8516-F03C857A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E5FB7-2027-4A15-A7A5-A35B908A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CAB7B-411F-4507-BB5C-E72C832A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9D3E3-6691-48F2-B401-E81FE79C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6CFF9-B929-4A1D-8BA2-B3A2EFB6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D03467-7DA1-4B6D-AD82-E837226D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2AB8-5AF1-472C-AC33-E5F7F122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AEDFA9-3992-432C-BF2A-287D8B5A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D019F5-CC0B-4D86-8084-AFADB65E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9FFFA8-C329-40BC-ACBF-66F8E539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C11E37-46D3-4DB9-8774-F550A595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601E27-1797-4534-8FEE-6C3E269A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5373B-1232-4F33-8259-8117D983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135B93-9177-440E-AFB8-499CEB2F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64AE30-124A-4BC5-93A1-F274F8CE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CAC08-895F-4F39-8F10-35918EF9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ED81D-D3C2-4AFC-9E5B-BE70BD80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EB6-5BF5-4106-84AC-9B0268B0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430EA3-8076-434C-98CB-721AB0D0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93CDC9-B0A3-43B0-9D12-62AF404B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836ED1-FAC5-4ED0-A48F-233A0339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50AF87-5B5F-4B23-A1AD-F6E8B87B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2445CF-A72D-4CAA-B43E-6D2FDC75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EBD49D-9509-450E-9FFA-09B7D886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615EC7-7371-48EF-ABCC-06FCBBB7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2D33C5-2512-45B0-8964-6F7AD151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48BCA-0918-4713-AD56-648C82DB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CD8AE7-49C6-427E-AD8D-76DF6DAF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49B7-4681-4610-8751-745D379B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9BA33-5984-455F-978B-2ED53E4E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AD6D34-78F6-4B8F-BB38-7A3CCE1A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4B4005-6CC3-40D9-A452-1F98CE19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AF10F5-CC9A-4D9F-ABC4-89E80E18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6797C8-9597-4CAD-9E20-3EDFA0FC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F63213-407D-4EBF-A0BB-AFF28566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82246-3A7D-4079-8267-0A3780CA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A17AF4-74E8-4125-B506-C3A65B33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D703B-1670-4A9F-A0EF-3BECB5AD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E57D18-2823-4091-8867-A8924C26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25A1-2724-4E9D-BB50-BF5ACFE5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D8DA12-DFD1-4924-8A59-B84FAB47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77706-FA88-4672-8091-77B7FBC4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6C696D-758C-498E-92FB-0F88AC2A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200ABB-F790-40B3-AE41-0023C1DC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3E1A0E-B8D0-406C-85A7-1CFD67C8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91B4F58-CA7B-4275-8F2E-0C9DA04A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FA019E4-4216-46B0-8F15-2F3905DF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F01B039-1FB6-4001-B05F-3F495774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5FBBAA5-4E57-4AFE-AE3B-00D87B95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AEF7992-7F87-4DD4-888C-92AE97F7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93A-49B6-4FA7-83E6-AF546BB8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53776F-C650-4783-82E3-86D90CF9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EB5B835-F44F-4413-B587-3D81C388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120151C-8127-4734-B23C-33504415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43DD2DF-761B-4657-BCB3-DAD82B67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9A8AC43-5ED9-4C46-AD8A-E607B2ED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00B55D-292C-4CFA-B1B6-576EB226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1E590DF-00B5-41EB-8355-7DAF674B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BB6181-D79C-459E-876D-39EA02CF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DDF844-EFCB-4C43-BC9D-DC623BBF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3F77EA-B4C7-42BA-BA7A-5DD9B137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776-718A-4868-9200-5812EAD4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8B0DC6-D2DF-4EF9-ADEA-785FF29B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2B1606-17D5-4C17-AC72-1F9C7EFE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723500-EAE5-440A-B090-A1AE2E2D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45837E-3213-4820-8411-A4A20479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F9770C-5A58-423A-9CEE-FA0F2A48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FBC802-0976-459B-A117-064FE4BD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ADCABC-F61B-40F3-A177-4F0DBF72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D87299-4A17-4D30-B627-01C17CD3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195C3-529B-440D-90F7-B3DF7942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638F812-7E45-4F4D-B04B-67BC0D6E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4D4-9679-4AEC-B082-FDE4B99F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928632E-9F50-4F17-A2EE-04A1178B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90F2B1C-9E93-49BF-9A7C-A61FCAD8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59BA797-14DE-492D-B825-6A0DB93A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18BAC34-464A-4053-BDA8-1469D1A8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CAE55C0-95D6-49AD-BCC2-0242AAFE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38CADFF-844A-4255-B985-55BAF937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52470C3-A04E-41A4-8297-7E3098C7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3826698-F5CC-4339-A08F-67A4D1BB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4A2718C-C073-4E02-B78A-B04F90FF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368B279-3177-4B2F-BA7F-3FFBB49E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34F-172E-4FC7-85C9-3DE97B7A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FD11ED9-BC7D-4F1B-A835-157D4A74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09EF86-AAB0-4325-B54A-1C135F66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FEDFA2-EFBF-46E1-B72C-FB7A01A3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5831DE-DD04-42ED-8772-F11B8317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B5F46F-ABF3-4B41-BDA7-CECBF223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E1C16F-1746-4AE3-9521-39EE096E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EB13AC-1BA9-44C8-8D40-11500C7E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68225B-DBE2-4310-8F5B-DEE00C38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14C9D4-57E6-4D02-8CD8-2F3AA4D5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AF816C-5A2F-4EAA-87DB-A5F79ACA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89F2-AB9C-418C-80E5-8BB79CBD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64A576-AB53-4756-96B4-3834EC7F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93D710-AB34-44BB-8988-C005D44C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EF6E83-D76A-4034-8BC3-05D00BAE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DF4DA4-EF43-444E-9C6A-C561A0F9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52C34A-3396-4DAD-BD68-8A535D0F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E2D366-A34C-4DEF-8549-B6F80341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D29E44-287F-4733-91A2-4106E71C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E8CC84-EF36-4079-AA94-7ED5550A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6EFFDA-3B47-4847-B4FA-90BA2291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518156-C965-4CFB-9102-16563A04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55C8-F153-4084-9A9C-5D135EE6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1C0A33-DC50-4D70-9A3D-6B31279A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0ECCDF-4859-4D52-B831-601E63D0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03F1FD-461A-4984-803B-CA50A733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9C7C03-A209-4DB3-B200-7294B78B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C4C786-DCA2-48D8-9ECF-C3F910C0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943C3A-769D-41F4-BBBF-CF6FC006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243160-EA43-4047-AE3E-18CA2535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5CD2C8-98CC-4F3F-B12E-14364A8A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7462D1-2F23-4BA0-9E32-01D9B817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BEC932-106F-4C17-B8B4-86B70A5F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908D-60A0-438D-A24B-4A2365DE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56C442-746B-4F08-8132-1DD3C983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DB0E52-6CC1-4BA9-ABF3-6BE08C1E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7ED7D3-6052-4F0D-BBEE-3AD09B8D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32377F-1FB9-40A3-BCA1-B86A1045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40764B-9867-4D38-8E7A-7B17A5E9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7305FE-2B66-4355-A76D-2DD53244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85D811-55D9-4606-9EA6-E52DAB6B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E428B2-E2B1-44A8-9C86-53CC6BD8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1AF1BA-572E-418A-BA92-DEE763CC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F3A8A3-7726-4413-9E30-C6A927CE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4BBA-C10E-41C3-9398-0FA72842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47F760-4B01-42F7-A38E-A555AC53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D177EC-492C-4AC0-9C21-9F442F09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C91A89-2EC9-4F1A-B7E5-876A4913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5B3696-2D4C-4B78-8505-D4095640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AAF912-CC18-4E69-8012-0667C1E4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081D0F-811F-4877-B90C-70DBD916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D02A8A-377B-45AB-84F7-D961E5E5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E60EBD-AD81-4EA5-8CDA-5CD75912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6F5853-AFB2-4116-A6D3-40F5A17E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4CF42EC-764C-42E8-83F7-21A67EF0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E187-5975-4144-90A3-7B9F5283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9874FAB-3B77-4C4C-8B23-CFB525A9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7944C7A-8936-41A4-A982-806EB9C0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12B6D80-4CCB-44E0-A9CD-CD076F71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A07DCBD-BAF7-456C-82F6-464C5B9D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3C5C946-8596-4F72-9D8D-068811BF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33FC189-477B-4F8E-B987-3B1AD062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718E1D9-C7CB-4C5C-8972-CDD5D21F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57E7495-6434-41CB-97C8-BABD732C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6D8B757-B027-4CAB-B929-7563723A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31FD165-6B19-47E6-A5AE-A17AD1A9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B3AC-FA3D-4982-B73E-D71A3D0A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189F7CD-F79A-4D8E-A29E-1B414699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1702C6A-E054-49EC-95ED-762E8E57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4AFC2C0-5A56-41F7-8199-AF051D9F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A6B8BE3-6098-432E-A4C4-C4E68584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F551CCB-1E03-4ED4-8DA8-A3CC9E53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4F3ACA9-FA4B-4068-8D79-090D6D4D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26EC5CC-C4B3-4915-A582-96CF0203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FEF75CF-5C52-4108-9FE3-F045424B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9386659-27CA-45C2-8AC3-B94E30A2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7D757C6-F192-464D-84C6-84A8C9FB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8D88-6D4D-471F-97CF-9EFC041C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DCEB9E4-4369-48F7-B8DA-34DC9B79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5A3CB18-C5AE-4D09-A5DD-2443B368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37AA36B-6577-4752-9D4D-BEA2B7DA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D7A100-C018-448A-8998-840A2434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C64485-F663-4DD9-9C37-09F6F01C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D7FE1C-8418-47F7-9E99-C31FA348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5A5A8D-FB79-406D-B26E-77818C7D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9209B2-EE0A-4829-843F-60E69FCB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77C657-EEAF-4EC6-B23C-EDF51245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323C68-72D1-4514-B40E-DC8228F5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BAC7-963F-4E0D-9230-269BB7DE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D72367-1369-45BB-989F-92492642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93D918-ED76-4633-AD2B-D16B9D42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A95847-6F75-4F3F-A653-FD8B05AE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00333F-C28A-4BD0-A327-4E478F71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ECF96F-50BE-40C3-A3FD-5279FFAF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CFDC9A-728B-48BA-AB95-FC697DBE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E4CD96-B6FA-47EC-A463-09CCEBF0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CE249C-A418-45FA-86C8-CAC7705A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B2E222-DC5F-4770-A235-09D8152C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D36841-6D5E-4B8E-9116-41EED692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AB74-6B22-4AD7-A28B-B14588E4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02F12C-5188-476B-A9DD-237524FE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B64688-67ED-4365-9B0C-A6C743B4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2A544E-749F-4F19-81BA-A603A9D2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63E6A6-6F87-41F9-BC31-03108760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67D8F3-53D1-4328-A938-71CBB018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2C1BD1-B919-41DE-B333-A5F975C0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AFC411-038B-441A-B142-F80A4AF2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89F4-D0C2-4A14-BE65-948F5614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79F8-DD08-43D6-9BEB-E9ABE1BF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F80C-1DE8-45CC-A57D-E84D6BB1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F2450-71DE-4F8A-AE81-109814C3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66BA1-05E9-4C34-93B1-54117847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3323-EA14-4A0B-9CB6-6B8C2C22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DE01C-ED93-4888-9088-82FFD804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8FD74-99A8-4E5B-B0FF-21593439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79B8F-73ED-458A-9958-2DFCC6DF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91429-A67A-4D29-9489-92CB72C3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0C1F2-C450-4136-B13A-587C5155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17BD5-B487-4BEC-9ED3-2D34F096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F4B68-C74E-464B-9E8B-813D2C14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884C-19EB-4FF4-B1B4-7EBB5402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41776-1985-424A-B631-8FE332B2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522E8-F3A1-453D-8D84-AFAD13AF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17499-1669-497A-AEDF-98C0CB55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80515-2E8B-426D-A29B-FF9E9D12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46235-B10B-47BF-A07D-F914D568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60CB8-4B70-4F01-A723-96D3ED73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A3271-F542-487A-9AD5-B874B4FC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3FB8C-5577-4A15-952B-B6B640DA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BB491-25F3-4845-A7E3-3C69D26C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2A2DE-22D4-4BD1-85A3-59534928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D84FA-A005-4039-BA5E-EB2BDDD3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36D88-DF88-422A-A03F-CF57F21D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3B28C-3D4C-4F81-8704-9C9D6ACA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C7137-8230-437F-A7A5-A2EA77ED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FE49F-886F-44CC-B730-CA3305A7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C5697-1557-47A2-BEF7-32E97860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7CA57-33BB-4880-8A10-6545DBA3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EF53F-CB8F-4974-B851-DE7684B1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DDEAB-05B4-418F-B67E-C3DF7A23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72119-E933-4B9A-842C-5F6B1A71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E34B1-2950-4B1B-81A5-C1A2667F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46A4A-1AD6-4C40-B579-DEF957CD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9ECB9-9B89-4026-9A3B-8E935043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7DC45-18E9-453A-99C9-7AF7018B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0687E-B1EE-46AE-9711-2AE37074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AF3EB-FA72-4721-B04E-DE269AB8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9CDF6-7E01-4F8F-A633-5259C753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46EA8-3765-493A-9AEE-D34AD376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3F10B-0354-46CF-8DFC-0DF71884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087AD-4544-427A-A3CE-06AA8A37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2F946-0CE0-41D2-B9CA-70E5D84C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ECB44-C682-47B0-97AD-D21EB571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0FA16-6E5C-4C9F-BBAB-9DAD933B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53121-8277-434E-A1A8-47754437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F5D40-3D4D-4D88-B78A-8DB12D6A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5EAB3-E5F1-47AB-90A1-A702520B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8A926-B505-4BB7-98CF-F5FA9328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741C6-12DB-4C95-882D-89389580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9CFEF-7B60-4214-B724-9B71DA34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73F6F-D4DB-41C1-A7C4-ACFBBD84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CEFA2-4700-47AC-B6F0-1FB4D3D7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3663C-4B7B-4629-9B1B-35079AA8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3C77E-1B9A-4C6B-9D21-8CB3793B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C9EA7-8F33-4967-B7E6-8D40AE25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E1AB8-87EC-4D63-B672-9572A53C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46E9F-A90E-4441-855D-62E48886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2E2B1-3C5F-4818-A66F-9B098271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E7191-793A-4144-B670-E4FF14E7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7AA75-EA3B-4FBF-B007-08AF68F1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CCB45-BBBC-4525-A754-7F75A1BE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B8869-03DF-4B2A-A09F-03932BE0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80A7D-88F0-4E2A-8A9B-FD9FEB4C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40D7-C62C-475C-9FEA-6C06D978A74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D1B6-21A1-46F0-8D0C-BC59C66D887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160D-5FEF-488E-AF82-636626B975F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468D-84F3-4D54-8CE4-6492ED6AC0F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5AFB-C8A2-4C0D-9B96-2C866D49109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4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1027-DA4B-46A5-A80B-54AAEFA1C6E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4F4F-8893-421C-B5EC-954BA296609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DC4E-FB3D-41F0-842C-2EFB57EF268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904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0CFC-57A5-4669-8D7A-D723EAFB818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4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CFF4-5F99-4078-BBC2-4A6C1A558EB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62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09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D721-FDF8-4B60-9FB4-DE025E1F0A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D2B3-E60D-4675-A59A-1A2CD3A2DA9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3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5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5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60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255B-E4DC-417F-AAC6-C096F311228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8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6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6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58BC-8EED-4016-AD1D-1BD0C832399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2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0663-33EB-4DBF-932A-DB9C9AFB93C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6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6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6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E9A8-D6AF-4170-A522-01ED27EEDCD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7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sldNum" idx="7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49FD-3DAF-47CE-BAC7-B143385A7FC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ftr" idx="7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7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sldNum" idx="7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7513-7479-44C8-ADDE-CBF8B65DA38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ftr" idx="7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9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8172-6008-413A-8485-92F559D54FC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7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8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8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930A-BF93-40D5-A0E2-56DAEACBF90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30B8-2AD0-4504-ADDB-0BBAC114A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FC93-7182-4FFC-B35F-46132D23FB8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4736-7931-4686-BA99-189886EBE17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304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351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2DF4-75B0-4671-B727-FDAC143431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1B5E-E732-4AB3-9BED-01B6624D62F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8A12-739B-4A15-9B25-6ABF38F2E1F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50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A0F8-5245-4FF7-930A-BEEE9A760DE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3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pn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e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WordArt 4"/>
          <p:cNvSpPr txBox="1"/>
          <p:nvPr/>
        </p:nvSpPr>
        <p:spPr>
          <a:xfrm>
            <a:off x="609480" y="914400"/>
            <a:ext cx="8077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Т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6" name="Text Box 5"/>
          <p:cNvSpPr/>
          <p:nvPr/>
        </p:nvSpPr>
        <p:spPr>
          <a:xfrm>
            <a:off x="1752480" y="3352680"/>
            <a:ext cx="5867640" cy="398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b6924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37f5b"/>
                </a:solidFill>
                <a:latin typeface="Arial"/>
              </a:rPr>
              <a:t>Учебно-методическое пособие для студ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Прямоугольник 3"/>
          <p:cNvSpPr/>
          <p:nvPr/>
        </p:nvSpPr>
        <p:spPr>
          <a:xfrm>
            <a:off x="2362320" y="4876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Преподаватель ГОУ СП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«Благовещенский медицинский технику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Качанова Ирина Алекс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Box 5"/>
          <p:cNvSpPr/>
          <p:nvPr/>
        </p:nvSpPr>
        <p:spPr>
          <a:xfrm>
            <a:off x="4343400" y="5867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바탕"/>
                <a:ea typeface="바탕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228240" y="11430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, измеряемая количеством энергии, которую излучает источник света за единицу времени называется </a:t>
            </a:r>
            <a:r>
              <a:rPr b="1" lang="ru-RU" sz="3200" spc="-1" strike="noStrike">
                <a:solidFill>
                  <a:srgbClr val="be3802"/>
                </a:solidFill>
                <a:latin typeface="Arial"/>
              </a:rPr>
              <a:t>световым пото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3"/>
          <p:cNvSpPr/>
          <p:nvPr/>
        </p:nvSpPr>
        <p:spPr>
          <a:xfrm>
            <a:off x="2743200" y="22860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от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4" name="Object 3"/>
              <p:cNvSpPr txBox="1"/>
              <p:nvPr/>
            </p:nvSpPr>
            <p:spPr>
              <a:xfrm>
                <a:off x="990720" y="3429000"/>
                <a:ext cx="17524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65" name="Прямая со стрелкой 9"/>
          <p:cNvCxnSpPr/>
          <p:nvPr/>
        </p:nvCxnSpPr>
        <p:spPr>
          <a:xfrm flipH="1">
            <a:off x="1218960" y="4419360"/>
            <a:ext cx="2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6" name="Прямая со стрелкой 11"/>
          <p:cNvCxnSpPr/>
          <p:nvPr/>
        </p:nvCxnSpPr>
        <p:spPr>
          <a:xfrm>
            <a:off x="2590920" y="44953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7" name="Прямая со стрелкой 12"/>
          <p:cNvCxnSpPr/>
          <p:nvPr/>
        </p:nvCxnSpPr>
        <p:spPr>
          <a:xfrm>
            <a:off x="2819160" y="380952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8" name="Прямоугольник 19"/>
          <p:cNvSpPr/>
          <p:nvPr/>
        </p:nvSpPr>
        <p:spPr>
          <a:xfrm>
            <a:off x="4205520" y="46483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мин., ча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Прямоугольник 20"/>
          <p:cNvSpPr/>
          <p:nvPr/>
        </p:nvSpPr>
        <p:spPr>
          <a:xfrm>
            <a:off x="4267080" y="3581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энерг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Прямоугольник 21"/>
          <p:cNvSpPr/>
          <p:nvPr/>
        </p:nvSpPr>
        <p:spPr>
          <a:xfrm>
            <a:off x="315720" y="563868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228600" y="990720"/>
            <a:ext cx="5867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тового потока, ограниченная конической или циклической поверхностью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товым пуч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Прямоугольник 3"/>
          <p:cNvSpPr/>
          <p:nvPr/>
        </p:nvSpPr>
        <p:spPr>
          <a:xfrm>
            <a:off x="927720" y="2286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учок. Световой луч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Picture 2" descr="Картинка 17 из 5169"/>
          <p:cNvPicPr/>
          <p:nvPr/>
        </p:nvPicPr>
        <p:blipFill>
          <a:blip r:embed="rId1"/>
          <a:stretch/>
        </p:blipFill>
        <p:spPr>
          <a:xfrm>
            <a:off x="5791320" y="838080"/>
            <a:ext cx="2666880" cy="191160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4" descr="Картинка 38 из 24455"/>
          <p:cNvPicPr/>
          <p:nvPr/>
        </p:nvPicPr>
        <p:blipFill>
          <a:blip r:embed="rId2"/>
          <a:stretch/>
        </p:blipFill>
        <p:spPr>
          <a:xfrm>
            <a:off x="304920" y="2971800"/>
            <a:ext cx="2666880" cy="1785960"/>
          </a:xfrm>
          <a:prstGeom prst="rect">
            <a:avLst/>
          </a:prstGeom>
          <a:ln w="0">
            <a:noFill/>
          </a:ln>
        </p:spPr>
      </p:pic>
      <p:sp>
        <p:nvSpPr>
          <p:cNvPr id="1475" name="Прямоугольник 6"/>
          <p:cNvSpPr/>
          <p:nvPr/>
        </p:nvSpPr>
        <p:spPr>
          <a:xfrm>
            <a:off x="3276720" y="3048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ветовой лу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линия, по направлению которой распространяется световой пу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Прямоугольник 7"/>
          <p:cNvSpPr/>
          <p:nvPr/>
        </p:nvSpPr>
        <p:spPr>
          <a:xfrm>
            <a:off x="239040" y="4952880"/>
            <a:ext cx="8634240" cy="58140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пучок – это поток световой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Прямоугольник 8"/>
          <p:cNvSpPr/>
          <p:nvPr/>
        </p:nvSpPr>
        <p:spPr>
          <a:xfrm>
            <a:off x="228600" y="5638680"/>
            <a:ext cx="8763120" cy="1068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луч – это направл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по которому распространяется эн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22824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ространства, ограниченная некоторой конической поверхностью, называется телесным углом          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9" name="Прямоугольник 3"/>
          <p:cNvSpPr/>
          <p:nvPr/>
        </p:nvSpPr>
        <p:spPr>
          <a:xfrm>
            <a:off x="2669400" y="22860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Телесный уго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Picture 2" descr="http://www.bymath.net/studyguide/geo/sec/geo20.gif"/>
          <p:cNvPicPr/>
          <p:nvPr/>
        </p:nvPicPr>
        <p:blipFill>
          <a:blip r:embed="rId1"/>
          <a:srcRect l="2862" t="0" r="14282" b="3882"/>
          <a:stretch/>
        </p:blipFill>
        <p:spPr>
          <a:xfrm>
            <a:off x="533520" y="1828800"/>
            <a:ext cx="1676160" cy="1792440"/>
          </a:xfrm>
          <a:prstGeom prst="rect">
            <a:avLst/>
          </a:prstGeom>
          <a:ln w="0">
            <a:noFill/>
          </a:ln>
        </p:spPr>
      </p:pic>
      <p:sp>
        <p:nvSpPr>
          <p:cNvPr id="1481" name="Прямоугольник 5"/>
          <p:cNvSpPr/>
          <p:nvPr/>
        </p:nvSpPr>
        <p:spPr>
          <a:xfrm>
            <a:off x="2362320" y="2133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сный угол измеряется частью сферической поверхности  ABC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3" name="Object 3"/>
              <p:cNvSpPr txBox="1"/>
              <p:nvPr/>
            </p:nvSpPr>
            <p:spPr>
              <a:xfrm>
                <a:off x="3581280" y="3733920"/>
                <a:ext cx="183852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5"/>
              <p:cNvSpPr txBox="1"/>
              <p:nvPr/>
            </p:nvSpPr>
            <p:spPr>
              <a:xfrm>
                <a:off x="6400800" y="1219320"/>
                <a:ext cx="8002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85" name="Прямая со стрелкой 12"/>
          <p:cNvCxnSpPr/>
          <p:nvPr/>
        </p:nvCxnSpPr>
        <p:spPr>
          <a:xfrm>
            <a:off x="5409720" y="411480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6" name="Прямая со стрелкой 13"/>
          <p:cNvCxnSpPr/>
          <p:nvPr/>
        </p:nvCxnSpPr>
        <p:spPr>
          <a:xfrm flipH="1" flipV="1">
            <a:off x="2894760" y="457164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7" name="Прямая со стрелкой 14"/>
          <p:cNvCxnSpPr/>
          <p:nvPr/>
        </p:nvCxnSpPr>
        <p:spPr>
          <a:xfrm>
            <a:off x="5257440" y="4952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8" name="TextBox 17"/>
          <p:cNvSpPr/>
          <p:nvPr/>
        </p:nvSpPr>
        <p:spPr>
          <a:xfrm>
            <a:off x="6248520" y="3733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сфер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Box 18"/>
          <p:cNvSpPr/>
          <p:nvPr/>
        </p:nvSpPr>
        <p:spPr>
          <a:xfrm>
            <a:off x="60958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ус сф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Прямоугольник 19"/>
          <p:cNvSpPr/>
          <p:nvPr/>
        </p:nvSpPr>
        <p:spPr>
          <a:xfrm>
            <a:off x="152280" y="4114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Object 7"/>
              <p:cNvSpPr txBox="1"/>
              <p:nvPr/>
            </p:nvSpPr>
            <p:spPr>
              <a:xfrm>
                <a:off x="2743200" y="5638680"/>
                <a:ext cx="25336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22860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энергии, которое излучается источником света за единицу времени внутри телесного угла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ой свет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3"/>
          <p:cNvSpPr/>
          <p:nvPr/>
        </p:nvSpPr>
        <p:spPr>
          <a:xfrm>
            <a:off x="1406520" y="152280"/>
            <a:ext cx="63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ила света. Освещен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6" name="Object 1"/>
              <p:cNvSpPr txBox="1"/>
              <p:nvPr/>
            </p:nvSpPr>
            <p:spPr>
              <a:xfrm>
                <a:off x="1676520" y="2057400"/>
                <a:ext cx="1066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97" name="Прямая со стрелкой 6"/>
          <p:cNvCxnSpPr/>
          <p:nvPr/>
        </p:nvCxnSpPr>
        <p:spPr>
          <a:xfrm>
            <a:off x="3048120" y="228600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8" name="Прямая со стрелкой 9"/>
          <p:cNvCxnSpPr/>
          <p:nvPr/>
        </p:nvCxnSpPr>
        <p:spPr>
          <a:xfrm flipH="1">
            <a:off x="1751760" y="274320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9" name="Прямая со стрелкой 10"/>
          <p:cNvCxnSpPr/>
          <p:nvPr/>
        </p:nvCxnSpPr>
        <p:spPr>
          <a:xfrm>
            <a:off x="2666520" y="2819160"/>
            <a:ext cx="11437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0" name="Прямоугольник 13"/>
          <p:cNvSpPr/>
          <p:nvPr/>
        </p:nvSpPr>
        <p:spPr>
          <a:xfrm>
            <a:off x="4125600" y="21337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Прямоугольник 17"/>
          <p:cNvSpPr/>
          <p:nvPr/>
        </p:nvSpPr>
        <p:spPr>
          <a:xfrm>
            <a:off x="396252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Прямоугольник 18"/>
          <p:cNvSpPr/>
          <p:nvPr/>
        </p:nvSpPr>
        <p:spPr>
          <a:xfrm>
            <a:off x="165960" y="3276720"/>
            <a:ext cx="34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све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ндела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Содержимое 2"/>
          <p:cNvSpPr/>
          <p:nvPr/>
        </p:nvSpPr>
        <p:spPr>
          <a:xfrm>
            <a:off x="228600" y="3962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световой энергии, подающей на единицу поверхности тела за одну секунду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ещ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Object 3"/>
              <p:cNvSpPr txBox="1"/>
              <p:nvPr/>
            </p:nvSpPr>
            <p:spPr>
              <a:xfrm>
                <a:off x="3124080" y="5181480"/>
                <a:ext cx="1219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6" name="Прямоугольник 29"/>
          <p:cNvSpPr/>
          <p:nvPr/>
        </p:nvSpPr>
        <p:spPr>
          <a:xfrm>
            <a:off x="4963680" y="51055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Box 30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Прямоугольник 31"/>
          <p:cNvSpPr/>
          <p:nvPr/>
        </p:nvSpPr>
        <p:spPr>
          <a:xfrm>
            <a:off x="169920" y="61722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ю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9" name="Прямая со стрелкой 32"/>
          <p:cNvCxnSpPr/>
          <p:nvPr/>
        </p:nvCxnSpPr>
        <p:spPr>
          <a:xfrm flipH="1">
            <a:off x="2437560" y="5791320"/>
            <a:ext cx="686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0" name="Прямая со стрелкой 33"/>
          <p:cNvCxnSpPr/>
          <p:nvPr/>
        </p:nvCxnSpPr>
        <p:spPr>
          <a:xfrm>
            <a:off x="4343040" y="6095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1" name="Прямая со стрелкой 34"/>
          <p:cNvCxnSpPr/>
          <p:nvPr/>
        </p:nvCxnSpPr>
        <p:spPr>
          <a:xfrm>
            <a:off x="4343040" y="5409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охранения зрения и создания нормальных условий труда необходимо поддерживать наиболее благоприятную освещ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тимальные нормы освещенности (л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тонких работ ........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тения ..................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грубых работ ......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идорах и на лестницах..........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ходы в помещениях.............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лицах  и площадях.............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дворах и подъездах............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ьма специфические требования предъявляются к освещенности операционного поля в хирургии. Падающий на операционное поле свет должен создавать равномерную оптимальную освещенность при минимальном тепловом эффекте, не утомлять врача и не создавать т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этой цели применяются лампы специальной конструкции, так называемы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теневые лам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Arial"/>
              </a:rPr>
              <a:t>Нормы освещ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ru.wikipedia.org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икипед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5terka.com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Геометрическая оп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3dfef"/>
                </a:solidFill>
                <a:uFillTx/>
                <a:latin typeface="Rockwell"/>
              </a:rPr>
              <a:t>images.yandex.ru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</a:t>
            </a:r>
            <a:r>
              <a:rPr b="1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Яндекс. Картинк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http://www.bymath.net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ся элементарная матема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cc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1828440" y="22856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Оптик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Источники свет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Фотометрия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оток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учок. Световой луч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ила света. Освещенность.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Нормы освещенности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390" name="WordArt 4"/>
          <p:cNvSpPr txBox="1"/>
          <p:nvPr/>
        </p:nvSpPr>
        <p:spPr>
          <a:xfrm>
            <a:off x="2362320" y="53352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 txBox="1"/>
          <p:nvPr/>
        </p:nvSpPr>
        <p:spPr>
          <a:xfrm>
            <a:off x="228240" y="990360"/>
            <a:ext cx="8534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дел физики, изучающий световые явления, получил название опти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 греч. «оптикос» зрительный)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световые явления обычно называются опти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Box 5"/>
          <p:cNvSpPr/>
          <p:nvPr/>
        </p:nvSpPr>
        <p:spPr>
          <a:xfrm>
            <a:off x="228600" y="342900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ветить на вопро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способы передачи воздействий существуют? Приведите приме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теории по изучению света были выдвинуты и чем они отличалис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азывают геометрической опти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Прямоугольник 6" descr=""/>
          <p:cNvPicPr/>
          <p:nvPr/>
        </p:nvPicPr>
        <p:blipFill>
          <a:blip r:embed="rId1"/>
          <a:stretch/>
        </p:blipFill>
        <p:spPr>
          <a:xfrm>
            <a:off x="3157560" y="19080"/>
            <a:ext cx="2500200" cy="865080"/>
          </a:xfrm>
          <a:prstGeom prst="rect">
            <a:avLst/>
          </a:prstGeom>
          <a:ln w="0">
            <a:noFill/>
          </a:ln>
        </p:spPr>
      </p:pic>
      <p:sp>
        <p:nvSpPr>
          <p:cNvPr id="1394" name="Прямоугольник 8"/>
          <p:cNvSpPr/>
          <p:nvPr/>
        </p:nvSpPr>
        <p:spPr>
          <a:xfrm>
            <a:off x="3049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бота с учебником Физика 11кл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.Я. Мякишев, Б.Б. Буханцев стр. 168 – 1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собы передачи воз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нос вещества от источника к приемнику. (ударить по стру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рение состояния среды между телами (без переноса вещества). (две струны поместить рядом и звуковые волны от первой струны дойдя до второй вызовут ее звуч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пус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0" y="1142640"/>
            <a:ext cx="4573440" cy="396252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поток частиц, идущих от источника во все стороны </a:t>
            </a:r>
            <a:r>
              <a:rPr b="0" lang="ru-RU" sz="20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(перенос вещества</a:t>
            </a:r>
            <a:r>
              <a:rPr b="0" lang="ru-RU" sz="2000" spc="-1" strike="noStrike">
                <a:solidFill>
                  <a:srgbClr val="3333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очему световые пучки, пересекаются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4572000" y="1142640"/>
            <a:ext cx="4572000" cy="3962520"/>
          </a:xfrm>
          <a:prstGeom prst="rect">
            <a:avLst/>
          </a:prstGeom>
          <a:solidFill>
            <a:srgbClr val="d3d3d9"/>
          </a:solidFill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Гюй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волны, распространяющиеся в особой гипотетической среде  - эфире, заполняющем все пространство проникающем внутрь всех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рямолинейное распространение и образование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пускулярная и волновая теории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7"/>
          <p:cNvSpPr/>
          <p:nvPr/>
        </p:nvSpPr>
        <p:spPr>
          <a:xfrm>
            <a:off x="152280" y="5181480"/>
            <a:ext cx="85345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о второй половин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– свет рассматривали как вол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Box 8"/>
          <p:cNvSpPr/>
          <p:nvPr/>
        </p:nvSpPr>
        <p:spPr>
          <a:xfrm>
            <a:off x="152280" y="5657760"/>
            <a:ext cx="8534520" cy="1191240"/>
          </a:xfrm>
          <a:prstGeom prst="rect">
            <a:avLst/>
          </a:prstGeom>
          <a:solidFill>
            <a:srgbClr val="95e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 начал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представления о природе сета измени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Свет при излучении и поглощении ведет себя подобно потоку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Picture 7" descr="Картинка 2 из 12497"/>
          <p:cNvPicPr/>
          <p:nvPr/>
        </p:nvPicPr>
        <p:blipFill>
          <a:blip r:embed="rId1"/>
          <a:stretch/>
        </p:blipFill>
        <p:spPr>
          <a:xfrm>
            <a:off x="5105520" y="4952880"/>
            <a:ext cx="1676160" cy="1408320"/>
          </a:xfrm>
          <a:prstGeom prst="rect">
            <a:avLst/>
          </a:prstGeom>
          <a:ln w="0">
            <a:noFill/>
          </a:ln>
        </p:spPr>
      </p:pic>
      <p:sp>
        <p:nvSpPr>
          <p:cNvPr id="1405" name="TextBox 1"/>
          <p:cNvSpPr/>
          <p:nvPr/>
        </p:nvSpPr>
        <p:spPr>
          <a:xfrm>
            <a:off x="152280" y="152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и и дифра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л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Box 2"/>
          <p:cNvSpPr/>
          <p:nvPr/>
        </p:nvSpPr>
        <p:spPr>
          <a:xfrm>
            <a:off x="457200" y="3429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я и погло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током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Прямоугольник 3"/>
          <p:cNvSpPr/>
          <p:nvPr/>
        </p:nvSpPr>
        <p:spPr>
          <a:xfrm>
            <a:off x="304920" y="1143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я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жение световых во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Picture 2" descr="D:\Irina\анимашки\физика\interference1.gif"/>
          <p:cNvPicPr/>
          <p:nvPr/>
        </p:nvPicPr>
        <p:blipFill>
          <a:blip r:embed="rId2"/>
          <a:stretch/>
        </p:blipFill>
        <p:spPr>
          <a:xfrm>
            <a:off x="990720" y="198108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409" name="Прямоугольник 5"/>
          <p:cNvSpPr/>
          <p:nvPr/>
        </p:nvSpPr>
        <p:spPr>
          <a:xfrm>
            <a:off x="4267080" y="1143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ифракция све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ибание малых препят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0" name="Picture 4" descr="Картинка 66 из 2014"/>
          <p:cNvPicPr/>
          <p:nvPr/>
        </p:nvPicPr>
        <p:blipFill>
          <a:blip r:embed="rId3"/>
          <a:stretch/>
        </p:blipFill>
        <p:spPr>
          <a:xfrm>
            <a:off x="5486400" y="1981080"/>
            <a:ext cx="1981080" cy="136692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5" descr="D:\Irina\анимашки\огонь, свет\солнце.gif"/>
          <p:cNvPicPr/>
          <p:nvPr/>
        </p:nvPicPr>
        <p:blipFill>
          <a:blip r:embed="rId4"/>
          <a:stretch/>
        </p:blipFill>
        <p:spPr>
          <a:xfrm>
            <a:off x="3352680" y="49528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1412" name="Прямоугольник 8"/>
          <p:cNvSpPr/>
          <p:nvPr/>
        </p:nvSpPr>
        <p:spPr>
          <a:xfrm>
            <a:off x="152280" y="44956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 испускания и распространения энергии в виде волн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 части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Прямоугольник 9"/>
          <p:cNvSpPr/>
          <p:nvPr/>
        </p:nvSpPr>
        <p:spPr>
          <a:xfrm>
            <a:off x="6477120" y="4572000"/>
            <a:ext cx="249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глощ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интенсивности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лучения свет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2" descr="Картинка 20 из 2227"/>
          <p:cNvPicPr/>
          <p:nvPr/>
        </p:nvPicPr>
        <p:blipFill>
          <a:blip r:embed="rId1"/>
          <a:stretch/>
        </p:blipFill>
        <p:spPr>
          <a:xfrm>
            <a:off x="6858000" y="152280"/>
            <a:ext cx="2171880" cy="164808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4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ометрическая оп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 оптики, изучающий законы распространения света в прозрачных средах,                   законы отражения света от зеркальных поверхностей и принципы построения изображений при прохождении света в оптических систе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3"/>
          <p:cNvSpPr/>
          <p:nvPr/>
        </p:nvSpPr>
        <p:spPr>
          <a:xfrm>
            <a:off x="762120" y="30481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Box 4"/>
          <p:cNvSpPr/>
          <p:nvPr/>
        </p:nvSpPr>
        <p:spPr>
          <a:xfrm>
            <a:off x="2133720" y="3657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ет распространяется прямолиней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9" name="Picture 3" descr="D:\Irina\анимашки\природа\62.gif"/>
          <p:cNvPicPr/>
          <p:nvPr/>
        </p:nvPicPr>
        <p:blipFill>
          <a:blip r:embed="rId2"/>
          <a:stretch/>
        </p:blipFill>
        <p:spPr>
          <a:xfrm>
            <a:off x="3276720" y="4419720"/>
            <a:ext cx="3085920" cy="209376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" descr="D:\Irina\анимашки\природа\природа2.gif"/>
          <p:cNvPicPr/>
          <p:nvPr/>
        </p:nvPicPr>
        <p:blipFill>
          <a:blip r:embed="rId3"/>
          <a:stretch/>
        </p:blipFill>
        <p:spPr>
          <a:xfrm>
            <a:off x="228600" y="4343400"/>
            <a:ext cx="2362320" cy="224640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5" descr="D:\Irina\анимашки\природа\природа5.gif"/>
          <p:cNvPicPr/>
          <p:nvPr/>
        </p:nvPicPr>
        <p:blipFill>
          <a:blip r:embed="rId4"/>
          <a:stretch/>
        </p:blipFill>
        <p:spPr>
          <a:xfrm>
            <a:off x="7010280" y="43434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14"/>
          <p:cNvSpPr/>
          <p:nvPr/>
        </p:nvSpPr>
        <p:spPr>
          <a:xfrm>
            <a:off x="884160" y="2606760"/>
            <a:ext cx="639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16"/>
          <p:cNvSpPr/>
          <p:nvPr/>
        </p:nvSpPr>
        <p:spPr>
          <a:xfrm>
            <a:off x="884160" y="2606760"/>
            <a:ext cx="27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18"/>
          <p:cNvSpPr/>
          <p:nvPr/>
        </p:nvSpPr>
        <p:spPr>
          <a:xfrm>
            <a:off x="884160" y="2606760"/>
            <a:ext cx="36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200"/>
          <p:cNvSpPr/>
          <p:nvPr/>
        </p:nvSpPr>
        <p:spPr>
          <a:xfrm>
            <a:off x="304920" y="609480"/>
            <a:ext cx="28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Искусстве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202"/>
          <p:cNvSpPr/>
          <p:nvPr/>
        </p:nvSpPr>
        <p:spPr>
          <a:xfrm>
            <a:off x="6248520" y="609480"/>
            <a:ext cx="2733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Естественные</a:t>
            </a:r>
            <a:r>
              <a:rPr b="0" lang="ru-RU" sz="2800" spc="-1" strike="noStrike">
                <a:solidFill>
                  <a:srgbClr val="db535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db5353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Группа 35"/>
          <p:cNvGrpSpPr/>
          <p:nvPr/>
        </p:nvGrpSpPr>
        <p:grpSpPr>
          <a:xfrm>
            <a:off x="4952880" y="3581280"/>
            <a:ext cx="1447920" cy="1395360"/>
            <a:chOff x="4952880" y="3581280"/>
            <a:chExt cx="1447920" cy="1395360"/>
          </a:xfrm>
        </p:grpSpPr>
        <p:sp>
          <p:nvSpPr>
            <p:cNvPr id="1428" name="Rectangle 197"/>
            <p:cNvSpPr/>
            <p:nvPr/>
          </p:nvSpPr>
          <p:spPr>
            <a:xfrm>
              <a:off x="4952880" y="4516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звезд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9" name="Picture 203" descr="звезда"/>
            <p:cNvPicPr/>
            <p:nvPr/>
          </p:nvPicPr>
          <p:blipFill>
            <a:blip r:embed="rId1"/>
            <a:stretch/>
          </p:blipFill>
          <p:spPr>
            <a:xfrm>
              <a:off x="5028840" y="3581280"/>
              <a:ext cx="937080" cy="90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0" name="Группа 34"/>
          <p:cNvGrpSpPr/>
          <p:nvPr/>
        </p:nvGrpSpPr>
        <p:grpSpPr>
          <a:xfrm>
            <a:off x="2819520" y="3581280"/>
            <a:ext cx="1295280" cy="1788840"/>
            <a:chOff x="2819520" y="3581280"/>
            <a:chExt cx="1295280" cy="1788840"/>
          </a:xfrm>
        </p:grpSpPr>
        <p:sp>
          <p:nvSpPr>
            <p:cNvPr id="1431" name="Rectangle 198"/>
            <p:cNvSpPr/>
            <p:nvPr/>
          </p:nvSpPr>
          <p:spPr>
            <a:xfrm>
              <a:off x="2928240" y="491040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м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2" name="Picture 204" descr="комета"/>
            <p:cNvPicPr/>
            <p:nvPr/>
          </p:nvPicPr>
          <p:blipFill>
            <a:blip r:embed="rId2"/>
            <a:stretch/>
          </p:blipFill>
          <p:spPr>
            <a:xfrm>
              <a:off x="2819520" y="3581280"/>
              <a:ext cx="1295280" cy="139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3" name="Группа 33"/>
          <p:cNvGrpSpPr/>
          <p:nvPr/>
        </p:nvGrpSpPr>
        <p:grpSpPr>
          <a:xfrm>
            <a:off x="5034240" y="5029200"/>
            <a:ext cx="1137960" cy="1679400"/>
            <a:chOff x="5034240" y="5029200"/>
            <a:chExt cx="1137960" cy="1679400"/>
          </a:xfrm>
        </p:grpSpPr>
        <p:sp>
          <p:nvSpPr>
            <p:cNvPr id="1434" name="Rectangle 196"/>
            <p:cNvSpPr/>
            <p:nvPr/>
          </p:nvSpPr>
          <p:spPr>
            <a:xfrm>
              <a:off x="5034240" y="6248880"/>
              <a:ext cx="11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олнц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5" name="Picture 205" descr="солнце"/>
            <p:cNvPicPr/>
            <p:nvPr/>
          </p:nvPicPr>
          <p:blipFill>
            <a:blip r:embed="rId3"/>
            <a:stretch/>
          </p:blipFill>
          <p:spPr>
            <a:xfrm>
              <a:off x="5105160" y="5029200"/>
              <a:ext cx="10670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6" name="Группа 32"/>
          <p:cNvGrpSpPr/>
          <p:nvPr/>
        </p:nvGrpSpPr>
        <p:grpSpPr>
          <a:xfrm>
            <a:off x="4807800" y="2362320"/>
            <a:ext cx="1179000" cy="1145520"/>
            <a:chOff x="4807800" y="2362320"/>
            <a:chExt cx="1179000" cy="1145520"/>
          </a:xfrm>
        </p:grpSpPr>
        <p:sp>
          <p:nvSpPr>
            <p:cNvPr id="1437" name="Rectangle 195"/>
            <p:cNvSpPr/>
            <p:nvPr/>
          </p:nvSpPr>
          <p:spPr>
            <a:xfrm>
              <a:off x="4807800" y="304812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уч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8" name="Picture 208" descr="лучина"/>
            <p:cNvPicPr/>
            <p:nvPr/>
          </p:nvPicPr>
          <p:blipFill>
            <a:blip r:embed="rId4"/>
            <a:stretch/>
          </p:blipFill>
          <p:spPr>
            <a:xfrm>
              <a:off x="4876560" y="2362320"/>
              <a:ext cx="95184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Группа 36"/>
          <p:cNvGrpSpPr/>
          <p:nvPr/>
        </p:nvGrpSpPr>
        <p:grpSpPr>
          <a:xfrm>
            <a:off x="3124080" y="2362320"/>
            <a:ext cx="1046160" cy="1298160"/>
            <a:chOff x="3124080" y="2362320"/>
            <a:chExt cx="1046160" cy="1298160"/>
          </a:xfrm>
        </p:grpSpPr>
        <p:sp>
          <p:nvSpPr>
            <p:cNvPr id="1440" name="Rectangle 193"/>
            <p:cNvSpPr/>
            <p:nvPr/>
          </p:nvSpPr>
          <p:spPr>
            <a:xfrm>
              <a:off x="3131640" y="320076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амп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1" name="Picture 209" descr="лампа"/>
            <p:cNvPicPr/>
            <p:nvPr/>
          </p:nvPicPr>
          <p:blipFill>
            <a:blip r:embed="rId5"/>
            <a:stretch/>
          </p:blipFill>
          <p:spPr>
            <a:xfrm>
              <a:off x="3124080" y="2362320"/>
              <a:ext cx="95472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2" name="Прямоугольник 23" descr=""/>
          <p:cNvPicPr/>
          <p:nvPr/>
        </p:nvPicPr>
        <p:blipFill>
          <a:blip r:embed="rId6"/>
          <a:stretch/>
        </p:blipFill>
        <p:spPr>
          <a:xfrm>
            <a:off x="2182680" y="-133200"/>
            <a:ext cx="46389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443" name="Группа 30"/>
          <p:cNvGrpSpPr/>
          <p:nvPr/>
        </p:nvGrpSpPr>
        <p:grpSpPr>
          <a:xfrm>
            <a:off x="3125160" y="380880"/>
            <a:ext cx="941040" cy="1908000"/>
            <a:chOff x="3125160" y="380880"/>
            <a:chExt cx="941040" cy="1908000"/>
          </a:xfrm>
        </p:grpSpPr>
        <p:sp>
          <p:nvSpPr>
            <p:cNvPr id="1444" name="Rectangle 194"/>
            <p:cNvSpPr/>
            <p:nvPr/>
          </p:nvSpPr>
          <p:spPr>
            <a:xfrm>
              <a:off x="3125160" y="18291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ве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5" name="Picture 2" descr="D:\Irina\анимашки\огонь, свет\ogon-212.gif"/>
            <p:cNvPicPr/>
            <p:nvPr/>
          </p:nvPicPr>
          <p:blipFill>
            <a:blip r:embed="rId7"/>
            <a:stretch/>
          </p:blipFill>
          <p:spPr>
            <a:xfrm>
              <a:off x="3276360" y="380880"/>
              <a:ext cx="76212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6" name="Группа 29"/>
          <p:cNvGrpSpPr/>
          <p:nvPr/>
        </p:nvGrpSpPr>
        <p:grpSpPr>
          <a:xfrm>
            <a:off x="2438280" y="5405400"/>
            <a:ext cx="2743200" cy="1450440"/>
            <a:chOff x="2438280" y="5405400"/>
            <a:chExt cx="2743200" cy="1450440"/>
          </a:xfrm>
        </p:grpSpPr>
        <p:sp>
          <p:nvSpPr>
            <p:cNvPr id="1447" name="Rectangle 149"/>
            <p:cNvSpPr/>
            <p:nvPr/>
          </p:nvSpPr>
          <p:spPr>
            <a:xfrm>
              <a:off x="2438280" y="6396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бактерии на рыб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8" name="Picture 3" descr="D:\Irina\анимашки\рыбы\рыбка.gif"/>
            <p:cNvPicPr/>
            <p:nvPr/>
          </p:nvPicPr>
          <p:blipFill>
            <a:blip r:embed="rId8"/>
            <a:stretch/>
          </p:blipFill>
          <p:spPr>
            <a:xfrm>
              <a:off x="2819160" y="5405400"/>
              <a:ext cx="161928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9" name="Группа 31"/>
          <p:cNvGrpSpPr/>
          <p:nvPr/>
        </p:nvGrpSpPr>
        <p:grpSpPr>
          <a:xfrm>
            <a:off x="4648320" y="533520"/>
            <a:ext cx="1371600" cy="1831680"/>
            <a:chOff x="4648320" y="533520"/>
            <a:chExt cx="1371600" cy="1831680"/>
          </a:xfrm>
        </p:grpSpPr>
        <p:pic>
          <p:nvPicPr>
            <p:cNvPr id="1450" name="Picture 5" descr="D:\Irina\анимашки\огонь, свет\15.gif"/>
            <p:cNvPicPr/>
            <p:nvPr/>
          </p:nvPicPr>
          <p:blipFill>
            <a:blip r:embed="rId9"/>
            <a:stretch/>
          </p:blipFill>
          <p:spPr>
            <a:xfrm>
              <a:off x="4648320" y="533520"/>
              <a:ext cx="1371600" cy="13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1" name="Rectangle 194"/>
            <p:cNvSpPr/>
            <p:nvPr/>
          </p:nvSpPr>
          <p:spPr>
            <a:xfrm>
              <a:off x="4805280" y="190548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сте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2" name="Прямоугольник 37" descr=""/>
          <p:cNvPicPr/>
          <p:nvPr/>
        </p:nvPicPr>
        <p:blipFill>
          <a:blip r:embed="rId10"/>
          <a:stretch/>
        </p:blipFill>
        <p:spPr>
          <a:xfrm>
            <a:off x="3932280" y="890640"/>
            <a:ext cx="17622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C -0.00417 0.01481 -0.0092 0.01713 -0.01528 0.025 C -0.0191 0.02963 -0.02274 0.03657 -0.02639 0.04143 C -0.03576 0.05347 -0.02361 0.03472 -0.03281 0.04699 C -0.03472 0.04953 -0.0375 0.05601 -0.03941 0.05787 C -0.04931 0.06689 -0.06094 0.07129 -0.07101 0.07476 C -0.07674 0.07916 -0.08247 0.08263 -0.08854 0.08564 C -0.09358 0.09467 -0.10556 0.10208 -0.11129 0.10254 C -0.14219 0.10532 -0.17153 0.10532 -0.20156 0.10532 E">
                                      <p:cBhvr>
                                        <p:cTn id="331" dur="2000" fill="hold"/>
                                        <p:tgtEl>
                                          <p:spTgt spid="1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C -0.00364 0.00093 -0.00694 0.00139 -0.00989 0.00324 C -0.02847 0.01412 -0.00416 0.00463 -0.01996 0.01019 C -0.02395 0.01459 -0.02934 0.0176 -0.03316 0.02246 C -0.03455 0.02431 -0.03524 0.02732 -0.03645 0.0294 C -0.04149 0.03658 -0.04722 0.04213 -0.05451 0.04676 C -0.06458 0.0625 -0.04757 0.03866 -0.06753 0.05556 C -0.08541 0.07084 -0.06336 0.06366 -0.08246 0.06783 C -0.08819 0.07685 -0.09652 0.0831 -0.10364 0.09074 C -0.12378 0.11204 -0.09479 0.08357 -0.11198 0.10463 C -0.11371 0.10672 -0.11666 0.10764 -0.11875 0.10972 C -0.12187 0.11297 -0.12378 0.1169 -0.12673 0.12014 C -0.13073 0.12894 -0.14027 0.14329 -0.14652 0.15 C -0.15104 0.1551 -0.16128 0.15741 -0.16632 0.16042 C -0.17343 0.16505 -0.18107 0.17292 -0.18784 0.17801 C -0.19878 0.18704 -0.21076 0.19607 -0.22222 0.20417 C -0.22604 0.20718 -0.22847 0.21158 -0.23194 0.21459 C -0.2342 0.21644 -0.24461 0.22084 -0.24705 0.22176 C -0.2559 0.23542 -0.27552 0.23542 -0.28958 0.23889 C -0.30191 0.24977 -0.29635 0.2507 -0.3125 0.25301 C -0.34705 0.26644 -0.28472 0.26042 -0.38993 0.25486 C -0.40555 0.24954 -0.43402 0.23773 -0.45069 0.2375 C -0.46736 0.23681 -0.48368 0.2375 -0.5 0.2375 E">
                                      <p:cBhvr>
                                        <p:cTn id="335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8 0.01736 C -0.07153 0.02477 -0.06997 0.02917 -0.07414 0.03611 C -0.07587 0.03889 -0.07796 0.04051 -0.07969 0.04282 C -0.08056 0.04398 -0.08247 0.0463 -0.08247 0.04653 C -0.08473 0.05509 -0.08785 0.06088 -0.09063 0.06875 C -0.09184 0.07732 -0.09375 0.08634 -0.09705 0.09306 C -0.09896 0.10857 -0.10608 0.11458 -0.11059 0.12708 C -0.11858 0.14884 -0.12535 0.17037 -0.13612 0.1875 C -0.13959 0.19282 -0.13993 0.20023 -0.14428 0.20301 C -0.15452 0.22222 -0.16771 0.22639 -0.1816 0.2287 C -0.19792 0.23866 -0.17257 0.2338 -0.21598 0.2338 E">
                                      <p:cBhvr>
                                        <p:cTn id="339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23 C -0.00781 -0.00301 -0.01372 0.0037 -0.02118 0.00671 C -0.03212 0.01852 -0.04653 0.02268 -0.05834 0.03287 C -0.07049 0.04329 -0.06962 0.04745 -0.08577 0.05208 C -0.09688 0.06412 -0.08247 0.04977 -0.10209 0.06273 C -0.10347 0.06389 -0.1309 0.08565 -0.13403 0.08889 C -0.1408 0.09606 -0.14688 0.10278 -0.15347 0.10972 C -0.15538 0.1118 -0.1559 0.11528 -0.15816 0.1169 C -0.16059 0.11852 -0.16372 0.11805 -0.16632 0.11852 C -0.17292 0.12963 -0.17813 0.13218 -0.18733 0.1412 C -0.19393 0.14768 -0.19531 0.15278 -0.20347 0.15694 C -0.20625 0.16018 -0.21025 0.16227 -0.21302 0.16574 C -0.21754 0.1713 -0.21927 0.1794 -0.22431 0.18495 C -0.22795 0.18889 -0.23299 0.1919 -0.23542 0.19699 C -0.23906 0.20509 -0.24288 0.21111 -0.25 0.2162 C -0.25851 0.23055 -0.24705 0.21319 -0.25955 0.225 C -0.26163 0.22685 -0.2625 0.23009 -0.26459 0.23218 C -0.26823 0.23565 -0.27917 0.24236 -0.28368 0.24421 C -0.29045 0.25463 -0.28281 0.24537 -0.29531 0.25116 C -0.29775 0.25255 -0.29931 0.25486 -0.30156 0.25625 C -0.30295 0.25741 -0.30486 0.25764 -0.30643 0.2581 C -0.31233 0.26759 -0.31979 0.2743 -0.32917 0.27893 C -0.34254 0.29375 -0.36406 0.3037 -0.38056 0.31412 C -0.38316 0.31574 -0.38646 0.3169 -0.38872 0.31921 C -0.39393 0.325 -0.4 0.33403 -0.40643 0.33843 C -0.41077 0.3456 -0.41476 0.35231 -0.4191 0.35949 C -0.42188 0.36366 -0.42726 0.37176 -0.42726 0.37199 C -0.42813 0.37569 -0.42952 0.38264 -0.43212 0.38565 C -0.43368 0.38773 -0.43681 0.38889 -0.43872 0.39074 C -0.45243 0.40741 -0.44202 0.40278 -0.45295 0.40648 C -0.4632 0.41389 -0.46372 0.41574 -0.47084 0.42593 C -0.47188 0.42917 -0.47292 0.43588 -0.47709 0.43634 C -0.49271 0.43866 -0.52361 0.43796 -0.52361 0.43819 E">
                                      <p:cBhvr>
                                        <p:cTn id="343" dur="2000" fill="hold"/>
                                        <p:tgtEl>
                                          <p:spTgt spid="1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0.06111 C 0.09375 0.05093 0.12274 0.03819 0.15521 0.03565 C 0.16788 0.03287 0.18073 0.03333 0.1934 0.02963 C 0.1993 0.02824 0.20451 0.02407 0.21007 0.02176 C 0.22152 0.01736 0.23333 0.01412 0.24496 0.01019 C 0.24878 0.0088 0.25659 0.00625 0.25659 0.00671 C 0.2717 -0.0044 0.28767 -0.02153 0.3033 -0.02894 C 0.31701 -0.04259 0.30937 -0.03611 0.32639 -0.04792 C 0.33524 -0.05463 0.34791 -0.07338 0.34791 -0.07315 C 0.35364 -0.08704 0.36076 -0.10093 0.36632 -0.11458 C 0.37257 -0.13125 0.3743 -0.14097 0.38437 -0.15556 C 0.39062 -0.17315 0.3835 -0.1588 0.39618 -0.17106 C 0.40086 -0.17593 0.40468 -0.18148 0.4092 -0.18657 C 0.41389 -0.1919 0.41996 -0.19491 0.4243 -0.2 C 0.43385 -0.21134 0.43975 -0.22431 0.44913 -0.23519 C 0.45295 -0.24815 0.44791 -0.2338 0.45746 -0.24907 C 0.4651 -0.26134 0.46979 -0.275 0.47899 -0.28611 C 0.48385 -0.30648 0.49757 -0.32292 0.50885 -0.33866 C 0.51475 -0.3463 0.51146 -0.34491 0.51562 -0.35625 C 0.51753 -0.36065 0.52118 -0.36458 0.52396 -0.36782 C 0.52396 -0.36759 0.52725 -0.38333 0.52725 -0.36782 C 0.52725 -0.35116 0.52205 -0.34421 0.52916 -0.35625 C 0.52708 -0.3625 0.52916 -0.36204 0.52552 -0.36204 E">
                                      <p:cBhvr>
                                        <p:cTn id="347" dur="20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1206 C 0.03299 -0.3206 -0.01996 -0.11898 0.17118 -0.23657 C 0.17379 -0.23773 0.1757 -0.26944 0.175 -0.26481 E">
                                      <p:cBhvr>
                                        <p:cTn id="351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09 C 0.01302 -0.11227 0.02396 -0.12176 0.03836 -0.12477 C 0.06423 -0.14004 0.09392 -0.14653 0.12152 -0.14954 C 0.13941 -0.15671 0.15729 -0.16597 0.175 -0.16852 C 0.18281 -0.17592 0.18715 -0.17963 0.19583 -0.18194 C 0.20573 -0.1956 0.19583 -0.18518 0.21267 -0.19143 C 0.21423 -0.1919 0.2151 -0.19421 0.21684 -0.1956 C 0.23559 -0.20903 0.2184 -0.19606 0.23107 -0.20278 C 0.24461 -0.20995 0.25521 -0.22477 0.26857 -0.2331 C 0.27656 -0.24467 0.2908 -0.24606 0.30104 -0.25254 C 0.30677 -0.26481 0.29965 -0.25254 0.31041 -0.26018 C 0.31215 -0.26134 0.3125 -0.26481 0.31406 -0.26551 C 0.32014 -0.26967 0.33003 -0.27037 0.33628 -0.27129 C 0.34392 -0.27384 0.35034 -0.27569 0.35833 -0.27731 C 0.36146 -0.2787 0.36441 -0.28148 0.36736 -0.28287 C 0.37205 -0.28426 0.37691 -0.28518 0.38177 -0.2868 C 0.38524 -0.28935 0.38871 -0.29143 0.39201 -0.29421 C 0.39461 -0.29606 0.4 -0.29815 0.4 -0.29768 C 0.40277 -0.30046 0.40833 -0.30509 0.40833 -0.30486 E">
                                      <p:cBhvr>
                                        <p:cTn id="355" dur="2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C 0.06284 -0.04583 0.13871 0.01065 0.20468 0.0169 C 0.21423 0.02361 0.20764 0.02014 0.225 0.02014 E">
                                      <p:cBhvr>
                                        <p:cTn id="359" dur="2000" fill="hold"/>
                                        <p:tgtEl>
                                          <p:spTgt spid="1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04920" y="9140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МЕТР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реч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ó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свет и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ré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измеряю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4"/>
          <p:cNvSpPr/>
          <p:nvPr/>
        </p:nvSpPr>
        <p:spPr>
          <a:xfrm>
            <a:off x="3054600" y="152280"/>
            <a:ext cx="30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Фотомет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Прямоугольник 6"/>
          <p:cNvSpPr/>
          <p:nvPr/>
        </p:nvSpPr>
        <p:spPr>
          <a:xfrm>
            <a:off x="152280" y="1447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дел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Т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кото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ают способы измерения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Прямоугольник 7"/>
          <p:cNvSpPr/>
          <p:nvPr/>
        </p:nvSpPr>
        <p:spPr>
          <a:xfrm>
            <a:off x="304920" y="2514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фотометрии как науки лежит разработ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ория светового поля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7" name="Picture 2" descr="Картинка 22 из 13090"/>
          <p:cNvPicPr/>
          <p:nvPr/>
        </p:nvPicPr>
        <p:blipFill>
          <a:blip r:embed="rId1"/>
          <a:stretch/>
        </p:blipFill>
        <p:spPr>
          <a:xfrm>
            <a:off x="152280" y="4191120"/>
            <a:ext cx="2590920" cy="21556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4" descr="Картинка 47 из 13089"/>
          <p:cNvPicPr/>
          <p:nvPr/>
        </p:nvPicPr>
        <p:blipFill>
          <a:blip r:embed="rId2"/>
          <a:stretch/>
        </p:blipFill>
        <p:spPr>
          <a:xfrm>
            <a:off x="6095880" y="4114800"/>
            <a:ext cx="2845080" cy="2133720"/>
          </a:xfrm>
          <a:prstGeom prst="rect">
            <a:avLst/>
          </a:prstGeom>
          <a:ln w="0">
            <a:noFill/>
          </a:ln>
        </p:spPr>
      </p:pic>
      <p:sp>
        <p:nvSpPr>
          <p:cNvPr id="1459" name="Прямоугольник 10"/>
          <p:cNvSpPr/>
          <p:nvPr/>
        </p:nvSpPr>
        <p:spPr>
          <a:xfrm>
            <a:off x="228600" y="3505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тово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— область  пространства, заполненная светом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Picture 6" descr="Картинка 16 из 13161"/>
          <p:cNvPicPr/>
          <p:nvPr/>
        </p:nvPicPr>
        <p:blipFill>
          <a:blip r:embed="rId3"/>
          <a:stretch/>
        </p:blipFill>
        <p:spPr>
          <a:xfrm>
            <a:off x="2971800" y="41148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4-02T18:42:0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