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6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33.png" ContentType="image/png"/>
  <Override PartName="/ppt/media/image9.png" ContentType="image/png"/>
  <Override PartName="/ppt/media/image10.png" ContentType="image/png"/>
  <Override PartName="/ppt/media/image27.jpeg" ContentType="image/jpeg"/>
  <Override PartName="/ppt/media/image13.gif" ContentType="image/gif"/>
  <Override PartName="/ppt/media/image23.gif" ContentType="image/gif"/>
  <Override PartName="/ppt/media/image16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12.jpeg" ContentType="image/jpeg"/>
  <Override PartName="/ppt/media/image4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9.gif" ContentType="image/gif"/>
  <Override PartName="/ppt/media/image21.gif" ContentType="image/gif"/>
  <Override PartName="/ppt/media/image24.gif" ContentType="image/gif"/>
  <Override PartName="/ppt/media/image17.png" ContentType="image/png"/>
  <Override PartName="/ppt/media/image18.gif" ContentType="image/gif"/>
  <Override PartName="/ppt/media/image20.gif" ContentType="image/gif"/>
  <Override PartName="/ppt/media/image22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15347-1FCE-42B0-BC66-DB04D225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7EB6A-271B-46A2-8F35-18F10D3F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D9CA0-FF0D-4050-B5EE-AB747AA7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B37CE-FEAF-4159-96EA-CE7320A6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5B5C3-1B57-407A-8FC8-3DF6FA86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4D644-F322-4785-A6D0-A28D839C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F4F5D-2616-439C-AB38-A164163D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A6F8B-4B00-4FAC-B05A-7E971772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15F03-4D15-41D2-BD99-9E4F71C8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23EC0-1E3C-423C-8A8B-ECED66EF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BF5AA-5DA0-47EE-8101-FC9EEC40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25E0E-64D6-48BB-AE6D-01A9B59C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6991E-0F76-4D5D-BA57-C1CB7612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0381A-6327-4CB5-8D81-190F7BC2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99EDE-AFFB-40BA-8547-C33F1D5D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F6A85-7DAD-48E7-B1C1-CB40490A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CD12F-A0FF-4DCF-9D68-15660109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2315E-D295-4E4E-BB0A-923D2389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3A0B7-302F-4D68-AE11-26FC3D46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7A86E-F0FD-42B0-B44B-A0B3056C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FD715-9F59-4A4D-8A0D-258AE6E3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0E62E-50E0-4A5E-8821-88E2A004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E5C9F-DC2C-470B-B24D-602445AA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09E2C-545D-4B33-975B-4542A2D6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420D7-E422-4342-BF8E-C069B9F2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494AB-A3D2-4572-8D0D-285CA3ED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EB964-340C-422A-900E-7EB58E3D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0BC25-85AF-41C3-B3A0-C79A424A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E1CE9-B151-465F-8E3C-D1A38A9D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D67FA-D958-4088-ABF8-C5686BCC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049F-8A8C-48B9-86A1-A9111D2A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6F8F6-AC4A-4522-BEF8-89A5FE9F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97E2C-5AEB-45CB-A63E-8742EC43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8E830-56AD-4F54-85E6-A4C021FE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B788B-8DF5-43C0-9CC1-BCE85E31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A02C3-EBF2-4487-96A1-50596FAE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2CE9D-1C07-4A1C-9A21-C81AFE99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78900-9E6D-4301-BD1A-F33DF66B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807DB-FF62-470B-9B33-802B9E80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63640-F599-472B-A52B-9BF0C501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3D6EC-0048-48B9-8A98-567F902A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633C-436D-44EF-83EE-2BEFDA9D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1022B-5851-4338-800B-5A581F97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3A178-E288-4290-B40C-B0FCFC2C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F83FD-846A-48E6-9E79-3B2034E1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18E95-5170-47CA-91F5-145F12FA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8F106-B1AB-4D78-A47C-D7229598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E851E-8D95-472C-8ED9-EDA5EC28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12267-CFD9-441C-B38F-C81C097E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3BE59-E7C9-41F5-B461-CAC62F55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9B54A-C964-4AB5-A363-B9CDD80E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F0B44-DE61-40A4-9755-97E75ED9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AD84-3111-4F3D-AC80-5B488EE7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F6F14-ECE9-45F8-8525-7EB27E11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6FA21-5DF7-49FD-BB0D-C70292D4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11265-3987-425C-86D8-D07D60B7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10CAC-5FD0-4CF2-9275-B8E54FA8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DCF63-8C19-44E9-A22A-28E06A1A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8D1EC-67DB-4AF4-9D2B-ACF738F7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F93EB-91F6-45BB-9D7A-71B1C8C8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67100E-9345-4B8A-9A9C-71D57810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DC104C-9778-4B91-A571-B8C7D9BF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878CCB-FC31-46B2-A5F0-E8533A5F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1193-071C-4DCB-9543-3986C3B8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0FB5A-AA4D-4960-9944-58E4E586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BA383E-AD56-4BF9-8374-D6D9D680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76C58E-0858-4B4D-8CC9-F378BBB1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E9EC7-FC27-4642-9FE7-0D9CD499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E07542-B228-4093-932E-6C46D243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44163F-D104-4AD9-B942-5E706B7F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989705-E993-47ED-91CC-6A2D7183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E40B4F-A175-4107-85B3-60E1C27B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958ECB-F851-4160-A56B-5F31539C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1D002F-29B9-472E-8865-58E7D7E2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B4BE-BB0A-4BC3-9DC0-D382BB61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5BEA71-0D97-43E8-96DE-030F4F9E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6C52CD-3F89-4EF4-9F03-D50AFBB9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C5109A-C108-4CBC-8E0E-E9321482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69363F-3EE9-4A36-BB31-CAB5CC63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B4ED8B-66FA-4FBD-B3A4-3B97C6DD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7EB9DA-3866-44D6-92A2-5254D0F6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18BFCD-5B5D-444A-BFB5-75A9223F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26DADF-7C4D-4C59-93C7-BFCE04A8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758BC0-2EFD-478B-AF1A-2530690B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BF950C-EE14-4206-A1B6-A0888AD2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6C3B-4396-4CBF-BF03-22A165D4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0250AD-D288-466B-B089-B3FF7AA2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D96DBE-4BF7-48CC-9157-76803F45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1D3D7D-75AE-48C2-A9AB-E68CF7CB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C9E391-F5E1-4A80-ABE9-ADCA92F9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18EF3E-62A7-4C8B-9238-3B3E76CF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09CBDF-06F8-4270-8CF0-3A362E77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2DFC86-25B4-430E-B2A7-2269FA8F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CF5FDC-9FDC-41D1-93A7-ACE53932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3DBB08-FB83-4A35-951C-B53D74B1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AAA43F-4482-4F40-B5C9-89C522B6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D4C8-9A7E-4DD9-BCC9-7987B639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7CA263-E745-42F3-9227-670C2E2F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1CE75C-8AEB-4E84-A3AF-915BF0CD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C5A21C-096F-4D63-959C-C2B571C79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59AEC2-BD2A-40AF-9C73-64A233AB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6017D6-4C57-4A30-8E72-BBB91900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8C428B-A4F1-411F-964A-9C78B964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DC6CDF-5E25-48B1-B0F3-3A5EA9EC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3FB7F4-FC3D-4720-9D3A-E0A2A75C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79D73A-86D7-4EB7-896F-4A14958A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8FD7C6-6CDC-4380-B857-B327DBBF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176F-49A5-4E57-B232-8CFA81C6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7B3DC5-0C4F-4BB0-A1D2-7A06D05A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140F4B-A5D0-44E0-8B73-861BAA22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EAED4A-8B72-4CAE-9C8B-866C8560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AE3CEF-3860-4BC0-8A7A-BC239159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BFC3EC-8A43-4F57-88AE-2D48951E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50505F5-DB0B-4361-89E7-3554602A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8C9A9AD-0DC8-4BB9-9D38-E99449D2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99446FE-730C-4F0E-9F62-75BF3145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9EF5331-10C1-4374-99C3-BFBF0218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7C0417D-2BEB-4F9C-A8EE-600AC4E1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54F3-7704-451E-AFFA-73706AA9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6B9AACD-84DB-487A-94FC-7B658FE6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85A9753-3EED-40FC-8CF5-D63B3226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B75277F-F7A4-456B-9AD1-3F8FCD52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448D9A6-3710-4B7F-A10A-503C77BC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2F45C9F-606C-4477-86AC-57F67A9C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29ACB5D-F900-4BF8-BF3C-00CC71CB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085DEC0-15F2-4CEB-A32D-35F03832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BF29D1-4B3F-4F23-94A8-404FDA86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DAE056-EB60-41B9-8282-9DC57B41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06AA25-A93B-49C8-A93A-47B4F852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EE5F-A284-4109-B626-151F104A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B86A97-2A17-4BE6-955C-AFC5AB26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C86420-A428-4F87-AC89-98EF5FDF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8D4B9C-02C5-41B1-B725-C545F680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7717D8-95E4-4E9F-AD1A-B87B00DE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50D66D-3A9A-4FB4-BC36-13FE905E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304462-4848-4F4B-BD1C-5DC2D3D5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D7D76E-0975-4D8B-8B1D-DA4698D7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5544E8-B4AF-4034-AE94-E8CB6536E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42717F-FD12-45D5-B762-C237104A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439C8F7-C7C0-4EE7-ACB5-01BA4FF0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DABF-48F7-4F9E-9581-54DBC3B3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45E770F-1BD4-407A-AD4A-D3027D20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EDEE87A-E5E5-4817-803B-6795DEEF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BBCED44-DE11-4F35-9625-3FE345B7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1C8E30A-DED6-40A0-BFC4-730D5C32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D5D1C63-0083-48D7-B6DE-19CEC0C1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C8EBAE2-A996-4A3A-968E-12CF15CF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B5D86FB-30F6-4A3B-BA31-1A6CB1CE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F34C50F-8463-45C8-B6AC-61791C5F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B4B09D0-42C4-4E72-8C32-C6C50211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81C4066-CE95-423F-A7DB-532CDA50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8A50-7A2F-45BC-BD72-038E1532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8B25F90-47CD-42DE-8836-32F1A9B9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77E673-02C1-45B5-AA0D-9C7643DF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C7A34F-91E9-4D5C-886E-2538932E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595E9D-0E39-418B-A95E-C5EE5BB4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2104C0-983C-4402-98E0-065450A3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19A974-B82A-4531-BC58-04177CED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DD26CE-549F-4814-935B-8278130D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6F795D-7F24-4456-A2C6-2618F81C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89418E-B691-4032-A8B3-D3620C51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919495-9078-418C-97B9-E5675E74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5C10-6933-4B51-BB28-B0108251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CAF021-3602-4619-87D5-47F3FE29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E846E0-FCA4-4B07-8992-F8345A81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A1E263-8218-402A-84A6-E8ECBA9C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06AA14-32E0-40B0-8BDC-7ECC0FB6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68C0F8-B89B-4722-BC05-17BC2114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862CEA-C960-4537-823A-F889AF7C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78052E-386E-4E0F-95B8-D6632837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4BC385-3F73-4AC9-86E6-492F9A1A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4B91F8-5A53-4C6A-8F93-3A9B6556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21A7E1-D24E-4514-A237-0B129285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BE27-6354-47AA-901F-D15B9974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4FC126-3CEB-4BD3-B0A2-65D55669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FC7EE4-092E-49DB-B310-259A5361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F4F48D-5661-4868-ACE5-F7E9B952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79091C-FCB7-4A75-B073-3471ED16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4E807D-32F5-43B4-B9D5-E0A3BD95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CC9267-FA9E-45D4-AE7C-AD49574A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49EAAC-196D-4E81-B4D9-8F8977A0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769854-99E8-4651-AF4A-1081DBF6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5D6B6A-1929-4302-8502-C23E89F7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72DE7B-326B-4946-8EEB-2061A47E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22CF-A050-4B26-8100-D20B779B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4D3EE9-436A-4548-A996-B14D3702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FD6F01-D0F7-481E-8A9C-87A5B217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8C3CF7-4BE9-4893-B321-E8144F2C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EC7E9A-5F71-4885-9452-CEFD2607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1B2B69-6A34-4AB9-A870-F37542A2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399B18-CD3A-4FA2-A207-EBD6FA2E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F19CB2-ED3D-49BE-845B-AFA75A64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E0F386-DD67-4603-AE75-0131B56A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20E539-C42E-4BF8-86B0-F22AB815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2A5785-8665-44CB-8C7D-92A91D09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AD76-455C-4105-837B-F7F1EE99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22F021-2C3E-49D1-9A32-35322484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13442B-70B5-48C1-96DD-62F04DFD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262111-8F4E-4C4F-A8D5-DC67BE3E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A935A8-BE34-48C7-B909-C5F07DB0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73CBA7-BEA7-4DC1-B1D0-23C2C8A3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31D772-35D1-4776-944E-6D534540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0799F9-63DF-49A6-95D7-DFF0BF16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647153-015A-48FE-82B7-A61022E8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B1AE6B-139B-49A0-93DF-A2939C94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AD7A601-E3A0-4115-935F-63B93067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23C6-9B52-4CFD-9585-9793A4B2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B7DA3FA-3979-4ADC-9E2E-085D6B78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41F1836-6708-4FE2-A9E0-5F2FC63F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174D2FB-073D-4C8E-A597-3EEA9EF2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B735E8F-60CA-41BF-BAA6-48545760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59C1EAA-DEB4-4035-926B-E55A6068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0C960D8-D6A4-4135-B782-77993D34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A0F2223-68FA-41C7-ADBF-7ABCB968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1F80A83-9DE7-4596-B03C-EDB24D6C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7540200-5120-4254-9901-37C01531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C402E66-5069-4026-B6AF-77D10907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4608-8BFE-41A9-B99B-A9690D7A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426E0AB-8465-4499-AF06-58ADBE3C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D96A231-2ABE-4839-8062-CB2C60AD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AC2CAE0-5B69-414A-BD7E-DA2A1A5E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72F6C98-24DD-428D-962A-20C1FB20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9B65955-BC5A-4332-A185-D13D8128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F92DF87-A509-473A-ADAF-F384D323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AC493DD-D6E9-40BF-90C4-EA78C726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93953CB-2EDB-4E4F-B0AD-EBFBA5A6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5B7DF4B-D364-4F19-825B-45C340DA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E6724DC-1DC5-47CF-B692-B027A6F0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60E1-5327-4EB0-8A8D-BBE5B467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B0728AE-282D-428C-B216-274F5FFC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74986A2-200C-47BF-B214-75D8F1F8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16B9A84-801D-4071-9621-5661E920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E7DE66-7213-4C6D-A647-F9572F72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158D53-40A9-4C87-BE94-7487F5AD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1A89A0-6913-460F-BCCA-5DD258DA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4542C3-A2ED-46D6-B233-A219061A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7FCE78-3F0F-437A-83C8-9BEF9215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A767D5-F137-45D2-B273-F2E6EBFA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AD1D7A-C927-4B7D-8ECD-CF868A80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D41A-D577-4F95-8D13-7AE1A867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F17C04-1C80-41D8-AD65-9C945F2F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956FF6-CA48-447A-BC22-FA96C1D1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5634B3-D285-43B2-80DB-92F0682A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BB46E3-B03F-41D5-9EF4-BBD0E029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60A963-B930-46F5-90DF-05D943A2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06504A-B067-4B74-8BB5-260441CE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28CCA2-A9D7-4A0E-AB63-4B2542C7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EC2F21-EF55-479E-A0F2-390CB452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1AFD0C-4484-4E8F-99F9-A9E03ACF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76BEB5-6459-4AB7-A313-55C98B13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C1D6-0E1D-4DC4-9918-86F2F825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F637A4-CF99-4DA6-8FC6-7B558728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7CAD63-21DC-4256-A989-EAFFDA90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0E7303-9236-4093-8538-68A27017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54D726-5DA8-46B6-801A-478B559A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B13D5A-A65F-4BF3-8B4D-DDF3ED9A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BA8A8A-D9F5-4625-AE94-08739625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5CE660-F08A-45EA-8790-FEB10249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BA9E-DCF1-48C0-AC62-B1014FCF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FF88-5CBA-4221-9BDA-2A74DA26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199E-E6CA-4A80-BE0A-AEB5694B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6A490-5510-4BC0-803B-4A2F0FF7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F97F7-F329-4E64-9B3D-9EEB46BD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A7F34-BA32-4361-AF48-97E2FFEF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24A64-3AD9-4FB8-9EA4-10C15939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79426-CB6E-44E0-A5E6-CC1A492B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B9988-32A7-45FE-8F3F-5B16CADC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7ADA7-411F-424B-AD0D-58BCCEC4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D81FD-7166-4E6C-9B36-9E260C23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A0D58-9F57-46E7-B396-13FECED3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528E9-0DAD-4C3C-AB98-66069D62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C02CE-C28D-4FF9-93CE-7EF355A0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CF388-5B4E-4084-9BC8-231E960A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64480-6DFC-4E9A-901A-FD49964E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B1C7C-E028-4F0E-86A8-241CF1EC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8DD9D-37F4-48D2-B651-0D8E1AA4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A8B5B-3E4C-40DC-ADEB-ACD045EE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769D0-7CAF-4AA7-8F85-5A3F46C5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2719D-74A8-43D1-9204-D0E915E6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E2A58-B59A-46F7-B1CE-AA5B9BD5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57134-CDD7-4F9B-B776-10E453CE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BFC4E-B223-448C-ADAB-8A05D828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0E786-9992-40B3-A4C3-E3892F08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DB31C-D5E5-4A86-8524-8FF6FB60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C2719-B6CB-45CC-B4EA-9D8AD7B3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B170E-3311-4496-8A8C-D5AB518A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DE13D-0B8F-4B9B-A0F0-4CA7BEE2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199DE-90DB-4F7E-9039-992C4019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C669D-2343-47EA-B020-DF385BF8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A9DDB-CF2A-4C7F-8DB9-6E61B4B8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BD9D8-67DE-49A0-8A91-8555100F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D5E0B-DE08-4F92-A14A-A038DE36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2A7A2-ECEC-4276-B6F5-B4032799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F81C9-01A0-4512-A820-5E56D247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3FB36-6B5C-4FC3-B949-73FDF59C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CE3F5-7BA1-42AA-80CC-11D7B3F5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CFF97-230A-40F1-BC69-793DAD1A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56981-6B86-4C0F-B033-9DDE0917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327BC-3D11-4E42-8E74-BE1CFF6A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2213F-5791-4B6D-B4C8-B5736BA8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987EB-B33E-48E7-9225-28179F80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8E2EC-6552-4852-AF05-97DBE23B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C00FF-AB6D-42C6-907F-38399BA8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F2D04-47E8-4617-A9D0-AA36E825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87B4A-BAA7-44BB-B556-A2381645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4BACE-BC9D-43E2-A7EA-64C16869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B1A7E-FF3F-489F-B655-EE2F0A1D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7EABF-0AF4-41E3-8910-7595F6CA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9D67E-319F-4654-AEE6-9CCD4A92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13FEE-87D0-4B51-81CD-5278D19A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E2159-1E85-4374-9B4D-05C0D537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2B1FA-A603-4286-A50B-219D9D95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6AEC5-6BEA-4EC0-8B66-B34524DF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24B59-D9C3-4402-81DC-95EE03D2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2E6EA-CBAC-4937-8623-0E3C26F6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7A1B7-B1E5-42A2-BE22-051AB90A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1BE5B-4F40-4B27-A524-5D48750A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C924D-6FF7-4920-B685-4B2D6144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0539D-1D5C-4838-BF03-FD471A48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DCC8C-D86D-436E-9407-0E394256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E345A-15C9-4632-8920-BB949A7F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85BD4-FD24-494D-94CF-F0D32E55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8B94F-147D-45F8-B0CA-C88E2134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27C11-82E5-4149-8333-620E474A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2B6B-ADE7-440E-AFF8-E610DD0EAE6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FE00-2FE9-4123-B6A9-39C3CD0167D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39C1-8EA3-457D-8680-72F2597BC93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7848-4303-41C9-9D6F-8456B81BDEB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3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CAFC-8D49-4613-A27C-B975D1ADED1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4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41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4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2BEC-53F9-44CE-89BD-BD17E6DBAC8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4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4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9BFB-6FA7-46F1-95DE-463EFFC3A7E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4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4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4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CB75-0402-4A14-963C-2078758E93D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904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49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sldNum" idx="50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CB1E-3A1C-4EFC-A116-E2DB98783FD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ftr" idx="51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4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5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5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5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0190-325F-42DF-95CA-61F89500E6D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62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09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B9E8-4972-4899-B161-6A5324B863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5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sldNum" idx="5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64D0-6AED-4BDC-ACCA-FF49366355F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ftr" idx="5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3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dt" idx="5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ftr" idx="5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sldNum" idx="60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44C6-21C8-46A4-99F6-D36AE03CA24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80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dt" idx="6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6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 type="sldNum" idx="63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AAEA-AD59-4D99-BCDB-E4CB5AB9810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2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6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6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6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E55F-5A29-425B-95BC-40E531F52D3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7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dt" idx="6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ftr" idx="6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sldNum" idx="6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6D6E-C6B1-47E2-AB81-6899C86EB22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dt" idx="7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 type="sldNum" idx="7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F9D5-C4AC-45E6-8039-B42B45C6699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 type="ftr" idx="7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dt" idx="73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sldNum" idx="74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424E-4C12-4BD3-AE61-2AF5187F273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 type="ftr" idx="75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29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7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7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7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64A3-4A1E-4D68-AD5A-5F7565431CE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4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 type="dt" idx="7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 type="ftr" idx="8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 type="sldNum" idx="8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5DAD-9E84-40C0-9EE0-74C39FBD138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33A7-8550-411E-872F-77982C391C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6AC8-332D-42E0-8035-6B71D381A8F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5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ftr" idx="1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1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CADB-827D-4D33-B760-D4E067C0266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304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351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3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4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5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A2B7-F2EE-485E-9086-14E7A449C0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F63A-00BC-4661-AB92-C4C4A18A225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9696-19ED-4714-A003-4F7C547F577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508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3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2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454B-0C27-460F-B0E5-F958BC30B72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13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png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e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WordArt 4"/>
          <p:cNvSpPr txBox="1"/>
          <p:nvPr/>
        </p:nvSpPr>
        <p:spPr>
          <a:xfrm>
            <a:off x="609480" y="914400"/>
            <a:ext cx="80773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ТИ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6" name="Text Box 5"/>
          <p:cNvSpPr/>
          <p:nvPr/>
        </p:nvSpPr>
        <p:spPr>
          <a:xfrm>
            <a:off x="1752480" y="3352680"/>
            <a:ext cx="5867640" cy="398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b69249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37f5b"/>
                </a:solidFill>
                <a:latin typeface="Arial"/>
              </a:rPr>
              <a:t>Учебно-методическое пособие для студ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Прямоугольник 3"/>
          <p:cNvSpPr/>
          <p:nvPr/>
        </p:nvSpPr>
        <p:spPr>
          <a:xfrm>
            <a:off x="2362320" y="4876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Преподаватель ГОУ СП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«Благовещенский медицинский техникум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Качанова Ирина Алексе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Box 5"/>
          <p:cNvSpPr/>
          <p:nvPr/>
        </p:nvSpPr>
        <p:spPr>
          <a:xfrm>
            <a:off x="4343400" y="58672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c000"/>
                </a:solidFill>
                <a:latin typeface="바탕"/>
                <a:ea typeface="바탕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 txBox="1"/>
          <p:nvPr/>
        </p:nvSpPr>
        <p:spPr>
          <a:xfrm>
            <a:off x="228240" y="11430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чина, измеряемая количеством энергии, которую излучает источник света за единицу времени называется </a:t>
            </a:r>
            <a:r>
              <a:rPr b="1" lang="ru-RU" sz="3200" spc="-1" strike="noStrike">
                <a:solidFill>
                  <a:srgbClr val="be3802"/>
                </a:solidFill>
                <a:latin typeface="Arial"/>
              </a:rPr>
              <a:t>световым пото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Прямоугольник 3"/>
          <p:cNvSpPr/>
          <p:nvPr/>
        </p:nvSpPr>
        <p:spPr>
          <a:xfrm>
            <a:off x="2743200" y="228600"/>
            <a:ext cx="38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ветовой пот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4" name="Object 3"/>
              <p:cNvSpPr txBox="1"/>
              <p:nvPr/>
            </p:nvSpPr>
            <p:spPr>
              <a:xfrm>
                <a:off x="990720" y="3429000"/>
                <a:ext cx="175248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ε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465" name="Прямая со стрелкой 9"/>
          <p:cNvCxnSpPr/>
          <p:nvPr/>
        </p:nvCxnSpPr>
        <p:spPr>
          <a:xfrm flipH="1">
            <a:off x="1218960" y="4419360"/>
            <a:ext cx="216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6" name="Прямая со стрелкой 11"/>
          <p:cNvCxnSpPr/>
          <p:nvPr/>
        </p:nvCxnSpPr>
        <p:spPr>
          <a:xfrm>
            <a:off x="2590920" y="449532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7" name="Прямая со стрелкой 12"/>
          <p:cNvCxnSpPr/>
          <p:nvPr/>
        </p:nvCxnSpPr>
        <p:spPr>
          <a:xfrm>
            <a:off x="2819160" y="3809520"/>
            <a:ext cx="1143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68" name="Прямоугольник 19"/>
          <p:cNvSpPr/>
          <p:nvPr/>
        </p:nvSpPr>
        <p:spPr>
          <a:xfrm>
            <a:off x="4205520" y="4648320"/>
            <a:ext cx="28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м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, мин., час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Прямоугольник 20"/>
          <p:cNvSpPr/>
          <p:nvPr/>
        </p:nvSpPr>
        <p:spPr>
          <a:xfrm>
            <a:off x="4267080" y="35812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энерг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Прямоугольник 21"/>
          <p:cNvSpPr/>
          <p:nvPr/>
        </p:nvSpPr>
        <p:spPr>
          <a:xfrm>
            <a:off x="315720" y="563868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 txBox="1"/>
          <p:nvPr/>
        </p:nvSpPr>
        <p:spPr>
          <a:xfrm>
            <a:off x="228600" y="990720"/>
            <a:ext cx="58672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светового потока, ограниченная конической или циклической поверхностью, называетс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товым пуч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Прямоугольник 3"/>
          <p:cNvSpPr/>
          <p:nvPr/>
        </p:nvSpPr>
        <p:spPr>
          <a:xfrm>
            <a:off x="927720" y="228600"/>
            <a:ext cx="740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ветовой пучок. Световой луч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3" name="Picture 2" descr="Картинка 17 из 5169"/>
          <p:cNvPicPr/>
          <p:nvPr/>
        </p:nvPicPr>
        <p:blipFill>
          <a:blip r:embed="rId1"/>
          <a:stretch/>
        </p:blipFill>
        <p:spPr>
          <a:xfrm>
            <a:off x="5791320" y="838080"/>
            <a:ext cx="2666880" cy="191160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4" descr="Картинка 38 из 24455"/>
          <p:cNvPicPr/>
          <p:nvPr/>
        </p:nvPicPr>
        <p:blipFill>
          <a:blip r:embed="rId2"/>
          <a:stretch/>
        </p:blipFill>
        <p:spPr>
          <a:xfrm>
            <a:off x="304920" y="2971800"/>
            <a:ext cx="2666880" cy="1785960"/>
          </a:xfrm>
          <a:prstGeom prst="rect">
            <a:avLst/>
          </a:prstGeom>
          <a:ln w="0">
            <a:noFill/>
          </a:ln>
        </p:spPr>
      </p:pic>
      <p:sp>
        <p:nvSpPr>
          <p:cNvPr id="1475" name="Прямоугольник 6"/>
          <p:cNvSpPr/>
          <p:nvPr/>
        </p:nvSpPr>
        <p:spPr>
          <a:xfrm>
            <a:off x="3276720" y="3048120"/>
            <a:ext cx="54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ветовой луч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линия, по направлению которой распространяется световой пуч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Прямоугольник 7"/>
          <p:cNvSpPr/>
          <p:nvPr/>
        </p:nvSpPr>
        <p:spPr>
          <a:xfrm>
            <a:off x="239040" y="4952880"/>
            <a:ext cx="8634240" cy="581400"/>
          </a:xfrm>
          <a:prstGeom prst="rect">
            <a:avLst/>
          </a:prstGeom>
          <a:solidFill>
            <a:srgbClr val="cbe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Световой пучок – это поток световой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Прямоугольник 8"/>
          <p:cNvSpPr/>
          <p:nvPr/>
        </p:nvSpPr>
        <p:spPr>
          <a:xfrm>
            <a:off x="228600" y="5638680"/>
            <a:ext cx="8763120" cy="10688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Световой луч – это направлени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по которому распространяется энер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 txBox="1"/>
          <p:nvPr/>
        </p:nvSpPr>
        <p:spPr>
          <a:xfrm>
            <a:off x="228240" y="990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пространства, ограниченная некоторой конической поверхностью, называется телесным углом          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9" name="Прямоугольник 3"/>
          <p:cNvSpPr/>
          <p:nvPr/>
        </p:nvSpPr>
        <p:spPr>
          <a:xfrm>
            <a:off x="2669400" y="228600"/>
            <a:ext cx="361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Телесный уго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0" name="Picture 2" descr="http://www.bymath.net/studyguide/geo/sec/geo20.gif"/>
          <p:cNvPicPr/>
          <p:nvPr/>
        </p:nvPicPr>
        <p:blipFill>
          <a:blip r:embed="rId1"/>
          <a:srcRect l="2862" t="0" r="14282" b="3882"/>
          <a:stretch/>
        </p:blipFill>
        <p:spPr>
          <a:xfrm>
            <a:off x="533520" y="1828800"/>
            <a:ext cx="1676160" cy="1792440"/>
          </a:xfrm>
          <a:prstGeom prst="rect">
            <a:avLst/>
          </a:prstGeom>
          <a:ln w="0">
            <a:noFill/>
          </a:ln>
        </p:spPr>
      </p:pic>
      <p:sp>
        <p:nvSpPr>
          <p:cNvPr id="1481" name="Прямоугольник 5"/>
          <p:cNvSpPr/>
          <p:nvPr/>
        </p:nvSpPr>
        <p:spPr>
          <a:xfrm>
            <a:off x="2362320" y="21337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есный угол измеряется частью сферической поверхности  ABCD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3" name="Object 3"/>
              <p:cNvSpPr txBox="1"/>
              <p:nvPr/>
            </p:nvSpPr>
            <p:spPr>
              <a:xfrm>
                <a:off x="3581280" y="3733920"/>
                <a:ext cx="183852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Object 5"/>
              <p:cNvSpPr txBox="1"/>
              <p:nvPr/>
            </p:nvSpPr>
            <p:spPr>
              <a:xfrm>
                <a:off x="6400800" y="1219320"/>
                <a:ext cx="8002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85" name="Прямая со стрелкой 12"/>
          <p:cNvCxnSpPr/>
          <p:nvPr/>
        </p:nvCxnSpPr>
        <p:spPr>
          <a:xfrm>
            <a:off x="5409720" y="411480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6" name="Прямая со стрелкой 13"/>
          <p:cNvCxnSpPr/>
          <p:nvPr/>
        </p:nvCxnSpPr>
        <p:spPr>
          <a:xfrm flipH="1" flipV="1">
            <a:off x="2894760" y="457164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7" name="Прямая со стрелкой 14"/>
          <p:cNvCxnSpPr/>
          <p:nvPr/>
        </p:nvCxnSpPr>
        <p:spPr>
          <a:xfrm>
            <a:off x="5257440" y="49525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88" name="TextBox 17"/>
          <p:cNvSpPr/>
          <p:nvPr/>
        </p:nvSpPr>
        <p:spPr>
          <a:xfrm>
            <a:off x="6248520" y="37339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сфер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Box 18"/>
          <p:cNvSpPr/>
          <p:nvPr/>
        </p:nvSpPr>
        <p:spPr>
          <a:xfrm>
            <a:off x="60958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диус сфер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Прямоугольник 19"/>
          <p:cNvSpPr/>
          <p:nvPr/>
        </p:nvSpPr>
        <p:spPr>
          <a:xfrm>
            <a:off x="152280" y="4114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ерадиа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2" name="Object 7"/>
              <p:cNvSpPr txBox="1"/>
              <p:nvPr/>
            </p:nvSpPr>
            <p:spPr>
              <a:xfrm>
                <a:off x="2743200" y="5638680"/>
                <a:ext cx="253368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 txBox="1"/>
          <p:nvPr/>
        </p:nvSpPr>
        <p:spPr>
          <a:xfrm>
            <a:off x="228600" y="837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, измеряемая количеством энергии, которое излучается источником света за единицу времени внутри телесного угла, называ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лой свет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Прямоугольник 3"/>
          <p:cNvSpPr/>
          <p:nvPr/>
        </p:nvSpPr>
        <p:spPr>
          <a:xfrm>
            <a:off x="1406520" y="152280"/>
            <a:ext cx="634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ила света. Освещен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6" name="Object 1"/>
              <p:cNvSpPr txBox="1"/>
              <p:nvPr/>
            </p:nvSpPr>
            <p:spPr>
              <a:xfrm>
                <a:off x="1676520" y="2057400"/>
                <a:ext cx="1066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497" name="Прямая со стрелкой 6"/>
          <p:cNvCxnSpPr/>
          <p:nvPr/>
        </p:nvCxnSpPr>
        <p:spPr>
          <a:xfrm>
            <a:off x="3048120" y="2286000"/>
            <a:ext cx="838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8" name="Прямая со стрелкой 9"/>
          <p:cNvCxnSpPr/>
          <p:nvPr/>
        </p:nvCxnSpPr>
        <p:spPr>
          <a:xfrm flipH="1">
            <a:off x="1751760" y="2743200"/>
            <a:ext cx="25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9" name="Прямая со стрелкой 10"/>
          <p:cNvCxnSpPr/>
          <p:nvPr/>
        </p:nvCxnSpPr>
        <p:spPr>
          <a:xfrm>
            <a:off x="2666520" y="2819160"/>
            <a:ext cx="114372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0" name="Прямоугольник 13"/>
          <p:cNvSpPr/>
          <p:nvPr/>
        </p:nvSpPr>
        <p:spPr>
          <a:xfrm>
            <a:off x="4125600" y="21337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Прямоугольник 17"/>
          <p:cNvSpPr/>
          <p:nvPr/>
        </p:nvSpPr>
        <p:spPr>
          <a:xfrm>
            <a:off x="3962520" y="2971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ерадиа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Прямоугольник 18"/>
          <p:cNvSpPr/>
          <p:nvPr/>
        </p:nvSpPr>
        <p:spPr>
          <a:xfrm>
            <a:off x="165960" y="3276720"/>
            <a:ext cx="34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свет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андела)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Содержимое 2"/>
          <p:cNvSpPr/>
          <p:nvPr/>
        </p:nvSpPr>
        <p:spPr>
          <a:xfrm>
            <a:off x="228600" y="39625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, измеряемая количеством световой энергии, подающей на единицу поверхности тела за одну секунду, называ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вещен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5" name="Object 3"/>
              <p:cNvSpPr txBox="1"/>
              <p:nvPr/>
            </p:nvSpPr>
            <p:spPr>
              <a:xfrm>
                <a:off x="3124080" y="5181480"/>
                <a:ext cx="12193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6" name="Прямоугольник 29"/>
          <p:cNvSpPr/>
          <p:nvPr/>
        </p:nvSpPr>
        <p:spPr>
          <a:xfrm>
            <a:off x="4963680" y="51055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Box 30"/>
          <p:cNvSpPr/>
          <p:nvPr/>
        </p:nvSpPr>
        <p:spPr>
          <a:xfrm>
            <a:off x="4800600" y="5867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поверхност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Прямоугольник 31"/>
          <p:cNvSpPr/>
          <p:nvPr/>
        </p:nvSpPr>
        <p:spPr>
          <a:xfrm>
            <a:off x="169920" y="61722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щен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люк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9" name="Прямая со стрелкой 32"/>
          <p:cNvCxnSpPr/>
          <p:nvPr/>
        </p:nvCxnSpPr>
        <p:spPr>
          <a:xfrm flipH="1">
            <a:off x="2437560" y="5791320"/>
            <a:ext cx="686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0" name="Прямая со стрелкой 33"/>
          <p:cNvCxnSpPr/>
          <p:nvPr/>
        </p:nvCxnSpPr>
        <p:spPr>
          <a:xfrm>
            <a:off x="4343040" y="60955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1" name="Прямая со стрелкой 34"/>
          <p:cNvCxnSpPr/>
          <p:nvPr/>
        </p:nvCxnSpPr>
        <p:spPr>
          <a:xfrm>
            <a:off x="4343040" y="54097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1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1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59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9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79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/>
          </p:nvPr>
        </p:nvSpPr>
        <p:spPr>
          <a:xfrm>
            <a:off x="15192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сохранения зрения и создания нормальных условий труда необходимо поддерживать наиболее благоприятную освещен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тимальные нормы освещенности (л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тонких работ ........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чтения ...................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грубых работ ......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ридорах и на лестницах..........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ходы в помещениях.............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улицах  и площадях.............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 дворах и подъездах.............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ьма специфические требования предъявляются к освещенности операционного поля в хирургии. Падающий на операционное поле свет должен создавать равномерную оптимальную освещенность при минимальном тепловом эффекте, не утомлять врача и не создавать т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этой цели применяются лампы специальной конструкции, так называемые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теневые лам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Arial"/>
              </a:rPr>
              <a:t>Нормы освеще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0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0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500"/>
                            </p:stCondLst>
                            <p:childTnLst>
                              <p:par>
                                <p:cTn id="7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500"/>
                            </p:stCondLst>
                            <p:childTnLst>
                              <p:par>
                                <p:cTn id="7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5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85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2000" fill="hold"/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2000" fill="hold"/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2000" fill="hold"/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2000" fill="hold"/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1515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ru.wikipedia.org ›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Википедия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5terka.com ›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Геометрическая оптик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3dfef"/>
                </a:solidFill>
                <a:uFillTx/>
                <a:latin typeface="Rockwell"/>
              </a:rPr>
              <a:t>images.yandex.ru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›</a:t>
            </a:r>
            <a:r>
              <a:rPr b="1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Яндекс. Картинки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http://www.bymath.net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›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Вся элементарная математик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cc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/>
          </p:nvPr>
        </p:nvSpPr>
        <p:spPr>
          <a:xfrm>
            <a:off x="1828440" y="22856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Оптика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Источники света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Фотометрия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ветовой поток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ветовой пучок. Световой луч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ила света. Освещенность.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Нормы освещенности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390" name="WordArt 4"/>
          <p:cNvSpPr txBox="1"/>
          <p:nvPr/>
        </p:nvSpPr>
        <p:spPr>
          <a:xfrm>
            <a:off x="2362320" y="53352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 txBox="1"/>
          <p:nvPr/>
        </p:nvSpPr>
        <p:spPr>
          <a:xfrm>
            <a:off x="228240" y="990360"/>
            <a:ext cx="8534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здел физики, изучающий световые явления, получил название оптик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от греч. «оптикос» зрительный)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 световые явления обычно называются оптичес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Box 5"/>
          <p:cNvSpPr/>
          <p:nvPr/>
        </p:nvSpPr>
        <p:spPr>
          <a:xfrm>
            <a:off x="228600" y="3429000"/>
            <a:ext cx="861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ветить на вопросы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способы передачи воздействий существуют? Приведите приме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теории по изучению света были выдвинуты и чем они отличалис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называют геометрической оптико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положение геометрической оп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Прямоугольник 6" descr=""/>
          <p:cNvPicPr/>
          <p:nvPr/>
        </p:nvPicPr>
        <p:blipFill>
          <a:blip r:embed="rId1"/>
          <a:stretch/>
        </p:blipFill>
        <p:spPr>
          <a:xfrm>
            <a:off x="3157560" y="19080"/>
            <a:ext cx="2500200" cy="865080"/>
          </a:xfrm>
          <a:prstGeom prst="rect">
            <a:avLst/>
          </a:prstGeom>
          <a:ln w="0">
            <a:noFill/>
          </a:ln>
        </p:spPr>
      </p:pic>
      <p:sp>
        <p:nvSpPr>
          <p:cNvPr id="1394" name="Прямоугольник 8"/>
          <p:cNvSpPr/>
          <p:nvPr/>
        </p:nvSpPr>
        <p:spPr>
          <a:xfrm>
            <a:off x="304920" y="2438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Работа с учебником Физика 11кл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.Я. Мякишев, Б.Б. Буханцев стр. 168 – 17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особы передачи воздейств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нос вещества от источника к приемнику. (ударить по струн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рение состояния среды между телами (без переноса вещества). (две струны поместить рядом и звуковые волны от первой струны дойдя до второй вызовут ее звуч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404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рпускуля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0" y="1142640"/>
            <a:ext cx="4573440" cy="3962520"/>
          </a:xfrm>
          <a:prstGeom prst="rect">
            <a:avLst/>
          </a:prstGeom>
          <a:solidFill>
            <a:srgbClr val="cbe2a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Изучением данной теории занимался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Свет – это поток частиц, идущих от источника во все стороны </a:t>
            </a:r>
            <a:r>
              <a:rPr b="0" lang="ru-RU" sz="20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(перенос вещества</a:t>
            </a:r>
            <a:r>
              <a:rPr b="0" lang="ru-RU" sz="2000" spc="-1" strike="noStrike">
                <a:solidFill>
                  <a:srgbClr val="3333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Почему световые пучки, пересекаются в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39621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н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4572000" y="1142640"/>
            <a:ext cx="4572000" cy="3962520"/>
          </a:xfrm>
          <a:prstGeom prst="rect">
            <a:avLst/>
          </a:prstGeom>
          <a:solidFill>
            <a:srgbClr val="d3d3d9"/>
          </a:solidFill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Изучением данной теории занимался Гюйге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Свет – это волны, распространяющиеся в особой гипотетической среде  - эфире, заполняющем все пространство проникающем внутрь всех 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Прямолинейное распространение и образование те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пускулярная и волновая теории с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Box 7"/>
          <p:cNvSpPr/>
          <p:nvPr/>
        </p:nvSpPr>
        <p:spPr>
          <a:xfrm>
            <a:off x="152280" y="5181480"/>
            <a:ext cx="85345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о второй половин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I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– свет рассматривали как вол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Box 8"/>
          <p:cNvSpPr/>
          <p:nvPr/>
        </p:nvSpPr>
        <p:spPr>
          <a:xfrm>
            <a:off x="152280" y="5657760"/>
            <a:ext cx="8534520" cy="1191240"/>
          </a:xfrm>
          <a:prstGeom prst="rect">
            <a:avLst/>
          </a:prstGeom>
          <a:solidFill>
            <a:srgbClr val="95e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 начал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представления о природе сета изменили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Свет при излучении и поглощении ведет себя подобно потоку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Picture 7" descr="Картинка 2 из 12497"/>
          <p:cNvPicPr/>
          <p:nvPr/>
        </p:nvPicPr>
        <p:blipFill>
          <a:blip r:embed="rId1"/>
          <a:stretch/>
        </p:blipFill>
        <p:spPr>
          <a:xfrm>
            <a:off x="5105520" y="4952880"/>
            <a:ext cx="1676160" cy="1408320"/>
          </a:xfrm>
          <a:prstGeom prst="rect">
            <a:avLst/>
          </a:prstGeom>
          <a:ln w="0">
            <a:noFill/>
          </a:ln>
        </p:spPr>
      </p:pic>
      <p:sp>
        <p:nvSpPr>
          <p:cNvPr id="1405" name="TextBox 1"/>
          <p:cNvSpPr/>
          <p:nvPr/>
        </p:nvSpPr>
        <p:spPr>
          <a:xfrm>
            <a:off x="152280" y="1522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ен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нтерференции и дифрак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было объяснить, ес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ол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Box 2"/>
          <p:cNvSpPr/>
          <p:nvPr/>
        </p:nvSpPr>
        <p:spPr>
          <a:xfrm>
            <a:off x="457200" y="34290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ен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злучения и поглощ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было объяснить, ес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током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Прямоугольник 3"/>
          <p:cNvSpPr/>
          <p:nvPr/>
        </p:nvSpPr>
        <p:spPr>
          <a:xfrm>
            <a:off x="304920" y="11430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нтерференция 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жение световых вол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8" name="Picture 2" descr="D:\Irina\анимашки\физика\interference1.gif"/>
          <p:cNvPicPr/>
          <p:nvPr/>
        </p:nvPicPr>
        <p:blipFill>
          <a:blip r:embed="rId2"/>
          <a:stretch/>
        </p:blipFill>
        <p:spPr>
          <a:xfrm>
            <a:off x="990720" y="1981080"/>
            <a:ext cx="2209680" cy="1325520"/>
          </a:xfrm>
          <a:prstGeom prst="rect">
            <a:avLst/>
          </a:prstGeom>
          <a:ln w="0">
            <a:noFill/>
          </a:ln>
        </p:spPr>
      </p:pic>
      <p:sp>
        <p:nvSpPr>
          <p:cNvPr id="1409" name="Прямоугольник 5"/>
          <p:cNvSpPr/>
          <p:nvPr/>
        </p:nvSpPr>
        <p:spPr>
          <a:xfrm>
            <a:off x="4267080" y="11430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Дифракция свет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гибание малых препятств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0" name="Picture 4" descr="Картинка 66 из 2014"/>
          <p:cNvPicPr/>
          <p:nvPr/>
        </p:nvPicPr>
        <p:blipFill>
          <a:blip r:embed="rId3"/>
          <a:stretch/>
        </p:blipFill>
        <p:spPr>
          <a:xfrm>
            <a:off x="5486400" y="1981080"/>
            <a:ext cx="1981080" cy="136692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5" descr="D:\Irina\анимашки\огонь, свет\солнце.gif"/>
          <p:cNvPicPr/>
          <p:nvPr/>
        </p:nvPicPr>
        <p:blipFill>
          <a:blip r:embed="rId4"/>
          <a:stretch/>
        </p:blipFill>
        <p:spPr>
          <a:xfrm>
            <a:off x="3352680" y="49528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1412" name="Прямоугольник 8"/>
          <p:cNvSpPr/>
          <p:nvPr/>
        </p:nvSpPr>
        <p:spPr>
          <a:xfrm>
            <a:off x="152280" y="449568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злучение све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 испускания и распространения энергии в виде волн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 частиц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Прямоугольник 9"/>
          <p:cNvSpPr/>
          <p:nvPr/>
        </p:nvSpPr>
        <p:spPr>
          <a:xfrm>
            <a:off x="6477120" y="4572000"/>
            <a:ext cx="249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глощение све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интенсивности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лучения света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Picture 2" descr="Картинка 20 из 2227"/>
          <p:cNvPicPr/>
          <p:nvPr/>
        </p:nvPicPr>
        <p:blipFill>
          <a:blip r:embed="rId1"/>
          <a:stretch/>
        </p:blipFill>
        <p:spPr>
          <a:xfrm>
            <a:off x="6858000" y="152280"/>
            <a:ext cx="2171880" cy="164808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248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еометрическая оп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152280" y="9907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л оптики, изучающий законы распространения света в прозрачных средах,                   законы отражения света от зеркальных поверхностей и принципы построения изображений при прохождении света в оптических систе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Прямоугольник 3"/>
          <p:cNvSpPr/>
          <p:nvPr/>
        </p:nvSpPr>
        <p:spPr>
          <a:xfrm>
            <a:off x="762120" y="30481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положение геометрической оп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Box 4"/>
          <p:cNvSpPr/>
          <p:nvPr/>
        </p:nvSpPr>
        <p:spPr>
          <a:xfrm>
            <a:off x="2133720" y="36576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ет распространяется прямолиней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9" name="Picture 3" descr="D:\Irina\анимашки\природа\62.gif"/>
          <p:cNvPicPr/>
          <p:nvPr/>
        </p:nvPicPr>
        <p:blipFill>
          <a:blip r:embed="rId2"/>
          <a:stretch/>
        </p:blipFill>
        <p:spPr>
          <a:xfrm>
            <a:off x="3276720" y="4419720"/>
            <a:ext cx="3085920" cy="209376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4" descr="D:\Irina\анимашки\природа\природа2.gif"/>
          <p:cNvPicPr/>
          <p:nvPr/>
        </p:nvPicPr>
        <p:blipFill>
          <a:blip r:embed="rId3"/>
          <a:stretch/>
        </p:blipFill>
        <p:spPr>
          <a:xfrm>
            <a:off x="228600" y="4343400"/>
            <a:ext cx="2362320" cy="224640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5" descr="D:\Irina\анимашки\природа\природа5.gif"/>
          <p:cNvPicPr/>
          <p:nvPr/>
        </p:nvPicPr>
        <p:blipFill>
          <a:blip r:embed="rId4"/>
          <a:stretch/>
        </p:blipFill>
        <p:spPr>
          <a:xfrm>
            <a:off x="7010280" y="434340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500"/>
                            </p:stCondLst>
                            <p:childTnLst>
                              <p:par>
                                <p:cTn id="2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14"/>
          <p:cNvSpPr/>
          <p:nvPr/>
        </p:nvSpPr>
        <p:spPr>
          <a:xfrm>
            <a:off x="884160" y="2606760"/>
            <a:ext cx="6397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16"/>
          <p:cNvSpPr/>
          <p:nvPr/>
        </p:nvSpPr>
        <p:spPr>
          <a:xfrm>
            <a:off x="884160" y="2606760"/>
            <a:ext cx="2703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18"/>
          <p:cNvSpPr/>
          <p:nvPr/>
        </p:nvSpPr>
        <p:spPr>
          <a:xfrm>
            <a:off x="884160" y="2606760"/>
            <a:ext cx="369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200"/>
          <p:cNvSpPr/>
          <p:nvPr/>
        </p:nvSpPr>
        <p:spPr>
          <a:xfrm>
            <a:off x="304920" y="609480"/>
            <a:ext cx="2819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Times New Roman"/>
              </a:rPr>
              <a:t>Искусственны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202"/>
          <p:cNvSpPr/>
          <p:nvPr/>
        </p:nvSpPr>
        <p:spPr>
          <a:xfrm>
            <a:off x="6248520" y="609480"/>
            <a:ext cx="2733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Times New Roman"/>
              </a:rPr>
              <a:t>Естественные</a:t>
            </a:r>
            <a:r>
              <a:rPr b="0" lang="ru-RU" sz="2800" spc="-1" strike="noStrike">
                <a:solidFill>
                  <a:srgbClr val="db535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db5353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7" name="Группа 35"/>
          <p:cNvGrpSpPr/>
          <p:nvPr/>
        </p:nvGrpSpPr>
        <p:grpSpPr>
          <a:xfrm>
            <a:off x="4952880" y="3581280"/>
            <a:ext cx="1447920" cy="1395360"/>
            <a:chOff x="4952880" y="3581280"/>
            <a:chExt cx="1447920" cy="1395360"/>
          </a:xfrm>
        </p:grpSpPr>
        <p:sp>
          <p:nvSpPr>
            <p:cNvPr id="1428" name="Rectangle 197"/>
            <p:cNvSpPr/>
            <p:nvPr/>
          </p:nvSpPr>
          <p:spPr>
            <a:xfrm>
              <a:off x="4952880" y="45169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звезд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9" name="Picture 203" descr="звезда"/>
            <p:cNvPicPr/>
            <p:nvPr/>
          </p:nvPicPr>
          <p:blipFill>
            <a:blip r:embed="rId1"/>
            <a:stretch/>
          </p:blipFill>
          <p:spPr>
            <a:xfrm>
              <a:off x="5028840" y="3581280"/>
              <a:ext cx="937080" cy="90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0" name="Группа 34"/>
          <p:cNvGrpSpPr/>
          <p:nvPr/>
        </p:nvGrpSpPr>
        <p:grpSpPr>
          <a:xfrm>
            <a:off x="2819520" y="3581280"/>
            <a:ext cx="1295280" cy="1788840"/>
            <a:chOff x="2819520" y="3581280"/>
            <a:chExt cx="1295280" cy="1788840"/>
          </a:xfrm>
        </p:grpSpPr>
        <p:sp>
          <p:nvSpPr>
            <p:cNvPr id="1431" name="Rectangle 198"/>
            <p:cNvSpPr/>
            <p:nvPr/>
          </p:nvSpPr>
          <p:spPr>
            <a:xfrm>
              <a:off x="2928240" y="491040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ком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2" name="Picture 204" descr="комета"/>
            <p:cNvPicPr/>
            <p:nvPr/>
          </p:nvPicPr>
          <p:blipFill>
            <a:blip r:embed="rId2"/>
            <a:stretch/>
          </p:blipFill>
          <p:spPr>
            <a:xfrm>
              <a:off x="2819520" y="3581280"/>
              <a:ext cx="1295280" cy="139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3" name="Группа 33"/>
          <p:cNvGrpSpPr/>
          <p:nvPr/>
        </p:nvGrpSpPr>
        <p:grpSpPr>
          <a:xfrm>
            <a:off x="5034240" y="5029200"/>
            <a:ext cx="1137960" cy="1679400"/>
            <a:chOff x="5034240" y="5029200"/>
            <a:chExt cx="1137960" cy="1679400"/>
          </a:xfrm>
        </p:grpSpPr>
        <p:sp>
          <p:nvSpPr>
            <p:cNvPr id="1434" name="Rectangle 196"/>
            <p:cNvSpPr/>
            <p:nvPr/>
          </p:nvSpPr>
          <p:spPr>
            <a:xfrm>
              <a:off x="5034240" y="6248880"/>
              <a:ext cx="112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солнц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5" name="Picture 205" descr="солнце"/>
            <p:cNvPicPr/>
            <p:nvPr/>
          </p:nvPicPr>
          <p:blipFill>
            <a:blip r:embed="rId3"/>
            <a:stretch/>
          </p:blipFill>
          <p:spPr>
            <a:xfrm>
              <a:off x="5105160" y="5029200"/>
              <a:ext cx="106704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6" name="Группа 32"/>
          <p:cNvGrpSpPr/>
          <p:nvPr/>
        </p:nvGrpSpPr>
        <p:grpSpPr>
          <a:xfrm>
            <a:off x="4807800" y="2362320"/>
            <a:ext cx="1179000" cy="1145520"/>
            <a:chOff x="4807800" y="2362320"/>
            <a:chExt cx="1179000" cy="1145520"/>
          </a:xfrm>
        </p:grpSpPr>
        <p:sp>
          <p:nvSpPr>
            <p:cNvPr id="1437" name="Rectangle 195"/>
            <p:cNvSpPr/>
            <p:nvPr/>
          </p:nvSpPr>
          <p:spPr>
            <a:xfrm>
              <a:off x="4807800" y="3048120"/>
              <a:ext cx="117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луч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8" name="Picture 208" descr="лучина"/>
            <p:cNvPicPr/>
            <p:nvPr/>
          </p:nvPicPr>
          <p:blipFill>
            <a:blip r:embed="rId4"/>
            <a:stretch/>
          </p:blipFill>
          <p:spPr>
            <a:xfrm>
              <a:off x="4876560" y="2362320"/>
              <a:ext cx="951840" cy="7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9" name="Группа 36"/>
          <p:cNvGrpSpPr/>
          <p:nvPr/>
        </p:nvGrpSpPr>
        <p:grpSpPr>
          <a:xfrm>
            <a:off x="3124080" y="2362320"/>
            <a:ext cx="1046160" cy="1298160"/>
            <a:chOff x="3124080" y="2362320"/>
            <a:chExt cx="1046160" cy="1298160"/>
          </a:xfrm>
        </p:grpSpPr>
        <p:sp>
          <p:nvSpPr>
            <p:cNvPr id="1440" name="Rectangle 193"/>
            <p:cNvSpPr/>
            <p:nvPr/>
          </p:nvSpPr>
          <p:spPr>
            <a:xfrm>
              <a:off x="3131640" y="3200760"/>
              <a:ext cx="103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ламп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1" name="Picture 209" descr="лампа"/>
            <p:cNvPicPr/>
            <p:nvPr/>
          </p:nvPicPr>
          <p:blipFill>
            <a:blip r:embed="rId5"/>
            <a:stretch/>
          </p:blipFill>
          <p:spPr>
            <a:xfrm>
              <a:off x="3124080" y="2362320"/>
              <a:ext cx="95472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42" name="Прямоугольник 23" descr=""/>
          <p:cNvPicPr/>
          <p:nvPr/>
        </p:nvPicPr>
        <p:blipFill>
          <a:blip r:embed="rId6"/>
          <a:stretch/>
        </p:blipFill>
        <p:spPr>
          <a:xfrm>
            <a:off x="2182680" y="-133200"/>
            <a:ext cx="4638960" cy="865080"/>
          </a:xfrm>
          <a:prstGeom prst="rect">
            <a:avLst/>
          </a:prstGeom>
          <a:ln w="0">
            <a:noFill/>
          </a:ln>
        </p:spPr>
      </p:pic>
      <p:grpSp>
        <p:nvGrpSpPr>
          <p:cNvPr id="1443" name="Группа 30"/>
          <p:cNvGrpSpPr/>
          <p:nvPr/>
        </p:nvGrpSpPr>
        <p:grpSpPr>
          <a:xfrm>
            <a:off x="3125160" y="380880"/>
            <a:ext cx="941040" cy="1908000"/>
            <a:chOff x="3125160" y="380880"/>
            <a:chExt cx="941040" cy="1908000"/>
          </a:xfrm>
        </p:grpSpPr>
        <p:sp>
          <p:nvSpPr>
            <p:cNvPr id="1444" name="Rectangle 194"/>
            <p:cNvSpPr/>
            <p:nvPr/>
          </p:nvSpPr>
          <p:spPr>
            <a:xfrm>
              <a:off x="3125160" y="18291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свеч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5" name="Picture 2" descr="D:\Irina\анимашки\огонь, свет\ogon-212.gif"/>
            <p:cNvPicPr/>
            <p:nvPr/>
          </p:nvPicPr>
          <p:blipFill>
            <a:blip r:embed="rId7"/>
            <a:stretch/>
          </p:blipFill>
          <p:spPr>
            <a:xfrm>
              <a:off x="3276360" y="380880"/>
              <a:ext cx="762120" cy="152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6" name="Группа 29"/>
          <p:cNvGrpSpPr/>
          <p:nvPr/>
        </p:nvGrpSpPr>
        <p:grpSpPr>
          <a:xfrm>
            <a:off x="2438280" y="5405400"/>
            <a:ext cx="2743200" cy="1450440"/>
            <a:chOff x="2438280" y="5405400"/>
            <a:chExt cx="2743200" cy="1450440"/>
          </a:xfrm>
        </p:grpSpPr>
        <p:sp>
          <p:nvSpPr>
            <p:cNvPr id="1447" name="Rectangle 149"/>
            <p:cNvSpPr/>
            <p:nvPr/>
          </p:nvSpPr>
          <p:spPr>
            <a:xfrm>
              <a:off x="2438280" y="63961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бактерии на рыб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8" name="Picture 3" descr="D:\Irina\анимашки\рыбы\рыбка.gif"/>
            <p:cNvPicPr/>
            <p:nvPr/>
          </p:nvPicPr>
          <p:blipFill>
            <a:blip r:embed="rId8"/>
            <a:stretch/>
          </p:blipFill>
          <p:spPr>
            <a:xfrm>
              <a:off x="2819160" y="5405400"/>
              <a:ext cx="1619280" cy="95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9" name="Группа 31"/>
          <p:cNvGrpSpPr/>
          <p:nvPr/>
        </p:nvGrpSpPr>
        <p:grpSpPr>
          <a:xfrm>
            <a:off x="4648320" y="533520"/>
            <a:ext cx="1371600" cy="1831680"/>
            <a:chOff x="4648320" y="533520"/>
            <a:chExt cx="1371600" cy="1831680"/>
          </a:xfrm>
        </p:grpSpPr>
        <p:pic>
          <p:nvPicPr>
            <p:cNvPr id="1450" name="Picture 5" descr="D:\Irina\анимашки\огонь, свет\15.gif"/>
            <p:cNvPicPr/>
            <p:nvPr/>
          </p:nvPicPr>
          <p:blipFill>
            <a:blip r:embed="rId9"/>
            <a:stretch/>
          </p:blipFill>
          <p:spPr>
            <a:xfrm>
              <a:off x="4648320" y="533520"/>
              <a:ext cx="1371600" cy="13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1" name="Rectangle 194"/>
            <p:cNvSpPr/>
            <p:nvPr/>
          </p:nvSpPr>
          <p:spPr>
            <a:xfrm>
              <a:off x="4805280" y="1905480"/>
              <a:ext cx="109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косте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2" name="Прямоугольник 37" descr=""/>
          <p:cNvPicPr/>
          <p:nvPr/>
        </p:nvPicPr>
        <p:blipFill>
          <a:blip r:embed="rId10"/>
          <a:stretch/>
        </p:blipFill>
        <p:spPr>
          <a:xfrm>
            <a:off x="3932280" y="890640"/>
            <a:ext cx="17622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8000"/>
                            </p:stCondLst>
                            <p:childTnLst>
                              <p:par>
                                <p:cTn id="2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07407E-006 C -0.00417 0.01481 -0.0092 0.01713 -0.01528 0.025 C -0.0191 0.02963 -0.02274 0.03657 -0.02639 0.04143 C -0.03576 0.05347 -0.02361 0.03472 -0.03281 0.04699 C -0.03472 0.04953 -0.0375 0.05601 -0.03941 0.05787 C -0.04931 0.06689 -0.06094 0.07129 -0.07101 0.07476 C -0.07674 0.07916 -0.08247 0.08263 -0.08854 0.08564 C -0.09358 0.09467 -0.10556 0.10208 -0.11129 0.10254 C -0.14219 0.10532 -0.17153 0.10532 -0.20156 0.10532 E">
                                      <p:cBhvr>
                                        <p:cTn id="331" dur="2000" fill="hold"/>
                                        <p:tgtEl>
                                          <p:spTgt spid="1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C -0.00364 0.00093 -0.00694 0.00139 -0.00989 0.00324 C -0.02847 0.01412 -0.00416 0.00463 -0.01996 0.01019 C -0.02395 0.01459 -0.02934 0.0176 -0.03316 0.02246 C -0.03455 0.02431 -0.03524 0.02732 -0.03645 0.0294 C -0.04149 0.03658 -0.04722 0.04213 -0.05451 0.04676 C -0.06458 0.0625 -0.04757 0.03866 -0.06753 0.05556 C -0.08541 0.07084 -0.06336 0.06366 -0.08246 0.06783 C -0.08819 0.07685 -0.09652 0.0831 -0.10364 0.09074 C -0.12378 0.11204 -0.09479 0.08357 -0.11198 0.10463 C -0.11371 0.10672 -0.11666 0.10764 -0.11875 0.10972 C -0.12187 0.11297 -0.12378 0.1169 -0.12673 0.12014 C -0.13073 0.12894 -0.14027 0.14329 -0.14652 0.15 C -0.15104 0.1551 -0.16128 0.15741 -0.16632 0.16042 C -0.17343 0.16505 -0.18107 0.17292 -0.18784 0.17801 C -0.19878 0.18704 -0.21076 0.19607 -0.22222 0.20417 C -0.22604 0.20718 -0.22847 0.21158 -0.23194 0.21459 C -0.2342 0.21644 -0.24461 0.22084 -0.24705 0.22176 C -0.2559 0.23542 -0.27552 0.23542 -0.28958 0.23889 C -0.30191 0.24977 -0.29635 0.2507 -0.3125 0.25301 C -0.34705 0.26644 -0.28472 0.26042 -0.38993 0.25486 C -0.40555 0.24954 -0.43402 0.23773 -0.45069 0.2375 C -0.46736 0.23681 -0.48368 0.2375 -0.5 0.2375 E">
                                      <p:cBhvr>
                                        <p:cTn id="335" dur="2000" fill="hold"/>
                                        <p:tgtEl>
                                          <p:spTgt spid="1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98 0.01736 C -0.07153 0.02477 -0.06997 0.02917 -0.07414 0.03611 C -0.07587 0.03889 -0.07796 0.04051 -0.07969 0.04282 C -0.08056 0.04398 -0.08247 0.0463 -0.08247 0.04653 C -0.08473 0.05509 -0.08785 0.06088 -0.09063 0.06875 C -0.09184 0.07732 -0.09375 0.08634 -0.09705 0.09306 C -0.09896 0.10857 -0.10608 0.11458 -0.11059 0.12708 C -0.11858 0.14884 -0.12535 0.17037 -0.13612 0.1875 C -0.13959 0.19282 -0.13993 0.20023 -0.14428 0.20301 C -0.15452 0.22222 -0.16771 0.22639 -0.1816 0.2287 C -0.19792 0.23866 -0.17257 0.2338 -0.21598 0.2338 E">
                                      <p:cBhvr>
                                        <p:cTn id="339" dur="2000" fill="hold"/>
                                        <p:tgtEl>
                                          <p:spTgt spid="1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023 C -0.00781 -0.00301 -0.01372 0.0037 -0.02118 0.00671 C -0.03212 0.01852 -0.04653 0.02268 -0.05834 0.03287 C -0.07049 0.04329 -0.06962 0.04745 -0.08577 0.05208 C -0.09688 0.06412 -0.08247 0.04977 -0.10209 0.06273 C -0.10347 0.06389 -0.1309 0.08565 -0.13403 0.08889 C -0.1408 0.09606 -0.14688 0.10278 -0.15347 0.10972 C -0.15538 0.1118 -0.1559 0.11528 -0.15816 0.1169 C -0.16059 0.11852 -0.16372 0.11805 -0.16632 0.11852 C -0.17292 0.12963 -0.17813 0.13218 -0.18733 0.1412 C -0.19393 0.14768 -0.19531 0.15278 -0.20347 0.15694 C -0.20625 0.16018 -0.21025 0.16227 -0.21302 0.16574 C -0.21754 0.1713 -0.21927 0.1794 -0.22431 0.18495 C -0.22795 0.18889 -0.23299 0.1919 -0.23542 0.19699 C -0.23906 0.20509 -0.24288 0.21111 -0.25 0.2162 C -0.25851 0.23055 -0.24705 0.21319 -0.25955 0.225 C -0.26163 0.22685 -0.2625 0.23009 -0.26459 0.23218 C -0.26823 0.23565 -0.27917 0.24236 -0.28368 0.24421 C -0.29045 0.25463 -0.28281 0.24537 -0.29531 0.25116 C -0.29775 0.25255 -0.29931 0.25486 -0.30156 0.25625 C -0.30295 0.25741 -0.30486 0.25764 -0.30643 0.2581 C -0.31233 0.26759 -0.31979 0.2743 -0.32917 0.27893 C -0.34254 0.29375 -0.36406 0.3037 -0.38056 0.31412 C -0.38316 0.31574 -0.38646 0.3169 -0.38872 0.31921 C -0.39393 0.325 -0.4 0.33403 -0.40643 0.33843 C -0.41077 0.3456 -0.41476 0.35231 -0.4191 0.35949 C -0.42188 0.36366 -0.42726 0.37176 -0.42726 0.37199 C -0.42813 0.37569 -0.42952 0.38264 -0.43212 0.38565 C -0.43368 0.38773 -0.43681 0.38889 -0.43872 0.39074 C -0.45243 0.40741 -0.44202 0.40278 -0.45295 0.40648 C -0.4632 0.41389 -0.46372 0.41574 -0.47084 0.42593 C -0.47188 0.42917 -0.47292 0.43588 -0.47709 0.43634 C -0.49271 0.43866 -0.52361 0.43796 -0.52361 0.43819 E">
                                      <p:cBhvr>
                                        <p:cTn id="343" dur="2000" fill="hold"/>
                                        <p:tgtEl>
                                          <p:spTgt spid="1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5 0.06111 C 0.09375 0.05093 0.12274 0.03819 0.15521 0.03565 C 0.16788 0.03287 0.18073 0.03333 0.1934 0.02963 C 0.1993 0.02824 0.20451 0.02407 0.21007 0.02176 C 0.22152 0.01736 0.23333 0.01412 0.24496 0.01019 C 0.24878 0.0088 0.25659 0.00625 0.25659 0.00671 C 0.2717 -0.0044 0.28767 -0.02153 0.3033 -0.02894 C 0.31701 -0.04259 0.30937 -0.03611 0.32639 -0.04792 C 0.33524 -0.05463 0.34791 -0.07338 0.34791 -0.07315 C 0.35364 -0.08704 0.36076 -0.10093 0.36632 -0.11458 C 0.37257 -0.13125 0.3743 -0.14097 0.38437 -0.15556 C 0.39062 -0.17315 0.3835 -0.1588 0.39618 -0.17106 C 0.40086 -0.17593 0.40468 -0.18148 0.4092 -0.18657 C 0.41389 -0.1919 0.41996 -0.19491 0.4243 -0.2 C 0.43385 -0.21134 0.43975 -0.22431 0.44913 -0.23519 C 0.45295 -0.24815 0.44791 -0.2338 0.45746 -0.24907 C 0.4651 -0.26134 0.46979 -0.275 0.47899 -0.28611 C 0.48385 -0.30648 0.49757 -0.32292 0.50885 -0.33866 C 0.51475 -0.3463 0.51146 -0.34491 0.51562 -0.35625 C 0.51753 -0.36065 0.52118 -0.36458 0.52396 -0.36782 C 0.52396 -0.36759 0.52725 -0.38333 0.52725 -0.36782 C 0.52725 -0.35116 0.52205 -0.34421 0.52916 -0.35625 C 0.52708 -0.3625 0.52916 -0.36204 0.52552 -0.36204 E">
                                      <p:cBhvr>
                                        <p:cTn id="347" dur="2000" fill="hold"/>
                                        <p:tgtEl>
                                          <p:spTgt spid="1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 -0.1206 C 0.03299 -0.3206 -0.01996 -0.11898 0.17118 -0.23657 C 0.17379 -0.23773 0.1757 -0.26944 0.175 -0.26481 E">
                                      <p:cBhvr>
                                        <p:cTn id="351" dur="2000" fill="hold"/>
                                        <p:tgtEl>
                                          <p:spTgt spid="1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10509 C 0.01302 -0.11227 0.02396 -0.12176 0.03836 -0.12477 C 0.06423 -0.14004 0.09392 -0.14653 0.12152 -0.14954 C 0.13941 -0.15671 0.15729 -0.16597 0.175 -0.16852 C 0.18281 -0.17592 0.18715 -0.17963 0.19583 -0.18194 C 0.20573 -0.1956 0.19583 -0.18518 0.21267 -0.19143 C 0.21423 -0.1919 0.2151 -0.19421 0.21684 -0.1956 C 0.23559 -0.20903 0.2184 -0.19606 0.23107 -0.20278 C 0.24461 -0.20995 0.25521 -0.22477 0.26857 -0.2331 C 0.27656 -0.24467 0.2908 -0.24606 0.30104 -0.25254 C 0.30677 -0.26481 0.29965 -0.25254 0.31041 -0.26018 C 0.31215 -0.26134 0.3125 -0.26481 0.31406 -0.26551 C 0.32014 -0.26967 0.33003 -0.27037 0.33628 -0.27129 C 0.34392 -0.27384 0.35034 -0.27569 0.35833 -0.27731 C 0.36146 -0.2787 0.36441 -0.28148 0.36736 -0.28287 C 0.37205 -0.28426 0.37691 -0.28518 0.38177 -0.2868 C 0.38524 -0.28935 0.38871 -0.29143 0.39201 -0.29421 C 0.39461 -0.29606 0.4 -0.29815 0.4 -0.29768 C 0.40277 -0.30046 0.40833 -0.30509 0.40833 -0.30486 E">
                                      <p:cBhvr>
                                        <p:cTn id="355" dur="2000" fill="hold"/>
                                        <p:tgtEl>
                                          <p:spTgt spid="1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C 0.06284 -0.04583 0.13871 0.01065 0.20468 0.0169 C 0.21423 0.02361 0.20764 0.02014 0.225 0.02014 E">
                                      <p:cBhvr>
                                        <p:cTn id="359" dur="2000" fill="hold"/>
                                        <p:tgtEl>
                                          <p:spTgt spid="1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 txBox="1"/>
          <p:nvPr/>
        </p:nvSpPr>
        <p:spPr>
          <a:xfrm>
            <a:off x="304920" y="9140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ТОМЕТР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(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реч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tó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свет и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ré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измеряю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Прямоугольник 4"/>
          <p:cNvSpPr/>
          <p:nvPr/>
        </p:nvSpPr>
        <p:spPr>
          <a:xfrm>
            <a:off x="3054600" y="152280"/>
            <a:ext cx="304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Фотометр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Прямоугольник 6"/>
          <p:cNvSpPr/>
          <p:nvPr/>
        </p:nvSpPr>
        <p:spPr>
          <a:xfrm>
            <a:off x="152280" y="14479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дел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ТИ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кото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ают способы измерения световой 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Прямоугольник 7"/>
          <p:cNvSpPr/>
          <p:nvPr/>
        </p:nvSpPr>
        <p:spPr>
          <a:xfrm>
            <a:off x="304920" y="25146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снове фотометрии как науки лежит разработа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ория светового поля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7" name="Picture 2" descr="Картинка 22 из 13090"/>
          <p:cNvPicPr/>
          <p:nvPr/>
        </p:nvPicPr>
        <p:blipFill>
          <a:blip r:embed="rId1"/>
          <a:stretch/>
        </p:blipFill>
        <p:spPr>
          <a:xfrm>
            <a:off x="152280" y="4191120"/>
            <a:ext cx="2590920" cy="215568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4" descr="Картинка 47 из 13089"/>
          <p:cNvPicPr/>
          <p:nvPr/>
        </p:nvPicPr>
        <p:blipFill>
          <a:blip r:embed="rId2"/>
          <a:stretch/>
        </p:blipFill>
        <p:spPr>
          <a:xfrm>
            <a:off x="6095880" y="4114800"/>
            <a:ext cx="2845080" cy="2133720"/>
          </a:xfrm>
          <a:prstGeom prst="rect">
            <a:avLst/>
          </a:prstGeom>
          <a:ln w="0">
            <a:noFill/>
          </a:ln>
        </p:spPr>
      </p:pic>
      <p:sp>
        <p:nvSpPr>
          <p:cNvPr id="1459" name="Прямоугольник 10"/>
          <p:cNvSpPr/>
          <p:nvPr/>
        </p:nvSpPr>
        <p:spPr>
          <a:xfrm>
            <a:off x="228600" y="3505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етово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— область  пространства, заполненная светом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0" name="Picture 6" descr="Картинка 16 из 13161"/>
          <p:cNvPicPr/>
          <p:nvPr/>
        </p:nvPicPr>
        <p:blipFill>
          <a:blip r:embed="rId3"/>
          <a:stretch/>
        </p:blipFill>
        <p:spPr>
          <a:xfrm>
            <a:off x="2971800" y="411480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4-02T18:42:09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