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6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10.png" ContentType="image/png"/>
  <Override PartName="/ppt/media/image27.jpeg" ContentType="image/jpeg"/>
  <Override PartName="/ppt/media/image13.gif" ContentType="image/gif"/>
  <Override PartName="/ppt/media/image23.gif" ContentType="image/gif"/>
  <Override PartName="/ppt/media/image16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12.jpeg" ContentType="image/jpeg"/>
  <Override PartName="/ppt/media/image4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17.png" ContentType="image/png"/>
  <Override PartName="/ppt/media/image18.gif" ContentType="image/gif"/>
  <Override PartName="/ppt/media/image20.gif" ContentType="image/gif"/>
  <Override PartName="/ppt/media/image22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C175C-C330-4D9E-BF44-3A3D0D9A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BCCFA-BD1D-43EF-87A1-9DB1B443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4897A-3EF3-4863-BF7F-B3332750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A1736-4230-4ACE-88D0-4328A7B1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46C13-E234-46FA-AA9C-635C03FF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424ED-B2C8-48B3-8CB9-038DA02A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7D565-84F7-4178-A6C5-1528540D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EA88E-A926-4EC4-9A4B-0E664334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5DC0D-17E5-4E5A-A0F1-F1D7A1CC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DC585-04A2-4BA6-8213-0FC0A8EB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EBA83-923A-46FE-A135-8CA45184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A8E66-2699-4222-8A5A-A0A90AFA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38B8F-1A06-49B8-9758-3B6691FB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4466F-6D51-424F-B95C-E2E264A5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E3A2F-AC9F-4D52-8E56-DC1438C8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1E836-31F1-45C8-A08A-1833A9A2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DA74B-1232-49FF-85EB-EC65E454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CAC41-EE7D-498F-96BA-E033DF3A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37316-DDD2-4207-911E-883D8FD5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DD0B2-5E62-43A2-9F7A-4D0B7E68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34719-43C7-4321-9764-FFAC1D97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59DCA-6AC8-4C90-83FC-D5F0A1FA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48E63-2750-4C80-975C-FD69A649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F373D-3000-42A8-9DDF-6CC5E59B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FDC74-B061-4D24-9D88-F917185A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D59ED-D27D-4A11-A0F0-667E15AD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D01B4-A28F-4247-B3D3-B488C3C9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8BF32-52A1-478B-BFF0-F7572CB6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A3C57-9858-4D0C-B8AB-473DE47C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DB311-0C89-4D21-92B9-0E865473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209-AEAB-4CBA-A0CA-0774FFBC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6B9B6-F4AE-4AEA-9618-8A87E509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A2C12-BC03-4671-A5D6-968F9B52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AC2CC-C6DF-4E13-96D0-C56E58E4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6A6CE-A428-4CD8-A5ED-BDB50485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B364C-A3CB-412A-87D0-084AD2EC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73823-B688-4137-B787-F6090E3D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CDF35-855E-4793-9343-00794C66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4EAA7-7370-475C-B196-BC344231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FB2F5-841A-4C26-8838-0488E45E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B18A2-FB71-47DD-8D33-FC7F0A7A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9E13-64A4-41A6-911D-2325DB91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5C64B-9A57-4F93-BCCC-58143CB1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A5896-902C-441F-B833-3A7B678D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60771-7FAE-4FDC-B804-6655B096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31762-4485-4916-9A39-BD56A040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B26C0-C4D4-488D-B379-BF55C21B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80DC1-0F03-4268-A0A5-58B46C81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B10C4-5E16-4272-9DE8-42451310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7B400-63B4-45F7-ADD1-8B015F94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C4442-690F-4C1A-B915-4DC5CE56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9F827-8DEB-43F1-AC38-D21235F9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347D-7019-41D3-BE77-5CBFB085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5A89F-8314-4650-9046-DE218C68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6EC07-8541-48F3-8D38-CA6DD811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2471E-2390-4405-A65B-BE40DE97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C562A-95C6-474B-B074-FB5F16B2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72EA8-6305-4B3B-BBC6-1236CEE2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A21B7-F677-4C79-9269-2CECD0AD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484F4-057D-445E-976B-215CF17D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C6EF52-150A-4B38-83EF-5299AA10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7A6B4-D6F8-4A51-B80C-28D94D0B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C390DE-AD54-431D-87A9-E478A9B4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4827-168F-454C-A997-4E07D5E9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94D26-926B-442C-BBF3-39CB0677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90975-F676-4FCE-BEC0-5A761896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F925D-8088-4F9A-925F-4ADE392A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4A6E8-BB55-4827-B911-B5F3C59E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81BA7-BCC1-4CCC-98E1-5E8CA281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6D2A1-9FFD-4E1B-9F14-10873D09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91ECF-EE46-4597-B033-454F4C5C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98CA4-C0BE-4DCF-981F-A3E6C1D3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D860C4-C51E-4C10-AE43-6033AA9C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2602CC-1A2A-4E30-9691-FE765CA8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5C8-58CC-4CA2-9B41-106F9A5F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3685A-164F-491A-A6E2-CC95AF21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7F6A40-9B19-4581-8FDE-425C78EA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F620E3-CCC3-4195-8A76-B35FA900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F36446-442D-4E24-A257-4E5860C8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C6483F-8FDF-4B65-93D5-8FE66059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10B595-011D-491D-AEB4-97D6E5F4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1C3868-F841-45E0-8DE4-EBF0514E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302B72-D31F-4D5C-8B58-DD2391C9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D9682-36A4-4066-A327-3CB1D687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B88C9-3A72-47AB-8E9B-C8264CB9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184D-204C-44D8-9C95-5EDF2D5D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2E8655-B33B-4C6E-B76C-301D4798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F16E95-C1C6-402E-860F-F36B84CC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51A81-1B32-445B-ACA8-021FAA8A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AA2875-7096-4056-8ED6-DE64BBEA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9391C9-2FAC-4FB6-B62B-E57D70B2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BCA82E-5C73-4227-BC8B-0C8FA2C7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FC14F0-50B6-4806-BF33-23108D35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A11CE0-77D0-4CDA-BB31-4AFCA334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9EBD29-438F-44B3-830F-DF02F381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46DA9C-745E-4971-B855-4DBA89C1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759-052F-4EE3-978C-98FC15D3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E9287-7402-4B53-84D2-8EB9686F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D341B2-0D77-411D-B6B2-2075B762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C7919F-6A39-46DE-AC05-C49DF471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202BBE-935A-4AB2-81F1-5B4EEF10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C9F54F-7B42-465C-A666-75EAF294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8C533E-87F8-4C17-8EC7-82C3309D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C4D6FF-1F29-4EDA-80BB-3DAEA70A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B7590E-9C4C-49E0-842C-E73BF277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081F88-1EC7-4792-9DBD-AAE1A926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6F6D9C-3D41-4804-8659-D6D5E1D3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6B7A-C9AC-4F31-A105-A7EB9193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9727B5-5DC2-4B26-A2E2-C1113CE7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FF6B4A-CAB6-498A-8DC0-2E7D8F05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473BC3-5972-41F4-AED4-E58BF8B4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7BAAA3-490E-4F48-A4E0-2DE2E730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FB7B20-2539-42C8-8C87-44C070CE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26D4C1-D80A-4840-A13E-0F29AD6F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F1AE20-AAFA-4B84-A2A1-DAC90DEE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CC8321B-9A64-4A8D-AC02-15BCEFEC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8076A3B-60A0-484B-9D29-513BF024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9DC7911-7155-4B1C-8D12-AF537683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35C-F1A9-4A5E-A3C3-65378E7A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3889779-2A53-4F94-B9D2-1E50FDBF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EAB64A-7931-4BAE-A87D-85F8E462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CBD3D53-CB18-4D17-AC77-4D49D8D1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20ACAAE-D5ED-4A2E-BD42-C0C0FEAB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A78000D-7066-4151-87CF-9C2788A1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51BFC78-D9D2-4CB7-A80E-C4813E98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80A9FE7-C5E2-41AF-8BB0-96CAAC17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EEA596-9D58-4286-B839-F8C360E0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ABFE0A-DCFA-4BAE-928C-708B29E1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921008-68BF-464A-90CE-4C349C31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A69-C66E-46E6-98D2-659C0587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347D6D-ABCE-4A95-8272-8B468074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52706B-1EC1-4714-BCC3-6114AEAC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1B6050-6841-43A6-9367-063E289A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439189-39D8-459F-AEC6-F1466929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1B1F52-853A-4108-B93A-2819BA76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0CD6D3-75FE-4065-8C25-2F5DCB89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DE0E14-DB7E-4615-B1FB-68DE66C6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4FB0E3-3871-493E-BF74-DED39DEC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D0BE14-664D-4CE8-8752-F18EA33C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0B644BF-63C9-4C3D-8A88-F021A641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D51D-ED0C-4091-AF9C-6D4C2C7E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67B3375-02AD-4C0E-8A71-C03D7894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49D468E-F492-4520-B6A8-C07065F1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62C898F-C5EB-4856-A2CB-138E1E7A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DADD765-2EAC-47B1-AB73-27CCB7D4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C610C43-8B91-4BED-B5B3-4F1F51DA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8A01F60-0916-490B-8154-A66D0DCA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F383191-92E3-449F-80AF-919712F7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A1F763C-3D03-44C0-8083-D0166395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C513D63-29BC-439A-8C52-888E3031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2A3177D-34F9-42EA-8DA4-1BD69A25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D0D-F0B8-42E3-BB89-948E1509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BD2274F-0A6A-4F29-8C5D-926787C3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9E5EEA-A36F-4652-BC2E-09D279E5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CE6B42-B483-4A6D-B076-A2A20A28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9E9D3E-4291-41A8-B753-74CA6969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E9B84D-1633-4D3B-9D3C-D48D3DEC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BCDE1A-FC69-4050-966D-75AD5E30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849453-B363-4544-B4CF-E621ECEA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154EF4-46D9-4424-90A0-AF19FB91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409A38-5BB0-4E40-9533-C696674D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3F4338-CDBE-4CCA-B15A-47A93084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0132-B899-446B-A917-BCBDD5D0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E8B024-66C9-4C9E-85E0-B3EEA0A1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CAAE9B-3D5D-4954-8952-EDEEA54C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CC1A57-81FD-4535-88DE-38DCC082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1700AC-84E8-4D39-8976-5F24F3AE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A4F201-EE56-4EC9-988D-7405E852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CC0C1D-7621-494F-841A-FEAA36D5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23932F-6DA8-45A7-AFDA-33DC58A1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45FE06-0D8B-4292-B8DB-BE27B54E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5CFA1D-20ED-4931-A046-677E4F83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23DC3C-DE64-44B8-AD13-E13FB857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A292-84A2-4BB3-9063-61E82352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681FC7-ACD9-472D-AD21-F5B60399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729D2C-6FCC-4361-88CB-8E9648D4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6318AD-8644-4732-A935-A056FD20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39AD70-AEB8-4FC9-BE5D-92EBAC7B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7DF761-A38C-4255-B1AB-7F6CD494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DC6B13-5641-494A-AFAB-05036A9D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9B56FE-5B1C-40EB-9787-A41B53D0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4D6F6F-08E5-47A3-ACA7-133831BF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8DA3FE-2E42-40A2-BAC8-7ECEB05F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8105AC-2E32-4E7D-B2D1-82C9D545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CE9C-8175-4224-962E-90B5C066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B5D49E-772E-4A72-AFBF-3A23DCF0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7706C9-8A99-4A50-ABB0-745E0DBF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F630A8-E493-40BC-9027-CF8F2B59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68C528-7A1F-4F6B-8CED-CFCBBCEB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6B3A69-172F-4E13-A710-4476C50A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1400B5-6D16-4ED2-BC71-F8E349B1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B811E3-87C5-478F-923D-81A298A0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EC7283-6C56-4DFE-8793-ED8A68B5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D61A2E-3DFB-4D05-A34F-B9256B7E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E53A01-06AB-4413-AF9A-0ED29F51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0525-6B31-49F1-970F-63C1A1F2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5828CD-D5FA-41E8-BF41-646D9AFF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ACAF90-3779-449A-AED4-66B8EACF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904676-4BD6-4EAD-835D-CC2C4AAD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7975D1-3E8D-4A7F-B3A1-7A142776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936F7F-0711-43F5-9938-6F2E2059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62A950-1F33-4144-9152-2A116B17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3EE4F5-0AB6-42FB-BC0A-680F1406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569431-BE16-452F-9CDF-193E4B97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FA1969-F163-4D1B-B180-40716F30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3D85B10-5278-4A2E-ACEB-865C78F6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7082-1787-4D05-8D53-93561DD5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2DDF2D0-DF2C-4F8D-9FD8-5BBDD46D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75BF9E7-2F0C-47AD-B3E2-494E8ABE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7BBE504-0D50-457F-86A9-DF8E4D00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A46CFC8-0038-4971-B8DD-8ED501C6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0FED2E9-F0CA-4F81-82BB-D3ED4C85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BB9E53F-D5A3-40B8-8122-BAB1E546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38F44D2-1D80-4D0F-ABEF-17B6F501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CF45C6B-A2C4-40FA-800D-4E46031A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6DC2178-5C8D-4118-9080-AE502CB2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A6277C5-E386-447D-8D47-90064605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C7BE-9255-46FA-BEAE-E49AF2EA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044D08C-04F6-462F-A570-5467E6CE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2B70B81-712B-4733-867C-30375300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4D7F43B-888E-4291-8FF3-02066F16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F06553D-5234-4689-8B83-9E5D5C8C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2BE49A2-7CF7-4CC9-A004-82C01BEC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986763B-C3E9-4226-98A0-4D549242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5F561EE-39C4-4F64-A4D9-A0C2BB27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7129F2F-6225-4482-95AA-968CEA31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E981993-B09C-434D-980B-B6A3703C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E123D7A-EC0E-4818-81F6-345435FA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6F6B-070E-4B5C-972D-FF831BF3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FDFDB11-D3CA-43E0-8880-63CE4413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0BC549B-F8B8-4715-A8A2-8EA23893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81F2ABE-BF8F-4773-9E5B-A701AB7F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492FD2-5E04-4464-BABB-AD8D8B6C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3435CE-AE94-4A87-9FD3-9B887A24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4DF7F9-0981-4084-8A4B-1A7EE0E2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4AF9F0-EB59-4A17-AFAF-148EAE4E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EE70E0-E543-4D40-964F-EA01FCB8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6C5EB9-2BE0-4FEB-AD3C-7E63AABB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853BAA-E973-4AB5-BD48-1EBA3562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BD84-7211-4F35-ABEB-1E8D9DB9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0DF1E2-2ED0-4E28-B5C5-4A7588C6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8179EC-F402-4ACE-A06D-169EE65D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EEE83B-FD85-4C67-A4E0-009D5167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5CB05F-38DC-49B4-90DF-1954C2CF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F077C5-E94C-4389-9BE2-DBCA16A3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9C49BC-8F51-4309-9AA2-C067E3DB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D2EA37-8A05-482D-93F0-DEAC1782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22E603-FCA4-4CD2-AB78-F4795F8B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979A3D-F872-465C-B72F-F10415C4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B404DA-17E6-42F6-AA4D-914C5659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D84A-075E-4EDE-B066-7765F94F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D4FC30-E3AE-4D2E-B364-0D049993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CAF6DF-DFCE-4ABD-841F-6956E82E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8F01B4-DD46-4CB1-AB9F-1027938A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BA9540-8927-45C9-9AFA-43B537D2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60914E-AE3B-448C-8ACE-84DBD6D0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564F67-A086-488E-8B29-FB95E573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6F8E7D-4357-43F1-B438-865BB925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C569-C5D6-4EAD-97B7-DB340FC7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A24F-2E37-4282-8554-F8337C43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3089-A7B7-4876-8C2F-D0B9AF7B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A9A5F-11A5-49BB-A9E1-931B966D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26D46-EE9C-4C8D-BB47-2A81A550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3B15A-1CB0-46F3-A967-BB589B83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21053-1796-4E60-BCFD-B893C198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AA1B8-A8CB-4C40-9432-75A3E500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6E528-E106-493C-A891-0ABD6F67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C760-1A5D-43BB-82EA-C611909C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CBF22-144E-4830-B4A6-B4E469F1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66D61-49D9-4074-8C60-E9C10015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807F2-CE9D-44AF-B077-70E8B493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16194-D3BE-451B-AB1F-A0B3C879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8D4E3-0503-4BFF-B33B-18E7058E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D14E6-38A6-42AC-84DF-A9DEF2A8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3D03F-7F25-4647-9ADE-6EB82FDF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5A363-C4B4-4608-8A59-772B9F41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7EF17-F547-41B5-A0E4-542BD520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C4062-BFFA-424F-8BB2-47606281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17D78-D8AC-4259-842E-13A0206B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6705C-C0B6-442A-94FF-F1E569CF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E4792-6B77-4335-9B87-E9028850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FBDAB-0A2C-471C-8924-068DAD3E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68785-9358-41A0-BDD8-BBCC34C8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93907-AB72-4038-B39A-779A8ED4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2B4ED-70B7-4BFC-86C8-733755B0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4DF55-05FB-4619-AA18-0F51FB7E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3AC48-39BA-4365-AA16-5BC2476D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34B02-E721-4FDF-99CD-A8E0AAA4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3E4B8-E100-4402-B40D-3B362AD8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7069F-B0E3-492D-A40D-3547A067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0DC15-B217-4DD5-AD88-1D5C0F98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CE84A-8A4A-436E-B4C0-03A51B6A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D5C18-7386-473B-99AB-A2A932ED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710DA-05D8-47D9-97D7-1E5D15B4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A7D1E-A32A-4EC8-8791-C9886D09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C84F2-A6A5-4164-AA37-9EE677C0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DD9C5-EECB-4CE2-A282-907E4B5D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6AEFE-134B-45D8-B0BE-C90E5F13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E4A69-ADA3-4589-A138-66C06F1E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68E90-7DCC-4FCC-81AA-2A9B3187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EEA3C-AAC7-485B-88AB-35FD31D0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589BC-A16C-47A4-A121-97694C0C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544EE-8F02-4DC8-85B5-46937202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D4119-89F2-4DD6-A414-87358419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DF6AE-D741-45E7-B308-DC88A3F3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9FBAB-5AFF-4DC4-95C9-3CAAC6FA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45AEB-26B7-4EF2-8FB6-30D4371F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84E55-A6DC-4B92-BAC5-A68989C0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412EB-CE04-45B2-8C63-CAB1EE12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6D02B-39D3-4728-A080-3E26D706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2FB0D-E62D-47BD-AA0E-1E4939B5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A1F15-BC06-4875-AB01-15FDAFCE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A0A3C-4403-4DA5-B9B7-195444E1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9DA71-44E0-4B9A-83FE-8A8BEA5F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7B513-EDC0-44CF-B99C-680BEE48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0366A-97B6-4D5D-9A02-CB4094EB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198C5-B8DB-46AF-B435-44FA92A6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20B7A-B642-4E83-B3B5-D3270891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B9BD5-67F0-4951-9938-8FDBBC5C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4911D-0292-440A-A34A-AC546DCF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BB9CD-5CBD-403F-9E87-D3D62E5F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59785-656D-44CD-8F35-1A403649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6A124-0596-440E-A5BC-19E1918F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41652-3722-46CC-8617-4F2B8034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E71B-AE85-4C7E-9063-A2C1F106E83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6E33-E3F0-476D-8AFD-515AFABD4BE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635E-1B76-47D1-8858-5D4F816B9BC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5CAB-6115-4B96-86BC-B4488EA56CC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C0DC-7DB3-42F7-8A4B-A479CEBBE1C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4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63E6-F86C-4935-9E89-7719F592EEF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F6FB-03C7-427B-B3B5-5917E6A3F35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4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4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1671-4BCB-475D-887B-CCBD4612474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904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49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50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1A94-1B03-4411-B942-5F5F1A7359E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ftr" idx="51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4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373B-635C-4D34-BDAB-FDBF4548F9F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62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09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835D-876F-4232-AEE5-FE4B9CD673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5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sldNum" idx="5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5102-BE15-4113-B0F2-0BE5BB8261F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ftr" idx="5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3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5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5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60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52A7-4A88-463E-BDD7-73683BF1CF4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8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6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6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6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998C-5FCF-4AE3-A827-C960D09E875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2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6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6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6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70D0-1210-4137-98BB-00E8EADF923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7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dt" idx="6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ftr" idx="6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sldNum" idx="6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1F50-C7B4-40F5-862D-8C68CF5C890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7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sldNum" idx="7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49F5-7279-49E2-B407-FB7400E0946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ftr" idx="7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7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sldNum" idx="7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E16A-629E-4CBE-BEAE-C40AC92A244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ftr" idx="7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29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7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7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7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4B1B-E455-418B-811E-CC1BD8401EA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4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dt" idx="7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ftr" idx="8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 type="sldNum" idx="8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9991-1996-433C-B775-75F3CAD11A0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B909-45DA-44CE-A7C3-D4B0691A62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27A2-896F-466F-A968-B09565A0F44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ftr" idx="1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0A40-3B53-4F97-BD4F-A607559E643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304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351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3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4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5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1500-B1B3-40C6-B7F3-3CF384E9FB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CCF6-8963-4E22-8391-3625A31AA30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9060-07B3-46B0-BF85-5056B1CD7E5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50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9D4E-45FD-4092-9512-70DC331671C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3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png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e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WordArt 4"/>
          <p:cNvSpPr txBox="1"/>
          <p:nvPr/>
        </p:nvSpPr>
        <p:spPr>
          <a:xfrm>
            <a:off x="609480" y="914400"/>
            <a:ext cx="8077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ТИ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6" name="Text Box 5"/>
          <p:cNvSpPr/>
          <p:nvPr/>
        </p:nvSpPr>
        <p:spPr>
          <a:xfrm>
            <a:off x="1752480" y="3352680"/>
            <a:ext cx="5867640" cy="398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b6924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37f5b"/>
                </a:solidFill>
                <a:latin typeface="Arial"/>
              </a:rPr>
              <a:t>Учебно-методическое пособие для студ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Прямоугольник 3"/>
          <p:cNvSpPr/>
          <p:nvPr/>
        </p:nvSpPr>
        <p:spPr>
          <a:xfrm>
            <a:off x="2362320" y="4876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Преподаватель ГОУ СП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«Благовещенский медицинский техникум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Качанова Ирина Алекс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Box 5"/>
          <p:cNvSpPr/>
          <p:nvPr/>
        </p:nvSpPr>
        <p:spPr>
          <a:xfrm>
            <a:off x="4343400" y="58672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바탕"/>
                <a:ea typeface="바탕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228240" y="11430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а, измеряемая количеством энергии, которую излучает источник света за единицу времени называется </a:t>
            </a:r>
            <a:r>
              <a:rPr b="1" lang="ru-RU" sz="3200" spc="-1" strike="noStrike">
                <a:solidFill>
                  <a:srgbClr val="be3802"/>
                </a:solidFill>
                <a:latin typeface="Arial"/>
              </a:rPr>
              <a:t>световым пото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Прямоугольник 3"/>
          <p:cNvSpPr/>
          <p:nvPr/>
        </p:nvSpPr>
        <p:spPr>
          <a:xfrm>
            <a:off x="2743200" y="22860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от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4" name="Object 3"/>
              <p:cNvSpPr txBox="1"/>
              <p:nvPr/>
            </p:nvSpPr>
            <p:spPr>
              <a:xfrm>
                <a:off x="990720" y="3429000"/>
                <a:ext cx="17524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65" name="Прямая со стрелкой 9"/>
          <p:cNvCxnSpPr/>
          <p:nvPr/>
        </p:nvCxnSpPr>
        <p:spPr>
          <a:xfrm flipH="1">
            <a:off x="1218960" y="4419360"/>
            <a:ext cx="2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6" name="Прямая со стрелкой 11"/>
          <p:cNvCxnSpPr/>
          <p:nvPr/>
        </p:nvCxnSpPr>
        <p:spPr>
          <a:xfrm>
            <a:off x="2590920" y="449532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7" name="Прямая со стрелкой 12"/>
          <p:cNvCxnSpPr/>
          <p:nvPr/>
        </p:nvCxnSpPr>
        <p:spPr>
          <a:xfrm>
            <a:off x="2819160" y="3809520"/>
            <a:ext cx="114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8" name="Прямоугольник 19"/>
          <p:cNvSpPr/>
          <p:nvPr/>
        </p:nvSpPr>
        <p:spPr>
          <a:xfrm>
            <a:off x="4205520" y="464832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, мин., ча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Прямоугольник 20"/>
          <p:cNvSpPr/>
          <p:nvPr/>
        </p:nvSpPr>
        <p:spPr>
          <a:xfrm>
            <a:off x="4267080" y="3581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энерг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Прямоугольник 21"/>
          <p:cNvSpPr/>
          <p:nvPr/>
        </p:nvSpPr>
        <p:spPr>
          <a:xfrm>
            <a:off x="315720" y="563868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228600" y="990720"/>
            <a:ext cx="5867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тового потока, ограниченная конической или циклической поверхностью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товым пуч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Прямоугольник 3"/>
          <p:cNvSpPr/>
          <p:nvPr/>
        </p:nvSpPr>
        <p:spPr>
          <a:xfrm>
            <a:off x="927720" y="228600"/>
            <a:ext cx="740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учок. Световой луч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3" name="Picture 2" descr="Картинка 17 из 5169"/>
          <p:cNvPicPr/>
          <p:nvPr/>
        </p:nvPicPr>
        <p:blipFill>
          <a:blip r:embed="rId1"/>
          <a:stretch/>
        </p:blipFill>
        <p:spPr>
          <a:xfrm>
            <a:off x="5791320" y="838080"/>
            <a:ext cx="2666880" cy="191160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4" descr="Картинка 38 из 24455"/>
          <p:cNvPicPr/>
          <p:nvPr/>
        </p:nvPicPr>
        <p:blipFill>
          <a:blip r:embed="rId2"/>
          <a:stretch/>
        </p:blipFill>
        <p:spPr>
          <a:xfrm>
            <a:off x="304920" y="2971800"/>
            <a:ext cx="2666880" cy="1785960"/>
          </a:xfrm>
          <a:prstGeom prst="rect">
            <a:avLst/>
          </a:prstGeom>
          <a:ln w="0">
            <a:noFill/>
          </a:ln>
        </p:spPr>
      </p:pic>
      <p:sp>
        <p:nvSpPr>
          <p:cNvPr id="1475" name="Прямоугольник 6"/>
          <p:cNvSpPr/>
          <p:nvPr/>
        </p:nvSpPr>
        <p:spPr>
          <a:xfrm>
            <a:off x="3276720" y="30481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ветовой лу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линия, по направлению которой распространяется световой пу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Прямоугольник 7"/>
          <p:cNvSpPr/>
          <p:nvPr/>
        </p:nvSpPr>
        <p:spPr>
          <a:xfrm>
            <a:off x="239040" y="4952880"/>
            <a:ext cx="8634240" cy="58140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пучок – это поток световой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Прямоугольник 8"/>
          <p:cNvSpPr/>
          <p:nvPr/>
        </p:nvSpPr>
        <p:spPr>
          <a:xfrm>
            <a:off x="228600" y="5638680"/>
            <a:ext cx="8763120" cy="10688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луч – это направле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по которому распространяется эн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228240" y="990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ространства, ограниченная некоторой конической поверхностью, называется телесным углом          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9" name="Прямоугольник 3"/>
          <p:cNvSpPr/>
          <p:nvPr/>
        </p:nvSpPr>
        <p:spPr>
          <a:xfrm>
            <a:off x="2669400" y="228600"/>
            <a:ext cx="361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Телесный уго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0" name="Picture 2" descr="http://www.bymath.net/studyguide/geo/sec/geo20.gif"/>
          <p:cNvPicPr/>
          <p:nvPr/>
        </p:nvPicPr>
        <p:blipFill>
          <a:blip r:embed="rId1"/>
          <a:srcRect l="2862" t="0" r="14282" b="3882"/>
          <a:stretch/>
        </p:blipFill>
        <p:spPr>
          <a:xfrm>
            <a:off x="533520" y="1828800"/>
            <a:ext cx="1676160" cy="1792440"/>
          </a:xfrm>
          <a:prstGeom prst="rect">
            <a:avLst/>
          </a:prstGeom>
          <a:ln w="0">
            <a:noFill/>
          </a:ln>
        </p:spPr>
      </p:pic>
      <p:sp>
        <p:nvSpPr>
          <p:cNvPr id="1481" name="Прямоугольник 5"/>
          <p:cNvSpPr/>
          <p:nvPr/>
        </p:nvSpPr>
        <p:spPr>
          <a:xfrm>
            <a:off x="2362320" y="2133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сный угол измеряется частью сферической поверхности  ABC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3" name="Object 3"/>
              <p:cNvSpPr txBox="1"/>
              <p:nvPr/>
            </p:nvSpPr>
            <p:spPr>
              <a:xfrm>
                <a:off x="3581280" y="3733920"/>
                <a:ext cx="183852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5"/>
              <p:cNvSpPr txBox="1"/>
              <p:nvPr/>
            </p:nvSpPr>
            <p:spPr>
              <a:xfrm>
                <a:off x="6400800" y="1219320"/>
                <a:ext cx="8002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85" name="Прямая со стрелкой 12"/>
          <p:cNvCxnSpPr/>
          <p:nvPr/>
        </p:nvCxnSpPr>
        <p:spPr>
          <a:xfrm>
            <a:off x="5409720" y="411480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6" name="Прямая со стрелкой 13"/>
          <p:cNvCxnSpPr/>
          <p:nvPr/>
        </p:nvCxnSpPr>
        <p:spPr>
          <a:xfrm flipH="1" flipV="1">
            <a:off x="2894760" y="457164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7" name="Прямая со стрелкой 14"/>
          <p:cNvCxnSpPr/>
          <p:nvPr/>
        </p:nvCxnSpPr>
        <p:spPr>
          <a:xfrm>
            <a:off x="5257440" y="4952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8" name="TextBox 17"/>
          <p:cNvSpPr/>
          <p:nvPr/>
        </p:nvSpPr>
        <p:spPr>
          <a:xfrm>
            <a:off x="6248520" y="3733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сфер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Box 18"/>
          <p:cNvSpPr/>
          <p:nvPr/>
        </p:nvSpPr>
        <p:spPr>
          <a:xfrm>
            <a:off x="60958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иус сфе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Прямоугольник 19"/>
          <p:cNvSpPr/>
          <p:nvPr/>
        </p:nvSpPr>
        <p:spPr>
          <a:xfrm>
            <a:off x="152280" y="4114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Object 7"/>
              <p:cNvSpPr txBox="1"/>
              <p:nvPr/>
            </p:nvSpPr>
            <p:spPr>
              <a:xfrm>
                <a:off x="2743200" y="5638680"/>
                <a:ext cx="25336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228600" y="837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энергии, которое излучается источником света за единицу времени внутри телесного угла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ой свет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3"/>
          <p:cNvSpPr/>
          <p:nvPr/>
        </p:nvSpPr>
        <p:spPr>
          <a:xfrm>
            <a:off x="1406520" y="152280"/>
            <a:ext cx="63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ила света. Освещен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6" name="Object 1"/>
              <p:cNvSpPr txBox="1"/>
              <p:nvPr/>
            </p:nvSpPr>
            <p:spPr>
              <a:xfrm>
                <a:off x="1676520" y="2057400"/>
                <a:ext cx="1066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97" name="Прямая со стрелкой 6"/>
          <p:cNvCxnSpPr/>
          <p:nvPr/>
        </p:nvCxnSpPr>
        <p:spPr>
          <a:xfrm>
            <a:off x="3048120" y="228600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8" name="Прямая со стрелкой 9"/>
          <p:cNvCxnSpPr/>
          <p:nvPr/>
        </p:nvCxnSpPr>
        <p:spPr>
          <a:xfrm flipH="1">
            <a:off x="1751760" y="2743200"/>
            <a:ext cx="2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9" name="Прямая со стрелкой 10"/>
          <p:cNvCxnSpPr/>
          <p:nvPr/>
        </p:nvCxnSpPr>
        <p:spPr>
          <a:xfrm>
            <a:off x="2666520" y="2819160"/>
            <a:ext cx="11437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0" name="Прямоугольник 13"/>
          <p:cNvSpPr/>
          <p:nvPr/>
        </p:nvSpPr>
        <p:spPr>
          <a:xfrm>
            <a:off x="4125600" y="21337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Прямоугольник 17"/>
          <p:cNvSpPr/>
          <p:nvPr/>
        </p:nvSpPr>
        <p:spPr>
          <a:xfrm>
            <a:off x="396252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Прямоугольник 18"/>
          <p:cNvSpPr/>
          <p:nvPr/>
        </p:nvSpPr>
        <p:spPr>
          <a:xfrm>
            <a:off x="165960" y="3276720"/>
            <a:ext cx="34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све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ндела)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Содержимое 2"/>
          <p:cNvSpPr/>
          <p:nvPr/>
        </p:nvSpPr>
        <p:spPr>
          <a:xfrm>
            <a:off x="228600" y="3962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световой энергии, подающей на единицу поверхности тела за одну секунду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вещ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Object 3"/>
              <p:cNvSpPr txBox="1"/>
              <p:nvPr/>
            </p:nvSpPr>
            <p:spPr>
              <a:xfrm>
                <a:off x="3124080" y="5181480"/>
                <a:ext cx="1219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6" name="Прямоугольник 29"/>
          <p:cNvSpPr/>
          <p:nvPr/>
        </p:nvSpPr>
        <p:spPr>
          <a:xfrm>
            <a:off x="4963680" y="51055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Box 30"/>
          <p:cNvSpPr/>
          <p:nvPr/>
        </p:nvSpPr>
        <p:spPr>
          <a:xfrm>
            <a:off x="4800600" y="58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Прямоугольник 31"/>
          <p:cNvSpPr/>
          <p:nvPr/>
        </p:nvSpPr>
        <p:spPr>
          <a:xfrm>
            <a:off x="169920" y="61722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щен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юк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9" name="Прямая со стрелкой 32"/>
          <p:cNvCxnSpPr/>
          <p:nvPr/>
        </p:nvCxnSpPr>
        <p:spPr>
          <a:xfrm flipH="1">
            <a:off x="2437560" y="5791320"/>
            <a:ext cx="686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0" name="Прямая со стрелкой 33"/>
          <p:cNvCxnSpPr/>
          <p:nvPr/>
        </p:nvCxnSpPr>
        <p:spPr>
          <a:xfrm>
            <a:off x="4343040" y="6095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1" name="Прямая со стрелкой 34"/>
          <p:cNvCxnSpPr/>
          <p:nvPr/>
        </p:nvCxnSpPr>
        <p:spPr>
          <a:xfrm>
            <a:off x="4343040" y="54097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9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охранения зрения и создания нормальных условий труда необходимо поддерживать наиболее благоприятную освещ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тимальные нормы освещенности (л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тонких работ ........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чтения ..................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грубых работ ......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ридорах и на лестницах..........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ходы в помещениях.............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лицах  и площадях.............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дворах и подъездах............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ьма специфические требования предъявляются к освещенности операционного поля в хирургии. Падающий на операционное поле свет должен создавать равномерную оптимальную освещенность при минимальном тепловом эффекте, не утомлять врача и не создавать т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этой цели применяются лампы специальной конструкции, так называемые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теневые лам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Arial"/>
              </a:rPr>
              <a:t>Нормы освещ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ru.wikipedia.org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икипед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5terka.com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Геометрическая оп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3dfef"/>
                </a:solidFill>
                <a:uFillTx/>
                <a:latin typeface="Rockwell"/>
              </a:rPr>
              <a:t>images.yandex.ru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</a:t>
            </a:r>
            <a:r>
              <a:rPr b="1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Яндекс. Картинки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http://www.bymath.net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ся элементарная матема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cc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/>
          </p:nvPr>
        </p:nvSpPr>
        <p:spPr>
          <a:xfrm>
            <a:off x="1828440" y="22856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Оптик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Источники свет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Фотометрия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оток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учок. Световой луч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ила света. Освещенность.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Нормы освещенности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390" name="WordArt 4"/>
          <p:cNvSpPr txBox="1"/>
          <p:nvPr/>
        </p:nvSpPr>
        <p:spPr>
          <a:xfrm>
            <a:off x="2362320" y="53352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 txBox="1"/>
          <p:nvPr/>
        </p:nvSpPr>
        <p:spPr>
          <a:xfrm>
            <a:off x="228240" y="990360"/>
            <a:ext cx="8534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дел физики, изучающий световые явления, получил название оптик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 греч. «оптикос» зрительный)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световые явления обычно называются оптичес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Box 5"/>
          <p:cNvSpPr/>
          <p:nvPr/>
        </p:nvSpPr>
        <p:spPr>
          <a:xfrm>
            <a:off x="228600" y="342900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ветить на вопро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способы передачи воздействий существуют? Приведите приме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теории по изучению света были выдвинуты и чем они отличалис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называют геометрической оптик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Прямоугольник 6" descr=""/>
          <p:cNvPicPr/>
          <p:nvPr/>
        </p:nvPicPr>
        <p:blipFill>
          <a:blip r:embed="rId1"/>
          <a:stretch/>
        </p:blipFill>
        <p:spPr>
          <a:xfrm>
            <a:off x="3157560" y="19080"/>
            <a:ext cx="2500200" cy="865080"/>
          </a:xfrm>
          <a:prstGeom prst="rect">
            <a:avLst/>
          </a:prstGeom>
          <a:ln w="0">
            <a:noFill/>
          </a:ln>
        </p:spPr>
      </p:pic>
      <p:sp>
        <p:nvSpPr>
          <p:cNvPr id="1394" name="Прямоугольник 8"/>
          <p:cNvSpPr/>
          <p:nvPr/>
        </p:nvSpPr>
        <p:spPr>
          <a:xfrm>
            <a:off x="3049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абота с учебником Физика 11кл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.Я. Мякишев, Б.Б. Буханцев стр. 168 – 1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особы передачи воз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нос вещества от источника к приемнику. (ударить по стру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рение состояния среды между телами (без переноса вещества). (две струны поместить рядом и звуковые волны от первой струны дойдя до второй вызовут ее звуч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04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пускуля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0" y="1142640"/>
            <a:ext cx="4573440" cy="396252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поток частиц, идущих от источника во все стороны </a:t>
            </a:r>
            <a:r>
              <a:rPr b="0" lang="ru-RU" sz="20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(перенос вещества</a:t>
            </a:r>
            <a:r>
              <a:rPr b="0" lang="ru-RU" sz="2000" spc="-1" strike="noStrike">
                <a:solidFill>
                  <a:srgbClr val="3333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очему световые пучки, пересекаются в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3962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4572000" y="1142640"/>
            <a:ext cx="4572000" cy="3962520"/>
          </a:xfrm>
          <a:prstGeom prst="rect">
            <a:avLst/>
          </a:prstGeom>
          <a:solidFill>
            <a:srgbClr val="d3d3d9"/>
          </a:solidFill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Гюйге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волны, распространяющиеся в особой гипотетической среде  - эфире, заполняющем все пространство проникающем внутрь всех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рямолинейное распространение и образование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пускулярная и волновая теории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7"/>
          <p:cNvSpPr/>
          <p:nvPr/>
        </p:nvSpPr>
        <p:spPr>
          <a:xfrm>
            <a:off x="152280" y="5181480"/>
            <a:ext cx="85345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о второй половин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– свет рассматривали как вол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Box 8"/>
          <p:cNvSpPr/>
          <p:nvPr/>
        </p:nvSpPr>
        <p:spPr>
          <a:xfrm>
            <a:off x="152280" y="5657760"/>
            <a:ext cx="8534520" cy="1191240"/>
          </a:xfrm>
          <a:prstGeom prst="rect">
            <a:avLst/>
          </a:prstGeom>
          <a:solidFill>
            <a:srgbClr val="95e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 начал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представления о природе сета изменил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Свет при излучении и поглощении ведет себя подобно потоку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Picture 7" descr="Картинка 2 из 12497"/>
          <p:cNvPicPr/>
          <p:nvPr/>
        </p:nvPicPr>
        <p:blipFill>
          <a:blip r:embed="rId1"/>
          <a:stretch/>
        </p:blipFill>
        <p:spPr>
          <a:xfrm>
            <a:off x="5105520" y="4952880"/>
            <a:ext cx="1676160" cy="1408320"/>
          </a:xfrm>
          <a:prstGeom prst="rect">
            <a:avLst/>
          </a:prstGeom>
          <a:ln w="0">
            <a:noFill/>
          </a:ln>
        </p:spPr>
      </p:pic>
      <p:sp>
        <p:nvSpPr>
          <p:cNvPr id="1405" name="TextBox 1"/>
          <p:cNvSpPr/>
          <p:nvPr/>
        </p:nvSpPr>
        <p:spPr>
          <a:xfrm>
            <a:off x="152280" y="152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и и дифра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л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Box 2"/>
          <p:cNvSpPr/>
          <p:nvPr/>
        </p:nvSpPr>
        <p:spPr>
          <a:xfrm>
            <a:off x="457200" y="3429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я и погло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током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Прямоугольник 3"/>
          <p:cNvSpPr/>
          <p:nvPr/>
        </p:nvSpPr>
        <p:spPr>
          <a:xfrm>
            <a:off x="304920" y="1143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я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жение световых во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8" name="Picture 2" descr="D:\Irina\анимашки\физика\interference1.gif"/>
          <p:cNvPicPr/>
          <p:nvPr/>
        </p:nvPicPr>
        <p:blipFill>
          <a:blip r:embed="rId2"/>
          <a:stretch/>
        </p:blipFill>
        <p:spPr>
          <a:xfrm>
            <a:off x="990720" y="198108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409" name="Прямоугольник 5"/>
          <p:cNvSpPr/>
          <p:nvPr/>
        </p:nvSpPr>
        <p:spPr>
          <a:xfrm>
            <a:off x="4267080" y="11430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ифракция све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ибание малых препятст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0" name="Picture 4" descr="Картинка 66 из 2014"/>
          <p:cNvPicPr/>
          <p:nvPr/>
        </p:nvPicPr>
        <p:blipFill>
          <a:blip r:embed="rId3"/>
          <a:stretch/>
        </p:blipFill>
        <p:spPr>
          <a:xfrm>
            <a:off x="5486400" y="1981080"/>
            <a:ext cx="1981080" cy="136692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5" descr="D:\Irina\анимашки\огонь, свет\солнце.gif"/>
          <p:cNvPicPr/>
          <p:nvPr/>
        </p:nvPicPr>
        <p:blipFill>
          <a:blip r:embed="rId4"/>
          <a:stretch/>
        </p:blipFill>
        <p:spPr>
          <a:xfrm>
            <a:off x="3352680" y="49528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1412" name="Прямоугольник 8"/>
          <p:cNvSpPr/>
          <p:nvPr/>
        </p:nvSpPr>
        <p:spPr>
          <a:xfrm>
            <a:off x="152280" y="44956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 испускания и распространения энергии в виде волн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 части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Прямоугольник 9"/>
          <p:cNvSpPr/>
          <p:nvPr/>
        </p:nvSpPr>
        <p:spPr>
          <a:xfrm>
            <a:off x="6477120" y="4572000"/>
            <a:ext cx="249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глощ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интенсивности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лучения свет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Picture 2" descr="Картинка 20 из 2227"/>
          <p:cNvPicPr/>
          <p:nvPr/>
        </p:nvPicPr>
        <p:blipFill>
          <a:blip r:embed="rId1"/>
          <a:stretch/>
        </p:blipFill>
        <p:spPr>
          <a:xfrm>
            <a:off x="6858000" y="152280"/>
            <a:ext cx="2171880" cy="164808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248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ометрическая оп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 оптики, изучающий законы распространения света в прозрачных средах,                   законы отражения света от зеркальных поверхностей и принципы построения изображений при прохождении света в оптических систе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рямоугольник 3"/>
          <p:cNvSpPr/>
          <p:nvPr/>
        </p:nvSpPr>
        <p:spPr>
          <a:xfrm>
            <a:off x="762120" y="30481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Box 4"/>
          <p:cNvSpPr/>
          <p:nvPr/>
        </p:nvSpPr>
        <p:spPr>
          <a:xfrm>
            <a:off x="2133720" y="36576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ет распространяется прямолиней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9" name="Picture 3" descr="D:\Irina\анимашки\природа\62.gif"/>
          <p:cNvPicPr/>
          <p:nvPr/>
        </p:nvPicPr>
        <p:blipFill>
          <a:blip r:embed="rId2"/>
          <a:stretch/>
        </p:blipFill>
        <p:spPr>
          <a:xfrm>
            <a:off x="3276720" y="4419720"/>
            <a:ext cx="3085920" cy="209376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4" descr="D:\Irina\анимашки\природа\природа2.gif"/>
          <p:cNvPicPr/>
          <p:nvPr/>
        </p:nvPicPr>
        <p:blipFill>
          <a:blip r:embed="rId3"/>
          <a:stretch/>
        </p:blipFill>
        <p:spPr>
          <a:xfrm>
            <a:off x="228600" y="4343400"/>
            <a:ext cx="2362320" cy="224640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5" descr="D:\Irina\анимашки\природа\природа5.gif"/>
          <p:cNvPicPr/>
          <p:nvPr/>
        </p:nvPicPr>
        <p:blipFill>
          <a:blip r:embed="rId4"/>
          <a:stretch/>
        </p:blipFill>
        <p:spPr>
          <a:xfrm>
            <a:off x="7010280" y="434340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14"/>
          <p:cNvSpPr/>
          <p:nvPr/>
        </p:nvSpPr>
        <p:spPr>
          <a:xfrm>
            <a:off x="884160" y="2606760"/>
            <a:ext cx="639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16"/>
          <p:cNvSpPr/>
          <p:nvPr/>
        </p:nvSpPr>
        <p:spPr>
          <a:xfrm>
            <a:off x="884160" y="2606760"/>
            <a:ext cx="270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18"/>
          <p:cNvSpPr/>
          <p:nvPr/>
        </p:nvSpPr>
        <p:spPr>
          <a:xfrm>
            <a:off x="884160" y="2606760"/>
            <a:ext cx="36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200"/>
          <p:cNvSpPr/>
          <p:nvPr/>
        </p:nvSpPr>
        <p:spPr>
          <a:xfrm>
            <a:off x="304920" y="609480"/>
            <a:ext cx="2819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Искусствен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202"/>
          <p:cNvSpPr/>
          <p:nvPr/>
        </p:nvSpPr>
        <p:spPr>
          <a:xfrm>
            <a:off x="6248520" y="609480"/>
            <a:ext cx="2733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Естественные</a:t>
            </a:r>
            <a:r>
              <a:rPr b="0" lang="ru-RU" sz="2800" spc="-1" strike="noStrike">
                <a:solidFill>
                  <a:srgbClr val="db535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db5353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Группа 35"/>
          <p:cNvGrpSpPr/>
          <p:nvPr/>
        </p:nvGrpSpPr>
        <p:grpSpPr>
          <a:xfrm>
            <a:off x="4952880" y="3581280"/>
            <a:ext cx="1447920" cy="1395360"/>
            <a:chOff x="4952880" y="3581280"/>
            <a:chExt cx="1447920" cy="1395360"/>
          </a:xfrm>
        </p:grpSpPr>
        <p:sp>
          <p:nvSpPr>
            <p:cNvPr id="1428" name="Rectangle 197"/>
            <p:cNvSpPr/>
            <p:nvPr/>
          </p:nvSpPr>
          <p:spPr>
            <a:xfrm>
              <a:off x="4952880" y="4516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звезд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9" name="Picture 203" descr="звезда"/>
            <p:cNvPicPr/>
            <p:nvPr/>
          </p:nvPicPr>
          <p:blipFill>
            <a:blip r:embed="rId1"/>
            <a:stretch/>
          </p:blipFill>
          <p:spPr>
            <a:xfrm>
              <a:off x="5028840" y="3581280"/>
              <a:ext cx="937080" cy="90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0" name="Группа 34"/>
          <p:cNvGrpSpPr/>
          <p:nvPr/>
        </p:nvGrpSpPr>
        <p:grpSpPr>
          <a:xfrm>
            <a:off x="2819520" y="3581280"/>
            <a:ext cx="1295280" cy="1788840"/>
            <a:chOff x="2819520" y="3581280"/>
            <a:chExt cx="1295280" cy="1788840"/>
          </a:xfrm>
        </p:grpSpPr>
        <p:sp>
          <p:nvSpPr>
            <p:cNvPr id="1431" name="Rectangle 198"/>
            <p:cNvSpPr/>
            <p:nvPr/>
          </p:nvSpPr>
          <p:spPr>
            <a:xfrm>
              <a:off x="2928240" y="491040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м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2" name="Picture 204" descr="комета"/>
            <p:cNvPicPr/>
            <p:nvPr/>
          </p:nvPicPr>
          <p:blipFill>
            <a:blip r:embed="rId2"/>
            <a:stretch/>
          </p:blipFill>
          <p:spPr>
            <a:xfrm>
              <a:off x="2819520" y="3581280"/>
              <a:ext cx="1295280" cy="139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3" name="Группа 33"/>
          <p:cNvGrpSpPr/>
          <p:nvPr/>
        </p:nvGrpSpPr>
        <p:grpSpPr>
          <a:xfrm>
            <a:off x="5034240" y="5029200"/>
            <a:ext cx="1137960" cy="1679400"/>
            <a:chOff x="5034240" y="5029200"/>
            <a:chExt cx="1137960" cy="1679400"/>
          </a:xfrm>
        </p:grpSpPr>
        <p:sp>
          <p:nvSpPr>
            <p:cNvPr id="1434" name="Rectangle 196"/>
            <p:cNvSpPr/>
            <p:nvPr/>
          </p:nvSpPr>
          <p:spPr>
            <a:xfrm>
              <a:off x="5034240" y="6248880"/>
              <a:ext cx="11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олнц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5" name="Picture 205" descr="солнце"/>
            <p:cNvPicPr/>
            <p:nvPr/>
          </p:nvPicPr>
          <p:blipFill>
            <a:blip r:embed="rId3"/>
            <a:stretch/>
          </p:blipFill>
          <p:spPr>
            <a:xfrm>
              <a:off x="5105160" y="5029200"/>
              <a:ext cx="106704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6" name="Группа 32"/>
          <p:cNvGrpSpPr/>
          <p:nvPr/>
        </p:nvGrpSpPr>
        <p:grpSpPr>
          <a:xfrm>
            <a:off x="4807800" y="2362320"/>
            <a:ext cx="1179000" cy="1145520"/>
            <a:chOff x="4807800" y="2362320"/>
            <a:chExt cx="1179000" cy="1145520"/>
          </a:xfrm>
        </p:grpSpPr>
        <p:sp>
          <p:nvSpPr>
            <p:cNvPr id="1437" name="Rectangle 195"/>
            <p:cNvSpPr/>
            <p:nvPr/>
          </p:nvSpPr>
          <p:spPr>
            <a:xfrm>
              <a:off x="4807800" y="304812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уч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8" name="Picture 208" descr="лучина"/>
            <p:cNvPicPr/>
            <p:nvPr/>
          </p:nvPicPr>
          <p:blipFill>
            <a:blip r:embed="rId4"/>
            <a:stretch/>
          </p:blipFill>
          <p:spPr>
            <a:xfrm>
              <a:off x="4876560" y="2362320"/>
              <a:ext cx="951840" cy="7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Группа 36"/>
          <p:cNvGrpSpPr/>
          <p:nvPr/>
        </p:nvGrpSpPr>
        <p:grpSpPr>
          <a:xfrm>
            <a:off x="3124080" y="2362320"/>
            <a:ext cx="1046160" cy="1298160"/>
            <a:chOff x="3124080" y="2362320"/>
            <a:chExt cx="1046160" cy="1298160"/>
          </a:xfrm>
        </p:grpSpPr>
        <p:sp>
          <p:nvSpPr>
            <p:cNvPr id="1440" name="Rectangle 193"/>
            <p:cNvSpPr/>
            <p:nvPr/>
          </p:nvSpPr>
          <p:spPr>
            <a:xfrm>
              <a:off x="3131640" y="320076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амп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1" name="Picture 209" descr="лампа"/>
            <p:cNvPicPr/>
            <p:nvPr/>
          </p:nvPicPr>
          <p:blipFill>
            <a:blip r:embed="rId5"/>
            <a:stretch/>
          </p:blipFill>
          <p:spPr>
            <a:xfrm>
              <a:off x="3124080" y="2362320"/>
              <a:ext cx="95472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2" name="Прямоугольник 23" descr=""/>
          <p:cNvPicPr/>
          <p:nvPr/>
        </p:nvPicPr>
        <p:blipFill>
          <a:blip r:embed="rId6"/>
          <a:stretch/>
        </p:blipFill>
        <p:spPr>
          <a:xfrm>
            <a:off x="2182680" y="-133200"/>
            <a:ext cx="4638960" cy="865080"/>
          </a:xfrm>
          <a:prstGeom prst="rect">
            <a:avLst/>
          </a:prstGeom>
          <a:ln w="0">
            <a:noFill/>
          </a:ln>
        </p:spPr>
      </p:pic>
      <p:grpSp>
        <p:nvGrpSpPr>
          <p:cNvPr id="1443" name="Группа 30"/>
          <p:cNvGrpSpPr/>
          <p:nvPr/>
        </p:nvGrpSpPr>
        <p:grpSpPr>
          <a:xfrm>
            <a:off x="3125160" y="380880"/>
            <a:ext cx="941040" cy="1908000"/>
            <a:chOff x="3125160" y="380880"/>
            <a:chExt cx="941040" cy="1908000"/>
          </a:xfrm>
        </p:grpSpPr>
        <p:sp>
          <p:nvSpPr>
            <p:cNvPr id="1444" name="Rectangle 194"/>
            <p:cNvSpPr/>
            <p:nvPr/>
          </p:nvSpPr>
          <p:spPr>
            <a:xfrm>
              <a:off x="3125160" y="18291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ве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5" name="Picture 2" descr="D:\Irina\анимашки\огонь, свет\ogon-212.gif"/>
            <p:cNvPicPr/>
            <p:nvPr/>
          </p:nvPicPr>
          <p:blipFill>
            <a:blip r:embed="rId7"/>
            <a:stretch/>
          </p:blipFill>
          <p:spPr>
            <a:xfrm>
              <a:off x="3276360" y="380880"/>
              <a:ext cx="762120" cy="15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6" name="Группа 29"/>
          <p:cNvGrpSpPr/>
          <p:nvPr/>
        </p:nvGrpSpPr>
        <p:grpSpPr>
          <a:xfrm>
            <a:off x="2438280" y="5405400"/>
            <a:ext cx="2743200" cy="1450440"/>
            <a:chOff x="2438280" y="5405400"/>
            <a:chExt cx="2743200" cy="1450440"/>
          </a:xfrm>
        </p:grpSpPr>
        <p:sp>
          <p:nvSpPr>
            <p:cNvPr id="1447" name="Rectangle 149"/>
            <p:cNvSpPr/>
            <p:nvPr/>
          </p:nvSpPr>
          <p:spPr>
            <a:xfrm>
              <a:off x="2438280" y="6396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бактерии на рыб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8" name="Picture 3" descr="D:\Irina\анимашки\рыбы\рыбка.gif"/>
            <p:cNvPicPr/>
            <p:nvPr/>
          </p:nvPicPr>
          <p:blipFill>
            <a:blip r:embed="rId8"/>
            <a:stretch/>
          </p:blipFill>
          <p:spPr>
            <a:xfrm>
              <a:off x="2819160" y="5405400"/>
              <a:ext cx="161928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9" name="Группа 31"/>
          <p:cNvGrpSpPr/>
          <p:nvPr/>
        </p:nvGrpSpPr>
        <p:grpSpPr>
          <a:xfrm>
            <a:off x="4648320" y="533520"/>
            <a:ext cx="1371600" cy="1831680"/>
            <a:chOff x="4648320" y="533520"/>
            <a:chExt cx="1371600" cy="1831680"/>
          </a:xfrm>
        </p:grpSpPr>
        <p:pic>
          <p:nvPicPr>
            <p:cNvPr id="1450" name="Picture 5" descr="D:\Irina\анимашки\огонь, свет\15.gif"/>
            <p:cNvPicPr/>
            <p:nvPr/>
          </p:nvPicPr>
          <p:blipFill>
            <a:blip r:embed="rId9"/>
            <a:stretch/>
          </p:blipFill>
          <p:spPr>
            <a:xfrm>
              <a:off x="4648320" y="533520"/>
              <a:ext cx="1371600" cy="13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1" name="Rectangle 194"/>
            <p:cNvSpPr/>
            <p:nvPr/>
          </p:nvSpPr>
          <p:spPr>
            <a:xfrm>
              <a:off x="4805280" y="190548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сте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2" name="Прямоугольник 37" descr=""/>
          <p:cNvPicPr/>
          <p:nvPr/>
        </p:nvPicPr>
        <p:blipFill>
          <a:blip r:embed="rId10"/>
          <a:stretch/>
        </p:blipFill>
        <p:spPr>
          <a:xfrm>
            <a:off x="3932280" y="890640"/>
            <a:ext cx="17622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C -0.00417 0.01481 -0.0092 0.01713 -0.01528 0.025 C -0.0191 0.02963 -0.02274 0.03657 -0.02639 0.04143 C -0.03576 0.05347 -0.02361 0.03472 -0.03281 0.04699 C -0.03472 0.04953 -0.0375 0.05601 -0.03941 0.05787 C -0.04931 0.06689 -0.06094 0.07129 -0.07101 0.07476 C -0.07674 0.07916 -0.08247 0.08263 -0.08854 0.08564 C -0.09358 0.09467 -0.10556 0.10208 -0.11129 0.10254 C -0.14219 0.10532 -0.17153 0.10532 -0.20156 0.10532 E">
                                      <p:cBhvr>
                                        <p:cTn id="331" dur="2000" fill="hold"/>
                                        <p:tgtEl>
                                          <p:spTgt spid="1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C -0.00364 0.00093 -0.00694 0.00139 -0.00989 0.00324 C -0.02847 0.01412 -0.00416 0.00463 -0.01996 0.01019 C -0.02395 0.01459 -0.02934 0.0176 -0.03316 0.02246 C -0.03455 0.02431 -0.03524 0.02732 -0.03645 0.0294 C -0.04149 0.03658 -0.04722 0.04213 -0.05451 0.04676 C -0.06458 0.0625 -0.04757 0.03866 -0.06753 0.05556 C -0.08541 0.07084 -0.06336 0.06366 -0.08246 0.06783 C -0.08819 0.07685 -0.09652 0.0831 -0.10364 0.09074 C -0.12378 0.11204 -0.09479 0.08357 -0.11198 0.10463 C -0.11371 0.10672 -0.11666 0.10764 -0.11875 0.10972 C -0.12187 0.11297 -0.12378 0.1169 -0.12673 0.12014 C -0.13073 0.12894 -0.14027 0.14329 -0.14652 0.15 C -0.15104 0.1551 -0.16128 0.15741 -0.16632 0.16042 C -0.17343 0.16505 -0.18107 0.17292 -0.18784 0.17801 C -0.19878 0.18704 -0.21076 0.19607 -0.22222 0.20417 C -0.22604 0.20718 -0.22847 0.21158 -0.23194 0.21459 C -0.2342 0.21644 -0.24461 0.22084 -0.24705 0.22176 C -0.2559 0.23542 -0.27552 0.23542 -0.28958 0.23889 C -0.30191 0.24977 -0.29635 0.2507 -0.3125 0.25301 C -0.34705 0.26644 -0.28472 0.26042 -0.38993 0.25486 C -0.40555 0.24954 -0.43402 0.23773 -0.45069 0.2375 C -0.46736 0.23681 -0.48368 0.2375 -0.5 0.2375 E">
                                      <p:cBhvr>
                                        <p:cTn id="335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98 0.01736 C -0.07153 0.02477 -0.06997 0.02917 -0.07414 0.03611 C -0.07587 0.03889 -0.07796 0.04051 -0.07969 0.04282 C -0.08056 0.04398 -0.08247 0.0463 -0.08247 0.04653 C -0.08473 0.05509 -0.08785 0.06088 -0.09063 0.06875 C -0.09184 0.07732 -0.09375 0.08634 -0.09705 0.09306 C -0.09896 0.10857 -0.10608 0.11458 -0.11059 0.12708 C -0.11858 0.14884 -0.12535 0.17037 -0.13612 0.1875 C -0.13959 0.19282 -0.13993 0.20023 -0.14428 0.20301 C -0.15452 0.22222 -0.16771 0.22639 -0.1816 0.2287 C -0.19792 0.23866 -0.17257 0.2338 -0.21598 0.2338 E">
                                      <p:cBhvr>
                                        <p:cTn id="339" dur="2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23 C -0.00781 -0.00301 -0.01372 0.0037 -0.02118 0.00671 C -0.03212 0.01852 -0.04653 0.02268 -0.05834 0.03287 C -0.07049 0.04329 -0.06962 0.04745 -0.08577 0.05208 C -0.09688 0.06412 -0.08247 0.04977 -0.10209 0.06273 C -0.10347 0.06389 -0.1309 0.08565 -0.13403 0.08889 C -0.1408 0.09606 -0.14688 0.10278 -0.15347 0.10972 C -0.15538 0.1118 -0.1559 0.11528 -0.15816 0.1169 C -0.16059 0.11852 -0.16372 0.11805 -0.16632 0.11852 C -0.17292 0.12963 -0.17813 0.13218 -0.18733 0.1412 C -0.19393 0.14768 -0.19531 0.15278 -0.20347 0.15694 C -0.20625 0.16018 -0.21025 0.16227 -0.21302 0.16574 C -0.21754 0.1713 -0.21927 0.1794 -0.22431 0.18495 C -0.22795 0.18889 -0.23299 0.1919 -0.23542 0.19699 C -0.23906 0.20509 -0.24288 0.21111 -0.25 0.2162 C -0.25851 0.23055 -0.24705 0.21319 -0.25955 0.225 C -0.26163 0.22685 -0.2625 0.23009 -0.26459 0.23218 C -0.26823 0.23565 -0.27917 0.24236 -0.28368 0.24421 C -0.29045 0.25463 -0.28281 0.24537 -0.29531 0.25116 C -0.29775 0.25255 -0.29931 0.25486 -0.30156 0.25625 C -0.30295 0.25741 -0.30486 0.25764 -0.30643 0.2581 C -0.31233 0.26759 -0.31979 0.2743 -0.32917 0.27893 C -0.34254 0.29375 -0.36406 0.3037 -0.38056 0.31412 C -0.38316 0.31574 -0.38646 0.3169 -0.38872 0.31921 C -0.39393 0.325 -0.4 0.33403 -0.40643 0.33843 C -0.41077 0.3456 -0.41476 0.35231 -0.4191 0.35949 C -0.42188 0.36366 -0.42726 0.37176 -0.42726 0.37199 C -0.42813 0.37569 -0.42952 0.38264 -0.43212 0.38565 C -0.43368 0.38773 -0.43681 0.38889 -0.43872 0.39074 C -0.45243 0.40741 -0.44202 0.40278 -0.45295 0.40648 C -0.4632 0.41389 -0.46372 0.41574 -0.47084 0.42593 C -0.47188 0.42917 -0.47292 0.43588 -0.47709 0.43634 C -0.49271 0.43866 -0.52361 0.43796 -0.52361 0.43819 E">
                                      <p:cBhvr>
                                        <p:cTn id="343" dur="2000" fill="hold"/>
                                        <p:tgtEl>
                                          <p:spTgt spid="1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 0.06111 C 0.09375 0.05093 0.12274 0.03819 0.15521 0.03565 C 0.16788 0.03287 0.18073 0.03333 0.1934 0.02963 C 0.1993 0.02824 0.20451 0.02407 0.21007 0.02176 C 0.22152 0.01736 0.23333 0.01412 0.24496 0.01019 C 0.24878 0.0088 0.25659 0.00625 0.25659 0.00671 C 0.2717 -0.0044 0.28767 -0.02153 0.3033 -0.02894 C 0.31701 -0.04259 0.30937 -0.03611 0.32639 -0.04792 C 0.33524 -0.05463 0.34791 -0.07338 0.34791 -0.07315 C 0.35364 -0.08704 0.36076 -0.10093 0.36632 -0.11458 C 0.37257 -0.13125 0.3743 -0.14097 0.38437 -0.15556 C 0.39062 -0.17315 0.3835 -0.1588 0.39618 -0.17106 C 0.40086 -0.17593 0.40468 -0.18148 0.4092 -0.18657 C 0.41389 -0.1919 0.41996 -0.19491 0.4243 -0.2 C 0.43385 -0.21134 0.43975 -0.22431 0.44913 -0.23519 C 0.45295 -0.24815 0.44791 -0.2338 0.45746 -0.24907 C 0.4651 -0.26134 0.46979 -0.275 0.47899 -0.28611 C 0.48385 -0.30648 0.49757 -0.32292 0.50885 -0.33866 C 0.51475 -0.3463 0.51146 -0.34491 0.51562 -0.35625 C 0.51753 -0.36065 0.52118 -0.36458 0.52396 -0.36782 C 0.52396 -0.36759 0.52725 -0.38333 0.52725 -0.36782 C 0.52725 -0.35116 0.52205 -0.34421 0.52916 -0.35625 C 0.52708 -0.3625 0.52916 -0.36204 0.52552 -0.36204 E">
                                      <p:cBhvr>
                                        <p:cTn id="347" dur="2000" fill="hold"/>
                                        <p:tgtEl>
                                          <p:spTgt spid="1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1206 C 0.03299 -0.3206 -0.01996 -0.11898 0.17118 -0.23657 C 0.17379 -0.23773 0.1757 -0.26944 0.175 -0.26481 E">
                                      <p:cBhvr>
                                        <p:cTn id="351" dur="20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0509 C 0.01302 -0.11227 0.02396 -0.12176 0.03836 -0.12477 C 0.06423 -0.14004 0.09392 -0.14653 0.12152 -0.14954 C 0.13941 -0.15671 0.15729 -0.16597 0.175 -0.16852 C 0.18281 -0.17592 0.18715 -0.17963 0.19583 -0.18194 C 0.20573 -0.1956 0.19583 -0.18518 0.21267 -0.19143 C 0.21423 -0.1919 0.2151 -0.19421 0.21684 -0.1956 C 0.23559 -0.20903 0.2184 -0.19606 0.23107 -0.20278 C 0.24461 -0.20995 0.25521 -0.22477 0.26857 -0.2331 C 0.27656 -0.24467 0.2908 -0.24606 0.30104 -0.25254 C 0.30677 -0.26481 0.29965 -0.25254 0.31041 -0.26018 C 0.31215 -0.26134 0.3125 -0.26481 0.31406 -0.26551 C 0.32014 -0.26967 0.33003 -0.27037 0.33628 -0.27129 C 0.34392 -0.27384 0.35034 -0.27569 0.35833 -0.27731 C 0.36146 -0.2787 0.36441 -0.28148 0.36736 -0.28287 C 0.37205 -0.28426 0.37691 -0.28518 0.38177 -0.2868 C 0.38524 -0.28935 0.38871 -0.29143 0.39201 -0.29421 C 0.39461 -0.29606 0.4 -0.29815 0.4 -0.29768 C 0.40277 -0.30046 0.40833 -0.30509 0.40833 -0.30486 E">
                                      <p:cBhvr>
                                        <p:cTn id="355" dur="2000" fill="hold"/>
                                        <p:tgtEl>
                                          <p:spTgt spid="1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C 0.06284 -0.04583 0.13871 0.01065 0.20468 0.0169 C 0.21423 0.02361 0.20764 0.02014 0.225 0.02014 E">
                                      <p:cBhvr>
                                        <p:cTn id="359" dur="2000" fill="hold"/>
                                        <p:tgtEl>
                                          <p:spTgt spid="1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 txBox="1"/>
          <p:nvPr/>
        </p:nvSpPr>
        <p:spPr>
          <a:xfrm>
            <a:off x="304920" y="9140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МЕТР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реч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ó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свет и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ré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измеряю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Прямоугольник 4"/>
          <p:cNvSpPr/>
          <p:nvPr/>
        </p:nvSpPr>
        <p:spPr>
          <a:xfrm>
            <a:off x="3054600" y="152280"/>
            <a:ext cx="304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Фотометр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Прямоугольник 6"/>
          <p:cNvSpPr/>
          <p:nvPr/>
        </p:nvSpPr>
        <p:spPr>
          <a:xfrm>
            <a:off x="152280" y="1447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дел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Т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кото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ают способы измерения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Прямоугольник 7"/>
          <p:cNvSpPr/>
          <p:nvPr/>
        </p:nvSpPr>
        <p:spPr>
          <a:xfrm>
            <a:off x="304920" y="2514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снове фотометрии как науки лежит разработ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ория светового поля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7" name="Picture 2" descr="Картинка 22 из 13090"/>
          <p:cNvPicPr/>
          <p:nvPr/>
        </p:nvPicPr>
        <p:blipFill>
          <a:blip r:embed="rId1"/>
          <a:stretch/>
        </p:blipFill>
        <p:spPr>
          <a:xfrm>
            <a:off x="152280" y="4191120"/>
            <a:ext cx="2590920" cy="215568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4" descr="Картинка 47 из 13089"/>
          <p:cNvPicPr/>
          <p:nvPr/>
        </p:nvPicPr>
        <p:blipFill>
          <a:blip r:embed="rId2"/>
          <a:stretch/>
        </p:blipFill>
        <p:spPr>
          <a:xfrm>
            <a:off x="6095880" y="4114800"/>
            <a:ext cx="2845080" cy="2133720"/>
          </a:xfrm>
          <a:prstGeom prst="rect">
            <a:avLst/>
          </a:prstGeom>
          <a:ln w="0">
            <a:noFill/>
          </a:ln>
        </p:spPr>
      </p:pic>
      <p:sp>
        <p:nvSpPr>
          <p:cNvPr id="1459" name="Прямоугольник 10"/>
          <p:cNvSpPr/>
          <p:nvPr/>
        </p:nvSpPr>
        <p:spPr>
          <a:xfrm>
            <a:off x="228600" y="3505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етово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— область  пространства, заполненная светом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Picture 6" descr="Картинка 16 из 13161"/>
          <p:cNvPicPr/>
          <p:nvPr/>
        </p:nvPicPr>
        <p:blipFill>
          <a:blip r:embed="rId3"/>
          <a:stretch/>
        </p:blipFill>
        <p:spPr>
          <a:xfrm>
            <a:off x="2971800" y="41148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4-02T18:42:0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