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6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33.png" ContentType="image/png"/>
  <Override PartName="/ppt/media/image9.png" ContentType="image/png"/>
  <Override PartName="/ppt/media/image10.png" ContentType="image/png"/>
  <Override PartName="/ppt/media/image27.jpeg" ContentType="image/jpeg"/>
  <Override PartName="/ppt/media/image13.gif" ContentType="image/gif"/>
  <Override PartName="/ppt/media/image23.gif" ContentType="image/gif"/>
  <Override PartName="/ppt/media/image16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12.jpeg" ContentType="image/jpeg"/>
  <Override PartName="/ppt/media/image4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jpeg" ContentType="image/jpeg"/>
  <Override PartName="/ppt/media/image19.gif" ContentType="image/gif"/>
  <Override PartName="/ppt/media/image21.gif" ContentType="image/gif"/>
  <Override PartName="/ppt/media/image24.gif" ContentType="image/gif"/>
  <Override PartName="/ppt/media/image17.png" ContentType="image/png"/>
  <Override PartName="/ppt/media/image18.gif" ContentType="image/gif"/>
  <Override PartName="/ppt/media/image20.gif" ContentType="image/gif"/>
  <Override PartName="/ppt/media/image22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3F7A8-4F63-4618-9F3F-F28F7F9A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D6EE2-5CF4-4BDA-8AB6-A444F20F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5D6AA-EBCA-4C0B-B659-45C9C3AC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8E630-9F91-4EDC-8016-B0F49A8F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3CEE4-510F-4389-8438-CA80291B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A0912-9229-4026-B1AB-EA1E1178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5E1ED-3803-448D-8E25-17CED776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2B992-18A1-4E0E-B56B-E21A7A8D8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3F105-9739-417C-B37F-D0BA57B7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11705-A873-4225-B832-77EE62160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5D1A5-F66B-4E54-875E-6886A3F8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E4681-4728-4B89-8EA0-994C1054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76FE7-29B7-4B75-BDB0-E8CA417E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5673B-50EB-4D85-897E-54FF7E41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2DDE54-344A-426D-83A8-B23EBD0D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09865-A8FD-4072-A73F-6EEB5475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97008-C56B-457D-99E3-496DEA14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50F57-B7E5-47A4-855E-61FC369B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F904E-B0D1-4934-83F0-C28F0145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E7E3E-A9B3-47D9-8972-1D6B67A73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2038B-334F-495C-887B-49515E4B0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44B02-5A29-42C0-B577-6B727CBD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84A27-57AE-4BB3-8D42-015F6820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1C7D64-7503-4555-B516-F8E71239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FD5A1-4CB7-487B-987A-1535071E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A634E-0B8B-439B-AEAD-36377A25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B733DA-9C0B-4677-8ED7-CA7A5C8C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6FFB0-0903-481B-87CD-5CE0353B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6436B4-3EFD-4F72-8EE5-9CA79A84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65C5D-E80D-41BD-958D-CAFC7926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0049-9842-473C-B55E-E1B2A98BC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AC0B0-D82D-448A-B5BE-F7C5D99F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194B0-600C-45D3-B40F-121A623DF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432F0-119B-42B6-ADD6-D6DF754F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AC6AE-DE66-4C6A-A75A-9D754281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61D83-FF84-45C4-AE39-443130F7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47B93-BEEE-4A59-9B95-6B159FE8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55B43-293B-445E-A75E-97BADAF3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85C49-E92A-4C83-85D7-2752CF76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88884-C2C3-4996-9663-29BA102B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6F9C2-698C-4F8A-A64E-52A2402A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DD8D-190F-4CA9-B235-C4C2A6E8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0124B-05F4-423A-959E-7360DD24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EE99C-9395-43FE-ABD5-B1305290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837CA-2CBE-4876-8F87-7B6652F2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4B2CA-1865-46AD-B558-BCB076720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6482C-C37E-4199-95FD-436D1702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69819-88FA-46D7-AE02-3561E99D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C9134-07E2-4D8F-882B-23CDFDBD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E68380-9B86-4730-A095-29070CA4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13E45-814C-4E97-BE91-089F34F4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F58DA3-033C-4552-88AD-6547F722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3AA3-D3E3-4DDA-819A-27865E19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10A1C-347A-4232-B9F7-3345C506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65BC33-1263-4E54-9BDB-65B545CE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AC0D14-6137-4C7F-B88B-B6D8BF4D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BF6C9-322C-42CE-8A5D-E321334F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D6DD4-4A20-4409-8620-087D4B80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9341A0-B1A1-49C8-9A87-FAED6CDA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27115-2B8A-4222-A047-125A8D97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ADAE71-5CCA-4126-A6D4-06BE3E3B9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8396AF-2B2A-4DA4-9046-1FF680B9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A8C742-8321-4779-9017-132BB3C8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AD66-D856-4BBB-8B82-FED20A63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2FD987-2EC5-41D9-9976-B3112CB5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9E3A62-D066-44C0-AAE5-14EA21AD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BE7F6F-ED13-4123-BA4C-62463EC6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B8D900-75A4-4565-90EE-3131B3DB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184084-7174-4CC0-BC0A-021AAE5F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C4F5B0-14E1-4523-8001-144B3731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71BA98-41C8-4F21-ACC2-AB9148E4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EE8EAD-A51E-43CC-9E93-4A04AFB3E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EA4868-7610-4EDA-A2A2-13F7EEC1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36B340-9802-4A52-B596-F90447C6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611C-6A7B-4DB8-B31F-D6DE8EA2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754538-F9E9-40E5-9276-1CE8C2DA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B089D5-D4E5-4971-B8CA-459D2404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A453B4-6052-4687-B230-FAF6E789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BFF66D-5170-4A33-A3AA-2D6694D1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A6B4D3-02E8-41EE-9C31-FE0EEE27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C3A165-3BB0-4B33-AA1A-71CF69F1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51B61F-966E-4CF5-B1F4-5947307D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7BFB5C-5676-4D3C-864B-972BBC9F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AC804B-3999-40D6-8427-582115BF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C1C2A1-833A-49B5-AFCA-1E240D6F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059A-002C-44CA-8496-B01AEBDA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C54877-815B-45CE-B55A-5E43C349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8AA458-12B1-4634-94EE-6E6E4125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E81245-A737-438D-AFBE-AC0016C4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4D7FC7-549C-4CD3-A2BF-9BA8B98C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308F2D-4A5F-4A1F-82DE-BA704F39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4B1C1A-63DF-433D-A157-BC6EB722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250118-2DB7-46AB-B810-999ACD28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F21221-7A72-488B-B120-24BB83D4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C5C37F-F0CA-458C-A014-54D76B3A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B80A0C-A03F-40AA-8E7A-0BD4BE82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B833-4355-4325-BC13-5B1BDC93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A14C74-FEF4-4501-81A8-5986A9F9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88A782-4391-40BE-8F5C-87E55D82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AFA476-2DBD-43A6-818D-5D3EF0DF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AC155F-511F-43A4-923D-B2606D38E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D58985-C6F7-49AA-A15F-87BB81AB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53FF20-F039-48F5-AFC7-1AA4261A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F82237-0326-478E-8514-467885A9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55553A-5AC3-407D-989B-646A69CD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28CB0A-B0D6-49C7-9EFA-500CEB9A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F7798B-B6D6-4172-B93B-3CBD35BD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2549-7BCC-4036-B079-E6E0221E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FA48B3-2291-401E-A48B-2A7D5BDC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62C927-E335-42CC-81F5-7E818022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E25F46-D854-435F-A649-C37D339C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6706A2-3374-43D5-B30A-09121ED58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F6C00B-AA5D-4BAB-BD56-01E80CC0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EE13603-90A4-44E4-90EB-6B3D05F3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B8FAFAC-71D7-4673-8577-2278CB06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0592C4F-4E1C-4CBD-97B0-5FC48670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83F5582-3473-4C61-A5EB-10A3507C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5FF66F1-5C3D-44EE-93D2-1138082D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F2BC-BB9F-45E1-9BC4-6F60BD9C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231C652-F309-459F-A010-ABD5F712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BDE885F-3B1D-4FF4-8696-B697BED2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D041269-AF5B-4364-AE3C-9220CA9F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815C6C6-8182-490B-B973-1A0F2C90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BE3A861-3BB2-4A14-8FE4-140482AE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6D6D2B3-D7C5-4790-8326-D021B3A1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AFB33A9-6E4C-4700-B835-996E358BC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5A43DE-34F9-4EB6-A734-08F9D5172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34B2EE-BA5E-4685-A4F3-19F3F54C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7EF039-ABC0-4E2A-8C35-A283D9FB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CD1F-2EB9-4FD2-9E93-68B371BC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0B2DE6-772E-469C-841B-13B15A0D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F228E7-B38C-41F8-B486-4A77D8A5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C9B79E-60A9-490D-BD6C-4F3B0B52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EA6B44-7289-45CF-B697-83422FB6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A42520-8F07-4245-ADE5-2EEE0C95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70AE7C-6DE0-40D8-A10F-DBF7D18F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E4C167-CF86-4690-B8D8-947F4651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9E62ED-D8B4-4DC6-BDE3-3E2BF53C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5D3E0D-00AE-45C8-9460-E384FE6B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3A0FE37-F059-4227-8382-7256674F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0D0D-B69C-4357-BBC7-2B393411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007F946-97FC-406A-8381-B2EB139C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858AB65-1C6E-4A58-B9A5-9B46D466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F35CE13-0A8F-4E06-B190-39020030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77AAF0E-ADA3-4211-A591-DEE99162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D08A070-A21E-49FC-893A-024B77B1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9DA94B5-69C3-466A-9601-527E7A22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0144770-EDB7-4233-8A48-B5AB1017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17B44F4-23DC-4A33-9155-69ACF963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BA239E9-0CB4-4D8F-B335-8BB74936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ED81FDB-00AB-4094-AA2A-AF828D6F5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7C0B-C64A-40A6-B9E0-781EA8CC5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BF8CD26-557C-4A53-9297-78F3067A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D108A6-8C18-46D6-B4E6-17AC0E174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B7D1D2-F91A-4379-BC3F-4606DF68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A1EBB1-67BB-434E-A7A2-B3DBB422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2DE903-7C49-4D86-A137-636CAEDB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67A8D4-E242-4A87-9B56-F7FDFEA4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D5D553-4FE6-484C-84A1-B46C7227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AFE9E1-E19B-4371-92DB-EFE0D152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80D85F-05AB-4434-96C5-7CA876D4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1AA68A-582D-4267-9807-83A184FB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8E11-8EE6-4FC9-B87B-213EEDC26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A0A89E-656B-4195-A35F-47E77284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17D08B-C69C-4E85-8B8F-1CDC13DE1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CFE46B-4CB4-4C6E-87FC-B8B8050E0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2B95E1-9C96-4E00-91DD-56BB55292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DBBA24-5CB5-4FE9-B1EA-08F233FC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5EAED8-E8AB-4C0A-95B9-89999A8C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CD1F25-DDC0-4B28-ABC6-447F40C9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9BE946-BF17-4009-82D1-89854EBC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737C2A-06CB-4987-9C97-CA8771E8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C385E2-7794-44B8-A952-C9908A98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FB4C-6952-4863-8AA7-7B659AD4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1CF5CD-2336-4485-8DF6-10EECED0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0072A4-5171-45CB-ABCD-4281F61F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F51D66-A63C-4FA6-805E-7D310D8B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9BB29B-0659-453F-84EB-4946DF90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16AE71-3C9E-4426-A154-03268299F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5EB870-8961-4850-AC54-57A9B542A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D8C117-185A-48B0-8275-D18BF0C0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71C329-875D-435C-871B-040D9A3B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77EC5B-590E-4DE6-B08B-65612DEF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D8BCFC-F766-4D6B-894A-F35B2214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250B-ABC3-449B-A74A-C00F4BA7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4DC44A-6E23-4F2C-B2BB-F2327649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9970FD-93D0-4FE8-820E-BCD2F5CD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AF450B-876F-402D-BC3E-BAD3C0FC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BF3523-C31B-423D-B862-B7FF10B4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67CE2B-AC72-4302-8208-6155FFD8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DBDDED-B339-4867-8671-4F3145B77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E0BA32-543C-4F37-856B-D612B072E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A0D603-BE74-4BFA-8C38-61301870E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CFE1A2-4D26-466F-B5CB-20A9C9C7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3D8A66-FC4A-47B5-95CA-7F01EBBD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97F1-ED86-4C3A-9DA2-42E17FA7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521C22-94A3-46D2-9AA0-819525E3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4C280A-A59D-4F59-999E-FB6320E1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699504-4F67-459F-8E00-7ABE40BA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8F505B-7092-4A79-BC58-CF7ABC56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49A269-DFCE-4556-9E0C-53BEE74C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D2AA36-903C-4B46-81C5-788C0E1C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464402-0C5F-4E9D-9A3A-75E547F4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AA8DAD-D448-417C-9BB5-A1BBA00DB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C34D05-65C2-4EB7-8F99-4978002D0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22502B7-1814-498C-884E-4A8D0A6E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5262-CEBD-47E4-81E2-26FB8B6E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2D234A0-A2C4-4AC2-9D6A-8BA8CB55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9236361-2E70-4DA5-B81A-A753C5C8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C4D17E8-6492-404F-9631-BE1C119E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4848894-6C86-4FE8-A87A-FAE5A922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D3FF519-D987-4847-B2AD-8A5C6462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CC10C0D-A146-42BA-9C02-5B93A7B9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129E713-0540-4DD8-A09A-536F1D3B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1059B4A-AED0-4365-8BF3-127AF064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F4A93E1-0529-4FA0-9A0A-8C9097D8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9AD17F6-DB52-4094-B278-B584EDAB2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ADEA-ED6C-4330-BA3F-CCD73DD0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564BB11-7E0A-424C-BC40-8D173B90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2E5E9C3-3C5D-44AB-B009-40742E9DD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158F75B-425A-4023-8A37-76DFC944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FA8CE38-A9D3-4A5B-A0A3-F072CE02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5B596B5-5898-4818-824E-0137FC4C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B29B69B-ABA4-4B80-A76E-9E83B9FE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4E977A8-ACDA-4042-9474-24224CD0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33AE73B-F4FC-47DC-9DAC-598F3CE3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F968A2E-B6D7-48A7-B648-0B2E0FF8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F0F510F-0CF5-484F-9B07-C5973CCF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B519-F217-4BDC-AFF0-8261569F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79A441D-F654-43AC-9F03-621D8FCC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B5B7D7B-078E-46AB-BC35-EFFD8E437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5704D3D-6C1E-47CB-A75B-99E770B4B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D73DE3-63BB-415C-8C10-D48D956A7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0A71EF-A749-4CCD-ACDC-5429DD26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1D367A-CA3D-4099-AE7B-643F9CB0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D678E3-BB76-4C60-8608-795E6AFD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B688D3-1661-48F7-B376-065F7155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B84B6D-443F-4CEF-BF8C-0E899441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AE5A9E-AF66-4D82-96FC-F6D42964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D9C4-869C-4CA9-92D3-73EB1FCC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81BCBC2-1E15-4C91-A68C-C96E2673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B96CFE-4534-4528-9EF1-C4D19DFF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B7C343-ED69-4F3C-896A-9CFE4015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8681AF-6645-4736-9334-1AB2A12D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E9100E-3CE1-463C-82BC-7A332156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DB91C2-D961-4572-9E8A-2EB6C198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7C5051-5A50-4BA6-99AE-8DBB0382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B4EAEDB-3A16-48F7-AA43-DAE914D2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D8BA28F-96F1-4B28-925F-73155A51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A1C4D8-EBCF-40C7-8B56-5EDA53D6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3B7C-1DFE-4C99-ABB8-97B15435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AD6A6FC-AB25-4B13-B605-24612B8D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B4A864-304C-4158-928E-599EAA00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D3A3C71-522E-42B6-A4F7-37445B83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B5779D4-F8C1-48BC-BFAE-51E5B192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2F84ED-884D-4226-A890-AD13BC74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17AD7CB-E5F7-4D93-B4F0-CEDBDDE9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D90B5F-7BAA-4EEB-B293-1956D90EC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8229-6F04-4168-BD4B-7BAF6D1F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CE72-BAB1-46AA-BDFD-51BB7A66E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A77C-59F8-4FFA-895D-568ADC410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FAC94-640B-48B7-B50B-D54CFE7B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6A852-08DA-42EB-A075-D6DFFAAA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383CE-2357-4D54-B097-AC28C6A6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D98C3-4819-44D5-9F6C-C0E70525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118F5-8400-4301-A151-961738F4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24BCB-E998-45C7-A78E-BF0DCEB9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956DC-826A-454F-90FA-C4C480BB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6D5E4-3770-4274-B0EC-05E956C8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CB89A-77B0-4253-9038-9D9AD0B4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25472-12CD-4F98-B49B-76A4B88E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FFCA7-FBD7-44B4-9A96-EA7D496C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57163-0E3A-46E9-B4FB-6402BA2D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E932E-A49A-4603-8163-EB4D31DE4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B39AE-B913-4BE0-9443-1A2CB767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477E4-C965-4CB1-B9F4-BBA46AA4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A82DE-75E6-4DC0-BB39-D0547535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84A97-6E7C-481F-B973-7B7A41AD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2F890-0B37-49F8-9D3E-E13B52F2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BA602-F336-4830-9C93-17DE2D76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6B419-7196-4A4C-965F-5699BA8A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4070D-44CB-4B84-A878-A1A2E19F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07802-6105-4FDB-9792-A80561CB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170E5-7F91-4160-A367-B340B63CD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36F6C-8AB1-4A90-A7DF-87E5653E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62FA4-3D21-4269-9635-D78364733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CE3B0-0474-44C6-849B-FF1C9D6B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59E56-E1F7-4991-A988-69C19F3A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FB3E1-DA1B-4F56-A9E9-3165F5F2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F641C-5E28-4D7E-89AC-7E4F119D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D1CAB-8AE7-4334-9284-BCCCFC8E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54456-137A-444C-AED6-241FEB3C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57792-1FEC-4E6F-86A6-055AD7A1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3F03B-7544-4CC7-A712-3D9E10CC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11359-E530-461E-8720-DC86DFC8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6C0AA-D7BA-4142-B346-958FD135F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AABC1-129F-445F-9756-11D151107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01925-817A-4DA0-9DD9-7D87FB782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30AC7-87FE-4958-A047-863C3E07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F1456-FA8E-405E-8B25-EFD6EF62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B549E-ED66-4105-8982-7C6D9CF3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62A99-036E-41A5-BD96-D3F0678A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5D3BC-0724-423F-A795-59356DC0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518FE-0960-4ABD-845E-ADB84ADE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A701D-8358-40FF-9EA8-09A4B74F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0FDB6-6721-40AB-80EA-60F19D72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152EE-60A4-4A76-BA2D-8D2353C8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9B3E8-7272-4C73-9A37-65A29FC5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94102-21B8-48FB-8D78-7E3AD48E7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12C1A-F1F6-4085-B20B-388F7B84A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EE123-01AB-421E-B8DA-21603CA8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9CC7C-8EE3-481F-849C-3F9919A2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8FFCB-1277-44AE-978D-BACE7F87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C2580-F893-4E37-96D9-19A9C85B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24CEF-1E23-45D6-B9C0-80DBEE03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1B712-27C6-40BB-BBE8-479F3299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BFC98-AFDD-4387-ABDB-B41CE59D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28BD8-9309-433E-8652-EB4AEE69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2A473-C696-4D19-B8ED-6B1C5BCF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A9F35-F153-4F81-BD2F-4585D576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382EC-1161-4C52-86E1-0B59B67F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24411-1368-40A8-B333-7B5A8F7E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BA5C7-63DF-4BC5-AF21-2264E275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30C1B-4569-4F47-B0F7-375CD9AE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727E-0A2B-413B-9ECC-A32CDF60846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53E6-7C79-4D03-B24A-C5F868A8F1E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628F-5525-47BE-9D63-51FE0171807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E8B8-EEC5-452C-8ABF-DCE605B8E0C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3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1CBF-963A-42DF-9974-88D64DDB118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dt" idx="4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ftr" idx="41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 type="sldNum" idx="4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12B1-2588-4E4B-A8EE-311BD9A9962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4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4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4BB4-E1DA-4112-8078-E60F958C60F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4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4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4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418A-B8AE-485E-BC54-C8DCC8A8A69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3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904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5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49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sldNum" idx="50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C451-5DEB-4DD3-9EEB-8A83FAE8D63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ftr" idx="51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94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dt" idx="5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ftr" idx="5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 type="sldNum" idx="5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644E-35D6-4FB0-8701-9F724AAC6D3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62" name="Rectangle 7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8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Oval 9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Oval 10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Oval 11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Oval 12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Oval 13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Oval 14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Oval 15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Oval 16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Oval 17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18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19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Oval 20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21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22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23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24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Oval 25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Oval 26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Oval 27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Oval 28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Oval 29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Oval 30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Oval 31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Oval 32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Oval 33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Oval 34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Oval 35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Oval 36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Oval 37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Oval 38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Oval 39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40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41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42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Oval 43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44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45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46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47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48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Oval 49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Oval 50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Oval 51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Oval 52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53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09" name="Oval 54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55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56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57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58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Oval 59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Oval 60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Oval 61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Oval 62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Oval 63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64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Oval 65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Oval 66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67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68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69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70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Rectangle 71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72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73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74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75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76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77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0D09-D305-4AE4-B79D-A447815595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 type="dt" idx="5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 type="sldNum" idx="5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20C0-56E4-4856-82DC-102D1E47C21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 type="ftr" idx="5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03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dt" idx="5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ftr" idx="59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sldNum" idx="60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D7D0-CE15-4B9B-A8D6-F2B2B015F6F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9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080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dt" idx="6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ftr" idx="62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 type="sldNum" idx="63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3AFC-44B1-4616-8E07-444F2650932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12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 type="dt" idx="6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 type="ftr" idx="6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 type="sldNum" idx="6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91E2-1881-47D1-A034-19253C1B3B0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17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 type="dt" idx="6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 type="ftr" idx="6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 type="sldNum" idx="6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80B9-1037-4D9C-BA35-AD47A9CF905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 type="dt" idx="7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 type="sldNum" idx="7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0CD7-9A3C-42D4-B44C-516B3404C4B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 type="ftr" idx="7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 type="dt" idx="73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 type="sldNum" idx="74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DCC6-0295-4B8E-AEAC-B9C56505E04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 type="ftr" idx="75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29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 type="dt" idx="7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 type="ftr" idx="7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 type="sldNum" idx="78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9914-C820-4091-B08F-6D2E7D619E4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4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 type="dt" idx="7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 type="ftr" idx="8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 type="sldNum" idx="8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3134-6A85-4A65-974D-7136BFFFB0B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603E-A412-48E6-BEAF-B048308342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D022-6568-44E5-B134-64B3061E7D2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5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PlaceHolder 1"/>
          <p:cNvSpPr>
            <a:spLocks noGrp="1"/>
          </p:cNvSpPr>
          <p:nvPr>
            <p:ph type="ftr" idx="1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dt" idx="1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12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CAE2-6628-4268-A56F-D5AA4866016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304" name="Rectangle 5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6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Oval 7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Oval 8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Oval 9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10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Oval 11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Oval 12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13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Oval 14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Oval 15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Oval 16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Oval 17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Oval 18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Oval 19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Oval 20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21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Oval 22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Oval 23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24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Oval 25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Oval 26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Oval 27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28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Oval 29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Oval 30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Oval 31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Oval 32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Oval 33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34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Oval 35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Oval 36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Oval 37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Oval 38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Oval 39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Oval 40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Oval 41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Oval 42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43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Oval 44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Oval 45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Oval 46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Oval 47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48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Oval 49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Oval 50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Group 51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351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Rectangle 69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70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71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72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73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74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Oval 75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3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4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5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B9A9-6098-4E24-81F6-70E5427E31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9C79-3C8C-4D32-ABA3-C59DCDA4A09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3C65-7499-4006-8FA8-D8EA680B9BF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508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23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24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5E80-5C63-418F-975A-EDEF494C648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13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png"/><Relationship Id="rId7" Type="http://schemas.openxmlformats.org/officeDocument/2006/relationships/image" Target="../media/image23.gif"/><Relationship Id="rId8" Type="http://schemas.openxmlformats.org/officeDocument/2006/relationships/image" Target="../media/image24.gif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e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WordArt 4"/>
          <p:cNvSpPr txBox="1"/>
          <p:nvPr/>
        </p:nvSpPr>
        <p:spPr>
          <a:xfrm>
            <a:off x="609480" y="914400"/>
            <a:ext cx="80773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ТИК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6" name="Text Box 5"/>
          <p:cNvSpPr/>
          <p:nvPr/>
        </p:nvSpPr>
        <p:spPr>
          <a:xfrm>
            <a:off x="1752480" y="3352680"/>
            <a:ext cx="5867640" cy="398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b69249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37f5b"/>
                </a:solidFill>
                <a:latin typeface="Arial"/>
              </a:rPr>
              <a:t>Учебно-методическое пособие для студен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Прямоугольник 3"/>
          <p:cNvSpPr/>
          <p:nvPr/>
        </p:nvSpPr>
        <p:spPr>
          <a:xfrm>
            <a:off x="2362320" y="4876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Преподаватель ГОУ СП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«Благовещенский медицинский техникум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Качанова Ирина Алексее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Box 5"/>
          <p:cNvSpPr/>
          <p:nvPr/>
        </p:nvSpPr>
        <p:spPr>
          <a:xfrm>
            <a:off x="4343400" y="58672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c000"/>
                </a:solidFill>
                <a:latin typeface="바탕"/>
                <a:ea typeface="바탕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"/>
          <p:cNvSpPr txBox="1"/>
          <p:nvPr/>
        </p:nvSpPr>
        <p:spPr>
          <a:xfrm>
            <a:off x="228240" y="114300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чина, измеряемая количеством энергии, которую излучает источник света за единицу времени называется </a:t>
            </a:r>
            <a:r>
              <a:rPr b="1" lang="ru-RU" sz="3200" spc="-1" strike="noStrike">
                <a:solidFill>
                  <a:srgbClr val="be3802"/>
                </a:solidFill>
                <a:latin typeface="Arial"/>
              </a:rPr>
              <a:t>световым пото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Прямоугольник 3"/>
          <p:cNvSpPr/>
          <p:nvPr/>
        </p:nvSpPr>
        <p:spPr>
          <a:xfrm>
            <a:off x="2743200" y="228600"/>
            <a:ext cx="38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ветовой пот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4" name="Object 3"/>
              <p:cNvSpPr txBox="1"/>
              <p:nvPr/>
            </p:nvSpPr>
            <p:spPr>
              <a:xfrm>
                <a:off x="990720" y="3429000"/>
                <a:ext cx="175248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ε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465" name="Прямая со стрелкой 9"/>
          <p:cNvCxnSpPr/>
          <p:nvPr/>
        </p:nvCxnSpPr>
        <p:spPr>
          <a:xfrm flipH="1">
            <a:off x="1218960" y="4419360"/>
            <a:ext cx="216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6" name="Прямая со стрелкой 11"/>
          <p:cNvCxnSpPr/>
          <p:nvPr/>
        </p:nvCxnSpPr>
        <p:spPr>
          <a:xfrm>
            <a:off x="2590920" y="4495320"/>
            <a:ext cx="1296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7" name="Прямая со стрелкой 12"/>
          <p:cNvCxnSpPr/>
          <p:nvPr/>
        </p:nvCxnSpPr>
        <p:spPr>
          <a:xfrm>
            <a:off x="2819160" y="3809520"/>
            <a:ext cx="1143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68" name="Прямоугольник 19"/>
          <p:cNvSpPr/>
          <p:nvPr/>
        </p:nvSpPr>
        <p:spPr>
          <a:xfrm>
            <a:off x="4205520" y="4648320"/>
            <a:ext cx="28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рем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, мин., час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Прямоугольник 20"/>
          <p:cNvSpPr/>
          <p:nvPr/>
        </p:nvSpPr>
        <p:spPr>
          <a:xfrm>
            <a:off x="4267080" y="35812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энерг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Прямоугольник 21"/>
          <p:cNvSpPr/>
          <p:nvPr/>
        </p:nvSpPr>
        <p:spPr>
          <a:xfrm>
            <a:off x="315720" y="563868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 txBox="1"/>
          <p:nvPr/>
        </p:nvSpPr>
        <p:spPr>
          <a:xfrm>
            <a:off x="228600" y="990720"/>
            <a:ext cx="58672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светового потока, ограниченная конической или циклической поверхностью, называется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товым пуч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Прямоугольник 3"/>
          <p:cNvSpPr/>
          <p:nvPr/>
        </p:nvSpPr>
        <p:spPr>
          <a:xfrm>
            <a:off x="927720" y="228600"/>
            <a:ext cx="740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ветовой пучок. Световой луч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3" name="Picture 2" descr="Картинка 17 из 5169"/>
          <p:cNvPicPr/>
          <p:nvPr/>
        </p:nvPicPr>
        <p:blipFill>
          <a:blip r:embed="rId1"/>
          <a:stretch/>
        </p:blipFill>
        <p:spPr>
          <a:xfrm>
            <a:off x="5791320" y="838080"/>
            <a:ext cx="2666880" cy="191160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4" descr="Картинка 38 из 24455"/>
          <p:cNvPicPr/>
          <p:nvPr/>
        </p:nvPicPr>
        <p:blipFill>
          <a:blip r:embed="rId2"/>
          <a:stretch/>
        </p:blipFill>
        <p:spPr>
          <a:xfrm>
            <a:off x="304920" y="2971800"/>
            <a:ext cx="2666880" cy="1785960"/>
          </a:xfrm>
          <a:prstGeom prst="rect">
            <a:avLst/>
          </a:prstGeom>
          <a:ln w="0">
            <a:noFill/>
          </a:ln>
        </p:spPr>
      </p:pic>
      <p:sp>
        <p:nvSpPr>
          <p:cNvPr id="1475" name="Прямоугольник 6"/>
          <p:cNvSpPr/>
          <p:nvPr/>
        </p:nvSpPr>
        <p:spPr>
          <a:xfrm>
            <a:off x="3276720" y="3048120"/>
            <a:ext cx="5410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ветовой луч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линия, по направлению которой распространяется световой пуч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Прямоугольник 7"/>
          <p:cNvSpPr/>
          <p:nvPr/>
        </p:nvSpPr>
        <p:spPr>
          <a:xfrm>
            <a:off x="239040" y="4952880"/>
            <a:ext cx="8634240" cy="581400"/>
          </a:xfrm>
          <a:prstGeom prst="rect">
            <a:avLst/>
          </a:prstGeom>
          <a:solidFill>
            <a:srgbClr val="cbe2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Световой пучок – это поток световой энер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Прямоугольник 8"/>
          <p:cNvSpPr/>
          <p:nvPr/>
        </p:nvSpPr>
        <p:spPr>
          <a:xfrm>
            <a:off x="228600" y="5638680"/>
            <a:ext cx="8763120" cy="10688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Световой луч – это направлени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по которому распространяется энер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 txBox="1"/>
          <p:nvPr/>
        </p:nvSpPr>
        <p:spPr>
          <a:xfrm>
            <a:off x="228240" y="990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пространства, ограниченная некоторой конической поверхностью, называется телесным углом          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9" name="Прямоугольник 3"/>
          <p:cNvSpPr/>
          <p:nvPr/>
        </p:nvSpPr>
        <p:spPr>
          <a:xfrm>
            <a:off x="2669400" y="228600"/>
            <a:ext cx="361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Телесный уго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0" name="Picture 2" descr="http://www.bymath.net/studyguide/geo/sec/geo20.gif"/>
          <p:cNvPicPr/>
          <p:nvPr/>
        </p:nvPicPr>
        <p:blipFill>
          <a:blip r:embed="rId1"/>
          <a:srcRect l="2862" t="0" r="14282" b="3882"/>
          <a:stretch/>
        </p:blipFill>
        <p:spPr>
          <a:xfrm>
            <a:off x="533520" y="1828800"/>
            <a:ext cx="1676160" cy="1792440"/>
          </a:xfrm>
          <a:prstGeom prst="rect">
            <a:avLst/>
          </a:prstGeom>
          <a:ln w="0">
            <a:noFill/>
          </a:ln>
        </p:spPr>
      </p:pic>
      <p:sp>
        <p:nvSpPr>
          <p:cNvPr id="1481" name="Прямоугольник 5"/>
          <p:cNvSpPr/>
          <p:nvPr/>
        </p:nvSpPr>
        <p:spPr>
          <a:xfrm>
            <a:off x="2362320" y="21337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лесный угол измеряется частью сферической поверхности  ABCD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3" name="Object 3"/>
              <p:cNvSpPr txBox="1"/>
              <p:nvPr/>
            </p:nvSpPr>
            <p:spPr>
              <a:xfrm>
                <a:off x="3581280" y="3733920"/>
                <a:ext cx="183852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Object 5"/>
              <p:cNvSpPr txBox="1"/>
              <p:nvPr/>
            </p:nvSpPr>
            <p:spPr>
              <a:xfrm>
                <a:off x="6400800" y="1219320"/>
                <a:ext cx="8002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485" name="Прямая со стрелкой 12"/>
          <p:cNvCxnSpPr/>
          <p:nvPr/>
        </p:nvCxnSpPr>
        <p:spPr>
          <a:xfrm>
            <a:off x="5409720" y="411480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6" name="Прямая со стрелкой 13"/>
          <p:cNvCxnSpPr/>
          <p:nvPr/>
        </p:nvCxnSpPr>
        <p:spPr>
          <a:xfrm flipH="1" flipV="1">
            <a:off x="2894760" y="457164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7" name="Прямая со стрелкой 14"/>
          <p:cNvCxnSpPr/>
          <p:nvPr/>
        </p:nvCxnSpPr>
        <p:spPr>
          <a:xfrm>
            <a:off x="5257440" y="49525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88" name="TextBox 17"/>
          <p:cNvSpPr/>
          <p:nvPr/>
        </p:nvSpPr>
        <p:spPr>
          <a:xfrm>
            <a:off x="6248520" y="37339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щадь сфер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TextBox 18"/>
          <p:cNvSpPr/>
          <p:nvPr/>
        </p:nvSpPr>
        <p:spPr>
          <a:xfrm>
            <a:off x="60958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диус сфер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Прямоугольник 19"/>
          <p:cNvSpPr/>
          <p:nvPr/>
        </p:nvSpPr>
        <p:spPr>
          <a:xfrm>
            <a:off x="152280" y="4114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ый 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ерадиано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2" name="Object 7"/>
              <p:cNvSpPr txBox="1"/>
              <p:nvPr/>
            </p:nvSpPr>
            <p:spPr>
              <a:xfrm>
                <a:off x="2743200" y="5638680"/>
                <a:ext cx="253368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2000" fill="hold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2000" fill="hold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2000" fill="hold"/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2000" fill="hold"/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2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 txBox="1"/>
          <p:nvPr/>
        </p:nvSpPr>
        <p:spPr>
          <a:xfrm>
            <a:off x="228600" y="837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, измеряемая количеством энергии, которое излучается источником света за единицу времени внутри телесного угла, называ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лой света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Прямоугольник 3"/>
          <p:cNvSpPr/>
          <p:nvPr/>
        </p:nvSpPr>
        <p:spPr>
          <a:xfrm>
            <a:off x="1406520" y="152280"/>
            <a:ext cx="634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ила света. Освещенн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6" name="Object 1"/>
              <p:cNvSpPr txBox="1"/>
              <p:nvPr/>
            </p:nvSpPr>
            <p:spPr>
              <a:xfrm>
                <a:off x="1676520" y="2057400"/>
                <a:ext cx="10666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Ф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497" name="Прямая со стрелкой 6"/>
          <p:cNvCxnSpPr/>
          <p:nvPr/>
        </p:nvCxnSpPr>
        <p:spPr>
          <a:xfrm>
            <a:off x="3048120" y="2286000"/>
            <a:ext cx="838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8" name="Прямая со стрелкой 9"/>
          <p:cNvCxnSpPr/>
          <p:nvPr/>
        </p:nvCxnSpPr>
        <p:spPr>
          <a:xfrm flipH="1">
            <a:off x="1751760" y="2743200"/>
            <a:ext cx="25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9" name="Прямая со стрелкой 10"/>
          <p:cNvCxnSpPr/>
          <p:nvPr/>
        </p:nvCxnSpPr>
        <p:spPr>
          <a:xfrm>
            <a:off x="2666520" y="2819160"/>
            <a:ext cx="114372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00" name="Прямоугольник 13"/>
          <p:cNvSpPr/>
          <p:nvPr/>
        </p:nvSpPr>
        <p:spPr>
          <a:xfrm>
            <a:off x="4125600" y="213372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Прямоугольник 17"/>
          <p:cNvSpPr/>
          <p:nvPr/>
        </p:nvSpPr>
        <p:spPr>
          <a:xfrm>
            <a:off x="3962520" y="2971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ый 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ерадиано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Прямоугольник 18"/>
          <p:cNvSpPr/>
          <p:nvPr/>
        </p:nvSpPr>
        <p:spPr>
          <a:xfrm>
            <a:off x="165960" y="3276720"/>
            <a:ext cx="34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свет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андела)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Содержимое 2"/>
          <p:cNvSpPr/>
          <p:nvPr/>
        </p:nvSpPr>
        <p:spPr>
          <a:xfrm>
            <a:off x="228600" y="39625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, измеряемая количеством световой энергии, подающей на единицу поверхности тела за одну секунду, называ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вещенно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5" name="Object 3"/>
              <p:cNvSpPr txBox="1"/>
              <p:nvPr/>
            </p:nvSpPr>
            <p:spPr>
              <a:xfrm>
                <a:off x="3124080" y="5181480"/>
                <a:ext cx="121932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Ф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6" name="Прямоугольник 29"/>
          <p:cNvSpPr/>
          <p:nvPr/>
        </p:nvSpPr>
        <p:spPr>
          <a:xfrm>
            <a:off x="4963680" y="510552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Box 30"/>
          <p:cNvSpPr/>
          <p:nvPr/>
        </p:nvSpPr>
        <p:spPr>
          <a:xfrm>
            <a:off x="4800600" y="5867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щадь поверхност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Прямоугольник 31"/>
          <p:cNvSpPr/>
          <p:nvPr/>
        </p:nvSpPr>
        <p:spPr>
          <a:xfrm>
            <a:off x="169920" y="61722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ещен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люк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9" name="Прямая со стрелкой 32"/>
          <p:cNvCxnSpPr/>
          <p:nvPr/>
        </p:nvCxnSpPr>
        <p:spPr>
          <a:xfrm flipH="1">
            <a:off x="2437560" y="5791320"/>
            <a:ext cx="6865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0" name="Прямая со стрелкой 33"/>
          <p:cNvCxnSpPr/>
          <p:nvPr/>
        </p:nvCxnSpPr>
        <p:spPr>
          <a:xfrm>
            <a:off x="4343040" y="60955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1" name="Прямая со стрелкой 34"/>
          <p:cNvCxnSpPr/>
          <p:nvPr/>
        </p:nvCxnSpPr>
        <p:spPr>
          <a:xfrm>
            <a:off x="4343040" y="54097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2000" fill="hold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1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1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1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2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2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59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9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79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/>
          </p:nvPr>
        </p:nvSpPr>
        <p:spPr>
          <a:xfrm>
            <a:off x="151920" y="68544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сохранения зрения и создания нормальных условий труда необходимо поддерживать наиболее благоприятную освещен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тимальные нормы освещенности (л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абочем месте для тонких работ ........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чтения ...................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абочем месте для грубых работ .......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оридорах и на лестницах..........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ходы в помещениях.............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улицах  и площадях.............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 дворах и подъездах.............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сьма специфические требования предъявляются к освещенности операционного поля в хирургии. Падающий на операционное поле свет должен создавать равномерную оптимальную освещенность при минимальном тепловом эффекте, не утомлять врача и не создавать т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этой цели применяются лампы специальной конструкции, так называемые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теневые лам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Arial"/>
              </a:rPr>
              <a:t>Нормы освещен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2000" fill="hold"/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2000" fill="hold"/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500"/>
                            </p:stCondLst>
                            <p:childTnLst>
                              <p:par>
                                <p:cTn id="7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4500"/>
                            </p:stCondLst>
                            <p:childTnLst>
                              <p:par>
                                <p:cTn id="7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6500"/>
                            </p:stCondLst>
                            <p:childTnLst>
                              <p:par>
                                <p:cTn id="7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8500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2500"/>
                            </p:stCondLst>
                            <p:childTnLst>
                              <p:par>
                                <p:cTn id="7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2000" fill="hold"/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2000" fill="hold"/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2000" fill="hold"/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2000" fill="hold"/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4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1515" name=""/>
          <p:cNvSpPr txBox="1"/>
          <p:nvPr/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ru.wikipedia.org ›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Википедия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5terka.com ›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Геометрическая оптика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3dfef"/>
                </a:solidFill>
                <a:uFillTx/>
                <a:latin typeface="Rockwell"/>
              </a:rPr>
              <a:t>images.yandex.ru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›</a:t>
            </a:r>
            <a:r>
              <a:rPr b="1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Яндекс. Картинки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http://www.bymath.net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›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Вся элементарная математика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cc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/>
          </p:nvPr>
        </p:nvSpPr>
        <p:spPr>
          <a:xfrm>
            <a:off x="1828440" y="22856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Оптика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Источники света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Фотометрия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ветовой поток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ветовой пучок. Световой луч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ила света. Освещенность. 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Нормы освещенности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390" name="WordArt 4"/>
          <p:cNvSpPr txBox="1"/>
          <p:nvPr/>
        </p:nvSpPr>
        <p:spPr>
          <a:xfrm>
            <a:off x="2362320" y="533520"/>
            <a:ext cx="632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держ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"/>
          <p:cNvSpPr txBox="1"/>
          <p:nvPr/>
        </p:nvSpPr>
        <p:spPr>
          <a:xfrm>
            <a:off x="228240" y="990360"/>
            <a:ext cx="8534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здел физики, изучающий световые явления, получил название оптик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от греч. «оптикос» зрительный),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 световые явления обычно называются оптическ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Box 5"/>
          <p:cNvSpPr/>
          <p:nvPr/>
        </p:nvSpPr>
        <p:spPr>
          <a:xfrm>
            <a:off x="228600" y="3429000"/>
            <a:ext cx="8610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ветить на вопросы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ие способы передачи воздействий существуют? Приведите приме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ие теории по изучению света были выдвинуты и чем они отличалис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о называют геометрической оптико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ое положение геометрической опт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3" name="Прямоугольник 6" descr=""/>
          <p:cNvPicPr/>
          <p:nvPr/>
        </p:nvPicPr>
        <p:blipFill>
          <a:blip r:embed="rId1"/>
          <a:stretch/>
        </p:blipFill>
        <p:spPr>
          <a:xfrm>
            <a:off x="3157560" y="19080"/>
            <a:ext cx="2500200" cy="865080"/>
          </a:xfrm>
          <a:prstGeom prst="rect">
            <a:avLst/>
          </a:prstGeom>
          <a:ln w="0">
            <a:noFill/>
          </a:ln>
        </p:spPr>
      </p:pic>
      <p:sp>
        <p:nvSpPr>
          <p:cNvPr id="1394" name="Прямоугольник 8"/>
          <p:cNvSpPr/>
          <p:nvPr/>
        </p:nvSpPr>
        <p:spPr>
          <a:xfrm>
            <a:off x="304920" y="2438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Работа с учебником Физика 11кл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Г.Я. Мякишев, Б.Б. Буханцев стр. 168 – 17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пособы передачи воздейств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нос вещества от источника к приемнику. (ударить по струн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рение состояния среды между телами (без переноса вещества). (две струны поместить рядом и звуковые волны от первой струны дойдя до второй вызовут ее звуча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404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рпускуля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0" y="1142640"/>
            <a:ext cx="4573440" cy="3962520"/>
          </a:xfrm>
          <a:prstGeom prst="rect">
            <a:avLst/>
          </a:prstGeom>
          <a:solidFill>
            <a:srgbClr val="cbe2a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Изучением данной теории занимался Нью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Свет – это поток частиц, идущих от источника во все стороны </a:t>
            </a:r>
            <a:r>
              <a:rPr b="0" lang="ru-RU" sz="20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(перенос вещества</a:t>
            </a:r>
            <a:r>
              <a:rPr b="0" lang="ru-RU" sz="2000" spc="-1" strike="noStrike">
                <a:solidFill>
                  <a:srgbClr val="3333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Затруд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Почему световые пучки, пересекаются в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39621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лн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4572000" y="1142640"/>
            <a:ext cx="4572000" cy="3962520"/>
          </a:xfrm>
          <a:prstGeom prst="rect">
            <a:avLst/>
          </a:prstGeom>
          <a:solidFill>
            <a:srgbClr val="d3d3d9"/>
          </a:solidFill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Изучением данной теории занимался Гюйге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Свет – это волны, распространяющиеся в особой гипотетической среде  - эфире, заполняющем все пространство проникающем внутрь всех 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Затруд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Прямолинейное распространение и образование те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пускулярная и волновая теории с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Box 7"/>
          <p:cNvSpPr/>
          <p:nvPr/>
        </p:nvSpPr>
        <p:spPr>
          <a:xfrm>
            <a:off x="152280" y="5181480"/>
            <a:ext cx="853452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Во второй половине </a:t>
            </a:r>
            <a:r>
              <a:rPr b="0" lang="en-US" sz="2400" spc="-1" strike="noStrike">
                <a:solidFill>
                  <a:srgbClr val="363636"/>
                </a:solidFill>
                <a:latin typeface="Times New Roman"/>
              </a:rPr>
              <a:t>XIX</a:t>
            </a: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 века – свет рассматривали как волн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Box 8"/>
          <p:cNvSpPr/>
          <p:nvPr/>
        </p:nvSpPr>
        <p:spPr>
          <a:xfrm>
            <a:off x="152280" y="5657760"/>
            <a:ext cx="8534520" cy="1191240"/>
          </a:xfrm>
          <a:prstGeom prst="rect">
            <a:avLst/>
          </a:prstGeom>
          <a:solidFill>
            <a:srgbClr val="95e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В начале </a:t>
            </a:r>
            <a:r>
              <a:rPr b="0" lang="en-US" sz="2400" spc="-1" strike="noStrike">
                <a:solidFill>
                  <a:srgbClr val="363636"/>
                </a:solidFill>
                <a:latin typeface="Times New Roman"/>
              </a:rPr>
              <a:t>XX</a:t>
            </a: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 века представления о природе сета изменили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Свет при излучении и поглощении ведет себя подобно потоку част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Picture 7" descr="Картинка 2 из 12497"/>
          <p:cNvPicPr/>
          <p:nvPr/>
        </p:nvPicPr>
        <p:blipFill>
          <a:blip r:embed="rId1"/>
          <a:stretch/>
        </p:blipFill>
        <p:spPr>
          <a:xfrm>
            <a:off x="5105520" y="4952880"/>
            <a:ext cx="1676160" cy="1408320"/>
          </a:xfrm>
          <a:prstGeom prst="rect">
            <a:avLst/>
          </a:prstGeom>
          <a:ln w="0">
            <a:noFill/>
          </a:ln>
        </p:spPr>
      </p:pic>
      <p:sp>
        <p:nvSpPr>
          <p:cNvPr id="1405" name="TextBox 1"/>
          <p:cNvSpPr/>
          <p:nvPr/>
        </p:nvSpPr>
        <p:spPr>
          <a:xfrm>
            <a:off x="152280" y="1522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ени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нтерференции и дифрак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жно было объяснить, есл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в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считать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ол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TextBox 2"/>
          <p:cNvSpPr/>
          <p:nvPr/>
        </p:nvSpPr>
        <p:spPr>
          <a:xfrm>
            <a:off x="457200" y="34290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ени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злучения и поглощ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жно было объяснить, есл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в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считать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отоком част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Прямоугольник 3"/>
          <p:cNvSpPr/>
          <p:nvPr/>
        </p:nvSpPr>
        <p:spPr>
          <a:xfrm>
            <a:off x="304920" y="11430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нтерференция с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ожение световых вол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8" name="Picture 2" descr="D:\Irina\анимашки\физика\interference1.gif"/>
          <p:cNvPicPr/>
          <p:nvPr/>
        </p:nvPicPr>
        <p:blipFill>
          <a:blip r:embed="rId2"/>
          <a:stretch/>
        </p:blipFill>
        <p:spPr>
          <a:xfrm>
            <a:off x="990720" y="1981080"/>
            <a:ext cx="2209680" cy="1325520"/>
          </a:xfrm>
          <a:prstGeom prst="rect">
            <a:avLst/>
          </a:prstGeom>
          <a:ln w="0">
            <a:noFill/>
          </a:ln>
        </p:spPr>
      </p:pic>
      <p:sp>
        <p:nvSpPr>
          <p:cNvPr id="1409" name="Прямоугольник 5"/>
          <p:cNvSpPr/>
          <p:nvPr/>
        </p:nvSpPr>
        <p:spPr>
          <a:xfrm>
            <a:off x="4267080" y="114300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Дифракция свет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гибание малых препятств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0" name="Picture 4" descr="Картинка 66 из 2014"/>
          <p:cNvPicPr/>
          <p:nvPr/>
        </p:nvPicPr>
        <p:blipFill>
          <a:blip r:embed="rId3"/>
          <a:stretch/>
        </p:blipFill>
        <p:spPr>
          <a:xfrm>
            <a:off x="5486400" y="1981080"/>
            <a:ext cx="1981080" cy="1366920"/>
          </a:xfrm>
          <a:prstGeom prst="rect">
            <a:avLst/>
          </a:prstGeom>
          <a:ln w="0">
            <a:noFill/>
          </a:ln>
        </p:spPr>
      </p:pic>
      <p:pic>
        <p:nvPicPr>
          <p:cNvPr id="1411" name="Picture 5" descr="D:\Irina\анимашки\огонь, свет\солнце.gif"/>
          <p:cNvPicPr/>
          <p:nvPr/>
        </p:nvPicPr>
        <p:blipFill>
          <a:blip r:embed="rId4"/>
          <a:stretch/>
        </p:blipFill>
        <p:spPr>
          <a:xfrm>
            <a:off x="3352680" y="49528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1412" name="Прямоугольник 8"/>
          <p:cNvSpPr/>
          <p:nvPr/>
        </p:nvSpPr>
        <p:spPr>
          <a:xfrm>
            <a:off x="152280" y="449568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злучение све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 испускания и распространения энергии в виде волн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 частиц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Прямоугольник 9"/>
          <p:cNvSpPr/>
          <p:nvPr/>
        </p:nvSpPr>
        <p:spPr>
          <a:xfrm>
            <a:off x="6477120" y="4572000"/>
            <a:ext cx="249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оглощение све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еньшение интенсивности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лучения света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4" name="Picture 2" descr="Картинка 20 из 2227"/>
          <p:cNvPicPr/>
          <p:nvPr/>
        </p:nvPicPr>
        <p:blipFill>
          <a:blip r:embed="rId1"/>
          <a:stretch/>
        </p:blipFill>
        <p:spPr>
          <a:xfrm>
            <a:off x="6858000" y="152280"/>
            <a:ext cx="2171880" cy="1648080"/>
          </a:xfrm>
          <a:prstGeom prst="rect">
            <a:avLst/>
          </a:prstGeom>
          <a:ln w="0">
            <a:noFill/>
          </a:ln>
        </p:spPr>
      </p:pic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248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еометрическая оп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 txBox="1"/>
          <p:nvPr/>
        </p:nvSpPr>
        <p:spPr>
          <a:xfrm>
            <a:off x="152280" y="99072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дел оптики, изучающий законы распространения света в прозрачных средах,                   законы отражения света от зеркальных поверхностей и принципы построения изображений при прохождении света в оптических систе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Прямоугольник 3"/>
          <p:cNvSpPr/>
          <p:nvPr/>
        </p:nvSpPr>
        <p:spPr>
          <a:xfrm>
            <a:off x="762120" y="304812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ое положение геометрической оп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Box 4"/>
          <p:cNvSpPr/>
          <p:nvPr/>
        </p:nvSpPr>
        <p:spPr>
          <a:xfrm>
            <a:off x="2133720" y="36576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вет распространяется прямолиней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9" name="Picture 3" descr="D:\Irina\анимашки\природа\62.gif"/>
          <p:cNvPicPr/>
          <p:nvPr/>
        </p:nvPicPr>
        <p:blipFill>
          <a:blip r:embed="rId2"/>
          <a:stretch/>
        </p:blipFill>
        <p:spPr>
          <a:xfrm>
            <a:off x="3276720" y="4419720"/>
            <a:ext cx="3085920" cy="2093760"/>
          </a:xfrm>
          <a:prstGeom prst="rect">
            <a:avLst/>
          </a:prstGeom>
          <a:ln w="0">
            <a:noFill/>
          </a:ln>
        </p:spPr>
      </p:pic>
      <p:pic>
        <p:nvPicPr>
          <p:cNvPr id="1420" name="Picture 4" descr="D:\Irina\анимашки\природа\природа2.gif"/>
          <p:cNvPicPr/>
          <p:nvPr/>
        </p:nvPicPr>
        <p:blipFill>
          <a:blip r:embed="rId3"/>
          <a:stretch/>
        </p:blipFill>
        <p:spPr>
          <a:xfrm>
            <a:off x="228600" y="4343400"/>
            <a:ext cx="2362320" cy="2246400"/>
          </a:xfrm>
          <a:prstGeom prst="rect">
            <a:avLst/>
          </a:prstGeom>
          <a:ln w="0">
            <a:noFill/>
          </a:ln>
        </p:spPr>
      </p:pic>
      <p:pic>
        <p:nvPicPr>
          <p:cNvPr id="1421" name="Picture 5" descr="D:\Irina\анимашки\природа\природа5.gif"/>
          <p:cNvPicPr/>
          <p:nvPr/>
        </p:nvPicPr>
        <p:blipFill>
          <a:blip r:embed="rId4"/>
          <a:stretch/>
        </p:blipFill>
        <p:spPr>
          <a:xfrm>
            <a:off x="7010280" y="4343400"/>
            <a:ext cx="1714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500"/>
                            </p:stCondLst>
                            <p:childTnLst>
                              <p:par>
                                <p:cTn id="2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14"/>
          <p:cNvSpPr/>
          <p:nvPr/>
        </p:nvSpPr>
        <p:spPr>
          <a:xfrm>
            <a:off x="884160" y="2606760"/>
            <a:ext cx="6397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16"/>
          <p:cNvSpPr/>
          <p:nvPr/>
        </p:nvSpPr>
        <p:spPr>
          <a:xfrm>
            <a:off x="884160" y="2606760"/>
            <a:ext cx="2703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18"/>
          <p:cNvSpPr/>
          <p:nvPr/>
        </p:nvSpPr>
        <p:spPr>
          <a:xfrm>
            <a:off x="884160" y="2606760"/>
            <a:ext cx="369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200"/>
          <p:cNvSpPr/>
          <p:nvPr/>
        </p:nvSpPr>
        <p:spPr>
          <a:xfrm>
            <a:off x="304920" y="609480"/>
            <a:ext cx="2819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5353"/>
                </a:solidFill>
                <a:latin typeface="Times New Roman"/>
              </a:rPr>
              <a:t>Искусственны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202"/>
          <p:cNvSpPr/>
          <p:nvPr/>
        </p:nvSpPr>
        <p:spPr>
          <a:xfrm>
            <a:off x="6248520" y="609480"/>
            <a:ext cx="27334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5353"/>
                </a:solidFill>
                <a:latin typeface="Times New Roman"/>
              </a:rPr>
              <a:t>Естественные</a:t>
            </a:r>
            <a:r>
              <a:rPr b="0" lang="ru-RU" sz="2800" spc="-1" strike="noStrike">
                <a:solidFill>
                  <a:srgbClr val="db535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db5353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7" name="Группа 35"/>
          <p:cNvGrpSpPr/>
          <p:nvPr/>
        </p:nvGrpSpPr>
        <p:grpSpPr>
          <a:xfrm>
            <a:off x="4952880" y="3581280"/>
            <a:ext cx="1447920" cy="1395360"/>
            <a:chOff x="4952880" y="3581280"/>
            <a:chExt cx="1447920" cy="1395360"/>
          </a:xfrm>
        </p:grpSpPr>
        <p:sp>
          <p:nvSpPr>
            <p:cNvPr id="1428" name="Rectangle 197"/>
            <p:cNvSpPr/>
            <p:nvPr/>
          </p:nvSpPr>
          <p:spPr>
            <a:xfrm>
              <a:off x="4952880" y="45169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звезд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29" name="Picture 203" descr="звезда"/>
            <p:cNvPicPr/>
            <p:nvPr/>
          </p:nvPicPr>
          <p:blipFill>
            <a:blip r:embed="rId1"/>
            <a:stretch/>
          </p:blipFill>
          <p:spPr>
            <a:xfrm>
              <a:off x="5028840" y="3581280"/>
              <a:ext cx="937080" cy="90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0" name="Группа 34"/>
          <p:cNvGrpSpPr/>
          <p:nvPr/>
        </p:nvGrpSpPr>
        <p:grpSpPr>
          <a:xfrm>
            <a:off x="2819520" y="3581280"/>
            <a:ext cx="1295280" cy="1788840"/>
            <a:chOff x="2819520" y="3581280"/>
            <a:chExt cx="1295280" cy="1788840"/>
          </a:xfrm>
        </p:grpSpPr>
        <p:sp>
          <p:nvSpPr>
            <p:cNvPr id="1431" name="Rectangle 198"/>
            <p:cNvSpPr/>
            <p:nvPr/>
          </p:nvSpPr>
          <p:spPr>
            <a:xfrm>
              <a:off x="2928240" y="491040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коме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2" name="Picture 204" descr="комета"/>
            <p:cNvPicPr/>
            <p:nvPr/>
          </p:nvPicPr>
          <p:blipFill>
            <a:blip r:embed="rId2"/>
            <a:stretch/>
          </p:blipFill>
          <p:spPr>
            <a:xfrm>
              <a:off x="2819520" y="3581280"/>
              <a:ext cx="1295280" cy="139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3" name="Группа 33"/>
          <p:cNvGrpSpPr/>
          <p:nvPr/>
        </p:nvGrpSpPr>
        <p:grpSpPr>
          <a:xfrm>
            <a:off x="5034240" y="5029200"/>
            <a:ext cx="1137960" cy="1679400"/>
            <a:chOff x="5034240" y="5029200"/>
            <a:chExt cx="1137960" cy="1679400"/>
          </a:xfrm>
        </p:grpSpPr>
        <p:sp>
          <p:nvSpPr>
            <p:cNvPr id="1434" name="Rectangle 196"/>
            <p:cNvSpPr/>
            <p:nvPr/>
          </p:nvSpPr>
          <p:spPr>
            <a:xfrm>
              <a:off x="5034240" y="6248880"/>
              <a:ext cx="112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солнц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5" name="Picture 205" descr="солнце"/>
            <p:cNvPicPr/>
            <p:nvPr/>
          </p:nvPicPr>
          <p:blipFill>
            <a:blip r:embed="rId3"/>
            <a:stretch/>
          </p:blipFill>
          <p:spPr>
            <a:xfrm>
              <a:off x="5105160" y="5029200"/>
              <a:ext cx="1067040" cy="10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6" name="Группа 32"/>
          <p:cNvGrpSpPr/>
          <p:nvPr/>
        </p:nvGrpSpPr>
        <p:grpSpPr>
          <a:xfrm>
            <a:off x="4807800" y="2362320"/>
            <a:ext cx="1179000" cy="1145520"/>
            <a:chOff x="4807800" y="2362320"/>
            <a:chExt cx="1179000" cy="1145520"/>
          </a:xfrm>
        </p:grpSpPr>
        <p:sp>
          <p:nvSpPr>
            <p:cNvPr id="1437" name="Rectangle 195"/>
            <p:cNvSpPr/>
            <p:nvPr/>
          </p:nvSpPr>
          <p:spPr>
            <a:xfrm>
              <a:off x="4807800" y="3048120"/>
              <a:ext cx="117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лучи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8" name="Picture 208" descr="лучина"/>
            <p:cNvPicPr/>
            <p:nvPr/>
          </p:nvPicPr>
          <p:blipFill>
            <a:blip r:embed="rId4"/>
            <a:stretch/>
          </p:blipFill>
          <p:spPr>
            <a:xfrm>
              <a:off x="4876560" y="2362320"/>
              <a:ext cx="951840" cy="7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9" name="Группа 36"/>
          <p:cNvGrpSpPr/>
          <p:nvPr/>
        </p:nvGrpSpPr>
        <p:grpSpPr>
          <a:xfrm>
            <a:off x="3124080" y="2362320"/>
            <a:ext cx="1046160" cy="1298160"/>
            <a:chOff x="3124080" y="2362320"/>
            <a:chExt cx="1046160" cy="1298160"/>
          </a:xfrm>
        </p:grpSpPr>
        <p:sp>
          <p:nvSpPr>
            <p:cNvPr id="1440" name="Rectangle 193"/>
            <p:cNvSpPr/>
            <p:nvPr/>
          </p:nvSpPr>
          <p:spPr>
            <a:xfrm>
              <a:off x="3131640" y="3200760"/>
              <a:ext cx="103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ламп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1" name="Picture 209" descr="лампа"/>
            <p:cNvPicPr/>
            <p:nvPr/>
          </p:nvPicPr>
          <p:blipFill>
            <a:blip r:embed="rId5"/>
            <a:stretch/>
          </p:blipFill>
          <p:spPr>
            <a:xfrm>
              <a:off x="3124080" y="2362320"/>
              <a:ext cx="954720" cy="91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42" name="Прямоугольник 23" descr=""/>
          <p:cNvPicPr/>
          <p:nvPr/>
        </p:nvPicPr>
        <p:blipFill>
          <a:blip r:embed="rId6"/>
          <a:stretch/>
        </p:blipFill>
        <p:spPr>
          <a:xfrm>
            <a:off x="2182680" y="-133200"/>
            <a:ext cx="4638960" cy="865080"/>
          </a:xfrm>
          <a:prstGeom prst="rect">
            <a:avLst/>
          </a:prstGeom>
          <a:ln w="0">
            <a:noFill/>
          </a:ln>
        </p:spPr>
      </p:pic>
      <p:grpSp>
        <p:nvGrpSpPr>
          <p:cNvPr id="1443" name="Группа 30"/>
          <p:cNvGrpSpPr/>
          <p:nvPr/>
        </p:nvGrpSpPr>
        <p:grpSpPr>
          <a:xfrm>
            <a:off x="3125160" y="380880"/>
            <a:ext cx="941040" cy="1908000"/>
            <a:chOff x="3125160" y="380880"/>
            <a:chExt cx="941040" cy="1908000"/>
          </a:xfrm>
        </p:grpSpPr>
        <p:sp>
          <p:nvSpPr>
            <p:cNvPr id="1444" name="Rectangle 194"/>
            <p:cNvSpPr/>
            <p:nvPr/>
          </p:nvSpPr>
          <p:spPr>
            <a:xfrm>
              <a:off x="3125160" y="18291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свеч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5" name="Picture 2" descr="D:\Irina\анимашки\огонь, свет\ogon-212.gif"/>
            <p:cNvPicPr/>
            <p:nvPr/>
          </p:nvPicPr>
          <p:blipFill>
            <a:blip r:embed="rId7"/>
            <a:stretch/>
          </p:blipFill>
          <p:spPr>
            <a:xfrm>
              <a:off x="3276360" y="380880"/>
              <a:ext cx="762120" cy="152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6" name="Группа 29"/>
          <p:cNvGrpSpPr/>
          <p:nvPr/>
        </p:nvGrpSpPr>
        <p:grpSpPr>
          <a:xfrm>
            <a:off x="2438280" y="5405400"/>
            <a:ext cx="2743200" cy="1450440"/>
            <a:chOff x="2438280" y="5405400"/>
            <a:chExt cx="2743200" cy="1450440"/>
          </a:xfrm>
        </p:grpSpPr>
        <p:sp>
          <p:nvSpPr>
            <p:cNvPr id="1447" name="Rectangle 149"/>
            <p:cNvSpPr/>
            <p:nvPr/>
          </p:nvSpPr>
          <p:spPr>
            <a:xfrm>
              <a:off x="2438280" y="63961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бактерии на рыб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8" name="Picture 3" descr="D:\Irina\анимашки\рыбы\рыбка.gif"/>
            <p:cNvPicPr/>
            <p:nvPr/>
          </p:nvPicPr>
          <p:blipFill>
            <a:blip r:embed="rId8"/>
            <a:stretch/>
          </p:blipFill>
          <p:spPr>
            <a:xfrm>
              <a:off x="2819160" y="5405400"/>
              <a:ext cx="1619280" cy="95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9" name="Группа 31"/>
          <p:cNvGrpSpPr/>
          <p:nvPr/>
        </p:nvGrpSpPr>
        <p:grpSpPr>
          <a:xfrm>
            <a:off x="4648320" y="533520"/>
            <a:ext cx="1371600" cy="1831680"/>
            <a:chOff x="4648320" y="533520"/>
            <a:chExt cx="1371600" cy="1831680"/>
          </a:xfrm>
        </p:grpSpPr>
        <p:pic>
          <p:nvPicPr>
            <p:cNvPr id="1450" name="Picture 5" descr="D:\Irina\анимашки\огонь, свет\15.gif"/>
            <p:cNvPicPr/>
            <p:nvPr/>
          </p:nvPicPr>
          <p:blipFill>
            <a:blip r:embed="rId9"/>
            <a:stretch/>
          </p:blipFill>
          <p:spPr>
            <a:xfrm>
              <a:off x="4648320" y="533520"/>
              <a:ext cx="1371600" cy="13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1" name="Rectangle 194"/>
            <p:cNvSpPr/>
            <p:nvPr/>
          </p:nvSpPr>
          <p:spPr>
            <a:xfrm>
              <a:off x="4805280" y="1905480"/>
              <a:ext cx="109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косте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2" name="Прямоугольник 37" descr=""/>
          <p:cNvPicPr/>
          <p:nvPr/>
        </p:nvPicPr>
        <p:blipFill>
          <a:blip r:embed="rId10"/>
          <a:stretch/>
        </p:blipFill>
        <p:spPr>
          <a:xfrm>
            <a:off x="3932280" y="890640"/>
            <a:ext cx="17622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8000"/>
                            </p:stCondLst>
                            <p:childTnLst>
                              <p:par>
                                <p:cTn id="2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07407E-006 C -0.00417 0.01481 -0.0092 0.01713 -0.01528 0.025 C -0.0191 0.02963 -0.02274 0.03657 -0.02639 0.04143 C -0.03576 0.05347 -0.02361 0.03472 -0.03281 0.04699 C -0.03472 0.04953 -0.0375 0.05601 -0.03941 0.05787 C -0.04931 0.06689 -0.06094 0.07129 -0.07101 0.07476 C -0.07674 0.07916 -0.08247 0.08263 -0.08854 0.08564 C -0.09358 0.09467 -0.10556 0.10208 -0.11129 0.10254 C -0.14219 0.10532 -0.17153 0.10532 -0.20156 0.10532 E">
                                      <p:cBhvr>
                                        <p:cTn id="331" dur="2000" fill="hold"/>
                                        <p:tgtEl>
                                          <p:spTgt spid="1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9259E-006 C -0.00364 0.00093 -0.00694 0.00139 -0.00989 0.00324 C -0.02847 0.01412 -0.00416 0.00463 -0.01996 0.01019 C -0.02395 0.01459 -0.02934 0.0176 -0.03316 0.02246 C -0.03455 0.02431 -0.03524 0.02732 -0.03645 0.0294 C -0.04149 0.03658 -0.04722 0.04213 -0.05451 0.04676 C -0.06458 0.0625 -0.04757 0.03866 -0.06753 0.05556 C -0.08541 0.07084 -0.06336 0.06366 -0.08246 0.06783 C -0.08819 0.07685 -0.09652 0.0831 -0.10364 0.09074 C -0.12378 0.11204 -0.09479 0.08357 -0.11198 0.10463 C -0.11371 0.10672 -0.11666 0.10764 -0.11875 0.10972 C -0.12187 0.11297 -0.12378 0.1169 -0.12673 0.12014 C -0.13073 0.12894 -0.14027 0.14329 -0.14652 0.15 C -0.15104 0.1551 -0.16128 0.15741 -0.16632 0.16042 C -0.17343 0.16505 -0.18107 0.17292 -0.18784 0.17801 C -0.19878 0.18704 -0.21076 0.19607 -0.22222 0.20417 C -0.22604 0.20718 -0.22847 0.21158 -0.23194 0.21459 C -0.2342 0.21644 -0.24461 0.22084 -0.24705 0.22176 C -0.2559 0.23542 -0.27552 0.23542 -0.28958 0.23889 C -0.30191 0.24977 -0.29635 0.2507 -0.3125 0.25301 C -0.34705 0.26644 -0.28472 0.26042 -0.38993 0.25486 C -0.40555 0.24954 -0.43402 0.23773 -0.45069 0.2375 C -0.46736 0.23681 -0.48368 0.2375 -0.5 0.2375 E">
                                      <p:cBhvr>
                                        <p:cTn id="335" dur="2000" fill="hold"/>
                                        <p:tgtEl>
                                          <p:spTgt spid="1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98 0.01736 C -0.07153 0.02477 -0.06997 0.02917 -0.07414 0.03611 C -0.07587 0.03889 -0.07796 0.04051 -0.07969 0.04282 C -0.08056 0.04398 -0.08247 0.0463 -0.08247 0.04653 C -0.08473 0.05509 -0.08785 0.06088 -0.09063 0.06875 C -0.09184 0.07732 -0.09375 0.08634 -0.09705 0.09306 C -0.09896 0.10857 -0.10608 0.11458 -0.11059 0.12708 C -0.11858 0.14884 -0.12535 0.17037 -0.13612 0.1875 C -0.13959 0.19282 -0.13993 0.20023 -0.14428 0.20301 C -0.15452 0.22222 -0.16771 0.22639 -0.1816 0.2287 C -0.19792 0.23866 -0.17257 0.2338 -0.21598 0.2338 E">
                                      <p:cBhvr>
                                        <p:cTn id="339" dur="2000" fill="hold"/>
                                        <p:tgtEl>
                                          <p:spTgt spid="1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0023 C -0.00781 -0.00301 -0.01372 0.0037 -0.02118 0.00671 C -0.03212 0.01852 -0.04653 0.02268 -0.05834 0.03287 C -0.07049 0.04329 -0.06962 0.04745 -0.08577 0.05208 C -0.09688 0.06412 -0.08247 0.04977 -0.10209 0.06273 C -0.10347 0.06389 -0.1309 0.08565 -0.13403 0.08889 C -0.1408 0.09606 -0.14688 0.10278 -0.15347 0.10972 C -0.15538 0.1118 -0.1559 0.11528 -0.15816 0.1169 C -0.16059 0.11852 -0.16372 0.11805 -0.16632 0.11852 C -0.17292 0.12963 -0.17813 0.13218 -0.18733 0.1412 C -0.19393 0.14768 -0.19531 0.15278 -0.20347 0.15694 C -0.20625 0.16018 -0.21025 0.16227 -0.21302 0.16574 C -0.21754 0.1713 -0.21927 0.1794 -0.22431 0.18495 C -0.22795 0.18889 -0.23299 0.1919 -0.23542 0.19699 C -0.23906 0.20509 -0.24288 0.21111 -0.25 0.2162 C -0.25851 0.23055 -0.24705 0.21319 -0.25955 0.225 C -0.26163 0.22685 -0.2625 0.23009 -0.26459 0.23218 C -0.26823 0.23565 -0.27917 0.24236 -0.28368 0.24421 C -0.29045 0.25463 -0.28281 0.24537 -0.29531 0.25116 C -0.29775 0.25255 -0.29931 0.25486 -0.30156 0.25625 C -0.30295 0.25741 -0.30486 0.25764 -0.30643 0.2581 C -0.31233 0.26759 -0.31979 0.2743 -0.32917 0.27893 C -0.34254 0.29375 -0.36406 0.3037 -0.38056 0.31412 C -0.38316 0.31574 -0.38646 0.3169 -0.38872 0.31921 C -0.39393 0.325 -0.4 0.33403 -0.40643 0.33843 C -0.41077 0.3456 -0.41476 0.35231 -0.4191 0.35949 C -0.42188 0.36366 -0.42726 0.37176 -0.42726 0.37199 C -0.42813 0.37569 -0.42952 0.38264 -0.43212 0.38565 C -0.43368 0.38773 -0.43681 0.38889 -0.43872 0.39074 C -0.45243 0.40741 -0.44202 0.40278 -0.45295 0.40648 C -0.4632 0.41389 -0.46372 0.41574 -0.47084 0.42593 C -0.47188 0.42917 -0.47292 0.43588 -0.47709 0.43634 C -0.49271 0.43866 -0.52361 0.43796 -0.52361 0.43819 E">
                                      <p:cBhvr>
                                        <p:cTn id="343" dur="2000" fill="hold"/>
                                        <p:tgtEl>
                                          <p:spTgt spid="1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5 0.06111 C 0.09375 0.05093 0.12274 0.03819 0.15521 0.03565 C 0.16788 0.03287 0.18073 0.03333 0.1934 0.02963 C 0.1993 0.02824 0.20451 0.02407 0.21007 0.02176 C 0.22152 0.01736 0.23333 0.01412 0.24496 0.01019 C 0.24878 0.0088 0.25659 0.00625 0.25659 0.00671 C 0.2717 -0.0044 0.28767 -0.02153 0.3033 -0.02894 C 0.31701 -0.04259 0.30937 -0.03611 0.32639 -0.04792 C 0.33524 -0.05463 0.34791 -0.07338 0.34791 -0.07315 C 0.35364 -0.08704 0.36076 -0.10093 0.36632 -0.11458 C 0.37257 -0.13125 0.3743 -0.14097 0.38437 -0.15556 C 0.39062 -0.17315 0.3835 -0.1588 0.39618 -0.17106 C 0.40086 -0.17593 0.40468 -0.18148 0.4092 -0.18657 C 0.41389 -0.1919 0.41996 -0.19491 0.4243 -0.2 C 0.43385 -0.21134 0.43975 -0.22431 0.44913 -0.23519 C 0.45295 -0.24815 0.44791 -0.2338 0.45746 -0.24907 C 0.4651 -0.26134 0.46979 -0.275 0.47899 -0.28611 C 0.48385 -0.30648 0.49757 -0.32292 0.50885 -0.33866 C 0.51475 -0.3463 0.51146 -0.34491 0.51562 -0.35625 C 0.51753 -0.36065 0.52118 -0.36458 0.52396 -0.36782 C 0.52396 -0.36759 0.52725 -0.38333 0.52725 -0.36782 C 0.52725 -0.35116 0.52205 -0.34421 0.52916 -0.35625 C 0.52708 -0.3625 0.52916 -0.36204 0.52552 -0.36204 E">
                                      <p:cBhvr>
                                        <p:cTn id="347" dur="2000" fill="hold"/>
                                        <p:tgtEl>
                                          <p:spTgt spid="1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36 -0.1206 C 0.03299 -0.3206 -0.01996 -0.11898 0.17118 -0.23657 C 0.17379 -0.23773 0.1757 -0.26944 0.175 -0.26481 E">
                                      <p:cBhvr>
                                        <p:cTn id="351" dur="2000" fill="hold"/>
                                        <p:tgtEl>
                                          <p:spTgt spid="1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10509 C 0.01302 -0.11227 0.02396 -0.12176 0.03836 -0.12477 C 0.06423 -0.14004 0.09392 -0.14653 0.12152 -0.14954 C 0.13941 -0.15671 0.15729 -0.16597 0.175 -0.16852 C 0.18281 -0.17592 0.18715 -0.17963 0.19583 -0.18194 C 0.20573 -0.1956 0.19583 -0.18518 0.21267 -0.19143 C 0.21423 -0.1919 0.2151 -0.19421 0.21684 -0.1956 C 0.23559 -0.20903 0.2184 -0.19606 0.23107 -0.20278 C 0.24461 -0.20995 0.25521 -0.22477 0.26857 -0.2331 C 0.27656 -0.24467 0.2908 -0.24606 0.30104 -0.25254 C 0.30677 -0.26481 0.29965 -0.25254 0.31041 -0.26018 C 0.31215 -0.26134 0.3125 -0.26481 0.31406 -0.26551 C 0.32014 -0.26967 0.33003 -0.27037 0.33628 -0.27129 C 0.34392 -0.27384 0.35034 -0.27569 0.35833 -0.27731 C 0.36146 -0.2787 0.36441 -0.28148 0.36736 -0.28287 C 0.37205 -0.28426 0.37691 -0.28518 0.38177 -0.2868 C 0.38524 -0.28935 0.38871 -0.29143 0.39201 -0.29421 C 0.39461 -0.29606 0.4 -0.29815 0.4 -0.29768 C 0.40277 -0.30046 0.40833 -0.30509 0.40833 -0.30486 E">
                                      <p:cBhvr>
                                        <p:cTn id="355" dur="2000" fill="hold"/>
                                        <p:tgtEl>
                                          <p:spTgt spid="1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C 0.06284 -0.04583 0.13871 0.01065 0.20468 0.0169 C 0.21423 0.02361 0.20764 0.02014 0.225 0.02014 E">
                                      <p:cBhvr>
                                        <p:cTn id="359" dur="2000" fill="hold"/>
                                        <p:tgtEl>
                                          <p:spTgt spid="1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 txBox="1"/>
          <p:nvPr/>
        </p:nvSpPr>
        <p:spPr>
          <a:xfrm>
            <a:off x="304920" y="9140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ТОМЕТР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(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греч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tó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— свет и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ré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— измеряю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Прямоугольник 4"/>
          <p:cNvSpPr/>
          <p:nvPr/>
        </p:nvSpPr>
        <p:spPr>
          <a:xfrm>
            <a:off x="3054600" y="152280"/>
            <a:ext cx="304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Фотометр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Прямоугольник 6"/>
          <p:cNvSpPr/>
          <p:nvPr/>
        </p:nvSpPr>
        <p:spPr>
          <a:xfrm>
            <a:off x="152280" y="14479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дел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ПТИК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кото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учают способы измерения световой энерг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Прямоугольник 7"/>
          <p:cNvSpPr/>
          <p:nvPr/>
        </p:nvSpPr>
        <p:spPr>
          <a:xfrm>
            <a:off x="304920" y="25146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основе фотометрии как науки лежит разработа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ория светового поля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7" name="Picture 2" descr="Картинка 22 из 13090"/>
          <p:cNvPicPr/>
          <p:nvPr/>
        </p:nvPicPr>
        <p:blipFill>
          <a:blip r:embed="rId1"/>
          <a:stretch/>
        </p:blipFill>
        <p:spPr>
          <a:xfrm>
            <a:off x="152280" y="4191120"/>
            <a:ext cx="2590920" cy="215568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4" descr="Картинка 47 из 13089"/>
          <p:cNvPicPr/>
          <p:nvPr/>
        </p:nvPicPr>
        <p:blipFill>
          <a:blip r:embed="rId2"/>
          <a:stretch/>
        </p:blipFill>
        <p:spPr>
          <a:xfrm>
            <a:off x="6095880" y="4114800"/>
            <a:ext cx="2845080" cy="2133720"/>
          </a:xfrm>
          <a:prstGeom prst="rect">
            <a:avLst/>
          </a:prstGeom>
          <a:ln w="0">
            <a:noFill/>
          </a:ln>
        </p:spPr>
      </p:pic>
      <p:sp>
        <p:nvSpPr>
          <p:cNvPr id="1459" name="Прямоугольник 10"/>
          <p:cNvSpPr/>
          <p:nvPr/>
        </p:nvSpPr>
        <p:spPr>
          <a:xfrm>
            <a:off x="228600" y="35053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ветово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л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— область  пространства, заполненная светом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0" name="Picture 6" descr="Картинка 16 из 13161"/>
          <p:cNvPicPr/>
          <p:nvPr/>
        </p:nvPicPr>
        <p:blipFill>
          <a:blip r:embed="rId3"/>
          <a:stretch/>
        </p:blipFill>
        <p:spPr>
          <a:xfrm>
            <a:off x="2971800" y="4114800"/>
            <a:ext cx="2844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4-02T18:42:09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