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6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10.png" ContentType="image/png"/>
  <Override PartName="/ppt/media/image27.jpeg" ContentType="image/jpeg"/>
  <Override PartName="/ppt/media/image13.gif" ContentType="image/gif"/>
  <Override PartName="/ppt/media/image23.gif" ContentType="image/gif"/>
  <Override PartName="/ppt/media/image16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12.jpeg" ContentType="image/jpeg"/>
  <Override PartName="/ppt/media/image4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17.png" ContentType="image/png"/>
  <Override PartName="/ppt/media/image18.gif" ContentType="image/gif"/>
  <Override PartName="/ppt/media/image20.gif" ContentType="image/gif"/>
  <Override PartName="/ppt/media/image22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2D638-4A56-44E3-B760-365C42FC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C8486-C510-4C85-AF8D-B848A91F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718AA-B0C7-4869-A18C-4A6C7A07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2DE38-1250-4180-A244-8E806704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8FEAD-2895-4A9A-A910-C600B1C6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10FD5-F646-4F09-B5B4-A1F9E4CB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20D46-845D-4EFD-9DD7-DF8ADE80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4F7ED-8012-4994-8CA7-25CB5B93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1AE08-5115-4CBD-8BAE-0EE188A5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58B48-5857-4106-90E1-4EA6F3BC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EE1A1-52D2-4398-9F74-E6E3AE1C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34394-8A7A-4043-AACF-8B758862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26DFF-572A-4473-A047-E89C9B73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07F13-6C9E-4CCA-BF1F-AF73FEEE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C3ADF-BC81-4103-BED7-1F9BB7B7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5DBF8-3A6E-4F3B-9566-3AE0D4C3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1860F-67FB-409A-948D-D8BADBB7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B5F9D-5E3C-475C-8D72-C7842EEA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9487A-4265-4D78-B717-CC3BB3E5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BE866-3DE0-4993-8FC7-A0E7C4C5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E182C-1CC0-449B-8606-AF3B341C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BF22F-6745-452A-92CE-89959A4B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A4ADE-AEFB-4EF1-9DCD-73B40345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A34D3-6981-4071-8AA9-2935EC44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47E42-1074-4B1D-A183-1289C4A5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171B0-7646-449B-B21E-864DBA36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EA506-6249-4DBA-9CBB-86377EAD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CC842-935C-4BC2-B7B0-8757BBA6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09211-81A3-4B81-83F2-699189FC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CBAB3-CD5C-4F6D-8072-74430986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1A89-4EE3-439D-9FBE-66003D28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303B9-9B9F-4BA5-8D10-A78730CA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FB826-364F-4005-B9C9-981969BF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4099B-1BA0-4051-A358-07AE8F64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7641A-37D2-4395-836C-7EEFA577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F16CB-7C70-4356-90C9-4B762A0F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63887-AD2C-4A4C-BA11-F1EF64DA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0EEB8-4766-461E-AC39-956F4A13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26A20-1BAF-4083-AFF3-E9DAB529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D3D84-6B1E-433F-AFFF-89CDEE6F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6F90E-9846-43B7-BF3D-90079D47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F35-5DE0-4AC8-B955-ACBC4FD2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A0425-0363-4D96-A4A9-7E4F00FD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CE979-F625-4906-83E2-BA5C3B59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77FA8-850A-4B2B-B482-94736CFD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E15F0-4081-41D6-9DC3-EB8D5D95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E6A7B-6901-48C4-A7EC-05CF802A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E6182-3A8A-489B-940B-2CE52B7C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6F497-F7DC-4FE6-B8CE-DE2ADB3A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8D196-E674-46A2-82E2-E1D12E85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8F1DB-FFC5-44D5-BB34-545F32AA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1AEB1-6DAA-45E0-BB66-31E331EF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F924-1B34-4813-8F2C-55AED504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90BB8-5EAF-40BD-B6D4-E8FAF60F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AB73A-1B65-49A2-BB3C-3598762A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9902C-EA05-4F26-BAC9-BC6465B3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87699-8396-4ED8-A166-B56B3AB9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BC644-83F0-440F-A119-A71535BF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58E7E-D752-4A42-BA9C-D434D8C3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B389F-6410-4E9B-A183-13F13D12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326066-AE41-4F40-AC0A-73B1402A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6B1EF-7B3F-4E9A-B984-17927E7C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D7704-B57E-4D2E-8EC2-BB7017DD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A5EA-229A-46FB-ACB0-0BAB61F5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21833F-852E-43A2-954E-AC33FECE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DB086-79E3-4729-A4FC-7CFB1B97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95D2E0-FD1F-4AA2-95ED-E8D0D33A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59A90-07B2-47DC-8AB0-8ABAE4A6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8A562-3E22-41CD-8726-B645A8EE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F3B6CA-2495-4722-9177-36912CC3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2458C-D577-495E-AD11-ACFB3C4E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604EB-F06E-418B-9885-2904A862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86F6C5-1EAF-4CF0-837A-E2ADF589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201A12-1D4A-4906-8A83-40505422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C49-13E9-433A-B097-E5E9F966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44BDAD-8727-4F20-8FC8-1364DA3C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5F8EA7-7557-4999-8A84-3BECEA6E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6DA2F9-EA63-483B-93AD-6B145E35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7D2CA-0F3D-47AB-90D1-5B608AA6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376D07-DB85-4688-81CF-DF5B71BE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9494DE-ADEE-412C-8968-16E78403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B6C707-82E7-4C1C-ADEE-E89D5702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EFFB32-FD93-44D6-9E06-FF3EFB79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659F0-B10A-4682-BFCF-C7DD2946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C94E1B-F7A3-40A7-9390-FAB0D16D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C8BB-9DD1-4A23-847C-E1943896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2CB6ED-551E-4192-8782-E9EEB2E1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B6A08F-C7E7-48E9-8B22-B9D2CF89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ED74AE-C712-459E-8DA5-2D7CF455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74894E-1771-4777-A2D7-A3C66351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75F6F7-D5B3-4F3F-BA38-C21DE4E5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F1C729-BC27-4D63-9B73-8D5B1C51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ACED67-976F-47DA-A80C-6591BF4C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BAEB6D-4408-4530-9FF2-1BD8DB37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E49F96-8D2D-456A-8FD7-5D8F6B04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570121-D489-4B8C-AA7B-483084E0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204A-E582-4695-AB60-2B2FEAE6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26E8E8-1CBF-4DD9-AB2F-2B5FEB3E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5CA53A-6D25-4CAA-8838-4F1F6FB6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74A0B9-279F-40D1-9BF6-DE69A181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80D772-7234-4833-922F-F3D91703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B9AC8E-14D7-48F5-98A8-2CFAB86F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17D264-33BF-4042-8C75-B2B7B371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F4E1C3-3D32-4506-A32B-A219188B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C13047-52BA-4BEA-9443-2CBA0151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D690C9-A31E-4DE9-8052-4EC59A4C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674F9E-6DB2-47D5-9638-17E51CD7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CEB-CD8C-410A-8A20-039CEB1B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E22F18-D19D-4069-A40A-1ADD523F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8C1774-D721-4E95-B321-E4D2CCB5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8AA409-1941-4BB6-A69C-1DE59594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63CB89-5F22-4179-A1E5-C31F5EEF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8F57CA-BB1E-4427-9E7E-50121163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A94802A-A4B9-4BDF-B7E3-3E13624B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48F7E8B-2414-48C9-90E1-43BDBF39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C431C5-DEE9-493D-871D-71DC2935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F8A682E-4A47-4D6E-A893-C0C3F6FA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1352170-6B6A-419F-80F4-793AA962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6D11-9925-43A5-9687-A7A3D84E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46A0F0A-08A0-41C6-8A1E-B44F987C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3B82BEC-8AB6-4441-8C1E-833F834E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8D93989-445F-4EC7-AB9F-C4AC801C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67A40DF-5431-4299-984E-0031E339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140E1A-EF44-4419-88F5-BC723032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B40FB2-FF5E-4AAF-83D7-15AF5771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7436511-B0F8-4E06-9332-7A4D89EF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DAD29A-762F-40E5-B216-050374B9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A24D66-EF6B-4DBE-9F89-5C787CB0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0D458A-C53F-4291-A1F6-E7F4F5AC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6DC9-B421-4643-B6FF-B53FCE45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D1A603-5E57-42D3-82E6-020BB228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F6C076-6B5F-4F99-95B0-B5A9CDDB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C20AFE-894B-48F8-990F-FB5A1F9D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02E24-F100-4503-9B84-DF7DACC1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6847C2-0AC2-46D4-871B-826A95A7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D7A6B4-D68A-4DBC-A3AB-CB925C20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C68110-2DB6-43E7-B82F-C2F4B6A8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19889F-720E-4D9D-AA4A-44BD408F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1CA4AC-118C-4FFE-B075-A551EA68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CF9EACC-9308-4BB4-A351-962A5EE36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BA6-E598-4FD9-BB0F-83E4281C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4E16DA4-2773-4E51-85FB-A6ED54F4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63F6AE4-525B-4380-8969-A30287C9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9FDA594-1C4F-481D-A7B5-AD84F696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81FCA95-03C1-4620-9497-FB72B308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7544E88-A0C7-4EBF-A18E-04F8B70D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8BDB0A6-3A9D-425C-83F4-F76E0079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86BB6EA-56A9-42FA-B5D5-DAF40363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384DC36-63AC-434B-96A7-B220ACCD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0B778E8-67FA-4B40-A4B7-AE76DCE5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772645F-CE4B-45F0-8AAB-86EE3169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3B08-F7B4-4419-BA54-B2F7CE14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33BF7E1-A332-4FF5-A5F7-90D58929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4B32C1-FBBC-4069-BC9F-2EDCC2E6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62D5FA-3E68-4C65-A1D2-1FCD9954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18E742-CFFF-4707-AB10-D198E83F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C2917B-D5D8-4DE5-9B2F-84235F13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D99F4F-371A-4F2B-9989-DB73CD53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0B3B0D-95A0-4A5E-ACC5-43914CA4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225836-7F31-4A00-9F1A-2F55C1E9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19E562-7376-4D86-953C-B055909F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6201AD-BBA1-46AE-8915-BEB1355D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584E-C5FC-4B9C-A699-5D19262B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49003F-48D3-4E08-BA56-DD279F84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912DB3-84BE-4124-A121-3CBB04AE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39B12B-4D4B-4AC5-A12E-1B2C4860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ACF4D5-9B73-4A2D-AC66-D541572B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CC5AE1-CF99-49FC-9F9C-A42A088E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364646-6050-4A2B-9A51-65287CA9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CF6B3F-7DE8-4111-B244-043F4C4E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689F5F-8895-404F-81C0-841E42C1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E03FA6-E4EF-4848-A5F8-B88243A8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1FECE3-FC9D-47CD-956C-8BE27599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6940-4A2E-402E-963D-9D50917B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28FA64-62B8-40C4-B397-822971FF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87EDA0-41AC-4A38-BF48-12AE5D12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F55AE8-3523-4D2D-ABF4-51BEFE17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68A090-5DDB-41AC-96E3-1778D6B1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76CD7E-4E8A-4442-86E9-EDC6FAEB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6F4EE8-0CCE-41B3-A030-95524864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6EFFBA-4C91-4B0C-9FA9-822DA2C1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614ED8-A95F-4359-9544-FFC79BBB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A6EC03-D07F-47B7-832C-A71DD859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AB512D-4B7D-4C5C-95A7-9250E913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734B-C1C3-4221-8177-5BA78B20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F4AFAB-3FD9-4C85-9C2B-AF8A2DEB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D45F39-B3BE-4EC1-A48C-F63203D6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C2BD89-748D-4ACF-ADD4-0F197B72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147E17-33B4-4A44-AC11-CA2EA0DE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26DC35-F5D6-4F79-81BE-C369623E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410580-87BE-4D5C-AC56-A1BCEDB4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B9A2A5-BC8B-4967-9F6F-6CF125F9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6E8544-4E8B-4A3C-87EE-3AA40D96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7035C5-840A-411F-8242-CFB9889F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53D83E-2030-4491-B0BD-4D4307F7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2A02-3AAB-429A-B1FA-4BC93AF0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01352D-8D52-48E9-934C-F7B5694F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7A1327-F56D-449C-975E-951C2EC1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CB68CA-FA41-4DFA-BF4B-829DBF20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93B6D9-9E34-40AC-A9BE-C55D65B2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6FC7DF-BB4F-4FE5-AE35-D649FCB9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6D8F74-19D5-491B-BEF1-7C3D58BB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EBFCB1-438B-4C21-8B69-0E45199F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2386BB-8D8C-4FB7-A83F-2041212B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5741A2-C16D-46E5-B0D8-29D21A73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9D332A4-1FD5-4C5E-9CEA-4C7FAD0A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5C62-FE38-4A1F-B45B-B331018E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BEA496E-13C0-46D8-96D8-AA350AE6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59CE13F-2FEE-498C-97DF-475DDE94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895484D-AE60-4C46-8F4C-1F39242B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E6F46FC-CCD6-45DC-B760-C13BBBF9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37D1D46-4148-4CB0-81A4-6F4B4B14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B377A6D-FA05-49A0-BB9D-93008092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61AF8D0-8C46-4286-BA29-CF93754D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C4ADEE9-271F-4360-8B17-948A2DD4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2F64AA5-E769-462A-8E42-8200F486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401CFDF-4200-46FB-B4BA-F12518D8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11FE-450A-4375-92B6-C6E168F6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01DD0A4-D5CE-4933-9D95-D3A659BE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2BDC879-38BC-4931-BAB5-82C926CF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6485402-F549-42B6-ABF4-63C4EBBA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C1F8F64-5745-4311-900A-DF1EEA9C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AC53AD0-7448-4849-AC90-1E44407C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14D1FF0-8870-404B-B391-D10E6B58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90323DF-3CEF-483F-99F5-C0E38653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7D97325-1C4F-4A6C-BAC4-B459133D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F870D00-8AE6-4CDA-8237-78E4BCD0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4275329-5E42-4D9E-A05F-5331F536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71E5-593F-4841-B07B-E91DB143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A85A872-6105-47E1-8936-C1AB845D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0E66569-CCCC-40F1-8BCF-FD7D9C46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DF1718A-BDA4-4301-B466-0B11E5AD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C2C851-0030-43CB-8E79-44419F20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A56FBC-BCE1-433C-9F1F-65795EA2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22393E-649D-4E6C-820D-D6E4AAB7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DF1C99-1B91-4D39-807E-B6432AFC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CEC8A4-679A-4ED2-ADFD-580440CA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D283FA-8A06-4093-9EE8-AEF22AFF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8AC21B-5024-4557-B809-FD6701E4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A03C-EFC0-4370-AE28-1575C225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9A45EE-0854-4C82-BD38-68F845D5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20955C-7B3B-4C61-8B95-621F9B96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B2CF54-643F-461D-AB62-D283229C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86FE48-E1F1-49A8-95FD-457B2B86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88A043-0C97-4C70-B455-A90F75F1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5041E8-F535-47DE-9DE7-7B7215A3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E98D2B-7C53-4E49-BC0E-2182AB08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F1C152-3E41-4195-9706-69C81E67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21980B-ACEC-40A6-B7D0-8EA7A177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2C8829-99B4-478F-A59F-8998121B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1958-3A68-4DD8-B487-574C99B7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EEF96C-B597-4823-8FCE-D3A4E829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3D627B-7D50-4FEA-B5BE-2AE8A016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2F7905-91D1-42E5-8341-0D0DAB66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760F92-BC5B-41DB-BD19-AE467412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4C90B2-6061-49C2-AFC9-6597FE6F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298937-92DF-4564-9159-550A0805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3C1D45-2A57-41E0-A58C-37F25612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EBD5-FD3F-404E-A954-7A2EEE95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0234-38C6-41E6-9825-7D00B656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B5C3-4D02-4E88-81B7-4B34B00B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74353-1701-40CF-8FF8-F10EC6B1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96B60-41DE-4EF7-AE9F-21C589FB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1697B-FC7F-41F6-8E32-A4EE2415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3C518-07FE-49F4-B46E-2155510D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756C6-F77E-4C74-9BB2-D178C8A1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BE7F8-E879-4CA2-918A-4ACFEEE2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065AA-1E1B-41A2-B417-BE93538D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3825F-086A-406E-B792-3F531976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81410-8835-4EA4-898D-FB1FA77B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3DB6A-82D2-4224-ABB1-3EE9875E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5C337-AC09-4F7D-B0BE-9B9344C8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88C84-9F25-4BFC-9BA8-9159FF58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95C05-091D-4401-A8A2-C810EE07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4CF0C-2248-4F0C-9E52-68406BC5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CA1C2-C633-4CF0-A882-27FACAA0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2114E-0305-47E1-866F-5AC54717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6C59A-9EDF-4246-83D2-080984E6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3680C-B4BE-4475-B91E-E72D61DF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27510-3FEC-4FC8-833C-14821891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E0B63-C22B-43F1-9C61-E9EBE83E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CB83C-86D8-4476-A4C1-518D8F86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97790-99AD-4342-8569-028A40A7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E962E-997B-4C4E-88A6-A59BACFB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90707-CF58-4A96-BE7B-F01A37F5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74B2C-4FEC-4170-BE5B-355A423A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50E48-A806-4751-99FC-8B13F418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7FB62-1B63-43C9-9C4C-A0445C55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EF4B7-357D-481B-BF95-226D64F4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72601-570C-445B-9081-CACF2D2F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8548B-5D44-4027-9FA4-BEB0F4BF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049B8-AFE8-4CC5-ABA8-3FCE6190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D9348-3FEE-4A65-8EF4-71503DA5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3D3F1-83F5-4813-9012-8932C63D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0878C-8F12-4992-8677-030C13C8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C3D58-EB5E-47C6-8F62-12074830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63051-A851-4A83-8EC7-C43AB3BB4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91449-EF1D-426B-8AE5-41A35950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AE218-8004-40C1-951A-64D0598F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5CB3C-60A0-43C9-B97E-A62C06B1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80582-FF92-4EDF-9BE3-CC156BEE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B845C-4BF3-4683-B14B-FBAA1D14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C04DE-0566-4D95-A5B9-A80AD49E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0011F-9E70-4EAB-8518-BE3CEB60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0321D-31FE-4C9C-AB62-CA829ACD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ACE2F-B130-4F2B-BDA8-3859E105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29262-E0BC-4935-9549-F21776C5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95838-F9B0-4D7A-893A-C55E9CC5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0B9FF-C3A4-4C08-9C83-D49523E2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4AF6F-0E60-4348-AF74-CC7C1D55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EA620-9557-4426-B3B4-8B4A8BB5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3D46C-4186-4094-82A0-8CD36592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78078-A8EF-4800-833D-0CDB7563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042A1-4197-4B8E-AF1C-8E0AD410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A9355-BB9B-4A00-801D-7A770838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1862B-50D5-4894-9113-344E54DE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632DB-9D3E-4D80-B3CC-20B171A5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E9F2A-2A12-4F79-9AE3-304DE2E5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B28A3-B8A6-47A8-AAB5-6EFC3076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6FEF5-C9B4-4518-BA16-82DD6639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286A0-400D-4AAE-82DB-3F6E1FBB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646B4-CE6E-4FEC-B4BB-AFB658D5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A708A-5998-41E5-9FC1-A0916943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6DD44-C412-4432-9C2A-4DA688DA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9A29-5043-4D99-9913-C40B337E8EB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3833-D623-4966-89F0-EE50EFDD513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BECF-52DB-4B6E-BB8D-43646792AD9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BB3C-E672-4364-BD61-D1A2473F0A0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C3F5-E770-4993-ADF3-B73D2AABFCA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4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1FAF-C4B6-4503-A48B-AC10340C4F7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5A99-D83A-4D59-9F87-3F57DE82D01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4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4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FF5E-0BE4-455B-ADDF-BC029F3D4E9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904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49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50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2943-F072-4528-AEE1-0D6EE2876E2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ftr" idx="51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4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CCD4-101A-4172-A707-64CAEE7609B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62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09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672D-F4FA-49A7-A203-9CA9CA434D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5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sldNum" idx="5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A3BD-6722-4098-BA05-6BFD3E6B66D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ftr" idx="5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3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5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5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60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91F8-EBF1-48F8-B938-5DC0C692950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8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6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6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6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918C-F025-4B1B-9DF1-A3A1E138434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2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6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6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6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2B49-755F-43E8-94DE-E5D024AC507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7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dt" idx="6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ftr" idx="6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sldNum" idx="6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1B04-A122-4397-B64F-B9411E93999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7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sldNum" idx="7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0745-34FD-44AF-81C5-1F5DAF62AF9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ftr" idx="7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7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sldNum" idx="7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0591-B17A-4879-BC61-02B5065CC80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ftr" idx="7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29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7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7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7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4E90-57F6-4A41-89BE-D25AF031927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4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dt" idx="7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ftr" idx="8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 type="sldNum" idx="8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56A5-C972-4A34-85C0-644F76CDE4E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A487-4AF7-4F76-A8A1-E247442211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8C03-712B-48ED-8E92-046A387D6DB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ftr" idx="1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88B8-940C-446C-B5BF-A96AB7248E3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304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351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3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4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5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1778-34E1-46D0-8706-C855FC5F21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C8EE-2A0A-4312-A1E1-A5AD4D60D4B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9FFA-1DE7-48B4-8420-B509304C937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50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7466-C34F-46BE-97EB-52316F681F1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3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png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e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WordArt 4"/>
          <p:cNvSpPr txBox="1"/>
          <p:nvPr/>
        </p:nvSpPr>
        <p:spPr>
          <a:xfrm>
            <a:off x="609480" y="914400"/>
            <a:ext cx="8077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ТИ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6" name="Text Box 5"/>
          <p:cNvSpPr/>
          <p:nvPr/>
        </p:nvSpPr>
        <p:spPr>
          <a:xfrm>
            <a:off x="1752480" y="3352680"/>
            <a:ext cx="5867640" cy="398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b6924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37f5b"/>
                </a:solidFill>
                <a:latin typeface="Arial"/>
              </a:rPr>
              <a:t>Учебно-методическое пособие для студ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Прямоугольник 3"/>
          <p:cNvSpPr/>
          <p:nvPr/>
        </p:nvSpPr>
        <p:spPr>
          <a:xfrm>
            <a:off x="2362320" y="4876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Преподаватель ГОУ СП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«Благовещенский медицинский техникум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Качанова Ирина Алекс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Box 5"/>
          <p:cNvSpPr/>
          <p:nvPr/>
        </p:nvSpPr>
        <p:spPr>
          <a:xfrm>
            <a:off x="4343400" y="58672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바탕"/>
                <a:ea typeface="바탕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228240" y="11430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а, измеряемая количеством энергии, которую излучает источник света за единицу времени называется </a:t>
            </a:r>
            <a:r>
              <a:rPr b="1" lang="ru-RU" sz="3200" spc="-1" strike="noStrike">
                <a:solidFill>
                  <a:srgbClr val="be3802"/>
                </a:solidFill>
                <a:latin typeface="Arial"/>
              </a:rPr>
              <a:t>световым пото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Прямоугольник 3"/>
          <p:cNvSpPr/>
          <p:nvPr/>
        </p:nvSpPr>
        <p:spPr>
          <a:xfrm>
            <a:off x="2743200" y="22860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от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4" name="Object 3"/>
              <p:cNvSpPr txBox="1"/>
              <p:nvPr/>
            </p:nvSpPr>
            <p:spPr>
              <a:xfrm>
                <a:off x="990720" y="3429000"/>
                <a:ext cx="17524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65" name="Прямая со стрелкой 9"/>
          <p:cNvCxnSpPr/>
          <p:nvPr/>
        </p:nvCxnSpPr>
        <p:spPr>
          <a:xfrm flipH="1">
            <a:off x="1218960" y="4419360"/>
            <a:ext cx="2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6" name="Прямая со стрелкой 11"/>
          <p:cNvCxnSpPr/>
          <p:nvPr/>
        </p:nvCxnSpPr>
        <p:spPr>
          <a:xfrm>
            <a:off x="2590920" y="449532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7" name="Прямая со стрелкой 12"/>
          <p:cNvCxnSpPr/>
          <p:nvPr/>
        </p:nvCxnSpPr>
        <p:spPr>
          <a:xfrm>
            <a:off x="2819160" y="3809520"/>
            <a:ext cx="114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8" name="Прямоугольник 19"/>
          <p:cNvSpPr/>
          <p:nvPr/>
        </p:nvSpPr>
        <p:spPr>
          <a:xfrm>
            <a:off x="4205520" y="464832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, мин., ча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Прямоугольник 20"/>
          <p:cNvSpPr/>
          <p:nvPr/>
        </p:nvSpPr>
        <p:spPr>
          <a:xfrm>
            <a:off x="4267080" y="3581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энерг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Прямоугольник 21"/>
          <p:cNvSpPr/>
          <p:nvPr/>
        </p:nvSpPr>
        <p:spPr>
          <a:xfrm>
            <a:off x="315720" y="563868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228600" y="990720"/>
            <a:ext cx="5867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тового потока, ограниченная конической или циклической поверхностью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товым пуч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Прямоугольник 3"/>
          <p:cNvSpPr/>
          <p:nvPr/>
        </p:nvSpPr>
        <p:spPr>
          <a:xfrm>
            <a:off x="927720" y="228600"/>
            <a:ext cx="740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учок. Световой луч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3" name="Picture 2" descr="Картинка 17 из 5169"/>
          <p:cNvPicPr/>
          <p:nvPr/>
        </p:nvPicPr>
        <p:blipFill>
          <a:blip r:embed="rId1"/>
          <a:stretch/>
        </p:blipFill>
        <p:spPr>
          <a:xfrm>
            <a:off x="5791320" y="838080"/>
            <a:ext cx="2666880" cy="191160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4" descr="Картинка 38 из 24455"/>
          <p:cNvPicPr/>
          <p:nvPr/>
        </p:nvPicPr>
        <p:blipFill>
          <a:blip r:embed="rId2"/>
          <a:stretch/>
        </p:blipFill>
        <p:spPr>
          <a:xfrm>
            <a:off x="304920" y="2971800"/>
            <a:ext cx="2666880" cy="1785960"/>
          </a:xfrm>
          <a:prstGeom prst="rect">
            <a:avLst/>
          </a:prstGeom>
          <a:ln w="0">
            <a:noFill/>
          </a:ln>
        </p:spPr>
      </p:pic>
      <p:sp>
        <p:nvSpPr>
          <p:cNvPr id="1475" name="Прямоугольник 6"/>
          <p:cNvSpPr/>
          <p:nvPr/>
        </p:nvSpPr>
        <p:spPr>
          <a:xfrm>
            <a:off x="3276720" y="30481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ветовой лу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линия, по направлению которой распространяется световой пу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Прямоугольник 7"/>
          <p:cNvSpPr/>
          <p:nvPr/>
        </p:nvSpPr>
        <p:spPr>
          <a:xfrm>
            <a:off x="239040" y="4952880"/>
            <a:ext cx="8634240" cy="58140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пучок – это поток световой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Прямоугольник 8"/>
          <p:cNvSpPr/>
          <p:nvPr/>
        </p:nvSpPr>
        <p:spPr>
          <a:xfrm>
            <a:off x="228600" y="5638680"/>
            <a:ext cx="8763120" cy="10688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луч – это направле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по которому распространяется эн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228240" y="990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ространства, ограниченная некоторой конической поверхностью, называется телесным углом          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9" name="Прямоугольник 3"/>
          <p:cNvSpPr/>
          <p:nvPr/>
        </p:nvSpPr>
        <p:spPr>
          <a:xfrm>
            <a:off x="2669400" y="228600"/>
            <a:ext cx="361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Телесный уго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0" name="Picture 2" descr="http://www.bymath.net/studyguide/geo/sec/geo20.gif"/>
          <p:cNvPicPr/>
          <p:nvPr/>
        </p:nvPicPr>
        <p:blipFill>
          <a:blip r:embed="rId1"/>
          <a:srcRect l="2862" t="0" r="14282" b="3882"/>
          <a:stretch/>
        </p:blipFill>
        <p:spPr>
          <a:xfrm>
            <a:off x="533520" y="1828800"/>
            <a:ext cx="1676160" cy="1792440"/>
          </a:xfrm>
          <a:prstGeom prst="rect">
            <a:avLst/>
          </a:prstGeom>
          <a:ln w="0">
            <a:noFill/>
          </a:ln>
        </p:spPr>
      </p:pic>
      <p:sp>
        <p:nvSpPr>
          <p:cNvPr id="1481" name="Прямоугольник 5"/>
          <p:cNvSpPr/>
          <p:nvPr/>
        </p:nvSpPr>
        <p:spPr>
          <a:xfrm>
            <a:off x="2362320" y="2133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сный угол измеряется частью сферической поверхности  ABC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3" name="Object 3"/>
              <p:cNvSpPr txBox="1"/>
              <p:nvPr/>
            </p:nvSpPr>
            <p:spPr>
              <a:xfrm>
                <a:off x="3581280" y="3733920"/>
                <a:ext cx="183852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5"/>
              <p:cNvSpPr txBox="1"/>
              <p:nvPr/>
            </p:nvSpPr>
            <p:spPr>
              <a:xfrm>
                <a:off x="6400800" y="1219320"/>
                <a:ext cx="8002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85" name="Прямая со стрелкой 12"/>
          <p:cNvCxnSpPr/>
          <p:nvPr/>
        </p:nvCxnSpPr>
        <p:spPr>
          <a:xfrm>
            <a:off x="5409720" y="411480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6" name="Прямая со стрелкой 13"/>
          <p:cNvCxnSpPr/>
          <p:nvPr/>
        </p:nvCxnSpPr>
        <p:spPr>
          <a:xfrm flipH="1" flipV="1">
            <a:off x="2894760" y="457164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7" name="Прямая со стрелкой 14"/>
          <p:cNvCxnSpPr/>
          <p:nvPr/>
        </p:nvCxnSpPr>
        <p:spPr>
          <a:xfrm>
            <a:off x="5257440" y="4952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8" name="TextBox 17"/>
          <p:cNvSpPr/>
          <p:nvPr/>
        </p:nvSpPr>
        <p:spPr>
          <a:xfrm>
            <a:off x="6248520" y="3733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сфер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Box 18"/>
          <p:cNvSpPr/>
          <p:nvPr/>
        </p:nvSpPr>
        <p:spPr>
          <a:xfrm>
            <a:off x="60958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иус сфе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Прямоугольник 19"/>
          <p:cNvSpPr/>
          <p:nvPr/>
        </p:nvSpPr>
        <p:spPr>
          <a:xfrm>
            <a:off x="152280" y="4114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Object 7"/>
              <p:cNvSpPr txBox="1"/>
              <p:nvPr/>
            </p:nvSpPr>
            <p:spPr>
              <a:xfrm>
                <a:off x="2743200" y="5638680"/>
                <a:ext cx="25336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228600" y="837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энергии, которое излучается источником света за единицу времени внутри телесного угла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ой свет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3"/>
          <p:cNvSpPr/>
          <p:nvPr/>
        </p:nvSpPr>
        <p:spPr>
          <a:xfrm>
            <a:off x="1406520" y="152280"/>
            <a:ext cx="63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ила света. Освещен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6" name="Object 1"/>
              <p:cNvSpPr txBox="1"/>
              <p:nvPr/>
            </p:nvSpPr>
            <p:spPr>
              <a:xfrm>
                <a:off x="1676520" y="2057400"/>
                <a:ext cx="1066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97" name="Прямая со стрелкой 6"/>
          <p:cNvCxnSpPr/>
          <p:nvPr/>
        </p:nvCxnSpPr>
        <p:spPr>
          <a:xfrm>
            <a:off x="3048120" y="228600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8" name="Прямая со стрелкой 9"/>
          <p:cNvCxnSpPr/>
          <p:nvPr/>
        </p:nvCxnSpPr>
        <p:spPr>
          <a:xfrm flipH="1">
            <a:off x="1751760" y="2743200"/>
            <a:ext cx="2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9" name="Прямая со стрелкой 10"/>
          <p:cNvCxnSpPr/>
          <p:nvPr/>
        </p:nvCxnSpPr>
        <p:spPr>
          <a:xfrm>
            <a:off x="2666520" y="2819160"/>
            <a:ext cx="11437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0" name="Прямоугольник 13"/>
          <p:cNvSpPr/>
          <p:nvPr/>
        </p:nvSpPr>
        <p:spPr>
          <a:xfrm>
            <a:off x="4125600" y="21337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Прямоугольник 17"/>
          <p:cNvSpPr/>
          <p:nvPr/>
        </p:nvSpPr>
        <p:spPr>
          <a:xfrm>
            <a:off x="396252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Прямоугольник 18"/>
          <p:cNvSpPr/>
          <p:nvPr/>
        </p:nvSpPr>
        <p:spPr>
          <a:xfrm>
            <a:off x="165960" y="3276720"/>
            <a:ext cx="34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све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ндела)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Содержимое 2"/>
          <p:cNvSpPr/>
          <p:nvPr/>
        </p:nvSpPr>
        <p:spPr>
          <a:xfrm>
            <a:off x="228600" y="3962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световой энергии, подающей на единицу поверхности тела за одну секунду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вещ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Object 3"/>
              <p:cNvSpPr txBox="1"/>
              <p:nvPr/>
            </p:nvSpPr>
            <p:spPr>
              <a:xfrm>
                <a:off x="3124080" y="5181480"/>
                <a:ext cx="1219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6" name="Прямоугольник 29"/>
          <p:cNvSpPr/>
          <p:nvPr/>
        </p:nvSpPr>
        <p:spPr>
          <a:xfrm>
            <a:off x="4963680" y="51055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Box 30"/>
          <p:cNvSpPr/>
          <p:nvPr/>
        </p:nvSpPr>
        <p:spPr>
          <a:xfrm>
            <a:off x="4800600" y="58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Прямоугольник 31"/>
          <p:cNvSpPr/>
          <p:nvPr/>
        </p:nvSpPr>
        <p:spPr>
          <a:xfrm>
            <a:off x="169920" y="61722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щен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юк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9" name="Прямая со стрелкой 32"/>
          <p:cNvCxnSpPr/>
          <p:nvPr/>
        </p:nvCxnSpPr>
        <p:spPr>
          <a:xfrm flipH="1">
            <a:off x="2437560" y="5791320"/>
            <a:ext cx="686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0" name="Прямая со стрелкой 33"/>
          <p:cNvCxnSpPr/>
          <p:nvPr/>
        </p:nvCxnSpPr>
        <p:spPr>
          <a:xfrm>
            <a:off x="4343040" y="6095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1" name="Прямая со стрелкой 34"/>
          <p:cNvCxnSpPr/>
          <p:nvPr/>
        </p:nvCxnSpPr>
        <p:spPr>
          <a:xfrm>
            <a:off x="4343040" y="54097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9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охранения зрения и создания нормальных условий труда необходимо поддерживать наиболее благоприятную освещ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тимальные нормы освещенности (л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тонких работ ........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чтения ..................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грубых работ ......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ридорах и на лестницах..........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ходы в помещениях.............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лицах  и площадях.............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дворах и подъездах............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ьма специфические требования предъявляются к освещенности операционного поля в хирургии. Падающий на операционное поле свет должен создавать равномерную оптимальную освещенность при минимальном тепловом эффекте, не утомлять врача и не создавать т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этой цели применяются лампы специальной конструкции, так называемые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теневые лам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Arial"/>
              </a:rPr>
              <a:t>Нормы освещ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ru.wikipedia.org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икипед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5terka.com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Геометрическая оп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3dfef"/>
                </a:solidFill>
                <a:uFillTx/>
                <a:latin typeface="Rockwell"/>
              </a:rPr>
              <a:t>images.yandex.ru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</a:t>
            </a:r>
            <a:r>
              <a:rPr b="1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Яндекс. Картинки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http://www.bymath.net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ся элементарная матема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cc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/>
          </p:nvPr>
        </p:nvSpPr>
        <p:spPr>
          <a:xfrm>
            <a:off x="1828440" y="22856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Оптик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Источники свет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Фотометрия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оток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учок. Световой луч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ила света. Освещенность.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Нормы освещенности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390" name="WordArt 4"/>
          <p:cNvSpPr txBox="1"/>
          <p:nvPr/>
        </p:nvSpPr>
        <p:spPr>
          <a:xfrm>
            <a:off x="2362320" y="53352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 txBox="1"/>
          <p:nvPr/>
        </p:nvSpPr>
        <p:spPr>
          <a:xfrm>
            <a:off x="228240" y="990360"/>
            <a:ext cx="8534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дел физики, изучающий световые явления, получил название оптик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 греч. «оптикос» зрительный)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световые явления обычно называются оптичес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Box 5"/>
          <p:cNvSpPr/>
          <p:nvPr/>
        </p:nvSpPr>
        <p:spPr>
          <a:xfrm>
            <a:off x="228600" y="342900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ветить на вопро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способы передачи воздействий существуют? Приведите приме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теории по изучению света были выдвинуты и чем они отличалис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называют геометрической оптик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Прямоугольник 6" descr=""/>
          <p:cNvPicPr/>
          <p:nvPr/>
        </p:nvPicPr>
        <p:blipFill>
          <a:blip r:embed="rId1"/>
          <a:stretch/>
        </p:blipFill>
        <p:spPr>
          <a:xfrm>
            <a:off x="3157560" y="19080"/>
            <a:ext cx="2500200" cy="865080"/>
          </a:xfrm>
          <a:prstGeom prst="rect">
            <a:avLst/>
          </a:prstGeom>
          <a:ln w="0">
            <a:noFill/>
          </a:ln>
        </p:spPr>
      </p:pic>
      <p:sp>
        <p:nvSpPr>
          <p:cNvPr id="1394" name="Прямоугольник 8"/>
          <p:cNvSpPr/>
          <p:nvPr/>
        </p:nvSpPr>
        <p:spPr>
          <a:xfrm>
            <a:off x="3049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абота с учебником Физика 11кл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.Я. Мякишев, Б.Б. Буханцев стр. 168 – 1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особы передачи воз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нос вещества от источника к приемнику. (ударить по стру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рение состояния среды между телами (без переноса вещества). (две струны поместить рядом и звуковые волны от первой струны дойдя до второй вызовут ее звуч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04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пускуля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0" y="1142640"/>
            <a:ext cx="4573440" cy="396252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поток частиц, идущих от источника во все стороны </a:t>
            </a:r>
            <a:r>
              <a:rPr b="0" lang="ru-RU" sz="20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(перенос вещества</a:t>
            </a:r>
            <a:r>
              <a:rPr b="0" lang="ru-RU" sz="2000" spc="-1" strike="noStrike">
                <a:solidFill>
                  <a:srgbClr val="3333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очему световые пучки, пересекаются в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3962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4572000" y="1142640"/>
            <a:ext cx="4572000" cy="3962520"/>
          </a:xfrm>
          <a:prstGeom prst="rect">
            <a:avLst/>
          </a:prstGeom>
          <a:solidFill>
            <a:srgbClr val="d3d3d9"/>
          </a:solidFill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Гюйге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волны, распространяющиеся в особой гипотетической среде  - эфире, заполняющем все пространство проникающем внутрь всех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рямолинейное распространение и образование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пускулярная и волновая теории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7"/>
          <p:cNvSpPr/>
          <p:nvPr/>
        </p:nvSpPr>
        <p:spPr>
          <a:xfrm>
            <a:off x="152280" y="5181480"/>
            <a:ext cx="85345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о второй половин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– свет рассматривали как вол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Box 8"/>
          <p:cNvSpPr/>
          <p:nvPr/>
        </p:nvSpPr>
        <p:spPr>
          <a:xfrm>
            <a:off x="152280" y="5657760"/>
            <a:ext cx="8534520" cy="1191240"/>
          </a:xfrm>
          <a:prstGeom prst="rect">
            <a:avLst/>
          </a:prstGeom>
          <a:solidFill>
            <a:srgbClr val="95e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 начал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представления о природе сета изменил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Свет при излучении и поглощении ведет себя подобно потоку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Picture 7" descr="Картинка 2 из 12497"/>
          <p:cNvPicPr/>
          <p:nvPr/>
        </p:nvPicPr>
        <p:blipFill>
          <a:blip r:embed="rId1"/>
          <a:stretch/>
        </p:blipFill>
        <p:spPr>
          <a:xfrm>
            <a:off x="5105520" y="4952880"/>
            <a:ext cx="1676160" cy="1408320"/>
          </a:xfrm>
          <a:prstGeom prst="rect">
            <a:avLst/>
          </a:prstGeom>
          <a:ln w="0">
            <a:noFill/>
          </a:ln>
        </p:spPr>
      </p:pic>
      <p:sp>
        <p:nvSpPr>
          <p:cNvPr id="1405" name="TextBox 1"/>
          <p:cNvSpPr/>
          <p:nvPr/>
        </p:nvSpPr>
        <p:spPr>
          <a:xfrm>
            <a:off x="152280" y="152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и и дифра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л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Box 2"/>
          <p:cNvSpPr/>
          <p:nvPr/>
        </p:nvSpPr>
        <p:spPr>
          <a:xfrm>
            <a:off x="457200" y="3429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я и погло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током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Прямоугольник 3"/>
          <p:cNvSpPr/>
          <p:nvPr/>
        </p:nvSpPr>
        <p:spPr>
          <a:xfrm>
            <a:off x="304920" y="1143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я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жение световых во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8" name="Picture 2" descr="D:\Irina\анимашки\физика\interference1.gif"/>
          <p:cNvPicPr/>
          <p:nvPr/>
        </p:nvPicPr>
        <p:blipFill>
          <a:blip r:embed="rId2"/>
          <a:stretch/>
        </p:blipFill>
        <p:spPr>
          <a:xfrm>
            <a:off x="990720" y="198108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409" name="Прямоугольник 5"/>
          <p:cNvSpPr/>
          <p:nvPr/>
        </p:nvSpPr>
        <p:spPr>
          <a:xfrm>
            <a:off x="4267080" y="11430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ифракция све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ибание малых препятст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0" name="Picture 4" descr="Картинка 66 из 2014"/>
          <p:cNvPicPr/>
          <p:nvPr/>
        </p:nvPicPr>
        <p:blipFill>
          <a:blip r:embed="rId3"/>
          <a:stretch/>
        </p:blipFill>
        <p:spPr>
          <a:xfrm>
            <a:off x="5486400" y="1981080"/>
            <a:ext cx="1981080" cy="136692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5" descr="D:\Irina\анимашки\огонь, свет\солнце.gif"/>
          <p:cNvPicPr/>
          <p:nvPr/>
        </p:nvPicPr>
        <p:blipFill>
          <a:blip r:embed="rId4"/>
          <a:stretch/>
        </p:blipFill>
        <p:spPr>
          <a:xfrm>
            <a:off x="3352680" y="49528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1412" name="Прямоугольник 8"/>
          <p:cNvSpPr/>
          <p:nvPr/>
        </p:nvSpPr>
        <p:spPr>
          <a:xfrm>
            <a:off x="152280" y="44956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 испускания и распространения энергии в виде волн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 части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Прямоугольник 9"/>
          <p:cNvSpPr/>
          <p:nvPr/>
        </p:nvSpPr>
        <p:spPr>
          <a:xfrm>
            <a:off x="6477120" y="4572000"/>
            <a:ext cx="249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глощ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интенсивности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лучения свет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Picture 2" descr="Картинка 20 из 2227"/>
          <p:cNvPicPr/>
          <p:nvPr/>
        </p:nvPicPr>
        <p:blipFill>
          <a:blip r:embed="rId1"/>
          <a:stretch/>
        </p:blipFill>
        <p:spPr>
          <a:xfrm>
            <a:off x="6858000" y="152280"/>
            <a:ext cx="2171880" cy="164808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248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ометрическая оп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 оптики, изучающий законы распространения света в прозрачных средах,                   законы отражения света от зеркальных поверхностей и принципы построения изображений при прохождении света в оптических систе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рямоугольник 3"/>
          <p:cNvSpPr/>
          <p:nvPr/>
        </p:nvSpPr>
        <p:spPr>
          <a:xfrm>
            <a:off x="762120" y="30481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Box 4"/>
          <p:cNvSpPr/>
          <p:nvPr/>
        </p:nvSpPr>
        <p:spPr>
          <a:xfrm>
            <a:off x="2133720" y="36576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ет распространяется прямолиней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9" name="Picture 3" descr="D:\Irina\анимашки\природа\62.gif"/>
          <p:cNvPicPr/>
          <p:nvPr/>
        </p:nvPicPr>
        <p:blipFill>
          <a:blip r:embed="rId2"/>
          <a:stretch/>
        </p:blipFill>
        <p:spPr>
          <a:xfrm>
            <a:off x="3276720" y="4419720"/>
            <a:ext cx="3085920" cy="209376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4" descr="D:\Irina\анимашки\природа\природа2.gif"/>
          <p:cNvPicPr/>
          <p:nvPr/>
        </p:nvPicPr>
        <p:blipFill>
          <a:blip r:embed="rId3"/>
          <a:stretch/>
        </p:blipFill>
        <p:spPr>
          <a:xfrm>
            <a:off x="228600" y="4343400"/>
            <a:ext cx="2362320" cy="224640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5" descr="D:\Irina\анимашки\природа\природа5.gif"/>
          <p:cNvPicPr/>
          <p:nvPr/>
        </p:nvPicPr>
        <p:blipFill>
          <a:blip r:embed="rId4"/>
          <a:stretch/>
        </p:blipFill>
        <p:spPr>
          <a:xfrm>
            <a:off x="7010280" y="434340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14"/>
          <p:cNvSpPr/>
          <p:nvPr/>
        </p:nvSpPr>
        <p:spPr>
          <a:xfrm>
            <a:off x="884160" y="2606760"/>
            <a:ext cx="639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16"/>
          <p:cNvSpPr/>
          <p:nvPr/>
        </p:nvSpPr>
        <p:spPr>
          <a:xfrm>
            <a:off x="884160" y="2606760"/>
            <a:ext cx="270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18"/>
          <p:cNvSpPr/>
          <p:nvPr/>
        </p:nvSpPr>
        <p:spPr>
          <a:xfrm>
            <a:off x="884160" y="2606760"/>
            <a:ext cx="36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200"/>
          <p:cNvSpPr/>
          <p:nvPr/>
        </p:nvSpPr>
        <p:spPr>
          <a:xfrm>
            <a:off x="304920" y="609480"/>
            <a:ext cx="2819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Искусствен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202"/>
          <p:cNvSpPr/>
          <p:nvPr/>
        </p:nvSpPr>
        <p:spPr>
          <a:xfrm>
            <a:off x="6248520" y="609480"/>
            <a:ext cx="2733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Естественные</a:t>
            </a:r>
            <a:r>
              <a:rPr b="0" lang="ru-RU" sz="2800" spc="-1" strike="noStrike">
                <a:solidFill>
                  <a:srgbClr val="db535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db5353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Группа 35"/>
          <p:cNvGrpSpPr/>
          <p:nvPr/>
        </p:nvGrpSpPr>
        <p:grpSpPr>
          <a:xfrm>
            <a:off x="4952880" y="3581280"/>
            <a:ext cx="1447920" cy="1395360"/>
            <a:chOff x="4952880" y="3581280"/>
            <a:chExt cx="1447920" cy="1395360"/>
          </a:xfrm>
        </p:grpSpPr>
        <p:sp>
          <p:nvSpPr>
            <p:cNvPr id="1428" name="Rectangle 197"/>
            <p:cNvSpPr/>
            <p:nvPr/>
          </p:nvSpPr>
          <p:spPr>
            <a:xfrm>
              <a:off x="4952880" y="4516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звезд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9" name="Picture 203" descr="звезда"/>
            <p:cNvPicPr/>
            <p:nvPr/>
          </p:nvPicPr>
          <p:blipFill>
            <a:blip r:embed="rId1"/>
            <a:stretch/>
          </p:blipFill>
          <p:spPr>
            <a:xfrm>
              <a:off x="5028840" y="3581280"/>
              <a:ext cx="937080" cy="90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0" name="Группа 34"/>
          <p:cNvGrpSpPr/>
          <p:nvPr/>
        </p:nvGrpSpPr>
        <p:grpSpPr>
          <a:xfrm>
            <a:off x="2819520" y="3581280"/>
            <a:ext cx="1295280" cy="1788840"/>
            <a:chOff x="2819520" y="3581280"/>
            <a:chExt cx="1295280" cy="1788840"/>
          </a:xfrm>
        </p:grpSpPr>
        <p:sp>
          <p:nvSpPr>
            <p:cNvPr id="1431" name="Rectangle 198"/>
            <p:cNvSpPr/>
            <p:nvPr/>
          </p:nvSpPr>
          <p:spPr>
            <a:xfrm>
              <a:off x="2928240" y="491040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м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2" name="Picture 204" descr="комета"/>
            <p:cNvPicPr/>
            <p:nvPr/>
          </p:nvPicPr>
          <p:blipFill>
            <a:blip r:embed="rId2"/>
            <a:stretch/>
          </p:blipFill>
          <p:spPr>
            <a:xfrm>
              <a:off x="2819520" y="3581280"/>
              <a:ext cx="1295280" cy="139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3" name="Группа 33"/>
          <p:cNvGrpSpPr/>
          <p:nvPr/>
        </p:nvGrpSpPr>
        <p:grpSpPr>
          <a:xfrm>
            <a:off x="5034240" y="5029200"/>
            <a:ext cx="1137960" cy="1679400"/>
            <a:chOff x="5034240" y="5029200"/>
            <a:chExt cx="1137960" cy="1679400"/>
          </a:xfrm>
        </p:grpSpPr>
        <p:sp>
          <p:nvSpPr>
            <p:cNvPr id="1434" name="Rectangle 196"/>
            <p:cNvSpPr/>
            <p:nvPr/>
          </p:nvSpPr>
          <p:spPr>
            <a:xfrm>
              <a:off x="5034240" y="6248880"/>
              <a:ext cx="11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олнц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5" name="Picture 205" descr="солнце"/>
            <p:cNvPicPr/>
            <p:nvPr/>
          </p:nvPicPr>
          <p:blipFill>
            <a:blip r:embed="rId3"/>
            <a:stretch/>
          </p:blipFill>
          <p:spPr>
            <a:xfrm>
              <a:off x="5105160" y="5029200"/>
              <a:ext cx="106704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6" name="Группа 32"/>
          <p:cNvGrpSpPr/>
          <p:nvPr/>
        </p:nvGrpSpPr>
        <p:grpSpPr>
          <a:xfrm>
            <a:off x="4807800" y="2362320"/>
            <a:ext cx="1179000" cy="1145520"/>
            <a:chOff x="4807800" y="2362320"/>
            <a:chExt cx="1179000" cy="1145520"/>
          </a:xfrm>
        </p:grpSpPr>
        <p:sp>
          <p:nvSpPr>
            <p:cNvPr id="1437" name="Rectangle 195"/>
            <p:cNvSpPr/>
            <p:nvPr/>
          </p:nvSpPr>
          <p:spPr>
            <a:xfrm>
              <a:off x="4807800" y="304812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уч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8" name="Picture 208" descr="лучина"/>
            <p:cNvPicPr/>
            <p:nvPr/>
          </p:nvPicPr>
          <p:blipFill>
            <a:blip r:embed="rId4"/>
            <a:stretch/>
          </p:blipFill>
          <p:spPr>
            <a:xfrm>
              <a:off x="4876560" y="2362320"/>
              <a:ext cx="951840" cy="7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Группа 36"/>
          <p:cNvGrpSpPr/>
          <p:nvPr/>
        </p:nvGrpSpPr>
        <p:grpSpPr>
          <a:xfrm>
            <a:off x="3124080" y="2362320"/>
            <a:ext cx="1046160" cy="1298160"/>
            <a:chOff x="3124080" y="2362320"/>
            <a:chExt cx="1046160" cy="1298160"/>
          </a:xfrm>
        </p:grpSpPr>
        <p:sp>
          <p:nvSpPr>
            <p:cNvPr id="1440" name="Rectangle 193"/>
            <p:cNvSpPr/>
            <p:nvPr/>
          </p:nvSpPr>
          <p:spPr>
            <a:xfrm>
              <a:off x="3131640" y="320076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амп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1" name="Picture 209" descr="лампа"/>
            <p:cNvPicPr/>
            <p:nvPr/>
          </p:nvPicPr>
          <p:blipFill>
            <a:blip r:embed="rId5"/>
            <a:stretch/>
          </p:blipFill>
          <p:spPr>
            <a:xfrm>
              <a:off x="3124080" y="2362320"/>
              <a:ext cx="95472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2" name="Прямоугольник 23" descr=""/>
          <p:cNvPicPr/>
          <p:nvPr/>
        </p:nvPicPr>
        <p:blipFill>
          <a:blip r:embed="rId6"/>
          <a:stretch/>
        </p:blipFill>
        <p:spPr>
          <a:xfrm>
            <a:off x="2182680" y="-133200"/>
            <a:ext cx="4638960" cy="865080"/>
          </a:xfrm>
          <a:prstGeom prst="rect">
            <a:avLst/>
          </a:prstGeom>
          <a:ln w="0">
            <a:noFill/>
          </a:ln>
        </p:spPr>
      </p:pic>
      <p:grpSp>
        <p:nvGrpSpPr>
          <p:cNvPr id="1443" name="Группа 30"/>
          <p:cNvGrpSpPr/>
          <p:nvPr/>
        </p:nvGrpSpPr>
        <p:grpSpPr>
          <a:xfrm>
            <a:off x="3125160" y="380880"/>
            <a:ext cx="941040" cy="1908000"/>
            <a:chOff x="3125160" y="380880"/>
            <a:chExt cx="941040" cy="1908000"/>
          </a:xfrm>
        </p:grpSpPr>
        <p:sp>
          <p:nvSpPr>
            <p:cNvPr id="1444" name="Rectangle 194"/>
            <p:cNvSpPr/>
            <p:nvPr/>
          </p:nvSpPr>
          <p:spPr>
            <a:xfrm>
              <a:off x="3125160" y="18291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ве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5" name="Picture 2" descr="D:\Irina\анимашки\огонь, свет\ogon-212.gif"/>
            <p:cNvPicPr/>
            <p:nvPr/>
          </p:nvPicPr>
          <p:blipFill>
            <a:blip r:embed="rId7"/>
            <a:stretch/>
          </p:blipFill>
          <p:spPr>
            <a:xfrm>
              <a:off x="3276360" y="380880"/>
              <a:ext cx="762120" cy="15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6" name="Группа 29"/>
          <p:cNvGrpSpPr/>
          <p:nvPr/>
        </p:nvGrpSpPr>
        <p:grpSpPr>
          <a:xfrm>
            <a:off x="2438280" y="5405400"/>
            <a:ext cx="2743200" cy="1450440"/>
            <a:chOff x="2438280" y="5405400"/>
            <a:chExt cx="2743200" cy="1450440"/>
          </a:xfrm>
        </p:grpSpPr>
        <p:sp>
          <p:nvSpPr>
            <p:cNvPr id="1447" name="Rectangle 149"/>
            <p:cNvSpPr/>
            <p:nvPr/>
          </p:nvSpPr>
          <p:spPr>
            <a:xfrm>
              <a:off x="2438280" y="6396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бактерии на рыб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8" name="Picture 3" descr="D:\Irina\анимашки\рыбы\рыбка.gif"/>
            <p:cNvPicPr/>
            <p:nvPr/>
          </p:nvPicPr>
          <p:blipFill>
            <a:blip r:embed="rId8"/>
            <a:stretch/>
          </p:blipFill>
          <p:spPr>
            <a:xfrm>
              <a:off x="2819160" y="5405400"/>
              <a:ext cx="161928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9" name="Группа 31"/>
          <p:cNvGrpSpPr/>
          <p:nvPr/>
        </p:nvGrpSpPr>
        <p:grpSpPr>
          <a:xfrm>
            <a:off x="4648320" y="533520"/>
            <a:ext cx="1371600" cy="1831680"/>
            <a:chOff x="4648320" y="533520"/>
            <a:chExt cx="1371600" cy="1831680"/>
          </a:xfrm>
        </p:grpSpPr>
        <p:pic>
          <p:nvPicPr>
            <p:cNvPr id="1450" name="Picture 5" descr="D:\Irina\анимашки\огонь, свет\15.gif"/>
            <p:cNvPicPr/>
            <p:nvPr/>
          </p:nvPicPr>
          <p:blipFill>
            <a:blip r:embed="rId9"/>
            <a:stretch/>
          </p:blipFill>
          <p:spPr>
            <a:xfrm>
              <a:off x="4648320" y="533520"/>
              <a:ext cx="1371600" cy="13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1" name="Rectangle 194"/>
            <p:cNvSpPr/>
            <p:nvPr/>
          </p:nvSpPr>
          <p:spPr>
            <a:xfrm>
              <a:off x="4805280" y="190548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сте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2" name="Прямоугольник 37" descr=""/>
          <p:cNvPicPr/>
          <p:nvPr/>
        </p:nvPicPr>
        <p:blipFill>
          <a:blip r:embed="rId10"/>
          <a:stretch/>
        </p:blipFill>
        <p:spPr>
          <a:xfrm>
            <a:off x="3932280" y="890640"/>
            <a:ext cx="17622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C -0.00417 0.01481 -0.0092 0.01713 -0.01528 0.025 C -0.0191 0.02963 -0.02274 0.03657 -0.02639 0.04143 C -0.03576 0.05347 -0.02361 0.03472 -0.03281 0.04699 C -0.03472 0.04953 -0.0375 0.05601 -0.03941 0.05787 C -0.04931 0.06689 -0.06094 0.07129 -0.07101 0.07476 C -0.07674 0.07916 -0.08247 0.08263 -0.08854 0.08564 C -0.09358 0.09467 -0.10556 0.10208 -0.11129 0.10254 C -0.14219 0.10532 -0.17153 0.10532 -0.20156 0.10532 E">
                                      <p:cBhvr>
                                        <p:cTn id="331" dur="2000" fill="hold"/>
                                        <p:tgtEl>
                                          <p:spTgt spid="1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C -0.00364 0.00093 -0.00694 0.00139 -0.00989 0.00324 C -0.02847 0.01412 -0.00416 0.00463 -0.01996 0.01019 C -0.02395 0.01459 -0.02934 0.0176 -0.03316 0.02246 C -0.03455 0.02431 -0.03524 0.02732 -0.03645 0.0294 C -0.04149 0.03658 -0.04722 0.04213 -0.05451 0.04676 C -0.06458 0.0625 -0.04757 0.03866 -0.06753 0.05556 C -0.08541 0.07084 -0.06336 0.06366 -0.08246 0.06783 C -0.08819 0.07685 -0.09652 0.0831 -0.10364 0.09074 C -0.12378 0.11204 -0.09479 0.08357 -0.11198 0.10463 C -0.11371 0.10672 -0.11666 0.10764 -0.11875 0.10972 C -0.12187 0.11297 -0.12378 0.1169 -0.12673 0.12014 C -0.13073 0.12894 -0.14027 0.14329 -0.14652 0.15 C -0.15104 0.1551 -0.16128 0.15741 -0.16632 0.16042 C -0.17343 0.16505 -0.18107 0.17292 -0.18784 0.17801 C -0.19878 0.18704 -0.21076 0.19607 -0.22222 0.20417 C -0.22604 0.20718 -0.22847 0.21158 -0.23194 0.21459 C -0.2342 0.21644 -0.24461 0.22084 -0.24705 0.22176 C -0.2559 0.23542 -0.27552 0.23542 -0.28958 0.23889 C -0.30191 0.24977 -0.29635 0.2507 -0.3125 0.25301 C -0.34705 0.26644 -0.28472 0.26042 -0.38993 0.25486 C -0.40555 0.24954 -0.43402 0.23773 -0.45069 0.2375 C -0.46736 0.23681 -0.48368 0.2375 -0.5 0.2375 E">
                                      <p:cBhvr>
                                        <p:cTn id="335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98 0.01736 C -0.07153 0.02477 -0.06997 0.02917 -0.07414 0.03611 C -0.07587 0.03889 -0.07796 0.04051 -0.07969 0.04282 C -0.08056 0.04398 -0.08247 0.0463 -0.08247 0.04653 C -0.08473 0.05509 -0.08785 0.06088 -0.09063 0.06875 C -0.09184 0.07732 -0.09375 0.08634 -0.09705 0.09306 C -0.09896 0.10857 -0.10608 0.11458 -0.11059 0.12708 C -0.11858 0.14884 -0.12535 0.17037 -0.13612 0.1875 C -0.13959 0.19282 -0.13993 0.20023 -0.14428 0.20301 C -0.15452 0.22222 -0.16771 0.22639 -0.1816 0.2287 C -0.19792 0.23866 -0.17257 0.2338 -0.21598 0.2338 E">
                                      <p:cBhvr>
                                        <p:cTn id="339" dur="2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23 C -0.00781 -0.00301 -0.01372 0.0037 -0.02118 0.00671 C -0.03212 0.01852 -0.04653 0.02268 -0.05834 0.03287 C -0.07049 0.04329 -0.06962 0.04745 -0.08577 0.05208 C -0.09688 0.06412 -0.08247 0.04977 -0.10209 0.06273 C -0.10347 0.06389 -0.1309 0.08565 -0.13403 0.08889 C -0.1408 0.09606 -0.14688 0.10278 -0.15347 0.10972 C -0.15538 0.1118 -0.1559 0.11528 -0.15816 0.1169 C -0.16059 0.11852 -0.16372 0.11805 -0.16632 0.11852 C -0.17292 0.12963 -0.17813 0.13218 -0.18733 0.1412 C -0.19393 0.14768 -0.19531 0.15278 -0.20347 0.15694 C -0.20625 0.16018 -0.21025 0.16227 -0.21302 0.16574 C -0.21754 0.1713 -0.21927 0.1794 -0.22431 0.18495 C -0.22795 0.18889 -0.23299 0.1919 -0.23542 0.19699 C -0.23906 0.20509 -0.24288 0.21111 -0.25 0.2162 C -0.25851 0.23055 -0.24705 0.21319 -0.25955 0.225 C -0.26163 0.22685 -0.2625 0.23009 -0.26459 0.23218 C -0.26823 0.23565 -0.27917 0.24236 -0.28368 0.24421 C -0.29045 0.25463 -0.28281 0.24537 -0.29531 0.25116 C -0.29775 0.25255 -0.29931 0.25486 -0.30156 0.25625 C -0.30295 0.25741 -0.30486 0.25764 -0.30643 0.2581 C -0.31233 0.26759 -0.31979 0.2743 -0.32917 0.27893 C -0.34254 0.29375 -0.36406 0.3037 -0.38056 0.31412 C -0.38316 0.31574 -0.38646 0.3169 -0.38872 0.31921 C -0.39393 0.325 -0.4 0.33403 -0.40643 0.33843 C -0.41077 0.3456 -0.41476 0.35231 -0.4191 0.35949 C -0.42188 0.36366 -0.42726 0.37176 -0.42726 0.37199 C -0.42813 0.37569 -0.42952 0.38264 -0.43212 0.38565 C -0.43368 0.38773 -0.43681 0.38889 -0.43872 0.39074 C -0.45243 0.40741 -0.44202 0.40278 -0.45295 0.40648 C -0.4632 0.41389 -0.46372 0.41574 -0.47084 0.42593 C -0.47188 0.42917 -0.47292 0.43588 -0.47709 0.43634 C -0.49271 0.43866 -0.52361 0.43796 -0.52361 0.43819 E">
                                      <p:cBhvr>
                                        <p:cTn id="343" dur="2000" fill="hold"/>
                                        <p:tgtEl>
                                          <p:spTgt spid="1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 0.06111 C 0.09375 0.05093 0.12274 0.03819 0.15521 0.03565 C 0.16788 0.03287 0.18073 0.03333 0.1934 0.02963 C 0.1993 0.02824 0.20451 0.02407 0.21007 0.02176 C 0.22152 0.01736 0.23333 0.01412 0.24496 0.01019 C 0.24878 0.0088 0.25659 0.00625 0.25659 0.00671 C 0.2717 -0.0044 0.28767 -0.02153 0.3033 -0.02894 C 0.31701 -0.04259 0.30937 -0.03611 0.32639 -0.04792 C 0.33524 -0.05463 0.34791 -0.07338 0.34791 -0.07315 C 0.35364 -0.08704 0.36076 -0.10093 0.36632 -0.11458 C 0.37257 -0.13125 0.3743 -0.14097 0.38437 -0.15556 C 0.39062 -0.17315 0.3835 -0.1588 0.39618 -0.17106 C 0.40086 -0.17593 0.40468 -0.18148 0.4092 -0.18657 C 0.41389 -0.1919 0.41996 -0.19491 0.4243 -0.2 C 0.43385 -0.21134 0.43975 -0.22431 0.44913 -0.23519 C 0.45295 -0.24815 0.44791 -0.2338 0.45746 -0.24907 C 0.4651 -0.26134 0.46979 -0.275 0.47899 -0.28611 C 0.48385 -0.30648 0.49757 -0.32292 0.50885 -0.33866 C 0.51475 -0.3463 0.51146 -0.34491 0.51562 -0.35625 C 0.51753 -0.36065 0.52118 -0.36458 0.52396 -0.36782 C 0.52396 -0.36759 0.52725 -0.38333 0.52725 -0.36782 C 0.52725 -0.35116 0.52205 -0.34421 0.52916 -0.35625 C 0.52708 -0.3625 0.52916 -0.36204 0.52552 -0.36204 E">
                                      <p:cBhvr>
                                        <p:cTn id="347" dur="2000" fill="hold"/>
                                        <p:tgtEl>
                                          <p:spTgt spid="1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1206 C 0.03299 -0.3206 -0.01996 -0.11898 0.17118 -0.23657 C 0.17379 -0.23773 0.1757 -0.26944 0.175 -0.26481 E">
                                      <p:cBhvr>
                                        <p:cTn id="351" dur="20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0509 C 0.01302 -0.11227 0.02396 -0.12176 0.03836 -0.12477 C 0.06423 -0.14004 0.09392 -0.14653 0.12152 -0.14954 C 0.13941 -0.15671 0.15729 -0.16597 0.175 -0.16852 C 0.18281 -0.17592 0.18715 -0.17963 0.19583 -0.18194 C 0.20573 -0.1956 0.19583 -0.18518 0.21267 -0.19143 C 0.21423 -0.1919 0.2151 -0.19421 0.21684 -0.1956 C 0.23559 -0.20903 0.2184 -0.19606 0.23107 -0.20278 C 0.24461 -0.20995 0.25521 -0.22477 0.26857 -0.2331 C 0.27656 -0.24467 0.2908 -0.24606 0.30104 -0.25254 C 0.30677 -0.26481 0.29965 -0.25254 0.31041 -0.26018 C 0.31215 -0.26134 0.3125 -0.26481 0.31406 -0.26551 C 0.32014 -0.26967 0.33003 -0.27037 0.33628 -0.27129 C 0.34392 -0.27384 0.35034 -0.27569 0.35833 -0.27731 C 0.36146 -0.2787 0.36441 -0.28148 0.36736 -0.28287 C 0.37205 -0.28426 0.37691 -0.28518 0.38177 -0.2868 C 0.38524 -0.28935 0.38871 -0.29143 0.39201 -0.29421 C 0.39461 -0.29606 0.4 -0.29815 0.4 -0.29768 C 0.40277 -0.30046 0.40833 -0.30509 0.40833 -0.30486 E">
                                      <p:cBhvr>
                                        <p:cTn id="355" dur="2000" fill="hold"/>
                                        <p:tgtEl>
                                          <p:spTgt spid="1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C 0.06284 -0.04583 0.13871 0.01065 0.20468 0.0169 C 0.21423 0.02361 0.20764 0.02014 0.225 0.02014 E">
                                      <p:cBhvr>
                                        <p:cTn id="359" dur="2000" fill="hold"/>
                                        <p:tgtEl>
                                          <p:spTgt spid="1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 txBox="1"/>
          <p:nvPr/>
        </p:nvSpPr>
        <p:spPr>
          <a:xfrm>
            <a:off x="304920" y="9140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МЕТР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реч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ó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свет и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ré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измеряю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Прямоугольник 4"/>
          <p:cNvSpPr/>
          <p:nvPr/>
        </p:nvSpPr>
        <p:spPr>
          <a:xfrm>
            <a:off x="3054600" y="152280"/>
            <a:ext cx="304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Фотометр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Прямоугольник 6"/>
          <p:cNvSpPr/>
          <p:nvPr/>
        </p:nvSpPr>
        <p:spPr>
          <a:xfrm>
            <a:off x="152280" y="1447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дел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Т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кото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ают способы измерения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Прямоугольник 7"/>
          <p:cNvSpPr/>
          <p:nvPr/>
        </p:nvSpPr>
        <p:spPr>
          <a:xfrm>
            <a:off x="304920" y="2514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снове фотометрии как науки лежит разработ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ория светового поля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7" name="Picture 2" descr="Картинка 22 из 13090"/>
          <p:cNvPicPr/>
          <p:nvPr/>
        </p:nvPicPr>
        <p:blipFill>
          <a:blip r:embed="rId1"/>
          <a:stretch/>
        </p:blipFill>
        <p:spPr>
          <a:xfrm>
            <a:off x="152280" y="4191120"/>
            <a:ext cx="2590920" cy="215568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4" descr="Картинка 47 из 13089"/>
          <p:cNvPicPr/>
          <p:nvPr/>
        </p:nvPicPr>
        <p:blipFill>
          <a:blip r:embed="rId2"/>
          <a:stretch/>
        </p:blipFill>
        <p:spPr>
          <a:xfrm>
            <a:off x="6095880" y="4114800"/>
            <a:ext cx="2845080" cy="2133720"/>
          </a:xfrm>
          <a:prstGeom prst="rect">
            <a:avLst/>
          </a:prstGeom>
          <a:ln w="0">
            <a:noFill/>
          </a:ln>
        </p:spPr>
      </p:pic>
      <p:sp>
        <p:nvSpPr>
          <p:cNvPr id="1459" name="Прямоугольник 10"/>
          <p:cNvSpPr/>
          <p:nvPr/>
        </p:nvSpPr>
        <p:spPr>
          <a:xfrm>
            <a:off x="228600" y="3505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етово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— область  пространства, заполненная светом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Picture 6" descr="Картинка 16 из 13161"/>
          <p:cNvPicPr/>
          <p:nvPr/>
        </p:nvPicPr>
        <p:blipFill>
          <a:blip r:embed="rId3"/>
          <a:stretch/>
        </p:blipFill>
        <p:spPr>
          <a:xfrm>
            <a:off x="2971800" y="41148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4-02T18:42:0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