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23.wmf" ContentType="image/x-wmf"/>
  <Override PartName="/ppt/media/image6.jpeg" ContentType="image/jpeg"/>
  <Override PartName="/ppt/media/image10.png" ContentType="image/png"/>
  <Override PartName="/ppt/media/image5.jpeg" ContentType="image/jpeg"/>
  <Override PartName="/ppt/media/image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4.jpeg" ContentType="image/jpeg"/>
  <Override PartName="/ppt/media/image2.png" ContentType="image/png"/>
  <Override PartName="/ppt/media/image19.wmf" ContentType="image/x-wmf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png" ContentType="image/png"/>
  <Override PartName="/ppt/media/image12.png" ContentType="image/pn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E71D-5AE6-44FB-8CDA-052E47FC1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2CC3-BF0C-438D-B38F-A4806720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B1CE-F7D1-43F8-97DA-586200E4F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3F68-9C9A-4A14-911E-BEA7F7608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29B1-934E-48A6-8244-7B7B3D24A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FC01-A888-4CE3-9871-31259541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357A-B2C0-48C4-AF06-8EEACA2D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3E8B-50AB-46D5-85ED-4D327C9B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0020-5125-4995-A525-34700B84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BD97-20C8-43A3-99D6-394B6A59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06BA-1C68-43D2-975B-EE2CB855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0C4C-1D15-421D-8EE8-A515D572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8F5E-3F89-4352-96CA-DEC4291A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747B-238A-4AC4-B679-64568190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5BA2-AD83-40F2-AC67-A0DFB9E8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6066-99BA-4A8B-B10D-A8DDB1CDA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5202-860D-4980-8EA0-775226F2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2B2B-2C15-44E5-B8C1-DCACAFED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F906-1C5B-47A1-981A-5BEDB599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A0AB-EDA9-4637-A5FA-A497DFB1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E7BD-2C0B-4991-B413-ECC74B0D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BB78-E4AA-47C3-BEF4-0E5F1C5C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C838-8F6A-46F3-A04B-30D1E935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CA5E-1950-432C-904D-2BF6A4BD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3E67-A3EE-4C1B-8F3D-EEA4C8948C0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F74B-5CEC-4284-B3C2-E1DA6990D740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class-fizika.narod.ru/vid.htm" TargetMode="External"/><Relationship Id="rId2" Type="http://schemas.openxmlformats.org/officeDocument/2006/relationships/hyperlink" Target="http://www.all-fizika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hoist"/>
          <p:cNvPicPr/>
          <p:nvPr/>
        </p:nvPicPr>
        <p:blipFill>
          <a:blip r:embed="rId1"/>
          <a:stretch/>
        </p:blipFill>
        <p:spPr>
          <a:xfrm>
            <a:off x="428760" y="214200"/>
            <a:ext cx="2428920" cy="2756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train"/>
          <p:cNvPicPr/>
          <p:nvPr/>
        </p:nvPicPr>
        <p:blipFill>
          <a:blip r:embed="rId2"/>
          <a:stretch/>
        </p:blipFill>
        <p:spPr>
          <a:xfrm>
            <a:off x="357120" y="3357720"/>
            <a:ext cx="3247920" cy="3168360"/>
          </a:xfrm>
          <a:prstGeom prst="rect">
            <a:avLst/>
          </a:prstGeom>
          <a:ln w="0">
            <a:noFill/>
          </a:ln>
        </p:spPr>
      </p:pic>
      <p:sp>
        <p:nvSpPr>
          <p:cNvPr id="116" name="WordArt 10"/>
          <p:cNvSpPr txBox="1"/>
          <p:nvPr/>
        </p:nvSpPr>
        <p:spPr>
          <a:xfrm>
            <a:off x="3203640" y="189000"/>
            <a:ext cx="5113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ханическая рабо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мощнос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7" name="Picture 12" descr="bodybuilder01"/>
          <p:cNvPicPr/>
          <p:nvPr/>
        </p:nvPicPr>
        <p:blipFill>
          <a:blip r:embed="rId3"/>
          <a:stretch/>
        </p:blipFill>
        <p:spPr>
          <a:xfrm>
            <a:off x="7451640" y="1628640"/>
            <a:ext cx="1692360" cy="140976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6"/>
          <p:cNvSpPr/>
          <p:nvPr/>
        </p:nvSpPr>
        <p:spPr>
          <a:xfrm>
            <a:off x="4000680" y="3786120"/>
            <a:ext cx="50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Verdana"/>
              </a:rPr>
              <a:t>Родионова Наталья Михайловн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Verdana"/>
              </a:rPr>
              <a:t>Учитель физик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Verdana"/>
              </a:rPr>
              <a:t>МБОУ СОШ№ 1 Псковская область г. Новосокольник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3517920" cy="1325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picture"/>
          <p:cNvPicPr/>
          <p:nvPr/>
        </p:nvPicPr>
        <p:blipFill>
          <a:blip r:embed="rId2"/>
          <a:stretch/>
        </p:blipFill>
        <p:spPr>
          <a:xfrm>
            <a:off x="2268360" y="476280"/>
            <a:ext cx="4751640" cy="8492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49" name="Picture 8" descr="image007"/>
          <p:cNvPicPr/>
          <p:nvPr/>
        </p:nvPicPr>
        <p:blipFill>
          <a:blip r:embed="rId3"/>
          <a:stretch/>
        </p:blipFill>
        <p:spPr>
          <a:xfrm>
            <a:off x="1332000" y="4941720"/>
            <a:ext cx="4608360" cy="1540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"/>
          <p:cNvPicPr/>
          <p:nvPr/>
        </p:nvPicPr>
        <p:blipFill>
          <a:blip r:embed="rId4"/>
          <a:stretch/>
        </p:blipFill>
        <p:spPr>
          <a:xfrm>
            <a:off x="1332000" y="1557360"/>
            <a:ext cx="4537080" cy="31510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2"/>
          <p:cNvSpPr/>
          <p:nvPr/>
        </p:nvSpPr>
        <p:spPr>
          <a:xfrm>
            <a:off x="6372360" y="2133720"/>
            <a:ext cx="2087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A=F</a:t>
            </a:r>
            <a:r>
              <a:rPr b="1" lang="en-US" sz="1400" spc="-1" strike="noStrike">
                <a:solidFill>
                  <a:srgbClr val="9900cc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F</a:t>
            </a:r>
            <a:r>
              <a:rPr b="1" lang="en-US" sz="1400" spc="-1" strike="noStrike">
                <a:solidFill>
                  <a:srgbClr val="9900cc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=Fcos</a:t>
            </a:r>
            <a:r>
              <a:rPr b="1" lang="el-GR" sz="24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Verdana"/>
              </a:rPr>
              <a:t>A= FScos</a:t>
            </a:r>
            <a:r>
              <a:rPr b="1" lang="el-GR" sz="2400" spc="-1" strike="noStrike">
                <a:solidFill>
                  <a:srgbClr val="9900cc"/>
                </a:solidFill>
                <a:latin typeface="Verdana"/>
              </a:rPr>
              <a:t>α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454644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Сплавщик передвигает багром плот, прилагая к багру силу 200 Н. Какую работу совершает сплавщик, переместив плот на 10 м, если угол между направлением силы и направлением перемещения 60°?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4859280" y="260280"/>
            <a:ext cx="404352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4" name="Picture 5" descr="GKJN"/>
          <p:cNvPicPr/>
          <p:nvPr/>
        </p:nvPicPr>
        <p:blipFill>
          <a:blip r:embed="rId1"/>
          <a:stretch/>
        </p:blipFill>
        <p:spPr>
          <a:xfrm>
            <a:off x="5029200" y="2852640"/>
            <a:ext cx="41148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444840" cy="12985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Анализируем формул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Verdana"/>
              </a:rPr>
              <a:t>A=F·S·cos</a:t>
            </a:r>
            <a:r>
              <a:rPr b="0" lang="el-GR" sz="3600" spc="-1" strike="noStrike">
                <a:solidFill>
                  <a:srgbClr val="9900cc"/>
                </a:solidFill>
                <a:latin typeface="Verdana"/>
              </a:rPr>
              <a:t>α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1.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1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=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F·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2.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9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9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0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=0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3.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18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18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=-1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=-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F·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4. 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9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&gt;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0 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gt;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0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9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180</a:t>
            </a:r>
            <a:r>
              <a:rPr b="0" lang="ru-RU" sz="2800" spc="-1" strike="noStrike" baseline="30000">
                <a:solidFill>
                  <a:srgbClr val="9900cc"/>
                </a:solidFill>
                <a:latin typeface="Verdana"/>
              </a:rPr>
              <a:t>о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, то 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os </a:t>
            </a:r>
            <a:r>
              <a:rPr b="0" lang="el-GR" sz="2800" spc="-1" strike="noStrike">
                <a:solidFill>
                  <a:srgbClr val="9900cc"/>
                </a:solidFill>
                <a:latin typeface="Verdana"/>
              </a:rPr>
              <a:t>α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0 ,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тогда А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&lt;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0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pabota"/>
          <p:cNvPicPr/>
          <p:nvPr/>
        </p:nvPicPr>
        <p:blipFill>
          <a:blip r:embed="rId1"/>
          <a:stretch/>
        </p:blipFill>
        <p:spPr>
          <a:xfrm>
            <a:off x="684360" y="1125360"/>
            <a:ext cx="7885080" cy="46339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684360" y="5667480"/>
            <a:ext cx="7292880" cy="1191240"/>
          </a:xfrm>
          <a:prstGeom prst="rect">
            <a:avLst/>
          </a:prstGeom>
          <a:solidFill>
            <a:srgbClr val="eec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A= - mgh   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Times New Roman"/>
              </a:rPr>
              <a:t>                            </a:t>
            </a: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                    </a:t>
            </a: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A= mgh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1042920" y="40464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Verdana"/>
              </a:rPr>
              <a:t>Найдем работу силы тяжест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6840" y="2781000"/>
            <a:ext cx="82184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Какую работу совершает сила тяжести, действующая на дождевую каплю массой 20мг, при ее падении с высоты 2к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WordArt 4"/>
          <p:cNvSpPr txBox="1"/>
          <p:nvPr/>
        </p:nvSpPr>
        <p:spPr>
          <a:xfrm>
            <a:off x="539640" y="620640"/>
            <a:ext cx="404352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cc"/>
                </a:solidFill>
                <a:latin typeface="Arial"/>
              </a:rPr>
              <a:t>Графическое представление совершенной работ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356000" y="1915920"/>
            <a:ext cx="491832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Изобразим графически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зависимость модуля </a:t>
            </a:r>
            <a:r>
              <a:rPr b="0" lang="en-US" sz="2400" spc="-1" strike="noStrike">
                <a:solidFill>
                  <a:srgbClr val="9900cc"/>
                </a:solidFill>
                <a:latin typeface="Verdana"/>
              </a:rPr>
              <a:t>F</a:t>
            </a:r>
            <a:r>
              <a:rPr b="0" lang="ru-RU" sz="2400" spc="-1" strike="noStrike" baseline="-25000">
                <a:solidFill>
                  <a:srgbClr val="9900cc"/>
                </a:solidFill>
                <a:latin typeface="Verdana"/>
              </a:rPr>
              <a:t>тяж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Verdana"/>
              </a:rPr>
              <a:t>o</a:t>
            </a: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т модуля перемещения </a:t>
            </a:r>
            <a:r>
              <a:rPr b="0" lang="en-US" sz="2400" spc="-1" strike="noStrike">
                <a:solidFill>
                  <a:srgbClr val="9900cc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4427640" y="4076640"/>
            <a:ext cx="457200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S= F</a:t>
            </a:r>
            <a:r>
              <a:rPr b="0" lang="ru-RU" sz="2800" spc="-1" strike="noStrike" baseline="-25000">
                <a:solidFill>
                  <a:srgbClr val="9900cc"/>
                </a:solidFill>
                <a:latin typeface="Verdana"/>
              </a:rPr>
              <a:t>тяж</a:t>
            </a: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h =mg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A= mg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2552760" y="5608800"/>
            <a:ext cx="36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cc"/>
                </a:solidFill>
                <a:latin typeface="Verdana"/>
              </a:rPr>
              <a:t>Вывод: </a:t>
            </a:r>
            <a:r>
              <a:rPr b="0" lang="en-US" sz="3600" spc="-1" strike="noStrike">
                <a:solidFill>
                  <a:srgbClr val="9900cc"/>
                </a:solidFill>
                <a:latin typeface="Verdana"/>
              </a:rPr>
              <a:t>A</a:t>
            </a:r>
            <a:r>
              <a:rPr b="0" lang="ru-RU" sz="3600" spc="-1" strike="noStrike">
                <a:solidFill>
                  <a:srgbClr val="9900cc"/>
                </a:solidFill>
                <a:latin typeface="Verdana"/>
              </a:rPr>
              <a:t>=</a:t>
            </a:r>
            <a:r>
              <a:rPr b="0" lang="en-US" sz="3600" spc="-1" strike="noStrike">
                <a:solidFill>
                  <a:srgbClr val="9900cc"/>
                </a:solidFill>
                <a:latin typeface="Verdana"/>
              </a:rPr>
              <a:t>S</a:t>
            </a:r>
            <a:r>
              <a:rPr b="0" lang="ru-RU" sz="1800" spc="-1" strike="noStrike">
                <a:solidFill>
                  <a:srgbClr val="9900cc"/>
                </a:solidFill>
                <a:latin typeface="Verdana"/>
              </a:rPr>
              <a:t>прямоуг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7" name="Picture 10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370836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Блиц-опрос «Проверь себя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1.Работа постоянной силы равна произведению модулей векторов силы и перемещения и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2.Работа силы положительна, если</a:t>
            </a:r>
            <a:r>
              <a:rPr b="0" lang="en-US" sz="2000" spc="-1" strike="noStrike">
                <a:solidFill>
                  <a:srgbClr val="9900cc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угол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3.Работа силы отрицательна, если угол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4.Единица работы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5.За единицу работы принимают такую работу, которую совершает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6.Формула работы силы тяжести…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7.Силы называются консервативными, работа которых на любой замкнутой траектории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8.Мощность – физическая величина, равная отношению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9.Основная единица мощности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10. За единицу мощности принимают такую мощность, при которой…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Задание на до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Учебник Пурышева И.С. Важеевская И.Е Физика 9 класс.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Verdana"/>
              </a:rPr>
              <a:t>§</a:t>
            </a:r>
            <a:r>
              <a:rPr b="0" lang="ru-RU" sz="3600" spc="-1" strike="noStrike">
                <a:solidFill>
                  <a:srgbClr val="9900cc"/>
                </a:solidFill>
                <a:latin typeface="Verdana"/>
              </a:rPr>
              <a:t>20, задание № 18 (1,2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4"/>
          <p:cNvSpPr txBox="1"/>
          <p:nvPr/>
        </p:nvSpPr>
        <p:spPr>
          <a:xfrm>
            <a:off x="457200" y="277920"/>
            <a:ext cx="771516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исок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пользованных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точников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539640" y="2924280"/>
            <a:ext cx="7993080" cy="2923200"/>
          </a:xfrm>
          <a:prstGeom prst="rect">
            <a:avLst/>
          </a:prstGeom>
          <a:solidFill>
            <a:srgbClr val="4fc1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9900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Рымкевич, А. П. Физика. Задачник. 10—11 кл. 10-е изд.,М. : Дрофа, 2006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0099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class-fizika.narod.ru/vid.htm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0099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http://www.all-fizika.com/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9900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Пурышева И.С. Важеева И.Е Физика 9 класс. Дроф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9900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Кикоин И.К. Кикоин А.К. Физика 9 класс.Просвещени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buClr>
                <a:srgbClr val="9900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Монастырский Л.М. Богатин А.С. Нечепуренко М.В. Физика 9 класс. Подготовка к государственной аттестации. 2010 г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cc"/>
                </a:solidFill>
                <a:latin typeface="Arial"/>
              </a:rPr>
              <a:t>Кроссворд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0" name="02-ANDANTE, OP.9, NO.2 IN E FLAT MAJOR.MP3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"/>
          <p:cNvPicPr/>
          <p:nvPr/>
        </p:nvPicPr>
        <p:blipFill>
          <a:blip r:embed="rId2"/>
          <a:stretch/>
        </p:blipFill>
        <p:spPr>
          <a:xfrm>
            <a:off x="1042920" y="1593720"/>
            <a:ext cx="6948720" cy="5264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"/>
          <p:cNvPicPr/>
          <p:nvPr/>
        </p:nvPicPr>
        <p:blipFill>
          <a:blip r:embed="rId3"/>
          <a:stretch/>
        </p:blipFill>
        <p:spPr>
          <a:xfrm>
            <a:off x="0" y="0"/>
            <a:ext cx="2184480" cy="5253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"/>
          <p:cNvPicPr/>
          <p:nvPr/>
        </p:nvPicPr>
        <p:blipFill>
          <a:blip r:embed="rId4"/>
          <a:stretch/>
        </p:blipFill>
        <p:spPr>
          <a:xfrm>
            <a:off x="6732720" y="836640"/>
            <a:ext cx="241128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4050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Ответы к кроссворду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662472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3517920" cy="13255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cc"/>
                </a:solidFill>
                <a:latin typeface="Arial"/>
              </a:rPr>
              <a:t>Механическая работ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50920" y="155700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A=F·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468360" y="5373720"/>
            <a:ext cx="72723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Единица работы – джоуль (Дж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Работа какой силы равна 0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187280" y="1052640"/>
            <a:ext cx="758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cc"/>
                </a:solidFill>
                <a:latin typeface="Arial"/>
              </a:rPr>
              <a:t>Если на тело действует сила, и оно перемещается в направлении действия силы, т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9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7407000" cy="3435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68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68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mosnost"/>
          <p:cNvPicPr/>
          <p:nvPr/>
        </p:nvPicPr>
        <p:blipFill>
          <a:blip r:embed="rId1"/>
          <a:stretch/>
        </p:blipFill>
        <p:spPr>
          <a:xfrm>
            <a:off x="-141120" y="620640"/>
            <a:ext cx="9285120" cy="69645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cc"/>
                </a:solidFill>
                <a:latin typeface="Arial"/>
              </a:rPr>
              <a:t>Мощност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9640" y="90792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N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=</a:t>
            </a: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A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/</a:t>
            </a: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t</a:t>
            </a: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Verdana"/>
              </a:rPr>
              <a:t>Единица мощности – ватт (Вт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31212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42920" y="620640"/>
            <a:ext cx="64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Совершается ли работа при равномерном движении по абсолютно гладкой поверхности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1835280" y="2327400"/>
            <a:ext cx="4917960" cy="4530600"/>
          </a:xfrm>
          <a:prstGeom prst="rect">
            <a:avLst/>
          </a:prstGeom>
          <a:ln w="0">
            <a:noFill/>
          </a:ln>
        </p:spPr>
      </p:pic>
      <p:sp>
        <p:nvSpPr>
          <p:cNvPr id="138" name="WordArt 7"/>
          <p:cNvSpPr txBox="1"/>
          <p:nvPr/>
        </p:nvSpPr>
        <p:spPr>
          <a:xfrm>
            <a:off x="179280" y="692280"/>
            <a:ext cx="2772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95280" y="260280"/>
            <a:ext cx="51483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Чему равна работ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250920" y="333360"/>
            <a:ext cx="3492360" cy="13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1" name="Picture 6" descr="SDC10221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2808360" y="1916280"/>
            <a:ext cx="370512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16000" y="836640"/>
            <a:ext cx="3970440" cy="172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Arial"/>
              </a:rPr>
              <a:t>Одинаковую ли работу совершают мальчики при равномерном перемещении саней на одном и том же пути?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0" y="3457440"/>
            <a:ext cx="9144000" cy="2260800"/>
          </a:xfrm>
          <a:prstGeom prst="rect">
            <a:avLst/>
          </a:prstGeom>
          <a:ln w="0">
            <a:noFill/>
          </a:ln>
        </p:spPr>
      </p:pic>
      <p:sp>
        <p:nvSpPr>
          <p:cNvPr id="144" name="WordArt 7"/>
          <p:cNvSpPr txBox="1"/>
          <p:nvPr/>
        </p:nvSpPr>
        <p:spPr>
          <a:xfrm>
            <a:off x="468360" y="620640"/>
            <a:ext cx="3645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евели мозгам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cc"/>
                </a:solidFill>
                <a:latin typeface="Arial"/>
              </a:rPr>
              <a:t>Что измениться, если вектор силы  составляет угол </a:t>
            </a:r>
            <a:r>
              <a:rPr b="0" lang="el-GR" sz="4000" spc="-1" strike="noStrike">
                <a:solidFill>
                  <a:srgbClr val="9900cc"/>
                </a:solidFill>
                <a:latin typeface="Arial"/>
              </a:rPr>
              <a:t>α</a:t>
            </a:r>
            <a:r>
              <a:rPr b="0" lang="ru-RU" sz="4000" spc="-1" strike="noStrike">
                <a:solidFill>
                  <a:srgbClr val="9900cc"/>
                </a:solidFill>
                <a:latin typeface="Arial"/>
              </a:rPr>
              <a:t> с вектором перемещения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Picture 4" descr="САНКИ_thumb"/>
          <p:cNvPicPr/>
          <p:nvPr/>
        </p:nvPicPr>
        <p:blipFill>
          <a:blip r:embed="rId1"/>
          <a:stretch/>
        </p:blipFill>
        <p:spPr>
          <a:xfrm>
            <a:off x="826920" y="1700280"/>
            <a:ext cx="6048720" cy="48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9:12:31Z</dcterms:created>
  <dc:creator>Admin</dc:creator>
  <dc:description/>
  <dc:language>en-US</dc:language>
  <cp:lastModifiedBy>Олег</cp:lastModifiedBy>
  <dcterms:modified xsi:type="dcterms:W3CDTF">2012-04-12T19:16:08Z</dcterms:modified>
  <cp:revision>28</cp:revision>
  <dc:subject/>
  <dc:title>Механическая работа и мощность</dc:title>
</cp:coreProperties>
</file>