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4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png" ContentType="image/pn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129-EC78-436B-93D1-3AE78991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317-5FA8-43D5-B8A9-C962C312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759-7FF2-4639-9AA4-62B754A9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239-5911-4360-9DA2-AEC55386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AF8A-CB30-407D-8A5D-8D92B41B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9B4F-9A72-4E5B-8979-EB8C7604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512A-F785-4280-871D-F5115A15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F3EE-2D71-4085-8260-E986D505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DED7-6D65-439E-8514-99D7A790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178F-C2D5-4C35-B4D3-AF787F81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680A-8D8B-41AE-A258-04131329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669-7F56-4CE6-9156-56E90353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EEF9-04FC-4CEC-831A-5E8423B2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3DEA-372C-4E85-8E79-04AFB142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E138-D5AA-4BA6-ADAC-F261F12B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A972-2B42-403E-BAC2-807CF875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9CDC-40A3-4316-8E6E-F84B51C7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E60-D52E-4DF2-AADF-EE30D9B1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294-0205-45D8-A486-204A5983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E71-8234-4E7D-9514-85186673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1C7-D9AA-43F0-969D-F17247C5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882-8AB9-4580-BFF1-A388B818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847-72EE-4160-BF8A-57DE8BB3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4FB-0145-4D35-BE81-84445D8C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8465-36E8-40B0-8325-60CB26AA035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FDB1-BA81-45DE-89D2-C539F603540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lass-fizika.narod.ru/vid.htm" TargetMode="External"/><Relationship Id="rId2" Type="http://schemas.openxmlformats.org/officeDocument/2006/relationships/hyperlink" Target="http://www.all-fizika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oist"/>
          <p:cNvPicPr/>
          <p:nvPr/>
        </p:nvPicPr>
        <p:blipFill>
          <a:blip r:embed="rId1"/>
          <a:stretch/>
        </p:blipFill>
        <p:spPr>
          <a:xfrm>
            <a:off x="428760" y="214200"/>
            <a:ext cx="2428920" cy="275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rain"/>
          <p:cNvPicPr/>
          <p:nvPr/>
        </p:nvPicPr>
        <p:blipFill>
          <a:blip r:embed="rId2"/>
          <a:stretch/>
        </p:blipFill>
        <p:spPr>
          <a:xfrm>
            <a:off x="357120" y="3357720"/>
            <a:ext cx="3247920" cy="31683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0"/>
          <p:cNvSpPr txBox="1"/>
          <p:nvPr/>
        </p:nvSpPr>
        <p:spPr>
          <a:xfrm>
            <a:off x="3203640" y="18900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ханическ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мощ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2" descr="bodybuilder01"/>
          <p:cNvPicPr/>
          <p:nvPr/>
        </p:nvPicPr>
        <p:blipFill>
          <a:blip r:embed="rId3"/>
          <a:stretch/>
        </p:blipFill>
        <p:spPr>
          <a:xfrm>
            <a:off x="7451640" y="1628640"/>
            <a:ext cx="1692360" cy="14097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4000680" y="3786120"/>
            <a:ext cx="50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Родионова Наталья Михайлов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Учитель физ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МБОУ СОШ№ 1 Псковская область г. Новосокольн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icture"/>
          <p:cNvPicPr/>
          <p:nvPr/>
        </p:nvPicPr>
        <p:blipFill>
          <a:blip r:embed="rId2"/>
          <a:stretch/>
        </p:blipFill>
        <p:spPr>
          <a:xfrm>
            <a:off x="2268360" y="476280"/>
            <a:ext cx="4751640" cy="8492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9" name="Picture 8" descr="image007"/>
          <p:cNvPicPr/>
          <p:nvPr/>
        </p:nvPicPr>
        <p:blipFill>
          <a:blip r:embed="rId3"/>
          <a:stretch/>
        </p:blipFill>
        <p:spPr>
          <a:xfrm>
            <a:off x="1332000" y="4941720"/>
            <a:ext cx="4608360" cy="154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1332000" y="1557360"/>
            <a:ext cx="4537080" cy="3151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6372360" y="2133720"/>
            <a:ext cx="208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=F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 FS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546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Сплавщик передвигает багром плот, прилагая к багру силу 200 Н. Какую работу совершает сплавщик, переместив плот на 10 м, если угол между направлением силы и направлением перемещения 60°?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4859280" y="26028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5" descr="GKJN"/>
          <p:cNvPicPr/>
          <p:nvPr/>
        </p:nvPicPr>
        <p:blipFill>
          <a:blip r:embed="rId1"/>
          <a:stretch/>
        </p:blipFill>
        <p:spPr>
          <a:xfrm>
            <a:off x="5029200" y="2852640"/>
            <a:ext cx="41148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44840" cy="12985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Анализируем форму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=F·S·cos</a:t>
            </a:r>
            <a:r>
              <a:rPr b="0" lang="el-GR" sz="36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2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3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-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-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4. 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pabota"/>
          <p:cNvPicPr/>
          <p:nvPr/>
        </p:nvPicPr>
        <p:blipFill>
          <a:blip r:embed="rId1"/>
          <a:stretch/>
        </p:blipFill>
        <p:spPr>
          <a:xfrm>
            <a:off x="684360" y="1125360"/>
            <a:ext cx="7885080" cy="4633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684360" y="5667480"/>
            <a:ext cx="7292880" cy="1191240"/>
          </a:xfrm>
          <a:prstGeom prst="rect">
            <a:avLst/>
          </a:prstGeom>
          <a:solidFill>
            <a:srgbClr val="eec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- mgh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mgh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42920" y="40464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Найдем работу силы тяж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Какую работу совершает сила тяжести, действующая на дождевую каплю массой 20мг, при ее падении с высоты 2к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539640" y="62064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Графическое представление совершен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56000" y="1915920"/>
            <a:ext cx="49183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Изобразим графическ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зависимость модул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0" lang="ru-RU" sz="24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o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т модуля перемещени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427640" y="4076640"/>
            <a:ext cx="4572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S= F</a:t>
            </a:r>
            <a:r>
              <a:rPr b="0" lang="ru-RU" sz="28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h =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A= 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552760" y="5608800"/>
            <a:ext cx="36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Вывод: 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S</a:t>
            </a: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прямоу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08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Блиц-опрос «Проверь себя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.Работа постоянной силы равна произведению модулей векторов силы и перемещения 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2.Работа силы положительна, если</a:t>
            </a:r>
            <a:r>
              <a:rPr b="0" lang="en-US" sz="20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3.Работа силы отрицательна, если 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4.Единица работы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5.За единицу работы принимают такую работу, которую совершает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6.Формула работы силы тяжести…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7.Силы называются консервативными, работа которых на любой замкнутой траектори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8.Мощность – физическая величина, равная отношению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9.Основная единица мощност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0. За единицу мощности принимают такую мощность, при которой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Учебник Пурышева И.С. Важеевская И.Е Физика 9 класс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§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20, задание № 18 (1,2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457200" y="277920"/>
            <a:ext cx="77151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исок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ользованн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чник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2924280"/>
            <a:ext cx="7993080" cy="2923200"/>
          </a:xfrm>
          <a:prstGeom prst="rect">
            <a:avLst/>
          </a:prstGeom>
          <a:solidFill>
            <a:srgbClr val="4fc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Рымкевич, А. П. Физика. Задачник. 10—11 кл. 10-е изд.,М. : Дрофа, 2006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class-fizika.narod.ru/vid.ht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all-fizika.com/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Пурышева И.С. Важеева И.Е Физика 9 класс. Дроф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Кикоин И.К. Кикоин А.К. Физика 9 класс.Просвещ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Монастырский Л.М. Богатин А.С. Нечепуренко М.В. Физика 9 класс. Подготовка к государственной аттестации. 2010 г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02-ANDANTE, OP.9, NO.2 IN E FLAT MAJOR.MP3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2"/>
          <a:stretch/>
        </p:blipFill>
        <p:spPr>
          <a:xfrm>
            <a:off x="1042920" y="1593720"/>
            <a:ext cx="6948720" cy="526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2184480" cy="525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4"/>
          <a:stretch/>
        </p:blipFill>
        <p:spPr>
          <a:xfrm>
            <a:off x="6732720" y="836640"/>
            <a:ext cx="24112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05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Ответы к кроссворду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Механическая рабо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=F·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68360" y="5373720"/>
            <a:ext cx="7272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Единица работы – джоуль (Дж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абота какой силы равна 0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87280" y="105264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Если на тело действует сила, и оно перемещается в направлении действия силы, т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407000" cy="34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mosnost"/>
          <p:cNvPicPr/>
          <p:nvPr/>
        </p:nvPicPr>
        <p:blipFill>
          <a:blip r:embed="rId1"/>
          <a:stretch/>
        </p:blipFill>
        <p:spPr>
          <a:xfrm>
            <a:off x="-141120" y="620640"/>
            <a:ext cx="9285120" cy="696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Мощн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90792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/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Единица мощности – ватт (В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1212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42920" y="620640"/>
            <a:ext cx="64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Совершается ли работа при равномерном движении по абсолютно гладкой поверхности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835280" y="2327400"/>
            <a:ext cx="4917960" cy="45306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79280" y="692280"/>
            <a:ext cx="277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260280"/>
            <a:ext cx="5148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Чему равна работ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50920" y="333360"/>
            <a:ext cx="34923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6" descr="SDC10221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808360" y="1916280"/>
            <a:ext cx="37051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397044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Одинаковую ли работу совершают мальчики при равномерном перемещении саней на одном и том же пути?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3457440"/>
            <a:ext cx="9144000" cy="22608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7"/>
          <p:cNvSpPr txBox="1"/>
          <p:nvPr/>
        </p:nvSpPr>
        <p:spPr>
          <a:xfrm>
            <a:off x="468360" y="620640"/>
            <a:ext cx="3645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Что измениться, если вектор силы  составляет угол </a:t>
            </a:r>
            <a:r>
              <a:rPr b="0" lang="el-GR" sz="4000" spc="-1" strike="noStrike">
                <a:solidFill>
                  <a:srgbClr val="9900cc"/>
                </a:solidFill>
                <a:latin typeface="Arial"/>
              </a:rPr>
              <a:t>α</a:t>
            </a: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 с вектором перемещения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САНКИ_thumb"/>
          <p:cNvPicPr/>
          <p:nvPr/>
        </p:nvPicPr>
        <p:blipFill>
          <a:blip r:embed="rId1"/>
          <a:stretch/>
        </p:blipFill>
        <p:spPr>
          <a:xfrm>
            <a:off x="826920" y="1700280"/>
            <a:ext cx="604872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9:12:31Z</dcterms:created>
  <dc:creator>Admin</dc:creator>
  <dc:description/>
  <dc:language>en-US</dc:language>
  <cp:lastModifiedBy>Олег</cp:lastModifiedBy>
  <dcterms:modified xsi:type="dcterms:W3CDTF">2012-04-12T19:16:08Z</dcterms:modified>
  <cp:revision>28</cp:revision>
  <dc:subject/>
  <dc:title>Механическая работа и мощность</dc:title>
</cp:coreProperties>
</file>