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23.wmf" ContentType="image/x-wmf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4.jpeg" ContentType="image/jpeg"/>
  <Override PartName="/ppt/media/image2.png" ContentType="image/png"/>
  <Override PartName="/ppt/media/image19.wmf" ContentType="image/x-wmf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png" ContentType="image/png"/>
  <Override PartName="/ppt/media/image12.png" ContentType="image/pn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5B1B-6B05-4F28-936B-B0F5FB1E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E7D9-383C-40D6-B628-2BC23110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5494-2221-49AB-B7DC-04311A14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057-F9DC-4143-BA3C-132722C4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5877-DD4C-4E9C-929A-63F7D276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379E-6131-4DD5-B027-24279D24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9C59-D527-47B9-BDD6-9D8AE4FA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E89C-21E1-4F84-A9A4-394F13CB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A4E7-7123-4914-A03F-7FC77C1F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152D-DCF3-4213-B72D-78410F3D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AC6F-E21A-4FD2-BD9E-AC3EAC69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6BBA-F1AA-42A7-985E-B80ACAAB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A7BB-947F-45F7-BCCE-6EF2104F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5EE2-A219-43BF-BAE5-63953124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A097-F31D-44F5-9DB6-8E574AAD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D68D-7A6F-43F1-8629-3E30C251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23B9-F481-47F8-A165-F4A52CD5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737C-3E7C-4E50-A2E5-85E8C7E5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C1C2-B2ED-48B4-A0B6-4D331E11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FE19-332D-4FC6-B4B3-816B8ADB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45EF-1743-491C-A763-05B481E6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C95A-DDD9-495C-B858-B76CA02D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E4CD-B8F1-4FA8-A81F-350B9A19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BFAA-AC70-4369-88E5-7067924C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B6CE-50FF-4A5D-88FE-A17065DAC29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3941-2431-415B-836C-6848CD47AE2B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class-fizika.narod.ru/vid.htm" TargetMode="External"/><Relationship Id="rId2" Type="http://schemas.openxmlformats.org/officeDocument/2006/relationships/hyperlink" Target="http://www.all-fizika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hoist"/>
          <p:cNvPicPr/>
          <p:nvPr/>
        </p:nvPicPr>
        <p:blipFill>
          <a:blip r:embed="rId1"/>
          <a:stretch/>
        </p:blipFill>
        <p:spPr>
          <a:xfrm>
            <a:off x="428760" y="214200"/>
            <a:ext cx="2428920" cy="2756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train"/>
          <p:cNvPicPr/>
          <p:nvPr/>
        </p:nvPicPr>
        <p:blipFill>
          <a:blip r:embed="rId2"/>
          <a:stretch/>
        </p:blipFill>
        <p:spPr>
          <a:xfrm>
            <a:off x="357120" y="3357720"/>
            <a:ext cx="3247920" cy="3168360"/>
          </a:xfrm>
          <a:prstGeom prst="rect">
            <a:avLst/>
          </a:prstGeom>
          <a:ln w="0">
            <a:noFill/>
          </a:ln>
        </p:spPr>
      </p:pic>
      <p:sp>
        <p:nvSpPr>
          <p:cNvPr id="116" name="WordArt 10"/>
          <p:cNvSpPr txBox="1"/>
          <p:nvPr/>
        </p:nvSpPr>
        <p:spPr>
          <a:xfrm>
            <a:off x="3203640" y="189000"/>
            <a:ext cx="5113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ханическая рабо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мощ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12" descr="bodybuilder01"/>
          <p:cNvPicPr/>
          <p:nvPr/>
        </p:nvPicPr>
        <p:blipFill>
          <a:blip r:embed="rId3"/>
          <a:stretch/>
        </p:blipFill>
        <p:spPr>
          <a:xfrm>
            <a:off x="7451640" y="1628640"/>
            <a:ext cx="1692360" cy="14097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6"/>
          <p:cNvSpPr/>
          <p:nvPr/>
        </p:nvSpPr>
        <p:spPr>
          <a:xfrm>
            <a:off x="4000680" y="3786120"/>
            <a:ext cx="50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Родионова Наталья Михайлов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Учитель физик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МБОУ СОШ№ 1 Псковская область г. Новосокольник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517920" cy="1325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picture"/>
          <p:cNvPicPr/>
          <p:nvPr/>
        </p:nvPicPr>
        <p:blipFill>
          <a:blip r:embed="rId2"/>
          <a:stretch/>
        </p:blipFill>
        <p:spPr>
          <a:xfrm>
            <a:off x="2268360" y="476280"/>
            <a:ext cx="4751640" cy="8492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9" name="Picture 8" descr="image007"/>
          <p:cNvPicPr/>
          <p:nvPr/>
        </p:nvPicPr>
        <p:blipFill>
          <a:blip r:embed="rId3"/>
          <a:stretch/>
        </p:blipFill>
        <p:spPr>
          <a:xfrm>
            <a:off x="1332000" y="4941720"/>
            <a:ext cx="4608360" cy="1540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"/>
          <p:cNvPicPr/>
          <p:nvPr/>
        </p:nvPicPr>
        <p:blipFill>
          <a:blip r:embed="rId4"/>
          <a:stretch/>
        </p:blipFill>
        <p:spPr>
          <a:xfrm>
            <a:off x="1332000" y="1557360"/>
            <a:ext cx="4537080" cy="31510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2"/>
          <p:cNvSpPr/>
          <p:nvPr/>
        </p:nvSpPr>
        <p:spPr>
          <a:xfrm>
            <a:off x="6372360" y="2133720"/>
            <a:ext cx="208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A=F</a:t>
            </a:r>
            <a:r>
              <a:rPr b="1" lang="en-US" sz="1400" spc="-1" strike="noStrike">
                <a:solidFill>
                  <a:srgbClr val="9900cc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F</a:t>
            </a:r>
            <a:r>
              <a:rPr b="1" lang="en-US" sz="1400" spc="-1" strike="noStrike">
                <a:solidFill>
                  <a:srgbClr val="9900cc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=Fcos</a:t>
            </a:r>
            <a:r>
              <a:rPr b="1" lang="el-GR" sz="24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A= FScos</a:t>
            </a:r>
            <a:r>
              <a:rPr b="1" lang="el-GR" sz="2400" spc="-1" strike="noStrike">
                <a:solidFill>
                  <a:srgbClr val="9900cc"/>
                </a:solidFill>
                <a:latin typeface="Verdana"/>
              </a:rPr>
              <a:t>α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45464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Сплавщик передвигает багром плот, прилагая к багру силу 200 Н. Какую работу совершает сплавщик, переместив плот на 10 м, если угол между направлением силы и направлением перемещения 60°?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4859280" y="260280"/>
            <a:ext cx="404352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Picture 5" descr="GKJN"/>
          <p:cNvPicPr/>
          <p:nvPr/>
        </p:nvPicPr>
        <p:blipFill>
          <a:blip r:embed="rId1"/>
          <a:stretch/>
        </p:blipFill>
        <p:spPr>
          <a:xfrm>
            <a:off x="5029200" y="2852640"/>
            <a:ext cx="41148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44840" cy="12985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Анализируем формул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A=F·S·cos</a:t>
            </a:r>
            <a:r>
              <a:rPr b="0" lang="el-GR" sz="3600" spc="-1" strike="noStrike">
                <a:solidFill>
                  <a:srgbClr val="9900cc"/>
                </a:solidFill>
                <a:latin typeface="Verdana"/>
              </a:rPr>
              <a:t>α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1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F·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2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0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3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-1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-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F·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4. 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&g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g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pabota"/>
          <p:cNvPicPr/>
          <p:nvPr/>
        </p:nvPicPr>
        <p:blipFill>
          <a:blip r:embed="rId1"/>
          <a:stretch/>
        </p:blipFill>
        <p:spPr>
          <a:xfrm>
            <a:off x="684360" y="1125360"/>
            <a:ext cx="7885080" cy="46339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684360" y="5667480"/>
            <a:ext cx="7292880" cy="1191240"/>
          </a:xfrm>
          <a:prstGeom prst="rect">
            <a:avLst/>
          </a:prstGeom>
          <a:solidFill>
            <a:srgbClr val="eec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A= - mgh  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                    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A= mgh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042920" y="40464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Verdana"/>
              </a:rPr>
              <a:t>Найдем работу силы тяж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6840" y="2781000"/>
            <a:ext cx="8218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Какую работу совершает сила тяжести, действующая на дождевую каплю массой 20мг, при ее падении с высоты 2к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539640" y="620640"/>
            <a:ext cx="404352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Графическое представление совершенной работ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56000" y="1915920"/>
            <a:ext cx="49183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Изобразим графическ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зависимость модуля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F</a:t>
            </a:r>
            <a:r>
              <a:rPr b="0" lang="ru-RU" sz="2400" spc="-1" strike="noStrike" baseline="-25000">
                <a:solidFill>
                  <a:srgbClr val="9900cc"/>
                </a:solidFill>
                <a:latin typeface="Verdana"/>
              </a:rPr>
              <a:t>тяж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o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т модуля перемещения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427640" y="4076640"/>
            <a:ext cx="45720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S= F</a:t>
            </a:r>
            <a:r>
              <a:rPr b="0" lang="ru-RU" sz="2800" spc="-1" strike="noStrike" baseline="-25000">
                <a:solidFill>
                  <a:srgbClr val="9900cc"/>
                </a:solidFill>
                <a:latin typeface="Verdana"/>
              </a:rPr>
              <a:t>тяж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h =mg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A= mg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552760" y="5608800"/>
            <a:ext cx="36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Вывод: </a:t>
            </a: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A</a:t>
            </a: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=</a:t>
            </a: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S</a:t>
            </a: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прямоуг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10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708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Блиц-опрос «Проверь себя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1.Работа постоянной силы равна произведению модулей векторов силы и перемещения 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2.Работа силы положительна, если</a:t>
            </a:r>
            <a:r>
              <a:rPr b="0" lang="en-US" sz="20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угол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3.Работа силы отрицательна, если угол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4.Единица работы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5.За единицу работы принимают такую работу, которую совершает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6.Формула работы силы тяжести…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7.Силы называются консервативными, работа которых на любой замкнутой траектори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8.Мощность – физическая величина, равная отношению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9.Основная единица мощност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10. За единицу мощности принимают такую мощность, при которой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Задание на до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Учебник Пурышева И.С. Важеевская И.Е Физика 9 класс.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§</a:t>
            </a: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20, задание № 18 (1,2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4"/>
          <p:cNvSpPr txBox="1"/>
          <p:nvPr/>
        </p:nvSpPr>
        <p:spPr>
          <a:xfrm>
            <a:off x="457200" y="277920"/>
            <a:ext cx="771516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исок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пользованны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точник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39640" y="2924280"/>
            <a:ext cx="7993080" cy="2923200"/>
          </a:xfrm>
          <a:prstGeom prst="rect">
            <a:avLst/>
          </a:prstGeom>
          <a:solidFill>
            <a:srgbClr val="4fc1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Рымкевич, А. П. Физика. Задачник. 10—11 кл. 10-е изд.,М. : Дрофа, 2006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0099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class-fizika.narod.ru/vid.ht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0099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www.all-fizika.com/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Пурышева И.С. Важеева И.Е Физика 9 класс. Дроф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Кикоин И.К. Кикоин А.К. Физика 9 класс.Просвещени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Монастырский Л.М. Богатин А.С. Нечепуренко М.В. Физика 9 класс. Подготовка к государственной аттестации. 2010 г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02-ANDANTE, OP.9, NO.2 IN E FLAT MAJOR.MP3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2"/>
          <a:stretch/>
        </p:blipFill>
        <p:spPr>
          <a:xfrm>
            <a:off x="1042920" y="1593720"/>
            <a:ext cx="6948720" cy="5264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3"/>
          <a:stretch/>
        </p:blipFill>
        <p:spPr>
          <a:xfrm>
            <a:off x="0" y="0"/>
            <a:ext cx="2184480" cy="525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"/>
          <p:cNvPicPr/>
          <p:nvPr/>
        </p:nvPicPr>
        <p:blipFill>
          <a:blip r:embed="rId4"/>
          <a:stretch/>
        </p:blipFill>
        <p:spPr>
          <a:xfrm>
            <a:off x="6732720" y="836640"/>
            <a:ext cx="241128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405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Ответы к кроссворду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6247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3517920" cy="1325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Механическая работ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155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A=F·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468360" y="5373720"/>
            <a:ext cx="72723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Единица работы – джоуль (Дж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Работа какой силы равна 0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187280" y="1052640"/>
            <a:ext cx="75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Если на тело действует сила, и оно перемещается в направлении действия силы, т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7407000" cy="343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mosnost"/>
          <p:cNvPicPr/>
          <p:nvPr/>
        </p:nvPicPr>
        <p:blipFill>
          <a:blip r:embed="rId1"/>
          <a:stretch/>
        </p:blipFill>
        <p:spPr>
          <a:xfrm>
            <a:off x="-141120" y="620640"/>
            <a:ext cx="9285120" cy="69645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Мощност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9640" y="90792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N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=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A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/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t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Единица мощности – ватт (Вт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31212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42920" y="620640"/>
            <a:ext cx="64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Совершается ли работа при равномерном движении по абсолютно гладкой поверхности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835280" y="2327400"/>
            <a:ext cx="4917960" cy="45306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7"/>
          <p:cNvSpPr txBox="1"/>
          <p:nvPr/>
        </p:nvSpPr>
        <p:spPr>
          <a:xfrm>
            <a:off x="179280" y="692280"/>
            <a:ext cx="277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5280" y="260280"/>
            <a:ext cx="5148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Чему равна работ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250920" y="333360"/>
            <a:ext cx="3492360" cy="13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Picture 6" descr="SDC10221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2808360" y="1916280"/>
            <a:ext cx="37051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16000" y="836640"/>
            <a:ext cx="3970440" cy="172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Одинаковую ли работу совершают мальчики при равномерном перемещении саней на одном и том же пути?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0" y="3457440"/>
            <a:ext cx="9144000" cy="2260800"/>
          </a:xfrm>
          <a:prstGeom prst="rect">
            <a:avLst/>
          </a:prstGeom>
          <a:ln w="0">
            <a:noFill/>
          </a:ln>
        </p:spPr>
      </p:pic>
      <p:sp>
        <p:nvSpPr>
          <p:cNvPr id="144" name="WordArt 7"/>
          <p:cNvSpPr txBox="1"/>
          <p:nvPr/>
        </p:nvSpPr>
        <p:spPr>
          <a:xfrm>
            <a:off x="468360" y="620640"/>
            <a:ext cx="3645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Что измениться, если вектор силы  составляет угол </a:t>
            </a:r>
            <a:r>
              <a:rPr b="0" lang="el-GR" sz="4000" spc="-1" strike="noStrike">
                <a:solidFill>
                  <a:srgbClr val="9900cc"/>
                </a:solidFill>
                <a:latin typeface="Arial"/>
              </a:rPr>
              <a:t>α</a:t>
            </a: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 с вектором перемещения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Picture 4" descr="САНКИ_thumb"/>
          <p:cNvPicPr/>
          <p:nvPr/>
        </p:nvPicPr>
        <p:blipFill>
          <a:blip r:embed="rId1"/>
          <a:stretch/>
        </p:blipFill>
        <p:spPr>
          <a:xfrm>
            <a:off x="826920" y="1700280"/>
            <a:ext cx="604872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9:12:31Z</dcterms:created>
  <dc:creator>Admin</dc:creator>
  <dc:description/>
  <dc:language>en-US</dc:language>
  <cp:lastModifiedBy>Олег</cp:lastModifiedBy>
  <dcterms:modified xsi:type="dcterms:W3CDTF">2012-04-12T19:16:08Z</dcterms:modified>
  <cp:revision>28</cp:revision>
  <dc:subject/>
  <dc:title>Механическая работа и мощность</dc:title>
</cp:coreProperties>
</file>