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ртур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03-09T22:02:55.109000000" idx="1">
    <p:pos x="5721" y="6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0E3-52AB-47EE-B68F-587122AA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2E8-B982-4561-9084-776AF502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66E-4AC3-4699-B983-FD475BFA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CD6-CBA7-4986-AE6F-26DCA147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092C-6469-4C9D-AF20-9A28E51A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20C3-E5E1-47D2-8251-EB298075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5B1E-8402-4DDC-B01D-ED0419CB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AB9C-D52B-4CFF-901F-23A8FE6C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EF34-3AAB-40BD-93B1-1A26685A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30C6-2782-4673-B9BB-D01806AC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5511-2A6B-4850-9646-EA3A0B3F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E9E-087D-47EA-BFDB-3DFAA0C8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916F-429B-47BB-88F2-F6B68F33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D0D1-4200-4F75-AC1A-01FDFB55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5723-3143-4CBB-82DD-D64C08E3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6FA8-5359-407D-BF90-66017F03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AE4B-D519-4198-9A39-322AC4B7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442-BF44-46B1-A44C-6ED68CAA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E8C-821C-4E81-A353-5D9FD6EA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AE8-3E71-4B5C-940F-40A46CEA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F44-F0E2-403F-A17F-9F06780F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CD2-C270-46A1-BCBF-A878B949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85D-B60A-413A-9A38-E97750A0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515-0170-4F26-9504-C133A46B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829B-810E-4889-86AA-AC05BFB698E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8318-D3DF-4440-A8CA-50441905B87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153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68235"/>
                      </a:srgbClr>
                    </a:gs>
                    <a:gs pos="100000">
                      <a:srgbClr val="ff8200">
                        <a:alpha val="2235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закон термодинамики.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>
                      <a:alpha val="68235"/>
                    </a:srgbClr>
                  </a:gs>
                  <a:gs pos="100000">
                    <a:srgbClr val="ff8200">
                      <a:alpha val="2235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4191120"/>
            <a:ext cx="5410080" cy="403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05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Презентация учителя МОУ «СОШ №6»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для учащихся 10-го класс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544212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имонова А. 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Цель презентаци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e5a78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Применить физический закон к различным процессам  на основе имеющихся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Работать над формированием сравнивать явления, делать выводы и обобщ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Грамотное изложение материала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Закон сохранения и превращения энергии, распространённый на тепловые явления, называется </a:t>
            </a: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первым законом термодинамик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й энергии системы при переходе её из одного состояния в другое равно сумме работы внешних сил и количества теплоты, переданного систе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U=A+Q</a:t>
            </a:r>
            <a:r>
              <a:rPr b="1" lang="ru-RU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система замкнута работа внешней си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А=0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теплообмен с окружающими телами не происходи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Q=0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внутренняя энергия изолированной системы сохраня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U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  <a:ea typeface="Arial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=U</a:t>
            </a:r>
            <a:r>
              <a:rPr b="1" lang="en-US" sz="1000" spc="-1" strike="noStrike">
                <a:solidFill>
                  <a:srgbClr val="006699"/>
                </a:solidFill>
                <a:latin typeface="Verdana"/>
                <a:ea typeface="Arial"/>
              </a:rPr>
              <a:t>2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700"/>
                            </p:stCondLst>
                            <p:childTnLst>
                              <p:par>
                                <p:cTn id="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7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7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7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700"/>
                            </p:stCondLst>
                            <p:childTnLst>
                              <p:par>
                                <p:cTn id="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700"/>
                            </p:stCondLst>
                            <p:childTnLst>
                              <p:par>
                                <p:cTn id="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700"/>
                            </p:stCondLst>
                            <p:childTnLst>
                              <p:par>
                                <p:cTn id="1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700"/>
                            </p:stCondLst>
                            <p:childTnLst>
                              <p:par>
                                <p:cTn id="1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Если учитывать различие только в знаках между работой внешней и внутренней сил    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А=-А</a:t>
            </a:r>
            <a:r>
              <a:rPr b="1" lang="en-US" sz="2700" spc="-1" strike="noStrike">
                <a:solidFill>
                  <a:srgbClr val="006666"/>
                </a:solidFill>
                <a:latin typeface="Verdana"/>
              </a:rPr>
              <a:t>`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,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лучим первый закон термодинамики в другом вид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Q=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U+A`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Количество теплоты, переданное системе, идёт на изменение её внутренней энергии и на совершение системой работы над внешними си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Из первого закона термодинамики вытекает важное следств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4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609120"/>
            <a:ext cx="82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Невозможность вечного двигателя!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ечный двигатель—устройство, способное совершать неограниченное количество работы без затрат топлива или каких-либо других материал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Если к системе не поступает теплота (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Q=0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то работа совершается только за счёт убыли внутренней энерг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`=-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Arial"/>
              </a:rPr>
              <a:t>∆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осле того как запас энергии окажется исчерпанным , двигатель перестанет работ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Первый закон термодинамики можно применить к газовым законам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изохорном процессе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V=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оэтом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`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=0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гда изменение внутренней энергии равно количеству теплоты, переданной сис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U=Q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газ нагревается , то его внутренняя энергия увеличивается, а при охлаждении газа—уменьшается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2.     При изобарном процессе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p=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∆U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+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ереданное газу количество теплоты идёт на изменение его внутренней энергии и  на совершение им работы при постоянном давлен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При изотермическом процессе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внутренняя           энергия газа не меняется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, переданное газу количество теплоты идёт на совершение рабо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A`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При адиабатном процессе, когда система не обменивается теплотой с окружающей средой,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изменение внутренней энергии происходит только за счёт совершения работы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Почему внутренняя энергия тела не бесконечн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Как меняется температура тела при адиабатном расширени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Для получения газированной воды через воду пропускают сжатый углекислый газ. Почему температура воды при этом понижает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30492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просы на проверку знан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ур</cp:lastModifiedBy>
  <dcterms:modified xsi:type="dcterms:W3CDTF">2008-02-05T18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