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рту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03-09T22:02:55.109000000" idx="1">
    <p:pos x="5721" y="6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95F-8DFF-443F-98BB-70B48C29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AB2-59BA-4645-8D2F-DBB3187D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5BC-104D-46FC-A034-89F4CC78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85B-ECFC-43BA-AB73-E9B25A42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B858-1916-4818-B914-AC325718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09A8-6F4C-42AB-B14A-906416A7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2742-D3C3-4468-A744-B3F7A4E2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0017-7599-49F7-85C4-616A2AD4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0451-3BFE-4DA1-9AE1-5C75D3CB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2345-6F57-41ED-B835-759FD969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E6A1-0A27-4E8E-898F-9B12A2C6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AE6-0E7C-49C6-A9D9-2C539BDD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444C-BDA3-4E64-9432-049BDD73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424B-567E-4CC0-BD40-9B5BF681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64FE-230D-4D2A-A920-77173EF9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E243-CAF9-4500-BA16-441010EC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8E0C-AFE8-4459-85BC-A5ACC1CD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B32-C1A0-41EE-9B20-D4419DFC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A63-AD70-46F9-87BD-87094016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EAE-5330-4AC0-AC01-BAAD9AC5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4F6-E7CB-49FA-8660-AC0BCF29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844-9345-4A5E-9C1D-9B4E8F24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550-3A70-437D-A38B-77F30E4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F40-F706-4503-A51F-0B056C90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57D8-601B-49BD-ADEB-B904F6453AA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E2B6-1636-41FF-A8E8-C8C9526696B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153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68235"/>
                      </a:srgbClr>
                    </a:gs>
                    <a:gs pos="100000">
                      <a:srgbClr val="ff8200">
                        <a:alpha val="2235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закон термодинамики.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>
                      <a:alpha val="68235"/>
                    </a:srgbClr>
                  </a:gs>
                  <a:gs pos="100000">
                    <a:srgbClr val="ff8200">
                      <a:alpha val="2235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4191120"/>
            <a:ext cx="5410080" cy="403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05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Презентация учителя МОУ «СОШ №6»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для учащихся 10-го класс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44212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имонова А. 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Цель презентаци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e5a78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Применить физический закон к различным процессам  на основе имеющихся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Работать над формированием сравнивать явления, делать выводы и обобщ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Грамотное изложение материала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Закон сохранения и превращения энергии, распространённый на тепловые явления, называется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первым законом термодинамик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U=A+Q</a:t>
            </a:r>
            <a:r>
              <a:rPr b="1" lang="ru-RU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система замкнута работа внешней си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А=0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теплообмен с окружающими телами не происходи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Q=0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внутренняя энергия изолированной системы сохран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U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  <a:ea typeface="Arial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=U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  <a:ea typeface="Arial"/>
              </a:rPr>
              <a:t>2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700"/>
                            </p:stCondLst>
                            <p:childTnLst>
                              <p:par>
                                <p:cTn id="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700"/>
                            </p:stCondLst>
                            <p:childTnLst>
                              <p:par>
                                <p:cTn id="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700"/>
                            </p:stCondLst>
                            <p:childTnLst>
                              <p:par>
                                <p:cTn id="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700"/>
                            </p:stCondLst>
                            <p:childTnLst>
                              <p:par>
                                <p:cTn id="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700"/>
                            </p:stCondLst>
                            <p:childTnLst>
                              <p:par>
                                <p:cTn id="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700"/>
                            </p:stCondLst>
                            <p:childTnLst>
                              <p:par>
                                <p:cTn id="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700"/>
                            </p:stCondLst>
                            <p:childTnLst>
                              <p:par>
                                <p:cTn id="1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8700"/>
                            </p:stCondLst>
                            <p:childTnLst>
                              <p:par>
                                <p:cTn id="1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Если учитывать различие только в знаках между работой внешней и внутренней сил    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А=-А</a:t>
            </a:r>
            <a:r>
              <a:rPr b="1" lang="en-US" sz="2700" spc="-1" strike="noStrike">
                <a:solidFill>
                  <a:srgbClr val="006666"/>
                </a:solidFill>
                <a:latin typeface="Verdana"/>
              </a:rPr>
              <a:t>`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,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лучим первый закон термодинамики в другом вид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Q=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U+A`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си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Из первого закона термодинамики вытекает важное следств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2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609120"/>
            <a:ext cx="82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Невозможность вечного двигателя!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ечный двигатель—устройство, способное совершать неограниченное количество работы без затрат топлива или каких-либо других материал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сли к системе не поступает теплота (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Q=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то работа совершается только за счёт убыли внутренней энерг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`=-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Arial"/>
              </a:rPr>
              <a:t>∆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осле того как запас энергии окажется исчерпанным , двигатель перестанет работ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Первый закон термодинамики можно применить к газовым законам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изохорном процессе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=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оэтом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`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=0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гда изменение внутренней энергии равно количеству теплоты, переданной сис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U=Q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газ нагревается , то его внутренняя энергия увеличивается, а при охлаждении газа—уменьшается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2.     При изобарном процессе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p=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∆U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ереданное газу количество теплоты идёт на изменение его внутренней энергии и  на совершение им работы при постоянном давлен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При изотермическом процессе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внутренняя           энергия газа не меняется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, переданное газу количество теплоты идёт на совершение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A`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При адиабатном процессе, когда система не обменивается теплотой с окружающей средой,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изменение внутренней энергии происходит только за счёт совершения работы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Почему внутренняя энергия тела не бесконечн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Как меняется температура тела при адиабатном расширени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Для получения газированной воды через воду пропускают сжатый углекислый газ. Почему температура воды при этом понижает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30492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росы на проверку зна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ур</cp:lastModifiedBy>
  <dcterms:modified xsi:type="dcterms:W3CDTF">2008-02-05T18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