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F91-AE8C-49F8-9E36-B288400C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A55-2218-4C9A-A667-5A6BDFD9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532-10BC-423E-B9EB-F331FD75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C20-69A3-4365-A9CD-651F81B0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7297-0738-4DC2-8BE9-65A33967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0EE6-9806-4710-9961-1D423A1E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BFBA-7AC1-48CA-B578-CDEE8953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4F50-BF15-47C1-973C-AEF4E174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D6C2-C9BE-4727-AEC3-6B3640F5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2D32-366F-4307-A0C3-8BE8138C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C6BC-F47E-4019-B496-D701B585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302-2509-416A-95FB-39E487E9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8A05-169E-4DA8-BF8D-3A6ED8B5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23B8-BFF8-4025-92A1-ECA1BF4F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DFB2-4C2F-4715-BA2C-8EF1B3DE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D90F-F6CC-4041-8719-A5280E03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91EB-9648-4651-8DE3-93DA8731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7EB-2153-40C8-8DFE-88E8C87A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B43-1BB4-4620-8599-6A85C642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F61-DF97-4979-AB04-92251368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257-9A55-4A74-AC8B-3F0A603E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CBF-1DD2-4724-90EE-79313849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EC9-6D82-4E7E-B37B-B26F8490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014-2783-4C8C-8697-404941D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83DE-FD87-44C2-BF16-273EB43A818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9FAD-810E-41C8-9F9A-31991F72E32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700"/>
                            </p:stCondLst>
                            <p:childTnLst>
                              <p:par>
                                <p:cTn id="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700"/>
                            </p:stCondLst>
                            <p:childTnLst>
                              <p:par>
                                <p:cTn id="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700"/>
                            </p:stCondLst>
                            <p:childTnLst>
                              <p:par>
                                <p:cTn id="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700"/>
                            </p:stCondLst>
                            <p:childTnLst>
                              <p:par>
                                <p:cTn id="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700"/>
                            </p:stCondLst>
                            <p:childTnLst>
                              <p:par>
                                <p:cTn id="8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700"/>
                            </p:stCondLst>
                            <p:childTnLst>
                              <p:par>
                                <p:cTn id="9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700"/>
                            </p:stCondLst>
                            <p:childTnLst>
                              <p:par>
                                <p:cTn id="1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8700"/>
                            </p:stCondLst>
                            <p:childTnLst>
                              <p:par>
                                <p:cTn id="1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2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