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ртур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03-09T22:02:55.109000000" idx="1">
    <p:pos x="5721" y="6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403-A53A-46C5-A853-AE9E64B5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778-7F8E-495E-A276-63970230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B10-8FDA-467A-951B-44742CDE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856-2138-4AF1-AEC4-129CAD60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DD9E-63A1-46EA-BFB6-5B8814FB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B382-9921-4314-B2B1-E66C589D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2102-0EB4-45C6-BA1A-3C5D4B68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9C94-8691-4686-8D97-AD0630F8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C0B5-D2D6-4232-8F79-F12E1826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E3E0-6997-4984-B425-FD4D57B2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FDAC-19CA-4733-ACF1-276A15AB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9EC-7D50-4D27-A169-9F3CEF50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6572-247B-465F-91BF-15DF2462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2328-E2B4-4480-B7F8-36E87AB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2B39-48E0-4FFA-99D4-0A52C313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827B-9D66-4A9F-B68C-394B88D4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89CF-93B5-4270-902F-1C5AD1A7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BA9-CB3E-40D0-AD6A-E4E6081D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38F-04D9-43B2-B192-00CFE612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F6E-0E9C-4C0C-A1F4-0195C162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05D-75FF-477A-BA25-2225053E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ED3-9224-4C99-9ABA-359615FB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ADA-7C9B-4545-91AC-D6419900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D9D-AF7B-46FB-9AAB-8AF4C5C1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778D-D0F7-44FF-AF21-BB5A779772F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C65E-532C-484A-9838-89341395A11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153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68235"/>
                      </a:srgbClr>
                    </a:gs>
                    <a:gs pos="100000">
                      <a:srgbClr val="ff8200">
                        <a:alpha val="2235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закон термодинамики.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>
                      <a:alpha val="68235"/>
                    </a:srgbClr>
                  </a:gs>
                  <a:gs pos="100000">
                    <a:srgbClr val="ff8200">
                      <a:alpha val="2235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4191120"/>
            <a:ext cx="5410080" cy="403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05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Презентация учителя МОУ «СОШ №6»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для учащихся 10-го класс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544212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имонова А. 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Цель презентаци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e5a78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Применить физический закон к различным процессам  на основе имеющихся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Работать над формированием сравнивать явления, делать выводы и обобщ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Грамотное изложение материала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Закон сохранения и превращения энергии, распространённый на тепловые явления, называется </a:t>
            </a: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первым законом термодинамик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й энергии системы при переходе её из одного состояния в другое равно сумме работы внешних сил и количества теплоты, переданного систе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U=A+Q</a:t>
            </a:r>
            <a:r>
              <a:rPr b="1" lang="ru-RU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система замкнута работа внешней си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А=0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теплообмен с окружающими телами не происходи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Q=0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внутренняя энергия изолированной системы сохраня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U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  <a:ea typeface="Arial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=U</a:t>
            </a:r>
            <a:r>
              <a:rPr b="1" lang="en-US" sz="1000" spc="-1" strike="noStrike">
                <a:solidFill>
                  <a:srgbClr val="006699"/>
                </a:solidFill>
                <a:latin typeface="Verdana"/>
                <a:ea typeface="Arial"/>
              </a:rPr>
              <a:t>2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700"/>
                            </p:stCondLst>
                            <p:childTnLst>
                              <p:par>
                                <p:cTn id="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700"/>
                            </p:stCondLst>
                            <p:childTnLst>
                              <p:par>
                                <p:cTn id="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700"/>
                            </p:stCondLst>
                            <p:childTnLst>
                              <p:par>
                                <p:cTn id="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700"/>
                            </p:stCondLst>
                            <p:childTnLst>
                              <p:par>
                                <p:cTn id="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700"/>
                            </p:stCondLst>
                            <p:childTnLst>
                              <p:par>
                                <p:cTn id="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700"/>
                            </p:stCondLst>
                            <p:childTnLst>
                              <p:par>
                                <p:cTn id="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700"/>
                            </p:stCondLst>
                            <p:childTnLst>
                              <p:par>
                                <p:cTn id="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870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Если учитывать различие только в знаках между работой внешней и внутренней сил    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А=-А</a:t>
            </a:r>
            <a:r>
              <a:rPr b="1" lang="en-US" sz="2700" spc="-1" strike="noStrike">
                <a:solidFill>
                  <a:srgbClr val="006666"/>
                </a:solidFill>
                <a:latin typeface="Verdana"/>
              </a:rPr>
              <a:t>`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,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лучим первый закон термодинамики в другом вид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Q=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U+A`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Количество теплоты, переданное системе, идёт на изменение её внутренней энергии и на совершение системой работы над внешними си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Из первого закона термодинамики вытекает важное следств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609120"/>
            <a:ext cx="82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Невозможность вечного двигателя!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ечный двигатель—устройство, способное совершать неограниченное количество работы без затрат топлива или каких-либо других материал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Если к системе не поступает теплота (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Q=0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то работа совершается только за счёт убыли внутренней энерг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`=-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Arial"/>
              </a:rPr>
              <a:t>∆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осле того как запас энергии окажется исчерпанным , двигатель перестанет работ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Первый закон термодинамики можно применить к газовым законам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изохорном процессе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V=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оэтом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`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=0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гда изменение внутренней энергии равно количеству теплоты, переданной сис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U=Q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газ нагревается , то его внутренняя энергия увеличивается, а при охлаждении газа—уменьшается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2.     При изобарном процессе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p=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∆U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+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ереданное газу количество теплоты идёт на изменение его внутренней энергии и  на совершение им работы при постоянном давлен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При изотермическом процессе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внутренняя           энергия газа не меняется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, переданное газу количество теплоты идёт на совершение рабо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A`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При адиабатном процессе, когда система не обменивается теплотой с окружающей средой,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изменение внутренней энергии происходит только за счёт совершения работы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Почему внутренняя энергия тела не бесконечн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Как меняется температура тела при адиабатном расширени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Для получения газированной воды через воду пропускают сжатый углекислый газ. Почему температура воды при этом понижает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30492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просы на проверку знан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ур</cp:lastModifiedBy>
  <dcterms:modified xsi:type="dcterms:W3CDTF">2008-02-05T18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