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Артур" initials="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8-03-09T22:02:55.109000000" idx="1">
    <p:pos x="5721" y="624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E200-0C9A-4CBA-B3FD-865AEFCC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9C83-9F92-4A46-BA27-5F0B50BB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EF30-7C04-47CF-9F65-1A70F2A0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8A8-3F72-42EC-A6FF-4A2F7BC9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4A23-9653-4737-8F46-D41C5920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21F4-F472-4C4E-AA45-C3392248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409F-4310-4AD1-8944-50ED1761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0F2B-F097-49FD-B4FA-0B3D903C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7803-BCA2-4BDE-862B-086AC3C6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4473-308F-484B-A0BB-FAC9F7EB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C96B-5639-4850-B458-496ABC0E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34A-6D08-402F-B897-CB9189F0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45A9-1CBD-4E6C-8E09-32DE4B89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C05D-0078-49C6-9855-88182122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FA3E-6332-4DF7-91CF-8682570A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BACF-1A6C-4FB1-A8A3-19762F21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8C88-7AAE-479C-9630-0A619962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E2DE-B03C-4AEB-AC1E-F89C338F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D6B-0508-4BCA-815F-7F2A5322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D964-6555-4C34-98EF-2359F3F0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AFA8-C738-42C2-88A3-58073DF4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400B-51CE-4A7B-BF88-0D60F635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F3C5-9246-46EF-ACC9-6052BE31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186-C90D-4483-AC48-A36A6DA8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8BA2-91C1-4E7C-8D1C-5F48E598AAB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BA0C-19A6-44DF-AE61-56C739B9AC9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762120"/>
            <a:ext cx="8153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>
                        <a:alpha val="68235"/>
                      </a:srgbClr>
                    </a:gs>
                    <a:gs pos="100000">
                      <a:srgbClr val="ff8200">
                        <a:alpha val="2235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ый закон термодинамики.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>
                      <a:alpha val="68235"/>
                    </a:srgbClr>
                  </a:gs>
                  <a:gs pos="100000">
                    <a:srgbClr val="ff8200">
                      <a:alpha val="2235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057400" y="4191120"/>
            <a:ext cx="5410080" cy="4038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05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99">
                        <a:alpha val="16078"/>
                      </a:srgbClr>
                    </a:gs>
                  </a:gsLst>
                  <a:lin ang="5400000"/>
                </a:gradFill>
                <a:latin typeface="Arial"/>
              </a:rPr>
              <a:t>Презентация учителя МОУ «СОШ №6»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99">
                      <a:alpha val="16078"/>
                    </a:srgbClr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99">
                        <a:alpha val="16078"/>
                      </a:srgbClr>
                    </a:gs>
                  </a:gsLst>
                  <a:lin ang="5400000"/>
                </a:gradFill>
                <a:latin typeface="Arial"/>
              </a:rPr>
              <a:t>для учащихся 10-го класса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99">
                      <a:alpha val="16078"/>
                    </a:srgbClr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544212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Симонова А. М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Verdana"/>
              </a:rPr>
              <a:t>Цель презентаци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e5a78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Применить физический закон к различным процессам  на основе имеющихся знани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Работать над формированием сравнивать явления, делать выводы и обобще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Грамотное изложение материала</a:t>
            </a:r>
            <a:r>
              <a:rPr b="0" i="1" lang="en-US" sz="32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80010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Закон сохранения и превращения энергии, распространённый на тепловые явления, называется </a:t>
            </a:r>
            <a:r>
              <a:rPr b="1" i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первым законом термодинамик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82296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Изменение внутренней энергии системы при переходе её из одного состояния в другое равно сумме работы внешних сил и количества теплоты, переданного системе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∆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U=A+Q</a:t>
            </a:r>
            <a:r>
              <a:rPr b="1" lang="ru-RU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Если система замкнута работа внешней сил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А=0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теплообмен с окружающими телами не происходи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Q=0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внутренняя энергия изолированной системы сохраняе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U</a:t>
            </a:r>
            <a:r>
              <a:rPr b="1" lang="en-US" sz="900" spc="-1" strike="noStrike">
                <a:solidFill>
                  <a:srgbClr val="006699"/>
                </a:solidFill>
                <a:latin typeface="Verdana"/>
                <a:ea typeface="Arial"/>
              </a:rPr>
              <a:t>1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=U</a:t>
            </a:r>
            <a:r>
              <a:rPr b="1" lang="en-US" sz="1000" spc="-1" strike="noStrike">
                <a:solidFill>
                  <a:srgbClr val="006699"/>
                </a:solidFill>
                <a:latin typeface="Verdana"/>
                <a:ea typeface="Arial"/>
              </a:rPr>
              <a:t>2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700"/>
                            </p:stCondLst>
                            <p:childTnLst>
                              <p:par>
                                <p:cTn id="5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700"/>
                            </p:stCondLst>
                            <p:childTnLst>
                              <p:par>
                                <p:cTn id="6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700"/>
                            </p:stCondLst>
                            <p:childTnLst>
                              <p:par>
                                <p:cTn id="7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700"/>
                            </p:stCondLst>
                            <p:childTnLst>
                              <p:par>
                                <p:cTn id="7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700"/>
                            </p:stCondLst>
                            <p:childTnLst>
                              <p:par>
                                <p:cTn id="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4700"/>
                            </p:stCondLst>
                            <p:childTnLst>
                              <p:par>
                                <p:cTn id="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700"/>
                            </p:stCondLst>
                            <p:childTnLst>
                              <p:par>
                                <p:cTn id="10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8700"/>
                            </p:stCondLst>
                            <p:childTnLst>
                              <p:par>
                                <p:cTn id="11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66"/>
                </a:solidFill>
                <a:latin typeface="Verdana"/>
              </a:rPr>
              <a:t>Если учитывать различие только в знаках между работой внешней и внутренней сил    </a:t>
            </a:r>
            <a:r>
              <a:rPr b="1" lang="ru-RU" sz="2700" spc="-1" strike="noStrike">
                <a:solidFill>
                  <a:srgbClr val="006666"/>
                </a:solidFill>
                <a:latin typeface="Verdana"/>
              </a:rPr>
              <a:t>А=-А</a:t>
            </a:r>
            <a:r>
              <a:rPr b="1" lang="en-US" sz="2700" spc="-1" strike="noStrike">
                <a:solidFill>
                  <a:srgbClr val="006666"/>
                </a:solidFill>
                <a:latin typeface="Verdana"/>
              </a:rPr>
              <a:t>`</a:t>
            </a:r>
            <a:r>
              <a:rPr b="1" lang="ru-RU" sz="2700" spc="-1" strike="noStrike">
                <a:solidFill>
                  <a:srgbClr val="006666"/>
                </a:solidFill>
                <a:latin typeface="Verdana"/>
              </a:rPr>
              <a:t>,</a:t>
            </a:r>
            <a:endParaRPr b="0" lang="en-US" sz="2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лучим первый закон термодинамики в другом виде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 u="sng">
                <a:solidFill>
                  <a:srgbClr val="006699"/>
                </a:solidFill>
                <a:uFillTx/>
                <a:latin typeface="Verdana"/>
              </a:rPr>
              <a:t>Q=</a:t>
            </a:r>
            <a:r>
              <a:rPr b="1" lang="en-US" sz="36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∆U+A`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  <a:ea typeface="Arial"/>
              </a:rPr>
              <a:t>Количество теплоты, переданное системе, идёт на изменение её внутренней энергии и на совершение системой работы над внешними силам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  <a:ea typeface="Arial"/>
              </a:rPr>
              <a:t>Из первого закона термодинамики вытекает важное следств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2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609120"/>
            <a:ext cx="82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Невозможность вечного двигателя!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99840"/>
            <a:ext cx="8229600" cy="33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ечный двигатель—устройство, способное совершать неограниченное количество работы без затрат топлива или каких-либо других материал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Если к системе не поступает теплота (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Q=0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то работа совершается только за счёт убыли внутренней энергии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`=-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Arial"/>
              </a:rPr>
              <a:t>∆U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После того как запас энергии окажется исчерпанным , двигатель перестанет работа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000"/>
                            </p:stCondLst>
                            <p:childTnLst>
                              <p:par>
                                <p:cTn id="1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9000"/>
                            </p:stCondLst>
                            <p:childTnLst>
                              <p:par>
                                <p:cTn id="1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Первый закон термодинамики можно применить к газовым законам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и изохорном процессе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V=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поэтому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`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=0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Тогда изменение внутренней энергии равно количеству теплоты, переданной систем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  <a:ea typeface="Arial"/>
              </a:rPr>
              <a:t>U=Q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Если газ нагревается , то его внутренняя энергия увеличивается, а при охлаждении газа—уменьшается 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2.     При изобарном процессе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p=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  <a:ea typeface="Arial"/>
              </a:rPr>
              <a:t>∆U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+A`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Переданное газу количество теплоты идёт на изменение его внутренней энергии и  на совершение им работы при постоянном давлен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3.При изотермическом процессе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Т=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внутренняя           энергия газа не меняется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U=0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, переданное газу количество теплоты идёт на совершение работ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A`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4.При адиабатном процессе, когда система не обменивается теплотой с окружающей средой,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0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изменение внутренней энергии происходит только за счёт совершения работы: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U=A`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Почему внутренняя энергия тела не бесконечн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Как меняется температура тела при адиабатном расширении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Для получения газированной воды через воду пропускают сжатый углекислый газ. Почему температура воды при этом понижается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28600" y="304920"/>
            <a:ext cx="8534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опросы на проверку знан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4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ртур</cp:lastModifiedBy>
  <dcterms:modified xsi:type="dcterms:W3CDTF">2008-02-05T18:12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