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591C-AF65-4CA9-82BD-4F5FB21A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82A-FB8A-413F-B4D8-71F81CDF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F81-E0EE-488E-94BA-4DAD571D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2FDD-339D-4478-8A09-CC529DFC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E8AF-8587-46CF-AD53-EB9883A0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9F04-E2B6-46BE-B959-D8DA15CF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FBD-69D3-404B-B29E-9F014635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D929-0178-4E47-BE1A-AD15A33B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A3E3-B336-4D61-A182-D397DBC2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092-F538-4183-B84F-5391FD44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82DB-10F2-462B-A9C2-4B00CD3A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C07D-B133-42A3-A533-BBCA249A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59E9-EB57-492F-AD57-8F1B0879E6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Методическая разработка уро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по физике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на тем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«Расчет сопротивления проводник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учитель физики МОУ СОШ № 4 с.п. Ислам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Баксанск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абардино – Балкарской респуб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хушевой Мариты Мухамедо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2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площадь се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ираем схему 3, сперва одну нихромовую проволоку (клеммы 1, 2) подключить к источнику тока и амперметру, затем две нихромовые проволоки  (клеммы 1-3, 2-4) подключить к источнику тока и амперметру. Наблюдать изменение силы т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уменьшении площади сечения нихромовой проволоки сила тока уменьшается, при увеличении площади сечения сила тока увеличив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↑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~ 1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рода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ираем схему 3, сперва нихромовую проволоку (клеммы 1, 2) подключить к источнику тока и амперметру, затем стальную проволоку  (клеммы 5, 6) подключить к источнику тока и амперметру. Наблюдать изменение силы 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ла тока при подключении нихромовой проволоки больше, чем при подключении стальной (железной) проволо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таблице сравниваем удельные сопротивления этих вещ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↑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~ 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ельное электрическое сопротивление некоторых веществ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= 2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8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86"/>
              <p:cNvSpPr txBox="1"/>
              <p:nvPr/>
            </p:nvSpPr>
            <p:spPr>
              <a:xfrm>
                <a:off x="3059280" y="765000"/>
                <a:ext cx="6476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О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м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641680"/>
                <a:gridCol w="1231920"/>
                <a:gridCol w="3143160"/>
                <a:gridCol w="121284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ганин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антан (сплав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ту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хром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ьф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хрель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ф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елин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бони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зависит от длины проводника, чем больше длина проводника тем  больше его сопроти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проводника зависит от площади поперечного сечения: чем меньше площадь сечения проводника, тем больше сопротивление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проводника зависит от рода вещества (материала), из которого он изготовлен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3715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выражение позволяет вычислять длину проводника, поперечное сечение и удельное сопротивление прово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4"/>
              <p:cNvSpPr txBox="1"/>
              <p:nvPr/>
            </p:nvSpPr>
            <p:spPr>
              <a:xfrm>
                <a:off x="4788000" y="2565360"/>
                <a:ext cx="15793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3348000" y="5300640"/>
                <a:ext cx="158436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1187280" y="5373720"/>
                <a:ext cx="15084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0"/>
              <p:cNvSpPr txBox="1"/>
              <p:nvPr/>
            </p:nvSpPr>
            <p:spPr>
              <a:xfrm>
                <a:off x="5796000" y="5300640"/>
                <a:ext cx="15764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" name="Picture 11" descr="Картинка 2 из 16152"/>
          <p:cNvPicPr/>
          <p:nvPr/>
        </p:nvPicPr>
        <p:blipFill>
          <a:blip r:embed="rId1"/>
          <a:stretch/>
        </p:blipFill>
        <p:spPr>
          <a:xfrm>
            <a:off x="250920" y="189000"/>
            <a:ext cx="2511360" cy="2808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3"/>
          <p:cNvSpPr/>
          <p:nvPr/>
        </p:nvSpPr>
        <p:spPr>
          <a:xfrm>
            <a:off x="2843280" y="189000"/>
            <a:ext cx="615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висимость сопротивления от геометрических размеров проводника (длины и площади поперечного сечения) и вещества, из которого он изготовлен, впервые установил Георг 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Последовательное соеди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оследовательном соединении трех проводников, сопротивление увеличивается, так как длина проводника увеличивается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↑ ~ R 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1908000" y="2997360"/>
            <a:ext cx="5239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Параллельное соед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араллельном соединении площадь сечения проводника увеличивается, сопротивление будет уменьшаться (при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↓ ~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77058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ите сопротивление телеграфного провода между Южно-Сахалинском и Томари, если расстояние между городами 1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м, а провода сделаны из железной проволоки площадью поперечного сечения 12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читайте сопротивление медного контактного провода, подвешенного для питания трамвайного двигателя, если длина провода равна 5 км, а площадь поперечного сечения - 0,65 с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кой длины надо взять медную проволоку площадью поперечного сечения 0,5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, чтобы сопротивление ее было равно 34 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числите, каким сопротивлением обладает нихромовый проводник длиной 5 м и площадью поперечного сечения 0,75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Задачи уро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буч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ормировать навыки работы с приборами, умение решать расчетные, экспериментальные задачи. Установить зависимость сопротивления проводника от его длины, площади поперечного сечения и вещества, из которого он изготовл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оспита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оспитание мировоззренческих понятий; познаваемость окружающего мира; этики работы в па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развит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звивать элементы творческого поиска на основе приема обобщения знаний, умение анализировать, наблюдать, собирать электрические цепи, чертить схемы, развивать навыки практической работы, интерес к предмету путём выполнения разных заданий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                       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0м            Сопротивление провод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12 м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вычислим по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0,1 Ом м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= 0,1* 1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1,5 кО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203640" y="1773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539640" y="378936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1476360" y="328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2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136836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imes New Roman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Что узнали новое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Какой метод понравился для вас больше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Если некоторые приборов у нас отсутствуют под рукой, то вы должны уметь пользоваться другими мето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Понравился ур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45,  46, упражнение 20, № 2 (а),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 таблице зашифровано слово. На пересечении соответствующей величины и расчетной формулы стоит нужная буква. Прочитать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826920" y="1484280"/>
          <a:ext cx="7931160" cy="4645080"/>
        </p:xfrm>
        <a:graphic>
          <a:graphicData uri="http://schemas.openxmlformats.org/drawingml/2006/table">
            <a:tbl>
              <a:tblPr/>
              <a:tblGrid>
                <a:gridCol w="1322640"/>
                <a:gridCol w="1320840"/>
                <a:gridCol w="1322280"/>
                <a:gridCol w="1322280"/>
                <a:gridCol w="1320840"/>
                <a:gridCol w="132228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Object 56"/>
              <p:cNvSpPr txBox="1"/>
              <p:nvPr/>
            </p:nvSpPr>
            <p:spPr>
              <a:xfrm>
                <a:off x="2627280" y="1989000"/>
                <a:ext cx="343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57"/>
              <p:cNvSpPr txBox="1"/>
              <p:nvPr/>
            </p:nvSpPr>
            <p:spPr>
              <a:xfrm>
                <a:off x="3924360" y="1989000"/>
                <a:ext cx="257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58"/>
              <p:cNvSpPr txBox="1"/>
              <p:nvPr/>
            </p:nvSpPr>
            <p:spPr>
              <a:xfrm>
                <a:off x="7956720" y="1989000"/>
                <a:ext cx="2602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9"/>
              <p:cNvSpPr txBox="1"/>
              <p:nvPr/>
            </p:nvSpPr>
            <p:spPr>
              <a:xfrm>
                <a:off x="6516720" y="1989000"/>
                <a:ext cx="503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Rectangle 60"/>
          <p:cNvSpPr/>
          <p:nvPr/>
        </p:nvSpPr>
        <p:spPr>
          <a:xfrm>
            <a:off x="179280" y="4752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 таблице зашифровано слово. На пересечении соответствующей величины и расчетной формулы стоит нужная буква. Прочитать сло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Повторение закона Ома для участка цеп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улируйте закон Ома для участка це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ычислить напряжение, используя закон Ома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противл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ва единица сопротив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ком случае сопротивление проводника имеет значение 1 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, что является причиной сопротивления провод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Применяя закон Ома для участка цепи, заполните таблицу. Заполни табл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700280"/>
          <a:ext cx="8229600" cy="4525920"/>
        </p:xfrm>
        <a:graphic>
          <a:graphicData uri="http://schemas.openxmlformats.org/drawingml/2006/table">
            <a:tbl>
              <a:tblPr/>
              <a:tblGrid>
                <a:gridCol w="1019160"/>
                <a:gridCol w="1727280"/>
                <a:gridCol w="2089080"/>
                <a:gridCol w="1747800"/>
                <a:gridCol w="1646280"/>
              </a:tblGrid>
              <a:tr h="13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 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  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  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2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         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5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                           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Наука начинается с тех пор, как начинают измерять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Точная наука немыслима без м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.И.Мендел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Цель урока: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учить учащихся измерять сопротивления проводников; получить соотношение между сопротивлением проводника, его длиной, площадью поперечного сечения и удельным сопротивл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Оборудование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сточник тока, амперметр, вольтметр, линейка, штангенциркуль, ключ, авомметр, исследуемые проводники,   соединительные провода, компьютер, интерактивная доска, проект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Методы измерения сопротивления провод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Авоммет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4007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2. Метод вольтметра и амперме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6167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3. Метод измерения геометрических разме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опрос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кие вещества являются хорошими проводниками электрического т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Вопрос 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акие из проводников лучше проводят электрический т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т чего зависит сопротивление провод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can10032"/>
          <p:cNvPicPr/>
          <p:nvPr/>
        </p:nvPicPr>
        <p:blipFill>
          <a:blip r:embed="rId1"/>
          <a:stretch/>
        </p:blipFill>
        <p:spPr>
          <a:xfrm>
            <a:off x="395280" y="1557360"/>
            <a:ext cx="8028000" cy="332424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H="1">
            <a:off x="2555640" y="20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5003640" y="20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2556000" y="2060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2556000" y="3573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3635280" y="3357720"/>
            <a:ext cx="505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3564000" y="3573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3492360" y="357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4140360" y="3573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5580000" y="2060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780000" y="35002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1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длины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бираем схему 3, нихромовую проволоку  (клеммы 1, 2) подключить к источнику тока и амперметру. Меняя длину проводника наблюдать изменение силы ток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уменьшении длины нихромовой проволоки сила тока увеличивается, при увеличении длины сила тока уменьш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↓ ~ I ↑ ~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8:24:31Z</dcterms:created>
  <dc:creator>Рая</dc:creator>
  <dc:description/>
  <dc:language>en-US</dc:language>
  <cp:lastModifiedBy>Admin</cp:lastModifiedBy>
  <dcterms:modified xsi:type="dcterms:W3CDTF">2012-04-01T05:54:37Z</dcterms:modified>
  <cp:revision>64</cp:revision>
  <dc:subject/>
  <dc:title>Найди ошибку</dc:title>
</cp:coreProperties>
</file>