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17E3-6FA2-4D91-AB5C-1EFC46FD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91D-ACDE-4BD0-B70B-CC391D56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7F2-F305-4B4A-A938-17753DCA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339A-7B59-4036-AF3A-52D656FD5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64F-EA24-48FE-819E-E72541E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62EE-6884-40D6-9143-6C5DBD78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1C0-E1BD-4ADC-93F1-A74CF535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F8F-25A5-4244-97A3-44871384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1B3-612C-4F97-A2EB-2555AC60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010-552B-4B6F-B155-263280D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4E12-AB1B-4DCE-9EF5-FAA4993D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B8D5-58A8-4496-9C21-11A90914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B1A-F33C-4DC8-98DA-3718B2F38D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85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Методическая разработка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о физике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на тем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«Расчет сопротивления проводник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читель физики МОУ СОШ № 4 с.п. Ислам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Баксан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Кабардино – Балкарской респуб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хушевой Мариты Мухамедо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2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площадь се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одну нихромовую проволоку (клеммы 1, 2) подключить к источнику тока и амперметру, затем две нихромовые проволоки  (клеммы 1-3, 2-4) подключить к источнику тока и амперметру. Наблюдать изменение силы то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площади сечения нихромовой проволоки сила тока уменьшается, при увеличении площади сечения сила тока увеличив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1/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рода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бираем схему 3, сперва нихромовую проволоку (клеммы 1, 2) подключить к источнику тока и амперметру, затем стальную проволоку  (клеммы 5, 6) подключить к источнику тока и амперметру. Наблюдать изменение силы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ла тока при подключении нихромовой проволоки больше, чем при подключении стальной (железной) проволо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таблице сравниваем удельные сопротивления этих вещ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↑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~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~ 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ельное электрическое сопротивление некоторых веществ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= 2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186"/>
              <p:cNvSpPr txBox="1"/>
              <p:nvPr/>
            </p:nvSpPr>
            <p:spPr>
              <a:xfrm>
                <a:off x="3059280" y="765000"/>
                <a:ext cx="6476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мм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641680"/>
                <a:gridCol w="1231920"/>
                <a:gridCol w="3143160"/>
                <a:gridCol w="12128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антан (сплав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ту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юми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хром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ф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хрель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ез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фо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елин (спла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бони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зависит от длины проводника, чем больше длина проводника тем  больше его сопроти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площади поперечного сечения: чем меньше площадь сечения проводника, тем больше сопротивле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Сопротивление проводника зависит от рода вещества (материала), из которого он изготовлен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выражение позволяет вычислять длину проводника, поперечное сечение и удельное сопротивление прово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4788000" y="2565360"/>
                <a:ext cx="15793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6"/>
              <p:cNvSpPr txBox="1"/>
              <p:nvPr/>
            </p:nvSpPr>
            <p:spPr>
              <a:xfrm>
                <a:off x="3348000" y="5300640"/>
                <a:ext cx="158436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8"/>
              <p:cNvSpPr txBox="1"/>
              <p:nvPr/>
            </p:nvSpPr>
            <p:spPr>
              <a:xfrm>
                <a:off x="1187280" y="5373720"/>
                <a:ext cx="150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5796000" y="5300640"/>
                <a:ext cx="15764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Picture 11" descr="Картинка 2 из 16152"/>
          <p:cNvPicPr/>
          <p:nvPr/>
        </p:nvPicPr>
        <p:blipFill>
          <a:blip r:embed="rId1"/>
          <a:stretch/>
        </p:blipFill>
        <p:spPr>
          <a:xfrm>
            <a:off x="250920" y="189000"/>
            <a:ext cx="251136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2843280" y="189000"/>
            <a:ext cx="61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висимость сопротивления от геометрических размеров проводника (длины и площади поперечного сечения) и вещества, из которого он изготовлен, впервые установил Георг 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Последовательное соеди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оследовательном соединении трех проводников, сопротивление увеличивается, так как длина проводника увеличивается 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↑ ~ R 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1908000" y="2997360"/>
            <a:ext cx="52390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параллельном соединении площадь сечения проводника увеличивается, сопротивление будет уменьшаться (при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↓ ~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05800" cy="27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ите сопротивление телеграфного провода между Южно-Сахалинском и Томари, если расстояние между городами 1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м, а провода сделаны из железной проволоки площадью поперечного сечения 12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считайте сопротивление медного контактного провода, подвешенного для питания трамвайного двигателя, если длина провода равна 5 км, а площадь поперечного сечения - 0,65 с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кой длины надо взять медную проволоку площадью поперечного сечения 0,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, чтобы сопротивление ее было равно 34 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числите, каким сопротивлением обладает нихромовый проводник длиной 5 м и площадью поперечного сечения 0,75 м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Задачи уро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буче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ормировать навыки работы с приборами, умение решать расчетные, экспериментальные задачи. Установить зависимость сопротивления проводника от его длины, площади поперечного сечения и вещества, из которого он изготовл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оспит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оспитание мировоззренческих понятий; познаваемость окружающего мира; этики работы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развит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азвивать элементы творческого поиска на основе приема обобщения знаний, умение анализировать, наблюдать, собирать электрические цепи, чертить схемы, развивать навыки практической работы, интерес к предмету путём выполнения разных заданий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но:                      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м            Сопротивление провод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12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вычислим по формул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0,1 Ом м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 = 0,1* 18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1,5 кОм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03640" y="177336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539640" y="37893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>
            <a:off x="1476360" y="3284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2" descr=""/>
          <p:cNvPicPr/>
          <p:nvPr/>
        </p:nvPicPr>
        <p:blipFill>
          <a:blip r:embed="rId1"/>
          <a:stretch/>
        </p:blipFill>
        <p:spPr>
          <a:xfrm>
            <a:off x="3924360" y="2852640"/>
            <a:ext cx="136836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66"/>
                </a:solidFill>
                <a:latin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Что узнали новое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Какой метод понравился для вас больше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Если некоторые приборов у нас отсутствуют под рукой, то вы должны уметь пользоваться другими мето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</a:rPr>
              <a:t>Понравился ур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45,  46, упражнение 20, № 2 (а), 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26920" y="1484280"/>
          <a:ext cx="7931160" cy="4645080"/>
        </p:xfrm>
        <a:graphic>
          <a:graphicData uri="http://schemas.openxmlformats.org/drawingml/2006/table">
            <a:tbl>
              <a:tblPr/>
              <a:tblGrid>
                <a:gridCol w="1322640"/>
                <a:gridCol w="1320840"/>
                <a:gridCol w="1322280"/>
                <a:gridCol w="1322280"/>
                <a:gridCol w="1320840"/>
                <a:gridCol w="1322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fc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09" name="Object 56"/>
              <p:cNvSpPr txBox="1"/>
              <p:nvPr/>
            </p:nvSpPr>
            <p:spPr>
              <a:xfrm>
                <a:off x="2627280" y="1989000"/>
                <a:ext cx="343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U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7"/>
              <p:cNvSpPr txBox="1"/>
              <p:nvPr/>
            </p:nvSpPr>
            <p:spPr>
              <a:xfrm>
                <a:off x="3924360" y="1989000"/>
                <a:ext cx="257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8"/>
              <p:cNvSpPr txBox="1"/>
              <p:nvPr/>
            </p:nvSpPr>
            <p:spPr>
              <a:xfrm>
                <a:off x="7956720" y="1989000"/>
                <a:ext cx="2602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9"/>
              <p:cNvSpPr txBox="1"/>
              <p:nvPr/>
            </p:nvSpPr>
            <p:spPr>
              <a:xfrm>
                <a:off x="6516720" y="1989000"/>
                <a:ext cx="5032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S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Rectangle 60"/>
          <p:cNvSpPr/>
          <p:nvPr/>
        </p:nvSpPr>
        <p:spPr>
          <a:xfrm>
            <a:off x="179280" y="475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 таблице зашифровано слово. На пересечении соответствующей величины и расчетной формулы стоит нужная буква. Прочитать сло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овторение закона Ома для участка цеп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улируйте закон Ома для участка цеп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ычислить напряжение, используя закон Ома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против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ова единица сопротив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ком случае сопротивление проводника имеет значение 1 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, что является причиной сопротивления провод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Применяя закон Ома для участка цепи, заполните таблицу. Заполни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700280"/>
          <a:ext cx="8229600" cy="4525920"/>
        </p:xfrm>
        <a:graphic>
          <a:graphicData uri="http://schemas.openxmlformats.org/drawingml/2006/table">
            <a:tbl>
              <a:tblPr/>
              <a:tblGrid>
                <a:gridCol w="1019160"/>
                <a:gridCol w="1727280"/>
                <a:gridCol w="2089080"/>
                <a:gridCol w="1747800"/>
                <a:gridCol w="1646280"/>
              </a:tblGrid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  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2  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  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20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               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1001"/>
                        </a:spcBef>
                        <a:buClr>
                          <a:srgbClr val="000000"/>
                        </a:buClr>
                        <a:buFont typeface="Arial"/>
                        <a:buAutoNum type="arabicPlain" startAt="5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i="1" lang="ru-RU" sz="2000" spc="-1" strike="noStrike">
                <a:solidFill>
                  <a:srgbClr val="006600"/>
                </a:solidFill>
                <a:latin typeface="Times New Roman"/>
              </a:rPr>
              <a:t>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Наука начинается с тех пор, как начинают измерять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                                                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Точная наука немыслима без м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.И.Менделе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Цель урока: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учить учащихся измерять сопротивления проводников; получить соотношение между сопротивлением проводника, его длиной, площадью поперечного сечения и удельным сопротив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Оборудование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источник тока, амперметр, вольтметр, линейка, штангенциркуль, ключ, авомметр, исследуемые проводники,   соединительные провода, компьютер, интерактивная доска, проект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Методы измерения сопротивления провод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Авоммет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40072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2. Метод вольтметра и амперме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3. Метод измерения геометрических размер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Times New Roman"/>
              </a:rPr>
              <a:t>Вопрос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ие вещества являются хорошими проводниками электрического 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Вопрос 2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ие из проводников лучше проводят электрический 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От чего зависит сопротивление провод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can10032"/>
          <p:cNvPicPr/>
          <p:nvPr/>
        </p:nvPicPr>
        <p:blipFill>
          <a:blip r:embed="rId1"/>
          <a:stretch/>
        </p:blipFill>
        <p:spPr>
          <a:xfrm>
            <a:off x="395280" y="1557360"/>
            <a:ext cx="8028000" cy="332424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2555640" y="2060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5003640" y="206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2556000" y="2060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556000" y="3573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3635280" y="3357720"/>
            <a:ext cx="505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>
            <a:off x="3564000" y="3573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1"/>
          <p:cNvSpPr/>
          <p:nvPr/>
        </p:nvSpPr>
        <p:spPr>
          <a:xfrm>
            <a:off x="3492360" y="357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>
            <a:off x="4140360" y="3573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3"/>
          <p:cNvSpPr/>
          <p:nvPr/>
        </p:nvSpPr>
        <p:spPr>
          <a:xfrm>
            <a:off x="5580000" y="2060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3780000" y="350028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Задание 1.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ависимость сопротивления проводника от длины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бираем схему 3, нихромовую проволоку  (клеммы 1, 2) подключить к источнику тока и амперметру. Меняя длину проводника наблюдать изменение силы то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Times New Roman"/>
              </a:rPr>
              <a:t>Вывод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уменьшении длины нихромовой проволоки сила тока увеличивается, при увеличении длины сила тока уменьшает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 ~ I ↑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~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8:24:31Z</dcterms:created>
  <dc:creator>Рая</dc:creator>
  <dc:description/>
  <dc:language>en-US</dc:language>
  <cp:lastModifiedBy>Admin</cp:lastModifiedBy>
  <dcterms:modified xsi:type="dcterms:W3CDTF">2012-04-01T05:54:37Z</dcterms:modified>
  <cp:revision>64</cp:revision>
  <dc:subject/>
  <dc:title>Найди ошибку</dc:title>
</cp:coreProperties>
</file>