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wmf" ContentType="image/x-wmf"/>
  <Override PartName="/ppt/media/image17.png" ContentType="image/png"/>
  <Override PartName="/ppt/media/image15.wmf" ContentType="image/x-wmf"/>
  <Override PartName="/ppt/media/image1.png" ContentType="image/png"/>
  <Override PartName="/ppt/media/image9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media/image16.wmf" ContentType="image/x-wmf"/>
  <Override PartName="/ppt/media/image5.gif" ContentType="image/gif"/>
  <Override PartName="/ppt/media/image7.wmf" ContentType="image/x-wmf"/>
  <Override PartName="/ppt/media/image4.jpeg" ContentType="image/jpe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0D0-2E65-4A28-B1D4-B57090BB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FFB-D935-439E-B9AF-471DC617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C38-F5AE-4BCF-AD65-0DC5C631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E11-66B2-4821-83DA-0DFB4F11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A66-D9B6-4E1C-A767-4E701B51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6AF-2670-4959-A59D-1B37B913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563-72AA-40B6-97D8-B0DF4499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18E-4FF1-4D3C-99C3-95622E15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1CD-9A51-423E-9F6A-2EECDFF2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C1A-2290-4205-822A-07BDF964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525-E708-4CE3-B878-7193FA3B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68B-479E-49C8-8B7A-F9E872EA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04F7-5136-45CD-AA41-2A765AE32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1430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cript MT Bold"/>
              </a:rPr>
              <a:t>Уроки физик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133720"/>
            <a:ext cx="685800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влени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ристаллиз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 flipV="1">
            <a:off x="838080" y="45720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533520" y="2895480"/>
            <a:ext cx="4267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838080" y="114300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981080" y="22860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505320" y="2286000"/>
            <a:ext cx="115236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10"/>
          <p:cNvGraphicFramePr/>
          <p:nvPr/>
        </p:nvGraphicFramePr>
        <p:xfrm>
          <a:off x="152280" y="2286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"/>
          <p:cNvGraphicFramePr/>
          <p:nvPr/>
        </p:nvGraphicFramePr>
        <p:xfrm>
          <a:off x="4038480" y="2514600"/>
          <a:ext cx="757440" cy="3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7574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14"/>
          <p:cNvSpPr/>
          <p:nvPr/>
        </p:nvSpPr>
        <p:spPr>
          <a:xfrm>
            <a:off x="1909080" y="1981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 rot="2783400">
            <a:off x="2985120" y="2654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1600200" y="457200"/>
          <a:ext cx="266688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57200"/>
                    <a:ext cx="2666880" cy="806400"/>
                  </a:xfrm>
                  <a:prstGeom prst="rect">
                    <a:avLst/>
                  </a:prstGeom>
                  <a:ln w="1908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457200" y="31240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0"/>
          <p:cNvGraphicFramePr/>
          <p:nvPr/>
        </p:nvGraphicFramePr>
        <p:xfrm>
          <a:off x="380880" y="685800"/>
          <a:ext cx="282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68580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21"/>
          <p:cNvSpPr/>
          <p:nvPr/>
        </p:nvSpPr>
        <p:spPr>
          <a:xfrm>
            <a:off x="685800" y="114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8580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62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2134080" y="15238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2200" y="342900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9907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29528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16765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286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2666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3048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35053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38862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2670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>
            <a:off x="1523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905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1143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876920" y="380880"/>
            <a:ext cx="403848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охлаждении уменьшается температура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движения частиц 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меньшается внутренняя энергия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охлаждается до температуры плавления, кристаллическая решетка начинает восстанавлив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отвердевании (кристаллизации), равно количеству теплоты, поглощённому при пла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04920" y="3962520"/>
            <a:ext cx="8624880" cy="947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отвердевает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отвердевани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 rot="2783400">
            <a:off x="623160" y="1207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755640" y="2205000"/>
            <a:ext cx="0" cy="316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539640" y="4510080"/>
            <a:ext cx="792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755640" y="3718080"/>
            <a:ext cx="115236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1908000" y="37180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3348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356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5364000" y="3718080"/>
            <a:ext cx="187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7236000" y="3718080"/>
            <a:ext cx="1152360" cy="122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0"/>
          <p:cNvGraphicFramePr/>
          <p:nvPr/>
        </p:nvGraphicFramePr>
        <p:xfrm>
          <a:off x="57240" y="2147760"/>
          <a:ext cx="627120" cy="3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147760"/>
                    <a:ext cx="627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1"/>
          <p:cNvGraphicFramePr/>
          <p:nvPr/>
        </p:nvGraphicFramePr>
        <p:xfrm>
          <a:off x="8278920" y="458136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8920" y="458136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2"/>
          <p:cNvSpPr/>
          <p:nvPr/>
        </p:nvSpPr>
        <p:spPr>
          <a:xfrm>
            <a:off x="1982160" y="3357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 rot="18687000">
            <a:off x="775800" y="4348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439600" y="3357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 rot="2783400">
            <a:off x="7000200" y="4315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6"/>
          <p:cNvGraphicFramePr/>
          <p:nvPr/>
        </p:nvGraphicFramePr>
        <p:xfrm>
          <a:off x="1979640" y="2925720"/>
          <a:ext cx="1368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2925720"/>
                    <a:ext cx="1368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7"/>
          <p:cNvGraphicFramePr/>
          <p:nvPr/>
        </p:nvGraphicFramePr>
        <p:xfrm>
          <a:off x="5477040" y="2952720"/>
          <a:ext cx="1576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2952720"/>
                    <a:ext cx="15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8"/>
          <p:cNvGraphicFramePr/>
          <p:nvPr/>
        </p:nvGraphicFramePr>
        <p:xfrm>
          <a:off x="430200" y="4726080"/>
          <a:ext cx="254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200" y="4726080"/>
                    <a:ext cx="254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9"/>
          <p:cNvGraphicFramePr/>
          <p:nvPr/>
        </p:nvGraphicFramePr>
        <p:xfrm>
          <a:off x="395280" y="3429000"/>
          <a:ext cx="309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3429000"/>
                    <a:ext cx="30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0"/>
          <p:cNvGraphicFramePr/>
          <p:nvPr/>
        </p:nvGraphicFramePr>
        <p:xfrm>
          <a:off x="395280" y="2276640"/>
          <a:ext cx="282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227664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21"/>
          <p:cNvSpPr/>
          <p:nvPr/>
        </p:nvSpPr>
        <p:spPr>
          <a:xfrm>
            <a:off x="68436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843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1290960" y="264312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581080" y="2643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358720" y="449568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129528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16765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9907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80880" y="457200"/>
            <a:ext cx="8458200" cy="137160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раф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вления и кристал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495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532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56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220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920" y="37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3276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2960" y="4800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2960" y="510552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изменялась внутренняя энергия ве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и характер движения и взаимодействия молеку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 каждом участке граф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</a:rPr>
              <a:t>Запомни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плавлении происходит разрушение кристаллической решётки. Расстояние между частицами вещества увеличивается. Соответственно увеличивается потенциальная энергия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отвердевании вещества происходит образование кристаллической решетки, потенциальная энергия частиц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269" name="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12 – 15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ать, отвечать на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пр.8 № 1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733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Желаю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7650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грегатные состояния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292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716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жидкость"/>
          <p:cNvPicPr/>
          <p:nvPr/>
        </p:nvPicPr>
        <p:blipFill>
          <a:blip r:embed="rId1"/>
          <a:stretch/>
        </p:blipFill>
        <p:spPr>
          <a:xfrm>
            <a:off x="5334120" y="1752480"/>
            <a:ext cx="2971800" cy="194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16200000">
            <a:off x="4074840" y="2096640"/>
            <a:ext cx="1009800" cy="1234800"/>
          </a:xfrm>
          <a:prstGeom prst="downArrow">
            <a:avLst>
              <a:gd name="adj1" fmla="val 50000"/>
              <a:gd name="adj2" fmla="val 30570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твердое тело1"/>
          <p:cNvPicPr/>
          <p:nvPr/>
        </p:nvPicPr>
        <p:blipFill>
          <a:blip r:embed="rId2"/>
          <a:srcRect l="4725" t="7559" r="4725" b="4535"/>
          <a:stretch/>
        </p:blipFill>
        <p:spPr>
          <a:xfrm>
            <a:off x="762120" y="1752480"/>
            <a:ext cx="298116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486400" y="2057400"/>
            <a:ext cx="266688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52480" y="2362320"/>
            <a:ext cx="1152720" cy="148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5600" y="2209680"/>
            <a:ext cx="2478960" cy="7038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12"/>
          <p:cNvSpPr/>
          <p:nvPr/>
        </p:nvSpPr>
        <p:spPr>
          <a:xfrm>
            <a:off x="152640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 rot="17795400">
            <a:off x="587160" y="2769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143360" y="12952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114800" y="380880"/>
            <a:ext cx="47242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нагревании  увеличивается  температур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колебания частиц 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величивается внутренняя энергия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нагревается до температуры плавления, кристаллическая решетка начинает разруш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5.  Энергия нагревателя идет на разрушение решетки крис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04920" y="4343400"/>
            <a:ext cx="8624880" cy="947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плавится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плавления веществ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04920" y="5410080"/>
            <a:ext cx="8624880" cy="947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ждое вещество имеет собственную температуру плавления  (стр.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 rot="17795400">
            <a:off x="2720880" y="13975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На рисунке показан график изменения температуры некоторого вещества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3768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4953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1814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6200" y="533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акие вещества изображены на рису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2"/>
          <p:cNvSpPr/>
          <p:nvPr/>
        </p:nvSpPr>
        <p:spPr>
          <a:xfrm>
            <a:off x="145044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rot="17795400">
            <a:off x="587160" y="28454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1219320" y="533520"/>
          <a:ext cx="205740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520"/>
                    <a:ext cx="2057400" cy="715680"/>
                  </a:xfrm>
                  <a:prstGeom prst="rect">
                    <a:avLst/>
                  </a:prstGeom>
                  <a:ln w="255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114800" y="380880"/>
            <a:ext cx="4724280" cy="5700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ая величина, показывающая какое количество тепл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для превращения 1 кг кристаллического 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зятого при температуре плавления, в жидкость той же температуры, назыв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удельной теплотой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стр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143360" y="137160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880" y="4191120"/>
            <a:ext cx="3581640" cy="19227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5040" y="44197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озна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207520" y="41911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«ламб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55040" y="518148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диница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1"/>
          <p:cNvGraphicFramePr/>
          <p:nvPr/>
        </p:nvGraphicFramePr>
        <p:xfrm>
          <a:off x="2971800" y="5029200"/>
          <a:ext cx="665280" cy="79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5029200"/>
                    <a:ext cx="665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На рисунке изображены графики зависимости изменения температуры от времени двух тел одинаковой массы.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из этих тел выше температура плавления?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тела больше удельная теплота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47920" y="22096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4100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191120"/>
            <a:ext cx="1981080" cy="121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19112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2590560"/>
            <a:ext cx="182880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047760"/>
            <a:ext cx="2590560" cy="2361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0481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213372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8760" y="50292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276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9360" y="228600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1"/>
          <p:cNvSpPr/>
          <p:nvPr/>
        </p:nvSpPr>
        <p:spPr>
          <a:xfrm rot="16200000">
            <a:off x="3993120" y="1797120"/>
            <a:ext cx="1081080" cy="1447920"/>
          </a:xfrm>
          <a:prstGeom prst="downArrow">
            <a:avLst>
              <a:gd name="adj1" fmla="val 50000"/>
              <a:gd name="adj2" fmla="val 33483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743200" cy="183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твердое тело1"/>
          <p:cNvPicPr/>
          <p:nvPr/>
        </p:nvPicPr>
        <p:blipFill>
          <a:blip r:embed="rId2"/>
          <a:srcRect l="4725" t="7559" r="5669" b="6047"/>
          <a:stretch/>
        </p:blipFill>
        <p:spPr>
          <a:xfrm>
            <a:off x="5562720" y="1752480"/>
            <a:ext cx="2819160" cy="1832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066680" y="2209680"/>
            <a:ext cx="2233800" cy="5032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5638680" y="1981080"/>
            <a:ext cx="266724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Sergey</cp:lastModifiedBy>
  <dcterms:modified xsi:type="dcterms:W3CDTF">2012-02-20T14:58:06Z</dcterms:modified>
  <cp:revision>43</cp:revision>
  <dc:subject>Плавление и кристаллизация</dc:subject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