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7.png" ContentType="image/png"/>
  <Override PartName="/ppt/media/image15.wmf" ContentType="image/x-wmf"/>
  <Override PartName="/ppt/media/image1.png" ContentType="image/png"/>
  <Override PartName="/ppt/media/image9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6.wmf" ContentType="image/x-wmf"/>
  <Override PartName="/ppt/media/image5.gif" ContentType="image/gif"/>
  <Override PartName="/ppt/media/image7.wmf" ContentType="image/x-wmf"/>
  <Override PartName="/ppt/media/image4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B43-B117-48F7-BFFF-E331CF31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E80-CFF3-4760-BA02-E9E52955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2B8-3D88-4C8F-BDFA-76C54FCA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859-7CBB-43BE-9CBC-7290E446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787-03BF-4ABB-8AF7-9ECC393C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0A1-8068-4086-B93F-9DF8030A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BED-E900-47B1-9A4D-415B0DB7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EF7-5DC3-4A82-9725-4E9BBDE3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834-62F4-4A29-B00F-B7B78265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B12-7FCB-47DB-82D7-35416E44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823-5CF8-4493-AD3F-0B637525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2B2-8171-47D9-960D-E180E23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151F-18AB-440B-A570-A56F88588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143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cript MT Bold"/>
              </a:rPr>
              <a:t>Уроки физик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133720"/>
            <a:ext cx="685800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лени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ристаллиз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 flipV="1">
            <a:off x="838080" y="45720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533520" y="2895480"/>
            <a:ext cx="4267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838080" y="114300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505320" y="2286000"/>
            <a:ext cx="1152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0"/>
          <p:cNvGraphicFramePr/>
          <p:nvPr/>
        </p:nvGraphicFramePr>
        <p:xfrm>
          <a:off x="152280" y="2286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"/>
          <p:cNvGraphicFramePr/>
          <p:nvPr/>
        </p:nvGraphicFramePr>
        <p:xfrm>
          <a:off x="4038480" y="2514600"/>
          <a:ext cx="757440" cy="3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757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4"/>
          <p:cNvSpPr/>
          <p:nvPr/>
        </p:nvSpPr>
        <p:spPr>
          <a:xfrm>
            <a:off x="1909080" y="1981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 rot="2783400">
            <a:off x="2985120" y="265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1600200" y="457200"/>
          <a:ext cx="266688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57200"/>
                    <a:ext cx="2666880" cy="806400"/>
                  </a:xfrm>
                  <a:prstGeom prst="rect">
                    <a:avLst/>
                  </a:prstGeom>
                  <a:ln w="1908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57200" y="31240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0"/>
          <p:cNvGraphicFramePr/>
          <p:nvPr/>
        </p:nvGraphicFramePr>
        <p:xfrm>
          <a:off x="380880" y="685800"/>
          <a:ext cx="282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68580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1"/>
          <p:cNvSpPr/>
          <p:nvPr/>
        </p:nvSpPr>
        <p:spPr>
          <a:xfrm>
            <a:off x="685800" y="114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8580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62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134080" y="15238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2200" y="342900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9907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29528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16765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286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2666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3048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35053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8862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2670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1523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905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1143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876920" y="380880"/>
            <a:ext cx="403848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охлаждении уменьшается температура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движения частиц 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меньшается внутренняя энергия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охлаждается до температуры плавления, кристаллическая решетка начинает восстанавлив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отвердевании (кристаллизации), равно количеству теплоты, поглощённому при пла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4920" y="3962520"/>
            <a:ext cx="8624880" cy="947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отвердевает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отвердева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 rot="2783400">
            <a:off x="623160" y="1207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0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1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2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7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8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9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0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21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290960" y="264312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581080" y="2643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358720" y="449568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129528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16765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9907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80880" y="457200"/>
            <a:ext cx="8458200" cy="137160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раф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вления и кристал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495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532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5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920" y="37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2960" y="4800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2960" y="510552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изменялась внутренняя энергия ве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и характер движения и взаимодействия молеку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 каждом участке граф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Запомн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плавлении происходит разрушение кристаллической решётки. Расстояние между частицами вещества увеличивается. Соответственно увеличивается потенциальная энергия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отвердевании вещества происходит образование кристаллической решетки, потенциальная энергия частиц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269" name="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2 – 1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ать, отвечать на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пр.8 № 1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733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Желаю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7650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грегатные состояния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292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716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жидкость"/>
          <p:cNvPicPr/>
          <p:nvPr/>
        </p:nvPicPr>
        <p:blipFill>
          <a:blip r:embed="rId1"/>
          <a:stretch/>
        </p:blipFill>
        <p:spPr>
          <a:xfrm>
            <a:off x="5334120" y="1752480"/>
            <a:ext cx="2971800" cy="194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4074840" y="2096640"/>
            <a:ext cx="1009800" cy="1234800"/>
          </a:xfrm>
          <a:prstGeom prst="downArrow">
            <a:avLst>
              <a:gd name="adj1" fmla="val 50000"/>
              <a:gd name="adj2" fmla="val 3057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твердое тело1"/>
          <p:cNvPicPr/>
          <p:nvPr/>
        </p:nvPicPr>
        <p:blipFill>
          <a:blip r:embed="rId2"/>
          <a:srcRect l="4725" t="7559" r="4725" b="4535"/>
          <a:stretch/>
        </p:blipFill>
        <p:spPr>
          <a:xfrm>
            <a:off x="762120" y="1752480"/>
            <a:ext cx="298116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486400" y="2057400"/>
            <a:ext cx="266688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52480" y="2362320"/>
            <a:ext cx="1152720" cy="148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5600" y="2209680"/>
            <a:ext cx="2478960" cy="7038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2"/>
          <p:cNvSpPr/>
          <p:nvPr/>
        </p:nvSpPr>
        <p:spPr>
          <a:xfrm>
            <a:off x="152640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 rot="17795400">
            <a:off x="587160" y="2769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143360" y="12952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114800" y="380880"/>
            <a:ext cx="47242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нагревании  увеличивается  температур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колебания частиц 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величивается внутренняя энергия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нагревается до температуры плавления, кристаллическая решетка начинает разруш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5.  Энергия нагревателя идет на разрушение решетки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04920" y="4343400"/>
            <a:ext cx="8624880" cy="947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плавится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плавления веществ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04920" y="5410080"/>
            <a:ext cx="8624880" cy="947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ждое вещество имеет собственную температуру плавления  (стр.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 rot="17795400">
            <a:off x="2720880" y="1397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На рисунке показан график изменения температуры некоторого вещества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3768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4953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1814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6200" y="533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акие вещества изображены на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2"/>
          <p:cNvSpPr/>
          <p:nvPr/>
        </p:nvSpPr>
        <p:spPr>
          <a:xfrm>
            <a:off x="145044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rot="17795400">
            <a:off x="587160" y="28454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1219320" y="533520"/>
          <a:ext cx="2057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520"/>
                    <a:ext cx="2057400" cy="71568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14800" y="380880"/>
            <a:ext cx="4724280" cy="5700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я величина, показывающая какое количество тепл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для превращения 1 кг кристаллического 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зятого при температуре плавления, в жидкость той же температуры,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дельной теплотой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тр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143360" y="137160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880" y="4191120"/>
            <a:ext cx="3581640" cy="192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5040" y="44197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о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207520" y="41911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«ламб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55040" y="51814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диница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1"/>
          <p:cNvGraphicFramePr/>
          <p:nvPr/>
        </p:nvGraphicFramePr>
        <p:xfrm>
          <a:off x="2971800" y="5029200"/>
          <a:ext cx="66528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029200"/>
                    <a:ext cx="665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На рисунке изображены графики зависимости изменения температуры от времени двух тел одинаковой массы.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из этих тел выше температура плавления?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тела больше удельная теплота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22096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191120"/>
            <a:ext cx="198108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1911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2590560"/>
            <a:ext cx="182880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047760"/>
            <a:ext cx="2590560" cy="2361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048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213372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8760" y="50292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228600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1"/>
          <p:cNvSpPr/>
          <p:nvPr/>
        </p:nvSpPr>
        <p:spPr>
          <a:xfrm rot="16200000">
            <a:off x="3993120" y="1797120"/>
            <a:ext cx="1081080" cy="1447920"/>
          </a:xfrm>
          <a:prstGeom prst="downArrow">
            <a:avLst>
              <a:gd name="adj1" fmla="val 50000"/>
              <a:gd name="adj2" fmla="val 33483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743200" cy="18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твердое тело1"/>
          <p:cNvPicPr/>
          <p:nvPr/>
        </p:nvPicPr>
        <p:blipFill>
          <a:blip r:embed="rId2"/>
          <a:srcRect l="4725" t="7559" r="5669" b="6047"/>
          <a:stretch/>
        </p:blipFill>
        <p:spPr>
          <a:xfrm>
            <a:off x="5562720" y="1752480"/>
            <a:ext cx="2819160" cy="1832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066680" y="2209680"/>
            <a:ext cx="2233800" cy="503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638680" y="1981080"/>
            <a:ext cx="266724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Sergey</cp:lastModifiedBy>
  <dcterms:modified xsi:type="dcterms:W3CDTF">2012-02-20T14:58:06Z</dcterms:modified>
  <cp:revision>43</cp:revision>
  <dc:subject>Плавление и кристаллизация</dc:subject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