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wmf" ContentType="image/x-wmf"/>
  <Override PartName="/ppt/media/image17.png" ContentType="image/png"/>
  <Override PartName="/ppt/media/image15.wmf" ContentType="image/x-wmf"/>
  <Override PartName="/ppt/media/image1.png" ContentType="image/png"/>
  <Override PartName="/ppt/media/image9.wmf" ContentType="image/x-wmf"/>
  <Override PartName="/ppt/media/image14.wmf" ContentType="image/x-wmf"/>
  <Override PartName="/ppt/media/image3.gif" ContentType="image/gif"/>
  <Override PartName="/ppt/media/image11.png" ContentType="image/png"/>
  <Override PartName="/ppt/media/image6.wmf" ContentType="image/x-wmf"/>
  <Override PartName="/ppt/media/image16.wmf" ContentType="image/x-wmf"/>
  <Override PartName="/ppt/media/image5.gif" ContentType="image/gif"/>
  <Override PartName="/ppt/media/image7.wmf" ContentType="image/x-wmf"/>
  <Override PartName="/ppt/media/image4.jpeg" ContentType="image/jpeg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2C4-A1E0-4821-AC2B-C4DF8A75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EBD-1693-43C8-855E-F25C01F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6D4-4580-4232-9A0F-62E71D39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220-BDB2-44F6-9EEB-9265A8C2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417-C9E4-4BE1-B50B-121BEAF8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A56-C247-4AD0-8C7D-09743E9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43A-CE04-4036-B1DF-AC14594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CF1-27E2-48EF-AA7A-7B3E19BD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F23-950E-4D55-B03C-4A45DC8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2A7-FA52-47D2-937D-EA9BDD5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722-6D82-4A91-AB42-091A284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8B4-113D-4E9B-89CC-F76D36EE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F476-48C1-46A0-980A-24293F2A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14300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cript MT Bold"/>
              </a:rPr>
              <a:t>Уроки физики в 8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2133720"/>
            <a:ext cx="685800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влени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кристаллизац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2"/>
          <p:cNvSpPr/>
          <p:nvPr/>
        </p:nvSpPr>
        <p:spPr>
          <a:xfrm flipV="1">
            <a:off x="838080" y="457200"/>
            <a:ext cx="0" cy="3276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"/>
          <p:cNvSpPr/>
          <p:nvPr/>
        </p:nvSpPr>
        <p:spPr>
          <a:xfrm>
            <a:off x="533520" y="2895480"/>
            <a:ext cx="42670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838080" y="1143000"/>
            <a:ext cx="1143000" cy="1143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981080" y="2286000"/>
            <a:ext cx="1524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505320" y="2286000"/>
            <a:ext cx="115236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10"/>
          <p:cNvGraphicFramePr/>
          <p:nvPr/>
        </p:nvGraphicFramePr>
        <p:xfrm>
          <a:off x="152280" y="2286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1"/>
          <p:cNvGraphicFramePr/>
          <p:nvPr/>
        </p:nvGraphicFramePr>
        <p:xfrm>
          <a:off x="4038480" y="2514600"/>
          <a:ext cx="757440" cy="3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7574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14"/>
          <p:cNvSpPr/>
          <p:nvPr/>
        </p:nvSpPr>
        <p:spPr>
          <a:xfrm>
            <a:off x="1909080" y="1981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 rot="2783400">
            <a:off x="2985120" y="26546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7"/>
          <p:cNvGraphicFramePr/>
          <p:nvPr/>
        </p:nvGraphicFramePr>
        <p:xfrm>
          <a:off x="1600200" y="457200"/>
          <a:ext cx="2666880" cy="80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57200"/>
                    <a:ext cx="2666880" cy="806400"/>
                  </a:xfrm>
                  <a:prstGeom prst="rect">
                    <a:avLst/>
                  </a:prstGeom>
                  <a:ln w="1908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Object 18"/>
          <p:cNvGraphicFramePr/>
          <p:nvPr/>
        </p:nvGraphicFramePr>
        <p:xfrm>
          <a:off x="457200" y="31240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20"/>
          <p:cNvGraphicFramePr/>
          <p:nvPr/>
        </p:nvGraphicFramePr>
        <p:xfrm>
          <a:off x="380880" y="685800"/>
          <a:ext cx="282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5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68580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21"/>
          <p:cNvSpPr/>
          <p:nvPr/>
        </p:nvSpPr>
        <p:spPr>
          <a:xfrm>
            <a:off x="685800" y="114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8580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762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2134080" y="152388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2200" y="342900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9907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1295280" y="2286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2"/>
          <p:cNvSpPr/>
          <p:nvPr/>
        </p:nvSpPr>
        <p:spPr>
          <a:xfrm>
            <a:off x="1676520" y="2286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286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3"/>
          <p:cNvSpPr/>
          <p:nvPr/>
        </p:nvSpPr>
        <p:spPr>
          <a:xfrm>
            <a:off x="2666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3"/>
          <p:cNvSpPr/>
          <p:nvPr/>
        </p:nvSpPr>
        <p:spPr>
          <a:xfrm>
            <a:off x="3048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>
            <a:off x="35053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38862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42670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3"/>
          <p:cNvSpPr/>
          <p:nvPr/>
        </p:nvSpPr>
        <p:spPr>
          <a:xfrm>
            <a:off x="152388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1905120" y="35053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1143000" y="3505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876920" y="380880"/>
            <a:ext cx="403848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охлаждении уменьшается температура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движения частиц 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меньшается внутренняя энергия жид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охлаждается до температуры плавления, кристаллическая решетка начинает восстанавлив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5105520"/>
            <a:ext cx="8610480" cy="1373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личество теплоты, выделяющееся при отвердевании (кристаллизации), равно количеству теплоты, поглощённому при плавл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04920" y="3962520"/>
            <a:ext cx="8624880" cy="9471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отвердевает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отвердевани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 rot="2783400">
            <a:off x="623160" y="12070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755640" y="2205000"/>
            <a:ext cx="0" cy="316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539640" y="4510080"/>
            <a:ext cx="79200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755640" y="3718080"/>
            <a:ext cx="115236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1908000" y="37180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3348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4356000" y="2565360"/>
            <a:ext cx="10080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5364000" y="3718080"/>
            <a:ext cx="187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7236000" y="3718080"/>
            <a:ext cx="1152360" cy="1223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0"/>
          <p:cNvGraphicFramePr/>
          <p:nvPr/>
        </p:nvGraphicFramePr>
        <p:xfrm>
          <a:off x="57240" y="2147760"/>
          <a:ext cx="627120" cy="3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2147760"/>
                    <a:ext cx="627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1"/>
          <p:cNvGraphicFramePr/>
          <p:nvPr/>
        </p:nvGraphicFramePr>
        <p:xfrm>
          <a:off x="8278920" y="458136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8920" y="458136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12"/>
          <p:cNvSpPr/>
          <p:nvPr/>
        </p:nvSpPr>
        <p:spPr>
          <a:xfrm>
            <a:off x="1982160" y="335772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 rot="18687000">
            <a:off x="775800" y="43488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439600" y="335772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д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 rot="2783400">
            <a:off x="7000200" y="4315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л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6"/>
          <p:cNvGraphicFramePr/>
          <p:nvPr/>
        </p:nvGraphicFramePr>
        <p:xfrm>
          <a:off x="1979640" y="2925720"/>
          <a:ext cx="136836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2925720"/>
                    <a:ext cx="1368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7"/>
          <p:cNvGraphicFramePr/>
          <p:nvPr/>
        </p:nvGraphicFramePr>
        <p:xfrm>
          <a:off x="5477040" y="2952720"/>
          <a:ext cx="157608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7040" y="2952720"/>
                    <a:ext cx="15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8"/>
          <p:cNvGraphicFramePr/>
          <p:nvPr/>
        </p:nvGraphicFramePr>
        <p:xfrm>
          <a:off x="430200" y="4726080"/>
          <a:ext cx="254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200" y="4726080"/>
                    <a:ext cx="254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9"/>
          <p:cNvGraphicFramePr/>
          <p:nvPr/>
        </p:nvGraphicFramePr>
        <p:xfrm>
          <a:off x="395280" y="3429000"/>
          <a:ext cx="3096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3429000"/>
                    <a:ext cx="309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0"/>
          <p:cNvGraphicFramePr/>
          <p:nvPr/>
        </p:nvGraphicFramePr>
        <p:xfrm>
          <a:off x="395280" y="2276640"/>
          <a:ext cx="282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2276640"/>
                    <a:ext cx="282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Line 21"/>
          <p:cNvSpPr/>
          <p:nvPr/>
        </p:nvSpPr>
        <p:spPr>
          <a:xfrm>
            <a:off x="68436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8436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290960" y="264312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581080" y="2643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Выделение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358720" y="4495680"/>
            <a:ext cx="41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плавления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тверд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129528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16765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2"/>
          <p:cNvSpPr/>
          <p:nvPr/>
        </p:nvSpPr>
        <p:spPr>
          <a:xfrm>
            <a:off x="990720" y="373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80880" y="457200"/>
            <a:ext cx="8458200" cy="137160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Граф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плавления и кристал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240" y="4952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5320" y="3352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560" y="3733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2560" y="2209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5920" y="3733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4360" y="3276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2960" y="48006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2960" y="5105520"/>
            <a:ext cx="813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Как изменялась внутренняя энергия ве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и характер движения и взаимодействия молеку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на каждом участке граф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Times New Roman"/>
              </a:rPr>
              <a:t>Запомни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72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55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плавлении происходит разрушение кристаллической решётки. Расстояние между частицами вещества увеличивается. Соответственно увеличивается потенциальная энергия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 отвердевании вещества происходит образование кристаллической решетки, потенциальная энергия частиц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68360" y="396252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1. В какой момент времени начался процесс плавления веще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257800"/>
            <a:ext cx="640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4. Сколько длилось: а) нагревание твердого тел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б) плавление вещества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                                   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) остывание жидк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638680" y="64911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426708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 В какой момент времени вещество кристаллизова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" y="464832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3. Чему равна температура плавления вещества?  Температура кристаллиз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pic 5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2895480"/>
          </a:xfrm>
          <a:prstGeom prst="rect">
            <a:avLst/>
          </a:prstGeom>
          <a:ln w="381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269" name=""/>
          <p:cNvSpPr/>
          <p:nvPr/>
        </p:nvSpPr>
        <p:spPr>
          <a:xfrm>
            <a:off x="375840" y="152280"/>
            <a:ext cx="83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Рассмотрите график и ответьте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12 – 15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тать, отвечать на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пр.8 № 1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7339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Спасибо за ур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  <a:ea typeface="Arial"/>
              </a:rPr>
              <a:t>Желаю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7650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Агрегатные состояния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Твер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236232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2971800"/>
            <a:ext cx="236196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п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828800"/>
            <a:ext cx="236232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Жид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828800"/>
            <a:ext cx="2361960" cy="609480"/>
          </a:xfrm>
          <a:prstGeom prst="rect">
            <a:avLst/>
          </a:prstGeom>
          <a:solidFill>
            <a:srgbClr val="ffffff"/>
          </a:solidFill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Газообраз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905120"/>
            <a:ext cx="838080" cy="485640"/>
          </a:xfrm>
          <a:prstGeom prst="leftRightArrow">
            <a:avLst>
              <a:gd name="adj1" fmla="val 50000"/>
              <a:gd name="adj2" fmla="val 34355"/>
            </a:avLst>
          </a:prstGeom>
          <a:solidFill>
            <a:srgbClr val="ff33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68035" r="30243" b="5292"/>
          <a:stretch/>
        </p:blipFill>
        <p:spPr>
          <a:xfrm>
            <a:off x="6705720" y="3124080"/>
            <a:ext cx="166032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30243" t="30241" r="0" b="34021"/>
          <a:stretch/>
        </p:blipFill>
        <p:spPr>
          <a:xfrm>
            <a:off x="3886200" y="312408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3024" t="0" r="21170" b="65011"/>
          <a:stretch/>
        </p:blipFill>
        <p:spPr>
          <a:xfrm>
            <a:off x="990720" y="3200400"/>
            <a:ext cx="1376280" cy="127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2920" y="1371600"/>
            <a:ext cx="485640" cy="533520"/>
          </a:xfrm>
          <a:prstGeom prst="downArrow">
            <a:avLst>
              <a:gd name="adj1" fmla="val 50000"/>
              <a:gd name="adj2" fmla="val 2746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3716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362320"/>
            <a:ext cx="486000" cy="761760"/>
          </a:xfrm>
          <a:prstGeom prst="downArrow">
            <a:avLst>
              <a:gd name="adj1" fmla="val 50000"/>
              <a:gd name="adj2" fmla="val 39185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362320"/>
            <a:ext cx="485640" cy="761760"/>
          </a:xfrm>
          <a:prstGeom prst="downArrow">
            <a:avLst>
              <a:gd name="adj1" fmla="val 50000"/>
              <a:gd name="adj2" fmla="val 39214"/>
            </a:avLst>
          </a:prstGeom>
          <a:solidFill>
            <a:srgbClr val="ffff00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382240" cy="1066680"/>
          </a:xfrm>
          <a:prstGeom prst="rect">
            <a:avLst/>
          </a:prstGeom>
          <a:solidFill>
            <a:srgbClr val="ffffff"/>
          </a:solidFill>
          <a:ln w="3168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Плавлени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твердого состояния в жид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0880" y="41148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37339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5334120"/>
            <a:ext cx="8153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0880" y="57150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плавл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жидкость"/>
          <p:cNvPicPr/>
          <p:nvPr/>
        </p:nvPicPr>
        <p:blipFill>
          <a:blip r:embed="rId1"/>
          <a:stretch/>
        </p:blipFill>
        <p:spPr>
          <a:xfrm>
            <a:off x="5334120" y="1752480"/>
            <a:ext cx="2971800" cy="194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380880" y="4952880"/>
            <a:ext cx="7696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В какой момент  тело начнет пла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 rot="16200000">
            <a:off x="4074840" y="2096640"/>
            <a:ext cx="1009800" cy="1234800"/>
          </a:xfrm>
          <a:prstGeom prst="downArrow">
            <a:avLst>
              <a:gd name="adj1" fmla="val 50000"/>
              <a:gd name="adj2" fmla="val 30570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твердое тело1"/>
          <p:cNvPicPr/>
          <p:nvPr/>
        </p:nvPicPr>
        <p:blipFill>
          <a:blip r:embed="rId2"/>
          <a:srcRect l="4725" t="7559" r="4725" b="4535"/>
          <a:stretch/>
        </p:blipFill>
        <p:spPr>
          <a:xfrm>
            <a:off x="762120" y="1752480"/>
            <a:ext cx="298116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45720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7"/>
          <p:cNvSpPr/>
          <p:nvPr/>
        </p:nvSpPr>
        <p:spPr>
          <a:xfrm>
            <a:off x="5486400" y="2057400"/>
            <a:ext cx="266688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жид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бол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твё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0880" y="60958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твердого тела и жид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52480" y="2362320"/>
            <a:ext cx="1152720" cy="1485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5600" y="2209680"/>
            <a:ext cx="2478960" cy="70380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Те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принимает энерг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12"/>
          <p:cNvSpPr/>
          <p:nvPr/>
        </p:nvSpPr>
        <p:spPr>
          <a:xfrm>
            <a:off x="152640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 rot="17795400">
            <a:off x="587160" y="27691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143360" y="12952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114800" y="380880"/>
            <a:ext cx="47242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1.  При нагревании  увеличивается  температур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2.  Скорость колебания частиц 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3. Увеличивается внутренняя энергия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4.  Когда тело нагревается до температуры плавления, кристаллическая решетка начинает разруш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5.  Энергия нагревателя идет на разрушение решетки крис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304920" y="4343400"/>
            <a:ext cx="8624880" cy="947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мпературу, при которой вещество плавится, называют 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температурой плавления веществ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304920" y="5410080"/>
            <a:ext cx="8624880" cy="947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ждое вещество имеет собственную температуру плавления  (стр.3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 rot="17795400">
            <a:off x="2720880" y="13975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На рисунке показан график изменения температуры некоторого вещества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Что это за веще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3768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352680" y="1828800"/>
            <a:ext cx="4953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181480"/>
          </a:xfrm>
          <a:prstGeom prst="rect">
            <a:avLst/>
          </a:prstGeom>
          <a:ln w="25560">
            <a:solidFill>
              <a:srgbClr val="cc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6200" y="533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Какие вещества изображены на рисун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2"/>
          <p:cNvSpPr/>
          <p:nvPr/>
        </p:nvSpPr>
        <p:spPr>
          <a:xfrm flipV="1">
            <a:off x="762120" y="4568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 flipV="1">
            <a:off x="457200" y="2971800"/>
            <a:ext cx="334656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762120" y="2209680"/>
            <a:ext cx="761760" cy="1508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523880" y="2209680"/>
            <a:ext cx="144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2971800" y="762120"/>
            <a:ext cx="685800" cy="1457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0"/>
          <p:cNvGraphicFramePr/>
          <p:nvPr/>
        </p:nvGraphicFramePr>
        <p:xfrm>
          <a:off x="76320" y="457200"/>
          <a:ext cx="62712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57200"/>
                    <a:ext cx="62712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1"/>
          <p:cNvGraphicFramePr/>
          <p:nvPr/>
        </p:nvGraphicFramePr>
        <p:xfrm>
          <a:off x="3048120" y="3124080"/>
          <a:ext cx="757080" cy="3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124080"/>
                    <a:ext cx="75708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12"/>
          <p:cNvSpPr/>
          <p:nvPr/>
        </p:nvSpPr>
        <p:spPr>
          <a:xfrm>
            <a:off x="1450440" y="18288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 rot="17795400">
            <a:off x="587160" y="28454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6"/>
          <p:cNvGraphicFramePr/>
          <p:nvPr/>
        </p:nvGraphicFramePr>
        <p:xfrm>
          <a:off x="1219320" y="533520"/>
          <a:ext cx="2057400" cy="71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520"/>
                    <a:ext cx="2057400" cy="715680"/>
                  </a:xfrm>
                  <a:prstGeom prst="rect">
                    <a:avLst/>
                  </a:prstGeom>
                  <a:ln w="255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Object 18"/>
          <p:cNvGraphicFramePr/>
          <p:nvPr/>
        </p:nvGraphicFramePr>
        <p:xfrm>
          <a:off x="380880" y="3352680"/>
          <a:ext cx="25416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352680"/>
                    <a:ext cx="2541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9"/>
          <p:cNvGraphicFramePr/>
          <p:nvPr/>
        </p:nvGraphicFramePr>
        <p:xfrm>
          <a:off x="380880" y="1752480"/>
          <a:ext cx="3096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1752480"/>
                    <a:ext cx="309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20"/>
          <p:cNvGraphicFramePr/>
          <p:nvPr/>
        </p:nvGraphicFramePr>
        <p:xfrm>
          <a:off x="380880" y="1066680"/>
          <a:ext cx="2826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1066680"/>
                    <a:ext cx="2826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21"/>
          <p:cNvSpPr/>
          <p:nvPr/>
        </p:nvSpPr>
        <p:spPr>
          <a:xfrm>
            <a:off x="685800" y="15238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68580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85800" y="373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114800" y="380880"/>
            <a:ext cx="4724280" cy="5700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я величина, показывающая какое количество тепло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обходимо для превращения 1 кг кристаллического 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зятого при температуре плавления, в жидкость той же температуры, называетс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удельной теплотой пл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стр.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1143360" y="137160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Поглощение 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990720" y="22096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1295280" y="22096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80880" y="4191120"/>
            <a:ext cx="3581640" cy="19227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455040" y="44197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озна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2207520" y="419112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(«ламб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55040" y="518148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диница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1"/>
          <p:cNvGraphicFramePr/>
          <p:nvPr/>
        </p:nvGraphicFramePr>
        <p:xfrm>
          <a:off x="2971800" y="5029200"/>
          <a:ext cx="665280" cy="79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9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71800" y="5029200"/>
                    <a:ext cx="6652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На рисунке изображены графики зависимости изменения температуры от времени двух тел одинаковой массы.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из этих тел выше температура плавления?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У какого тела больше удельная теплота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876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447920" y="22096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41008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191120"/>
            <a:ext cx="198108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4191120"/>
            <a:ext cx="22860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15000" y="2590560"/>
            <a:ext cx="1828800" cy="1600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047760"/>
            <a:ext cx="2590560" cy="2361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3048120"/>
            <a:ext cx="1371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213372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8760" y="502920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276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9360" y="2286000"/>
            <a:ext cx="8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1"/>
          <p:cNvSpPr/>
          <p:nvPr/>
        </p:nvSpPr>
        <p:spPr>
          <a:xfrm rot="16200000">
            <a:off x="3993120" y="1797120"/>
            <a:ext cx="1081080" cy="1447920"/>
          </a:xfrm>
          <a:prstGeom prst="downArrow">
            <a:avLst>
              <a:gd name="adj1" fmla="val 50000"/>
              <a:gd name="adj2" fmla="val 33483"/>
            </a:avLst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4038480"/>
            <a:ext cx="838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2. Как изменяется энергия молекул и их располо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04920" y="365760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1. Как изменяется внутренняя энергия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04920" y="5181480"/>
            <a:ext cx="883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5. Изменяются ли молекулы вещества при кристалл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04920" y="5562720"/>
            <a:ext cx="883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6. Как изменяется температура вещества при отверде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жидкость"/>
          <p:cNvPicPr/>
          <p:nvPr/>
        </p:nvPicPr>
        <p:blipFill>
          <a:blip r:embed="rId1"/>
          <a:stretch/>
        </p:blipFill>
        <p:spPr>
          <a:xfrm>
            <a:off x="838080" y="1752480"/>
            <a:ext cx="2743200" cy="1830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твердое тело1"/>
          <p:cNvPicPr/>
          <p:nvPr/>
        </p:nvPicPr>
        <p:blipFill>
          <a:blip r:embed="rId2"/>
          <a:srcRect l="4725" t="7559" r="5669" b="6047"/>
          <a:stretch/>
        </p:blipFill>
        <p:spPr>
          <a:xfrm>
            <a:off x="5562720" y="1752480"/>
            <a:ext cx="2819160" cy="1832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304920" y="48006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4. Когда тело начнет кристаллизов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457200" y="152280"/>
            <a:ext cx="8185320" cy="140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Кристаллизация -</a:t>
            </a:r>
            <a:r>
              <a:rPr b="1" lang="en-US" sz="28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еход вещества из жидкого состояния в тверд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419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. Как изменяется характер движения молеку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0492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7. Сравните внутреннюю энергию жидкости и твёрдого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066680" y="2209680"/>
            <a:ext cx="2233800" cy="50328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отдает  энер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5638680" y="1981080"/>
            <a:ext cx="2667240" cy="119124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Внутренняя энергия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еньше, ч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рахман И.Д.</dc:creator>
  <dc:description/>
  <dc:language>en-US</dc:language>
  <cp:lastModifiedBy>Sergey</cp:lastModifiedBy>
  <dcterms:modified xsi:type="dcterms:W3CDTF">2012-02-20T14:58:06Z</dcterms:modified>
  <cp:revision>43</cp:revision>
  <dc:subject>Плавление и кристаллизация</dc:subject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