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6C6-6CAD-4E1D-A822-F7282A4A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FF7-392E-4A37-BD58-9D4835AF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4EDB2-C655-4D67-AF7F-5207FEFC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D8A54-6BBF-4B5C-95AA-BB3765AD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71E0C-E7F6-4AE4-9703-BFAEBD97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ABDB4-EA36-4C10-B5A7-9E88442F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F6B1A-72C2-48FF-B925-DEFF5278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F9F12-F178-41F5-9A95-F734BE37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D3B79-BF02-4E76-977A-97D3491C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420F0-DBF7-4CB6-9A45-2B89AFD2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37D49-384D-4154-89C7-00AE6872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2548D-925C-4AF4-9120-E245E2E3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33E-12FA-4AA6-8F05-91D07066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720A9-9B79-4E76-A740-FC2F9C77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7DFC5-E82E-420D-87E5-74B75EC8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2E488-EFA0-45C9-B6EF-3F9558FB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F233B-5D93-4E97-9CD1-40DAFA93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1172F-6913-4B11-B6DE-3A41EA3D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9DB66-B816-41CD-A9E8-51D86A21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1D58C-4FCF-4CEE-9931-3C7076BD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C898E-2E4F-4747-8F1C-3B4487A9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E774C-6A8B-42AD-94E3-60F92FAD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BEC6B-3AF2-422D-8B65-2F527312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BBA-0EE9-4520-8EBE-3C5D3DD9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081C3-98C7-4A46-A62C-E73C43F3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C4B8-A466-49D1-96C1-542B3FBF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F1F5-5FA0-47F3-973B-C1F53FD4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7884-61DB-467E-9014-B7064AE0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1EA6-BC60-4D56-99AF-76FE08BD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6038-68AF-4E9B-AA05-125CDBB7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D2A4-33EE-4115-B99D-C8A1388C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CFE0-56BB-4E11-A3B5-D1A4E1BA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B6A-117D-4619-81D0-D2A6D61C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80B1-6B88-4404-8719-257D7996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1C32-831F-4A37-A764-257C9D01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56E1-E00D-44B8-A337-66030777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A3F3-A28A-4618-966E-A41E7853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6335-DC75-4081-955A-10A10BE4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5C623-353D-409D-96F6-5D5F5DB4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CB042-804E-4ED3-BC5E-18B9A824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B78B3-4461-4D44-8BBE-E5091825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DDCC-C083-4353-AB3C-1586F921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14B6-C238-49FF-A3C4-9023393E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986-BDF9-45AD-BD3C-F6411FC1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4D605-6BE5-4052-A200-1C7CA1D4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497B2-800F-46FB-A4CA-46849256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96C8-C0ED-48F2-AC05-46A217E9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30607-D71F-467F-8A1B-981AB745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F79A-9552-4B25-8BCE-F40665D1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100E9-D6EE-4FD2-BA0D-72B33207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36D95-2125-4710-9895-6F31CBF8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F6CB9-D52F-4B82-B3E8-5A489594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84AA9-23FA-429C-9D19-F003461F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25DCB-1C61-4D35-ABCC-5D5073C0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4997-7B9F-452F-9CB3-9952EEC8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5C877-ED63-46DA-AAE2-A7E0FF4D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2FA2A-D6BF-48A4-8235-8F485AD9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9627F-9136-40BE-B258-E63655C2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2357A-1243-4039-ACC5-F94B8295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7A195-854E-44CB-9679-A66CA64E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F5FDA-D053-47E2-8006-6D8B6F49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5E76B-50E5-4110-B10B-478E5CED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22D03-75C6-40A5-A525-482694E8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0A889-3D7B-4AFE-A56F-38FB6F97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22B31-E516-4AC5-8BE2-45374E43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0C6-45AD-4072-8338-6017EBF4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52633-0191-4C5A-83AB-0B86C51A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99C6A-DC3C-41B6-A28C-30D07B0D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45FAE-FB11-4A64-9961-7A478B7A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81A9F-B445-47E3-9AB9-A0B5A76D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F5F0A-65E2-4D02-BADE-59C95BA7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E3AFA-2ED9-4931-9F9B-243F8F1E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68A43-23C6-4B2F-8E19-16249807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B7A14-62F9-4848-BA7A-80DBFF41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D4B72-10C2-4D68-8C35-AAA70199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42CBB-1CBD-4F83-ACD9-6FC9D1D8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7188-FFFF-4903-8F3B-37163ADE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C10F7-4D0A-4E10-82DE-A0F0DF5C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89F91-8DD0-4C18-BF7F-9E76AE99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639B11-13F8-47B1-8C8B-1D035F3C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43B41-957E-40B9-8769-73E10360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47A22-59FA-4C19-A52C-0849F0CA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6CC3D-8F8F-4D41-8F12-D57A8198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07DB67-ADF2-454C-9816-E6B1AFB7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95771-4FF2-4DC6-AE0C-0334C083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55D23-70BC-402E-BE6E-D8A2B239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EDAE26-6C60-4846-A8F3-75239BF7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27E-048B-4CBF-BE8C-CDB2EF1B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1D4147-D1FC-43DF-B05D-B5CE30E1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C4A08-4306-4DB7-B95E-B830CDE3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506C21-1BF7-44F8-A555-49499D14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AC19D-3CB4-4CDE-B1E9-7F538708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5B608-13B5-4D48-95BD-2E651A79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7110A-0090-4107-97B3-0940C8F3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9D27B-000B-48A1-8901-E3A2EA80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2219A-751E-451F-9C2A-6618BDCE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71BFF-C2B7-4789-9F56-C267996C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6B48E-3942-48ED-9412-D24209A6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436-A400-454D-AAEE-97675627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C6287-3451-45BA-8B34-85F511D9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F1A82-FC89-4FCF-B676-6A40BB2A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C6945-FFFD-471D-9129-09016AE2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4C936-BFB9-4CCD-896C-AD2852CE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0BC42-7B9F-4FB1-8F98-65CC9A8D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B6493-9AF9-4DF1-99D0-D89C7B7C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AE7FB-A65F-4EC3-8CF9-B922FFFB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0AA81-4DD6-4A16-948D-A4B82401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ED7FD-82E0-4995-8E3B-7D154F45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6B05A-47BB-45C0-B003-E38746E7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584-AF4E-41EE-AEA6-82992253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9164D-38BF-4853-905E-84328835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EC9B7-02F1-4631-9FCB-D3346CAD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499EF-07AE-435E-9C07-E0DF6C39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AFBF6-32DB-4357-9BD2-E417EC05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1F7A7-F04C-4D39-B6B6-4DA95032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641EF-46A0-44AB-8B4D-68D6D066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DD653-3AC4-4797-AA50-A7C71EA0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446C1-E2FD-491D-B439-E0184492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A4EB5-9C2B-4C81-B8F4-EEC7F5FE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1B5BB-0661-4F8C-9EAA-954104AD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CB09-94D5-48E2-806A-EB456CC77C8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D4BC-D404-44B5-960E-AB7B3A4C16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1CE1-BA14-420F-B4FA-134249281ED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481C-63B7-403D-B216-AFB1ADE214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AEBE-8B6F-4019-811F-3D2914DF15C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0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FAE2-CD15-406E-B6EA-BB34319FF3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A9ED-A714-434E-B5C7-061CAB6FD4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7C2B-5548-464B-A222-45E9685FA4D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E792-88DA-448F-B595-7BE2012F63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2CA8-478A-44CC-AE61-277E02224EB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0"/>
          <p:cNvSpPr/>
          <p:nvPr/>
        </p:nvSpPr>
        <p:spPr>
          <a:xfrm>
            <a:off x="539640" y="83664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газа и пара при расшир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гатель внутреннего сгор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5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3889080" cy="38638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2"/>
          <p:cNvSpPr/>
          <p:nvPr/>
        </p:nvSpPr>
        <p:spPr>
          <a:xfrm>
            <a:off x="2124000" y="50846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автомобиль Г.Форда (189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4BE8640"/>
          <p:cNvPicPr/>
          <p:nvPr/>
        </p:nvPicPr>
        <p:blipFill>
          <a:blip r:embed="rId1"/>
          <a:stretch/>
        </p:blipFill>
        <p:spPr>
          <a:xfrm>
            <a:off x="4645080" y="2289240"/>
            <a:ext cx="38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русский автомобиль с двигателем внутреннего сгорания постро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 А. Яковлев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 А. Фрезе (1896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012-1"/>
          <p:cNvPicPr/>
          <p:nvPr/>
        </p:nvPicPr>
        <p:blipFill>
          <a:blip r:embed="rId1"/>
          <a:stretch/>
        </p:blipFill>
        <p:spPr>
          <a:xfrm>
            <a:off x="4645080" y="2451240"/>
            <a:ext cx="38894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вые электромоб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009-1"/>
          <p:cNvPicPr/>
          <p:nvPr/>
        </p:nvPicPr>
        <p:blipFill>
          <a:blip r:embed="rId1"/>
          <a:stretch/>
        </p:blipFill>
        <p:spPr>
          <a:xfrm>
            <a:off x="4645080" y="2604960"/>
            <a:ext cx="388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7" descr="010-1"/>
          <p:cNvPicPr/>
          <p:nvPr/>
        </p:nvPicPr>
        <p:blipFill>
          <a:blip r:embed="rId1"/>
          <a:stretch/>
        </p:blipFill>
        <p:spPr>
          <a:xfrm>
            <a:off x="4645080" y="2327400"/>
            <a:ext cx="38894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 «Дукс» (1901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011-1"/>
          <p:cNvPicPr/>
          <p:nvPr/>
        </p:nvPicPr>
        <p:blipFill>
          <a:blip r:embed="rId1"/>
          <a:stretch/>
        </p:blipFill>
        <p:spPr>
          <a:xfrm>
            <a:off x="4645080" y="248112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05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уссо – Балт» (1908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34BE8640"/>
          <p:cNvPicPr/>
          <p:nvPr/>
        </p:nvPicPr>
        <p:blipFill>
          <a:blip r:embed="rId1"/>
          <a:stretch/>
        </p:blipFill>
        <p:spPr>
          <a:xfrm>
            <a:off x="3059280" y="2708280"/>
            <a:ext cx="54734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755640" y="1628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машнее задание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21-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755640" y="2352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1332000" y="3645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ловые двигат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машины, в которых внутренняя энергия топлива превращается в механическую энерг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403280" y="1052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ся с устройством тепловых машин на примере двигателя внутреннего сгор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02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тель внутреннего сгор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чень распространенный вид теплового двигателя. Топливо в нем сгорает прямо в цилиндре, внутри самого двигателя. Отсюда и происходит название этого 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илиндре такого двигателя периодически происходит сгорание горючей смеси, состоящей из паров бензина и воздуха. Температура газообразных продуктов сгорания достигает 1600 – 180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на поршень при этом резко возрастает. Расширяясь, газы толкают поршень, а вместе с ним и коленчатый вал, совершая при этом механическ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ние положения поршня в цилиндре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ртвыми точ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сстояние, проходимое поршнем от одной мертвой точки до другой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ом порш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рабочий цикл в двигателе происходит за четыре хода поршня, или, как говорят, з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 так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пуск, сжатие, рабочий ход, вы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Поэтому такие двигатели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хтакт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Устройство двигателя 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     внутреннего         сгора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2 – клапан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порш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– ша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– коленчатый 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– мах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- св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154A03EC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повороте вала двигателя в начале первого такта поршень движется вниз. Объем над поршнем увеличивается. Вследствие этого в цилиндре создается разрежение. В это время открывается клапан 1 и в цилиндр входит горючая смесь. К концу первого такта цилиндр заполняется горючей смесью, а клапан 1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3" name="Picture 7" descr="B6FECCDA"/>
          <p:cNvPicPr/>
          <p:nvPr/>
        </p:nvPicPr>
        <p:blipFill>
          <a:blip r:embed="rId1"/>
          <a:stretch/>
        </p:blipFill>
        <p:spPr>
          <a:xfrm>
            <a:off x="4859280" y="1557360"/>
            <a:ext cx="38275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дальнейшем повороте вала поршень движется вверх (второй такт) и сжимает горючую смесь. В конце второго такта, когда поршень дойдет до крайнего верхнего положения, сжатая горючая смесь воспламеняется (от электрической искры) и быстро сгорает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6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78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разующиеся при сгорании газы давят на поршень и толкают его вниз. Под действием расширяющихся нагретых газов (третий такт) двигатель совершает работу, поэтому этот такт называют рабочим ходом. Движение поршня передается шатуну, а через него коленчатому валу с маховиком. Получив сильный толчок, маховик затем продолжает вращаться по инерции и перемещает скрепленный с ним поршень при последующих тактах. Второй и третий такты происходят при закрытых клапана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9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конце третьего такта открывается клапан 2, и через него продукты сгорания выходят из цилиндра в атмосферу. Выпуск продуктов сгорания продолжается и в течение четвертого такта, когда поршень движется вверх. В конце четвертого такта клапан 2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2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7:46:03Z</dcterms:created>
  <dc:creator>Сергей</dc:creator>
  <dc:description/>
  <dc:language>en-US</dc:language>
  <cp:lastModifiedBy>Олег</cp:lastModifiedBy>
  <dcterms:modified xsi:type="dcterms:W3CDTF">2012-02-21T17:16:54Z</dcterms:modified>
  <cp:revision>22</cp:revision>
  <dc:subject/>
  <dc:title>Физика в профессии водителя</dc:title>
</cp:coreProperties>
</file>