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6CA2-257A-4175-AFF0-B1E5B7DB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38B-7528-4879-9DFC-BEDBEF84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148D0-DA5F-4DEB-8A64-2A886392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835B3-5000-40C9-9548-90891C4F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52BE3-7B7A-415D-BC3C-A7DE043E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3F6E5-BCA4-4A61-8319-9CA6BC1C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A7BE3-6903-439C-852B-8264580B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94E94-3DBF-4530-9963-17E5651E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7D835-26F4-4CEF-87A6-C59D02D9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FA95B-ABD3-4ADA-B7E1-49BE86F7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3A383-C997-4396-A832-4801D490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4C7A1-2AFE-43AA-88B1-D018FC8F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251-FCB0-4483-A84B-4BC50F13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F7E67-6BB5-4CD9-B74B-A62DBAEE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97521-8619-466C-B5B8-B3F32531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454E3-FFAB-4EF1-BF26-63410E69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23E50-843C-4D5E-B115-A10658A9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B13F7-7C7A-4D49-AC3E-19522504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FD583-CE95-4889-B7C5-02647901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88F7A-F222-4D95-A047-F474FBCE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A5A9D-E11C-41F4-8191-A3D707BE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04E97-B51F-40DF-844E-2504C0E9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92B4F-9AAE-449E-B82D-2689D128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9C53-1957-4CAF-B73C-17D8A849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D4CFE-959C-469F-8ABE-53501059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F6BD-9F9B-4D90-B812-C526E464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DF29-2FE2-4B1E-B1E3-0D619A24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86AB-1768-4BD9-B1CE-5B92B256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D117-0960-4171-8E45-16CF7C7A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FE71-BBB7-4061-80F9-CA7FDD1D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F584-A538-4CB3-AAD4-534157A6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163D-A88C-4774-AB6D-9F91FCB6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241-C860-49C6-8FDC-7984B8B0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7C12-2E01-47AF-A168-03121B7A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1B3F-8AB8-4495-9D21-193FDB49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6556-F377-42E3-9F28-89A261CC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099A-9965-48BE-97CA-246AAB98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6158-FA58-43C8-8753-1D78D111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D8BD8-A5E5-4FC2-9841-708C8F68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C10FB-E318-411E-948F-CF739DAD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F77A5-6942-4E67-BDC5-4324B70F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B25E0-DA42-40C6-BF0F-894D2020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8A14C-AF99-423C-AF0A-7698D4FC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A01-3044-4FC7-8286-0EA4A579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3D9A4-48FD-4B3E-A845-E8F7F308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D8ABB-3935-46B4-80B0-96BD414F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7C653-FA3B-4A87-99A2-AB169D75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2C5C-8CCB-410F-BDEA-44850785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89E70-8A5A-4436-833F-7248BF7D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AE1D5-D1C3-40E2-A535-DDA8CBC8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E97B6-34A6-44C2-97A1-97F19843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CEA5E-64D8-46F0-A29A-28C75D23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FC23A-515B-490A-B290-29D128B0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934F3-6172-401E-B107-51D7CAFE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648C-C08A-4D24-8B80-973280C1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6D62E-F154-41ED-9524-6C64AA9D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A36C3-ECD6-4B88-AC2D-5E28D1FD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9A4FD-F1C2-4630-A1BE-B1284A17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7C124-523E-4F3C-855C-DDE0F0E3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C846C-3BAD-4F9B-97F5-61EEFDAF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E1E2F-4D87-4603-94D1-BFCD5296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8E4DA-1159-4E95-B7AF-60D67B99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EEDAB-76ED-459B-83E1-017E3C16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9AC32-9204-48BF-BF3E-E32AE968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A5305-25F7-4808-8B20-88BE2115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990-A383-43C5-834C-1030A00F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4E6F0-A701-4E31-B234-082C5DB0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F2F4F-3860-43BB-BAA9-2F0A5AA6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17684-C6E5-45D1-B413-C09F7081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89612-DFBD-444A-87F1-1EAA100C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FBBBA-E7F3-43BF-89B4-F7414BDC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81B9D-0757-4FB8-97D4-413ED7BE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6427D-E19C-476D-81D2-B6786AC9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5DD37-9E3D-4985-82E5-F4C99ED8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612A4-96FA-49E9-A8E6-14AE0C14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A5DB6-85C2-4120-A85B-FA64F0B1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4291-0A26-4E1A-AF3A-C38CD153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D72F5-CC71-4733-A52D-7DC45374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78EEBA-9C24-46A0-BC51-D1862C04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3017C1-4BB9-4404-B79A-F3C75D88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C83AA7-3A6D-449A-852C-BF98932C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2E7077-1AFE-431F-BB8A-0643487A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20FE96-2EB9-40CD-AD58-09B246DE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1ADC09-2F1B-4890-B8DD-F00D8B82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85837B-5F30-4ED7-87BF-A7D4E975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9B9E5C-879D-4B02-AA17-46CC2C00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BD0C21-EB60-46E4-9A86-2795B709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CAF-B0A8-459E-AF82-3606A322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9F0F66-2AE4-470F-80BB-4212570F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9FC2AF-879F-418A-B0FB-BD6E4D65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B8AA87-F43A-42F0-B9D1-BA65103B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05160-3A7C-4581-811B-9D46E6B0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F557F-5909-4800-BF93-E1FABD55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81956-38D5-436A-890B-A185597F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06187-FEDF-4290-BB14-42788FC5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5CE2E-4CAF-497F-B0FC-EE0B02DD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CE521-36DB-4A47-9B3C-FB29C909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9B5D8-8BB8-40BC-8784-72428960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CB9-AEC2-44C8-A3EC-4424C40A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63A59-44D5-4A7E-9661-AB58C896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8F957-71C8-4977-98AE-7F7DDD55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A096C-9061-401B-9FDB-0A0D0274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2A888-E6D0-4EFF-8E0D-A9573ADA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BD5E7-23F4-4A9E-AD91-90ECBB1E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4AB15-B1EC-46E1-AEC7-ECAE3317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8840D-8577-453B-917B-FD2DE2D8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49851-5E89-442E-9D60-06855A70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F632E-02AD-43AB-931E-F659765E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7A547-F6A2-4DA1-B330-48E49EE4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4423-F8E7-4F0E-B1DE-37ACF394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22D11-B370-4417-94B8-B1F5C9E7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827CF-29F3-499A-AE9B-5BF828A5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BDF30-D3A3-4860-9DE1-550656F1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362B2-6BDE-4C4F-8EDF-171DD3DB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0E06F-791C-4BFF-B617-225F933A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DE462-6EF5-4BC9-8F68-FAD33C51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56C31-AE9A-4A5E-9060-42FC4531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DD509-1A70-4576-BBDE-8F041AB4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5AFF8-CADE-479D-BC5B-A2EC2FCE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95DD5-97DD-45DB-8950-9345F23D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588D-3B43-49B4-A6CC-9B9EC2E7F19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F7CE-D83E-466A-AE60-85F8BCE4091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550A-D523-4E90-B71D-97D78B7E04F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1377-C08F-4319-B8DA-6EE56B3ACA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E853-8F0C-4FFE-8DFE-B9CCA4607D7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0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C55A-538D-4A1E-B212-F22AE04E83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B4F2-118B-4145-A5F7-DDCA425A572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5947-756D-4943-93FC-E265EBE4D58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CF8E-940F-460D-BF1A-A3CBBECB97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0FAC-593B-4E3D-B76E-AEDB118F209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0"/>
          <p:cNvSpPr/>
          <p:nvPr/>
        </p:nvSpPr>
        <p:spPr>
          <a:xfrm>
            <a:off x="539640" y="83664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газа и пара при расшир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гатель внутреннего сгор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5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3889080" cy="38638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12"/>
          <p:cNvSpPr/>
          <p:nvPr/>
        </p:nvSpPr>
        <p:spPr>
          <a:xfrm>
            <a:off x="2124000" y="508464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автомобиль Г.Форда (1892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34BE8640"/>
          <p:cNvPicPr/>
          <p:nvPr/>
        </p:nvPicPr>
        <p:blipFill>
          <a:blip r:embed="rId1"/>
          <a:stretch/>
        </p:blipFill>
        <p:spPr>
          <a:xfrm>
            <a:off x="4645080" y="2289240"/>
            <a:ext cx="38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русский автомобиль с двигателем внутреннего сгорания построе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. А. Яковлев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 А. Фрезе (1896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7" descr="012-1"/>
          <p:cNvPicPr/>
          <p:nvPr/>
        </p:nvPicPr>
        <p:blipFill>
          <a:blip r:embed="rId1"/>
          <a:stretch/>
        </p:blipFill>
        <p:spPr>
          <a:xfrm>
            <a:off x="4645080" y="2451240"/>
            <a:ext cx="38894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овые электромоб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7" descr="009-1"/>
          <p:cNvPicPr/>
          <p:nvPr/>
        </p:nvPicPr>
        <p:blipFill>
          <a:blip r:embed="rId1"/>
          <a:stretch/>
        </p:blipFill>
        <p:spPr>
          <a:xfrm>
            <a:off x="4645080" y="2604960"/>
            <a:ext cx="3889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7" descr="010-1"/>
          <p:cNvPicPr/>
          <p:nvPr/>
        </p:nvPicPr>
        <p:blipFill>
          <a:blip r:embed="rId1"/>
          <a:stretch/>
        </p:blipFill>
        <p:spPr>
          <a:xfrm>
            <a:off x="4645080" y="2327400"/>
            <a:ext cx="38894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 «Дукс» (1901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011-1"/>
          <p:cNvPicPr/>
          <p:nvPr/>
        </p:nvPicPr>
        <p:blipFill>
          <a:blip r:embed="rId1"/>
          <a:stretch/>
        </p:blipFill>
        <p:spPr>
          <a:xfrm>
            <a:off x="4645080" y="2481120"/>
            <a:ext cx="38894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505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об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уссо – Балт» (1908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34BE8640"/>
          <p:cNvPicPr/>
          <p:nvPr/>
        </p:nvPicPr>
        <p:blipFill>
          <a:blip r:embed="rId1"/>
          <a:stretch/>
        </p:blipFill>
        <p:spPr>
          <a:xfrm>
            <a:off x="3059280" y="2708280"/>
            <a:ext cx="54734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755640" y="162864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машнее задание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§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21-2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755640" y="2352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4"/>
          <p:cNvSpPr/>
          <p:nvPr/>
        </p:nvSpPr>
        <p:spPr>
          <a:xfrm>
            <a:off x="1332000" y="36450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пловые двигате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машины, в которых внутренняя энергия топлива превращается в механическую энерг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403280" y="10526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Цель урок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ся с устройством тепловых машин на примере двигателя внутреннего сгор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02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игатель внутреннего сгор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чень распространенный вид теплового двигателя. Топливо в нем сгорает прямо в цилиндре, внутри самого двигателя. Отсюда и происходит название этого 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илиндре такого двигателя периодически происходит сгорание горючей смеси, состоящей из паров бензина и воздуха. Температура газообразных продуктов сгорания достигает 1600 – 180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на поршень при этом резко возрастает. Расширяясь, газы толкают поршень, а вместе с ним и коленчатый вал, совершая при этом механическую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йние положения поршня в цилиндре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ртвыми точк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асстояние, проходимое поршнем от одной мертвой точки до другой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дом порш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рабочий цикл в двигателе происходит за четыре хода поршня, или, как говорят, з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 так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пуск, сжатие, рабочий ход, выпу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Поэтому такие двигатели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хтакт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Устройство двигателя </a:t>
            </a:r>
            <a:br>
              <a:rPr sz="4000"/>
            </a:b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     внутреннего         сгора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2 – клапана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– порш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– шат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– коленчатый 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– мах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- све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154A03EC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повороте вала двигателя в начале первого такта поршень движется вниз. Объем над поршнем увеличивается. Вследствие этого в цилиндре создается разрежение. В это время открывается клапан 1 и в цилиндр входит горючая смесь. К концу первого такта цилиндр заполняется горючей смесью, а клапан 1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3" name="Picture 7" descr="B6FECCDA"/>
          <p:cNvPicPr/>
          <p:nvPr/>
        </p:nvPicPr>
        <p:blipFill>
          <a:blip r:embed="rId1"/>
          <a:stretch/>
        </p:blipFill>
        <p:spPr>
          <a:xfrm>
            <a:off x="4859280" y="1557360"/>
            <a:ext cx="38275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дальнейшем повороте вала поршень движется вверх (второй такт) и сжимает горючую смесь. В конце второго такта, когда поршень дойдет до крайнего верхнего положения, сжатая горючая смесь воспламеняется (от электрической искры) и быстро сгорает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6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78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разующиеся при сгорании газы давят на поршень и толкают его вниз. Под действием расширяющихся нагретых газов (третий такт) двигатель совершает работу, поэтому этот такт называют рабочим ходом. Движение поршня передается шатуну, а через него коленчатому валу с маховиком. Получив сильный толчок, маховик затем продолжает вращаться по инерции и перемещает скрепленный с ним поршень при последующих тактах. Второй и третий такты происходят при закрытых клапана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9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конце третьего такта открывается клапан 2, и через него продукты сгорания выходят из цилиндра в атмосферу. Выпуск продуктов сгорания продолжается и в течение четвертого такта, когда поршень движется вверх. В конце четвертого такта клапан 2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2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07:46:03Z</dcterms:created>
  <dc:creator>Сергей</dc:creator>
  <dc:description/>
  <dc:language>en-US</dc:language>
  <cp:lastModifiedBy>Олег</cp:lastModifiedBy>
  <dcterms:modified xsi:type="dcterms:W3CDTF">2012-02-21T17:16:54Z</dcterms:modified>
  <cp:revision>22</cp:revision>
  <dc:subject/>
  <dc:title>Физика в профессии водителя</dc:title>
</cp:coreProperties>
</file>