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B134-39AA-4374-B9C7-E369BF8A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9B8F-2AFA-4607-91BC-E0370660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2F38-3041-4126-B949-177FD52C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02C-F600-4215-B7F0-86B63E8F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0B60-BC88-4C9C-BAF5-82BA5395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2585-E3E4-4070-B14B-30ECD17F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8A9D-AB90-4062-8F9C-937556DB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C690-1274-4BC0-B5D6-8DF61F3D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D10F-AF61-450A-AC30-694051D7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E8FC-154B-4CD4-8AD3-7CA8FD0D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3310-97EA-486D-A679-E681D5A3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392-B0D3-4DE6-B650-DD46C74B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955F-9FC0-42D4-8807-C3A46633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3CBB-200B-420F-9F8A-9E54C4FD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20CD-8345-400A-94D1-B366D676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B7AE-1AC5-487E-B870-62CA3AE2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B97B-F03B-4734-956E-22AD1304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B08E-4D45-4F01-B9F3-5C7151DE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3868-FA7F-45D0-989F-EC2C1F0D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97A9-E45C-4741-BFC0-045B3868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5F04-B2E7-4101-BD0E-FA3C35B0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24A-7B79-4FF9-AD0D-00B0D1EB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FDA1-76FF-4B07-B0D6-B03E50B1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AC0D-5970-404F-9BC6-D2C6E46F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214C-8BA2-431A-828D-DC0A91E04C8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9B3E-E228-496D-A72F-5727332B905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Электризация тел при соприкосновении. Взаимодействие заряженных тел. Два рода зарядов</a:t>
            </a: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76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8 класс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522936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9a"/>
                </a:solidFill>
                <a:latin typeface="Verdana"/>
              </a:rPr>
              <a:t>Тела, имеющие электрические заряды одного знака, взаимно отталкиваются, а тела имеющие заряды противоположного знака, взаимно притягиваютс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6160" y="3141720"/>
            <a:ext cx="4263480" cy="3112560"/>
            <a:chOff x="56160" y="3141720"/>
            <a:chExt cx="4263480" cy="3112560"/>
          </a:xfrm>
        </p:grpSpPr>
        <p:sp>
          <p:nvSpPr>
            <p:cNvPr id="190" name=""/>
            <p:cNvSpPr/>
            <p:nvPr/>
          </p:nvSpPr>
          <p:spPr>
            <a:xfrm>
              <a:off x="2979720" y="4502160"/>
              <a:ext cx="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52240" y="4502160"/>
              <a:ext cx="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56160" y="3294000"/>
              <a:ext cx="2345040" cy="2562120"/>
              <a:chOff x="56160" y="3294000"/>
              <a:chExt cx="2345040" cy="2562120"/>
            </a:xfrm>
          </p:grpSpPr>
          <p:sp>
            <p:nvSpPr>
              <p:cNvPr id="193" name=""/>
              <p:cNvSpPr/>
              <p:nvPr/>
            </p:nvSpPr>
            <p:spPr>
              <a:xfrm>
                <a:off x="459000" y="385272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563600">
                <a:off x="486360" y="36378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3573000">
                <a:off x="680040" y="346068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5587200">
                <a:off x="905040" y="340272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301400">
                <a:off x="645840" y="441720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4309200">
                <a:off x="324720" y="40384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4773000">
                <a:off x="849960" y="33400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6870000">
                <a:off x="1096920" y="33807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963360" y="45021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3187800">
                <a:off x="451440" y="416412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809400">
                <a:off x="461520" y="371340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713600">
                <a:off x="550440" y="354996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3415200">
                <a:off x="588600" y="342216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488400">
                <a:off x="828360" y="446652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974600" y="3294000"/>
              <a:ext cx="2345040" cy="2562120"/>
              <a:chOff x="1974600" y="3294000"/>
              <a:chExt cx="2345040" cy="2562120"/>
            </a:xfrm>
          </p:grpSpPr>
          <p:sp>
            <p:nvSpPr>
              <p:cNvPr id="208" name=""/>
              <p:cNvSpPr/>
              <p:nvPr/>
            </p:nvSpPr>
            <p:spPr>
              <a:xfrm flipH="1">
                <a:off x="2908800" y="385272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rot="20036400">
                <a:off x="2880000" y="363780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rot="18027000">
                <a:off x="2685960" y="346068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16012800">
                <a:off x="2461680" y="340272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rot="20298600">
                <a:off x="2721240" y="4417200"/>
                <a:ext cx="100800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rot="17290800">
                <a:off x="3040920" y="40384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16827000">
                <a:off x="2515680" y="3340080"/>
                <a:ext cx="100944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rot="14730000">
                <a:off x="2269440" y="33807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403720" y="45021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rot="18412200">
                <a:off x="2914920" y="416412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rot="20790600">
                <a:off x="2905560" y="3713400"/>
                <a:ext cx="1008000" cy="1298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19886400">
                <a:off x="2816640" y="3550320"/>
                <a:ext cx="100800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rot="18184800">
                <a:off x="2777400" y="3421800"/>
                <a:ext cx="100908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rot="21111600">
                <a:off x="2539080" y="446616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634680" y="6086160"/>
              <a:ext cx="1512720" cy="144360"/>
              <a:chOff x="634680" y="6086160"/>
              <a:chExt cx="1512720" cy="144360"/>
            </a:xfrm>
          </p:grpSpPr>
          <p:sp>
            <p:nvSpPr>
              <p:cNvPr id="223" name=""/>
              <p:cNvSpPr/>
              <p:nvPr/>
            </p:nvSpPr>
            <p:spPr>
              <a:xfrm>
                <a:off x="634680" y="621504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921960" y="614340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769680" y="608616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1802520" y="608616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995040" y="608652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226960" y="6109920"/>
              <a:ext cx="1512720" cy="144360"/>
              <a:chOff x="2226960" y="6109920"/>
              <a:chExt cx="1512720" cy="144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226960" y="623880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14240" y="616716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2361960" y="610992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3394800" y="610992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87320" y="611028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250920" y="3263760"/>
              <a:ext cx="1631520" cy="1263960"/>
            </a:xfrm>
            <a:custGeom>
              <a:avLst/>
              <a:gdLst/>
              <a:ahLst/>
              <a:rect l="l" t="t" r="r" b="b"/>
              <a:pathLst>
                <a:path w="1028" h="796">
                  <a:moveTo>
                    <a:pt x="692" y="796"/>
                  </a:moveTo>
                  <a:cubicBezTo>
                    <a:pt x="545" y="793"/>
                    <a:pt x="397" y="793"/>
                    <a:pt x="250" y="787"/>
                  </a:cubicBezTo>
                  <a:cubicBezTo>
                    <a:pt x="203" y="785"/>
                    <a:pt x="178" y="733"/>
                    <a:pt x="135" y="720"/>
                  </a:cubicBezTo>
                  <a:cubicBezTo>
                    <a:pt x="98" y="683"/>
                    <a:pt x="74" y="641"/>
                    <a:pt x="39" y="604"/>
                  </a:cubicBezTo>
                  <a:cubicBezTo>
                    <a:pt x="19" y="549"/>
                    <a:pt x="38" y="602"/>
                    <a:pt x="10" y="518"/>
                  </a:cubicBezTo>
                  <a:cubicBezTo>
                    <a:pt x="7" y="508"/>
                    <a:pt x="0" y="489"/>
                    <a:pt x="0" y="489"/>
                  </a:cubicBezTo>
                  <a:cubicBezTo>
                    <a:pt x="10" y="351"/>
                    <a:pt x="10" y="385"/>
                    <a:pt x="39" y="297"/>
                  </a:cubicBezTo>
                  <a:cubicBezTo>
                    <a:pt x="72" y="197"/>
                    <a:pt x="85" y="118"/>
                    <a:pt x="212" y="115"/>
                  </a:cubicBezTo>
                  <a:cubicBezTo>
                    <a:pt x="436" y="109"/>
                    <a:pt x="660" y="108"/>
                    <a:pt x="884" y="105"/>
                  </a:cubicBezTo>
                  <a:cubicBezTo>
                    <a:pt x="916" y="95"/>
                    <a:pt x="938" y="77"/>
                    <a:pt x="970" y="67"/>
                  </a:cubicBezTo>
                  <a:cubicBezTo>
                    <a:pt x="988" y="39"/>
                    <a:pt x="1013" y="28"/>
                    <a:pt x="1028" y="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07960" y="3324240"/>
              <a:ext cx="1523880" cy="1252440"/>
            </a:xfrm>
            <a:custGeom>
              <a:avLst/>
              <a:gdLst/>
              <a:ahLst/>
              <a:rect l="l" t="t" r="r" b="b"/>
              <a:pathLst>
                <a:path w="960" h="789">
                  <a:moveTo>
                    <a:pt x="442" y="787"/>
                  </a:moveTo>
                  <a:cubicBezTo>
                    <a:pt x="552" y="753"/>
                    <a:pt x="426" y="789"/>
                    <a:pt x="711" y="768"/>
                  </a:cubicBezTo>
                  <a:cubicBezTo>
                    <a:pt x="744" y="766"/>
                    <a:pt x="797" y="720"/>
                    <a:pt x="797" y="720"/>
                  </a:cubicBezTo>
                  <a:cubicBezTo>
                    <a:pt x="815" y="692"/>
                    <a:pt x="837" y="671"/>
                    <a:pt x="855" y="643"/>
                  </a:cubicBezTo>
                  <a:cubicBezTo>
                    <a:pt x="868" y="603"/>
                    <a:pt x="897" y="570"/>
                    <a:pt x="932" y="547"/>
                  </a:cubicBezTo>
                  <a:cubicBezTo>
                    <a:pt x="948" y="523"/>
                    <a:pt x="960" y="511"/>
                    <a:pt x="960" y="480"/>
                  </a:cubicBezTo>
                  <a:cubicBezTo>
                    <a:pt x="960" y="397"/>
                    <a:pt x="956" y="313"/>
                    <a:pt x="951" y="230"/>
                  </a:cubicBezTo>
                  <a:cubicBezTo>
                    <a:pt x="949" y="207"/>
                    <a:pt x="946" y="181"/>
                    <a:pt x="932" y="163"/>
                  </a:cubicBezTo>
                  <a:cubicBezTo>
                    <a:pt x="916" y="142"/>
                    <a:pt x="794" y="78"/>
                    <a:pt x="759" y="77"/>
                  </a:cubicBezTo>
                  <a:cubicBezTo>
                    <a:pt x="522" y="71"/>
                    <a:pt x="285" y="70"/>
                    <a:pt x="48" y="67"/>
                  </a:cubicBezTo>
                  <a:cubicBezTo>
                    <a:pt x="12" y="42"/>
                    <a:pt x="0" y="45"/>
                    <a:pt x="0" y="0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723680" y="3141720"/>
              <a:ext cx="360000" cy="287280"/>
              <a:chOff x="1723680" y="3141720"/>
              <a:chExt cx="360000" cy="287280"/>
            </a:xfrm>
          </p:grpSpPr>
          <p:sp>
            <p:nvSpPr>
              <p:cNvPr id="237" name=""/>
              <p:cNvSpPr/>
              <p:nvPr/>
            </p:nvSpPr>
            <p:spPr>
              <a:xfrm>
                <a:off x="1723680" y="3286080"/>
                <a:ext cx="3600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99720" y="3141720"/>
                <a:ext cx="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47760" y="3286080"/>
              <a:ext cx="360000" cy="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123160" y="2492280"/>
            <a:ext cx="4043520" cy="3744720"/>
            <a:chOff x="5123160" y="2492280"/>
            <a:chExt cx="4043520" cy="3744720"/>
          </a:xfrm>
        </p:grpSpPr>
        <p:sp>
          <p:nvSpPr>
            <p:cNvPr id="241" name=""/>
            <p:cNvSpPr/>
            <p:nvPr/>
          </p:nvSpPr>
          <p:spPr>
            <a:xfrm>
              <a:off x="6372360" y="4221000"/>
              <a:ext cx="0" cy="18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28000" y="4221000"/>
              <a:ext cx="0" cy="18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5123160" y="2959560"/>
              <a:ext cx="2487960" cy="2630880"/>
              <a:chOff x="5123160" y="2959560"/>
              <a:chExt cx="2487960" cy="2630880"/>
            </a:xfrm>
          </p:grpSpPr>
          <p:sp>
            <p:nvSpPr>
              <p:cNvPr id="244" name=""/>
              <p:cNvSpPr/>
              <p:nvPr/>
            </p:nvSpPr>
            <p:spPr>
              <a:xfrm flipH="1" rot="20094600">
                <a:off x="6201360" y="3336480"/>
                <a:ext cx="1008720" cy="1298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rot="18531000">
                <a:off x="6085080" y="315360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rot="16521600">
                <a:off x="5834520" y="30751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rot="14506800">
                <a:off x="5606280" y="3118320"/>
                <a:ext cx="100872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rot="18793200">
                <a:off x="6271560" y="39276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rot="15785400">
                <a:off x="6401520" y="34480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rot="15321600">
                <a:off x="5628960" y="303804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rot="13224600">
                <a:off x="5423040" y="317988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20094600">
                <a:off x="6019560" y="41389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rot="16906200">
                <a:off x="6339960" y="36151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9285200">
                <a:off x="6140160" y="3211560"/>
                <a:ext cx="100836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8381000">
                <a:off x="5990040" y="310140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6679400">
                <a:off x="5899680" y="30013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19606200">
                <a:off x="6127560" y="404928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380360" y="6092640"/>
              <a:ext cx="1512720" cy="144360"/>
              <a:chOff x="7380360" y="6092640"/>
              <a:chExt cx="1512720" cy="144360"/>
            </a:xfrm>
          </p:grpSpPr>
          <p:sp>
            <p:nvSpPr>
              <p:cNvPr id="259" name=""/>
              <p:cNvSpPr/>
              <p:nvPr/>
            </p:nvSpPr>
            <p:spPr>
              <a:xfrm>
                <a:off x="7380360" y="622152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67640" y="614988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7515360" y="609264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8548200" y="609264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740720" y="609300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723000" y="3057480"/>
              <a:ext cx="2443680" cy="2609640"/>
              <a:chOff x="6723000" y="3057480"/>
              <a:chExt cx="2443680" cy="2609640"/>
            </a:xfrm>
          </p:grpSpPr>
          <p:sp>
            <p:nvSpPr>
              <p:cNvPr id="265" name=""/>
              <p:cNvSpPr/>
              <p:nvPr/>
            </p:nvSpPr>
            <p:spPr>
              <a:xfrm rot="956400">
                <a:off x="7097040" y="34920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520000">
                <a:off x="7182720" y="329256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529400">
                <a:off x="7418160" y="317520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6543600">
                <a:off x="7650000" y="318168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2257800">
                <a:off x="7122240" y="40863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5265600">
                <a:off x="6917040" y="36334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5729400">
                <a:off x="7614000" y="31060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7827000">
                <a:off x="7840800" y="32130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956400">
                <a:off x="7403760" y="425484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4144200">
                <a:off x="7004520" y="378864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766400">
                <a:off x="7138080" y="335844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2670000">
                <a:off x="7268400" y="32263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4371600">
                <a:off x="7341120" y="31129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444800">
                <a:off x="7283880" y="41835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651640" y="6092640"/>
              <a:ext cx="1512720" cy="144360"/>
              <a:chOff x="5651640" y="6092640"/>
              <a:chExt cx="1512720" cy="144360"/>
            </a:xfrm>
          </p:grpSpPr>
          <p:sp>
            <p:nvSpPr>
              <p:cNvPr id="280" name=""/>
              <p:cNvSpPr/>
              <p:nvPr/>
            </p:nvSpPr>
            <p:spPr>
              <a:xfrm>
                <a:off x="5651640" y="622152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938920" y="614988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786640" y="609264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flipV="1">
                <a:off x="6819480" y="609264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012000" y="609300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6372360" y="2565360"/>
              <a:ext cx="731880" cy="1528920"/>
            </a:xfrm>
            <a:custGeom>
              <a:avLst/>
              <a:gdLst/>
              <a:ahLst/>
              <a:rect l="l" t="t" r="r" b="b"/>
              <a:pathLst>
                <a:path w="461" h="963">
                  <a:moveTo>
                    <a:pt x="0" y="963"/>
                  </a:moveTo>
                  <a:cubicBezTo>
                    <a:pt x="56" y="907"/>
                    <a:pt x="78" y="837"/>
                    <a:pt x="135" y="780"/>
                  </a:cubicBezTo>
                  <a:cubicBezTo>
                    <a:pt x="166" y="680"/>
                    <a:pt x="130" y="577"/>
                    <a:pt x="96" y="483"/>
                  </a:cubicBezTo>
                  <a:cubicBezTo>
                    <a:pt x="83" y="382"/>
                    <a:pt x="0" y="178"/>
                    <a:pt x="115" y="137"/>
                  </a:cubicBezTo>
                  <a:cubicBezTo>
                    <a:pt x="146" y="108"/>
                    <a:pt x="192" y="89"/>
                    <a:pt x="231" y="70"/>
                  </a:cubicBezTo>
                  <a:cubicBezTo>
                    <a:pt x="299" y="0"/>
                    <a:pt x="342" y="31"/>
                    <a:pt x="461" y="31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93080" y="2565360"/>
              <a:ext cx="907920" cy="1717560"/>
            </a:xfrm>
            <a:custGeom>
              <a:avLst/>
              <a:gdLst/>
              <a:ahLst/>
              <a:rect l="l" t="t" r="r" b="b"/>
              <a:pathLst>
                <a:path w="384" h="1028">
                  <a:moveTo>
                    <a:pt x="384" y="1028"/>
                  </a:moveTo>
                  <a:cubicBezTo>
                    <a:pt x="361" y="963"/>
                    <a:pt x="336" y="904"/>
                    <a:pt x="278" y="864"/>
                  </a:cubicBezTo>
                  <a:cubicBezTo>
                    <a:pt x="272" y="855"/>
                    <a:pt x="264" y="846"/>
                    <a:pt x="259" y="836"/>
                  </a:cubicBezTo>
                  <a:cubicBezTo>
                    <a:pt x="251" y="817"/>
                    <a:pt x="240" y="778"/>
                    <a:pt x="240" y="778"/>
                  </a:cubicBezTo>
                  <a:cubicBezTo>
                    <a:pt x="229" y="424"/>
                    <a:pt x="253" y="559"/>
                    <a:pt x="202" y="394"/>
                  </a:cubicBezTo>
                  <a:cubicBezTo>
                    <a:pt x="216" y="275"/>
                    <a:pt x="256" y="83"/>
                    <a:pt x="115" y="39"/>
                  </a:cubicBezTo>
                  <a:cubicBezTo>
                    <a:pt x="80" y="16"/>
                    <a:pt x="44" y="0"/>
                    <a:pt x="0" y="0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48360" y="2492280"/>
              <a:ext cx="2876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3"/>
          <p:cNvSpPr/>
          <p:nvPr/>
        </p:nvSpPr>
        <p:spPr>
          <a:xfrm>
            <a:off x="1692360" y="0"/>
            <a:ext cx="1008000" cy="1052640"/>
          </a:xfrm>
          <a:prstGeom prst="rect">
            <a:avLst/>
          </a:prstGeom>
          <a:solidFill>
            <a:srgbClr val="c1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0" y="476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Заряд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5148360" y="59119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Одноименные отталкиваются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Стрелка вправо 5"/>
          <p:cNvSpPr/>
          <p:nvPr/>
        </p:nvSpPr>
        <p:spPr>
          <a:xfrm>
            <a:off x="5643720" y="3000240"/>
            <a:ext cx="2928960" cy="35748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edfad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Стрелка влево 6"/>
          <p:cNvSpPr/>
          <p:nvPr/>
        </p:nvSpPr>
        <p:spPr>
          <a:xfrm>
            <a:off x="357120" y="3000240"/>
            <a:ext cx="2643120" cy="357480"/>
          </a:xfrm>
          <a:prstGeom prst="leftArrow">
            <a:avLst>
              <a:gd name="adj1" fmla="val 50000"/>
              <a:gd name="adj2" fmla="val 49942"/>
            </a:avLst>
          </a:prstGeom>
          <a:solidFill>
            <a:srgbClr val="edfad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А знаете ли вы, что ...</a:t>
            </a: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9a"/>
                </a:solidFill>
                <a:latin typeface="Verdana"/>
              </a:rPr>
              <a:t>... янтарь – это окаменевшая смола хвойных деревьев, которые росли на Земле сотни тысяч лет назад. Электризация янтаря трением была известна еще до нашей эры.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298"/>
                </a:solidFill>
                <a:latin typeface="Verdana"/>
              </a:rPr>
              <a:t>... действие тока на живые организмы называется физиологическим действием тока. В просторечии говорят: "ударило током"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.. </a:t>
            </a:r>
            <a:r>
              <a:rPr b="0" lang="en-US" sz="2400" spc="-1" strike="noStrike">
                <a:solidFill>
                  <a:srgbClr val="9a009a"/>
                </a:solidFill>
                <a:latin typeface="Verdana"/>
              </a:rPr>
              <a:t>воздействие тока на организм человека может восприниматься не только как "удар". Например, посещая врача физиотерапевта и принимая процедуру электрофорез, наша кожа чувствует жжение и покалывание (это осязательные ощущения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Закреплени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чему при расчесывании волос пластмассовым гребнем волосы как бы «прилипают» к нему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айдите заряды шаров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68360" y="2923920"/>
            <a:ext cx="8280360" cy="2464200"/>
            <a:chOff x="468360" y="2923920"/>
            <a:chExt cx="8280360" cy="2464200"/>
          </a:xfrm>
        </p:grpSpPr>
        <p:grpSp>
          <p:nvGrpSpPr>
            <p:cNvPr id="300" name=""/>
            <p:cNvGrpSpPr/>
            <p:nvPr/>
          </p:nvGrpSpPr>
          <p:grpSpPr>
            <a:xfrm>
              <a:off x="613080" y="2923920"/>
              <a:ext cx="2733480" cy="2464200"/>
              <a:chOff x="613080" y="2923920"/>
              <a:chExt cx="2733480" cy="246420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1332000" y="3948120"/>
                <a:ext cx="720720" cy="1440000"/>
                <a:chOff x="1332000" y="3948120"/>
                <a:chExt cx="720720" cy="144000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1332000" y="3948120"/>
                  <a:ext cx="720720" cy="1440000"/>
                  <a:chOff x="1332000" y="3948120"/>
                  <a:chExt cx="720720" cy="144000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1332000" y="3948120"/>
                    <a:ext cx="720720" cy="720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1692360" y="4667400"/>
                    <a:ext cx="0" cy="7207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428840" y="5388120"/>
                    <a:ext cx="50292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1404720" y="3971880"/>
                  <a:ext cx="576360" cy="649440"/>
                  <a:chOff x="1404720" y="3971880"/>
                  <a:chExt cx="576360" cy="64944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1404720" y="4332240"/>
                    <a:ext cx="57636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1693800" y="3971880"/>
                    <a:ext cx="0" cy="64944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9" name=""/>
              <p:cNvGrpSpPr/>
              <p:nvPr/>
            </p:nvGrpSpPr>
            <p:grpSpPr>
              <a:xfrm>
                <a:off x="820800" y="2923920"/>
                <a:ext cx="574920" cy="146160"/>
                <a:chOff x="820800" y="2923920"/>
                <a:chExt cx="574920" cy="14616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820800" y="3070080"/>
                  <a:ext cx="574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868320" y="2923920"/>
                  <a:ext cx="9576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1013040" y="292392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1157040" y="2923920"/>
                  <a:ext cx="9468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1300320" y="292392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2772000" y="2939760"/>
                <a:ext cx="574560" cy="146160"/>
                <a:chOff x="2772000" y="2939760"/>
                <a:chExt cx="574560" cy="1461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2772000" y="3085920"/>
                  <a:ext cx="57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2819520" y="2939760"/>
                  <a:ext cx="9576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2964240" y="293976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V="1">
                  <a:off x="3107880" y="2939760"/>
                  <a:ext cx="9468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3251520" y="293976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613080" y="3835440"/>
                <a:ext cx="21564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556000" y="3875400"/>
                <a:ext cx="216000" cy="215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2700000" y="3083040"/>
                <a:ext cx="36036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755280" y="3083040"/>
                <a:ext cx="36036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6085080" y="2955600"/>
              <a:ext cx="2592360" cy="2359440"/>
              <a:chOff x="6085080" y="2955600"/>
              <a:chExt cx="2592360" cy="235944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6948720" y="3875400"/>
                <a:ext cx="720720" cy="1439640"/>
                <a:chOff x="6948720" y="3875400"/>
                <a:chExt cx="720720" cy="143964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6948720" y="3875400"/>
                  <a:ext cx="720720" cy="1439640"/>
                  <a:chOff x="6948720" y="3875400"/>
                  <a:chExt cx="720720" cy="143964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6948720" y="3875400"/>
                    <a:ext cx="720720" cy="720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7309080" y="4594320"/>
                    <a:ext cx="0" cy="72036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7045560" y="5315040"/>
                    <a:ext cx="50292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"/>
                <p:cNvSpPr/>
                <p:nvPr/>
              </p:nvSpPr>
              <p:spPr>
                <a:xfrm>
                  <a:off x="7013880" y="4233960"/>
                  <a:ext cx="57636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6085080" y="401976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461440" y="401976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7734600" y="2995920"/>
                <a:ext cx="792000" cy="1079280"/>
                <a:chOff x="7734600" y="2995920"/>
                <a:chExt cx="792000" cy="1079280"/>
              </a:xfrm>
            </p:grpSpPr>
            <p:grpSp>
              <p:nvGrpSpPr>
                <p:cNvPr id="335" name=""/>
                <p:cNvGrpSpPr/>
                <p:nvPr/>
              </p:nvGrpSpPr>
              <p:grpSpPr>
                <a:xfrm>
                  <a:off x="7734600" y="2995920"/>
                  <a:ext cx="574560" cy="145440"/>
                  <a:chOff x="7734600" y="2995920"/>
                  <a:chExt cx="574560" cy="14544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7734600" y="3141360"/>
                    <a:ext cx="574560" cy="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V="1">
                    <a:off x="7782120" y="2995920"/>
                    <a:ext cx="9576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V="1">
                    <a:off x="7926840" y="2995920"/>
                    <a:ext cx="9504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V="1">
                    <a:off x="8070480" y="2995920"/>
                    <a:ext cx="9468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V="1">
                    <a:off x="8214120" y="2995920"/>
                    <a:ext cx="9504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1" name=""/>
                <p:cNvSpPr/>
                <p:nvPr/>
              </p:nvSpPr>
              <p:spPr>
                <a:xfrm>
                  <a:off x="7950600" y="3140280"/>
                  <a:ext cx="576000" cy="9349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211800" y="2955600"/>
                <a:ext cx="574920" cy="1080000"/>
                <a:chOff x="6211800" y="2955600"/>
                <a:chExt cx="574920" cy="108000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6212160" y="2955600"/>
                  <a:ext cx="574560" cy="146160"/>
                  <a:chOff x="6212160" y="2955600"/>
                  <a:chExt cx="574560" cy="1461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6212160" y="3101760"/>
                    <a:ext cx="574560" cy="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V="1">
                    <a:off x="6259680" y="2955600"/>
                    <a:ext cx="9576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V="1">
                    <a:off x="6404400" y="2955600"/>
                    <a:ext cx="9504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V="1">
                    <a:off x="6548040" y="2955600"/>
                    <a:ext cx="9468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V="1">
                    <a:off x="6691680" y="2955600"/>
                    <a:ext cx="9504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9" name=""/>
                <p:cNvSpPr/>
                <p:nvPr/>
              </p:nvSpPr>
              <p:spPr>
                <a:xfrm flipH="1">
                  <a:off x="6211800" y="3098880"/>
                  <a:ext cx="360360" cy="9367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6516720" y="4956480"/>
                <a:ext cx="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 txBox="1"/>
            <p:nvPr/>
          </p:nvSpPr>
          <p:spPr>
            <a:xfrm>
              <a:off x="6085080" y="438012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468360" y="430704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2772000" y="416412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8533080" y="4380120"/>
              <a:ext cx="2156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</p:grpSp>
      <p:sp>
        <p:nvSpPr>
          <p:cNvPr id="355" name=""/>
          <p:cNvSpPr txBox="1"/>
          <p:nvPr/>
        </p:nvSpPr>
        <p:spPr>
          <a:xfrm>
            <a:off x="6300720" y="5013360"/>
            <a:ext cx="52380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_AlgeriusNr"/>
              </a:rPr>
              <a:t>рис 2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_AlgeriusNr"/>
              <a:ea typeface="a_AlgeriusNr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39640" y="5084640"/>
            <a:ext cx="52416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</a:rPr>
              <a:t>рис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_AlgeriusNr"/>
              <a:ea typeface="a_AlgeriusNr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5589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акой из подвешенных шариков рис 2 имеет больший заря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Домашнее зад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§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5,26, № 93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732720" y="3933720"/>
            <a:ext cx="1801800" cy="1819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17557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258920" y="11286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Цели урок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ознакомить с электризацией тел трением друг о друга, двумя родами зарядов и взаимодействии одноименно и разноименных зарядов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азвивать познавательный интерес к предмету, внимание, память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Формировать навыки развития речи на примере объяснения увиденных явле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Ход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нализ контрольной работы и работа над ошибка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ообщения учащихся о истории изобретения паровых машин, турбин, паровозов; достижения науки и техники в строительстве паровых турбин; использование энергии Солнца на Земл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Ход урока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Формирование новых знани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 знаете ли вы, что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Электризация т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Два рода заряд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заимодействие заряд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6012000" y="4076640"/>
            <a:ext cx="23763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А знаете ли вы, что ...</a:t>
            </a: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в XVIII веке устраивали светские забавы – электризовали людей, растения и домашних животных, при помощи электрической искры поджигали спирт и т.д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0298"/>
                </a:solidFill>
                <a:latin typeface="Verdana"/>
              </a:rPr>
              <a:t>... электризация тел нам хорошо знакома в быту. По ее вине несказанно быстро притягивают пыль полированная мебель и ковры-паласы, липнут к телу синтетические рубашки и платья, "искрят" кофты и свитер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электризации поддаются все тела: большие и маленькие, твердые, жидкие и газообразные (вспомните грозовые тучи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0298"/>
                </a:solidFill>
                <a:latin typeface="Verdana"/>
              </a:rPr>
              <a:t>... в 1700 г. англичанину Уоллу впервые удалось получить электрическую искру, с треском проскочившую между куском янтаря и пальцем экспериментатор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если опыты с расческой или янтарем проводить в темноте и тишине, то можно легко заметить маленькие искорки и даже услышать их треск. Вспомним, что различные искровые явления мы относим к явлениям электрическим. Вот почему электричество назвали янтарным имене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343400" y="2590920"/>
            <a:ext cx="2209680" cy="1325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Электризация тел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Возьмем пластмассовую расческу или авторучку и проведем ею несколько раз по сухим волосам или шерстяному свитеру. Как ни удивительно, но после такого простого действия пластмасса приобретет новое свойство: начнет притягивать мелкие кусочки бумаги, другие легкие предметы и даже тонкие струйки воды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До Нашей эры не было пластмассовых расчесок и авторучек. Однако и в те времена подобные явления были хорошо известны. Для опытов по 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электризации трением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 брали окаменевшую смолу деревьев – янтарь – и натирали его шерстью. После этого и янтарь, и шерсть начинали притягивать к себе сухие травинки и пылинки. По-гречески янтарь – это "электрон". Отсюда и произошло современное слово "электричество" и название 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наэлектризованные тел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4000" y="765000"/>
            <a:ext cx="849600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Опыты показывают, что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два тела – наэлектризованное и ненаэлектризованное – всегда притягиваются.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Примеры: пластмассовая авторучка и тонкая струйка воды, янтарь и сухие травинки. Опыты также показывают, что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два тела, наэлектризованные трением друг о друга, тоже всегда притягиваются.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Например, наэлектризовавшись трением о наше тело (при ходьбе, движениях рук и ног) шелковая рубашка или юбка притягивается, "липнет" к телу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9a"/>
                </a:solidFill>
                <a:latin typeface="Arbat-Bold"/>
              </a:rPr>
              <a:t>Так что же такое электризация?</a:t>
            </a:r>
            <a:r>
              <a:rPr b="0" lang="ru-RU" sz="2000" spc="-1" strike="noStrike">
                <a:solidFill>
                  <a:srgbClr val="006699"/>
                </a:solidFill>
                <a:latin typeface="Arbat-Bold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электризация – это совершение над телами такой работы, после которой они приобретают свойство взаимодействовать друг с другом (притягиваться и отталкиваться) с силами, которые могут быть гораздо большими, чем гравитационные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Verdana"/>
              </a:rPr>
              <a:t>Наэлектризуем эбонитовую палочку шерстяной варежкой, а стеклянную палочку – шелковым платком. Подвесив палочки на нитях, увидим, что эбонит и шерсть, стекло и шелк притягивают друг друга, а стекло и шерсть, эбонит и шелк отталкиваются друг от друга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Отталкивающиеся заряженные тела в физике условились называть одноименно заряженными. А притягивающиеся заряженные тела условились называть разноименно заряженными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До XVIII века ученые не делали различий между "стеклянным", "шерстяным", "шелковым" и другими видами электричества. Однако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в 1733 году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французский ученый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Ш.Дюфэ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выяснил, что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существует электричество двух родов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, в высокой степени отличных один от другого. "Один род я называю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 стеклянным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электричеством, другой -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смоляным.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... </a:t>
            </a:r>
            <a:r>
              <a:rPr b="1" lang="ru-RU" sz="1600" spc="-1" strike="noStrike" u="sng">
                <a:solidFill>
                  <a:srgbClr val="220298"/>
                </a:solidFill>
                <a:uFillTx/>
                <a:latin typeface="Verdana"/>
              </a:rPr>
              <a:t>Тело, наэлектризованное стеклянным электричеством,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 отталкивает все тела со стеклянным электричеством, и, обратно, оно притягивает тела со смоляным электричеством"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21956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Как видите, Ш.Дюфэ обнаружил, что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"стеклянным"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электричеством можно наэлектризовать не только стекло, а любое тело . Взгляните на рисунок справа. Верхней эбонитовой палочке мы передали некоторое количество "стеклянного" электричества, и она начала отталкивать стеклян-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ную палочку. Нижняя же эбонитовая палочка наэлектризована как обычно: трением о шерсть или мех.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093080" y="3213000"/>
            <a:ext cx="1609560" cy="1543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26920" y="3332160"/>
            <a:ext cx="59058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Полвека спустя термины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"стеклянное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и </a:t>
            </a:r>
            <a:r>
              <a:rPr b="1" lang="ru-RU" sz="1800" spc="-1" strike="noStrike">
                <a:solidFill>
                  <a:srgbClr val="9a009a"/>
                </a:solidFill>
                <a:latin typeface="Verdana"/>
              </a:rPr>
              <a:t>"смоляное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электричество были заменены на другие: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"положительный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и </a:t>
            </a:r>
            <a:r>
              <a:rPr b="1" lang="ru-RU" sz="1800" spc="-1" strike="noStrike">
                <a:solidFill>
                  <a:srgbClr val="9a009a"/>
                </a:solidFill>
                <a:latin typeface="Verdana"/>
              </a:rPr>
              <a:t>"отрицательный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заряд. Эти названия сохранились до сегодняшнего дня: </a:t>
            </a:r>
            <a:br>
              <a:rPr sz="1800"/>
            </a:b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+q   – положительный заряд (так заряжается стекло, потертое о шелк; шерсть, потертая об эбонит)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–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q   – отрицательный заряд (заряд шелка при трении о стекло; заряд эбонита при трении о шерсть)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4:57:27Z</dcterms:created>
  <dc:creator>Игорь</dc:creator>
  <dc:description/>
  <dc:language>en-US</dc:language>
  <cp:lastModifiedBy>Sergey</cp:lastModifiedBy>
  <dcterms:modified xsi:type="dcterms:W3CDTF">2012-02-21T14:16:55Z</dcterms:modified>
  <cp:revision>8</cp:revision>
  <dc:subject/>
  <dc:title>Электризация тел при соприкосновении. Взаимодействие заряженных тел. Два рода зарядов </dc:title>
</cp:coreProperties>
</file>