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A0B76-9712-4555-AA5D-EEFEC25FB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72BF2-1A4B-412E-98C3-92049E646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7ABEA-FA50-4985-B3AF-9F1F2CC8A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03EEF-0DAE-4C70-838D-8E60521D9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075B5-BE7A-4D34-84FA-77ED3681A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F0C52-55F0-41C8-9F62-1D891D986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77743-6CB3-4C55-84DB-1F60CF143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FA634-FD4B-4E20-982E-0F00C12F7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520C8-87F0-47A6-83ED-43645986B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70AE5-7D83-4A10-9375-DCC37DD3C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AEA9F-80C6-4527-A590-7B70FA739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C0066-D0BA-4D0C-BC1F-54C88FF86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75DCA-242D-46A4-8EF6-075C8E8BA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6DBDD-0495-4622-912F-8C9019000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2D709-38B9-4D62-8EBD-980B3C461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71AA2-F3F9-4929-B2E6-37B33BB2F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046AA-C841-4B35-9F7E-852457C60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E37B1-2742-4B18-B96A-E841620C2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1F53A-2E45-4A7D-9CE8-CB8313AE2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E90AA-A0EC-4DCF-A529-38A720425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5EBB9-23CB-4D8E-BAE6-1D9B32295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EB8D4-7872-4B81-AFD5-758B5ADC2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31749-A23E-4EBC-973F-8372C02B5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80FE3-4570-4BA1-BADF-640B3B037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533EF-3563-4DE0-A1D7-B018DF038A51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17602-0A9A-4C10-A025-CD79E5450959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file:///../../&#1052;&#1086;&#1080;%20&#1076;&#1086;&#1082;&#1091;&#1084;&#1077;&#1085;&#1090;&#1099;/&#1047;&#1072;&#1075;&#1088;&#1091;&#1079;&#1082;&#1080;/p09a.htm" TargetMode="External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../../&#1052;&#1086;&#1080;%20&#1076;&#1086;&#1082;&#1091;&#1084;&#1077;&#1085;&#1090;&#1099;/&#1047;&#1072;&#1075;&#1088;&#1091;&#1079;&#1082;&#1080;/p09a.htm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file:///../../&#1052;&#1086;&#1080;%20&#1076;&#1086;&#1082;&#1091;&#1084;&#1077;&#1085;&#1090;&#1099;/&#1047;&#1072;&#1075;&#1088;&#1091;&#1079;&#1082;&#1080;/p09a.htm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4360" y="2565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Verdana"/>
              </a:rPr>
              <a:t>Электризация тел при соприкосновении. Взаимодействие заряженных тел. Два рода зарядов</a:t>
            </a:r>
            <a:r>
              <a:rPr b="1" lang="en-US" sz="48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1" lang="en-US" sz="4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1476360" y="4581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8 класс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2195640" y="5229360"/>
            <a:ext cx="5715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Больц Сергей Валерьевич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учитель физики 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МОУ «СОШ №18» г.о. Балашиха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6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9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a009a"/>
                </a:solidFill>
                <a:latin typeface="Verdana"/>
              </a:rPr>
              <a:t>Тела, имеющие электрические заряды одного знака, взаимно отталкиваются, а тела имеющие заряды противоположного знака, взаимно притягиваются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56160" y="3141720"/>
            <a:ext cx="4263480" cy="3112560"/>
            <a:chOff x="56160" y="3141720"/>
            <a:chExt cx="4263480" cy="3112560"/>
          </a:xfrm>
        </p:grpSpPr>
        <p:sp>
          <p:nvSpPr>
            <p:cNvPr id="190" name=""/>
            <p:cNvSpPr/>
            <p:nvPr/>
          </p:nvSpPr>
          <p:spPr>
            <a:xfrm>
              <a:off x="2979720" y="4502160"/>
              <a:ext cx="0" cy="15843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452240" y="4502160"/>
              <a:ext cx="0" cy="15843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192" name=""/>
            <p:cNvGrpSpPr/>
            <p:nvPr/>
          </p:nvGrpSpPr>
          <p:grpSpPr>
            <a:xfrm>
              <a:off x="56160" y="3294000"/>
              <a:ext cx="2345040" cy="2562120"/>
              <a:chOff x="56160" y="3294000"/>
              <a:chExt cx="2345040" cy="2562120"/>
            </a:xfrm>
          </p:grpSpPr>
          <p:sp>
            <p:nvSpPr>
              <p:cNvPr id="193" name=""/>
              <p:cNvSpPr/>
              <p:nvPr/>
            </p:nvSpPr>
            <p:spPr>
              <a:xfrm>
                <a:off x="459000" y="3852720"/>
                <a:ext cx="1008000" cy="1298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 rot="1563600">
                <a:off x="486360" y="3637800"/>
                <a:ext cx="1008720" cy="1298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 rot="3573000">
                <a:off x="680040" y="3460680"/>
                <a:ext cx="1008720" cy="1297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 rot="5587200">
                <a:off x="905040" y="3402720"/>
                <a:ext cx="1008720" cy="1297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 rot="1301400">
                <a:off x="645840" y="4417200"/>
                <a:ext cx="1008000" cy="1298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 rot="4309200">
                <a:off x="324720" y="4038480"/>
                <a:ext cx="1009440" cy="1297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 rot="4773000">
                <a:off x="849960" y="3340080"/>
                <a:ext cx="1009440" cy="1297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 rot="6870000">
                <a:off x="1096920" y="3380760"/>
                <a:ext cx="1008720" cy="1297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963360" y="4502160"/>
                <a:ext cx="1008720" cy="1298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 rot="3187800">
                <a:off x="451440" y="4164120"/>
                <a:ext cx="1008720" cy="1297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 rot="809400">
                <a:off x="461520" y="3713400"/>
                <a:ext cx="1008000" cy="1298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 rot="1713600">
                <a:off x="550440" y="3549960"/>
                <a:ext cx="1008000" cy="1297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 rot="3415200">
                <a:off x="588600" y="3422160"/>
                <a:ext cx="1009440" cy="1297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rot="488400">
                <a:off x="828360" y="4466520"/>
                <a:ext cx="1008000" cy="1297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1974600" y="3294000"/>
              <a:ext cx="2345040" cy="2562120"/>
              <a:chOff x="1974600" y="3294000"/>
              <a:chExt cx="2345040" cy="2562120"/>
            </a:xfrm>
          </p:grpSpPr>
          <p:sp>
            <p:nvSpPr>
              <p:cNvPr id="208" name=""/>
              <p:cNvSpPr/>
              <p:nvPr/>
            </p:nvSpPr>
            <p:spPr>
              <a:xfrm flipH="1">
                <a:off x="2908800" y="3852720"/>
                <a:ext cx="1008000" cy="1298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flipH="1" rot="20036400">
                <a:off x="2880000" y="3637800"/>
                <a:ext cx="1008720" cy="1298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flipH="1" rot="18027000">
                <a:off x="2685960" y="3460680"/>
                <a:ext cx="1008720" cy="1296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flipH="1" rot="16012800">
                <a:off x="2461680" y="3402720"/>
                <a:ext cx="1008720" cy="1296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flipH="1" rot="20298600">
                <a:off x="2721240" y="4417200"/>
                <a:ext cx="1008000" cy="1298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flipH="1" rot="17290800">
                <a:off x="3040920" y="4038480"/>
                <a:ext cx="1009440" cy="1297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rot="16827000">
                <a:off x="2515680" y="3340080"/>
                <a:ext cx="1009440" cy="1297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flipH="1" rot="14730000">
                <a:off x="2269440" y="3380760"/>
                <a:ext cx="1008720" cy="1297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>
                <a:off x="2403720" y="4502160"/>
                <a:ext cx="1008720" cy="1298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flipH="1" rot="18412200">
                <a:off x="2914920" y="4164120"/>
                <a:ext cx="1008720" cy="1296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flipH="1" rot="20790600">
                <a:off x="2905560" y="3713400"/>
                <a:ext cx="1008000" cy="1298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flipH="1" rot="19886400">
                <a:off x="2816640" y="3550320"/>
                <a:ext cx="1008000" cy="1297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H="1" rot="18184800">
                <a:off x="2777400" y="3421800"/>
                <a:ext cx="1009080" cy="1297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flipH="1" rot="21111600">
                <a:off x="2539080" y="4466160"/>
                <a:ext cx="1008000" cy="1297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22" name=""/>
            <p:cNvGrpSpPr/>
            <p:nvPr/>
          </p:nvGrpSpPr>
          <p:grpSpPr>
            <a:xfrm>
              <a:off x="634680" y="6086160"/>
              <a:ext cx="1512720" cy="144360"/>
              <a:chOff x="634680" y="6086160"/>
              <a:chExt cx="1512720" cy="144360"/>
            </a:xfrm>
          </p:grpSpPr>
          <p:sp>
            <p:nvSpPr>
              <p:cNvPr id="223" name=""/>
              <p:cNvSpPr/>
              <p:nvPr/>
            </p:nvSpPr>
            <p:spPr>
              <a:xfrm>
                <a:off x="634680" y="6215040"/>
                <a:ext cx="151272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921960" y="6143400"/>
                <a:ext cx="93672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flipV="1">
                <a:off x="769680" y="6086160"/>
                <a:ext cx="217440" cy="14436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flipH="1" flipV="1">
                <a:off x="1802520" y="6086160"/>
                <a:ext cx="217800" cy="14436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995040" y="6086520"/>
                <a:ext cx="79200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28" name=""/>
            <p:cNvGrpSpPr/>
            <p:nvPr/>
          </p:nvGrpSpPr>
          <p:grpSpPr>
            <a:xfrm>
              <a:off x="2226960" y="6109920"/>
              <a:ext cx="1512720" cy="144360"/>
              <a:chOff x="2226960" y="6109920"/>
              <a:chExt cx="1512720" cy="144360"/>
            </a:xfrm>
          </p:grpSpPr>
          <p:sp>
            <p:nvSpPr>
              <p:cNvPr id="229" name=""/>
              <p:cNvSpPr/>
              <p:nvPr/>
            </p:nvSpPr>
            <p:spPr>
              <a:xfrm>
                <a:off x="2226960" y="6238800"/>
                <a:ext cx="151272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2514240" y="6167160"/>
                <a:ext cx="93672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flipV="1">
                <a:off x="2361960" y="6109920"/>
                <a:ext cx="217440" cy="14436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flipH="1" flipV="1">
                <a:off x="3394800" y="6109920"/>
                <a:ext cx="217800" cy="14436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2587320" y="6110280"/>
                <a:ext cx="79200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34" name=""/>
            <p:cNvSpPr/>
            <p:nvPr/>
          </p:nvSpPr>
          <p:spPr>
            <a:xfrm>
              <a:off x="250920" y="3263760"/>
              <a:ext cx="1631520" cy="1263960"/>
            </a:xfrm>
            <a:custGeom>
              <a:avLst/>
              <a:gdLst/>
              <a:ahLst/>
              <a:rect l="l" t="t" r="r" b="b"/>
              <a:pathLst>
                <a:path w="1028" h="796">
                  <a:moveTo>
                    <a:pt x="692" y="796"/>
                  </a:moveTo>
                  <a:cubicBezTo>
                    <a:pt x="545" y="793"/>
                    <a:pt x="397" y="793"/>
                    <a:pt x="250" y="787"/>
                  </a:cubicBezTo>
                  <a:cubicBezTo>
                    <a:pt x="203" y="785"/>
                    <a:pt x="178" y="733"/>
                    <a:pt x="135" y="720"/>
                  </a:cubicBezTo>
                  <a:cubicBezTo>
                    <a:pt x="98" y="683"/>
                    <a:pt x="74" y="641"/>
                    <a:pt x="39" y="604"/>
                  </a:cubicBezTo>
                  <a:cubicBezTo>
                    <a:pt x="19" y="549"/>
                    <a:pt x="38" y="602"/>
                    <a:pt x="10" y="518"/>
                  </a:cubicBezTo>
                  <a:cubicBezTo>
                    <a:pt x="7" y="508"/>
                    <a:pt x="0" y="489"/>
                    <a:pt x="0" y="489"/>
                  </a:cubicBezTo>
                  <a:cubicBezTo>
                    <a:pt x="10" y="351"/>
                    <a:pt x="10" y="385"/>
                    <a:pt x="39" y="297"/>
                  </a:cubicBezTo>
                  <a:cubicBezTo>
                    <a:pt x="72" y="197"/>
                    <a:pt x="85" y="118"/>
                    <a:pt x="212" y="115"/>
                  </a:cubicBezTo>
                  <a:cubicBezTo>
                    <a:pt x="436" y="109"/>
                    <a:pt x="660" y="108"/>
                    <a:pt x="884" y="105"/>
                  </a:cubicBezTo>
                  <a:cubicBezTo>
                    <a:pt x="916" y="95"/>
                    <a:pt x="938" y="77"/>
                    <a:pt x="970" y="67"/>
                  </a:cubicBezTo>
                  <a:cubicBezTo>
                    <a:pt x="988" y="39"/>
                    <a:pt x="1013" y="28"/>
                    <a:pt x="1028" y="0"/>
                  </a:cubicBezTo>
                </a:path>
              </a:pathLst>
            </a:custGeom>
            <a:noFill/>
            <a:ln w="93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307960" y="3324240"/>
              <a:ext cx="1523880" cy="1252440"/>
            </a:xfrm>
            <a:custGeom>
              <a:avLst/>
              <a:gdLst/>
              <a:ahLst/>
              <a:rect l="l" t="t" r="r" b="b"/>
              <a:pathLst>
                <a:path w="960" h="789">
                  <a:moveTo>
                    <a:pt x="442" y="787"/>
                  </a:moveTo>
                  <a:cubicBezTo>
                    <a:pt x="552" y="753"/>
                    <a:pt x="426" y="789"/>
                    <a:pt x="711" y="768"/>
                  </a:cubicBezTo>
                  <a:cubicBezTo>
                    <a:pt x="744" y="766"/>
                    <a:pt x="797" y="720"/>
                    <a:pt x="797" y="720"/>
                  </a:cubicBezTo>
                  <a:cubicBezTo>
                    <a:pt x="815" y="692"/>
                    <a:pt x="837" y="671"/>
                    <a:pt x="855" y="643"/>
                  </a:cubicBezTo>
                  <a:cubicBezTo>
                    <a:pt x="868" y="603"/>
                    <a:pt x="897" y="570"/>
                    <a:pt x="932" y="547"/>
                  </a:cubicBezTo>
                  <a:cubicBezTo>
                    <a:pt x="948" y="523"/>
                    <a:pt x="960" y="511"/>
                    <a:pt x="960" y="480"/>
                  </a:cubicBezTo>
                  <a:cubicBezTo>
                    <a:pt x="960" y="397"/>
                    <a:pt x="956" y="313"/>
                    <a:pt x="951" y="230"/>
                  </a:cubicBezTo>
                  <a:cubicBezTo>
                    <a:pt x="949" y="207"/>
                    <a:pt x="946" y="181"/>
                    <a:pt x="932" y="163"/>
                  </a:cubicBezTo>
                  <a:cubicBezTo>
                    <a:pt x="916" y="142"/>
                    <a:pt x="794" y="78"/>
                    <a:pt x="759" y="77"/>
                  </a:cubicBezTo>
                  <a:cubicBezTo>
                    <a:pt x="522" y="71"/>
                    <a:pt x="285" y="70"/>
                    <a:pt x="48" y="67"/>
                  </a:cubicBezTo>
                  <a:cubicBezTo>
                    <a:pt x="12" y="42"/>
                    <a:pt x="0" y="45"/>
                    <a:pt x="0" y="0"/>
                  </a:cubicBezTo>
                </a:path>
              </a:pathLst>
            </a:custGeom>
            <a:noFill/>
            <a:ln w="936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36" name=""/>
            <p:cNvGrpSpPr/>
            <p:nvPr/>
          </p:nvGrpSpPr>
          <p:grpSpPr>
            <a:xfrm>
              <a:off x="1723680" y="3141720"/>
              <a:ext cx="360000" cy="287280"/>
              <a:chOff x="1723680" y="3141720"/>
              <a:chExt cx="360000" cy="287280"/>
            </a:xfrm>
          </p:grpSpPr>
          <p:sp>
            <p:nvSpPr>
              <p:cNvPr id="237" name=""/>
              <p:cNvSpPr/>
              <p:nvPr/>
            </p:nvSpPr>
            <p:spPr>
              <a:xfrm>
                <a:off x="1723680" y="3286080"/>
                <a:ext cx="360000" cy="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1899720" y="3141720"/>
                <a:ext cx="0" cy="28728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2147760" y="3286080"/>
              <a:ext cx="360000" cy="0"/>
            </a:xfrm>
            <a:prstGeom prst="line">
              <a:avLst/>
            </a:prstGeom>
            <a:ln w="381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5123160" y="2492280"/>
            <a:ext cx="4043520" cy="3744720"/>
            <a:chOff x="5123160" y="2492280"/>
            <a:chExt cx="4043520" cy="3744720"/>
          </a:xfrm>
        </p:grpSpPr>
        <p:sp>
          <p:nvSpPr>
            <p:cNvPr id="241" name=""/>
            <p:cNvSpPr/>
            <p:nvPr/>
          </p:nvSpPr>
          <p:spPr>
            <a:xfrm>
              <a:off x="6372360" y="4221000"/>
              <a:ext cx="0" cy="18720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28000" y="4221000"/>
              <a:ext cx="0" cy="18720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43" name=""/>
            <p:cNvGrpSpPr/>
            <p:nvPr/>
          </p:nvGrpSpPr>
          <p:grpSpPr>
            <a:xfrm>
              <a:off x="5123160" y="2959560"/>
              <a:ext cx="2487960" cy="2630880"/>
              <a:chOff x="5123160" y="2959560"/>
              <a:chExt cx="2487960" cy="2630880"/>
            </a:xfrm>
          </p:grpSpPr>
          <p:sp>
            <p:nvSpPr>
              <p:cNvPr id="244" name=""/>
              <p:cNvSpPr/>
              <p:nvPr/>
            </p:nvSpPr>
            <p:spPr>
              <a:xfrm flipH="1" rot="20094600">
                <a:off x="6201360" y="3336480"/>
                <a:ext cx="1008720" cy="1298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flipH="1" rot="18531000">
                <a:off x="6085080" y="3153600"/>
                <a:ext cx="1009440" cy="1298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flipH="1" rot="16521600">
                <a:off x="5834520" y="3075120"/>
                <a:ext cx="1008720" cy="1297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flipH="1" rot="14506800">
                <a:off x="5606280" y="3118320"/>
                <a:ext cx="1008720" cy="1297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flipH="1" rot="18793200">
                <a:off x="6271560" y="3927600"/>
                <a:ext cx="1008720" cy="1298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flipH="1" rot="15785400">
                <a:off x="6401520" y="3448080"/>
                <a:ext cx="1009440" cy="1297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flipH="1" rot="15321600">
                <a:off x="5628960" y="3038040"/>
                <a:ext cx="1009440" cy="1297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flipH="1" rot="13224600">
                <a:off x="5423040" y="3179880"/>
                <a:ext cx="1008720" cy="1298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flipH="1" rot="20094600">
                <a:off x="6019560" y="4138920"/>
                <a:ext cx="1009440" cy="1298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flipH="1" rot="16906200">
                <a:off x="6339960" y="3615120"/>
                <a:ext cx="1008720" cy="1297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flipH="1" rot="19285200">
                <a:off x="6140160" y="3211560"/>
                <a:ext cx="1008360" cy="1298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flipH="1" rot="18381000">
                <a:off x="5990040" y="3101400"/>
                <a:ext cx="1008720" cy="1298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flipH="1" rot="16679400">
                <a:off x="5899680" y="3001320"/>
                <a:ext cx="1009440" cy="1298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flipH="1" rot="19606200">
                <a:off x="6127560" y="4049280"/>
                <a:ext cx="1008720" cy="1298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8" name=""/>
            <p:cNvGrpSpPr/>
            <p:nvPr/>
          </p:nvGrpSpPr>
          <p:grpSpPr>
            <a:xfrm>
              <a:off x="7380360" y="6092640"/>
              <a:ext cx="1512720" cy="144360"/>
              <a:chOff x="7380360" y="6092640"/>
              <a:chExt cx="1512720" cy="144360"/>
            </a:xfrm>
          </p:grpSpPr>
          <p:sp>
            <p:nvSpPr>
              <p:cNvPr id="259" name=""/>
              <p:cNvSpPr/>
              <p:nvPr/>
            </p:nvSpPr>
            <p:spPr>
              <a:xfrm>
                <a:off x="7380360" y="6221520"/>
                <a:ext cx="151272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7667640" y="6149880"/>
                <a:ext cx="93672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flipV="1">
                <a:off x="7515360" y="6092640"/>
                <a:ext cx="217440" cy="14436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flipH="1" flipV="1">
                <a:off x="8548200" y="6092640"/>
                <a:ext cx="217800" cy="14436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7740720" y="6093000"/>
                <a:ext cx="79200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64" name=""/>
            <p:cNvGrpSpPr/>
            <p:nvPr/>
          </p:nvGrpSpPr>
          <p:grpSpPr>
            <a:xfrm>
              <a:off x="6723000" y="3057480"/>
              <a:ext cx="2443680" cy="2609640"/>
              <a:chOff x="6723000" y="3057480"/>
              <a:chExt cx="2443680" cy="2609640"/>
            </a:xfrm>
          </p:grpSpPr>
          <p:sp>
            <p:nvSpPr>
              <p:cNvPr id="265" name=""/>
              <p:cNvSpPr/>
              <p:nvPr/>
            </p:nvSpPr>
            <p:spPr>
              <a:xfrm rot="956400">
                <a:off x="7097040" y="3492000"/>
                <a:ext cx="1008720" cy="1298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2520000">
                <a:off x="7182720" y="3292560"/>
                <a:ext cx="1009440" cy="1298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4529400">
                <a:off x="7418160" y="3175200"/>
                <a:ext cx="1008720" cy="1297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6543600">
                <a:off x="7650000" y="3181680"/>
                <a:ext cx="1008720" cy="1297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2257800">
                <a:off x="7122240" y="4086360"/>
                <a:ext cx="1008720" cy="1298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5265600">
                <a:off x="6917040" y="3633480"/>
                <a:ext cx="1009440" cy="1297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 rot="5729400">
                <a:off x="7614000" y="3106080"/>
                <a:ext cx="1009440" cy="1297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7827000">
                <a:off x="7840800" y="3213000"/>
                <a:ext cx="1008720" cy="1298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956400">
                <a:off x="7403760" y="4254840"/>
                <a:ext cx="1009440" cy="1298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4144200">
                <a:off x="7004520" y="3788640"/>
                <a:ext cx="1008720" cy="1297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766400">
                <a:off x="7138080" y="3358440"/>
                <a:ext cx="1008720" cy="1298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2670000">
                <a:off x="7268400" y="3226320"/>
                <a:ext cx="1008720" cy="1297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4371600">
                <a:off x="7341120" y="3112920"/>
                <a:ext cx="1009440" cy="1298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444800">
                <a:off x="7283880" y="4183560"/>
                <a:ext cx="1008720" cy="1297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79" name=""/>
            <p:cNvGrpSpPr/>
            <p:nvPr/>
          </p:nvGrpSpPr>
          <p:grpSpPr>
            <a:xfrm>
              <a:off x="5651640" y="6092640"/>
              <a:ext cx="1512720" cy="144360"/>
              <a:chOff x="5651640" y="6092640"/>
              <a:chExt cx="1512720" cy="144360"/>
            </a:xfrm>
          </p:grpSpPr>
          <p:sp>
            <p:nvSpPr>
              <p:cNvPr id="280" name=""/>
              <p:cNvSpPr/>
              <p:nvPr/>
            </p:nvSpPr>
            <p:spPr>
              <a:xfrm>
                <a:off x="5651640" y="6221520"/>
                <a:ext cx="151272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5938920" y="6149880"/>
                <a:ext cx="93672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flipV="1">
                <a:off x="5786640" y="6092640"/>
                <a:ext cx="217440" cy="14436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flipH="1" flipV="1">
                <a:off x="6819480" y="6092640"/>
                <a:ext cx="217800" cy="14436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6012000" y="6093000"/>
                <a:ext cx="79200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85" name=""/>
            <p:cNvSpPr/>
            <p:nvPr/>
          </p:nvSpPr>
          <p:spPr>
            <a:xfrm>
              <a:off x="6372360" y="2565360"/>
              <a:ext cx="731880" cy="1528920"/>
            </a:xfrm>
            <a:custGeom>
              <a:avLst/>
              <a:gdLst/>
              <a:ahLst/>
              <a:rect l="l" t="t" r="r" b="b"/>
              <a:pathLst>
                <a:path w="461" h="963">
                  <a:moveTo>
                    <a:pt x="0" y="963"/>
                  </a:moveTo>
                  <a:cubicBezTo>
                    <a:pt x="56" y="907"/>
                    <a:pt x="78" y="837"/>
                    <a:pt x="135" y="780"/>
                  </a:cubicBezTo>
                  <a:cubicBezTo>
                    <a:pt x="166" y="680"/>
                    <a:pt x="130" y="577"/>
                    <a:pt x="96" y="483"/>
                  </a:cubicBezTo>
                  <a:cubicBezTo>
                    <a:pt x="83" y="382"/>
                    <a:pt x="0" y="178"/>
                    <a:pt x="115" y="137"/>
                  </a:cubicBezTo>
                  <a:cubicBezTo>
                    <a:pt x="146" y="108"/>
                    <a:pt x="192" y="89"/>
                    <a:pt x="231" y="70"/>
                  </a:cubicBezTo>
                  <a:cubicBezTo>
                    <a:pt x="299" y="0"/>
                    <a:pt x="342" y="31"/>
                    <a:pt x="461" y="31"/>
                  </a:cubicBezTo>
                </a:path>
              </a:pathLst>
            </a:custGeom>
            <a:noFill/>
            <a:ln w="936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7093080" y="2565360"/>
              <a:ext cx="907920" cy="1717560"/>
            </a:xfrm>
            <a:custGeom>
              <a:avLst/>
              <a:gdLst/>
              <a:ahLst/>
              <a:rect l="l" t="t" r="r" b="b"/>
              <a:pathLst>
                <a:path w="384" h="1028">
                  <a:moveTo>
                    <a:pt x="384" y="1028"/>
                  </a:moveTo>
                  <a:cubicBezTo>
                    <a:pt x="361" y="963"/>
                    <a:pt x="336" y="904"/>
                    <a:pt x="278" y="864"/>
                  </a:cubicBezTo>
                  <a:cubicBezTo>
                    <a:pt x="272" y="855"/>
                    <a:pt x="264" y="846"/>
                    <a:pt x="259" y="836"/>
                  </a:cubicBezTo>
                  <a:cubicBezTo>
                    <a:pt x="251" y="817"/>
                    <a:pt x="240" y="778"/>
                    <a:pt x="240" y="778"/>
                  </a:cubicBezTo>
                  <a:cubicBezTo>
                    <a:pt x="229" y="424"/>
                    <a:pt x="253" y="559"/>
                    <a:pt x="202" y="394"/>
                  </a:cubicBezTo>
                  <a:cubicBezTo>
                    <a:pt x="216" y="275"/>
                    <a:pt x="256" y="83"/>
                    <a:pt x="115" y="39"/>
                  </a:cubicBezTo>
                  <a:cubicBezTo>
                    <a:pt x="80" y="16"/>
                    <a:pt x="44" y="0"/>
                    <a:pt x="0" y="0"/>
                  </a:cubicBezTo>
                </a:path>
              </a:pathLst>
            </a:custGeom>
            <a:noFill/>
            <a:ln w="936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948360" y="2492280"/>
              <a:ext cx="287640" cy="0"/>
            </a:xfrm>
            <a:prstGeom prst="line">
              <a:avLst/>
            </a:prstGeom>
            <a:ln w="5724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0" name="Rectangle 3"/>
          <p:cNvSpPr/>
          <p:nvPr/>
        </p:nvSpPr>
        <p:spPr>
          <a:xfrm>
            <a:off x="1692360" y="0"/>
            <a:ext cx="1008000" cy="1052640"/>
          </a:xfrm>
          <a:prstGeom prst="rect">
            <a:avLst/>
          </a:prstGeom>
          <a:solidFill>
            <a:srgbClr val="c1ea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91" name="Text Box 4"/>
          <p:cNvSpPr/>
          <p:nvPr/>
        </p:nvSpPr>
        <p:spPr>
          <a:xfrm>
            <a:off x="0" y="476280"/>
            <a:ext cx="28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Verdana"/>
              </a:rPr>
              <a:t>Заряды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92" name="Text Box 5"/>
          <p:cNvSpPr/>
          <p:nvPr/>
        </p:nvSpPr>
        <p:spPr>
          <a:xfrm>
            <a:off x="5148360" y="5911920"/>
            <a:ext cx="360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Одноименные отталкиваются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93" name="Стрелка вправо 5"/>
          <p:cNvSpPr/>
          <p:nvPr/>
        </p:nvSpPr>
        <p:spPr>
          <a:xfrm>
            <a:off x="5643720" y="3000240"/>
            <a:ext cx="2928960" cy="357480"/>
          </a:xfrm>
          <a:prstGeom prst="rightArrow">
            <a:avLst>
              <a:gd name="adj1" fmla="val 50000"/>
              <a:gd name="adj2" fmla="val 49957"/>
            </a:avLst>
          </a:prstGeom>
          <a:solidFill>
            <a:srgbClr val="edfad2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94" name="Стрелка влево 6"/>
          <p:cNvSpPr/>
          <p:nvPr/>
        </p:nvSpPr>
        <p:spPr>
          <a:xfrm>
            <a:off x="357120" y="3000240"/>
            <a:ext cx="2643120" cy="357480"/>
          </a:xfrm>
          <a:prstGeom prst="leftArrow">
            <a:avLst>
              <a:gd name="adj1" fmla="val 50000"/>
              <a:gd name="adj2" fmla="val 49942"/>
            </a:avLst>
          </a:prstGeom>
          <a:solidFill>
            <a:srgbClr val="edfad2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99ff"/>
                </a:solidFill>
                <a:uFillTx/>
                <a:latin typeface="Verdana"/>
                <a:hlinkClick r:id="rId1"/>
              </a:rPr>
              <a:t>А знаете ли вы, что ...</a:t>
            </a:r>
            <a:r>
              <a:rPr b="0" lang="en-US" sz="4400" spc="-1" strike="noStrike" u="sng">
                <a:solidFill>
                  <a:srgbClr val="006666"/>
                </a:solidFill>
                <a:uFillTx/>
                <a:latin typeface="Verdana"/>
              </a:rPr>
              <a:t> 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a009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009a"/>
                </a:solidFill>
                <a:latin typeface="Verdana"/>
              </a:rPr>
              <a:t>... янтарь – это окаменевшая смола хвойных деревьев, которые росли на Земле сотни тысяч лет назад. Электризация янтаря трением была известна еще до нашей эры.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2029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0298"/>
                </a:solidFill>
                <a:latin typeface="Verdana"/>
              </a:rPr>
              <a:t>... действие тока на живые организмы называется физиологическим действием тока. В просторечии говорят: "ударило током".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... </a:t>
            </a:r>
            <a:r>
              <a:rPr b="0" lang="en-US" sz="2400" spc="-1" strike="noStrike">
                <a:solidFill>
                  <a:srgbClr val="9a009a"/>
                </a:solidFill>
                <a:latin typeface="Verdana"/>
              </a:rPr>
              <a:t>воздействие тока на организм человека может восприниматься не только как "удар". Например, посещая врача физиотерапевта и принимая процедуру электрофорез, наша кожа чувствует жжение и покалывание (это осязательные ощущения)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Verdana"/>
              </a:rPr>
              <a:t>Закрепление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68360" y="83664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Почему при расчесывании волос пластмассовым гребнем волосы как бы «прилипают» к нему?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Найдите заряды шаров: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468360" y="2923920"/>
            <a:ext cx="8280360" cy="2464200"/>
            <a:chOff x="468360" y="2923920"/>
            <a:chExt cx="8280360" cy="2464200"/>
          </a:xfrm>
        </p:grpSpPr>
        <p:grpSp>
          <p:nvGrpSpPr>
            <p:cNvPr id="300" name=""/>
            <p:cNvGrpSpPr/>
            <p:nvPr/>
          </p:nvGrpSpPr>
          <p:grpSpPr>
            <a:xfrm>
              <a:off x="613080" y="2923920"/>
              <a:ext cx="2733480" cy="2464200"/>
              <a:chOff x="613080" y="2923920"/>
              <a:chExt cx="2733480" cy="2464200"/>
            </a:xfrm>
          </p:grpSpPr>
          <p:grpSp>
            <p:nvGrpSpPr>
              <p:cNvPr id="301" name=""/>
              <p:cNvGrpSpPr/>
              <p:nvPr/>
            </p:nvGrpSpPr>
            <p:grpSpPr>
              <a:xfrm>
                <a:off x="1332000" y="3948120"/>
                <a:ext cx="720720" cy="1440000"/>
                <a:chOff x="1332000" y="3948120"/>
                <a:chExt cx="720720" cy="1440000"/>
              </a:xfrm>
            </p:grpSpPr>
            <p:grpSp>
              <p:nvGrpSpPr>
                <p:cNvPr id="302" name=""/>
                <p:cNvGrpSpPr/>
                <p:nvPr/>
              </p:nvGrpSpPr>
              <p:grpSpPr>
                <a:xfrm>
                  <a:off x="1332000" y="3948120"/>
                  <a:ext cx="720720" cy="1440000"/>
                  <a:chOff x="1332000" y="3948120"/>
                  <a:chExt cx="720720" cy="1440000"/>
                </a:xfrm>
              </p:grpSpPr>
              <p:sp>
                <p:nvSpPr>
                  <p:cNvPr id="303" name=""/>
                  <p:cNvSpPr/>
                  <p:nvPr/>
                </p:nvSpPr>
                <p:spPr>
                  <a:xfrm>
                    <a:off x="1332000" y="3948120"/>
                    <a:ext cx="720720" cy="7207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4" name=""/>
                  <p:cNvSpPr/>
                  <p:nvPr/>
                </p:nvSpPr>
                <p:spPr>
                  <a:xfrm>
                    <a:off x="1692360" y="4667400"/>
                    <a:ext cx="0" cy="720720"/>
                  </a:xfrm>
                  <a:prstGeom prst="line">
                    <a:avLst/>
                  </a:prstGeom>
                  <a:ln w="763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"/>
                  <p:cNvSpPr/>
                  <p:nvPr/>
                </p:nvSpPr>
                <p:spPr>
                  <a:xfrm>
                    <a:off x="1428840" y="5388120"/>
                    <a:ext cx="502920" cy="0"/>
                  </a:xfrm>
                  <a:prstGeom prst="line">
                    <a:avLst/>
                  </a:prstGeom>
                  <a:ln w="763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6699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6" name=""/>
                <p:cNvGrpSpPr/>
                <p:nvPr/>
              </p:nvGrpSpPr>
              <p:grpSpPr>
                <a:xfrm>
                  <a:off x="1404720" y="3971880"/>
                  <a:ext cx="576360" cy="649440"/>
                  <a:chOff x="1404720" y="3971880"/>
                  <a:chExt cx="576360" cy="649440"/>
                </a:xfrm>
              </p:grpSpPr>
              <p:sp>
                <p:nvSpPr>
                  <p:cNvPr id="307" name=""/>
                  <p:cNvSpPr/>
                  <p:nvPr/>
                </p:nvSpPr>
                <p:spPr>
                  <a:xfrm>
                    <a:off x="1404720" y="4332240"/>
                    <a:ext cx="576360" cy="0"/>
                  </a:xfrm>
                  <a:prstGeom prst="line">
                    <a:avLst/>
                  </a:prstGeom>
                  <a:ln w="5724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8" name=""/>
                  <p:cNvSpPr/>
                  <p:nvPr/>
                </p:nvSpPr>
                <p:spPr>
                  <a:xfrm>
                    <a:off x="1693800" y="3971880"/>
                    <a:ext cx="0" cy="649440"/>
                  </a:xfrm>
                  <a:prstGeom prst="line">
                    <a:avLst/>
                  </a:prstGeom>
                  <a:ln w="5724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6699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09" name=""/>
              <p:cNvGrpSpPr/>
              <p:nvPr/>
            </p:nvGrpSpPr>
            <p:grpSpPr>
              <a:xfrm>
                <a:off x="820800" y="2923920"/>
                <a:ext cx="574920" cy="146160"/>
                <a:chOff x="820800" y="2923920"/>
                <a:chExt cx="574920" cy="146160"/>
              </a:xfrm>
            </p:grpSpPr>
            <p:sp>
              <p:nvSpPr>
                <p:cNvPr id="310" name=""/>
                <p:cNvSpPr/>
                <p:nvPr/>
              </p:nvSpPr>
              <p:spPr>
                <a:xfrm>
                  <a:off x="820800" y="3070080"/>
                  <a:ext cx="57492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 flipV="1">
                  <a:off x="868320" y="2923920"/>
                  <a:ext cx="95760" cy="14580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 flipV="1">
                  <a:off x="1013040" y="2923920"/>
                  <a:ext cx="95040" cy="14580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 flipV="1">
                  <a:off x="1157040" y="2923920"/>
                  <a:ext cx="94680" cy="14580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 flipV="1">
                  <a:off x="1300320" y="2923920"/>
                  <a:ext cx="95040" cy="14580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5" name=""/>
              <p:cNvGrpSpPr/>
              <p:nvPr/>
            </p:nvGrpSpPr>
            <p:grpSpPr>
              <a:xfrm>
                <a:off x="2772000" y="2939760"/>
                <a:ext cx="574560" cy="146160"/>
                <a:chOff x="2772000" y="2939760"/>
                <a:chExt cx="574560" cy="146160"/>
              </a:xfrm>
            </p:grpSpPr>
            <p:sp>
              <p:nvSpPr>
                <p:cNvPr id="316" name=""/>
                <p:cNvSpPr/>
                <p:nvPr/>
              </p:nvSpPr>
              <p:spPr>
                <a:xfrm>
                  <a:off x="2772000" y="3085920"/>
                  <a:ext cx="57456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 flipV="1">
                  <a:off x="2819520" y="2939760"/>
                  <a:ext cx="95760" cy="14580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 flipV="1">
                  <a:off x="2964240" y="2939760"/>
                  <a:ext cx="95040" cy="14580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 flipV="1">
                  <a:off x="3107880" y="2939760"/>
                  <a:ext cx="94680" cy="14580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 flipV="1">
                  <a:off x="3251520" y="2939760"/>
                  <a:ext cx="95040" cy="14580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321" name=""/>
              <p:cNvSpPr/>
              <p:nvPr/>
            </p:nvSpPr>
            <p:spPr>
              <a:xfrm>
                <a:off x="613080" y="3835440"/>
                <a:ext cx="215640" cy="216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2556000" y="3875400"/>
                <a:ext cx="216000" cy="2156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flipH="1">
                <a:off x="2700000" y="3083040"/>
                <a:ext cx="360360" cy="792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flipH="1">
                <a:off x="755280" y="3083040"/>
                <a:ext cx="360360" cy="792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6085080" y="2955600"/>
              <a:ext cx="2592360" cy="2359440"/>
              <a:chOff x="6085080" y="2955600"/>
              <a:chExt cx="2592360" cy="2359440"/>
            </a:xfrm>
          </p:grpSpPr>
          <p:grpSp>
            <p:nvGrpSpPr>
              <p:cNvPr id="326" name=""/>
              <p:cNvGrpSpPr/>
              <p:nvPr/>
            </p:nvGrpSpPr>
            <p:grpSpPr>
              <a:xfrm>
                <a:off x="6948720" y="3875400"/>
                <a:ext cx="720720" cy="1439640"/>
                <a:chOff x="6948720" y="3875400"/>
                <a:chExt cx="720720" cy="1439640"/>
              </a:xfrm>
            </p:grpSpPr>
            <p:grpSp>
              <p:nvGrpSpPr>
                <p:cNvPr id="327" name=""/>
                <p:cNvGrpSpPr/>
                <p:nvPr/>
              </p:nvGrpSpPr>
              <p:grpSpPr>
                <a:xfrm>
                  <a:off x="6948720" y="3875400"/>
                  <a:ext cx="720720" cy="1439640"/>
                  <a:chOff x="6948720" y="3875400"/>
                  <a:chExt cx="720720" cy="1439640"/>
                </a:xfrm>
              </p:grpSpPr>
              <p:sp>
                <p:nvSpPr>
                  <p:cNvPr id="328" name=""/>
                  <p:cNvSpPr/>
                  <p:nvPr/>
                </p:nvSpPr>
                <p:spPr>
                  <a:xfrm>
                    <a:off x="6948720" y="3875400"/>
                    <a:ext cx="720720" cy="7203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9" name=""/>
                  <p:cNvSpPr/>
                  <p:nvPr/>
                </p:nvSpPr>
                <p:spPr>
                  <a:xfrm>
                    <a:off x="7309080" y="4594320"/>
                    <a:ext cx="0" cy="720360"/>
                  </a:xfrm>
                  <a:prstGeom prst="line">
                    <a:avLst/>
                  </a:prstGeom>
                  <a:ln w="763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0" name=""/>
                  <p:cNvSpPr/>
                  <p:nvPr/>
                </p:nvSpPr>
                <p:spPr>
                  <a:xfrm>
                    <a:off x="7045560" y="5315040"/>
                    <a:ext cx="502920" cy="0"/>
                  </a:xfrm>
                  <a:prstGeom prst="line">
                    <a:avLst/>
                  </a:prstGeom>
                  <a:ln w="763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66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1" name=""/>
                <p:cNvSpPr/>
                <p:nvPr/>
              </p:nvSpPr>
              <p:spPr>
                <a:xfrm>
                  <a:off x="7013880" y="4233960"/>
                  <a:ext cx="576360" cy="0"/>
                </a:xfrm>
                <a:prstGeom prst="line">
                  <a:avLst/>
                </a:prstGeom>
                <a:ln w="572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2" name=""/>
              <p:cNvSpPr/>
              <p:nvPr/>
            </p:nvSpPr>
            <p:spPr>
              <a:xfrm>
                <a:off x="6085080" y="4019760"/>
                <a:ext cx="216000" cy="216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8461440" y="4019760"/>
                <a:ext cx="216000" cy="216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334" name=""/>
              <p:cNvGrpSpPr/>
              <p:nvPr/>
            </p:nvGrpSpPr>
            <p:grpSpPr>
              <a:xfrm>
                <a:off x="7734600" y="2995920"/>
                <a:ext cx="792000" cy="1079280"/>
                <a:chOff x="7734600" y="2995920"/>
                <a:chExt cx="792000" cy="1079280"/>
              </a:xfrm>
            </p:grpSpPr>
            <p:grpSp>
              <p:nvGrpSpPr>
                <p:cNvPr id="335" name=""/>
                <p:cNvGrpSpPr/>
                <p:nvPr/>
              </p:nvGrpSpPr>
              <p:grpSpPr>
                <a:xfrm>
                  <a:off x="7734600" y="2995920"/>
                  <a:ext cx="574560" cy="145440"/>
                  <a:chOff x="7734600" y="2995920"/>
                  <a:chExt cx="574560" cy="145440"/>
                </a:xfrm>
              </p:grpSpPr>
              <p:sp>
                <p:nvSpPr>
                  <p:cNvPr id="336" name=""/>
                  <p:cNvSpPr/>
                  <p:nvPr/>
                </p:nvSpPr>
                <p:spPr>
                  <a:xfrm>
                    <a:off x="7734600" y="3141360"/>
                    <a:ext cx="574560" cy="0"/>
                  </a:xfrm>
                  <a:prstGeom prst="line">
                    <a:avLst/>
                  </a:prstGeom>
                  <a:ln w="57240">
                    <a:solidFill>
                      <a:srgbClr val="00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7" name=""/>
                  <p:cNvSpPr/>
                  <p:nvPr/>
                </p:nvSpPr>
                <p:spPr>
                  <a:xfrm flipV="1">
                    <a:off x="7782120" y="2995920"/>
                    <a:ext cx="95760" cy="145440"/>
                  </a:xfrm>
                  <a:prstGeom prst="line">
                    <a:avLst/>
                  </a:prstGeom>
                  <a:ln w="57240">
                    <a:solidFill>
                      <a:srgbClr val="00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 flipV="1">
                    <a:off x="7926840" y="2995920"/>
                    <a:ext cx="95040" cy="145440"/>
                  </a:xfrm>
                  <a:prstGeom prst="line">
                    <a:avLst/>
                  </a:prstGeom>
                  <a:ln w="57240">
                    <a:solidFill>
                      <a:srgbClr val="00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 flipV="1">
                    <a:off x="8070480" y="2995920"/>
                    <a:ext cx="94680" cy="145440"/>
                  </a:xfrm>
                  <a:prstGeom prst="line">
                    <a:avLst/>
                  </a:prstGeom>
                  <a:ln w="57240">
                    <a:solidFill>
                      <a:srgbClr val="00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0" name=""/>
                  <p:cNvSpPr/>
                  <p:nvPr/>
                </p:nvSpPr>
                <p:spPr>
                  <a:xfrm flipV="1">
                    <a:off x="8214120" y="2995920"/>
                    <a:ext cx="95040" cy="145440"/>
                  </a:xfrm>
                  <a:prstGeom prst="line">
                    <a:avLst/>
                  </a:prstGeom>
                  <a:ln w="57240">
                    <a:solidFill>
                      <a:srgbClr val="00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66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1" name=""/>
                <p:cNvSpPr/>
                <p:nvPr/>
              </p:nvSpPr>
              <p:spPr>
                <a:xfrm>
                  <a:off x="7950600" y="3140280"/>
                  <a:ext cx="576000" cy="934920"/>
                </a:xfrm>
                <a:prstGeom prst="line">
                  <a:avLst/>
                </a:prstGeom>
                <a:ln w="9360">
                  <a:solidFill>
                    <a:srgbClr val="00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2" name=""/>
              <p:cNvGrpSpPr/>
              <p:nvPr/>
            </p:nvGrpSpPr>
            <p:grpSpPr>
              <a:xfrm>
                <a:off x="6211800" y="2955600"/>
                <a:ext cx="574920" cy="1080000"/>
                <a:chOff x="6211800" y="2955600"/>
                <a:chExt cx="574920" cy="1080000"/>
              </a:xfrm>
            </p:grpSpPr>
            <p:grpSp>
              <p:nvGrpSpPr>
                <p:cNvPr id="343" name=""/>
                <p:cNvGrpSpPr/>
                <p:nvPr/>
              </p:nvGrpSpPr>
              <p:grpSpPr>
                <a:xfrm>
                  <a:off x="6212160" y="2955600"/>
                  <a:ext cx="574560" cy="146160"/>
                  <a:chOff x="6212160" y="2955600"/>
                  <a:chExt cx="574560" cy="146160"/>
                </a:xfrm>
              </p:grpSpPr>
              <p:sp>
                <p:nvSpPr>
                  <p:cNvPr id="344" name=""/>
                  <p:cNvSpPr/>
                  <p:nvPr/>
                </p:nvSpPr>
                <p:spPr>
                  <a:xfrm>
                    <a:off x="6212160" y="3101760"/>
                    <a:ext cx="574560" cy="0"/>
                  </a:xfrm>
                  <a:prstGeom prst="line">
                    <a:avLst/>
                  </a:prstGeom>
                  <a:ln w="57240">
                    <a:solidFill>
                      <a:srgbClr val="00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5" name=""/>
                  <p:cNvSpPr/>
                  <p:nvPr/>
                </p:nvSpPr>
                <p:spPr>
                  <a:xfrm flipV="1">
                    <a:off x="6259680" y="2955600"/>
                    <a:ext cx="95760" cy="145800"/>
                  </a:xfrm>
                  <a:prstGeom prst="line">
                    <a:avLst/>
                  </a:prstGeom>
                  <a:ln w="57240">
                    <a:solidFill>
                      <a:srgbClr val="00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6" name=""/>
                  <p:cNvSpPr/>
                  <p:nvPr/>
                </p:nvSpPr>
                <p:spPr>
                  <a:xfrm flipV="1">
                    <a:off x="6404400" y="2955600"/>
                    <a:ext cx="95040" cy="145800"/>
                  </a:xfrm>
                  <a:prstGeom prst="line">
                    <a:avLst/>
                  </a:prstGeom>
                  <a:ln w="57240">
                    <a:solidFill>
                      <a:srgbClr val="00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7" name=""/>
                  <p:cNvSpPr/>
                  <p:nvPr/>
                </p:nvSpPr>
                <p:spPr>
                  <a:xfrm flipV="1">
                    <a:off x="6548040" y="2955600"/>
                    <a:ext cx="94680" cy="145800"/>
                  </a:xfrm>
                  <a:prstGeom prst="line">
                    <a:avLst/>
                  </a:prstGeom>
                  <a:ln w="57240">
                    <a:solidFill>
                      <a:srgbClr val="00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8" name=""/>
                  <p:cNvSpPr/>
                  <p:nvPr/>
                </p:nvSpPr>
                <p:spPr>
                  <a:xfrm flipV="1">
                    <a:off x="6691680" y="2955600"/>
                    <a:ext cx="95040" cy="145800"/>
                  </a:xfrm>
                  <a:prstGeom prst="line">
                    <a:avLst/>
                  </a:prstGeom>
                  <a:ln w="57240">
                    <a:solidFill>
                      <a:srgbClr val="00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66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9" name=""/>
                <p:cNvSpPr/>
                <p:nvPr/>
              </p:nvSpPr>
              <p:spPr>
                <a:xfrm flipH="1">
                  <a:off x="6211800" y="3098880"/>
                  <a:ext cx="360360" cy="936720"/>
                </a:xfrm>
                <a:prstGeom prst="line">
                  <a:avLst/>
                </a:prstGeom>
                <a:ln w="9360">
                  <a:solidFill>
                    <a:srgbClr val="00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0" name=""/>
              <p:cNvSpPr/>
              <p:nvPr/>
            </p:nvSpPr>
            <p:spPr>
              <a:xfrm>
                <a:off x="6516720" y="4956480"/>
                <a:ext cx="0" cy="0"/>
              </a:xfrm>
              <a:prstGeom prst="line">
                <a:avLst/>
              </a:prstGeom>
              <a:ln w="936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351" name=""/>
            <p:cNvSpPr txBox="1"/>
            <p:nvPr/>
          </p:nvSpPr>
          <p:spPr>
            <a:xfrm>
              <a:off x="6085080" y="4380120"/>
              <a:ext cx="216000" cy="216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800000"/>
                  </a:solidFill>
                  <a:latin typeface="a_AlgeriusNr"/>
                </a:rPr>
                <a:t>а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_AlgeriusNr"/>
                <a:ea typeface="a_AlgeriusNr"/>
              </a:endParaRPr>
            </a:p>
          </p:txBody>
        </p:sp>
        <p:sp>
          <p:nvSpPr>
            <p:cNvPr id="352" name=""/>
            <p:cNvSpPr txBox="1"/>
            <p:nvPr/>
          </p:nvSpPr>
          <p:spPr>
            <a:xfrm>
              <a:off x="468360" y="4307040"/>
              <a:ext cx="216000" cy="216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800000"/>
                  </a:solidFill>
                  <a:latin typeface="a_AlgeriusNr"/>
                </a:rPr>
                <a:t>а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_AlgeriusNr"/>
                <a:ea typeface="a_AlgeriusNr"/>
              </a:endParaRPr>
            </a:p>
          </p:txBody>
        </p:sp>
        <p:sp>
          <p:nvSpPr>
            <p:cNvPr id="353" name=""/>
            <p:cNvSpPr txBox="1"/>
            <p:nvPr/>
          </p:nvSpPr>
          <p:spPr>
            <a:xfrm>
              <a:off x="2772000" y="4164120"/>
              <a:ext cx="216000" cy="216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800000"/>
                  </a:solidFill>
                  <a:latin typeface="a_AlgeriusNr"/>
                </a:rPr>
                <a:t>б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_AlgeriusNr"/>
                <a:ea typeface="a_AlgeriusNr"/>
              </a:endParaRPr>
            </a:p>
          </p:txBody>
        </p:sp>
        <p:sp>
          <p:nvSpPr>
            <p:cNvPr id="354" name=""/>
            <p:cNvSpPr txBox="1"/>
            <p:nvPr/>
          </p:nvSpPr>
          <p:spPr>
            <a:xfrm>
              <a:off x="8533080" y="4380120"/>
              <a:ext cx="215640" cy="216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800000"/>
                  </a:solidFill>
                  <a:latin typeface="a_AlgeriusNr"/>
                </a:rPr>
                <a:t>б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_AlgeriusNr"/>
                <a:ea typeface="a_AlgeriusNr"/>
              </a:endParaRPr>
            </a:p>
          </p:txBody>
        </p:sp>
      </p:grpSp>
      <p:sp>
        <p:nvSpPr>
          <p:cNvPr id="355" name=""/>
          <p:cNvSpPr txBox="1"/>
          <p:nvPr/>
        </p:nvSpPr>
        <p:spPr>
          <a:xfrm>
            <a:off x="6300720" y="5013360"/>
            <a:ext cx="523800" cy="23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800000"/>
                </a:solidFill>
                <a:latin typeface="a_AlgeriusNr"/>
              </a:rPr>
              <a:t>рис 2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800000"/>
              </a:solidFill>
              <a:latin typeface="a_AlgeriusNr"/>
              <a:ea typeface="a_AlgeriusNr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539640" y="5084640"/>
            <a:ext cx="524160" cy="238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_AlgeriusNr"/>
              </a:rPr>
              <a:t>рис 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_AlgeriusNr"/>
              <a:ea typeface="a_AlgeriusNr"/>
            </a:endParaRPr>
          </a:p>
        </p:txBody>
      </p:sp>
      <p:sp>
        <p:nvSpPr>
          <p:cNvPr id="357" name=""/>
          <p:cNvSpPr/>
          <p:nvPr/>
        </p:nvSpPr>
        <p:spPr>
          <a:xfrm>
            <a:off x="0" y="558972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Какой из подвешенных шариков рис 2 имеет больший заряд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" dur="80"/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" dur="80"/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Домашнее задание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§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25,26, № 936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361" name="" descr=""/>
          <p:cNvPicPr/>
          <p:nvPr/>
        </p:nvPicPr>
        <p:blipFill>
          <a:blip r:embed="rId1"/>
          <a:stretch/>
        </p:blipFill>
        <p:spPr>
          <a:xfrm>
            <a:off x="6732720" y="3933720"/>
            <a:ext cx="1801800" cy="181944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2"/>
          <a:stretch/>
        </p:blipFill>
        <p:spPr>
          <a:xfrm>
            <a:off x="324000" y="2492280"/>
            <a:ext cx="1755720" cy="15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/>
          <p:nvPr/>
        </p:nvSpPr>
        <p:spPr>
          <a:xfrm>
            <a:off x="1258920" y="1128600"/>
            <a:ext cx="748980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440" indent="16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Arial"/>
              </a:rPr>
              <a:t>Источники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1440" indent="16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1</a:t>
            </a:r>
            <a:r>
              <a:rPr b="0" lang="ru-RU" sz="2800" spc="-1" strike="noStrike">
                <a:solidFill>
                  <a:srgbClr val="006699"/>
                </a:solidFill>
                <a:latin typeface="Arial"/>
              </a:rPr>
              <a:t>.«Физика» 8 класс, авторы А.В. Перышкин, Е.М. Гутник. Издательство «Дрофа» 2008 г. 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1440" indent="16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Arial"/>
              </a:rPr>
              <a:t>2. http://www.all-fizika.com/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Цели урока: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Познакомить с электризацией тел трением друг о друга, двумя родами зарядов и взаимодействии одноименно и разноименных зарядов;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Развивать познавательный интерес к предмету, внимание, память;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Формировать навыки развития речи на примере объяснения увиденных явлений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Ход урока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Анализ контрольной работы и работа над ошибками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Сообщения учащихся о истории изобретения паровых машин, турбин, паровозов; достижения науки и техники в строительстве паровых турбин; использование энергии Солнца на Земле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824364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66"/>
                </a:solidFill>
                <a:latin typeface="Verdana"/>
              </a:rPr>
              <a:t>Ход урока</a:t>
            </a:r>
            <a:r>
              <a:rPr b="0" lang="en-US" sz="4000" spc="-1" strike="noStrike">
                <a:solidFill>
                  <a:srgbClr val="006666"/>
                </a:solidFill>
                <a:latin typeface="Verdana"/>
              </a:rPr>
              <a:t> </a:t>
            </a:r>
            <a:br>
              <a:rPr sz="4000"/>
            </a:br>
            <a:r>
              <a:rPr b="0" lang="ru-RU" sz="4000" spc="-1" strike="noStrike">
                <a:solidFill>
                  <a:srgbClr val="006666"/>
                </a:solidFill>
                <a:latin typeface="Verdana"/>
              </a:rPr>
              <a:t>Формирование новых знаний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А знаете ли вы, что…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Электризация тел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Два рода зарядов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Взаимодействие зарядов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5"/>
          <a:stretch/>
        </p:blipFill>
        <p:spPr>
          <a:xfrm>
            <a:off x="6012000" y="4076640"/>
            <a:ext cx="2376360" cy="229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87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99ff"/>
                </a:solidFill>
                <a:uFillTx/>
                <a:latin typeface="Verdana"/>
                <a:hlinkClick r:id="rId1"/>
              </a:rPr>
              <a:t>А знаете ли вы, что ...</a:t>
            </a:r>
            <a:r>
              <a:rPr b="0" lang="en-US" sz="4400" spc="-1" strike="noStrike" u="sng">
                <a:solidFill>
                  <a:srgbClr val="006666"/>
                </a:solidFill>
                <a:uFillTx/>
                <a:latin typeface="Verdana"/>
              </a:rPr>
              <a:t> 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896472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9a009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a009a"/>
                </a:solidFill>
                <a:latin typeface="Verdana"/>
              </a:rPr>
              <a:t>... в XVIII веке устраивали светские забавы – электризовали людей, растения и домашних животных, при помощи электрической искры поджигали спирт и т.д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22029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20298"/>
                </a:solidFill>
                <a:latin typeface="Verdana"/>
              </a:rPr>
              <a:t>... электризация тел нам хорошо знакома в быту. По ее вине несказанно быстро притягивают пыль полированная мебель и ковры-паласы, липнут к телу синтетические рубашки и платья, "искрят" кофты и свитера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9a009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a009a"/>
                </a:solidFill>
                <a:latin typeface="Verdana"/>
              </a:rPr>
              <a:t>... электризации поддаются все тела: большие и маленькие, твердые, жидкие и газообразные (вспомните грозовые тучи)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22029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20298"/>
                </a:solidFill>
                <a:latin typeface="Verdana"/>
              </a:rPr>
              <a:t>... в 1700 г. англичанину Уоллу впервые удалось получить электрическую искру, с треском проскочившую между куском янтаря и пальцем экспериментатора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9a009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a009a"/>
                </a:solidFill>
                <a:latin typeface="Verdana"/>
              </a:rPr>
              <a:t>... если опыты с расческой или янтарем проводить в темноте и тишине, то можно легко заметить маленькие искорки и даже услышать их треск. Вспомним, что различные искровые явления мы относим к явлениям электрическим. Вот почему электричество назвали янтарным именем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4343400" y="2590920"/>
            <a:ext cx="2209680" cy="132552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99ff"/>
                </a:solidFill>
                <a:uFillTx/>
                <a:latin typeface="Verdana"/>
                <a:hlinkClick r:id="rId2"/>
              </a:rPr>
              <a:t>Электризация тел.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2296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Verdana"/>
              </a:rPr>
              <a:t>Возьмем пластмассовую расческу или авторучку и проведем ею несколько раз по сухим волосам или шерстяному свитеру. Как ни удивительно, но после такого простого действия пластмасса приобретет новое свойство: начнет притягивать мелкие кусочки бумаги, другие легкие предметы и даже тонкие струйки воды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Verdana"/>
              </a:rPr>
              <a:t>До Нашей эры не было пластмассовых расчесок и авторучек. Однако и в те времена подобные явления были хорошо известны. Для опытов по </a:t>
            </a:r>
            <a:r>
              <a:rPr b="1" i="1" lang="en-US" sz="2000" spc="-1" strike="noStrike">
                <a:solidFill>
                  <a:srgbClr val="006699"/>
                </a:solidFill>
                <a:latin typeface="Verdana"/>
              </a:rPr>
              <a:t>электризации трением</a:t>
            </a:r>
            <a:r>
              <a:rPr b="1" lang="en-US" sz="2000" spc="-1" strike="noStrike">
                <a:solidFill>
                  <a:srgbClr val="006699"/>
                </a:solidFill>
                <a:latin typeface="Verdana"/>
              </a:rPr>
              <a:t> брали окаменевшую смолу деревьев – янтарь – и натирали его шерстью. После этого и янтарь, и шерсть начинали притягивать к себе сухие травинки и пылинки. По-гречески янтарь – это "электрон". Отсюда и произошло современное слово "электричество" и название </a:t>
            </a:r>
            <a:r>
              <a:rPr b="1" i="1" lang="en-US" sz="2000" spc="-1" strike="noStrike">
                <a:solidFill>
                  <a:srgbClr val="006699"/>
                </a:solidFill>
                <a:latin typeface="Verdana"/>
              </a:rPr>
              <a:t>наэлектризованные тела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324000" y="765000"/>
            <a:ext cx="8496000" cy="43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99"/>
                </a:solidFill>
                <a:latin typeface="Verdana"/>
              </a:rPr>
              <a:t>Опыты показывают, что </a:t>
            </a:r>
            <a:r>
              <a:rPr b="1" i="1" lang="ru-RU" sz="1800" spc="-1" strike="noStrike">
                <a:solidFill>
                  <a:srgbClr val="006699"/>
                </a:solidFill>
                <a:latin typeface="Verdana"/>
              </a:rPr>
              <a:t>два тела – наэлектризованное и ненаэлектризованное – всегда притягиваются.</a:t>
            </a:r>
            <a:r>
              <a:rPr b="1" lang="ru-RU" sz="1800" spc="-1" strike="noStrike">
                <a:solidFill>
                  <a:srgbClr val="006699"/>
                </a:solidFill>
                <a:latin typeface="Verdana"/>
              </a:rPr>
              <a:t> Примеры: пластмассовая авторучка и тонкая струйка воды, янтарь и сухие травинки. Опыты также показывают, что </a:t>
            </a:r>
            <a:r>
              <a:rPr b="1" i="1" lang="ru-RU" sz="1800" spc="-1" strike="noStrike">
                <a:solidFill>
                  <a:srgbClr val="006699"/>
                </a:solidFill>
                <a:latin typeface="Verdana"/>
              </a:rPr>
              <a:t>два тела, наэлектризованные трением друг о друга, тоже всегда притягиваются.</a:t>
            </a:r>
            <a:r>
              <a:rPr b="1" lang="ru-RU" sz="1800" spc="-1" strike="noStrike">
                <a:solidFill>
                  <a:srgbClr val="006699"/>
                </a:solidFill>
                <a:latin typeface="Verdana"/>
              </a:rPr>
              <a:t> Например, наэлектризовавшись трением о наше тело (при ходьбе, движениях рук и ног) шелковая рубашка или юбка притягивается, "липнет" к телу.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a009a"/>
                </a:solidFill>
                <a:latin typeface="Arbat-Bold"/>
              </a:rPr>
              <a:t>Так что же такое электризация?</a:t>
            </a:r>
            <a:r>
              <a:rPr b="0" lang="ru-RU" sz="2000" spc="-1" strike="noStrike">
                <a:solidFill>
                  <a:srgbClr val="006699"/>
                </a:solidFill>
                <a:latin typeface="Arbat-Bold"/>
              </a:rPr>
              <a:t> 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cc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99"/>
                </a:solidFill>
                <a:latin typeface="Verdana"/>
              </a:rPr>
              <a:t>электризация – это совершение над телами такой работы, после которой они приобретают свойство взаимодействовать друг с другом (притягиваться и отталкиваться) с силами, которые могут быть гораздо большими, чем гравитационные. 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66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66"/>
                </a:solidFill>
                <a:latin typeface="Verdana"/>
              </a:rPr>
              <a:t>Наэлектризуем эбонитовую палочку шерстяной варежкой, а стеклянную палочку – шелковым платком. Подвесив палочки на нитях, увидим, что эбонит и шерсть, стекло и шелк притягивают друг друга, а стекло и шерсть, эбонит и шелк отталкиваются друг от друга: 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99"/>
                </a:solidFill>
                <a:latin typeface="Verdana"/>
              </a:rPr>
              <a:t>Отталкивающиеся заряженные тела в физике условились называть одноименно заряженными. А притягивающиеся заряженные тела условились называть разноименно заряженными. 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99"/>
                </a:solidFill>
                <a:latin typeface="Verdana"/>
              </a:rPr>
              <a:t>До XVIII века ученые не делали различий между "стеклянным", "шерстяным", "шелковым" и другими видами электричества. Однако </a:t>
            </a:r>
            <a:r>
              <a:rPr b="1" lang="ru-RU" sz="1600" spc="-1" strike="noStrike">
                <a:solidFill>
                  <a:srgbClr val="220298"/>
                </a:solidFill>
                <a:latin typeface="Verdana"/>
              </a:rPr>
              <a:t>в 1733 году</a:t>
            </a:r>
            <a:r>
              <a:rPr b="1" lang="ru-RU" sz="1600" spc="-1" strike="noStrike">
                <a:solidFill>
                  <a:srgbClr val="006699"/>
                </a:solidFill>
                <a:latin typeface="Verdana"/>
              </a:rPr>
              <a:t> французский ученый </a:t>
            </a:r>
            <a:r>
              <a:rPr b="1" lang="ru-RU" sz="1600" spc="-1" strike="noStrike">
                <a:solidFill>
                  <a:srgbClr val="220298"/>
                </a:solidFill>
                <a:latin typeface="Verdana"/>
              </a:rPr>
              <a:t>Ш.Дюфэ </a:t>
            </a:r>
            <a:r>
              <a:rPr b="1" lang="ru-RU" sz="1600" spc="-1" strike="noStrike">
                <a:solidFill>
                  <a:srgbClr val="006699"/>
                </a:solidFill>
                <a:latin typeface="Verdana"/>
              </a:rPr>
              <a:t>выяснил, что </a:t>
            </a:r>
            <a:r>
              <a:rPr b="1" lang="ru-RU" sz="1600" spc="-1" strike="noStrike">
                <a:solidFill>
                  <a:srgbClr val="220298"/>
                </a:solidFill>
                <a:latin typeface="Verdana"/>
              </a:rPr>
              <a:t>существует электричество двух родов</a:t>
            </a:r>
            <a:r>
              <a:rPr b="1" lang="ru-RU" sz="1600" spc="-1" strike="noStrike">
                <a:solidFill>
                  <a:srgbClr val="006699"/>
                </a:solidFill>
                <a:latin typeface="Verdana"/>
              </a:rPr>
              <a:t>, в высокой степени отличных один от другого. "Один род я называю</a:t>
            </a:r>
            <a:r>
              <a:rPr b="1" lang="ru-RU" sz="1600" spc="-1" strike="noStrike">
                <a:solidFill>
                  <a:srgbClr val="220298"/>
                </a:solidFill>
                <a:latin typeface="Verdana"/>
              </a:rPr>
              <a:t> стеклянным </a:t>
            </a:r>
            <a:r>
              <a:rPr b="1" lang="ru-RU" sz="1600" spc="-1" strike="noStrike">
                <a:solidFill>
                  <a:srgbClr val="006699"/>
                </a:solidFill>
                <a:latin typeface="Verdana"/>
              </a:rPr>
              <a:t>электричеством, другой - </a:t>
            </a:r>
            <a:r>
              <a:rPr b="1" lang="ru-RU" sz="1600" spc="-1" strike="noStrike">
                <a:solidFill>
                  <a:srgbClr val="220298"/>
                </a:solidFill>
                <a:latin typeface="Verdana"/>
              </a:rPr>
              <a:t>смоляным.</a:t>
            </a:r>
            <a:r>
              <a:rPr b="1" lang="ru-RU" sz="1600" spc="-1" strike="noStrike">
                <a:solidFill>
                  <a:srgbClr val="006699"/>
                </a:solidFill>
                <a:latin typeface="Verdana"/>
              </a:rPr>
              <a:t> ... </a:t>
            </a:r>
            <a:r>
              <a:rPr b="1" lang="ru-RU" sz="1600" spc="-1" strike="noStrike" u="sng">
                <a:solidFill>
                  <a:srgbClr val="220298"/>
                </a:solidFill>
                <a:uFillTx/>
                <a:latin typeface="Verdana"/>
              </a:rPr>
              <a:t>Тело, наэлектризованное стеклянным электричеством,</a:t>
            </a:r>
            <a:r>
              <a:rPr b="1" lang="ru-RU" sz="1600" spc="-1" strike="noStrike">
                <a:solidFill>
                  <a:srgbClr val="220298"/>
                </a:solidFill>
                <a:latin typeface="Verdana"/>
              </a:rPr>
              <a:t> отталкивает все тела со стеклянным электричеством, и, обратно, оно притягивает тела со смоляным электричеством".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2484360" y="1628640"/>
            <a:ext cx="4219560" cy="13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99"/>
                </a:solidFill>
                <a:latin typeface="Verdana"/>
              </a:rPr>
              <a:t>Как видите, Ш.Дюфэ обнаружил, что </a:t>
            </a:r>
            <a:r>
              <a:rPr b="1" lang="ru-RU" sz="2000" spc="-1" strike="noStrike">
                <a:solidFill>
                  <a:srgbClr val="ff3300"/>
                </a:solidFill>
                <a:latin typeface="Verdana"/>
              </a:rPr>
              <a:t>"стеклянным"</a:t>
            </a:r>
            <a:r>
              <a:rPr b="1" lang="ru-RU" sz="2000" spc="-1" strike="noStrike">
                <a:solidFill>
                  <a:srgbClr val="006699"/>
                </a:solidFill>
                <a:latin typeface="Verdana"/>
              </a:rPr>
              <a:t> электричеством можно наэлектризовать не только стекло, а любое тело . Взгляните на рисунок справа. Верхней эбонитовой палочке мы передали некоторое количество "стеклянного" электричества, и она начала отталкивать стеклян-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1" lang="ru-RU" sz="2000" spc="-1" strike="noStrike">
                <a:solidFill>
                  <a:srgbClr val="006699"/>
                </a:solidFill>
                <a:latin typeface="Verdana"/>
              </a:rPr>
              <a:t>ную палочку. Нижняя же эбонитовая палочка наэлектризована как обычно: трением о шерсть или мех.</a:t>
            </a: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093080" y="3213000"/>
            <a:ext cx="1609560" cy="154332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826920" y="3332160"/>
            <a:ext cx="5905800" cy="35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99"/>
                </a:solidFill>
                <a:latin typeface="Verdana"/>
              </a:rPr>
              <a:t>Полвека спустя термины </a:t>
            </a:r>
            <a:r>
              <a:rPr b="1" lang="ru-RU" sz="1800" spc="-1" strike="noStrike">
                <a:solidFill>
                  <a:srgbClr val="ff3300"/>
                </a:solidFill>
                <a:latin typeface="Verdana"/>
              </a:rPr>
              <a:t>"стеклянное"</a:t>
            </a:r>
            <a:r>
              <a:rPr b="1" lang="ru-RU" sz="1800" spc="-1" strike="noStrike">
                <a:solidFill>
                  <a:srgbClr val="006699"/>
                </a:solidFill>
                <a:latin typeface="Verdana"/>
              </a:rPr>
              <a:t> и </a:t>
            </a:r>
            <a:r>
              <a:rPr b="1" lang="ru-RU" sz="1800" spc="-1" strike="noStrike">
                <a:solidFill>
                  <a:srgbClr val="9a009a"/>
                </a:solidFill>
                <a:latin typeface="Verdana"/>
              </a:rPr>
              <a:t>"смоляное"</a:t>
            </a:r>
            <a:r>
              <a:rPr b="1" lang="ru-RU" sz="1800" spc="-1" strike="noStrike">
                <a:solidFill>
                  <a:srgbClr val="006699"/>
                </a:solidFill>
                <a:latin typeface="Verdana"/>
              </a:rPr>
              <a:t> электричество были заменены на другие: </a:t>
            </a:r>
            <a:r>
              <a:rPr b="1" lang="ru-RU" sz="1800" spc="-1" strike="noStrike">
                <a:solidFill>
                  <a:srgbClr val="ff3300"/>
                </a:solidFill>
                <a:latin typeface="Verdana"/>
              </a:rPr>
              <a:t>"положительный"</a:t>
            </a:r>
            <a:r>
              <a:rPr b="1" lang="ru-RU" sz="1800" spc="-1" strike="noStrike">
                <a:solidFill>
                  <a:srgbClr val="006699"/>
                </a:solidFill>
                <a:latin typeface="Verdana"/>
              </a:rPr>
              <a:t> и </a:t>
            </a:r>
            <a:r>
              <a:rPr b="1" lang="ru-RU" sz="1800" spc="-1" strike="noStrike">
                <a:solidFill>
                  <a:srgbClr val="9a009a"/>
                </a:solidFill>
                <a:latin typeface="Verdana"/>
              </a:rPr>
              <a:t>"отрицательный"</a:t>
            </a:r>
            <a:r>
              <a:rPr b="1" lang="ru-RU" sz="1800" spc="-1" strike="noStrike">
                <a:solidFill>
                  <a:srgbClr val="006699"/>
                </a:solidFill>
                <a:latin typeface="Verdana"/>
              </a:rPr>
              <a:t> заряд. Эти названия сохранились до сегодняшнего дня: </a:t>
            </a:r>
            <a:br>
              <a:rPr sz="1800"/>
            </a:br>
            <a:r>
              <a:rPr b="1" lang="ru-RU" sz="1800" spc="-1" strike="noStrike">
                <a:solidFill>
                  <a:srgbClr val="006699"/>
                </a:solidFill>
                <a:latin typeface="Verdana"/>
              </a:rPr>
              <a:t>+q   – положительный заряд (так заряжается стекло, потертое о шелк; шерсть, потертая об эбонит).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1" lang="ru-RU" sz="1800" spc="-1" strike="noStrike">
                <a:solidFill>
                  <a:srgbClr val="006699"/>
                </a:solidFill>
                <a:latin typeface="Verdana"/>
              </a:rPr>
              <a:t>–</a:t>
            </a:r>
            <a:r>
              <a:rPr b="1" lang="ru-RU" sz="1800" spc="-1" strike="noStrike">
                <a:solidFill>
                  <a:srgbClr val="006699"/>
                </a:solidFill>
                <a:latin typeface="Verdana"/>
              </a:rPr>
              <a:t>q   – отрицательный заряд (заряд шелка при трении о стекло; заряд эбонита при трении о шерсть).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3T14:57:27Z</dcterms:created>
  <dc:creator>Игорь</dc:creator>
  <dc:description/>
  <dc:language>en-US</dc:language>
  <cp:lastModifiedBy>Sergey</cp:lastModifiedBy>
  <dcterms:modified xsi:type="dcterms:W3CDTF">2012-02-21T14:16:55Z</dcterms:modified>
  <cp:revision>8</cp:revision>
  <dc:subject/>
  <dc:title>Электризация тел при соприкосновении. Взаимодействие заряженных тел. Два рода зарядов </dc:title>
</cp:coreProperties>
</file>