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22D8C-64D7-47AB-B086-6F724BBAB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985C9-91A9-4918-89E5-003F6D92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62E1D-6D60-4936-BB5D-117D169BD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A44A5-7496-4155-BE4B-FE9A2F1E2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791C-FB9B-42D8-9F85-F5D0FC47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ED1C-8B27-412A-A87C-232A955B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F5F0-9CFC-4011-909E-74E28D4B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E211-683F-4419-ADF3-A40B1402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4E04-EDCF-446E-9149-BCB404BF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9211-1D4B-4BFA-AAB5-83745D53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2D4F-41C1-4A1A-82BF-D953CE8D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E807F-C5DD-4BF8-895E-DD512FB6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14D4-0600-4CF1-AC04-FA9836A4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093B-557F-469F-8693-18694F13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4758-CD4C-4D65-A39F-45AB06EA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F01D-F973-458E-9B73-36D5D723C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6B63-DC95-4026-96B8-C81C535F9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3A779-4ECF-466B-A788-CCBA16AF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81802-C28E-4D5F-A790-A74FE329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9F813-B772-4AB5-A226-131DA152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5972B-08A3-4924-BFE0-54D246ED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43172-80C6-4A05-BFA6-746D32C9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1F8A0-3388-4F12-A056-7F6BC7A8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D3630-CA94-4EAA-8D3F-43215DE8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4EEF-3210-4A94-8C81-DA2114263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AC00-D86A-4941-AFB8-0392087118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Arial"/>
                <a:ea typeface="Arial"/>
              </a:rPr>
              <a:t>§</a:t>
            </a:r>
            <a:r>
              <a:rPr b="1" lang="ru-RU" sz="4000" spc="-1" strike="noStrike">
                <a:solidFill>
                  <a:srgbClr val="dfdfe9"/>
                </a:solidFill>
                <a:latin typeface="Garamond"/>
              </a:rPr>
              <a:t>39-41. </a:t>
            </a:r>
            <a:br>
              <a:rPr sz="4000"/>
            </a:br>
            <a:r>
              <a:rPr b="1" lang="ru-RU" sz="4000" spc="-1" strike="noStrike">
                <a:solidFill>
                  <a:srgbClr val="dfdfe9"/>
                </a:solidFill>
                <a:latin typeface="Garamond"/>
              </a:rPr>
              <a:t>Электрическое напряжение. Вольтметр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495288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Больц Сергей Валерьевич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МОУ «СОШ №18» г.о. Балаших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Правильные ответы: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-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-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-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-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-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-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-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fe9"/>
                </a:solidFill>
                <a:latin typeface="Garamond"/>
              </a:rPr>
              <a:t>Электрическое напряжение</a:t>
            </a:r>
            <a:br>
              <a:rPr sz="3200"/>
            </a:br>
            <a:r>
              <a:rPr b="0" lang="ru-RU" sz="2000" spc="-1" strike="noStrike">
                <a:solidFill>
                  <a:srgbClr val="dfdfe9"/>
                </a:solidFill>
                <a:latin typeface="Garamond"/>
              </a:rPr>
              <a:t>Какую работу </a:t>
            </a:r>
            <a:r>
              <a:rPr b="1" lang="ru-RU" sz="2000" spc="-1" strike="noStrike">
                <a:solidFill>
                  <a:srgbClr val="dfdfe9"/>
                </a:solidFill>
                <a:latin typeface="Garamond"/>
              </a:rPr>
              <a:t>А</a:t>
            </a:r>
            <a:r>
              <a:rPr b="0" lang="ru-RU" sz="2000" spc="-1" strike="noStrike">
                <a:solidFill>
                  <a:srgbClr val="dfdfe9"/>
                </a:solidFill>
                <a:latin typeface="Garamond"/>
              </a:rPr>
              <a:t> совершает на данном участке ток при перемещении по этому участку электрического заряда</a:t>
            </a:r>
            <a:r>
              <a:rPr b="1" lang="en-US" sz="2000" spc="-1" strike="noStrike">
                <a:solidFill>
                  <a:srgbClr val="dfdfe9"/>
                </a:solidFill>
                <a:latin typeface="Garamond"/>
              </a:rPr>
              <a:t> q</a:t>
            </a:r>
            <a:r>
              <a:rPr b="0" lang="ru-RU" sz="2000" spc="-1" strike="noStrike">
                <a:solidFill>
                  <a:srgbClr val="dfdfe9"/>
                </a:solidFill>
                <a:latin typeface="Garamond"/>
              </a:rPr>
              <a:t>, равного </a:t>
            </a:r>
            <a:r>
              <a:rPr b="1" lang="ru-RU" sz="2000" spc="-1" strike="noStrike">
                <a:solidFill>
                  <a:srgbClr val="dfdfe9"/>
                </a:solidFill>
                <a:latin typeface="Garamond"/>
              </a:rPr>
              <a:t>1 Кл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dfdfe9"/>
                </a:solidFill>
                <a:latin typeface="Garamond"/>
              </a:rPr>
              <a:t>U</a:t>
            </a:r>
            <a:r>
              <a:rPr b="1" lang="ru-RU" sz="2000" spc="-1" strike="noStrike">
                <a:solidFill>
                  <a:srgbClr val="dfdfe9"/>
                </a:solidFill>
                <a:latin typeface="Garamond"/>
              </a:rPr>
              <a:t> – напряжение </a:t>
            </a:r>
            <a:endParaRPr b="1" lang="en-US" sz="2000" spc="-1" strike="noStrike">
              <a:solidFill>
                <a:srgbClr val="dfdfe9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3"/>
              <p:cNvSpPr txBox="1"/>
              <p:nvPr/>
            </p:nvSpPr>
            <p:spPr>
              <a:xfrm>
                <a:off x="3505320" y="1828800"/>
                <a:ext cx="121896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4"/>
              <p:cNvSpPr txBox="1"/>
              <p:nvPr/>
            </p:nvSpPr>
            <p:spPr>
              <a:xfrm>
                <a:off x="685800" y="1600200"/>
                <a:ext cx="129528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qU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U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AutoShape 7"/>
          <p:cNvSpPr/>
          <p:nvPr/>
        </p:nvSpPr>
        <p:spPr>
          <a:xfrm>
            <a:off x="2209680" y="1981080"/>
            <a:ext cx="1067040" cy="228600"/>
          </a:xfrm>
          <a:prstGeom prst="leftArrow">
            <a:avLst>
              <a:gd name="adj1" fmla="val 50000"/>
              <a:gd name="adj2" fmla="val 116693"/>
            </a:avLst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4952880" y="198108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6172200" y="1828800"/>
            <a:ext cx="266688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 В = 1 Дж/К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 мВ = 0,001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 кВ = 10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AutoShape 10"/>
          <p:cNvSpPr/>
          <p:nvPr/>
        </p:nvSpPr>
        <p:spPr>
          <a:xfrm>
            <a:off x="4038480" y="297180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3124080" y="3429000"/>
            <a:ext cx="1981440" cy="1751400"/>
          </a:xfrm>
          <a:prstGeom prst="rect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ОЛЬТМЕТР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ключают в цепь параллельно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Oval 13"/>
          <p:cNvSpPr/>
          <p:nvPr/>
        </p:nvSpPr>
        <p:spPr>
          <a:xfrm>
            <a:off x="3886200" y="3809880"/>
            <a:ext cx="533520" cy="457200"/>
          </a:xfrm>
          <a:prstGeom prst="ellipse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3962520" y="3886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4419720" y="40384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Line 16"/>
          <p:cNvSpPr/>
          <p:nvPr/>
        </p:nvSpPr>
        <p:spPr>
          <a:xfrm flipH="1">
            <a:off x="3580920" y="40384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5486400" y="3429000"/>
            <a:ext cx="3657600" cy="2813400"/>
          </a:xfrm>
          <a:prstGeom prst="rect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. Вольта (ит. 1745-1827 гг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 В – напряжение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при котором электрическое поле совершает работ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= 1 Дж при перемещении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= 1 К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0" y="3809880"/>
            <a:ext cx="2895480" cy="2871720"/>
          </a:xfrm>
          <a:prstGeom prst="rect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304920" y="41148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Line 20"/>
          <p:cNvSpPr/>
          <p:nvPr/>
        </p:nvSpPr>
        <p:spPr>
          <a:xfrm>
            <a:off x="1600200" y="41148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Line 21"/>
          <p:cNvSpPr/>
          <p:nvPr/>
        </p:nvSpPr>
        <p:spPr>
          <a:xfrm>
            <a:off x="2743200" y="411480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Line 22"/>
          <p:cNvSpPr/>
          <p:nvPr/>
        </p:nvSpPr>
        <p:spPr>
          <a:xfrm>
            <a:off x="304920" y="41148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Line 23"/>
          <p:cNvSpPr/>
          <p:nvPr/>
        </p:nvSpPr>
        <p:spPr>
          <a:xfrm>
            <a:off x="304920" y="52578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Line 24"/>
          <p:cNvSpPr/>
          <p:nvPr/>
        </p:nvSpPr>
        <p:spPr>
          <a:xfrm>
            <a:off x="1143000" y="40384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Line 25"/>
          <p:cNvSpPr/>
          <p:nvPr/>
        </p:nvSpPr>
        <p:spPr>
          <a:xfrm>
            <a:off x="1600200" y="3962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Oval 27"/>
          <p:cNvSpPr/>
          <p:nvPr/>
        </p:nvSpPr>
        <p:spPr>
          <a:xfrm>
            <a:off x="1066680" y="5638680"/>
            <a:ext cx="457200" cy="381240"/>
          </a:xfrm>
          <a:prstGeom prst="ellipse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Oval 28"/>
          <p:cNvSpPr/>
          <p:nvPr/>
        </p:nvSpPr>
        <p:spPr>
          <a:xfrm>
            <a:off x="1066680" y="6248520"/>
            <a:ext cx="457200" cy="380880"/>
          </a:xfrm>
          <a:prstGeom prst="ellipse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Line 29"/>
          <p:cNvSpPr/>
          <p:nvPr/>
        </p:nvSpPr>
        <p:spPr>
          <a:xfrm flipV="1">
            <a:off x="1143000" y="571464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Line 30"/>
          <p:cNvSpPr/>
          <p:nvPr/>
        </p:nvSpPr>
        <p:spPr>
          <a:xfrm>
            <a:off x="1143000" y="571500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Line 31"/>
          <p:cNvSpPr/>
          <p:nvPr/>
        </p:nvSpPr>
        <p:spPr>
          <a:xfrm>
            <a:off x="304920" y="586728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Line 32"/>
          <p:cNvSpPr/>
          <p:nvPr/>
        </p:nvSpPr>
        <p:spPr>
          <a:xfrm>
            <a:off x="1523880" y="58672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Line 33"/>
          <p:cNvSpPr/>
          <p:nvPr/>
        </p:nvSpPr>
        <p:spPr>
          <a:xfrm flipH="1">
            <a:off x="152280" y="4800600"/>
            <a:ext cx="1526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Line 34"/>
          <p:cNvSpPr/>
          <p:nvPr/>
        </p:nvSpPr>
        <p:spPr>
          <a:xfrm flipH="1">
            <a:off x="685800" y="6477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Line 36"/>
          <p:cNvSpPr/>
          <p:nvPr/>
        </p:nvSpPr>
        <p:spPr>
          <a:xfrm>
            <a:off x="1523880" y="64771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Line 37"/>
          <p:cNvSpPr/>
          <p:nvPr/>
        </p:nvSpPr>
        <p:spPr>
          <a:xfrm flipV="1">
            <a:off x="1828800" y="58672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Line 38"/>
          <p:cNvSpPr/>
          <p:nvPr/>
        </p:nvSpPr>
        <p:spPr>
          <a:xfrm flipV="1">
            <a:off x="685800" y="58672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Line 39"/>
          <p:cNvSpPr/>
          <p:nvPr/>
        </p:nvSpPr>
        <p:spPr>
          <a:xfrm>
            <a:off x="9144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Line 41"/>
          <p:cNvSpPr/>
          <p:nvPr/>
        </p:nvSpPr>
        <p:spPr>
          <a:xfrm>
            <a:off x="18288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Line 42"/>
          <p:cNvSpPr/>
          <p:nvPr/>
        </p:nvSpPr>
        <p:spPr>
          <a:xfrm>
            <a:off x="1905120" y="39625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Line 44"/>
          <p:cNvSpPr/>
          <p:nvPr/>
        </p:nvSpPr>
        <p:spPr>
          <a:xfrm flipH="1">
            <a:off x="914400" y="54864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Line 45"/>
          <p:cNvSpPr/>
          <p:nvPr/>
        </p:nvSpPr>
        <p:spPr>
          <a:xfrm>
            <a:off x="838080" y="63244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Line 46"/>
          <p:cNvSpPr/>
          <p:nvPr/>
        </p:nvSpPr>
        <p:spPr>
          <a:xfrm>
            <a:off x="1600200" y="6324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Line 47"/>
          <p:cNvSpPr/>
          <p:nvPr/>
        </p:nvSpPr>
        <p:spPr>
          <a:xfrm>
            <a:off x="1676520" y="62485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Примеры типичных напряжений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лектрический фонарь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4,5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пряжение в сети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2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вигатель троллейбуса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6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инескоп телевизора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6 0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пряжение между облаками во время грозы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00 000 0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езопасное электрическое напряжение в сыром помещении – 12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езопасное электрическое напряжение в сухом помещении – 36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лектрические рыб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лектрический скат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50–6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ильский электрический сом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35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горь-электрофорус свыше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5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Ток высокого напряжения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опасен для жизни человек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Разгадайте ребус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1905120" y="1015920"/>
            <a:ext cx="525780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Д/З.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§39-41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  <a:ea typeface="Arial"/>
              </a:rPr>
              <a:t>.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3279600"/>
            <a:ext cx="80773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Источник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«Физика» 8 класс, авторы А.В. Перышкин, Е.М. Гутник. Издательство «Дрофа» 2008 г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http://www.all-fizika.com/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Цели и задачи урока: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изучить понятие напряжения на участке цепи, его единицы измерения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9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научиться пользоваться вольтметром;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9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научиться применять полученные знания на практике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Тест «Сила тока. Единицы силы тока»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700"/>
              </a:spcBef>
              <a:buClr>
                <a:srgbClr val="ccec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Сила ток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– это физическая величина, равная 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А)…электрическому заряду, прошедшему по электрической цепи за время её рабо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Б)… электрическому заряду, прошедшему в цепи через поперечное сечение проводни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)… электрическому заряду, прошедшему в цепи через поперечное сечение проводника за 1 с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Г)… электрическому заряду, перемещённому за 1 с от положительного полюса источника тока к отрицательном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dfe9"/>
                </a:solidFill>
                <a:latin typeface="Garamond"/>
              </a:rPr>
              <a:t>2. По какой формуле определяют силу тока?</a:t>
            </a:r>
            <a:br>
              <a:rPr sz="2800"/>
            </a:br>
            <a:endParaRPr b="1" lang="en-US" sz="2800" spc="-1" strike="noStrike">
              <a:solidFill>
                <a:srgbClr val="dfdfe9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8"/>
              <p:cNvSpPr txBox="1"/>
              <p:nvPr/>
            </p:nvSpPr>
            <p:spPr>
              <a:xfrm>
                <a:off x="5867280" y="870120"/>
                <a:ext cx="1785960" cy="20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 txBox="1"/>
          <p:nvPr/>
        </p:nvSpPr>
        <p:spPr>
          <a:xfrm>
            <a:off x="380520" y="3809880"/>
            <a:ext cx="8001000" cy="24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)                                                     Г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А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Б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1"/>
              <p:cNvSpPr txBox="1"/>
              <p:nvPr/>
            </p:nvSpPr>
            <p:spPr>
              <a:xfrm>
                <a:off x="914400" y="1106640"/>
                <a:ext cx="1967040" cy="18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12"/>
              <p:cNvSpPr txBox="1"/>
              <p:nvPr/>
            </p:nvSpPr>
            <p:spPr>
              <a:xfrm>
                <a:off x="1066680" y="3733920"/>
                <a:ext cx="1905120" cy="16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13"/>
              <p:cNvSpPr txBox="1"/>
              <p:nvPr/>
            </p:nvSpPr>
            <p:spPr>
              <a:xfrm>
                <a:off x="5715000" y="3581280"/>
                <a:ext cx="1981080" cy="17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3. Как названа единица силы тока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Джоуль (Дж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Ватт (Вт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Кулон (Кл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Ампер (А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4. Выразите силы тока, равные 0,3 А и 0,03 кА, в миллиамперах?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30 мА и 3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300 мА и 30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300 мА и 3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30 мА и 30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5.Переведите в миллиамперы силы тока, равные 0,05 А и 5 А.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50 мА и 5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500 мА и 5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500 мА и 5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50 мА и 0,005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6. Чему равны в амперах силы тока 800 мкА и 0,2 кА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0,008 А и 20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0,0008 А и 2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0,0008 А и 20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0,008 А и 2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7. Какова сила тока в цепи, если в течение 240 с сквозь её поперечное сечение прошёл заряд 120 Кл?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3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0,5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5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3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rgey</cp:lastModifiedBy>
  <dcterms:modified xsi:type="dcterms:W3CDTF">2012-02-20T14:33:44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