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B2693-D16E-402A-ABB6-64483B1F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44D2B-9095-420D-8234-9CC826AB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D1A5F-156F-433E-852C-43856CC0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34BAD-DB97-4983-8952-F7B22807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5BBA-AE9E-4DE1-A983-51900127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6686-8A07-44E4-B26D-9BAD6A2E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BA62-168E-45F7-BC38-2D705806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6556-0E92-4064-A946-BC16BD16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5310-2761-4E23-8C5B-F57AFA99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27CA-C63D-4035-BD9B-C33D99E2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3AF5-2AC2-4A51-88C3-3F047817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094D3-A209-4D17-B008-66098879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FC95-AC5C-4C3A-A3E8-7C852BF4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1315-BF86-4F77-8007-D1212E3B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EBFE-584F-4F1F-BB66-BBD4F5C3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ECA3-774C-4993-934E-8483BCA4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E12A-B937-479B-8998-A6FF73CF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4A95A-886C-4913-9B1E-04786F90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83B30-659B-4F0E-894A-12198222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C03C-8715-4C0E-BCDC-E2D7D65C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D05DA-1C44-4AD1-8B44-DB31419B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C13DB-775C-4E62-8EBB-E936BD1A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43E01-DFA4-4827-9321-61C4E065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84C16-E39C-4E76-88BB-BDCBCC2B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4395-8D3F-4725-BF5C-2522277E5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C7A0-96A3-4F1A-8BE2-7B50152809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39-41. </a:t>
            </a:r>
            <a:br>
              <a:rPr sz="4000"/>
            </a:b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Электрическое напряжение. Вольтметр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Правильные ответы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-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-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fe9"/>
                </a:solidFill>
                <a:latin typeface="Garamond"/>
              </a:rPr>
              <a:t>Электрическое напряжение</a:t>
            </a:r>
            <a:br>
              <a:rPr sz="3200"/>
            </a:b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Какую работу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А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 совершает на данном участке ток при перемещении по этому участку электрического заряда</a:t>
            </a: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 q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, равного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1 Кл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 – напряжение </a:t>
            </a:r>
            <a:endParaRPr b="1" lang="en-US" sz="20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3505320" y="1828800"/>
                <a:ext cx="12189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685800" y="1600200"/>
                <a:ext cx="12952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AutoShape 7"/>
          <p:cNvSpPr/>
          <p:nvPr/>
        </p:nvSpPr>
        <p:spPr>
          <a:xfrm>
            <a:off x="2209680" y="1981080"/>
            <a:ext cx="1067040" cy="228600"/>
          </a:xfrm>
          <a:prstGeom prst="lef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4952880" y="1981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72200" y="1828800"/>
            <a:ext cx="266688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В = 1 Дж/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мВ = 0,001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кВ = 1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4038480" y="29718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124080" y="3429000"/>
            <a:ext cx="1981440" cy="1751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ЛЬТМЕТ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ключают в цепь параллель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3886200" y="3809880"/>
            <a:ext cx="533520" cy="45720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9625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419720" y="4038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6"/>
          <p:cNvSpPr/>
          <p:nvPr/>
        </p:nvSpPr>
        <p:spPr>
          <a:xfrm flipH="1">
            <a:off x="3580920" y="4038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486400" y="3429000"/>
            <a:ext cx="3657600" cy="2813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. Вольта (ит. 1745-1827 гг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В – напряжени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и котором электрическое поле совершает работ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= 1 Дж при перемещении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= 1 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0" y="3809880"/>
            <a:ext cx="2895480" cy="287172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30492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600200" y="41148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2743200" y="41148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304920" y="41148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304920" y="5257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114300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1600200" y="3962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1066680" y="5638680"/>
            <a:ext cx="457200" cy="3812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Oval 28"/>
          <p:cNvSpPr/>
          <p:nvPr/>
        </p:nvSpPr>
        <p:spPr>
          <a:xfrm>
            <a:off x="1066680" y="6248520"/>
            <a:ext cx="457200" cy="3808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29"/>
          <p:cNvSpPr/>
          <p:nvPr/>
        </p:nvSpPr>
        <p:spPr>
          <a:xfrm flipV="1">
            <a:off x="1143000" y="57146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1143000" y="571500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31"/>
          <p:cNvSpPr/>
          <p:nvPr/>
        </p:nvSpPr>
        <p:spPr>
          <a:xfrm>
            <a:off x="304920" y="58672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32"/>
          <p:cNvSpPr/>
          <p:nvPr/>
        </p:nvSpPr>
        <p:spPr>
          <a:xfrm>
            <a:off x="1523880" y="5867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33"/>
          <p:cNvSpPr/>
          <p:nvPr/>
        </p:nvSpPr>
        <p:spPr>
          <a:xfrm flipH="1">
            <a:off x="152280" y="4800600"/>
            <a:ext cx="152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34"/>
          <p:cNvSpPr/>
          <p:nvPr/>
        </p:nvSpPr>
        <p:spPr>
          <a:xfrm flipH="1">
            <a:off x="685800" y="6477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1523880" y="6477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1828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38"/>
          <p:cNvSpPr/>
          <p:nvPr/>
        </p:nvSpPr>
        <p:spPr>
          <a:xfrm flipV="1">
            <a:off x="685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9144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Line 41"/>
          <p:cNvSpPr/>
          <p:nvPr/>
        </p:nvSpPr>
        <p:spPr>
          <a:xfrm>
            <a:off x="18288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Line 42"/>
          <p:cNvSpPr/>
          <p:nvPr/>
        </p:nvSpPr>
        <p:spPr>
          <a:xfrm>
            <a:off x="1905120" y="3962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44"/>
          <p:cNvSpPr/>
          <p:nvPr/>
        </p:nvSpPr>
        <p:spPr>
          <a:xfrm flipH="1">
            <a:off x="914400" y="5486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Line 45"/>
          <p:cNvSpPr/>
          <p:nvPr/>
        </p:nvSpPr>
        <p:spPr>
          <a:xfrm>
            <a:off x="838080" y="6324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Line 46"/>
          <p:cNvSpPr/>
          <p:nvPr/>
        </p:nvSpPr>
        <p:spPr>
          <a:xfrm>
            <a:off x="1600200" y="6324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Line 47"/>
          <p:cNvSpPr/>
          <p:nvPr/>
        </p:nvSpPr>
        <p:spPr>
          <a:xfrm>
            <a:off x="16765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Примеры типичных напряжений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фонарь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,5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в сети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2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вигатель троллейбус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6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инескоп телевизор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6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между облаками во время грозы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00 000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ыром помещении – 12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ухом помещении – 36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е рыб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скат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–6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ильский электрический сом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5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горь-электрофорус свыше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Ток высокого напряжени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опасен для жизни человек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Разгадайте ребус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905120" y="1015920"/>
            <a:ext cx="5257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Д/З.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§39-41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3279600"/>
            <a:ext cx="80773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http://www.all-fizika.com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Цели и задачи урока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изучить понятие напряжения на участке цепи, его единицы измерения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ользоваться вольтметром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рименять полученные знания на практик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Тест «Сила тока. Единицы силы тока»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ила ток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это физическая величина, равная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А)…электрическому заряду, прошедшему по электрической цепи за время её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)… электрическому заряду, прошедшему в цепи через поперечное сечение проводни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)… электрическому заряду, прошедшему в цепи через поперечное сечение проводника за 1 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)… электрическому заряду, перемещённому за 1 с от положительного полюса источника тока к отрицательном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fe9"/>
                </a:solidFill>
                <a:latin typeface="Garamond"/>
              </a:rPr>
              <a:t>2. По какой формуле определяют силу тока?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5867280" y="870120"/>
                <a:ext cx="1785960" cy="20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 txBox="1"/>
          <p:nvPr/>
        </p:nvSpPr>
        <p:spPr>
          <a:xfrm>
            <a:off x="380520" y="3809880"/>
            <a:ext cx="80010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                                                    Г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1"/>
              <p:cNvSpPr txBox="1"/>
              <p:nvPr/>
            </p:nvSpPr>
            <p:spPr>
              <a:xfrm>
                <a:off x="914400" y="1106640"/>
                <a:ext cx="196704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2"/>
              <p:cNvSpPr txBox="1"/>
              <p:nvPr/>
            </p:nvSpPr>
            <p:spPr>
              <a:xfrm>
                <a:off x="1066680" y="3733920"/>
                <a:ext cx="190512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5715000" y="3581280"/>
                <a:ext cx="198108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3. Как названа единица силы то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Джоуль (Дж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Ватт (Вт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Кулон (Кл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Ампер (А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4. Выразите силы тока, равные 0,3 А и 0,03 кА, в миллиамперах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30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30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5.Переведите в миллиамперы силы тока, равные 0,05 А и 5 А.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50 мА и 5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500 мА и 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00 мА и 5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50 мА и 0,00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6. Чему равны в амперах силы тока 800 мкА и 0,2 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0,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0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0,0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0,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7. Какова сила тока в цепи, если в течение 240 с сквозь её поперечное сечение прошёл заряд 120 Кл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2-02-20T14:33:4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