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EC606-3E3E-4E33-9B40-D53BBDF4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C8ED0-245F-46DD-B920-1B8F5BFC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06D57-2BE9-4B10-AF8B-34936F49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66C8A-7252-45B0-B638-D93B62F1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C916-E995-46FD-87DE-A1976CAF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9361-44A7-453C-A67E-F5E4B0E7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5CD5-F8FA-4EA0-9FCF-3140357F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EA62-2EB1-4F7A-AEEF-093DC547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9499-57EA-40DF-8688-8D9C8799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7F84-919E-49A4-89F6-CB9DE7D8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CA0D-D38D-4FE1-8B1D-02F17694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E063-B1C7-4915-8197-17C9E710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2E40-0B57-463E-8078-8688AF9C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4EF9-4D49-4BBB-AE1F-55044912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AA3A-DCF6-490C-BD3A-C7BDEAEC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19BF-B6E3-4AAD-971C-8C34A485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A15E-83E1-455A-8970-C7D370D8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14DB-AA05-4E0C-B706-085E8BEB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61843-7E8E-4AD4-806A-AC9A02BB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33F4F-A16B-415F-BBBB-2823F9DF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AE33-5775-4A74-821C-E86A41A9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B5C5B-385B-4ED4-AC7D-FF4721AE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BEE49-ADB2-4130-900A-1F0E2A7B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F39E-1DE3-4BB1-A079-211775EE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7D95-4370-4154-8AC3-6EB9D3F91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5A54-FFC7-4FBC-A2B3-A28C7EABBB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39-41. </a:t>
            </a:r>
            <a:br>
              <a:rPr sz="4000"/>
            </a:b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Электрическое напряжение. Вольтметр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Правильные ответы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-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-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fe9"/>
                </a:solidFill>
                <a:latin typeface="Garamond"/>
              </a:rPr>
              <a:t>Электрическое напряжение</a:t>
            </a:r>
            <a:br>
              <a:rPr sz="3200"/>
            </a:b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Какую работу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А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 совершает на данном участке ток при перемещении по этому участку электрического заряда</a:t>
            </a: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 q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, равного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1 Кл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 – напряжение </a:t>
            </a:r>
            <a:endParaRPr b="1" lang="en-US" sz="20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3505320" y="1828800"/>
                <a:ext cx="12189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685800" y="1600200"/>
                <a:ext cx="12952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AutoShape 7"/>
          <p:cNvSpPr/>
          <p:nvPr/>
        </p:nvSpPr>
        <p:spPr>
          <a:xfrm>
            <a:off x="2209680" y="1981080"/>
            <a:ext cx="1067040" cy="228600"/>
          </a:xfrm>
          <a:prstGeom prst="lef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4952880" y="1981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72200" y="1828800"/>
            <a:ext cx="266688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В = 1 Дж/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мВ = 0,001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кВ = 1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4038480" y="2971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124080" y="3429000"/>
            <a:ext cx="1981440" cy="1751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ЛЬТМЕТ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ключают в цепь параллель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3886200" y="3809880"/>
            <a:ext cx="533520" cy="4572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9625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419720" y="4038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6"/>
          <p:cNvSpPr/>
          <p:nvPr/>
        </p:nvSpPr>
        <p:spPr>
          <a:xfrm flipH="1">
            <a:off x="3580920" y="4038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486400" y="3429000"/>
            <a:ext cx="3657600" cy="2813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. Вольта (ит. 1745-1827 гг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В – напряжени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и котором электрическое поле совершает работ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= 1 Дж при перемещении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= 1 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0" y="3809880"/>
            <a:ext cx="2895480" cy="287172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30492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600200" y="41148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743200" y="41148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304920" y="41148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304920" y="5257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114300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1600200" y="3962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1066680" y="5638680"/>
            <a:ext cx="457200" cy="3812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Oval 28"/>
          <p:cNvSpPr/>
          <p:nvPr/>
        </p:nvSpPr>
        <p:spPr>
          <a:xfrm>
            <a:off x="1066680" y="6248520"/>
            <a:ext cx="457200" cy="3808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29"/>
          <p:cNvSpPr/>
          <p:nvPr/>
        </p:nvSpPr>
        <p:spPr>
          <a:xfrm flipV="1">
            <a:off x="1143000" y="57146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1143000" y="571500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31"/>
          <p:cNvSpPr/>
          <p:nvPr/>
        </p:nvSpPr>
        <p:spPr>
          <a:xfrm>
            <a:off x="304920" y="58672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32"/>
          <p:cNvSpPr/>
          <p:nvPr/>
        </p:nvSpPr>
        <p:spPr>
          <a:xfrm>
            <a:off x="1523880" y="5867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33"/>
          <p:cNvSpPr/>
          <p:nvPr/>
        </p:nvSpPr>
        <p:spPr>
          <a:xfrm flipH="1">
            <a:off x="152280" y="480060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34"/>
          <p:cNvSpPr/>
          <p:nvPr/>
        </p:nvSpPr>
        <p:spPr>
          <a:xfrm flipH="1">
            <a:off x="685800" y="6477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1523880" y="6477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1828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38"/>
          <p:cNvSpPr/>
          <p:nvPr/>
        </p:nvSpPr>
        <p:spPr>
          <a:xfrm flipV="1">
            <a:off x="685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9144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41"/>
          <p:cNvSpPr/>
          <p:nvPr/>
        </p:nvSpPr>
        <p:spPr>
          <a:xfrm>
            <a:off x="18288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Line 42"/>
          <p:cNvSpPr/>
          <p:nvPr/>
        </p:nvSpPr>
        <p:spPr>
          <a:xfrm>
            <a:off x="1905120" y="3962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44"/>
          <p:cNvSpPr/>
          <p:nvPr/>
        </p:nvSpPr>
        <p:spPr>
          <a:xfrm flipH="1">
            <a:off x="914400" y="5486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Line 45"/>
          <p:cNvSpPr/>
          <p:nvPr/>
        </p:nvSpPr>
        <p:spPr>
          <a:xfrm>
            <a:off x="838080" y="6324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Line 46"/>
          <p:cNvSpPr/>
          <p:nvPr/>
        </p:nvSpPr>
        <p:spPr>
          <a:xfrm>
            <a:off x="1600200" y="6324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47"/>
          <p:cNvSpPr/>
          <p:nvPr/>
        </p:nvSpPr>
        <p:spPr>
          <a:xfrm>
            <a:off x="16765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Примеры типичных напряжений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фонарь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,5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в сети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2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вигатель троллейбус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инескоп телевизор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6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между облаками во время грозы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00 000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ыром помещении – 12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ухом помещении – 36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е рыб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скат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–6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ильский электрический сом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5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горь-электрофорус свыше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Ток высокого напряжени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опасен для жизни челове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Разгадайте ребус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905120" y="1015920"/>
            <a:ext cx="5257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Д/З.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§39-41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279600"/>
            <a:ext cx="80773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http://www.all-fizika.com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Цели и задачи урока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изучить понятие напряжения на участке цепи, его единицы измерения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ользоваться вольтметром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рименять полученные знания на практик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Тест «Сила тока. Единицы силы тока»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ила ток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физическая величина, равная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А)…электрическому заряду, прошедшему по электрической цепи за время её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)… электрическому заряду, прошедшему в цепи через поперечное сечение проводни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)… электрическому заряду, прошедшему в цепи через поперечное сечение проводника за 1 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)… электрическому заряду, перемещённому за 1 с от положительного полюса источника тока к отрицательном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fe9"/>
                </a:solidFill>
                <a:latin typeface="Garamond"/>
              </a:rPr>
              <a:t>2. По какой формуле определяют силу тока?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5867280" y="870120"/>
                <a:ext cx="1785960" cy="20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 txBox="1"/>
          <p:nvPr/>
        </p:nvSpPr>
        <p:spPr>
          <a:xfrm>
            <a:off x="380520" y="3809880"/>
            <a:ext cx="80010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                                                    Г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1"/>
              <p:cNvSpPr txBox="1"/>
              <p:nvPr/>
            </p:nvSpPr>
            <p:spPr>
              <a:xfrm>
                <a:off x="914400" y="1106640"/>
                <a:ext cx="196704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2"/>
              <p:cNvSpPr txBox="1"/>
              <p:nvPr/>
            </p:nvSpPr>
            <p:spPr>
              <a:xfrm>
                <a:off x="1066680" y="3733920"/>
                <a:ext cx="190512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715000" y="3581280"/>
                <a:ext cx="198108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3. Как названа единица силы то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Джоуль (Дж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Ватт (Вт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Кулон (Кл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Ампер (А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4. Выразите силы тока, равные 0,3 А и 0,03 кА, в миллиамперах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30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30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5.Переведите в миллиамперы силы тока, равные 0,05 А и 5 А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50 мА и 5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500 мА и 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00 мА и 5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50 мА и 0,00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6. Чему равны в амперах силы тока 800 мкА и 0,2 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0,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0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0,0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0,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7. Какова сила тока в цепи, если в течение 240 с сквозь её поперечное сечение прошёл заряд 120 Кл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2-02-20T14:33:4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