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85A9-4086-4EF4-B05E-A9E3EEEEED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9304-0104-4BEF-BA41-AF42925D30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1478-8409-4AB3-B96B-E5A2B4FC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9C8-4461-4211-87E6-724D0E52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5D83-E907-4761-BF7A-D160D696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EE92-CB6C-405F-8D19-9722DD10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3F9E-B26B-4477-BA29-A78E5C3D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3038-ADB5-44AA-9B8B-CDD6F46D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25AE-0D6F-4984-9707-5786E8EC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9124-4570-4E7F-83E8-EB8D4AE0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0ACA-CF4F-42B0-96FE-A7B4429A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598B-F2D0-4EFD-9E25-91860557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9FA0-4E09-4EC2-909B-3D6165E1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593D-41AF-430E-B866-4BF62A0C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3946-3571-40C9-A921-85B5182E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FE71-357C-4975-ACB3-09B1580D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6510-9409-4956-9C10-F3D24584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71C3-9CDE-4544-8B18-BAEA1C76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5CC4-B0EF-4B00-B69F-1BAEAEC6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E3670-094E-4F83-8643-FD8C50DD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C6633-0E71-4FDF-898F-E3A5ADB6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8A475-C37D-4F9D-8DFA-38CFF462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7431F-54AB-427A-9BF8-C7A51A49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23748-371B-4834-B7D6-EE6CE0AB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C5B-A8B5-4BDC-9126-B0216478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BA981-D708-42C4-95A9-984A39A7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25683-87FF-4191-B57D-CA3FB305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2EC7A-60BE-4FDE-BE5F-D66D3DA9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E5A52-2D3C-4A5A-924D-0841CCFC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00517-B1CB-4B21-868D-E444A8B0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2FD04-6871-4CA0-B897-0552C74B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E8A6E-5E4F-433E-BF67-C222AE2F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14996-5C84-436B-B1F0-9D4C9A68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1BDD0-620C-42E2-8CA4-207256C5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D1A13-866F-4823-B950-E5357E31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4F32-7869-4A18-8855-B94BBB6F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35F9A-5146-48FC-917D-30A87189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11C47-5118-45EA-A2EF-C1EED7CB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E146A-88C4-4BB6-BA02-61CE132F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F4AEF-48A9-4C52-8AE7-B4BD34FF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0BEEC-53A3-457E-B3ED-3B566229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7B433-A446-40D2-8689-06088B06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771F0-229B-456C-9AB5-A879F677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CC6B8-019E-46A7-8378-9103CF85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54AD7-7515-40D2-8D86-4F04A1F4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5D90-0586-4378-8102-D6494EE2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10CF-4187-451F-A664-B8D88201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036-9DDF-48B4-8144-BA92D809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9B1-A688-49D2-8B67-0D7699DD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3557-D59C-47EF-8650-1436E8C6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1CDE-6396-479E-89A5-F1E6583CCEE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A683-5A05-46FC-8F46-A329F4F9CAE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5820-8C8F-481D-8E7B-F3F01E2846E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ABBC-0814-4FB4-B40A-8DB29C20814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69800" y="523800"/>
            <a:ext cx="8356680" cy="1798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268360" y="328428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Выполнил ученик 6ж 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Горошко Александ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Учитель  И.П. Фукс 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8" descr="Н.А. Некрасов"/>
          <p:cNvPicPr/>
          <p:nvPr/>
        </p:nvPicPr>
        <p:blipFill>
          <a:blip r:embed="rId2"/>
          <a:stretch/>
        </p:blipFill>
        <p:spPr>
          <a:xfrm>
            <a:off x="428760" y="2940120"/>
            <a:ext cx="3206520" cy="32972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558000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77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 flipV="1" rot="10799400">
            <a:off x="2174400" y="330840"/>
            <a:ext cx="397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ь и 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5960" y="5500800"/>
            <a:ext cx="192888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Н . А .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85840" y="1143000"/>
            <a:ext cx="3000600" cy="3929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6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aramond"/>
              </a:rPr>
              <a:t>Родился Н . А . Некрасов в местечке Немирове подольской губернии в семье мелкопоместного дворянина . детские годы прошли в селе Грешневе , в родовом имении отца , человека деспотического характера , угнетавшего не только крепостных , но и всю семью , чему был свидетелем будущий поэт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85920" y="1000080"/>
            <a:ext cx="3000240" cy="42861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0" name="Picture 2" descr="Николай Алексеевич Некрасов"/>
          <p:cNvPicPr/>
          <p:nvPr/>
        </p:nvPicPr>
        <p:blipFill>
          <a:blip r:embed="rId2"/>
          <a:stretch/>
        </p:blipFill>
        <p:spPr>
          <a:xfrm>
            <a:off x="1357200" y="1071720"/>
            <a:ext cx="288612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840" y="5357520"/>
            <a:ext cx="1928880" cy="57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4617b"/>
                </a:solidFill>
                <a:latin typeface="Calibri"/>
              </a:rPr>
              <a:t>Н . А . 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785840" y="1642680"/>
            <a:ext cx="3357720" cy="31431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aramond"/>
              </a:rPr>
              <a:t>Первый сборник «Мечты и звуки» ,   изданный Некрасовым в Петербурге в 1840 на собственные средства , успеха не имел , подвергся резкой критике В . Г . Белинского , с которым Некрасов сблизился позже , в 1842 -43 , в период сотрудничества в                              « Отечественных записках» 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42960" y="1143000"/>
            <a:ext cx="3857760" cy="392904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4" name="Picture 2" descr="Н.А. Некрасов. Фото Деньера, 1864"/>
          <p:cNvPicPr/>
          <p:nvPr/>
        </p:nvPicPr>
        <p:blipFill>
          <a:blip r:embed="rId2"/>
          <a:stretch/>
        </p:blipFill>
        <p:spPr>
          <a:xfrm>
            <a:off x="714240" y="1214280"/>
            <a:ext cx="3714840" cy="378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928960"/>
            <a:ext cx="300024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i="1" lang="ru-RU" sz="18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            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00760" y="928440"/>
            <a:ext cx="3543120" cy="47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4617b"/>
                </a:solidFill>
                <a:latin typeface="Garamond"/>
              </a:rPr>
              <a:t>В 1843 году поэт знакомится с Виссарионом Белинским , который становится его духовным учителем . В 1846 году Николай Некрасов с И . Панаевым берет в аренду журнал «Современник» , в котором постепенно сосредоточились все лучшие силы тогдашней литературы . В 1862 году Некрасов становится редактором журнала «Отечественные записки» . В нем Некрасов печатает  лучшие свои стихи и поэмы , в том числе «Коробейники» , «Мороз , Красный нос» , «Русские женщины» , частично «Кому на Руси жить хорошо» 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400" y="1142640"/>
            <a:ext cx="21114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Обложка журна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11" descr=""/>
          <p:cNvPicPr/>
          <p:nvPr/>
        </p:nvPicPr>
        <p:blipFill>
          <a:blip r:embed="rId1"/>
          <a:stretch/>
        </p:blipFill>
        <p:spPr>
          <a:xfrm>
            <a:off x="353880" y="5772240"/>
            <a:ext cx="5650200" cy="804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Титульный лист журнала Отечественные Записки"/>
          <p:cNvPicPr/>
          <p:nvPr/>
        </p:nvPicPr>
        <p:blipFill>
          <a:blip r:embed="rId2"/>
          <a:stretch/>
        </p:blipFill>
        <p:spPr>
          <a:xfrm>
            <a:off x="250920" y="2133720"/>
            <a:ext cx="2673360" cy="2500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Автограф Н.А. Некрасова, 1849"/>
          <p:cNvPicPr/>
          <p:nvPr/>
        </p:nvPicPr>
        <p:blipFill>
          <a:blip r:embed="rId3"/>
          <a:stretch/>
        </p:blipFill>
        <p:spPr>
          <a:xfrm>
            <a:off x="2714760" y="350028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Сотрудники журнала Отечественные Записки"/>
          <p:cNvPicPr/>
          <p:nvPr/>
        </p:nvPicPr>
        <p:blipFill>
          <a:blip r:embed="rId4"/>
          <a:stretch/>
        </p:blipFill>
        <p:spPr>
          <a:xfrm>
            <a:off x="3286080" y="128592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09440" y="133200"/>
            <a:ext cx="9358560" cy="6066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357360" y="3285720"/>
            <a:ext cx="121428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71680" y="713880"/>
            <a:ext cx="3714840" cy="5072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5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Именем Некрасова названы улицы: в Петербурге в 1918, в Рыбацком, Парголово. Его имя присвоено библиотеке №9 Смольнинского района и Педагогическому училищу</a:t>
            </a:r>
            <a:r>
              <a:rPr b="0" i="1" lang="en-US" sz="2800" spc="-1" strike="noStrike">
                <a:solidFill>
                  <a:srgbClr val="404040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№1. В 1971 году на углу улицы Некрасова и Греческого проспекта открыт памятник Некрасов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Памятник Н.А. Некрасову в Ярославле"/>
          <p:cNvPicPr/>
          <p:nvPr/>
        </p:nvPicPr>
        <p:blipFill>
          <a:blip r:embed="rId1"/>
          <a:srcRect l="0" t="3452" r="0" b="3452"/>
          <a:stretch/>
        </p:blipFill>
        <p:spPr>
          <a:xfrm>
            <a:off x="214200" y="500040"/>
            <a:ext cx="2301840" cy="2143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Памятник на могиле Н.А. Некрасова"/>
          <p:cNvPicPr/>
          <p:nvPr/>
        </p:nvPicPr>
        <p:blipFill>
          <a:blip r:embed="rId2"/>
          <a:stretch/>
        </p:blipFill>
        <p:spPr>
          <a:xfrm>
            <a:off x="2928960" y="2357280"/>
            <a:ext cx="1857240" cy="179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Памятник Н.А. Некрасову в Санкт-Петербурге"/>
          <p:cNvPicPr/>
          <p:nvPr/>
        </p:nvPicPr>
        <p:blipFill>
          <a:blip r:embed="rId3"/>
          <a:stretch/>
        </p:blipFill>
        <p:spPr>
          <a:xfrm>
            <a:off x="500040" y="3857760"/>
            <a:ext cx="221472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7:25:41Z</dcterms:created>
  <dc:creator>Саша</dc:creator>
  <dc:description/>
  <dc:language>en-US</dc:language>
  <cp:lastModifiedBy>Admin</cp:lastModifiedBy>
  <dcterms:modified xsi:type="dcterms:W3CDTF">2010-02-17T15:25:31Z</dcterms:modified>
  <cp:revision>49</cp:revision>
  <dc:subject/>
  <dc:title>Николай Алексеевич Некрасов</dc:title>
</cp:coreProperties>
</file>