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858A-E1FC-466F-AF99-77B3605A35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CBF7-0EBA-4374-B91F-208D768CB6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129-1506-4EB2-BDF1-962E6963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051-5E32-4870-BA99-4F91B780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C7BA-16E1-4F13-B1D7-26DEDA09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C4E-9E60-46B7-A9E4-F5C67CF6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A98F-8AA2-4D98-A404-E1D5DB2F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41A0-A49C-45BC-9CD0-194514C6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347F-1C2C-4057-8B03-2F89828C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2160-0BE4-4D12-98D2-B1B8ED7D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C616-06E1-4830-93EC-725FCDA8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9A50-897B-400D-96BE-5D29FD7B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720E-3F88-432E-92B0-35B5169F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969-1B77-474D-B7A4-43EC4249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7E9C-32B5-4307-95AE-ABF52CDB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C17A-3908-44CA-8C8A-341C0107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1D32-DE28-42EC-8506-7B73D562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4E16-94D8-43B6-A716-4B69C438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825E-999D-4D70-A2DD-F007CF2F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C051B-1088-4234-A12F-98EEC8F0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FCC84-5302-423A-B883-034E3418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C098A-D440-4B41-B158-A7CFC0A9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45201-126C-41AB-A417-492F6DEF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B957-CC30-4642-BA7F-BE0EDBFC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E64-22FD-4339-B482-AE30A79E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E08C5-81EE-40D5-8040-05722F02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2B704-AF50-4F60-AE2A-64EC1370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4010B-D5A8-4BE9-83FF-50ADCEA9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62E17-F93B-4D0D-8699-873E353D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B8506-EF09-4CF2-8ECA-C61D833B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C6191-EF98-4DD6-BE38-368BBB79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817F1-CC1C-4AE2-9842-72527421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85446-DBD1-4AD2-810B-4E478AE6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98092-3725-4BC5-9BD6-D17BA3B7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D68AD-BC9F-45DD-8886-0FF2EF36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B9D-1DC1-4E05-80C4-3D40ABC2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881A4-C7E7-458E-B057-B8D814C5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B6C62-4BCB-4F46-A5EC-0BA837D4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F00C8-2E18-4ABC-A4F4-9DF0258A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72B3A-6DAD-4469-BC67-1AE2C646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41855-E791-4D4D-A5FB-2803ED6D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CD205-C481-47F4-8C71-65131B57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C5E96-3153-4170-8C4C-3D948259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E6B9F-6672-40E3-BC8F-3C0A5317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43BA8-4F04-4AAA-A8C5-F7312CB8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1DD-14D8-4384-96C8-4370DD65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CEE-E059-4DB0-B919-36B7ACD6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DA2-52D1-480B-835C-0AC4E0FF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9AF2-DDE4-4114-BB0B-A73199DC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71F-37B8-4F71-804A-74B64E6E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7F04-1EFC-498B-AC86-07960600BBA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72F0-1DC8-4FF9-868D-5FE3CBE8D3E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3ACF-1C63-426F-BAD3-DD88891D276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7D83-93AE-4753-A474-97D507F99CB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69800" y="523800"/>
            <a:ext cx="8356680" cy="179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268360" y="328428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Выполнил ученик 6ж 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Горошко Александ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Учитель  И.П. Фукс 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8" descr="Н.А. Некрасов"/>
          <p:cNvPicPr/>
          <p:nvPr/>
        </p:nvPicPr>
        <p:blipFill>
          <a:blip r:embed="rId2"/>
          <a:stretch/>
        </p:blipFill>
        <p:spPr>
          <a:xfrm>
            <a:off x="428760" y="2940120"/>
            <a:ext cx="3206520" cy="32972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558000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77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 flipV="1" rot="10799400">
            <a:off x="2174400" y="330840"/>
            <a:ext cx="397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ь и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5960" y="5500800"/>
            <a:ext cx="19288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Н . А .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85840" y="1143000"/>
            <a:ext cx="3000600" cy="3929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6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aramond"/>
              </a:rPr>
              <a:t>Родился Н . А . Некрасов в местечке Немирове подольской губернии в семье мелкопоместного дворянина . детские годы прошли в селе Грешневе , в родовом имении отца , человека деспотического характера , угнетавшего не только крепостных , но и всю семью , чему был свидетелем будущий поэт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85920" y="1000080"/>
            <a:ext cx="3000240" cy="42861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0" name="Picture 2" descr="Николай Алексеевич Некрасов"/>
          <p:cNvPicPr/>
          <p:nvPr/>
        </p:nvPicPr>
        <p:blipFill>
          <a:blip r:embed="rId2"/>
          <a:stretch/>
        </p:blipFill>
        <p:spPr>
          <a:xfrm>
            <a:off x="1357200" y="1071720"/>
            <a:ext cx="288612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840" y="5357520"/>
            <a:ext cx="192888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4617b"/>
                </a:solidFill>
                <a:latin typeface="Calibri"/>
              </a:rPr>
              <a:t>Н . А . 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785840" y="1642680"/>
            <a:ext cx="3357720" cy="31431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aramond"/>
              </a:rPr>
              <a:t>Первый сборник «Мечты и звуки» ,   изданный Некрасовым в Петербурге в 1840 на собственные средства , успеха не имел , подвергся резкой критике В . Г . Белинского , с которым Некрасов сблизился позже , в 1842 -43 , в период сотрудничества в                              « Отечественных записках» 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3857760" cy="39290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4" name="Picture 2" descr="Н.А. Некрасов. Фото Деньера, 1864"/>
          <p:cNvPicPr/>
          <p:nvPr/>
        </p:nvPicPr>
        <p:blipFill>
          <a:blip r:embed="rId2"/>
          <a:stretch/>
        </p:blipFill>
        <p:spPr>
          <a:xfrm>
            <a:off x="714240" y="1214280"/>
            <a:ext cx="3714840" cy="378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928960"/>
            <a:ext cx="300024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i="1" lang="ru-RU" sz="18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00760" y="928440"/>
            <a:ext cx="3543120" cy="47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4617b"/>
                </a:solidFill>
                <a:latin typeface="Garamond"/>
              </a:rPr>
              <a:t>В 1843 году поэт знакомится с Виссарионом Белинским , который становится его духовным учителем . В 1846 году Николай Некрасов с И . Панаевым берет в аренду журнал «Современник» , в котором постепенно сосредоточились все лучшие силы тогдашней литературы . В 1862 году Некрасов становится редактором журнала «Отечественные записки» . В нем Некрасов печатает  лучшие свои стихи и поэмы , в том числе «Коробейники» , «Мороз , Красный нос» , «Русские женщины» , частично «Кому на Руси жить хорошо» 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400" y="1142640"/>
            <a:ext cx="21114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Обложка журна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11" descr=""/>
          <p:cNvPicPr/>
          <p:nvPr/>
        </p:nvPicPr>
        <p:blipFill>
          <a:blip r:embed="rId1"/>
          <a:stretch/>
        </p:blipFill>
        <p:spPr>
          <a:xfrm>
            <a:off x="353880" y="5772240"/>
            <a:ext cx="5650200" cy="804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Титульный лист журнала Отечественные Записки"/>
          <p:cNvPicPr/>
          <p:nvPr/>
        </p:nvPicPr>
        <p:blipFill>
          <a:blip r:embed="rId2"/>
          <a:stretch/>
        </p:blipFill>
        <p:spPr>
          <a:xfrm>
            <a:off x="250920" y="2133720"/>
            <a:ext cx="2673360" cy="2500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Автограф Н.А. Некрасова, 1849"/>
          <p:cNvPicPr/>
          <p:nvPr/>
        </p:nvPicPr>
        <p:blipFill>
          <a:blip r:embed="rId3"/>
          <a:stretch/>
        </p:blipFill>
        <p:spPr>
          <a:xfrm>
            <a:off x="2714760" y="350028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Сотрудники журнала Отечественные Записки"/>
          <p:cNvPicPr/>
          <p:nvPr/>
        </p:nvPicPr>
        <p:blipFill>
          <a:blip r:embed="rId4"/>
          <a:stretch/>
        </p:blipFill>
        <p:spPr>
          <a:xfrm>
            <a:off x="3286080" y="12859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09440" y="133200"/>
            <a:ext cx="9358560" cy="6066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357360" y="3285720"/>
            <a:ext cx="12142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71680" y="713880"/>
            <a:ext cx="3714840" cy="5072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5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Именем Некрасова названы улицы: в Петербурге в 1918, в Рыбацком, Парголово. Его имя присвоено библиотеке №9 Смольнинского района и Педагогическому училищу</a:t>
            </a:r>
            <a:r>
              <a:rPr b="0" i="1" lang="en-US" sz="2800" spc="-1" strike="noStrike">
                <a:solidFill>
                  <a:srgbClr val="404040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№1. В 1971 году на углу улицы Некрасова и Греческого проспекта открыт памятник Некрасов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Памятник Н.А. Некрасову в Ярославле"/>
          <p:cNvPicPr/>
          <p:nvPr/>
        </p:nvPicPr>
        <p:blipFill>
          <a:blip r:embed="rId1"/>
          <a:srcRect l="0" t="3452" r="0" b="3452"/>
          <a:stretch/>
        </p:blipFill>
        <p:spPr>
          <a:xfrm>
            <a:off x="214200" y="500040"/>
            <a:ext cx="2301840" cy="2143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Памятник на могиле Н.А. Некрасова"/>
          <p:cNvPicPr/>
          <p:nvPr/>
        </p:nvPicPr>
        <p:blipFill>
          <a:blip r:embed="rId2"/>
          <a:stretch/>
        </p:blipFill>
        <p:spPr>
          <a:xfrm>
            <a:off x="2928960" y="2357280"/>
            <a:ext cx="1857240" cy="179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Памятник Н.А. Некрасову в Санкт-Петербурге"/>
          <p:cNvPicPr/>
          <p:nvPr/>
        </p:nvPicPr>
        <p:blipFill>
          <a:blip r:embed="rId3"/>
          <a:stretch/>
        </p:blipFill>
        <p:spPr>
          <a:xfrm>
            <a:off x="500040" y="3857760"/>
            <a:ext cx="221472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7:25:41Z</dcterms:created>
  <dc:creator>Саша</dc:creator>
  <dc:description/>
  <dc:language>en-US</dc:language>
  <cp:lastModifiedBy>Admin</cp:lastModifiedBy>
  <dcterms:modified xsi:type="dcterms:W3CDTF">2010-02-17T15:25:31Z</dcterms:modified>
  <cp:revision>49</cp:revision>
  <dc:subject/>
  <dc:title>Николай Алексеевич Некрасов</dc:title>
</cp:coreProperties>
</file>