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8.png" ContentType="image/png"/>
  <Override PartName="/ppt/media/image14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E7B4-78EF-4802-B080-E4C4A598C0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DE10-6E80-47D1-9508-C55C1C740E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33A4-5D11-4BCC-8798-FA763AA77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4026-BF40-43E6-AC86-C37BE7E7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283D-B066-47FA-8097-6BF2F7DAB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FFF1-2803-462D-9C53-252EAE4C9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232F-2582-4007-A840-F0ED322F7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B179-42BC-48FE-B2A4-93F8E11A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61BB-6AD5-4A3F-9F03-662A595F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2C11-413A-42B0-AC9A-869A388C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C938-AFB1-4A2E-ADDC-E12EDFF2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0E7D-B37F-4857-B925-CEB443DA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A8E9-A885-447A-9848-1650C10E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ECE2-D017-40EC-9E0C-329AE7BB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C3AC-1623-44F9-8C51-3689B2F8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DAF3-8417-49B3-8293-8D88D240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7996D-84C1-4A60-A7BB-90170189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BBFC3-95FF-4581-B241-DE5E87E7F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1116-C357-445B-B9E3-87A2631C3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87AFF-81A7-4E5B-943F-F0400B0AA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056C7-CD8A-4A8B-87AB-F6A6CAFC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0851C-EBE8-4A1F-9287-BECF8573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81BC3-07BE-4309-B8EA-ED991CCC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6EFDF-29D0-404F-9D84-25DDDBEF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1B82-77D2-4153-ADEA-D57FDF7E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12A6D-1BB5-4839-B4C4-FBABB401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EDD6F-AC24-4145-91AF-60512486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35624-5D6D-4FFC-99A0-2770EB77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BAA24-3EB4-45D2-924A-A56E851A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88214-130E-4DAE-8BF9-EDA1D99A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1E1EC-9E1E-4023-88D0-142F100CB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85F96-61CD-4F52-A6C5-ECB484094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50143-DE70-4CA6-AC9E-CCCB44FC9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2480A-588C-4CB8-B563-FA6246DE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69593-93A1-4181-A2A9-109ECE53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339C-F438-4640-8C30-7DD7AFC7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57F69-50D5-4F3F-A9AE-F464CD43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934DC-70A7-4D05-B008-2579C7F2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8BC2E-A59C-44F7-A477-349E9807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38027-9ADA-4B6E-B99F-9C9B87BF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C66EE-5688-4FAA-BE9C-9189C0FA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02A62-CB03-44BE-A56D-CD590F2D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B81F8-BCC2-4498-A88D-25635720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3AABC-A81A-44FA-9D17-72A1E14CA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E77E4-CA60-45C5-8278-D2EF7EB1E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0217-34E2-4D57-B4AC-0D43A748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EEC2-AB36-4092-9508-8851A231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D9E5-BEF0-492A-A183-9474AC53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BAAD-6C5D-4162-A09D-78FAB623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D5ED-06B0-4BB7-A60A-89EB4341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6764-4DDE-4DE0-AC2E-AD1F533C0A9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7AEA-6594-4C48-9C58-0D5F08F5A3C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55DC-117C-47EB-A2DD-CA43A60D88A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E2D0-36E1-43ED-AAE8-19B7681E3CC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469800" y="523800"/>
            <a:ext cx="8356680" cy="17985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268360" y="3284280"/>
            <a:ext cx="6400800" cy="28796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Выполнил ученик 6ж класс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Горошко Александр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Учитель  И.П. Фукс  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8" descr="Н.А. Некрасов"/>
          <p:cNvPicPr/>
          <p:nvPr/>
        </p:nvPicPr>
        <p:blipFill>
          <a:blip r:embed="rId2"/>
          <a:stretch/>
        </p:blipFill>
        <p:spPr>
          <a:xfrm>
            <a:off x="428760" y="2940120"/>
            <a:ext cx="3206520" cy="32972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6"/>
          <p:cNvSpPr/>
          <p:nvPr/>
        </p:nvSpPr>
        <p:spPr>
          <a:xfrm>
            <a:off x="5580000" y="249228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2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77 г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 flipV="1" rot="10799400">
            <a:off x="2174400" y="330840"/>
            <a:ext cx="397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знь и твор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85960" y="5500800"/>
            <a:ext cx="1928880" cy="42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Calibri"/>
              </a:rPr>
              <a:t>Н . А .Некрасов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785840" y="1143000"/>
            <a:ext cx="3000600" cy="392904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86000"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aramond"/>
              </a:rPr>
              <a:t>Родился Н . А . Некрасов в местечке Немирове подольской губернии в семье мелкопоместного дворянина . детские годы прошли в селе Грешневе , в родовом имении отца , человека деспотического характера , угнетавшего не только крепостных , но и всю семью , чему был свидетелем будущий поэт 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285920" y="1000080"/>
            <a:ext cx="3000240" cy="428616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pic>
        <p:nvPicPr>
          <p:cNvPr id="210" name="Picture 2" descr="Николай Алексеевич Некрасов"/>
          <p:cNvPicPr/>
          <p:nvPr/>
        </p:nvPicPr>
        <p:blipFill>
          <a:blip r:embed="rId2"/>
          <a:stretch/>
        </p:blipFill>
        <p:spPr>
          <a:xfrm>
            <a:off x="1357200" y="1071720"/>
            <a:ext cx="2886120" cy="4143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840" y="5357520"/>
            <a:ext cx="1928880" cy="57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4617b"/>
                </a:solidFill>
                <a:latin typeface="Calibri"/>
              </a:rPr>
              <a:t>Н . А . Некрасов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785840" y="1642680"/>
            <a:ext cx="3357720" cy="314316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1000"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aramond"/>
              </a:rPr>
              <a:t>Первый сборник «Мечты и звуки» ,   изданный Некрасовым в Петербурге в 1840 на собственные средства , успеха не имел , подвергся резкой критике В . Г . Белинского , с которым Некрасов сблизился позже , в 1842 -43 , в период сотрудничества в                              « Отечественных записках» 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42960" y="1143000"/>
            <a:ext cx="3857760" cy="392904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pic>
        <p:nvPicPr>
          <p:cNvPr id="214" name="Picture 2" descr="Н.А. Некрасов. Фото Деньера, 1864"/>
          <p:cNvPicPr/>
          <p:nvPr/>
        </p:nvPicPr>
        <p:blipFill>
          <a:blip r:embed="rId2"/>
          <a:stretch/>
        </p:blipFill>
        <p:spPr>
          <a:xfrm>
            <a:off x="714240" y="1214280"/>
            <a:ext cx="3714840" cy="37864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928960"/>
            <a:ext cx="300024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4617b"/>
                </a:solidFill>
                <a:latin typeface="Calibri"/>
              </a:rPr>
              <a:t>           </a:t>
            </a:r>
            <a:r>
              <a:rPr b="0" i="1" lang="ru-RU" sz="18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4617b"/>
                </a:solidFill>
                <a:latin typeface="Calibri"/>
              </a:rPr>
              <a:t>                        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00760" y="928440"/>
            <a:ext cx="3543120" cy="4786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0000"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4617b"/>
                </a:solidFill>
                <a:latin typeface="Garamond"/>
              </a:rPr>
              <a:t>В 1843 году поэт знакомится с Виссарионом Белинским , который становится его духовным учителем . В 1846 году Николай Некрасов с И . Панаевым берет в аренду журнал «Современник» , в котором постепенно сосредоточились все лучшие силы тогдашней литературы . В 1862 году Некрасов становится редактором журнала «Отечественные записки» . В нем Некрасов печатает  лучшие свои стихи и поэмы , в том числе «Коробейники» , «Мороз , Красный нос» , «Русские женщины» , частично «Кому на Руси жить хорошо» 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8400" y="1142640"/>
            <a:ext cx="211140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Arial"/>
              </a:rPr>
              <a:t>Обложка журнал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Содержимое 11" descr=""/>
          <p:cNvPicPr/>
          <p:nvPr/>
        </p:nvPicPr>
        <p:blipFill>
          <a:blip r:embed="rId1"/>
          <a:stretch/>
        </p:blipFill>
        <p:spPr>
          <a:xfrm>
            <a:off x="353880" y="5772240"/>
            <a:ext cx="5650200" cy="804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Титульный лист журнала Отечественные Записки"/>
          <p:cNvPicPr/>
          <p:nvPr/>
        </p:nvPicPr>
        <p:blipFill>
          <a:blip r:embed="rId2"/>
          <a:stretch/>
        </p:blipFill>
        <p:spPr>
          <a:xfrm>
            <a:off x="250920" y="2133720"/>
            <a:ext cx="2673360" cy="2500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Автограф Н.А. Некрасова, 1849"/>
          <p:cNvPicPr/>
          <p:nvPr/>
        </p:nvPicPr>
        <p:blipFill>
          <a:blip r:embed="rId3"/>
          <a:stretch/>
        </p:blipFill>
        <p:spPr>
          <a:xfrm>
            <a:off x="2714760" y="3500280"/>
            <a:ext cx="2286000" cy="2214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Сотрудники журнала Отечественные Записки"/>
          <p:cNvPicPr/>
          <p:nvPr/>
        </p:nvPicPr>
        <p:blipFill>
          <a:blip r:embed="rId4"/>
          <a:stretch/>
        </p:blipFill>
        <p:spPr>
          <a:xfrm>
            <a:off x="3286080" y="1285920"/>
            <a:ext cx="1643040" cy="16430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109440" y="133200"/>
            <a:ext cx="9358560" cy="6066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357360" y="3285720"/>
            <a:ext cx="121428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>
              <a:buClr>
                <a:srgbClr val="04617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Calibri"/>
              </a:rPr>
              <a:t>    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71680" y="713880"/>
            <a:ext cx="3714840" cy="507204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85000"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04040"/>
                </a:solidFill>
                <a:latin typeface="Garamond"/>
              </a:rPr>
              <a:t>Именем Некрасова названы улицы: в Петербурге в 1918, в Рыбацком, Парголово. Его имя присвоено библиотеке №9 Смольнинского района и Педагогическому училищу</a:t>
            </a:r>
            <a:r>
              <a:rPr b="0" i="1" lang="en-US" sz="2800" spc="-1" strike="noStrike">
                <a:solidFill>
                  <a:srgbClr val="404040"/>
                </a:solidFill>
                <a:latin typeface="Garamond"/>
              </a:rPr>
              <a:t> </a:t>
            </a:r>
            <a:r>
              <a:rPr b="0" i="1" lang="ru-RU" sz="2800" spc="-1" strike="noStrike">
                <a:solidFill>
                  <a:srgbClr val="404040"/>
                </a:solidFill>
                <a:latin typeface="Garamond"/>
              </a:rPr>
              <a:t>№1. В 1971 году на углу улицы Некрасова и Греческого проспекта открыт памятник Некрасов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2" descr="Памятник Н.А. Некрасову в Ярославле"/>
          <p:cNvPicPr/>
          <p:nvPr/>
        </p:nvPicPr>
        <p:blipFill>
          <a:blip r:embed="rId1"/>
          <a:srcRect l="0" t="3452" r="0" b="3452"/>
          <a:stretch/>
        </p:blipFill>
        <p:spPr>
          <a:xfrm>
            <a:off x="214200" y="500040"/>
            <a:ext cx="2301840" cy="21430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Памятник на могиле Н.А. Некрасова"/>
          <p:cNvPicPr/>
          <p:nvPr/>
        </p:nvPicPr>
        <p:blipFill>
          <a:blip r:embed="rId2"/>
          <a:stretch/>
        </p:blipFill>
        <p:spPr>
          <a:xfrm>
            <a:off x="2928960" y="2357280"/>
            <a:ext cx="1857240" cy="1798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Памятник Н.А. Некрасову в Санкт-Петербурге"/>
          <p:cNvPicPr/>
          <p:nvPr/>
        </p:nvPicPr>
        <p:blipFill>
          <a:blip r:embed="rId3"/>
          <a:stretch/>
        </p:blipFill>
        <p:spPr>
          <a:xfrm>
            <a:off x="500040" y="3857760"/>
            <a:ext cx="2214720" cy="2214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17:25:41Z</dcterms:created>
  <dc:creator>Саша</dc:creator>
  <dc:description/>
  <dc:language>en-US</dc:language>
  <cp:lastModifiedBy>Admin</cp:lastModifiedBy>
  <dcterms:modified xsi:type="dcterms:W3CDTF">2010-02-17T15:25:31Z</dcterms:modified>
  <cp:revision>49</cp:revision>
  <dc:subject/>
  <dc:title>Николай Алексеевич Некрасов</dc:title>
</cp:coreProperties>
</file>