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96D1-62E4-4727-A41F-896F9C90DC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97DE-E3AC-4F04-BBA7-212A5A0DAF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060-510A-46E2-93F7-F827E246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A1A-C35B-41C4-9C94-0A27DD87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810-E26C-43D9-A083-DCD46230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8D2-ECB2-44B7-B284-D6118862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C5C8-0BBA-40E5-97CC-BE5843D7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7467-5C82-4D49-A489-9576C995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E448-F76D-4F16-A73A-907DB0EA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19EB-7EB3-454D-A560-ED3FD5DE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545C-3F0C-4F29-B7A5-2496B79E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3172-A179-4DF7-A72B-8FAE0F0A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E5FE-EBE8-4273-93C6-DE22B06A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95A-0329-475C-8D89-E5F0E728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F015-ACC3-47C3-AA10-B26BE287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85EC-C5A1-403E-8F4A-380E0DFF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C2B6-D694-4EE4-997D-1EA71B45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460C-EB94-4496-9735-A0823142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80D0-C86E-4D82-8AD6-D3423626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89FD-C225-48A8-A9C1-35D09EAD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C9DF6-386F-452B-9883-C73FDCD1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3F7A6-7D13-41B7-914C-F432D5E7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846B-F887-4256-88CB-74B75D4E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CE591-721A-470D-97AD-17552962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82A-4A77-4CB7-B810-AFF85B5D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66C91-5714-4989-9254-5D100028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DE83-D5E5-4AAC-BDFC-4B39CBB3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AB66-B634-4635-8C98-DBEA5591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4AA3-FA24-4E3D-AF8A-CA20061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5AF18-39C3-4DDE-99F8-CA1FDD7B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07C0-07D4-42A0-9315-FA57C111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DFF5-1F5D-4CBE-8214-D5B6CAD7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31A0C-6466-450C-A6F9-F8AC80E4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5D29B-B23C-4684-A482-D99B4814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5F99A-F372-4792-97FD-B9F234E7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B22-54C3-43D4-982D-FF1495BC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2517-94B2-4750-8D8B-1A8C1013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F307-CB91-4E56-A536-D1757BA8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503FE-29CE-4D27-A539-64756715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A80A-F23C-42BF-9808-0086FD0F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5070B-86BD-43A1-9262-608866F1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FE81B-9DAD-4BF6-A464-D8405EE2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C0243-E5BC-4DC4-8F9E-4A771833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1920D-5CE7-47E6-B8C7-62B6FDE0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6FA20-909E-4E47-A69F-E62B8F24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ED0-0721-4D4D-AAAE-60A575C8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E2D-0C51-4D30-A403-1A09AC0E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E32-2E90-4BB1-B5B4-35D898FC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30E-7BA6-4165-9AC2-97E8358D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BC3-1B78-4347-BE3B-B59A0376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388A-A97F-4AB1-B3FA-F7BFFB82E84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0E62-908A-4FE8-88B7-E3CAF93C7B0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B801-03DB-4D4F-BA58-F6215A64BE6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4D9C-437C-4647-B847-A83A8B0E5E5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523800"/>
            <a:ext cx="8356680" cy="179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Выполнил ученик 6ж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Горошко Александ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Учитель  И.П. Фукс 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Н.А. Некрасов"/>
          <p:cNvPicPr/>
          <p:nvPr/>
        </p:nvPicPr>
        <p:blipFill>
          <a:blip r:embed="rId2"/>
          <a:stretch/>
        </p:blipFill>
        <p:spPr>
          <a:xfrm>
            <a:off x="428760" y="2940120"/>
            <a:ext cx="3206520" cy="3297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58000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7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 flipV="1" rot="10799400">
            <a:off x="2174400" y="330840"/>
            <a:ext cx="39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596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Н . А .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85840" y="1143000"/>
            <a:ext cx="300060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Родился Н . А . Некрасов в местечке Немирове подольской губернии в семье мелкопоместного дворянина . детские годы прошли в селе Грешневе , в родовом имении отца , человека деспотического характера , угнетавшего не только крепостных , но и всю семью , чему был свидетелем будущий поэт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000240" cy="4286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Николай Алексеевич Некрасов"/>
          <p:cNvPicPr/>
          <p:nvPr/>
        </p:nvPicPr>
        <p:blipFill>
          <a:blip r:embed="rId2"/>
          <a:stretch/>
        </p:blipFill>
        <p:spPr>
          <a:xfrm>
            <a:off x="1357200" y="1071720"/>
            <a:ext cx="2886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840" y="5357520"/>
            <a:ext cx="19288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alibri"/>
              </a:rPr>
              <a:t>Н . А . 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</a:rPr>
              <a:t>Первый сборник «Мечты и звуки» ,   изданный Некрасовым в Петербурге в 1840 на собственные средства , успеха не имел , подвергся резкой критике В . Г . Белинского , с которым Некрасов сблизился позже , в 1842 -43 , в период сотрудничества в                              « Отечественных записках» 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3857760" cy="39290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4" name="Picture 2" descr="Н.А. Некрасов. Фото Деньера, 1864"/>
          <p:cNvPicPr/>
          <p:nvPr/>
        </p:nvPicPr>
        <p:blipFill>
          <a:blip r:embed="rId2"/>
          <a:stretch/>
        </p:blipFill>
        <p:spPr>
          <a:xfrm>
            <a:off x="714240" y="1214280"/>
            <a:ext cx="371484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92896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00760" y="928440"/>
            <a:ext cx="354312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4617b"/>
                </a:solidFill>
                <a:latin typeface="Garamond"/>
              </a:rPr>
              <a:t>В 1843 году поэт знакомится с Виссарионом Белинским , который становится его духовным учителем . В 1846 году Николай Некрасов с И . Панаевым берет в аренду журнал «Современник» , в котором постепенно сосредоточились все лучшие силы тогдашней литературы . В 1862 году Некрасов становится редактором журнала «Отечественные записки» . В нем Некрасов печатает  лучшие свои стихи и поэмы , в том числе «Коробейники» , «Мороз , Красный нос» , «Русские женщины» , частично «Кому на Руси жить хорошо»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1142640"/>
            <a:ext cx="2111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Обложка журн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11" descr=""/>
          <p:cNvPicPr/>
          <p:nvPr/>
        </p:nvPicPr>
        <p:blipFill>
          <a:blip r:embed="rId1"/>
          <a:stretch/>
        </p:blipFill>
        <p:spPr>
          <a:xfrm>
            <a:off x="353880" y="5772240"/>
            <a:ext cx="5650200" cy="80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Титульный лист журнала Отечественные Записки"/>
          <p:cNvPicPr/>
          <p:nvPr/>
        </p:nvPicPr>
        <p:blipFill>
          <a:blip r:embed="rId2"/>
          <a:stretch/>
        </p:blipFill>
        <p:spPr>
          <a:xfrm>
            <a:off x="250920" y="2133720"/>
            <a:ext cx="2673360" cy="25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Автограф Н.А. Некрасова, 1849"/>
          <p:cNvPicPr/>
          <p:nvPr/>
        </p:nvPicPr>
        <p:blipFill>
          <a:blip r:embed="rId3"/>
          <a:stretch/>
        </p:blipFill>
        <p:spPr>
          <a:xfrm>
            <a:off x="2714760" y="35002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Сотрудники журнала Отечественные Записки"/>
          <p:cNvPicPr/>
          <p:nvPr/>
        </p:nvPicPr>
        <p:blipFill>
          <a:blip r:embed="rId4"/>
          <a:stretch/>
        </p:blipFill>
        <p:spPr>
          <a:xfrm>
            <a:off x="3286080" y="1285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133200"/>
            <a:ext cx="9358560" cy="606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57360" y="3285720"/>
            <a:ext cx="12142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1680" y="713880"/>
            <a:ext cx="3714840" cy="5072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Именем Некрасова названы улицы: в Петербурге в 1918, в Рыбацком, Парголово. Его имя присвоено библиотеке №9 Смольнинского района и Педагогическому училищу</a:t>
            </a:r>
            <a:r>
              <a:rPr b="0" i="1" lang="en-US" sz="28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№1. В 1971 году на углу улицы Некрасова и Греческого проспекта открыт памятник Некрасо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Памятник Н.А. Некрасову в Ярославле"/>
          <p:cNvPicPr/>
          <p:nvPr/>
        </p:nvPicPr>
        <p:blipFill>
          <a:blip r:embed="rId1"/>
          <a:srcRect l="0" t="3452" r="0" b="3452"/>
          <a:stretch/>
        </p:blipFill>
        <p:spPr>
          <a:xfrm>
            <a:off x="214200" y="500040"/>
            <a:ext cx="23018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Памятник на могиле Н.А. Некрасова"/>
          <p:cNvPicPr/>
          <p:nvPr/>
        </p:nvPicPr>
        <p:blipFill>
          <a:blip r:embed="rId2"/>
          <a:stretch/>
        </p:blipFill>
        <p:spPr>
          <a:xfrm>
            <a:off x="2928960" y="2357280"/>
            <a:ext cx="1857240" cy="17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Памятник Н.А. Некрасову в Санкт-Петербурге"/>
          <p:cNvPicPr/>
          <p:nvPr/>
        </p:nvPicPr>
        <p:blipFill>
          <a:blip r:embed="rId3"/>
          <a:stretch/>
        </p:blipFill>
        <p:spPr>
          <a:xfrm>
            <a:off x="500040" y="385776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25:41Z</dcterms:created>
  <dc:creator>Саша</dc:creator>
  <dc:description/>
  <dc:language>en-US</dc:language>
  <cp:lastModifiedBy>Admin</cp:lastModifiedBy>
  <dcterms:modified xsi:type="dcterms:W3CDTF">2010-02-17T15:25:31Z</dcterms:modified>
  <cp:revision>49</cp:revision>
  <dc:subject/>
  <dc:title>Николай Алексеевич Некрасов</dc:title>
</cp:coreProperties>
</file>