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8.png" ContentType="image/png"/>
  <Override PartName="/ppt/media/image14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3E72-6CC0-445A-85B6-C4947702F8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D0E5-02F2-49CD-BB4E-E3519FF6BF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BE3C-C451-46EF-AE67-33435D447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1DBB-3564-46A8-A191-75B47AF9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92CF-74D7-420D-A1AC-21A4088FB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3720-6298-412A-B128-7DB35B329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B2BB-4B5D-49CD-A3FD-19E42B0EE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B7F4-99E1-4476-B14F-86F88AA2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A8A2-9EB0-4CD4-B3C3-63763BA3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36BC-70CC-4291-8550-7C8925AB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280B-EBD0-47B1-B8AC-ABA3E4D0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4501-8E85-424C-B2AC-75FE0BB3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C262-A34F-44A7-95DD-DD094DD4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4E11-A659-4F7D-9240-AF5A7DED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CD04-6ED9-44F9-A7BF-6CCFFE68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1006-FFC6-4F84-89F2-48232B7E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2A92-D82C-4295-9EB6-86D23DBC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B053-A25D-4001-B5F6-7A9E5B416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E18E-DBFC-467E-B6D9-B487BF3DF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2AF4C-03ED-42CE-82E8-40E9004C6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3B095-2D7B-4968-8E13-73E8F5CD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31F33-3664-4229-994F-A27C604B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EFDA2-72C9-46EB-9B25-1477DFA9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4EAB3-4805-4971-9AA9-B04151D1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7E93-3B6C-40F6-952C-D91C44A8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FEF4C-96A5-433D-8EBF-74C8B1F5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358CD-98E9-43CF-A1BF-FF706470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F6FA7-3165-4C1B-932F-ED71073A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6047D-9C9E-41C5-B979-9CFF3A72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FD9DD-4449-49FD-85D3-F400C565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EA8E4-B08E-457C-B469-AE05F8C52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DB4A1-A9AE-481C-92EF-E684CB3BC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CF8A1-A695-49AA-A1D8-7A8ABC6B0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391BD-5B57-4F57-B64D-B47EC168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2A926-47C6-4275-B850-F24FECB1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3B23-B6F0-47E0-98DA-9E095A92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7B161-A4E2-469A-B683-CF7B5E65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8D9BB-80A8-495D-8799-A4A86990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8E21A-0FA0-4E17-9EAA-34C64ECF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77946-EC76-4F9B-819E-0F07940E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A4736-D353-4389-B36D-59E329DA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687F8-6CC8-4237-92E0-B6AC5786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96317-8E53-4F5B-AF56-565D523F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DB441-DB15-4C6C-8310-31B3BD5B9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C0863-48D4-499D-9275-44B949647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F765-363D-430A-BEB5-02C198AD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F274-39AF-45F3-BF07-620475D9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C9A4-6FD1-4A02-B304-904EA99D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865B-849A-421A-8069-78D92DD1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F09F-C418-49E4-A311-DD30A43A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D780-AF55-4B42-9E0E-652106CEA71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ABEC-E8BA-4D8E-B48F-A1B026E14BD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5F4D-C122-4A57-9CDF-D19207DB52F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C1AF-DCBD-4831-9562-C93847BBEFC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469800" y="523800"/>
            <a:ext cx="8356680" cy="1798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268360" y="3284280"/>
            <a:ext cx="6400800" cy="2879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Выполнил ученик 6ж класс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Горошко Александр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Учитель  И.П. Фукс  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8" descr="Н.А. Некрасов"/>
          <p:cNvPicPr/>
          <p:nvPr/>
        </p:nvPicPr>
        <p:blipFill>
          <a:blip r:embed="rId2"/>
          <a:stretch/>
        </p:blipFill>
        <p:spPr>
          <a:xfrm>
            <a:off x="428760" y="2940120"/>
            <a:ext cx="3206520" cy="32972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/>
          <p:cNvSpPr/>
          <p:nvPr/>
        </p:nvSpPr>
        <p:spPr>
          <a:xfrm>
            <a:off x="5580000" y="249228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2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77 г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 flipV="1" rot="10799400">
            <a:off x="2174400" y="330840"/>
            <a:ext cx="397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знь и твор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85960" y="5500800"/>
            <a:ext cx="1928880" cy="42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Calibri"/>
              </a:rPr>
              <a:t>Н . А .Некрасов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785840" y="1143000"/>
            <a:ext cx="3000600" cy="392904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86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aramond"/>
              </a:rPr>
              <a:t>Родился Н . А . Некрасов в местечке Немирове подольской губернии в семье мелкопоместного дворянина . детские годы прошли в селе Грешневе , в родовом имении отца , человека деспотического характера , угнетавшего не только крепостных , но и всю семью , чему был свидетелем будущий поэт 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285920" y="1000080"/>
            <a:ext cx="3000240" cy="428616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pic>
        <p:nvPicPr>
          <p:cNvPr id="210" name="Picture 2" descr="Николай Алексеевич Некрасов"/>
          <p:cNvPicPr/>
          <p:nvPr/>
        </p:nvPicPr>
        <p:blipFill>
          <a:blip r:embed="rId2"/>
          <a:stretch/>
        </p:blipFill>
        <p:spPr>
          <a:xfrm>
            <a:off x="1357200" y="1071720"/>
            <a:ext cx="2886120" cy="4143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840" y="5357520"/>
            <a:ext cx="1928880" cy="57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4617b"/>
                </a:solidFill>
                <a:latin typeface="Calibri"/>
              </a:rPr>
              <a:t>Н . А . Некрасов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785840" y="1642680"/>
            <a:ext cx="3357720" cy="314316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1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aramond"/>
              </a:rPr>
              <a:t>Первый сборник «Мечты и звуки» ,   изданный Некрасовым в Петербурге в 1840 на собственные средства , успеха не имел , подвергся резкой критике В . Г . Белинского , с которым Некрасов сблизился позже , в 1842 -43 , в период сотрудничества в                              « Отечественных записках» 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42960" y="1143000"/>
            <a:ext cx="3857760" cy="392904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pic>
        <p:nvPicPr>
          <p:cNvPr id="214" name="Picture 2" descr="Н.А. Некрасов. Фото Деньера, 1864"/>
          <p:cNvPicPr/>
          <p:nvPr/>
        </p:nvPicPr>
        <p:blipFill>
          <a:blip r:embed="rId2"/>
          <a:stretch/>
        </p:blipFill>
        <p:spPr>
          <a:xfrm>
            <a:off x="714240" y="1214280"/>
            <a:ext cx="3714840" cy="3786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928960"/>
            <a:ext cx="300024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4617b"/>
                </a:solidFill>
                <a:latin typeface="Calibri"/>
              </a:rPr>
              <a:t>           </a:t>
            </a:r>
            <a:r>
              <a:rPr b="0" i="1" lang="ru-RU" sz="18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4617b"/>
                </a:solidFill>
                <a:latin typeface="Calibri"/>
              </a:rPr>
              <a:t>                        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00760" y="928440"/>
            <a:ext cx="3543120" cy="4786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4617b"/>
                </a:solidFill>
                <a:latin typeface="Garamond"/>
              </a:rPr>
              <a:t>В 1843 году поэт знакомится с Виссарионом Белинским , который становится его духовным учителем . В 1846 году Николай Некрасов с И . Панаевым берет в аренду журнал «Современник» , в котором постепенно сосредоточились все лучшие силы тогдашней литературы . В 1862 году Некрасов становится редактором журнала «Отечественные записки» . В нем Некрасов печатает  лучшие свои стихи и поэмы , в том числе «Коробейники» , «Мороз , Красный нос» , «Русские женщины» , частично «Кому на Руси жить хорошо» 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8400" y="1142640"/>
            <a:ext cx="211140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Обложка журнал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Содержимое 11" descr=""/>
          <p:cNvPicPr/>
          <p:nvPr/>
        </p:nvPicPr>
        <p:blipFill>
          <a:blip r:embed="rId1"/>
          <a:stretch/>
        </p:blipFill>
        <p:spPr>
          <a:xfrm>
            <a:off x="353880" y="5772240"/>
            <a:ext cx="5650200" cy="804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Титульный лист журнала Отечественные Записки"/>
          <p:cNvPicPr/>
          <p:nvPr/>
        </p:nvPicPr>
        <p:blipFill>
          <a:blip r:embed="rId2"/>
          <a:stretch/>
        </p:blipFill>
        <p:spPr>
          <a:xfrm>
            <a:off x="250920" y="2133720"/>
            <a:ext cx="2673360" cy="2500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Автограф Н.А. Некрасова, 1849"/>
          <p:cNvPicPr/>
          <p:nvPr/>
        </p:nvPicPr>
        <p:blipFill>
          <a:blip r:embed="rId3"/>
          <a:stretch/>
        </p:blipFill>
        <p:spPr>
          <a:xfrm>
            <a:off x="2714760" y="3500280"/>
            <a:ext cx="2286000" cy="2214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Сотрудники журнала Отечественные Записки"/>
          <p:cNvPicPr/>
          <p:nvPr/>
        </p:nvPicPr>
        <p:blipFill>
          <a:blip r:embed="rId4"/>
          <a:stretch/>
        </p:blipFill>
        <p:spPr>
          <a:xfrm>
            <a:off x="3286080" y="1285920"/>
            <a:ext cx="1643040" cy="16430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109440" y="133200"/>
            <a:ext cx="9358560" cy="6066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357360" y="3285720"/>
            <a:ext cx="121428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>
              <a:buClr>
                <a:srgbClr val="04617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71680" y="713880"/>
            <a:ext cx="3714840" cy="507204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85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Garamond"/>
              </a:rPr>
              <a:t>Именем Некрасова названы улицы: в Петербурге в 1918, в Рыбацком, Парголово. Его имя присвоено библиотеке №9 Смольнинского района и Педагогическому училищу</a:t>
            </a:r>
            <a:r>
              <a:rPr b="0" i="1" lang="en-US" sz="2800" spc="-1" strike="noStrike">
                <a:solidFill>
                  <a:srgbClr val="404040"/>
                </a:solidFill>
                <a:latin typeface="Garamond"/>
              </a:rPr>
              <a:t> </a:t>
            </a:r>
            <a:r>
              <a:rPr b="0" i="1" lang="ru-RU" sz="2800" spc="-1" strike="noStrike">
                <a:solidFill>
                  <a:srgbClr val="404040"/>
                </a:solidFill>
                <a:latin typeface="Garamond"/>
              </a:rPr>
              <a:t>№1. В 1971 году на углу улицы Некрасова и Греческого проспекта открыт памятник Некрасов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2" descr="Памятник Н.А. Некрасову в Ярославле"/>
          <p:cNvPicPr/>
          <p:nvPr/>
        </p:nvPicPr>
        <p:blipFill>
          <a:blip r:embed="rId1"/>
          <a:srcRect l="0" t="3452" r="0" b="3452"/>
          <a:stretch/>
        </p:blipFill>
        <p:spPr>
          <a:xfrm>
            <a:off x="214200" y="500040"/>
            <a:ext cx="2301840" cy="21430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Памятник на могиле Н.А. Некрасова"/>
          <p:cNvPicPr/>
          <p:nvPr/>
        </p:nvPicPr>
        <p:blipFill>
          <a:blip r:embed="rId2"/>
          <a:stretch/>
        </p:blipFill>
        <p:spPr>
          <a:xfrm>
            <a:off x="2928960" y="2357280"/>
            <a:ext cx="1857240" cy="1798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Памятник Н.А. Некрасову в Санкт-Петербурге"/>
          <p:cNvPicPr/>
          <p:nvPr/>
        </p:nvPicPr>
        <p:blipFill>
          <a:blip r:embed="rId3"/>
          <a:stretch/>
        </p:blipFill>
        <p:spPr>
          <a:xfrm>
            <a:off x="500040" y="3857760"/>
            <a:ext cx="2214720" cy="2214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17:25:41Z</dcterms:created>
  <dc:creator>Саша</dc:creator>
  <dc:description/>
  <dc:language>en-US</dc:language>
  <cp:lastModifiedBy>Admin</cp:lastModifiedBy>
  <dcterms:modified xsi:type="dcterms:W3CDTF">2010-02-17T15:25:31Z</dcterms:modified>
  <cp:revision>49</cp:revision>
  <dc:subject/>
  <dc:title>Николай Алексеевич Некрасов</dc:title>
</cp:coreProperties>
</file>