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8.png" ContentType="image/png"/>
  <Override PartName="/ppt/media/image14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B7EC-26BF-4EEE-8C6C-38E1488077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2533-50CB-4B8A-9BD0-24EA8DED88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C3AC-08E1-4259-AFFC-4B6DC0D18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8079-9D7B-45F5-9BB5-CA40904F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E80F-0381-4F67-9311-153453D7F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40BF-C079-4FA4-91F5-18BF35143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9BDA-64A1-456C-B509-072D04788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EFC2-6E7C-44CC-A330-0927860C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D96E-DB54-4CB3-A9E5-D19D4E3B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1D47-E822-447E-B1D7-7C5C86D6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D14B-355E-4479-89D3-85D15D2F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016E4-ED2F-4096-AFB2-8FAB3619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9E4B-29BB-47E6-8738-60667057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7851-B778-4D38-BBC6-E6C2E66F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BA97-5C92-4778-8629-CDE10D61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4735-4318-4758-92E7-181E9997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6EB8-04B5-40F5-BF7D-239E3E09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AD50-91FE-4644-9D04-D382ABCCD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A9DC-DC3D-4EBA-B0CF-5AAEC12D7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2A983-65CF-45FA-916F-D1080EFB8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320FF-C241-4A0D-A504-9F994FAB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F6412-4039-4C60-96F0-41043C65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16F40-459E-4526-90F4-A9084FC3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32AAA-EFAA-4027-91F1-1EB9F3BB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F80F-1F8A-4EA8-90F3-EEC210C3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084E1-312A-4B60-90CE-A8F97F9A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21F9D-07DF-407F-896B-D2BD76E2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A5F8A-77CD-4FC5-B60A-3ECAFFA4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DB5A3-187A-4AA4-8915-1A0E14A3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5D4DA-408F-474C-9394-2B25731B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CB35C-2A56-420D-8834-E2A3AAFA3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42481-FDCC-4F9B-8896-E04E0A20D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94E32-2EAC-408A-90C7-75CA32D50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55F3B-A930-4A72-88FC-6DCC6A72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1B0DA-5525-440E-8B39-C471AE1E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908B-AD37-4CC5-A1DD-EE456C86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AAC19-2FFF-4F1F-88E9-06DCFD94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D7F47-73DD-40D2-AF91-781A87D6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D7F0C-21FA-490E-B34E-B0F993EB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BDC3A-5124-413D-A9B8-BCB837CE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E54A3-5693-4389-823B-E2D108AE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B7A97-F039-4195-9C06-5D5CFC8C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99B5A-BD6B-4B08-8D1C-D9CF0239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DE542-6615-45E7-AC1B-43252C13A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1C0B6-E4CA-4F60-8AC8-74000995C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B5C7-DFD1-4A81-A75C-635CC840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F993-9CF9-4788-A5C8-99A59467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C537-5611-4A55-9721-17B9498C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F0B4-86A9-436C-BF98-7607C3E5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DF7C-B92B-44A9-BC9F-6EDB5572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70C7-2C3B-42E7-804E-5731F34DDBA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B758-B3E6-4660-880C-C03E2CAB913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FAAD-0BC8-474D-AD6A-977DBF4B972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2BDD-6B03-493E-A06D-6D4B3DB735F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469800" y="523800"/>
            <a:ext cx="8356680" cy="1798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268360" y="3284280"/>
            <a:ext cx="6400800" cy="2879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Выполнил ученик 6ж класс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Горошко Александр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Учитель  И.П. Фукс  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8" descr="Н.А. Некрасов"/>
          <p:cNvPicPr/>
          <p:nvPr/>
        </p:nvPicPr>
        <p:blipFill>
          <a:blip r:embed="rId2"/>
          <a:stretch/>
        </p:blipFill>
        <p:spPr>
          <a:xfrm>
            <a:off x="428760" y="2940120"/>
            <a:ext cx="3206520" cy="32972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/>
          <p:cNvSpPr/>
          <p:nvPr/>
        </p:nvSpPr>
        <p:spPr>
          <a:xfrm>
            <a:off x="5580000" y="249228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2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77 г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 flipV="1" rot="10799400">
            <a:off x="2174400" y="330840"/>
            <a:ext cx="397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знь и твор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85960" y="5500800"/>
            <a:ext cx="1928880" cy="42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Calibri"/>
              </a:rPr>
              <a:t>Н . А .Некрасов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785840" y="1143000"/>
            <a:ext cx="3000600" cy="392904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86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aramond"/>
              </a:rPr>
              <a:t>Родился Н . А . Некрасов в местечке Немирове подольской губернии в семье мелкопоместного дворянина . детские годы прошли в селе Грешневе , в родовом имении отца , человека деспотического характера , угнетавшего не только крепостных , но и всю семью , чему был свидетелем будущий поэт 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285920" y="1000080"/>
            <a:ext cx="3000240" cy="428616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pic>
        <p:nvPicPr>
          <p:cNvPr id="210" name="Picture 2" descr="Николай Алексеевич Некрасов"/>
          <p:cNvPicPr/>
          <p:nvPr/>
        </p:nvPicPr>
        <p:blipFill>
          <a:blip r:embed="rId2"/>
          <a:stretch/>
        </p:blipFill>
        <p:spPr>
          <a:xfrm>
            <a:off x="1357200" y="1071720"/>
            <a:ext cx="2886120" cy="4143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840" y="5357520"/>
            <a:ext cx="1928880" cy="57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4617b"/>
                </a:solidFill>
                <a:latin typeface="Calibri"/>
              </a:rPr>
              <a:t>Н . А . Некрасов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785840" y="1642680"/>
            <a:ext cx="3357720" cy="314316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1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aramond"/>
              </a:rPr>
              <a:t>Первый сборник «Мечты и звуки» ,   изданный Некрасовым в Петербурге в 1840 на собственные средства , успеха не имел , подвергся резкой критике В . Г . Белинского , с которым Некрасов сблизился позже , в 1842 -43 , в период сотрудничества в                              « Отечественных записках» 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42960" y="1143000"/>
            <a:ext cx="3857760" cy="392904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pic>
        <p:nvPicPr>
          <p:cNvPr id="214" name="Picture 2" descr="Н.А. Некрасов. Фото Деньера, 1864"/>
          <p:cNvPicPr/>
          <p:nvPr/>
        </p:nvPicPr>
        <p:blipFill>
          <a:blip r:embed="rId2"/>
          <a:stretch/>
        </p:blipFill>
        <p:spPr>
          <a:xfrm>
            <a:off x="714240" y="1214280"/>
            <a:ext cx="3714840" cy="3786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928960"/>
            <a:ext cx="300024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4617b"/>
                </a:solidFill>
                <a:latin typeface="Calibri"/>
              </a:rPr>
              <a:t>           </a:t>
            </a:r>
            <a:r>
              <a:rPr b="0" i="1" lang="ru-RU" sz="18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4617b"/>
                </a:solidFill>
                <a:latin typeface="Calibri"/>
              </a:rPr>
              <a:t>                        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00760" y="928440"/>
            <a:ext cx="3543120" cy="4786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4617b"/>
                </a:solidFill>
                <a:latin typeface="Garamond"/>
              </a:rPr>
              <a:t>В 1843 году поэт знакомится с Виссарионом Белинским , который становится его духовным учителем . В 1846 году Николай Некрасов с И . Панаевым берет в аренду журнал «Современник» , в котором постепенно сосредоточились все лучшие силы тогдашней литературы . В 1862 году Некрасов становится редактором журнала «Отечественные записки» . В нем Некрасов печатает  лучшие свои стихи и поэмы , в том числе «Коробейники» , «Мороз , Красный нос» , «Русские женщины» , частично «Кому на Руси жить хорошо» 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8400" y="1142640"/>
            <a:ext cx="211140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Обложка журнал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Содержимое 11" descr=""/>
          <p:cNvPicPr/>
          <p:nvPr/>
        </p:nvPicPr>
        <p:blipFill>
          <a:blip r:embed="rId1"/>
          <a:stretch/>
        </p:blipFill>
        <p:spPr>
          <a:xfrm>
            <a:off x="353880" y="5772240"/>
            <a:ext cx="5650200" cy="804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Титульный лист журнала Отечественные Записки"/>
          <p:cNvPicPr/>
          <p:nvPr/>
        </p:nvPicPr>
        <p:blipFill>
          <a:blip r:embed="rId2"/>
          <a:stretch/>
        </p:blipFill>
        <p:spPr>
          <a:xfrm>
            <a:off x="250920" y="2133720"/>
            <a:ext cx="2673360" cy="2500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Автограф Н.А. Некрасова, 1849"/>
          <p:cNvPicPr/>
          <p:nvPr/>
        </p:nvPicPr>
        <p:blipFill>
          <a:blip r:embed="rId3"/>
          <a:stretch/>
        </p:blipFill>
        <p:spPr>
          <a:xfrm>
            <a:off x="2714760" y="3500280"/>
            <a:ext cx="2286000" cy="2214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Сотрудники журнала Отечественные Записки"/>
          <p:cNvPicPr/>
          <p:nvPr/>
        </p:nvPicPr>
        <p:blipFill>
          <a:blip r:embed="rId4"/>
          <a:stretch/>
        </p:blipFill>
        <p:spPr>
          <a:xfrm>
            <a:off x="3286080" y="1285920"/>
            <a:ext cx="1643040" cy="16430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109440" y="133200"/>
            <a:ext cx="9358560" cy="6066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357360" y="3285720"/>
            <a:ext cx="121428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>
              <a:buClr>
                <a:srgbClr val="04617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71680" y="713880"/>
            <a:ext cx="3714840" cy="507204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85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Garamond"/>
              </a:rPr>
              <a:t>Именем Некрасова названы улицы: в Петербурге в 1918, в Рыбацком, Парголово. Его имя присвоено библиотеке №9 Смольнинского района и Педагогическому училищу</a:t>
            </a:r>
            <a:r>
              <a:rPr b="0" i="1" lang="en-US" sz="2800" spc="-1" strike="noStrike">
                <a:solidFill>
                  <a:srgbClr val="404040"/>
                </a:solidFill>
                <a:latin typeface="Garamond"/>
              </a:rPr>
              <a:t> </a:t>
            </a:r>
            <a:r>
              <a:rPr b="0" i="1" lang="ru-RU" sz="2800" spc="-1" strike="noStrike">
                <a:solidFill>
                  <a:srgbClr val="404040"/>
                </a:solidFill>
                <a:latin typeface="Garamond"/>
              </a:rPr>
              <a:t>№1. В 1971 году на углу улицы Некрасова и Греческого проспекта открыт памятник Некрасов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2" descr="Памятник Н.А. Некрасову в Ярославле"/>
          <p:cNvPicPr/>
          <p:nvPr/>
        </p:nvPicPr>
        <p:blipFill>
          <a:blip r:embed="rId1"/>
          <a:srcRect l="0" t="3452" r="0" b="3452"/>
          <a:stretch/>
        </p:blipFill>
        <p:spPr>
          <a:xfrm>
            <a:off x="214200" y="500040"/>
            <a:ext cx="2301840" cy="21430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Памятник на могиле Н.А. Некрасова"/>
          <p:cNvPicPr/>
          <p:nvPr/>
        </p:nvPicPr>
        <p:blipFill>
          <a:blip r:embed="rId2"/>
          <a:stretch/>
        </p:blipFill>
        <p:spPr>
          <a:xfrm>
            <a:off x="2928960" y="2357280"/>
            <a:ext cx="1857240" cy="1798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Памятник Н.А. Некрасову в Санкт-Петербурге"/>
          <p:cNvPicPr/>
          <p:nvPr/>
        </p:nvPicPr>
        <p:blipFill>
          <a:blip r:embed="rId3"/>
          <a:stretch/>
        </p:blipFill>
        <p:spPr>
          <a:xfrm>
            <a:off x="500040" y="3857760"/>
            <a:ext cx="2214720" cy="2214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17:25:41Z</dcterms:created>
  <dc:creator>Саша</dc:creator>
  <dc:description/>
  <dc:language>en-US</dc:language>
  <cp:lastModifiedBy>Admin</cp:lastModifiedBy>
  <dcterms:modified xsi:type="dcterms:W3CDTF">2010-02-17T15:25:31Z</dcterms:modified>
  <cp:revision>49</cp:revision>
  <dc:subject/>
  <dc:title>Николай Алексеевич Некрасов</dc:title>
</cp:coreProperties>
</file>