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8.jpeg" ContentType="image/jpeg"/>
  <Override PartName="/ppt/media/image16.jpeg" ContentType="image/jpeg"/>
  <Override PartName="/ppt/media/image15.png" ContentType="image/png"/>
  <Override PartName="/ppt/media/image1.jpeg" ContentType="image/jpe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71885-01C3-4480-9487-0DC1739A00E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517C-FBD7-4E5E-ADCB-4A54F39DE0C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23AF-9EE4-4D08-A245-B9FB0A11F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9F5E-8044-435A-BFD2-1C846D6B3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F0C7-5786-4A50-AD4E-BD4D80ACC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79A1-E732-4DCB-8801-899A36153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DCD3A-9839-46A9-BA9A-13BCA9DC5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AE0E4-3AB6-471A-8D10-1A8D9E4E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65DB5-3F9B-46D2-8E0F-7A6831CF5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F49F-7569-482C-8D0C-F0969FB0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1BB8-6AC3-462F-87B6-1D98E6E2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B0778-4631-4764-9130-E759AAA6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31586-AD47-4FD7-84A2-1F1349CAC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0881-B5A8-4B08-8FF4-BFBAD33E1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7B0D0-EF0C-4BD8-B74C-86DA3F129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335FE-9A24-438B-96EC-0E87D2332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09331-D7DC-4086-A3DB-C5429AFD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A8E6B-FA2C-4F2C-A051-B0ED1D7E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27D9-0B74-43C9-8B00-B773A441E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D2183-A3C8-49CA-98EA-01118D087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B02BE8-17D8-4183-8180-9229F83C5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AAED80-A3D7-4614-9C93-347EF3E97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80AC1-3133-4A60-82E6-EDB20EA6F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FC4E8-B903-473E-A571-3B8B6A49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7E71-E1A2-4C6A-B83C-43FFF9A1D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D4EF-567C-4988-AD62-44FD1DAE4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ABF36C-3668-475F-BDA2-A837E4C0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925DE-8434-4CAE-A148-CAE39DDB5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717FCB-4FB2-41F2-8008-CD0EFF8F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2C6983-2BF2-4A20-8DA5-EA119F1E1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2657F-8707-48EE-AD18-79375EFDF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7B2D5B-92F4-4648-9732-C2563E03D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A0443-39F6-4D19-B6CF-8D7F7283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FE3D-AE1F-4EE5-8A8E-9B1828989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15BE9-36F7-48D1-900C-2CC1515E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5B49-2868-4E41-9F8A-EFFC41BC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F1B466-242C-4AFC-90BD-832C72D2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79A77B-359D-4320-B7EF-FC984413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5C645-C72F-48DA-BCEC-FCC9187C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89F708-2282-4EB0-9209-13115D75D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05790-51A3-4CC9-8CA3-4A202C23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7C9FC-CCCC-4B8F-A41C-925AD010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94F37-D326-427D-917D-5ED5D9870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D06ED7-C2C8-4732-A944-2C066CA73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B6B95-9994-4960-9B4A-1CDD6B082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8B54-6B55-468C-913B-69655F0E0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FBE-8B48-47D4-B943-1269834E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8A4A-CBD7-45F2-9F8C-0307745DC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9E3D-C791-4865-8180-94D9318FA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AEEA-FB3C-4803-BEA2-7438D4B76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B0CB4-27E1-4D52-AB53-17A22C037C0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C1EF2-BAAF-47C3-8BAD-569A5B7ED25E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E7B04-16B3-41B9-A06C-C1A9A28F7B2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41A87-488C-4275-ABDA-3AC8F737B9A4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469800" y="523800"/>
            <a:ext cx="8356680" cy="1798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2268360" y="3284280"/>
            <a:ext cx="6400800" cy="28796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Выполнил ученик 6ж класс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Горошко Александр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Arial"/>
              </a:rPr>
              <a:t>Учитель  И.П. Фукс  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8" descr="Н.А. Некрасов"/>
          <p:cNvPicPr/>
          <p:nvPr/>
        </p:nvPicPr>
        <p:blipFill>
          <a:blip r:embed="rId2"/>
          <a:stretch/>
        </p:blipFill>
        <p:spPr>
          <a:xfrm>
            <a:off x="428760" y="2940120"/>
            <a:ext cx="3206520" cy="329724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5580000" y="2492280"/>
            <a:ext cx="27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2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877 г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7"/>
          <p:cNvSpPr/>
          <p:nvPr/>
        </p:nvSpPr>
        <p:spPr>
          <a:xfrm flipV="1" rot="10799400">
            <a:off x="2174400" y="330840"/>
            <a:ext cx="397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Жизнь и творчест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newsflash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85960" y="5500800"/>
            <a:ext cx="1928880" cy="4284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Н . А .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85840" y="1143000"/>
            <a:ext cx="3000600" cy="3929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6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Garamond"/>
              </a:rPr>
              <a:t>Родился Н . А . Некрасов в местечке Немирове подольской губернии в семье мелкопоместного дворянина . детские годы прошли в селе Грешневе , в родовом имении отца , человека деспотического характера , угнетавшего не только крепостных , но и всю семью , чему был свидетелем будущий поэт 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85920" y="1000080"/>
            <a:ext cx="3000240" cy="4286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0" name="Picture 2" descr="Николай Алексеевич Некрасов"/>
          <p:cNvPicPr/>
          <p:nvPr/>
        </p:nvPicPr>
        <p:blipFill>
          <a:blip r:embed="rId2"/>
          <a:stretch/>
        </p:blipFill>
        <p:spPr>
          <a:xfrm>
            <a:off x="1357200" y="1071720"/>
            <a:ext cx="2886120" cy="414324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840" y="5357520"/>
            <a:ext cx="1928880" cy="57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4617b"/>
                </a:solidFill>
                <a:latin typeface="Calibri"/>
              </a:rPr>
              <a:t>Н . А . Некрасов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785840" y="1642680"/>
            <a:ext cx="3357720" cy="31431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91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aramond"/>
              </a:rPr>
              <a:t>Первый сборник «Мечты и звуки» ,   изданный Некрасовым в Петербурге в 1840 на собственные средства , успеха не имел , подвергся резкой критике В . Г . Белинского , с которым Некрасов сблизился позже , в 1842 -43 , в период сотрудничества в                              « Отечественных записках» 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642960" y="1143000"/>
            <a:ext cx="3857760" cy="392904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  <p:pic>
        <p:nvPicPr>
          <p:cNvPr id="214" name="Picture 2" descr="Н.А. Некрасов. Фото Деньера, 1864"/>
          <p:cNvPicPr/>
          <p:nvPr/>
        </p:nvPicPr>
        <p:blipFill>
          <a:blip r:embed="rId2"/>
          <a:stretch/>
        </p:blipFill>
        <p:spPr>
          <a:xfrm>
            <a:off x="714240" y="1214280"/>
            <a:ext cx="3714840" cy="378648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928960"/>
            <a:ext cx="300024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i="1" lang="ru-RU" sz="18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4617b"/>
                </a:solidFill>
                <a:latin typeface="Calibri"/>
              </a:rPr>
              <a:t>                        </a:t>
            </a:r>
            <a:endParaRPr b="0" lang="en-US" sz="1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00760" y="928440"/>
            <a:ext cx="3543120" cy="4786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0000"/>
          </a:bodyPr>
          <a:p>
            <a:pPr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900" spc="-1" strike="noStrike">
                <a:solidFill>
                  <a:srgbClr val="04617b"/>
                </a:solidFill>
                <a:latin typeface="Garamond"/>
              </a:rPr>
              <a:t>В 1843 году поэт знакомится с Виссарионом Белинским , который становится его духовным учителем . В 1846 году Николай Некрасов с И . Панаевым берет в аренду журнал «Современник» , в котором постепенно сосредоточились все лучшие силы тогдашней литературы . В 1862 году Некрасов становится редактором журнала «Отечественные записки» . В нем Некрасов печатает  лучшие свои стихи и поэмы , в том числе «Коробейники» , «Мороз , Красный нос» , «Русские женщины» , частично «Кому на Руси жить хорошо» 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28400" y="1142640"/>
            <a:ext cx="2111400" cy="762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4617b"/>
                </a:solidFill>
                <a:latin typeface="Arial"/>
              </a:rPr>
              <a:t>Обложка журнал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Содержимое 11" descr=""/>
          <p:cNvPicPr/>
          <p:nvPr/>
        </p:nvPicPr>
        <p:blipFill>
          <a:blip r:embed="rId1"/>
          <a:stretch/>
        </p:blipFill>
        <p:spPr>
          <a:xfrm>
            <a:off x="353880" y="5772240"/>
            <a:ext cx="5650200" cy="804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Титульный лист журнала Отечественные Записки"/>
          <p:cNvPicPr/>
          <p:nvPr/>
        </p:nvPicPr>
        <p:blipFill>
          <a:blip r:embed="rId2"/>
          <a:stretch/>
        </p:blipFill>
        <p:spPr>
          <a:xfrm>
            <a:off x="250920" y="2133720"/>
            <a:ext cx="2673360" cy="250020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5" descr="Автограф Н.А. Некрасова, 1849"/>
          <p:cNvPicPr/>
          <p:nvPr/>
        </p:nvPicPr>
        <p:blipFill>
          <a:blip r:embed="rId3"/>
          <a:stretch/>
        </p:blipFill>
        <p:spPr>
          <a:xfrm>
            <a:off x="2714760" y="3500280"/>
            <a:ext cx="2286000" cy="2214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7" descr="Сотрудники журнала Отечественные Записки"/>
          <p:cNvPicPr/>
          <p:nvPr/>
        </p:nvPicPr>
        <p:blipFill>
          <a:blip r:embed="rId4"/>
          <a:stretch/>
        </p:blipFill>
        <p:spPr>
          <a:xfrm>
            <a:off x="3286080" y="1285920"/>
            <a:ext cx="1643040" cy="1643040"/>
          </a:xfrm>
          <a:prstGeom prst="rect">
            <a:avLst/>
          </a:prstGeom>
          <a:ln w="0">
            <a:noFill/>
          </a:ln>
        </p:spPr>
      </p:pic>
    </p:spTree>
  </p:cSld>
  <p:transition spd="slow">
    <p:newsflash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Заголовок 1" descr=""/>
          <p:cNvPicPr/>
          <p:nvPr/>
        </p:nvPicPr>
        <p:blipFill>
          <a:blip r:embed="rId1"/>
          <a:stretch/>
        </p:blipFill>
        <p:spPr>
          <a:xfrm>
            <a:off x="109440" y="133200"/>
            <a:ext cx="9358560" cy="606600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357360" y="3285720"/>
            <a:ext cx="121428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>
              <a:buClr>
                <a:srgbClr val="04617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4617b"/>
                </a:solidFill>
                <a:latin typeface="Calibri"/>
              </a:rPr>
              <a:t>   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71680" y="713880"/>
            <a:ext cx="3714840" cy="507204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 fontScale="85000"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Именем Некрасова названы улицы: в Петербурге в 1918, в Рыбацком, Парголово. Его имя присвоено библиотеке №9 Смольнинского района и Педагогическому училищу</a:t>
            </a:r>
            <a:r>
              <a:rPr b="0" i="1" lang="en-US" sz="28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404040"/>
                </a:solidFill>
                <a:latin typeface="Garamond"/>
              </a:rPr>
              <a:t>№1. В 1971 году на углу улицы Некрасова и Греческого проспекта открыт памятник Некрасову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Памятник Н.А. Некрасову в Ярославле"/>
          <p:cNvPicPr/>
          <p:nvPr/>
        </p:nvPicPr>
        <p:blipFill>
          <a:blip r:embed="rId1"/>
          <a:srcRect l="0" t="3452" r="0" b="3452"/>
          <a:stretch/>
        </p:blipFill>
        <p:spPr>
          <a:xfrm>
            <a:off x="214200" y="500040"/>
            <a:ext cx="2301840" cy="21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2" descr="Памятник на могиле Н.А. Некрасова"/>
          <p:cNvPicPr/>
          <p:nvPr/>
        </p:nvPicPr>
        <p:blipFill>
          <a:blip r:embed="rId2"/>
          <a:stretch/>
        </p:blipFill>
        <p:spPr>
          <a:xfrm>
            <a:off x="2928960" y="2357280"/>
            <a:ext cx="1857240" cy="17989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Памятник Н.А. Некрасову в Санкт-Петербурге"/>
          <p:cNvPicPr/>
          <p:nvPr/>
        </p:nvPicPr>
        <p:blipFill>
          <a:blip r:embed="rId3"/>
          <a:stretch/>
        </p:blipFill>
        <p:spPr>
          <a:xfrm>
            <a:off x="500040" y="3857760"/>
            <a:ext cx="2214720" cy="2214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4T17:25:41Z</dcterms:created>
  <dc:creator>Саша</dc:creator>
  <dc:description/>
  <dc:language>en-US</dc:language>
  <cp:lastModifiedBy>Admin</cp:lastModifiedBy>
  <dcterms:modified xsi:type="dcterms:W3CDTF">2010-02-17T15:25:31Z</dcterms:modified>
  <cp:revision>49</cp:revision>
  <dc:subject/>
  <dc:title>Николай Алексеевич Некрасов</dc:title>
</cp:coreProperties>
</file>