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8C72-F5AE-4154-A0F5-66DDFABB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6ED1-6857-4087-9016-EBC9C79F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2AE-3B6C-4B44-A6F6-2A299558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2383-57FE-4946-B4D8-78EA1335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77B1-7EA3-486E-8E94-748F9997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A56-FAA5-4657-8761-3D31B9C2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CB4F-EF68-4AFD-935D-9AE5C096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5405-DE8A-4395-9BD4-6C938F54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E12-4EC6-4268-B4A9-47083F04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2EA-3ABE-463E-9477-258F5447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4AB-B115-4FFE-B36A-CE3F67C7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6124-9D1D-4D50-9176-C026F42A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12DD-96CA-46CE-86D1-8AF7995AB2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оле 9"/>
          <p:cNvSpPr/>
          <p:nvPr/>
        </p:nvSpPr>
        <p:spPr>
          <a:xfrm>
            <a:off x="755640" y="404640"/>
            <a:ext cx="7705800" cy="80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Семинар</a:t>
            </a:r>
            <a:r>
              <a:rPr b="0" i="1" lang="ru-RU" sz="48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Monotype Corsiva"/>
              </a:rPr>
              <a:t>«Великий омут ежедневно вращающихся образов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Monotype Corsiva"/>
              </a:rPr>
              <a:t>(Изображение поместного дворянства в поэме Н.В.Гоголя «Мёртвые души»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оле 7"/>
          <p:cNvSpPr/>
          <p:nvPr/>
        </p:nvSpPr>
        <p:spPr>
          <a:xfrm>
            <a:off x="5508720" y="189000"/>
            <a:ext cx="3095640" cy="56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66"/>
                </a:solidFill>
                <a:latin typeface="Monotype Corsiva"/>
              </a:rPr>
              <a:t>…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… </a:t>
            </a: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не ревизские – мёртвые души, а все эти Ноздрёвы, Маниловы… - вот мёртвые души, и их мы встречаем на каждом ша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Monotype Corsiva"/>
              </a:rPr>
              <a:t>       </a:t>
            </a:r>
            <a:r>
              <a:rPr b="0" i="1" lang="ru-RU" sz="2400" spc="-1" strike="noStrike">
                <a:solidFill>
                  <a:srgbClr val="ffffff"/>
                </a:solidFill>
                <a:latin typeface="Monotype Corsiva"/>
              </a:rPr>
              <a:t>А.И.Гер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9" descr="slide0001_image002"/>
          <p:cNvPicPr/>
          <p:nvPr/>
        </p:nvPicPr>
        <p:blipFill>
          <a:blip r:embed="rId1"/>
          <a:stretch/>
        </p:blipFill>
        <p:spPr>
          <a:xfrm>
            <a:off x="324000" y="179280"/>
            <a:ext cx="5175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3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ани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slide0003_image004"/>
          <p:cNvPicPr/>
          <p:nvPr/>
        </p:nvPicPr>
        <p:blipFill>
          <a:blip r:embed="rId1"/>
          <a:stretch/>
        </p:blipFill>
        <p:spPr>
          <a:xfrm>
            <a:off x="324000" y="179280"/>
            <a:ext cx="4956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Короб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slide0004_image006"/>
          <p:cNvPicPr/>
          <p:nvPr/>
        </p:nvPicPr>
        <p:blipFill>
          <a:blip r:embed="rId1"/>
          <a:stretch/>
        </p:blipFill>
        <p:spPr>
          <a:xfrm>
            <a:off x="324000" y="179280"/>
            <a:ext cx="48686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Ноздрё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6" descr="slide0005_image008"/>
          <p:cNvPicPr/>
          <p:nvPr/>
        </p:nvPicPr>
        <p:blipFill>
          <a:blip r:embed="rId1"/>
          <a:stretch/>
        </p:blipFill>
        <p:spPr>
          <a:xfrm>
            <a:off x="324000" y="179280"/>
            <a:ext cx="483696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Собаке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Рисунок 6" descr="slide0006_image010"/>
          <p:cNvPicPr/>
          <p:nvPr/>
        </p:nvPicPr>
        <p:blipFill>
          <a:blip r:embed="rId1"/>
          <a:stretch/>
        </p:blipFill>
        <p:spPr>
          <a:xfrm>
            <a:off x="324000" y="179280"/>
            <a:ext cx="485136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оле 5"/>
          <p:cNvSpPr/>
          <p:nvPr/>
        </p:nvSpPr>
        <p:spPr>
          <a:xfrm>
            <a:off x="5508720" y="595008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Плюшк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6" descr="slide0007_image012"/>
          <p:cNvPicPr/>
          <p:nvPr/>
        </p:nvPicPr>
        <p:blipFill>
          <a:blip r:embed="rId1"/>
          <a:stretch/>
        </p:blipFill>
        <p:spPr>
          <a:xfrm>
            <a:off x="324000" y="179280"/>
            <a:ext cx="4937040" cy="648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5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8T10:37:57Z</dcterms:created>
  <dc:creator>User</dc:creator>
  <dc:description/>
  <dc:language>en-US</dc:language>
  <cp:lastModifiedBy>Admin</cp:lastModifiedBy>
  <dcterms:modified xsi:type="dcterms:W3CDTF">2010-02-18T21:13:12Z</dcterms:modified>
  <cp:revision>10</cp:revision>
  <dc:subject/>
  <dc:title>Слайд 1</dc:title>
</cp:coreProperties>
</file>