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DAEE-348C-4CCC-A553-E8E5040C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F0B-B9C3-4245-9268-0A320496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9D0-E585-417A-9B83-3FEDE15E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280-88AD-4FED-904B-E6194F80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01F-94EE-4CDF-B1F5-2070D36D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4CF-E71B-410B-AF89-53804E49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B87-441A-4DC7-BB0F-3FC0AC11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93B-0079-4882-8070-D6726EE5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005-2433-4229-9E2A-7EDF6FA7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A0B-7982-48DE-BB46-9738BC61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BEBC-1612-45A4-9F65-29DE337D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5C2-B217-4383-B7D2-F0B373D5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C4D2-EB4E-4827-8C31-0DC23A1FC0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80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еминар</a:t>
            </a: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2-18T21:13:12Z</dcterms:modified>
  <cp:revision>10</cp:revision>
  <dc:subject/>
  <dc:title>Слайд 1</dc:title>
</cp:coreProperties>
</file>