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DA4-C5F0-460B-9951-F150C49B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437A-B592-4CC4-B4FB-B8DD3890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3A7-BBFA-415C-AC3A-E57A8C30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88D-C021-46EF-BC93-BF407687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075-BCB6-4E8D-BA0D-4309B1CC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35C-2333-4FB3-91D9-1E94020B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A49-7ED6-4506-B2C1-1AE187A9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74B-E773-43AC-ADF4-73567793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75DD-6C20-4C6C-8AFC-DAD26C8F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26C-042B-4B78-A9C7-6EB7CFEF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D1A-8501-46B1-B2BF-33A10CED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AA1-46AA-425E-8741-750B4CBC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F59A-D2A7-4ECF-9829-90A140B68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е 9"/>
          <p:cNvSpPr/>
          <p:nvPr/>
        </p:nvSpPr>
        <p:spPr>
          <a:xfrm>
            <a:off x="755640" y="404640"/>
            <a:ext cx="7705800" cy="80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еминар</a:t>
            </a: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Monotype Corsiva"/>
              </a:rPr>
              <a:t>«Великий омут ежедневно вращающихся обра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(Изображение поместного дворянства в поэме Н.В.Гоголя «Мёртвые души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ле 7"/>
          <p:cNvSpPr/>
          <p:nvPr/>
        </p:nvSpPr>
        <p:spPr>
          <a:xfrm>
            <a:off x="5508720" y="189000"/>
            <a:ext cx="309564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…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не ревизские – мёртвые души, а все эти Ноздрёвы, Маниловы… - вот мёртвые души, и их мы встречаем на каждом ш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И.Гер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9" descr="slide0001_image002"/>
          <p:cNvPicPr/>
          <p:nvPr/>
        </p:nvPicPr>
        <p:blipFill>
          <a:blip r:embed="rId1"/>
          <a:stretch/>
        </p:blipFill>
        <p:spPr>
          <a:xfrm>
            <a:off x="324000" y="179280"/>
            <a:ext cx="5175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а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slide0003_image004"/>
          <p:cNvPicPr/>
          <p:nvPr/>
        </p:nvPicPr>
        <p:blipFill>
          <a:blip r:embed="rId1"/>
          <a:stretch/>
        </p:blipFill>
        <p:spPr>
          <a:xfrm>
            <a:off x="324000" y="179280"/>
            <a:ext cx="4956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ро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slide0004_image006"/>
          <p:cNvPicPr/>
          <p:nvPr/>
        </p:nvPicPr>
        <p:blipFill>
          <a:blip r:embed="rId1"/>
          <a:stretch/>
        </p:blipFill>
        <p:spPr>
          <a:xfrm>
            <a:off x="324000" y="179280"/>
            <a:ext cx="486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оздр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lide0005_image008"/>
          <p:cNvPicPr/>
          <p:nvPr/>
        </p:nvPicPr>
        <p:blipFill>
          <a:blip r:embed="rId1"/>
          <a:stretch/>
        </p:blipFill>
        <p:spPr>
          <a:xfrm>
            <a:off x="324000" y="179280"/>
            <a:ext cx="4836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а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slide0006_image010"/>
          <p:cNvPicPr/>
          <p:nvPr/>
        </p:nvPicPr>
        <p:blipFill>
          <a:blip r:embed="rId1"/>
          <a:stretch/>
        </p:blipFill>
        <p:spPr>
          <a:xfrm>
            <a:off x="324000" y="179280"/>
            <a:ext cx="48513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лю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slide0007_image012"/>
          <p:cNvPicPr/>
          <p:nvPr/>
        </p:nvPicPr>
        <p:blipFill>
          <a:blip r:embed="rId1"/>
          <a:stretch/>
        </p:blipFill>
        <p:spPr>
          <a:xfrm>
            <a:off x="324000" y="179280"/>
            <a:ext cx="49370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37:57Z</dcterms:created>
  <dc:creator>User</dc:creator>
  <dc:description/>
  <dc:language>en-US</dc:language>
  <cp:lastModifiedBy>Admin</cp:lastModifiedBy>
  <dcterms:modified xsi:type="dcterms:W3CDTF">2010-02-18T21:13:12Z</dcterms:modified>
  <cp:revision>10</cp:revision>
  <dc:subject/>
  <dc:title>Слайд 1</dc:title>
</cp:coreProperties>
</file>