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33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624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619A-2AB9-4D49-9AED-7EC8C7716C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B78F-B954-4A04-9432-EE7168483D51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BDCE-0B34-4315-BF02-15DD058F76DC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5633-C61F-461A-8564-C98C6E50E65D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AD98-1F2A-46D7-809B-5145D561E0A7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B0BF-634B-4FC2-A625-F3402E844ABD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00B-8BDA-4CD7-9691-905FBFB2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57D-C09F-45A9-B25A-66E60663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ECF-B96F-46C6-99C9-3F5104C0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BE14-0446-47AE-8DBE-FEB0438E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77CC-EB51-4FD5-98CB-ADEF6AC3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F2BD-A8F3-498F-9C9C-9A3CCD72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E455-F524-4CF1-9897-D4F95AD3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294E-DF06-4F2D-B856-A6D4F6FE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7EF9-3B5D-44D1-A476-3B2092BD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1606-4E29-4BB7-AE49-0D5215CA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128F-02C4-4F06-B0C5-B5D85DDB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AC98-23BA-4A39-9CA7-AB3B4E5F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E1CB-339E-451C-A187-3DD916D1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72C1-2D75-4B7D-AC65-6A12E436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1CCD-3AAD-444D-9AA9-0ABA641D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8B07-7C16-40F2-AAD1-58BC1212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2586-B350-4673-958C-852A2D53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B81-DBF8-4D47-BED7-AF0EECD7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225B-1F12-4735-B0C1-F93486AF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5B5-8A12-4776-B2AB-9AA7F710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DCA-837D-42FA-ABE8-66B6C933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23F7-3AA7-425A-B754-E5EFD059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7F2D-7D1F-4097-84DE-236A5CAF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1632-DDB2-46AF-863F-FFCEC122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A99F-0D0A-44F4-A817-1C7E6EC7C2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FF25-6D53-4D88-B7E1-35703BEC3717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Истоки русского национального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в характере С.Есени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Кураев Д., Леоненко М., Спиридонов В.,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учащиеся 11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«А»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МОУ - гимназия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г.Переславля-Залесского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Школа, в которой учился Есенин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27280" y="2251080"/>
            <a:ext cx="417996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Константиновская земская начальная школ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грифельная дощечка для письм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учебники, литература для чтения, наглядные учебные пособия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Picture 8" descr="museum_04_2"/>
          <p:cNvPicPr/>
          <p:nvPr/>
        </p:nvPicPr>
        <p:blipFill>
          <a:blip r:embed="rId1"/>
          <a:stretch/>
        </p:blipFill>
        <p:spPr>
          <a:xfrm>
            <a:off x="539640" y="1341360"/>
            <a:ext cx="3600720" cy="2373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museum_04_1"/>
          <p:cNvPicPr/>
          <p:nvPr/>
        </p:nvPicPr>
        <p:blipFill>
          <a:blip r:embed="rId2"/>
          <a:stretch/>
        </p:blipFill>
        <p:spPr>
          <a:xfrm>
            <a:off x="539640" y="4005360"/>
            <a:ext cx="3600720" cy="22273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10494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Главную роль в формировании русского национального в характере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С.Есенина сыграло то воспитание, которое было дано поэту в детские годы его бабушкой и дедушкой. Атмосфера любви и заботы, уютный дом, необычайно красивая природа – всё это явилось источником русского национального в характере Сергея Есенина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и повлияло на его творчество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esenin.niv.ru (9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litera.ru (12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Цель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явить источники русского национального</a:t>
            </a:r>
            <a:br>
              <a:rPr sz="2800"/>
            </a:b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 характере Сергея Есенин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Дата рожд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Родился 21 сентября 1895 г.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селе Константиново Рязанской губерн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8" descr="museum_02"/>
          <p:cNvPicPr/>
          <p:nvPr/>
        </p:nvPicPr>
        <p:blipFill>
          <a:blip r:embed="rId1"/>
          <a:stretch/>
        </p:blipFill>
        <p:spPr>
          <a:xfrm>
            <a:off x="1254240" y="2251080"/>
            <a:ext cx="28605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Портре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3" name="Picture 14" descr="С"/>
          <p:cNvPicPr/>
          <p:nvPr/>
        </p:nvPicPr>
        <p:blipFill>
          <a:blip r:embed="rId1"/>
          <a:stretch/>
        </p:blipFill>
        <p:spPr>
          <a:xfrm>
            <a:off x="611280" y="1557360"/>
            <a:ext cx="3684600" cy="43956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«Деревенский юноша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 копной золотых волос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 васильковыми глазами…»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Семья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6" name="Picture 23" descr="fm_esenin_h150"/>
          <p:cNvPicPr/>
          <p:nvPr/>
        </p:nvPicPr>
        <p:blipFill>
          <a:blip r:embed="rId1"/>
          <a:stretch/>
        </p:blipFill>
        <p:spPr>
          <a:xfrm>
            <a:off x="5651640" y="1916280"/>
            <a:ext cx="2087280" cy="2663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439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Александр Есенин (отец)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и 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Татьяна Титова (мат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етстве рос без отц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(родители рассталис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альнейшем мать уехал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на заработки и оставила поэт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у бабушки с дедушкой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Фёдор Титов - дедушка Есенина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Знаток церковных книг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Бабушка мальчика знала множество песен, сказок и частушек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Воспоминания самого Есенина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о своих близких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0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SzPct val="190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Дедушка пел мне песни старые, такие тягучие, заунывные.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По субботам и воскресным дням он рассказывал мне Библию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и священную историю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Никто не имел для меня такого значения, как мой дед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Ему я больше всего обязан... Это был удивительный человек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Яркая личность, широкая натура, "умственный мужик"..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Бабушка любила меня изо всей мочи, и нежности ее не было границ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Влияние на мое творчество в самом начале имели деревенские частушки. Период учебы не оставил на мне никаких следов,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кроме крепкого знания церковнославянского языка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Дом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рестьянская усадьба родителей поэта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Уютная бревенчатая изб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Picture 26" descr="museum_05_3"/>
          <p:cNvPicPr/>
          <p:nvPr/>
        </p:nvPicPr>
        <p:blipFill>
          <a:blip r:embed="rId1"/>
          <a:stretch/>
        </p:blipFill>
        <p:spPr>
          <a:xfrm>
            <a:off x="5324400" y="1905120"/>
            <a:ext cx="2757600" cy="1982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7" descr="museum_05_1"/>
          <p:cNvPicPr/>
          <p:nvPr/>
        </p:nvPicPr>
        <p:blipFill>
          <a:blip r:embed="rId2"/>
          <a:stretch/>
        </p:blipFill>
        <p:spPr>
          <a:xfrm>
            <a:off x="5219640" y="4076640"/>
            <a:ext cx="28814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34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Интерьер дом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2920" y="620640"/>
            <a:ext cx="4038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Дубовый стол с настольной лампой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емейные фотограф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коны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енские стулья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зеркало, самовар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деревянной вешалке вещи матери С.Есенин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ебольшой потертый сундучок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Picture 12" descr="museum_05_2"/>
          <p:cNvPicPr/>
          <p:nvPr/>
        </p:nvPicPr>
        <p:blipFill>
          <a:blip r:embed="rId8"/>
          <a:stretch/>
        </p:blipFill>
        <p:spPr>
          <a:xfrm>
            <a:off x="1187280" y="1052640"/>
            <a:ext cx="2159280" cy="280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museum_05_8"/>
          <p:cNvPicPr/>
          <p:nvPr/>
        </p:nvPicPr>
        <p:blipFill>
          <a:blip r:embed="rId9"/>
          <a:stretch/>
        </p:blipFill>
        <p:spPr>
          <a:xfrm>
            <a:off x="684360" y="4076640"/>
            <a:ext cx="3313080" cy="22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4572000" y="4508640"/>
          <a:ext cx="4208400" cy="1466640"/>
        </p:xfrm>
        <a:graphic>
          <a:graphicData uri="http://schemas.openxmlformats.org/drawingml/2006/table">
            <a:tbl>
              <a:tblPr/>
              <a:tblGrid>
                <a:gridCol w="420840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"Наша горница хоть и мала, но чиста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Я с собой на досуге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В этот вечер вся жизнь мне мила,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Как приятная память о друге"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9720" y="-265680"/>
            <a:ext cx="7742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горнице на стене - семейные фотографии, Похвальный лист, которым был награжден Сергей Есенин в 1909 году по окончании местной четырехклассной школы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стене старинные часы знаменитой часовой фирмы - "Габю"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Поэт о них написал: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Times New Roman"/>
              </a:rPr>
              <a:t>"</a:t>
            </a: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Скоро, скоро часы деревянные прохрипят мой двенадцатый час!".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Picture 8" descr="museum_05_7"/>
          <p:cNvPicPr/>
          <p:nvPr/>
        </p:nvPicPr>
        <p:blipFill>
          <a:blip r:embed="rId1"/>
          <a:stretch/>
        </p:blipFill>
        <p:spPr>
          <a:xfrm>
            <a:off x="5003640" y="47628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museum_05_6"/>
          <p:cNvPicPr/>
          <p:nvPr/>
        </p:nvPicPr>
        <p:blipFill>
          <a:blip r:embed="rId2"/>
          <a:stretch/>
        </p:blipFill>
        <p:spPr>
          <a:xfrm>
            <a:off x="5646600" y="3514680"/>
            <a:ext cx="2024280" cy="279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9:12:40Z</dcterms:created>
  <dc:creator>Max</dc:creator>
  <dc:description/>
  <dc:language>en-US</dc:language>
  <cp:lastModifiedBy>Admin</cp:lastModifiedBy>
  <dcterms:modified xsi:type="dcterms:W3CDTF">2010-02-18T20:24:06Z</dcterms:modified>
  <cp:revision>11</cp:revision>
  <dc:subject/>
  <dc:title>Истоки русского национального в характере С.Есенина</dc:title>
</cp:coreProperties>
</file>