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793200" cy="992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46240" y="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5936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24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0" y="942336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4624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EC6CF-A481-47D1-9897-6C714059BC0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240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Номер слайда 3"/>
          <p:cNvSpPr/>
          <p:nvPr/>
        </p:nvSpPr>
        <p:spPr>
          <a:xfrm>
            <a:off x="384660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CEC6A-5540-48EE-829A-CCE054645392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240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Номер слайда 3"/>
          <p:cNvSpPr/>
          <p:nvPr/>
        </p:nvSpPr>
        <p:spPr>
          <a:xfrm>
            <a:off x="384660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9E3EB-BEBE-4B37-8A9D-8235FFFC3365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240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384660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6F2F1-0F82-4390-85ED-D19984E7F2F2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240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Номер слайда 3"/>
          <p:cNvSpPr/>
          <p:nvPr/>
        </p:nvSpPr>
        <p:spPr>
          <a:xfrm>
            <a:off x="384660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31078-2AD8-42DD-AF4A-DAAEDEE38D08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240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Номер слайда 3"/>
          <p:cNvSpPr/>
          <p:nvPr/>
        </p:nvSpPr>
        <p:spPr>
          <a:xfrm>
            <a:off x="384660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ADCBF-AC31-43A1-91D3-10D313319859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E73C-7501-429C-9560-788D868A7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EA3F-C33F-4C75-B8F1-6E626C5ED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6225-B678-4389-9E3C-94D106D03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001F-12F0-4132-A6A1-0D4532822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6759E-58A2-4C68-93BA-F515A071A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E7035-3811-48E1-B0A5-E9F168A7E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9A0FA-E405-42AC-99FA-02A9AB3AD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1A8F4-D74D-4BFC-B7F0-F4B2CF29E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5366C-9F61-4E63-AA7D-95E89FF4F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64EEB-4017-4E9B-8119-15792BD77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6AE28-347E-4603-85D2-7A8B1172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149E-A759-4E1B-B71C-9BF1CDF3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4EBC0-2113-424E-AD8A-69D68005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DA36D-628D-44ED-80DC-E1D13633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16FF2-2A73-47EC-A955-A491A77C6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1DA42-0257-4F88-9EA2-DDADCDAB8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71504-CDA2-4DFF-B6CE-224BDEA33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40DA-B9F1-4CB8-9752-933126530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25DB-E0EC-4098-A8B7-27646603E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CD88-073B-4CCF-871C-0EF1C876A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8D4C-B500-4D92-BA7D-9AC7F0C3B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CF96-D45D-408F-8041-7899C759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D964-E9DF-487B-B48A-AED8BCEE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0A42-D81D-4EDB-ADFB-23A0E1AB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087A9-FBC2-4077-9D48-CE5E379F20A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90199-00E9-417F-8DC2-8FF31BB00DC1}" type="slidenum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Истоки русского национального</a:t>
            </a:r>
            <a:br>
              <a:rPr sz="3600"/>
            </a:b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в характере С.Есенин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4005360"/>
            <a:ext cx="64008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Arial"/>
              </a:rPr>
              <a:t>Кураев Д., Леоненко М., Спиридонов В., </a:t>
            </a:r>
            <a:br>
              <a:rPr sz="1800"/>
            </a:br>
            <a:r>
              <a:rPr b="0" lang="ru-RU" sz="1800" spc="-1" strike="noStrike">
                <a:solidFill>
                  <a:srgbClr val="40458c"/>
                </a:solidFill>
                <a:latin typeface="Arial"/>
              </a:rPr>
              <a:t>учащиеся 11</a:t>
            </a: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40458c"/>
                </a:solidFill>
                <a:latin typeface="Arial"/>
              </a:rPr>
              <a:t>«А»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40458c"/>
                </a:solidFill>
                <a:latin typeface="Arial"/>
              </a:rPr>
              <a:t>МОУ - гимназия</a:t>
            </a: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40458c"/>
                </a:solidFill>
                <a:latin typeface="Arial"/>
              </a:rPr>
              <a:t>г.Переславля-Залесского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Школа, в которой учился Есенин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427280" y="2251080"/>
            <a:ext cx="4179960" cy="38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1" lang="ru-RU" sz="1800" spc="-1" strike="noStrike">
                <a:solidFill>
                  <a:srgbClr val="40458c"/>
                </a:solidFill>
                <a:latin typeface="Times New Roman"/>
              </a:rPr>
              <a:t>Константиновская земская начальная школа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грифельная дощечка для письма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учебники, литература для чтения, наглядные учебные пособия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5" name="Picture 8" descr="museum_04_2"/>
          <p:cNvPicPr/>
          <p:nvPr/>
        </p:nvPicPr>
        <p:blipFill>
          <a:blip r:embed="rId1"/>
          <a:stretch/>
        </p:blipFill>
        <p:spPr>
          <a:xfrm>
            <a:off x="539640" y="1341360"/>
            <a:ext cx="3600720" cy="23734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9" descr="museum_04_1"/>
          <p:cNvPicPr/>
          <p:nvPr/>
        </p:nvPicPr>
        <p:blipFill>
          <a:blip r:embed="rId2"/>
          <a:stretch/>
        </p:blipFill>
        <p:spPr>
          <a:xfrm>
            <a:off x="539640" y="4005360"/>
            <a:ext cx="3600720" cy="222732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10"/>
          <p:cNvSpPr/>
          <p:nvPr/>
        </p:nvSpPr>
        <p:spPr>
          <a:xfrm>
            <a:off x="104940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9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imes New Roman"/>
              </a:rPr>
              <a:t>Вывод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99640" y="1484280"/>
            <a:ext cx="777564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Главную роль в формировании русского национального в характере</a:t>
            </a:r>
            <a:br>
              <a:rPr sz="1800"/>
            </a:b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С.Есенина сыграло то воспитание, которое было дано поэту в детские годы его бабушкой и дедушкой. Атмосфера любви и заботы, уютный дом, необычайно красивая природа – всё это явилось источником русского национального в характере Сергея Есенина </a:t>
            </a:r>
            <a:br>
              <a:rPr sz="1800"/>
            </a:b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и повлияло на его творчество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Источник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www.esenin.niv.ru (9.12.2005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www.litera.ru (12.12.2005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imes New Roman"/>
              </a:rPr>
              <a:t>Цель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Выявить источники русского национального</a:t>
            </a:r>
            <a:br>
              <a:rPr sz="2800"/>
            </a:b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в характере Сергея Есенина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103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imes New Roman"/>
              </a:rPr>
              <a:t>Дата рождения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42920" y="1773000"/>
            <a:ext cx="4040280" cy="33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Родился 21 сентября 1895 г.</a:t>
            </a:r>
            <a:br>
              <a:rPr sz="2000"/>
            </a:b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в селе Константиново Рязанской губернии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1" name="Picture 8" descr="museum_02"/>
          <p:cNvPicPr/>
          <p:nvPr/>
        </p:nvPicPr>
        <p:blipFill>
          <a:blip r:embed="rId1"/>
          <a:stretch/>
        </p:blipFill>
        <p:spPr>
          <a:xfrm>
            <a:off x="1254240" y="2251080"/>
            <a:ext cx="286056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9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imes New Roman"/>
              </a:rPr>
              <a:t>Портрет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3" name="Picture 14" descr="С"/>
          <p:cNvPicPr/>
          <p:nvPr/>
        </p:nvPicPr>
        <p:blipFill>
          <a:blip r:embed="rId1"/>
          <a:stretch/>
        </p:blipFill>
        <p:spPr>
          <a:xfrm>
            <a:off x="611280" y="1557360"/>
            <a:ext cx="3684600" cy="439560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42920" y="1773000"/>
            <a:ext cx="404028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«Деревенский юноша </a:t>
            </a:r>
            <a:br>
              <a:rPr sz="2000"/>
            </a:b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с копной золотых волос </a:t>
            </a:r>
            <a:br>
              <a:rPr sz="2000"/>
            </a:b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и васильковыми глазами…»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56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imes New Roman"/>
              </a:rPr>
              <a:t>Семья поэт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6" name="Picture 23" descr="fm_esenin_h150"/>
          <p:cNvPicPr/>
          <p:nvPr/>
        </p:nvPicPr>
        <p:blipFill>
          <a:blip r:embed="rId1"/>
          <a:stretch/>
        </p:blipFill>
        <p:spPr>
          <a:xfrm>
            <a:off x="5651640" y="1916280"/>
            <a:ext cx="2087280" cy="26636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4392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Александр Есенин (отец)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и 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Татьяна Титова (мать)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В детстве рос без отца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(родители расстались)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В дальнейшем мать уехала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на заработки и оставила поэта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у бабушки с дедушкой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Фёдор Титов - дедушка Есенина. 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Знаток церковных книг.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Бабушка мальчика знала множество песен, сказок и частушек.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1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Воспоминания самого Есенина</a:t>
            </a:r>
            <a:br>
              <a:rPr sz="3200"/>
            </a:b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о своих близких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920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SzPct val="1906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«Дедушка пел мне песни старые, такие тягучие, заунывные.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По субботам и воскресным дням он рассказывал мне Библию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и священную историю.»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SzPct val="1906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«Никто не имел для меня такого значения, как мой дед. 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Ему я больше всего обязан... Это был удивительный человек. 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Яркая личность, широкая натура, "умственный мужик"...»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SzPct val="1906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«Бабушка любила меня изо всей мочи, и нежности ее не было границ.»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SzPct val="1906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«Влияние на мое творчество в самом начале имели деревенские частушки. Период учебы не оставил на мне никаких следов, 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кроме крепкого знания церковнославянского языка.»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imes New Roman"/>
              </a:rPr>
              <a:t>Дом поэт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81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Крестьянская усадьба родителей поэта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Уютная бревенчатая изба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2" name="Picture 26" descr="museum_05_3"/>
          <p:cNvPicPr/>
          <p:nvPr/>
        </p:nvPicPr>
        <p:blipFill>
          <a:blip r:embed="rId1"/>
          <a:stretch/>
        </p:blipFill>
        <p:spPr>
          <a:xfrm>
            <a:off x="5324400" y="1905120"/>
            <a:ext cx="2757600" cy="19825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7" descr="museum_05_1"/>
          <p:cNvPicPr/>
          <p:nvPr/>
        </p:nvPicPr>
        <p:blipFill>
          <a:blip r:embed="rId2"/>
          <a:stretch/>
        </p:blipFill>
        <p:spPr>
          <a:xfrm>
            <a:off x="5219640" y="4076640"/>
            <a:ext cx="2881440" cy="20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34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Интерьер дома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42920" y="620640"/>
            <a:ext cx="40388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Дубовый стол с настольной лампой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семейные фотографии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иконы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венские стулья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808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зеркало, самовар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8089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на деревянной вешалке вещи матери С.Есенин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8089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небольшой потертый сундучок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6" name="Picture 12" descr="museum_05_2"/>
          <p:cNvPicPr/>
          <p:nvPr/>
        </p:nvPicPr>
        <p:blipFill>
          <a:blip r:embed="rId8"/>
          <a:stretch/>
        </p:blipFill>
        <p:spPr>
          <a:xfrm>
            <a:off x="1187280" y="1052640"/>
            <a:ext cx="2159280" cy="2808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3" descr="museum_05_8"/>
          <p:cNvPicPr/>
          <p:nvPr/>
        </p:nvPicPr>
        <p:blipFill>
          <a:blip r:embed="rId9"/>
          <a:stretch/>
        </p:blipFill>
        <p:spPr>
          <a:xfrm>
            <a:off x="684360" y="4076640"/>
            <a:ext cx="3313080" cy="229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8" name=""/>
          <p:cNvGraphicFramePr/>
          <p:nvPr/>
        </p:nvGraphicFramePr>
        <p:xfrm>
          <a:off x="4572000" y="4508640"/>
          <a:ext cx="4208400" cy="1466640"/>
        </p:xfrm>
        <a:graphic>
          <a:graphicData uri="http://schemas.openxmlformats.org/drawingml/2006/table">
            <a:tbl>
              <a:tblPr/>
              <a:tblGrid>
                <a:gridCol w="4208400"/>
              </a:tblGrid>
              <a:tr h="36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"Наша горница хоть и мала, но чиста.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Я с собой на досуге.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В этот вечер вся жизнь мне мила,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Как приятная память о друге"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39720" y="-265680"/>
            <a:ext cx="7742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55640" y="1700280"/>
            <a:ext cx="40384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В горнице на стене - семейные фотографии, Похвальный лист, которым был награжден Сергей Есенин в 1909 году по окончании местной четырехклассной школы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На стене старинные часы знаменитой часовой фирмы - "Габю"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Поэт о них написал:</a:t>
            </a: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40458c"/>
                </a:solidFill>
                <a:latin typeface="Times New Roman"/>
              </a:rPr>
              <a:t>"</a:t>
            </a:r>
            <a:r>
              <a:rPr b="1" i="1" lang="ru-RU" sz="1600" spc="-1" strike="noStrike">
                <a:solidFill>
                  <a:srgbClr val="40458c"/>
                </a:solidFill>
                <a:latin typeface="Times New Roman"/>
              </a:rPr>
              <a:t>Скоро, скоро часы деревянные прохрипят мой двенадцатый час!".</a:t>
            </a:r>
            <a:r>
              <a:rPr b="1" lang="ru-RU" sz="18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1" name="Picture 8" descr="museum_05_7"/>
          <p:cNvPicPr/>
          <p:nvPr/>
        </p:nvPicPr>
        <p:blipFill>
          <a:blip r:embed="rId1"/>
          <a:stretch/>
        </p:blipFill>
        <p:spPr>
          <a:xfrm>
            <a:off x="5003640" y="476280"/>
            <a:ext cx="3384720" cy="27367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9" descr="museum_05_6"/>
          <p:cNvPicPr/>
          <p:nvPr/>
        </p:nvPicPr>
        <p:blipFill>
          <a:blip r:embed="rId2"/>
          <a:stretch/>
        </p:blipFill>
        <p:spPr>
          <a:xfrm>
            <a:off x="5646600" y="3514680"/>
            <a:ext cx="2024280" cy="2793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19:12:40Z</dcterms:created>
  <dc:creator>Max</dc:creator>
  <dc:description/>
  <dc:language>en-US</dc:language>
  <cp:lastModifiedBy>Admin</cp:lastModifiedBy>
  <dcterms:modified xsi:type="dcterms:W3CDTF">2010-02-18T20:24:06Z</dcterms:modified>
  <cp:revision>11</cp:revision>
  <dc:subject/>
  <dc:title>Истоки русского национального в характере С.Есенина</dc:title>
</cp:coreProperties>
</file>