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4624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4233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4624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67AD-8CAF-479B-8EEE-4613356D8E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9486-EB71-46B5-A136-E377E2F4110A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2F93-7B90-42EF-B0C4-19075E76C003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BC37-D49B-4096-9410-C2EDE61A2532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2C19-D065-45BF-85FE-942B22FF18D5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B02D-5FAB-45D1-AC5C-17C3E15515C8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DCCE-BA56-4115-96B1-6D129C3F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8DFA-36CC-4E32-A1F0-F17FB75E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4BE2-6919-4125-A79E-CE0B9C2B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B3E2-7088-42D8-BE4D-4E8DBA9B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612A-478A-4195-883C-6FA29BA7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51B3-CA7C-4ADE-8E8A-D52B4DAF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931D-5960-484E-AD68-B7848251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26B3-E0A9-45A7-A90A-6C9F3EE5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24AE-5AC1-4219-8C0C-779DB5EE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1BA8-EFEA-4606-BF9A-8D73C7FC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3117-B8B3-45E0-8527-62A28BD4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8D07-C03B-4034-88AC-95BAFCD8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5192-427F-4C4F-A6EC-C9A466B9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E4A7-6D5A-4EE6-832A-A5D06AB8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7366-1568-4ED9-983B-DAE7B9A9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00C1-E8A7-483D-9BD8-BA11B65F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2BE4-D145-4DCE-97AB-708B59ED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4AAC-5893-4CE1-975A-8A655802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4FB8-7E4A-4832-8C02-2561D148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D6BC-9810-4044-A512-E080CD1B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40C1-3E07-47A5-AF4C-1F30B832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7E9A-DD4C-404B-AEEE-2AC7A744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02FA-3A70-41DF-AC50-34AC78DA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1974-A827-4BDA-80DA-E85C6B59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4D2D-6D3E-452D-AC6D-D6C70B3DD0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36AA-3C78-4306-A7AE-F73A0E666B20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Истоки русского национального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в характере С.Есени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005360"/>
            <a:ext cx="6400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Кураев Д., Леоненко М., Спиридонов В., 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учащиеся 11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«А»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МОУ - гимназия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г.Переславля-Залесского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Школа, в которой учился Есенин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27280" y="2251080"/>
            <a:ext cx="417996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Константиновская земская начальная школа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грифельная дощечка для письм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учебники, литература для чтения, наглядные учебные пособия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Picture 8" descr="museum_04_2"/>
          <p:cNvPicPr/>
          <p:nvPr/>
        </p:nvPicPr>
        <p:blipFill>
          <a:blip r:embed="rId1"/>
          <a:stretch/>
        </p:blipFill>
        <p:spPr>
          <a:xfrm>
            <a:off x="539640" y="1341360"/>
            <a:ext cx="3600720" cy="2373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museum_04_1"/>
          <p:cNvPicPr/>
          <p:nvPr/>
        </p:nvPicPr>
        <p:blipFill>
          <a:blip r:embed="rId2"/>
          <a:stretch/>
        </p:blipFill>
        <p:spPr>
          <a:xfrm>
            <a:off x="539640" y="4005360"/>
            <a:ext cx="3600720" cy="22273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"/>
          <p:cNvSpPr/>
          <p:nvPr/>
        </p:nvSpPr>
        <p:spPr>
          <a:xfrm>
            <a:off x="10494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75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Главную роль в формировании русского национального в характере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С.Есенина сыграло то воспитание, которое было дано поэту в детские годы его бабушкой и дедушкой. Атмосфера любви и заботы, уютный дом, необычайно красивая природа – всё это явилось источником русского национального в характере Сергея Есенина 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и повлияло на его творчество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точник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ww.esenin.niv.ru (9.12.200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ww.litera.ru (12.12.200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Цель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ыявить источники русского национального</a:t>
            </a:r>
            <a:br>
              <a:rPr sz="2800"/>
            </a:b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 характере Сергея Есенина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Дата рожден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40280" cy="33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Родился 21 сентября 1895 г.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 селе Константиново Рязанской губерн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Picture 8" descr="museum_02"/>
          <p:cNvPicPr/>
          <p:nvPr/>
        </p:nvPicPr>
        <p:blipFill>
          <a:blip r:embed="rId1"/>
          <a:stretch/>
        </p:blipFill>
        <p:spPr>
          <a:xfrm>
            <a:off x="1254240" y="2251080"/>
            <a:ext cx="28605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Портре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3" name="Picture 14" descr="С"/>
          <p:cNvPicPr/>
          <p:nvPr/>
        </p:nvPicPr>
        <p:blipFill>
          <a:blip r:embed="rId1"/>
          <a:stretch/>
        </p:blipFill>
        <p:spPr>
          <a:xfrm>
            <a:off x="611280" y="1557360"/>
            <a:ext cx="3684600" cy="43956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40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«Деревенский юноша 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с копной золотых волос 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и васильковыми глазами…»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Семья поэ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6" name="Picture 23" descr="fm_esenin_h150"/>
          <p:cNvPicPr/>
          <p:nvPr/>
        </p:nvPicPr>
        <p:blipFill>
          <a:blip r:embed="rId1"/>
          <a:stretch/>
        </p:blipFill>
        <p:spPr>
          <a:xfrm>
            <a:off x="5651640" y="1916280"/>
            <a:ext cx="2087280" cy="26636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4392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Александр Есенин (отец)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и 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Татьяна Титова (мать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В детстве рос без отц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(родители расстались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В дальнейшем мать уехал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на заработки и оставила поэт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у бабушки с дедушкой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Фёдор Титов - дедушка Есенина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Знаток церковных книг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Бабушка мальчика знала множество песен, сказок и частушек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Воспоминания самого Есенина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о своих близких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0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SzPct val="190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Дедушка пел мне песни старые, такие тягучие, заунывные.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По субботам и воскресным дням он рассказывал мне Библию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и священную историю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Никто не имел для меня такого значения, как мой дед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Ему я больше всего обязан... Это был удивительный человек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Яркая личность, широкая натура, "умственный мужик"..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Бабушка любила меня изо всей мочи, и нежности ее не было границ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Влияние на мое творчество в самом начале имели деревенские частушки. Период учебы не оставил на мне никаких следов,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кроме крепкого знания церковнославянского языка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Дом поэ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Крестьянская усадьба родителей поэта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Уютная бревенчатая изб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Picture 26" descr="museum_05_3"/>
          <p:cNvPicPr/>
          <p:nvPr/>
        </p:nvPicPr>
        <p:blipFill>
          <a:blip r:embed="rId1"/>
          <a:stretch/>
        </p:blipFill>
        <p:spPr>
          <a:xfrm>
            <a:off x="5324400" y="1905120"/>
            <a:ext cx="2757600" cy="1982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7" descr="museum_05_1"/>
          <p:cNvPicPr/>
          <p:nvPr/>
        </p:nvPicPr>
        <p:blipFill>
          <a:blip r:embed="rId2"/>
          <a:stretch/>
        </p:blipFill>
        <p:spPr>
          <a:xfrm>
            <a:off x="5219640" y="4076640"/>
            <a:ext cx="28814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34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Интерьер дом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2920" y="620640"/>
            <a:ext cx="4038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Дубовый стол с настольной лампой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семейные фотограф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иконы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енские стулья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зеркало, самовар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а деревянной вешалке вещи матери С.Есенин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ебольшой потертый сундучок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6" name="Picture 12" descr="museum_05_2"/>
          <p:cNvPicPr/>
          <p:nvPr/>
        </p:nvPicPr>
        <p:blipFill>
          <a:blip r:embed="rId8"/>
          <a:stretch/>
        </p:blipFill>
        <p:spPr>
          <a:xfrm>
            <a:off x="1187280" y="1052640"/>
            <a:ext cx="2159280" cy="280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museum_05_8"/>
          <p:cNvPicPr/>
          <p:nvPr/>
        </p:nvPicPr>
        <p:blipFill>
          <a:blip r:embed="rId9"/>
          <a:stretch/>
        </p:blipFill>
        <p:spPr>
          <a:xfrm>
            <a:off x="684360" y="4076640"/>
            <a:ext cx="3313080" cy="22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4572000" y="4508640"/>
          <a:ext cx="4208400" cy="1466640"/>
        </p:xfrm>
        <a:graphic>
          <a:graphicData uri="http://schemas.openxmlformats.org/drawingml/2006/table">
            <a:tbl>
              <a:tblPr/>
              <a:tblGrid>
                <a:gridCol w="4208400"/>
              </a:tblGrid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"Наша горница хоть и мала, но чиста.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Я с собой на досуге.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В этот вечер вся жизнь мне мила,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Как приятная память о друге"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9720" y="-265680"/>
            <a:ext cx="7742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 горнице на стене - семейные фотографии, Похвальный лист, которым был награжден Сергей Есенин в 1909 году по окончании местной четырехклассной школы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а стене старинные часы знаменитой часовой фирмы - "Габю"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Поэт о них написал: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Times New Roman"/>
              </a:rPr>
              <a:t>"</a:t>
            </a:r>
            <a:r>
              <a:rPr b="1" i="1" lang="ru-RU" sz="1600" spc="-1" strike="noStrike">
                <a:solidFill>
                  <a:srgbClr val="40458c"/>
                </a:solidFill>
                <a:latin typeface="Times New Roman"/>
              </a:rPr>
              <a:t>Скоро, скоро часы деревянные прохрипят мой двенадцатый час!".</a:t>
            </a: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Picture 8" descr="museum_05_7"/>
          <p:cNvPicPr/>
          <p:nvPr/>
        </p:nvPicPr>
        <p:blipFill>
          <a:blip r:embed="rId1"/>
          <a:stretch/>
        </p:blipFill>
        <p:spPr>
          <a:xfrm>
            <a:off x="5003640" y="47628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museum_05_6"/>
          <p:cNvPicPr/>
          <p:nvPr/>
        </p:nvPicPr>
        <p:blipFill>
          <a:blip r:embed="rId2"/>
          <a:stretch/>
        </p:blipFill>
        <p:spPr>
          <a:xfrm>
            <a:off x="5646600" y="3514680"/>
            <a:ext cx="2024280" cy="279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9:12:40Z</dcterms:created>
  <dc:creator>Max</dc:creator>
  <dc:description/>
  <dc:language>en-US</dc:language>
  <cp:lastModifiedBy>Admin</cp:lastModifiedBy>
  <dcterms:modified xsi:type="dcterms:W3CDTF">2010-02-18T20:24:06Z</dcterms:modified>
  <cp:revision>11</cp:revision>
  <dc:subject/>
  <dc:title>Истоки русского национального в характере С.Есенина</dc:title>
</cp:coreProperties>
</file>