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4624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942336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4624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8568-5646-466A-9D2D-FA0E76410C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5C43-6AFD-4833-AE82-BABA64C208E8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6D42-6E55-4755-953E-7A36C55EC780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860D-BD37-4328-9C85-D72AF5C40E38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5777-19CA-4C29-A6F0-4B07D1BC722B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2CFB-894C-4415-A6BB-FB4C70D93E12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6E97-84F0-46A0-9B25-0F9500E45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AA15-43D7-4A2A-A040-98688A80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DB62-2C30-4D63-A334-4AEBACFEA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4D04-4798-42B3-8406-8C57CBDF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34FA-5F77-4D9E-953E-C67DD1E41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DCD2-C5CA-4CDC-92AF-A542AF0F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1557-53DE-4B1E-83FD-DC3A15E9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C85E-9182-49E7-B3AA-24C5A5B6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7CD1-FB33-49F6-925F-DB6C152F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F33E-2670-422F-A75B-F4BBB9C7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092B-2CA4-4413-AFE5-66110BFB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EA9E-3C46-41C4-8318-AC7D6AF0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A429-C453-429E-AE46-13B15678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90F8-4FEB-4913-88BE-E978DDDF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A66C-CD1D-45C3-BCDF-98026C5B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F522-1BBA-4E2D-A134-EE1B68C00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A72F-5EEF-41A1-9C48-662A1686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84EF-6767-425D-9BEA-637C7DF3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5D94-1621-499E-8980-2ABC01AB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DA0F-7841-46C5-8859-A6695E5F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10EB-C598-4177-AB40-BE5DF284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45CC-6473-4375-9B97-33527D13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A6EF-89A0-4764-9359-EE683F91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6FC1-56B2-4D65-B33E-679D0D1C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FFF7-B708-42C1-A928-F21B6C548E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2F99-83D4-4198-BC71-BB514827141D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Истоки русского национального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в характере С.Есенин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4005360"/>
            <a:ext cx="6400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Кураев Д., Леоненко М., Спиридонов В., </a:t>
            </a:r>
            <a:br>
              <a:rPr sz="1800"/>
            </a:b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учащиеся 11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«А»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МОУ - гимназия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г.Переславля-Залесского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Школа, в которой учился Есенин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427280" y="2251080"/>
            <a:ext cx="4179960" cy="38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40458c"/>
                </a:solidFill>
                <a:latin typeface="Times New Roman"/>
              </a:rPr>
              <a:t>Константиновская земская начальная школа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грифельная дощечка для письма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учебники, литература для чтения, наглядные учебные пособия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5" name="Picture 8" descr="museum_04_2"/>
          <p:cNvPicPr/>
          <p:nvPr/>
        </p:nvPicPr>
        <p:blipFill>
          <a:blip r:embed="rId1"/>
          <a:stretch/>
        </p:blipFill>
        <p:spPr>
          <a:xfrm>
            <a:off x="539640" y="1341360"/>
            <a:ext cx="3600720" cy="2373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museum_04_1"/>
          <p:cNvPicPr/>
          <p:nvPr/>
        </p:nvPicPr>
        <p:blipFill>
          <a:blip r:embed="rId2"/>
          <a:stretch/>
        </p:blipFill>
        <p:spPr>
          <a:xfrm>
            <a:off x="539640" y="4005360"/>
            <a:ext cx="3600720" cy="22273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0"/>
          <p:cNvSpPr/>
          <p:nvPr/>
        </p:nvSpPr>
        <p:spPr>
          <a:xfrm>
            <a:off x="104940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imes New Roman"/>
              </a:rPr>
              <a:t>Вывод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7756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Главную роль в формировании русского национального в характере</a:t>
            </a:r>
            <a:br>
              <a:rPr sz="1800"/>
            </a:b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С.Есенина сыграло то воспитание, которое было дано поэту в детские годы его бабушкой и дедушкой. Атмосфера любви и заботы, уютный дом, необычайно красивая природа – всё это явилось источником русского национального в характере Сергея Есенина </a:t>
            </a:r>
            <a:br>
              <a:rPr sz="1800"/>
            </a:b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и повлияло на его творчество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сточник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ww.esenin.niv.ru (9.12.200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ww.litera.ru (12.12.200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Цель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Выявить источники русского национального</a:t>
            </a:r>
            <a:br>
              <a:rPr sz="2800"/>
            </a:b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в характере Сергея Есенина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03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Дата рождения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2920" y="1773000"/>
            <a:ext cx="4040280" cy="33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Родился 21 сентября 1895 г.</a:t>
            </a: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в селе Константиново Рязанской губерни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Picture 8" descr="museum_02"/>
          <p:cNvPicPr/>
          <p:nvPr/>
        </p:nvPicPr>
        <p:blipFill>
          <a:blip r:embed="rId1"/>
          <a:stretch/>
        </p:blipFill>
        <p:spPr>
          <a:xfrm>
            <a:off x="1254240" y="2251080"/>
            <a:ext cx="286056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Портре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3" name="Picture 14" descr="С"/>
          <p:cNvPicPr/>
          <p:nvPr/>
        </p:nvPicPr>
        <p:blipFill>
          <a:blip r:embed="rId1"/>
          <a:stretch/>
        </p:blipFill>
        <p:spPr>
          <a:xfrm>
            <a:off x="611280" y="1557360"/>
            <a:ext cx="3684600" cy="43956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42920" y="1773000"/>
            <a:ext cx="40402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«Деревенский юноша </a:t>
            </a: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с копной золотых волос </a:t>
            </a: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и васильковыми глазами…»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Семья поэт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6" name="Picture 23" descr="fm_esenin_h150"/>
          <p:cNvPicPr/>
          <p:nvPr/>
        </p:nvPicPr>
        <p:blipFill>
          <a:blip r:embed="rId1"/>
          <a:stretch/>
        </p:blipFill>
        <p:spPr>
          <a:xfrm>
            <a:off x="5651640" y="1916280"/>
            <a:ext cx="2087280" cy="26636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4392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Александр Есенин (отец)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и 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Татьяна Титова (мать)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В детстве рос без отца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(родители расстались)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В дальнейшем мать уехала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на заработки и оставила поэта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у бабушки с дедушкой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Фёдор Титов - дедушка Есенина.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Знаток церковных книг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Бабушка мальчика знала множество песен, сказок и частушек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Воспоминания самого Есенина</a:t>
            </a:r>
            <a:br>
              <a:rPr sz="3200"/>
            </a:b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о своих близких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0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SzPct val="1906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Дедушка пел мне песни старые, такие тягучие, заунывные.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По субботам и воскресным дням он рассказывал мне Библию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и священную историю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SzPct val="1906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Никто не имел для меня такого значения, как мой дед.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Ему я больше всего обязан... Это был удивительный человек.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Яркая личность, широкая натура, "умственный мужик"..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SzPct val="1906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Бабушка любила меня изо всей мочи, и нежности ее не было границ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SzPct val="1906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Влияние на мое творчество в самом начале имели деревенские частушки. Период учебы не оставил на мне никаких следов,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кроме крепкого знания церковнославянского языка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Дом поэт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Крестьянская усадьба родителей поэта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Уютная бревенчатая изба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2" name="Picture 26" descr="museum_05_3"/>
          <p:cNvPicPr/>
          <p:nvPr/>
        </p:nvPicPr>
        <p:blipFill>
          <a:blip r:embed="rId1"/>
          <a:stretch/>
        </p:blipFill>
        <p:spPr>
          <a:xfrm>
            <a:off x="5324400" y="1905120"/>
            <a:ext cx="2757600" cy="1982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7" descr="museum_05_1"/>
          <p:cNvPicPr/>
          <p:nvPr/>
        </p:nvPicPr>
        <p:blipFill>
          <a:blip r:embed="rId2"/>
          <a:stretch/>
        </p:blipFill>
        <p:spPr>
          <a:xfrm>
            <a:off x="5219640" y="4076640"/>
            <a:ext cx="288144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34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Интерьер дома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2920" y="620640"/>
            <a:ext cx="40388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Дубовый стол с настольной лампой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семейные фотографи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иконы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венские стулья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зеркало, самовар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на деревянной вешалке вещи матери С.Есенин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небольшой потертый сундучок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6" name="Picture 12" descr="museum_05_2"/>
          <p:cNvPicPr/>
          <p:nvPr/>
        </p:nvPicPr>
        <p:blipFill>
          <a:blip r:embed="rId8"/>
          <a:stretch/>
        </p:blipFill>
        <p:spPr>
          <a:xfrm>
            <a:off x="1187280" y="1052640"/>
            <a:ext cx="2159280" cy="280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museum_05_8"/>
          <p:cNvPicPr/>
          <p:nvPr/>
        </p:nvPicPr>
        <p:blipFill>
          <a:blip r:embed="rId9"/>
          <a:stretch/>
        </p:blipFill>
        <p:spPr>
          <a:xfrm>
            <a:off x="684360" y="4076640"/>
            <a:ext cx="3313080" cy="229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8" name=""/>
          <p:cNvGraphicFramePr/>
          <p:nvPr/>
        </p:nvGraphicFramePr>
        <p:xfrm>
          <a:off x="4572000" y="4508640"/>
          <a:ext cx="4208400" cy="1466640"/>
        </p:xfrm>
        <a:graphic>
          <a:graphicData uri="http://schemas.openxmlformats.org/drawingml/2006/table">
            <a:tbl>
              <a:tblPr/>
              <a:tblGrid>
                <a:gridCol w="4208400"/>
              </a:tblGrid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"Наша горница хоть и мала, но чиста.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Я с собой на досуге.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В этот вечер вся жизнь мне мила,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Как приятная память о друге"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39720" y="-265680"/>
            <a:ext cx="7742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4038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В горнице на стене - семейные фотографии, Похвальный лист, которым был награжден Сергей Есенин в 1909 году по окончании местной четырехклассной школы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На стене старинные часы знаменитой часовой фирмы - "Габю"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Поэт о них написал: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Times New Roman"/>
              </a:rPr>
              <a:t>"</a:t>
            </a:r>
            <a:r>
              <a:rPr b="1" i="1" lang="ru-RU" sz="1600" spc="-1" strike="noStrike">
                <a:solidFill>
                  <a:srgbClr val="40458c"/>
                </a:solidFill>
                <a:latin typeface="Times New Roman"/>
              </a:rPr>
              <a:t>Скоро, скоро часы деревянные прохрипят мой двенадцатый час!".</a:t>
            </a:r>
            <a:r>
              <a:rPr b="1" lang="ru-RU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1" name="Picture 8" descr="museum_05_7"/>
          <p:cNvPicPr/>
          <p:nvPr/>
        </p:nvPicPr>
        <p:blipFill>
          <a:blip r:embed="rId1"/>
          <a:stretch/>
        </p:blipFill>
        <p:spPr>
          <a:xfrm>
            <a:off x="5003640" y="476280"/>
            <a:ext cx="3384720" cy="2736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museum_05_6"/>
          <p:cNvPicPr/>
          <p:nvPr/>
        </p:nvPicPr>
        <p:blipFill>
          <a:blip r:embed="rId2"/>
          <a:stretch/>
        </p:blipFill>
        <p:spPr>
          <a:xfrm>
            <a:off x="5646600" y="3514680"/>
            <a:ext cx="2024280" cy="279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9:12:40Z</dcterms:created>
  <dc:creator>Max</dc:creator>
  <dc:description/>
  <dc:language>en-US</dc:language>
  <cp:lastModifiedBy>Admin</cp:lastModifiedBy>
  <dcterms:modified xsi:type="dcterms:W3CDTF">2010-02-18T20:24:06Z</dcterms:modified>
  <cp:revision>11</cp:revision>
  <dc:subject/>
  <dc:title>Истоки русского национального в характере С.Есенина</dc:title>
</cp:coreProperties>
</file>