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33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624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C826-BC3B-4518-822F-8218B1A2CD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AAD9-6CFE-45A5-A040-20B65CC8C19B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DA1C-B1B7-43FE-86E1-0CA8BE6B2775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287C-B586-483A-A71E-B9115E53A034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C359-1F78-4E18-AA6F-63659E5A4CCA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F501-5D1F-431B-A7BB-97C3CD4021BB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C32-2AE7-404A-B3E9-AF389044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6A9-DC39-463A-B82D-34FF642B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2789-9C95-406D-A92C-06E8EDD9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BE43-0D3C-4809-A447-DE01E7FE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46DB-CD14-4121-9506-3668BFF2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B3F7-1529-4C07-B24C-392184C7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A2E2-AF36-4662-9F1F-23845301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CD1F-3432-48A6-B272-988BAAA9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4EB8-CB51-436B-98CB-7AA17F02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E11F-2045-4F2D-A6E1-2568262C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2ECA-FD12-4713-82DA-DCDE649B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85A-A343-48E2-AAF3-96D71990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999A-40BC-4681-8262-E0035F0F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25D7-B6F5-4D7C-BB01-F4B5AD4E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075A-5064-48CE-BDC7-B7597DED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DD3B-AF01-4C08-8324-3A3AF0CC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ABE8-03C5-499C-AAB0-050EEE58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FCE-937F-49C9-BDF3-22445E59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B1C-FF60-4D04-BFF8-12BDA2CF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0333-6961-43D3-A1C0-B5FD1B61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451-2C5B-43FE-B1DE-6408DBE4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8D3C-F39A-4C92-87AC-EC6F5D16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1069-BAD1-4161-A52E-74ACC79F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1DF1-4CFC-499B-8704-38D7FD67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6FAC-61E3-424C-87E4-4D2083C4A3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6396-6AB1-4761-8BE7-3CA11D534AB6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Истоки русского национального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в характере С.Есени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Кураев Д., Леоненко М., Спиридонов В.,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учащиеся 11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«А»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МОУ - гимназия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г.Переславля-Залесского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Школа, в которой учился Есенин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27280" y="2251080"/>
            <a:ext cx="417996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Константиновская земская начальная школ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грифельная дощечка для письм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учебники, литература для чтения, наглядные учебные пособия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Picture 8" descr="museum_04_2"/>
          <p:cNvPicPr/>
          <p:nvPr/>
        </p:nvPicPr>
        <p:blipFill>
          <a:blip r:embed="rId1"/>
          <a:stretch/>
        </p:blipFill>
        <p:spPr>
          <a:xfrm>
            <a:off x="539640" y="1341360"/>
            <a:ext cx="3600720" cy="2373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museum_04_1"/>
          <p:cNvPicPr/>
          <p:nvPr/>
        </p:nvPicPr>
        <p:blipFill>
          <a:blip r:embed="rId2"/>
          <a:stretch/>
        </p:blipFill>
        <p:spPr>
          <a:xfrm>
            <a:off x="539640" y="4005360"/>
            <a:ext cx="3600720" cy="22273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10494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Главную роль в формировании русского национального в характере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С.Есенина сыграло то воспитание, которое было дано поэту в детские годы его бабушкой и дедушкой. Атмосфера любви и заботы, уютный дом, необычайно красивая природа – всё это явилось источником русского национального в характере Сергея Есенина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и повлияло на его творчество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esenin.niv.ru (9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litera.ru (12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Цель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ыявить источники русского национального</a:t>
            </a:r>
            <a:br>
              <a:rPr sz="2800"/>
            </a:b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 характере Сергея Есенина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Дата рожде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Родился 21 сентября 1895 г.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селе Константиново Рязанской губерн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8" descr="museum_02"/>
          <p:cNvPicPr/>
          <p:nvPr/>
        </p:nvPicPr>
        <p:blipFill>
          <a:blip r:embed="rId1"/>
          <a:stretch/>
        </p:blipFill>
        <p:spPr>
          <a:xfrm>
            <a:off x="1254240" y="2251080"/>
            <a:ext cx="28605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Портре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3" name="Picture 14" descr="С"/>
          <p:cNvPicPr/>
          <p:nvPr/>
        </p:nvPicPr>
        <p:blipFill>
          <a:blip r:embed="rId1"/>
          <a:stretch/>
        </p:blipFill>
        <p:spPr>
          <a:xfrm>
            <a:off x="611280" y="1557360"/>
            <a:ext cx="3684600" cy="43956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«Деревенский юноша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 копной золотых волос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 васильковыми глазами…»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Семья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6" name="Picture 23" descr="fm_esenin_h150"/>
          <p:cNvPicPr/>
          <p:nvPr/>
        </p:nvPicPr>
        <p:blipFill>
          <a:blip r:embed="rId1"/>
          <a:stretch/>
        </p:blipFill>
        <p:spPr>
          <a:xfrm>
            <a:off x="5651640" y="1916280"/>
            <a:ext cx="2087280" cy="2663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4392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Александр Есенин (отец)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и 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Татьяна Титова (мат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етстве рос без отц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(родители рассталис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альнейшем мать уехал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на заработки и оставила поэт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у бабушки с дедушкой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Фёдор Титов - дедушка Есенина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Знаток церковных книг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Бабушка мальчика знала множество песен, сказок и частушек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Воспоминания самого Есенина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о своих близких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0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SzPct val="190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Дедушка пел мне песни старые, такие тягучие, заунывные.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По субботам и воскресным дням он рассказывал мне Библию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и священную историю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Никто не имел для меня такого значения, как мой дед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Ему я больше всего обязан... Это был удивительный человек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Яркая личность, широкая натура, "умственный мужик"..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Бабушка любила меня изо всей мочи, и нежности ее не было границ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Влияние на мое творчество в самом начале имели деревенские частушки. Период учебы не оставил на мне никаких следов,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кроме крепкого знания церковнославянского языка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Дом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Крестьянская усадьба родителей поэта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Уютная бревенчатая изб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Picture 26" descr="museum_05_3"/>
          <p:cNvPicPr/>
          <p:nvPr/>
        </p:nvPicPr>
        <p:blipFill>
          <a:blip r:embed="rId1"/>
          <a:stretch/>
        </p:blipFill>
        <p:spPr>
          <a:xfrm>
            <a:off x="5324400" y="1905120"/>
            <a:ext cx="2757600" cy="1982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7" descr="museum_05_1"/>
          <p:cNvPicPr/>
          <p:nvPr/>
        </p:nvPicPr>
        <p:blipFill>
          <a:blip r:embed="rId2"/>
          <a:stretch/>
        </p:blipFill>
        <p:spPr>
          <a:xfrm>
            <a:off x="5219640" y="4076640"/>
            <a:ext cx="28814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34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Интерьер дом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2920" y="620640"/>
            <a:ext cx="4038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Дубовый стол с настольной лампой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емейные фотограф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коны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енские стулья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зеркало, самовар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деревянной вешалке вещи матери С.Есенин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ебольшой потертый сундучок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Picture 12" descr="museum_05_2"/>
          <p:cNvPicPr/>
          <p:nvPr/>
        </p:nvPicPr>
        <p:blipFill>
          <a:blip r:embed="rId8"/>
          <a:stretch/>
        </p:blipFill>
        <p:spPr>
          <a:xfrm>
            <a:off x="1187280" y="1052640"/>
            <a:ext cx="2159280" cy="280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museum_05_8"/>
          <p:cNvPicPr/>
          <p:nvPr/>
        </p:nvPicPr>
        <p:blipFill>
          <a:blip r:embed="rId9"/>
          <a:stretch/>
        </p:blipFill>
        <p:spPr>
          <a:xfrm>
            <a:off x="684360" y="4076640"/>
            <a:ext cx="3313080" cy="22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4572000" y="4508640"/>
          <a:ext cx="4208400" cy="1466640"/>
        </p:xfrm>
        <a:graphic>
          <a:graphicData uri="http://schemas.openxmlformats.org/drawingml/2006/table">
            <a:tbl>
              <a:tblPr/>
              <a:tblGrid>
                <a:gridCol w="4208400"/>
              </a:tblGrid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"Наша горница хоть и мала, но чиста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Я с собой на досуге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В этот вечер вся жизнь мне мила,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Как приятная память о друге"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9720" y="-265680"/>
            <a:ext cx="7742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горнице на стене - семейные фотографии, Похвальный лист, которым был награжден Сергей Есенин в 1909 году по окончании местной четырехклассной школы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стене старинные часы знаменитой часовой фирмы - "Габю"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Поэт о них написал: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Times New Roman"/>
              </a:rPr>
              <a:t>"</a:t>
            </a: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Скоро, скоро часы деревянные прохрипят мой двенадцатый час!".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Picture 8" descr="museum_05_7"/>
          <p:cNvPicPr/>
          <p:nvPr/>
        </p:nvPicPr>
        <p:blipFill>
          <a:blip r:embed="rId1"/>
          <a:stretch/>
        </p:blipFill>
        <p:spPr>
          <a:xfrm>
            <a:off x="5003640" y="47628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museum_05_6"/>
          <p:cNvPicPr/>
          <p:nvPr/>
        </p:nvPicPr>
        <p:blipFill>
          <a:blip r:embed="rId2"/>
          <a:stretch/>
        </p:blipFill>
        <p:spPr>
          <a:xfrm>
            <a:off x="5646600" y="3514680"/>
            <a:ext cx="2024280" cy="279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9:12:40Z</dcterms:created>
  <dc:creator>Max</dc:creator>
  <dc:description/>
  <dc:language>en-US</dc:language>
  <cp:lastModifiedBy>Admin</cp:lastModifiedBy>
  <dcterms:modified xsi:type="dcterms:W3CDTF">2010-02-18T20:24:06Z</dcterms:modified>
  <cp:revision>11</cp:revision>
  <dc:subject/>
  <dc:title>Истоки русского национального в характере С.Есенина</dc:title>
</cp:coreProperties>
</file>