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6B50-F397-4165-BBD5-898526333E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3183-FAE3-4820-85DE-0EFC75DE2846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6C9A-3D0E-4E13-8810-23A5BAB07ED4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B632-1A4B-4549-9DA0-3F2F5DC70898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1529-3D8A-4787-BA18-D1DC570B2B54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0C86-AC4D-421F-8340-0F5DECE29685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335-7712-4D9A-979D-0B454FD2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58C-C710-4246-A993-AB4D242B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96F-E517-42BA-915A-3DA44B7C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3B3-4F95-4D76-84CE-CFC033F6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DA64-A7D9-4FFC-9D0F-1374185C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DEC6-D1F8-48AA-B791-184BDE7D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A04D-31B4-4BE8-B9EF-1B0B880E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5E93-72E2-4862-8F42-C64C5B82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9954-3F97-4E99-A438-070ED150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D247-405E-4DCF-82FB-F52741BC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E333-82D1-4267-AA89-D22AA95B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CB5-7EF3-4BC4-9CB6-0C851CA0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834A-4254-4FA0-AB7F-17410B49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6D5D-9A28-4617-A598-B427FB35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463D-5888-4F34-B843-F3DCA170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4224-2017-4ACB-AE15-0FC56403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A583-973E-498D-AEB4-AAE49358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904-291A-45DC-A60D-FDE0F040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4E9-27F0-4132-B5D2-9B4FA628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288-254D-4A16-B9B8-8DFA271B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17D-1D6B-4BB1-9ECC-F97BD2EE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E10-BE64-42E4-BBD4-431D8780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B58-5E7A-4334-B4A4-6BF0CDAF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A04-70C4-4C4B-BC15-CF50D2C1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5B36-8DD6-4926-8CC8-D4A8354EAF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0FF6-C08F-4330-B9CF-262803A99DA5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стоки русского национального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 характере С.Есени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ураев Д., Леоненко М., Спиридонов В.,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учащиеся 11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«А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МОУ - гимназия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г.Переславля-Залесског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Школа, в которой учился Есени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27280" y="2251080"/>
            <a:ext cx="41799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Константиновская земская начальная школ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грифельная дощечка для письм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учебники, литература для чтения, наглядные учебные пособи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8" descr="museum_04_2"/>
          <p:cNvPicPr/>
          <p:nvPr/>
        </p:nvPicPr>
        <p:blipFill>
          <a:blip r:embed="rId1"/>
          <a:stretch/>
        </p:blipFill>
        <p:spPr>
          <a:xfrm>
            <a:off x="539640" y="1341360"/>
            <a:ext cx="3600720" cy="2373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useum_04_1"/>
          <p:cNvPicPr/>
          <p:nvPr/>
        </p:nvPicPr>
        <p:blipFill>
          <a:blip r:embed="rId2"/>
          <a:stretch/>
        </p:blipFill>
        <p:spPr>
          <a:xfrm>
            <a:off x="539640" y="4005360"/>
            <a:ext cx="3600720" cy="22273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1049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Главную роль в формировании русского национального в характере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.Есенина сыграло то воспитание, которое было дано поэту в детские годы его бабушкой и дедушкой. Атмосфера любви и заботы, уютный дом, необычайно красивая природа – всё это явилось источником русского национального в характере Сергея Есенина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и повлияло на его творчество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esenin.niv.ru (9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litera.ru (12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Цель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явить источники русского национального</a:t>
            </a:r>
            <a:br>
              <a:rPr sz="2800"/>
            </a:b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 характере Сергея Есенин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Дата рожд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Родился 21 сентября 1895 г.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селе Константиново Рязанской губерн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8" descr="museum_02"/>
          <p:cNvPicPr/>
          <p:nvPr/>
        </p:nvPicPr>
        <p:blipFill>
          <a:blip r:embed="rId1"/>
          <a:stretch/>
        </p:blipFill>
        <p:spPr>
          <a:xfrm>
            <a:off x="1254240" y="2251080"/>
            <a:ext cx="2860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Портре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Picture 14" descr="С"/>
          <p:cNvPicPr/>
          <p:nvPr/>
        </p:nvPicPr>
        <p:blipFill>
          <a:blip r:embed="rId1"/>
          <a:stretch/>
        </p:blipFill>
        <p:spPr>
          <a:xfrm>
            <a:off x="611280" y="1557360"/>
            <a:ext cx="3684600" cy="4395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«Деревенский юноша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 копной золотых волос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 васильковыми глазами…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Семья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Picture 23" descr="fm_esenin_h150"/>
          <p:cNvPicPr/>
          <p:nvPr/>
        </p:nvPicPr>
        <p:blipFill>
          <a:blip r:embed="rId1"/>
          <a:stretch/>
        </p:blipFill>
        <p:spPr>
          <a:xfrm>
            <a:off x="5651640" y="1916280"/>
            <a:ext cx="208728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Александр Есенин (отец)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и 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Татьяна Титова (мат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етстве рос без отц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(родители рассталис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альнейшем мать уехал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на заработки и оставила поэт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у бабушки с дедушкой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Фёдор Титов - дедушка Есенина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Знаток церковных книг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Бабушка мальчика знала множество песен, сказок и частушек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оспоминания самого Есенина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о своих близких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SzPct val="190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Дедушка пел мне песни старые, такие тягучие, заунывные.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По субботам и воскресным дням он рассказывал мне Библию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и священную историю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Никто не имел для меня такого значения, как мой дед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Ему я больше всего обязан... Это был удивительный человек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Яркая личность, широкая натура, "умственный мужик"..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Бабушка любила меня изо всей мочи, и нежности ее не было границ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Влияние на мое творчество в самом начале имели деревенские частушки. Период учебы не оставил на мне никаких следов,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кроме крепкого знания церковнославянского языка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Дом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рестьянская усадьба родителей поэт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Уютная бревенчатая изб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26" descr="museum_05_3"/>
          <p:cNvPicPr/>
          <p:nvPr/>
        </p:nvPicPr>
        <p:blipFill>
          <a:blip r:embed="rId1"/>
          <a:stretch/>
        </p:blipFill>
        <p:spPr>
          <a:xfrm>
            <a:off x="5324400" y="1905120"/>
            <a:ext cx="2757600" cy="1982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museum_05_1"/>
          <p:cNvPicPr/>
          <p:nvPr/>
        </p:nvPicPr>
        <p:blipFill>
          <a:blip r:embed="rId2"/>
          <a:stretch/>
        </p:blipFill>
        <p:spPr>
          <a:xfrm>
            <a:off x="5219640" y="4076640"/>
            <a:ext cx="28814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нтерьер дом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2920" y="620640"/>
            <a:ext cx="4038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Дубовый стол с настольной лампой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емейные фотограф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коны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енские стулья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зеркало, самовар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деревянной вешалке вещи матери С.Есени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ебольшой потертый сундучо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Picture 12" descr="museum_05_2"/>
          <p:cNvPicPr/>
          <p:nvPr/>
        </p:nvPicPr>
        <p:blipFill>
          <a:blip r:embed="rId8"/>
          <a:stretch/>
        </p:blipFill>
        <p:spPr>
          <a:xfrm>
            <a:off x="1187280" y="1052640"/>
            <a:ext cx="2159280" cy="280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museum_05_8"/>
          <p:cNvPicPr/>
          <p:nvPr/>
        </p:nvPicPr>
        <p:blipFill>
          <a:blip r:embed="rId9"/>
          <a:stretch/>
        </p:blipFill>
        <p:spPr>
          <a:xfrm>
            <a:off x="684360" y="4076640"/>
            <a:ext cx="3313080" cy="22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4572000" y="4508640"/>
          <a:ext cx="4208400" cy="1466640"/>
        </p:xfrm>
        <a:graphic>
          <a:graphicData uri="http://schemas.openxmlformats.org/drawingml/2006/table">
            <a:tbl>
              <a:tblPr/>
              <a:tblGrid>
                <a:gridCol w="42084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"Наша горница хоть и мала, но чиста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Я с собой на досуге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В этот вечер вся жизнь мне мила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Как приятная память о друге"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9720" y="-265680"/>
            <a:ext cx="774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горнице на стене - семейные фотографии, Похвальный лист, которым был награжден Сергей Есенин в 1909 году по окончании местной четырехклассной школы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стене старинные часы знаменитой часовой фирмы - "Габю"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Поэт о них написал: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imes New Roman"/>
              </a:rPr>
              <a:t>"</a:t>
            </a: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Скоро, скоро часы деревянные прохрипят мой двенадцатый час!".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Picture 8" descr="museum_05_7"/>
          <p:cNvPicPr/>
          <p:nvPr/>
        </p:nvPicPr>
        <p:blipFill>
          <a:blip r:embed="rId1"/>
          <a:stretch/>
        </p:blipFill>
        <p:spPr>
          <a:xfrm>
            <a:off x="5003640" y="47628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museum_05_6"/>
          <p:cNvPicPr/>
          <p:nvPr/>
        </p:nvPicPr>
        <p:blipFill>
          <a:blip r:embed="rId2"/>
          <a:stretch/>
        </p:blipFill>
        <p:spPr>
          <a:xfrm>
            <a:off x="5646600" y="3514680"/>
            <a:ext cx="20242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9:12:40Z</dcterms:created>
  <dc:creator>Max</dc:creator>
  <dc:description/>
  <dc:language>en-US</dc:language>
  <cp:lastModifiedBy>Admin</cp:lastModifiedBy>
  <dcterms:modified xsi:type="dcterms:W3CDTF">2010-02-18T20:24:06Z</dcterms:modified>
  <cp:revision>11</cp:revision>
  <dc:subject/>
  <dc:title>Истоки русского национального в характере С.Есенина</dc:title>
</cp:coreProperties>
</file>