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4624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4233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4624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FC9C-10ED-4E94-ADFE-31DB1CE548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C231-6981-4819-B698-31EE66ECA629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469C-DBB1-419C-897F-A135A2D96361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73D3-F120-4A50-8C79-4CCC5D392FEA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0D3C-9F5B-4D09-983F-2349512CDE3D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42B4-6756-42B8-B213-840CBDB2B9FA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AC33-4B0E-4646-ABD8-10E309BE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1180-CE5D-4C1D-8C8A-4E67AA73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F999-61B9-46A4-A80E-70A7A2D2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B8BD-549B-4E37-A682-0F08DF25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5660-1B3D-443D-949E-5C4A09DF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ADD9-D495-448B-828A-82574800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FA89-8744-443F-971F-BD47839C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7846-FE61-4FD1-8E3E-DD8F4A40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5C23-CCDF-446C-B4C7-8429BB83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47BC-6275-47B1-A203-B65AB917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F77B-7032-489E-849C-D9309089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46FC-BCA4-45CA-98BA-08F4B904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557D-362A-4C3E-8E06-CBB1D0A8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B082-12F4-472E-B965-EC7174AE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5EB7-9C99-43BC-9B58-C05DDFE0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B3DC-6CEE-49DA-A3D8-CCF22863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B97B-7C7C-47EC-A913-F1FB09BB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D27C-BCAE-483A-A525-E7CD80DA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3315-1208-4984-8172-22E8618D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7CA8-053E-444A-991E-08754238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68D9-64DC-4B6D-A41C-252B96AC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4090-36AE-4641-875F-E847D49E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0B11-8D9D-4BD4-AC96-40B3D189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F0C8-FD85-42DB-B5F7-116DCD65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126D-248F-4B05-99AE-266A3CA987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F9B2-2775-4861-91E8-652A6B59901E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Истоки русского национального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в характере С.Есени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4005360"/>
            <a:ext cx="6400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Кураев Д., Леоненко М., Спиридонов В., 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учащиеся 11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«А»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МОУ - гимназия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г.Переславля-Залесского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Школа, в которой учился Есенин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427280" y="2251080"/>
            <a:ext cx="4179960" cy="38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40458c"/>
                </a:solidFill>
                <a:latin typeface="Times New Roman"/>
              </a:rPr>
              <a:t>Константиновская земская начальная школа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грифельная дощечка для письма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учебники, литература для чтения, наглядные учебные пособия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5" name="Picture 8" descr="museum_04_2"/>
          <p:cNvPicPr/>
          <p:nvPr/>
        </p:nvPicPr>
        <p:blipFill>
          <a:blip r:embed="rId1"/>
          <a:stretch/>
        </p:blipFill>
        <p:spPr>
          <a:xfrm>
            <a:off x="539640" y="1341360"/>
            <a:ext cx="3600720" cy="2373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museum_04_1"/>
          <p:cNvPicPr/>
          <p:nvPr/>
        </p:nvPicPr>
        <p:blipFill>
          <a:blip r:embed="rId2"/>
          <a:stretch/>
        </p:blipFill>
        <p:spPr>
          <a:xfrm>
            <a:off x="539640" y="4005360"/>
            <a:ext cx="3600720" cy="22273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0"/>
          <p:cNvSpPr/>
          <p:nvPr/>
        </p:nvSpPr>
        <p:spPr>
          <a:xfrm>
            <a:off x="104940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756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Главную роль в формировании русского национального в характере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С.Есенина сыграло то воспитание, которое было дано поэту в детские годы его бабушкой и дедушкой. Атмосфера любви и заботы, уютный дом, необычайно красивая природа – всё это явилось источником русского национального в характере Сергея Есенина 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и повлияло на его творчество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точник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ww.esenin.niv.ru (9.12.200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ww.litera.ru (12.12.200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Цель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ыявить источники русского национального</a:t>
            </a:r>
            <a:br>
              <a:rPr sz="2800"/>
            </a:b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 характере Сергея Есенина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Дата рождения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40280" cy="33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Родился 21 сентября 1895 г.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 селе Константиново Рязанской губерни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Picture 8" descr="museum_02"/>
          <p:cNvPicPr/>
          <p:nvPr/>
        </p:nvPicPr>
        <p:blipFill>
          <a:blip r:embed="rId1"/>
          <a:stretch/>
        </p:blipFill>
        <p:spPr>
          <a:xfrm>
            <a:off x="1254240" y="2251080"/>
            <a:ext cx="286056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Портре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3" name="Picture 14" descr="С"/>
          <p:cNvPicPr/>
          <p:nvPr/>
        </p:nvPicPr>
        <p:blipFill>
          <a:blip r:embed="rId1"/>
          <a:stretch/>
        </p:blipFill>
        <p:spPr>
          <a:xfrm>
            <a:off x="611280" y="1557360"/>
            <a:ext cx="3684600" cy="43956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402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«Деревенский юноша 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с копной золотых волос 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и васильковыми глазами…»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Семья поэ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6" name="Picture 23" descr="fm_esenin_h150"/>
          <p:cNvPicPr/>
          <p:nvPr/>
        </p:nvPicPr>
        <p:blipFill>
          <a:blip r:embed="rId1"/>
          <a:stretch/>
        </p:blipFill>
        <p:spPr>
          <a:xfrm>
            <a:off x="5651640" y="1916280"/>
            <a:ext cx="2087280" cy="26636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4392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Александр Есенин (отец)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и 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Татьяна Титова (мать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В детстве рос без отц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(родители расстались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В дальнейшем мать уехал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на заработки и оставила поэт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у бабушки с дедушкой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Фёдор Титов - дедушка Есенина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Знаток церковных книг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Бабушка мальчика знала множество песен, сказок и частушек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Воспоминания самого Есенина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о своих близких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0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SzPct val="1906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Дедушка пел мне песни старые, такие тягучие, заунывные.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По субботам и воскресным дням он рассказывал мне Библию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и священную историю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Никто не имел для меня такого значения, как мой дед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Ему я больше всего обязан... Это был удивительный человек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Яркая личность, широкая натура, "умственный мужик"..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Бабушка любила меня изо всей мочи, и нежности ее не было границ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Влияние на мое творчество в самом начале имели деревенские частушки. Период учебы не оставил на мне никаких следов,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кроме крепкого знания церковнославянского языка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Дом поэ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Крестьянская усадьба родителей поэта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Уютная бревенчатая изб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Picture 26" descr="museum_05_3"/>
          <p:cNvPicPr/>
          <p:nvPr/>
        </p:nvPicPr>
        <p:blipFill>
          <a:blip r:embed="rId1"/>
          <a:stretch/>
        </p:blipFill>
        <p:spPr>
          <a:xfrm>
            <a:off x="5324400" y="1905120"/>
            <a:ext cx="2757600" cy="1982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7" descr="museum_05_1"/>
          <p:cNvPicPr/>
          <p:nvPr/>
        </p:nvPicPr>
        <p:blipFill>
          <a:blip r:embed="rId2"/>
          <a:stretch/>
        </p:blipFill>
        <p:spPr>
          <a:xfrm>
            <a:off x="5219640" y="4076640"/>
            <a:ext cx="28814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34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Интерьер дом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2920" y="620640"/>
            <a:ext cx="40388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Дубовый стол с настольной лампой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семейные фотографи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иконы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енские стулья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зеркало, самовар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а деревянной вешалке вещи матери С.Есенин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ебольшой потертый сундучок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6" name="Picture 12" descr="museum_05_2"/>
          <p:cNvPicPr/>
          <p:nvPr/>
        </p:nvPicPr>
        <p:blipFill>
          <a:blip r:embed="rId8"/>
          <a:stretch/>
        </p:blipFill>
        <p:spPr>
          <a:xfrm>
            <a:off x="1187280" y="1052640"/>
            <a:ext cx="2159280" cy="280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museum_05_8"/>
          <p:cNvPicPr/>
          <p:nvPr/>
        </p:nvPicPr>
        <p:blipFill>
          <a:blip r:embed="rId9"/>
          <a:stretch/>
        </p:blipFill>
        <p:spPr>
          <a:xfrm>
            <a:off x="684360" y="4076640"/>
            <a:ext cx="3313080" cy="229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4572000" y="4508640"/>
          <a:ext cx="4208400" cy="1466640"/>
        </p:xfrm>
        <a:graphic>
          <a:graphicData uri="http://schemas.openxmlformats.org/drawingml/2006/table">
            <a:tbl>
              <a:tblPr/>
              <a:tblGrid>
                <a:gridCol w="4208400"/>
              </a:tblGrid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"Наша горница хоть и мала, но чиста.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Я с собой на досуге.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В этот вечер вся жизнь мне мила,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Как приятная память о друге"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39720" y="-265680"/>
            <a:ext cx="7742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 горнице на стене - семейные фотографии, Похвальный лист, которым был награжден Сергей Есенин в 1909 году по окончании местной четырехклассной школы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а стене старинные часы знаменитой часовой фирмы - "Габю"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Поэт о них написал: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Times New Roman"/>
              </a:rPr>
              <a:t>"</a:t>
            </a:r>
            <a:r>
              <a:rPr b="1" i="1" lang="ru-RU" sz="1600" spc="-1" strike="noStrike">
                <a:solidFill>
                  <a:srgbClr val="40458c"/>
                </a:solidFill>
                <a:latin typeface="Times New Roman"/>
              </a:rPr>
              <a:t>Скоро, скоро часы деревянные прохрипят мой двенадцатый час!".</a:t>
            </a:r>
            <a:r>
              <a:rPr b="1" lang="ru-RU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1" name="Picture 8" descr="museum_05_7"/>
          <p:cNvPicPr/>
          <p:nvPr/>
        </p:nvPicPr>
        <p:blipFill>
          <a:blip r:embed="rId1"/>
          <a:stretch/>
        </p:blipFill>
        <p:spPr>
          <a:xfrm>
            <a:off x="5003640" y="476280"/>
            <a:ext cx="3384720" cy="2736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museum_05_6"/>
          <p:cNvPicPr/>
          <p:nvPr/>
        </p:nvPicPr>
        <p:blipFill>
          <a:blip r:embed="rId2"/>
          <a:stretch/>
        </p:blipFill>
        <p:spPr>
          <a:xfrm>
            <a:off x="5646600" y="3514680"/>
            <a:ext cx="2024280" cy="279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9:12:40Z</dcterms:created>
  <dc:creator>Max</dc:creator>
  <dc:description/>
  <dc:language>en-US</dc:language>
  <cp:lastModifiedBy>Admin</cp:lastModifiedBy>
  <dcterms:modified xsi:type="dcterms:W3CDTF">2010-02-18T20:24:06Z</dcterms:modified>
  <cp:revision>11</cp:revision>
  <dc:subject/>
  <dc:title>Истоки русского национального в характере С.Есенина</dc:title>
</cp:coreProperties>
</file>