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13FC-B7A8-4A9A-BF32-1F38E704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7AE28-414C-4D7C-91BD-181F0D67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AC62-0103-4217-B8D6-14C7DBC8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B593-A533-4553-9469-C7651C54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DCE4-0625-49C0-852D-10F942CE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A74B-F799-437A-A0FA-8F8299BA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0A6B-7503-408D-B26B-9385ABD5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E62A-2AA2-4598-8F9A-342ED95D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441D-08D5-48DC-9299-0E674ECB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099F-6C24-4886-A47A-DA67576A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CF7C-56A5-416A-A879-8FC80439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78BC-AB66-4A84-BBF3-F9B0E23E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8AA2-25DE-4EBB-B3FC-2D888075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7AE7-1F32-48C6-A15A-B03F5D73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2B98-9B7A-4C86-86F0-9BA85DB7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6082-F9B9-4F7B-87EB-7C72E6B6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1332-DBDF-4FD4-AF75-5E43F2C3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0F55F-473B-4FDF-A94F-2B26A58F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43C9C-45B9-4930-9A2C-5C4F73C9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E371-8D2F-422F-895A-90C42C32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E3480-2EDA-4299-B3E1-B4E7B246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0CC1-3260-439B-9B64-5DD820C1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CB5F6-86F6-4029-986B-E11B467D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53201-F933-4222-B753-CB717C53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2E36-8BDE-46D4-AA8B-F2CE1D29653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4A4A-0B86-4A61-BA1B-6584F4F4746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filename49"/>
          <p:cNvPicPr/>
          <p:nvPr/>
        </p:nvPicPr>
        <p:blipFill>
          <a:blip r:embed="rId2"/>
          <a:srcRect l="6076" t="0" r="21210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7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/>
  <dc:language>en-US</dc:language>
  <cp:lastModifiedBy>Admin</cp:lastModifiedBy>
  <dcterms:modified xsi:type="dcterms:W3CDTF">2010-02-18T17:59:17Z</dcterms:modified>
  <cp:revision>13</cp:revision>
  <dc:subject/>
  <dc:title>Н. В. Гоголь (1809 – 1852)</dc:title>
</cp:coreProperties>
</file>