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5429E-791F-4B67-8764-33882817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B721D-3D1E-4E31-8276-D01C6C8F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10162-2592-4797-8948-16F515C0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A8027-6233-4B8C-BD33-00AE907D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E417-804C-4561-B20E-2DD4A672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6055-76BE-400F-A4CA-51C48AE2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7F40-B106-409F-90B1-B334E6E5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A54E-209B-4AC5-A9AA-B8B0EC47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D86B-D6BE-4C56-8787-EB07D992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8C96-3CA4-4876-A22D-701B1BA0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AA91-F56B-4235-9FD7-45FEAE63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03021-4640-4BA3-BFA3-80758FAE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B549-367E-446A-A1D2-95783CFB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4B6D-0342-4569-A1B9-36930BBF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2FB9-861B-40F9-A1DD-1BE0EDD1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EA90-6956-405C-AB50-53051FD4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A69A-42F4-4FAF-8C0A-ED34A8E5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2EB89-73BA-409A-8777-FCEA998E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03F6E-66A1-42E3-9EDA-376C68FE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27D9-6D33-4DA1-9B7F-79FFE4AD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09C19-0EF6-4729-A5C5-913F16BA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91896-6963-423D-8FDA-44623C31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DE70D-C93E-438F-A731-84ED1C11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760C9-9DD5-4417-8D1F-40972567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DF02-942C-46CD-BE0D-3C2DEB246BB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2AA9-1681-40F8-A603-D81F6D5F3B9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ngogol.ru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. В. Гог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3000240"/>
            <a:ext cx="822960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. Гимназия высших нау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4" descr="gogol4"/>
          <p:cNvPicPr/>
          <p:nvPr/>
        </p:nvPicPr>
        <p:blipFill>
          <a:blip r:embed="rId1"/>
          <a:stretch/>
        </p:blipFill>
        <p:spPr>
          <a:xfrm>
            <a:off x="971640" y="1677960"/>
            <a:ext cx="71308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осударственная служб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тербур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6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gogol5"/>
          <p:cNvPicPr/>
          <p:nvPr/>
        </p:nvPicPr>
        <p:blipFill>
          <a:blip r:embed="rId1"/>
          <a:stretch/>
        </p:blipFill>
        <p:spPr>
          <a:xfrm>
            <a:off x="5651640" y="1700280"/>
            <a:ext cx="3492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довольство служб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Петербургские повест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0728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gogol6"/>
          <p:cNvPicPr/>
          <p:nvPr/>
        </p:nvPicPr>
        <p:blipFill>
          <a:blip r:embed="rId1"/>
          <a:stretch/>
        </p:blipFill>
        <p:spPr>
          <a:xfrm>
            <a:off x="3348000" y="3141720"/>
            <a:ext cx="5226120" cy="3487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84360" y="3716280"/>
            <a:ext cx="208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бственноручный рисунок Н.В. Гогол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последней сцене "Ревизора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ермания, Пари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Гоголь Н.В.1845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2560" y="170028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ае 1842 г. "Похождения Чичикова, или Мертвые души" вышли в св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обрание сочинен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130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Портрет А.А. Иванова.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0640" y="2060640"/>
            <a:ext cx="2943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Выбранные места…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. В. Гоголь (1809 – 1852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644832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тература, 9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Портрет работы Ф. Моллера. Рим,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916280"/>
            <a:ext cx="3465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аполь, Малоросс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ск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ом №7 на Никитском бульваре. Здесь Гоголь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прожил свои последние пять лет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Picture 4" descr="gogol7"/>
          <p:cNvPicPr/>
          <p:nvPr/>
        </p:nvPicPr>
        <p:blipFill>
          <a:blip r:embed="rId1"/>
          <a:stretch/>
        </p:blipFill>
        <p:spPr>
          <a:xfrm>
            <a:off x="1692360" y="2133720"/>
            <a:ext cx="60008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Дом на Никитском бульваре в Москве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9" name="Picture 3" descr="filename47"/>
          <p:cNvPicPr/>
          <p:nvPr/>
        </p:nvPicPr>
        <p:blipFill>
          <a:blip r:embed="rId1"/>
          <a:stretch/>
        </p:blipFill>
        <p:spPr>
          <a:xfrm>
            <a:off x="826920" y="1843200"/>
            <a:ext cx="7783560" cy="4449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filename44"/>
          <p:cNvPicPr/>
          <p:nvPr/>
        </p:nvPicPr>
        <p:blipFill>
          <a:blip r:embed="rId2"/>
          <a:stretch/>
        </p:blipFill>
        <p:spPr>
          <a:xfrm>
            <a:off x="611280" y="3573360"/>
            <a:ext cx="218268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мориальные комнаты Н.В. Гоголя в  доме на Никитском бульв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filename50"/>
          <p:cNvPicPr/>
          <p:nvPr/>
        </p:nvPicPr>
        <p:blipFill>
          <a:blip r:embed="rId1"/>
          <a:stretch/>
        </p:blipFill>
        <p:spPr>
          <a:xfrm>
            <a:off x="395280" y="2565360"/>
            <a:ext cx="4462560" cy="3352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filename49"/>
          <p:cNvPicPr/>
          <p:nvPr/>
        </p:nvPicPr>
        <p:blipFill>
          <a:blip r:embed="rId2"/>
          <a:srcRect l="6076" t="0" r="21210" b="0"/>
          <a:stretch/>
        </p:blipFill>
        <p:spPr>
          <a:xfrm>
            <a:off x="5219640" y="1413000"/>
            <a:ext cx="34560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, второй т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Н.В. Гоголь в Яновщи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4891320" cy="31622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5292720" y="11970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В. Гоголь в Яновщи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8" descr="Пушкин у Гоголя. Картина академика М.П. Клодта, грав. Ю. Барановский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911320"/>
            <a:ext cx="5292720" cy="3751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9"/>
          <p:cNvSpPr/>
          <p:nvPr/>
        </p:nvSpPr>
        <p:spPr>
          <a:xfrm>
            <a:off x="1042920" y="486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шкин у Гого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ледние месяц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91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gogol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02360" y="1773360"/>
            <a:ext cx="3041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Picture 4" descr="gogol9"/>
          <p:cNvPicPr/>
          <p:nvPr/>
        </p:nvPicPr>
        <p:blipFill>
          <a:blip r:embed="rId1"/>
          <a:stretch/>
        </p:blipFill>
        <p:spPr>
          <a:xfrm>
            <a:off x="1979640" y="1628640"/>
            <a:ext cx="5219640" cy="3468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2411280" y="530064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вшая могила Н.В. Гоголя в Свято-Даниловом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астыре в Москв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огила Гоголя на Новодевичьем кладбище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7" name="Picture 4" descr="gogol_mogila"/>
          <p:cNvPicPr/>
          <p:nvPr/>
        </p:nvPicPr>
        <p:blipFill>
          <a:blip r:embed="rId1"/>
          <a:stretch/>
        </p:blipFill>
        <p:spPr>
          <a:xfrm>
            <a:off x="3062160" y="1600200"/>
            <a:ext cx="350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жд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3635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gogol1"/>
          <p:cNvPicPr/>
          <p:nvPr/>
        </p:nvPicPr>
        <p:blipFill>
          <a:blip r:embed="rId1"/>
          <a:stretch/>
        </p:blipFill>
        <p:spPr>
          <a:xfrm>
            <a:off x="3595680" y="1773360"/>
            <a:ext cx="5548320" cy="3217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572000" y="537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доктора М.Я.Трохимовского в Сорочинцах, где родился Гого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предка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семь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ария Ивановна и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силий Афанасьевич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4" descr="gogol_mat"/>
          <p:cNvPicPr/>
          <p:nvPr/>
        </p:nvPicPr>
        <p:blipFill>
          <a:blip r:embed="rId1"/>
          <a:stretch/>
        </p:blipFill>
        <p:spPr>
          <a:xfrm>
            <a:off x="539640" y="1484280"/>
            <a:ext cx="3549600" cy="459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gogol_otec"/>
          <p:cNvPicPr/>
          <p:nvPr/>
        </p:nvPicPr>
        <p:blipFill>
          <a:blip r:embed="rId2"/>
          <a:stretch/>
        </p:blipFill>
        <p:spPr>
          <a:xfrm>
            <a:off x="5148360" y="1484280"/>
            <a:ext cx="35020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асильев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дительский дом в Васильевк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4" descr="gogol2"/>
          <p:cNvPicPr/>
          <p:nvPr/>
        </p:nvPicPr>
        <p:blipFill>
          <a:blip r:embed="rId1"/>
          <a:stretch/>
        </p:blipFill>
        <p:spPr>
          <a:xfrm>
            <a:off x="900000" y="1916280"/>
            <a:ext cx="73375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52:05Z</dcterms:created>
  <dc:creator>Customer</dc:creator>
  <dc:description/>
  <dc:language>en-US</dc:language>
  <cp:lastModifiedBy>Admin</cp:lastModifiedBy>
  <dcterms:modified xsi:type="dcterms:W3CDTF">2010-02-18T17:59:17Z</dcterms:modified>
  <cp:revision>13</cp:revision>
  <dc:subject/>
  <dc:title>Н. В. Гоголь (1809 – 1852)</dc:title>
</cp:coreProperties>
</file>