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CD083-1CB8-4C13-93EE-FBB9BF98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FBA02-902A-405D-AF16-7D276FEC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BDC78-055A-4C29-8C05-3A63B5B8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F63AD-972E-4F8B-8A82-A21599CF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1C09-17AB-47EF-B25F-0EE6F0AE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7E20-BE27-4F30-AF02-7E154FBE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B4AD-A2EE-43BD-913E-60C009AF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ABE7-F113-409B-BF33-6A79B14C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3D8B-F863-4523-B326-094FBF2E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3806-526E-468F-B196-474285F4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675D-F71A-4939-A051-992F5277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81A8C-2DAD-4C0E-908C-E97F62F7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3E83-85B0-46EB-84BC-706E6DD7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DCB4-DBB1-4B48-B92B-C4F757FE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AF76-B11F-40D4-9BD3-954E0745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E568-7D13-4983-AE3F-B4AE666A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06A5-CCF2-4A4C-9620-90AD18A6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9C09-5D63-4956-B2E6-A36F4DC9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0AE28-2ED9-4EEA-88B6-5140942E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86C63-4E0C-4F76-A2EB-2BEDB4C4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DFAFC-F67F-4FA0-8377-D68DBF51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7E40A-6852-4ADD-A677-1DC8EA47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F8D84-8FDB-4D0D-B269-F25E5D5E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CC111-E287-43DD-80BE-6BD7E9B3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7D04-C83D-403F-A8DF-9DB8E25628A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A768-F69A-4C72-9CFF-F47AB2C539F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filename49"/>
          <p:cNvPicPr/>
          <p:nvPr/>
        </p:nvPicPr>
        <p:blipFill>
          <a:blip r:embed="rId2"/>
          <a:srcRect l="6076" t="0" r="21210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7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/>
  <dc:language>en-US</dc:language>
  <cp:lastModifiedBy>Admin</cp:lastModifiedBy>
  <dcterms:modified xsi:type="dcterms:W3CDTF">2010-02-18T17:59:17Z</dcterms:modified>
  <cp:revision>13</cp:revision>
  <dc:subject/>
  <dc:title>Н. В. Гоголь (1809 – 1852)</dc:title>
</cp:coreProperties>
</file>