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3873-32CE-45D1-BD8F-2A42A8F2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17ED-694E-4501-9023-92958239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39883-611E-41BE-944A-A6DEA5E3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3DB9-E965-410E-8A03-8E486741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583B-F646-48AE-B5EB-7067534A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21CE-B57C-4BF2-956A-FF9490CA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D652-502B-4238-A78E-90A96CE1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4E98-69A3-434F-8AA9-376B4484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79C4-E1F8-419E-916B-F2F1F969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7EF1-110B-4E21-9142-BC425238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2B73-927C-4B89-B61D-192A6D67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C5DF9-26C7-47BD-9238-0CD5C73D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4616-1BB6-4DD0-9C77-6858DEEA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C9B1-829D-4047-A7CB-D879BD86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20AE-CDAB-4662-BA3D-588EB5C8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D255-3BA5-4186-B7A3-C444D3C8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23B2-128D-410D-9644-44F4E71E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2597-498C-4629-A9DE-B08ECBAA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BF84-7067-40B6-8EDB-919A223E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4A19D-088C-4D7C-B872-1677F6FE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3CA54-0A67-4350-A689-F58EE63D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B38D-4EE9-4751-A1A4-DC3810BE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C839-26D4-4BDF-A34D-34326542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BE7E-09B8-475E-9272-8A805396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33DE-BE78-432F-B7EC-D9C8E9F8DDB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EF71-8E6F-45FB-8D31-5CC3E04B48D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filename49"/>
          <p:cNvPicPr/>
          <p:nvPr/>
        </p:nvPicPr>
        <p:blipFill>
          <a:blip r:embed="rId2"/>
          <a:srcRect l="6076" t="0" r="21210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7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/>
  <dc:language>en-US</dc:language>
  <cp:lastModifiedBy>Admin</cp:lastModifiedBy>
  <dcterms:modified xsi:type="dcterms:W3CDTF">2010-02-18T17:59:17Z</dcterms:modified>
  <cp:revision>13</cp:revision>
  <dc:subject/>
  <dc:title>Н. В. Гоголь (1809 – 1852)</dc:title>
</cp:coreProperties>
</file>