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886F9-FF72-4557-BB3C-E02EA5E8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4735D-C30C-4419-B710-8B23C60C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85E7B-2010-4F55-B2F0-E6E39159D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A8C3F-2ABC-4590-82CB-A09659EB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C16C-BEE7-4BA7-825B-0138F7F3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DF14-0621-4C39-A588-178201A3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5BFC-B9B4-4944-B9BF-522F4854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B6A6-9E99-4F08-876E-ECA8112D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71FA-671C-4E01-A3D8-8E86144F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D50B-7EB5-4583-AF05-676AE760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D45C-EB88-477E-BC15-D0181CF4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B30ED-132B-44C3-829A-E9D32139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8C2E-75B3-4D8B-8FF4-CE27B89B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F7FF-0B5E-4E2F-8FDB-EBED7BDC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1605-EEE4-4206-AB12-E3B8CD13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23DB-6A96-4E45-B5BB-024C065E2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2C14-D8D5-4067-8BD7-C455B2D9A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8CD49-E04B-4879-AD51-6965C934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79517-88B7-42FA-8AB3-C149CD41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11141-82A4-46CF-BC7C-2BCCF37A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42AEA-268D-4689-B3DD-3A0A9A1E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29A7A-B892-4AA5-BF22-F75E1769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85A49-B87A-4D3A-91BC-AD5826D1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B1882-BEE2-4D66-96C7-ECDC7C66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BEDB-A10D-49F2-85D2-C07EB7947DC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2DFB-8D8E-4A44-961F-4D787B0271C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ngogol.ru/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. В. Гого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3000240"/>
            <a:ext cx="8229600" cy="31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литературы Кресс Ирина Александровна ГУ «Новопокровская средняя школа», Бородулихинский район, ВК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. Гимназия высших наук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Picture 4" descr="gogol4"/>
          <p:cNvPicPr/>
          <p:nvPr/>
        </p:nvPicPr>
        <p:blipFill>
          <a:blip r:embed="rId1"/>
          <a:stretch/>
        </p:blipFill>
        <p:spPr>
          <a:xfrm>
            <a:off x="971640" y="1677960"/>
            <a:ext cx="713088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осударственная служб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нако мысль о писательстве еще "не всходила на ум" Гоголю, все его устремления связаны со "службой государственной", он мечтает о юридической карьере. На принятие Гоголем такого решения большое влияние оказал проф. Н. Г. Белоусов, читавший курс естественного права, а также общее усиление в гимназии вольнолюбивых настроений. В 1827 здесь возникло "дело о вольнодумстве", закончившееся увольнением передовых профессоров, в том числе Белоусова; сочувствовавший ему Гоголь дал на следствии показания в его польз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етербург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565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кончив гимназию в 1828 г., Гоголь в декабре вместе с другим выпускником А. С. Данилевским (1809-1888), едет в Петербург. Испытывая денежные затруднения, безуспешно хлопоча о месте, Гоголь делает первые литературные пробы: в начале 1829 г. появляется стихотворение "Италия", а весной того же года под псевдонимом "В. Алов" Гоголь печатает "идиллию в картинах" "Ганц Кюхельгартен". Поэма вызвала резкие и насмешливые отзывы Н. А. Полевого и позднее снисходительно-сочувственный отзыв О. М. Сомова (1830 г.), что усилило тяжелое настроение Гоголя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gogol5"/>
          <p:cNvPicPr/>
          <p:nvPr/>
        </p:nvPicPr>
        <p:blipFill>
          <a:blip r:embed="rId1"/>
          <a:stretch/>
        </p:blipFill>
        <p:spPr>
          <a:xfrm>
            <a:off x="5651640" y="1700280"/>
            <a:ext cx="3492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довольство службо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конце 1829 г. ему удается определиться на службу в департамент государственного хозяйства и публичных зданий Министерства внутренних дел. С апреля 1830 до марта 1831 г. служит в департаменте уделов (вначале писцом, потом помощником столоначальника), под началом известного поэта-идиллика В. И. Панаева. Пребывание в канцеляриях вызвало у Гоголя глубокое разочарование в "службе государственной", но зато снабдило богатым материалом для будущих произведений, запечатлевших чиновничий быт и функционирование государственной машины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этот период выходят в свет "Вечера на хуторе близ Диканьки" (1831-1832). Они вызвали почти всеобщее восхищение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Петербургские повест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х гоголевской фантастики — "петербургская повесть" "Нос" (1835; опубликована в 1836 г.), чрезвычайно смелый гротеск, предвосхитивший некоторые тенденции искусства ХХ в. Контрастом по отношению к и провинциальному и столичному миру выступала повесть "Тарас Бульба", запечатлевшая тот момент национального прошлого, когда народ ("казаки"), защищая свою суверенность, действовал цельно, сообща и притом как сила, определяющая характер общеевропейской истор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0728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енью 1835 г. он принимается за написание "Ревизора", сюжет которого подсказан был Пушкиным; работа продвигалась столь успешно, что 18 января 1836 г. он читает комедию на вечере у Жуковского (в присутствии Пушкина, П. А. Вяземского и других), а в феврале-марте уже занят ее постановкой на сцене Александрийского театра. Премьера пьесы состоялась 19 апреля. 25 мая — премьера в Москве, в Малом театр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4" descr="gogol6"/>
          <p:cNvPicPr/>
          <p:nvPr/>
        </p:nvPicPr>
        <p:blipFill>
          <a:blip r:embed="rId1"/>
          <a:stretch/>
        </p:blipFill>
        <p:spPr>
          <a:xfrm>
            <a:off x="3348000" y="3141720"/>
            <a:ext cx="5226120" cy="34876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684360" y="3716280"/>
            <a:ext cx="208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бственноручный рисунок Н.В. Гогол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последней сцене "Ревизора"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ермания, Париж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62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июне 1836 г. Гоголь уезжает из Петербурга в Германию (в общей сложности он прожил за границей около 12 лет). Конец лета и осень проводит в Швейцарии, где принимается за продолжение "Мертвых душ". Сюжет был также подсказан Пушкиным. Работа началась еще в 1835 г., до написания "Ревизора", и сразу же приобрела широкий размах. В Петербурге несколько глав были прочитаны Пушкину, вызвав у него и одобрение и одновременно гнетущее чувств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ноябре 1836 г. Гоголь переезжает в Париж, где знакомится с А. Мицкевичем. Затем переезжает в Рим. Здесь в феврале 1837 г., в разгар работы над "Мертвыми душами", он получает потрясшее его известие о гибели Пушкина. В приступе "невыразимой тоски" и горечи Гоголь ощущает "нынешний труд" как "священное завещание" поэ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Гоголь Н.В.1845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2560" y="1700280"/>
            <a:ext cx="2881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ентябре 1839 г. в сопровождении Погодина Гоголь приезжает в Москву и приступает к чтению глав "Мертвых душ" — вначале в доме Аксаковых, потом, после переезда в октябре в Петербург, у Жуковского, у Прокоповича в присутствии своих старых друзей. Всего прочитано 6 глав. Восторг был всеобщ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мае 1842 г. "Похождения Чичикова, или Мертвые души" вышли в св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первых, кратких, но весьма похвальных отзывов инициативу перехватили хулители Гоголя, обвинявшие его в карикатурности, фарсе и клевете на действительность. Позднее со статьей, граничившей с доносом, выступил Н.А.Полев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обрание сочинени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6130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Вся эта полемика проходила в отсутствие Гоголя, выехавшего в июне 1842 за границу. Перед отъездом он поручает Прокоповичу издание первого собрания своих сочинений. Лето Гоголь проводит в Германии, в октябре вместе с Н. М. Языковым переезжает в Рим. Работает над 2-м томом "Мертвых душ", начатым, по-видимому, еще в 1840; много времени отдает подготовке собрания сочинений. "Сочинения Николая Гоголя" в четырех томах вышли в начале 1843 г., так как цензура приостановила на месяц уже отпечатанные два тома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Трехлетие (1842-1845), последовавшее после отъезда писателя за границу — период напряженной и трудной работы над 2-м томом "Мертвых душ"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Портрет А.А. Иванова.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00640" y="2060640"/>
            <a:ext cx="29433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Выбранные места…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847 г. в Петербурге были опубликованы "Выбранные места из переписки с друзьями". Книга выполняла двоякую функцию — и объяснения, почему до сих пор не написан 2-й том, и некоторой его компенсации: Гоголь переходил к изложению своих главных идей — сомнение в действенной, учительской функции художественной литературы, утопическая программа выполнения своего долга всеми "сословиями" и "званиями", от крестьянина до высших чиновников и цар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. В. Гоголь (1809 – 1852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03280" y="6448320"/>
            <a:ext cx="640080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тература, 9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4" descr="Портрет работы Ф. Моллера. Рим,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916280"/>
            <a:ext cx="3465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аполь, Малоросс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иму 1847-1848 Гоголь проводит в Неаполе, усиленно занимаясь чтением русской периодики, новинок беллетристики, исторических и фольклорных книг — "дабы окунуться покрепче в коренной русский дух". В то же время он готовится к давно задуманному паломничеству к святым местам. В январе 1848 морским путем направляется в Иерусалим. В апреле 1848 после паломничества в Святую землю Гоголь окончательно возвращается в Россию, где большую часть времени проводит в Москве, бывает наездами в Петербурге, а также в родных местах — Малоросс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оскв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ередине октября Гоголь живет в Москве. В 1849-1850, Гоголь читает отдельные главы 2-го тома "Мертвых душ" своим друзьям. Всеобщее одобрение и восторг воодушевляют писателя, который работает теперь с удвоенной энергией. Весною 1850 Гоголь предпринимает первую и последнюю попытку устроить свою семейную жизнь — делает предложение А. М. Виельгорской, но получает отказ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Дом №7 на Никитском бульваре. Здесь Гоголь 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прожил свои последние пять лет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7" name="Picture 4" descr="gogol7"/>
          <p:cNvPicPr/>
          <p:nvPr/>
        </p:nvPicPr>
        <p:blipFill>
          <a:blip r:embed="rId1"/>
          <a:stretch/>
        </p:blipFill>
        <p:spPr>
          <a:xfrm>
            <a:off x="1692360" y="2133720"/>
            <a:ext cx="600084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ffcc"/>
                </a:solidFill>
                <a:latin typeface="Tahoma"/>
              </a:rPr>
              <a:t>Дом на Никитском бульваре в Москве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9" name="Picture 3" descr="filename47"/>
          <p:cNvPicPr/>
          <p:nvPr/>
        </p:nvPicPr>
        <p:blipFill>
          <a:blip r:embed="rId1"/>
          <a:stretch/>
        </p:blipFill>
        <p:spPr>
          <a:xfrm>
            <a:off x="826920" y="1843200"/>
            <a:ext cx="7783560" cy="4449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filename44"/>
          <p:cNvPicPr/>
          <p:nvPr/>
        </p:nvPicPr>
        <p:blipFill>
          <a:blip r:embed="rId2"/>
          <a:stretch/>
        </p:blipFill>
        <p:spPr>
          <a:xfrm>
            <a:off x="611280" y="3573360"/>
            <a:ext cx="2182680" cy="291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емориальные комнаты Н.В. Гоголя в  доме на Никитском бульва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3" descr="filename50"/>
          <p:cNvPicPr/>
          <p:nvPr/>
        </p:nvPicPr>
        <p:blipFill>
          <a:blip r:embed="rId1"/>
          <a:stretch/>
        </p:blipFill>
        <p:spPr>
          <a:xfrm>
            <a:off x="395280" y="2565360"/>
            <a:ext cx="4462560" cy="3352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filename49"/>
          <p:cNvPicPr/>
          <p:nvPr/>
        </p:nvPicPr>
        <p:blipFill>
          <a:blip r:embed="rId2"/>
          <a:srcRect l="6076" t="0" r="21210" b="0"/>
          <a:stretch/>
        </p:blipFill>
        <p:spPr>
          <a:xfrm>
            <a:off x="5219640" y="1413000"/>
            <a:ext cx="3456000" cy="35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, второй то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ктябре 1850 Гоголь приезжает в Одессу. Состояние его улучшается; он деятелен, бодр, весел; охотно сходится с актерами одесской труппы, которым он дает уроки чтения комедийных произв., с Л. С. Пушкиным, с местными литераторами. В марте 1851 г. покидает Одессу и, проведя весну и раннее лето в родных местах, в июне возвращается в Москву. Следует новый круг чтений 2-го тома поэмы; всего было прочитано до 7 глав. В октябре присутствует на "Ревизоре" в Малом театре, с С. В. Шумским в роли Хлестакова, и остается доволен спектаклем; в ноябре читает "Ревизора" группе актеров, в числе слушателей был и И. С. Тургене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Н.В. Гоголь в Яновщи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0"/>
            <a:ext cx="4891320" cy="31622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5292720" y="119700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.В. Гоголь в Яновщин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8" descr="Пушкин у Гоголя. Картина академика М.П. Клодта, грав. Ю. Барановский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2911320"/>
            <a:ext cx="5292720" cy="37515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9"/>
          <p:cNvSpPr/>
          <p:nvPr/>
        </p:nvSpPr>
        <p:spPr>
          <a:xfrm>
            <a:off x="1042920" y="4869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ушкин у Гогол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оследние месяц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5915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 января 1852 г. Гоголь сообщает Арнольди, что 2-й том "совершенно окончен". Но в последних числах месяца явственно обнаружились признаки нового кризиса, толчком к которому послужила смерть Е. М. Хомяковой, сестры Н. М. Языкова, человека, духовно близкого Гоголю. Его терзает предчувствие близкой смерти, усугубляемое вновь усилившимися сомнениями в благотворности своего писательского поприща и в успехе осуществляемого труда. 7 февраля Гоголь исповедуется и причащается, а в ночь с 11 на 12 сжигает беловую рукопись 2-го тома (сохранилось в неполном виде лишь 5 глав, относящихся к различным черновым редакциям; опубликованы в 1855 г.). 21 февраля утром Гоголь умер в своей последней квартире в доме Талызина в Москв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4" descr="gogol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02360" y="1773360"/>
            <a:ext cx="30416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охороны писателя состоялись при огромном стечении народа на кладбище Свято-Данилова монастыря, а в 1931 останки Гоголя были перезахоронены на Новодевичьем кладбище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4" name="Picture 4" descr="gogol9"/>
          <p:cNvPicPr/>
          <p:nvPr/>
        </p:nvPicPr>
        <p:blipFill>
          <a:blip r:embed="rId1"/>
          <a:stretch/>
        </p:blipFill>
        <p:spPr>
          <a:xfrm>
            <a:off x="1979640" y="1628640"/>
            <a:ext cx="5219640" cy="34689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2411280" y="530064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ывшая могила Н.В. Гоголя в Свято-Даниловом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настыре в Москв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огила Гоголя на Новодевичьем кладбище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7" name="Picture 4" descr="gogol_mogila"/>
          <p:cNvPicPr/>
          <p:nvPr/>
        </p:nvPicPr>
        <p:blipFill>
          <a:blip r:embed="rId1"/>
          <a:stretch/>
        </p:blipFill>
        <p:spPr>
          <a:xfrm>
            <a:off x="3062160" y="1600200"/>
            <a:ext cx="3502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жде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3635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ился в местечке Великие Сорочинцы Миргородского уезда Полтавской губернии в семье помещика. Назвали Николаем в честь чудотворной иконы святого Николая, хранившейся в церкви села Дикань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gogol1"/>
          <p:cNvPicPr/>
          <p:nvPr/>
        </p:nvPicPr>
        <p:blipFill>
          <a:blip r:embed="rId1"/>
          <a:stretch/>
        </p:blipFill>
        <p:spPr>
          <a:xfrm>
            <a:off x="3595680" y="1773360"/>
            <a:ext cx="5548320" cy="32176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4572000" y="537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 доктора М.Я.Трохимовского в Сорочинцах, где родился Гогол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предках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Гоголей было свыше 1000 десятин земли и около 400 душ крепостных. Предки писателя со стороны отца были потомственными священниками, однако уже дед Афанасий Демьянович оставил духовное поприще и поступил в гетмановскую канцелярию; именно он прибавил к своей фамилии Яновский другую — Гоголь, что должно было продемонстрировать происхождение рода от известного в украинской истории 17 в. полковника Евстафия (Остапа) Гоголя (факт этот, впрочем, не находит достаточного подтверждения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семь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ец писателя, Василий Афанасьевич Гоголь-Яновский (1777-1825), служил при Малороссийском почтамте, в 1805 г. уволился с чином коллежского асессора и женился на Марии Ивановне Косяровской (1791-1868), происходившей из помещичьей семьи. По преданию, она была первой красавицей на Полтавщине. Замуж за Василия Афанасьевича она вышла четырнадцати лет. В семье, помимо Николая, было еще пятеро дет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ария Ивановна и 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асилий Афанасьевич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Picture 4" descr="gogol_mat"/>
          <p:cNvPicPr/>
          <p:nvPr/>
        </p:nvPicPr>
        <p:blipFill>
          <a:blip r:embed="rId1"/>
          <a:stretch/>
        </p:blipFill>
        <p:spPr>
          <a:xfrm>
            <a:off x="539640" y="1484280"/>
            <a:ext cx="3549600" cy="4594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gogol_otec"/>
          <p:cNvPicPr/>
          <p:nvPr/>
        </p:nvPicPr>
        <p:blipFill>
          <a:blip r:embed="rId2"/>
          <a:stretch/>
        </p:blipFill>
        <p:spPr>
          <a:xfrm>
            <a:off x="5148360" y="1484280"/>
            <a:ext cx="35020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асильев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ские годы Гоголь провел в имении родителей Васильевке (другое название — Яновщина). Культурным центром края являлись Кибинцы, имение Д. П. Трощинского (1754-1829), дальнего родственника Гоголей, бывшего министра, выбранного в поветовые маршалы (в уездные предводители дворянства); отец Гоголя исполнял у него обязанности секретаря. В Кибинцах находилась большая библиотека, существовал домашний театр, для к-рого отец Гоголь писал комедии, будучи также его актером и дирижер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дительский дом в Васильевке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Picture 4" descr="gogol2"/>
          <p:cNvPicPr/>
          <p:nvPr/>
        </p:nvPicPr>
        <p:blipFill>
          <a:blip r:embed="rId1"/>
          <a:stretch/>
        </p:blipFill>
        <p:spPr>
          <a:xfrm>
            <a:off x="900000" y="1916280"/>
            <a:ext cx="733752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818-19 Гоголь вместе с братом Иваном обучался в Полтавском уездном училище, а затем, в 1820-1821, брал уроки у полтавского учителя Гавриила Сорочинского, проживая у него на квартире. В мае 1821 поступил в гимназию высших наук в Нежине. Здесь он занимается живописью, участвует в спектаклях — как художник-декоратор и как актер, причем с особенным успехом исполняет комические роли. Пробует себя и в различных литературных жанрах (пишет элегические стихотворения, трагедии, историческую поэму, повесть). Тогда же пишет сатиру "Нечто о Нежине, или Дуракам закон не писан" (не сохранилась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52:05Z</dcterms:created>
  <dc:creator>Customer</dc:creator>
  <dc:description/>
  <dc:language>en-US</dc:language>
  <cp:lastModifiedBy>Admin</cp:lastModifiedBy>
  <dcterms:modified xsi:type="dcterms:W3CDTF">2010-02-18T17:59:17Z</dcterms:modified>
  <cp:revision>13</cp:revision>
  <dc:subject/>
  <dc:title>Н. В. Гоголь (1809 – 1852)</dc:title>
</cp:coreProperties>
</file>