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305A-EEDE-42A9-AC21-78E6EFB3E1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5C94-52B0-42AE-8AA5-8B6F8E953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0EC5-27D3-4BCC-85DD-2DDF65346E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672C-9A7F-4098-A8C5-D4D09EDE4A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FF6F-20CD-4EC8-8CB6-3C70B29C43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94A4-78F3-4487-83E5-F288D35EC9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7FAA-487C-4811-9757-6A7CCDEB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071-774F-4058-898D-27C88A75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4B1-9780-4600-B0B0-41422F14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AD3-A8FB-4CB8-A04E-85DD2776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142D-B1DC-4E56-9395-EFAED5BA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FB8A-1941-4772-A12C-3B439A38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F79A-FE3E-4527-9005-D25D6F3B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36ED-59D7-4A43-8035-83B1E6BF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8C8C-AE49-4A78-A51F-EBE35DCD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3274-D413-43B5-83DD-9416D761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0699-8F03-40FE-8243-3E13D57B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DFD-F702-4A70-B38E-78465E1C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035A-F025-43F8-ACFB-2B740DA8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2F63-D756-4EF1-A635-15693BDE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375B-FC10-4FA8-9266-D4C20627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96EC-CEF6-4B33-A381-73C0447C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BE64-F23C-4030-8951-9EC42AEE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0A3-5FE3-4050-BD8A-66738A60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839-7B53-48FA-A281-75C0D62B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BA8-AA56-434D-A039-446D6A80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5ED-4FDD-4CAC-9F43-156C4DCC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E18-E764-45A5-9151-146569BE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550-DB88-48F6-8C93-8011787C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FB1-17D6-4E26-9078-AD779B56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C242-A13C-4349-8BC1-987C0943FD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2DD9-9BFE-4693-B662-9E466B9FBB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ихаил Булгак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9293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Повесть «Собачье сердц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user\Мои документы\Мои рисунки\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3851280" y="278136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3851280" y="2637000"/>
            <a:ext cx="3816360" cy="317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весть «Собачье сердце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на в 1925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ечатана в 1987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Почему повесть напечатана только через 62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Отзыв Л. Б. Каменева: «Это острый памфлет на современность, печатать ни в коем случае нельз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флет- злободневное публицистическое произведение обличительн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«Собачье сердц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(«Чудовищная история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чего начинается произве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ьими глазами мы видим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зображена в повести общественно-политическая ситуация в России 20-го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 можете сказать о Шарике? Случайно ли ,на ваш взгляд, имя, выбранное для собаки,-Шар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образы Шарика –бродячего пса и Шарикова- «начальника по очистке».Какие чувства они выз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Шарикова, Швондера, Пеструх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квартира профессора Преображенского не подвергалась уплотне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профессора Преображенского, доктора Бормента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говорит о характере и образе жизни профессора Преображенского обстановка в кварт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го рода помощь оказывал пациентам профессор Преображенск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композиция повести, из каких частей она состо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оценку состоянию общества дает Преображенский? В чем , по его мнению, причина разрух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играют сцены п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сравнительный анализ описаний жизни в калабуховском доме до революции и по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ложилась судьба Шарика? Изменился ли его образ мыслей после возвращения в первоначальное состоя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20640" y="256860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мпозиция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зиция кольце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за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онолог Шар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ит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ик у профессора, операция,очеловечивание соба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ульмин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есчинства Шарико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звращение Шарика в прежнее состоя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эпило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Шарику «свезло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, по вашему мнению, может сложиться дальнейшая жизнь профессора Преображенского и доктора Борменталя. Обоснуйте свои предпо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роль образов прислуги в пове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 антитезы в по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повесть вызвала противоречивые оценки? Почему запрет на её издание был столь длительным(60 лет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кажите свое отношение к профессору Преображенскому, доктору Борменталю, Шарикову, Швондеру и другим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возможные варианты толкования повести «Собачье сердц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итеза в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- Шар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женский - Швонд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абуховский дом до и после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в начале и в конце по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esk1"/>
          <p:cNvSpPr/>
          <p:nvPr/>
        </p:nvSpPr>
        <p:spPr>
          <a:xfrm>
            <a:off x="6012000" y="1484280"/>
            <a:ext cx="238428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м Чугунки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яница, люмпен-пролет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esk1"/>
          <p:cNvSpPr/>
          <p:nvPr/>
        </p:nvSpPr>
        <p:spPr>
          <a:xfrm>
            <a:off x="611280" y="1484280"/>
            <a:ext cx="287964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-дворняга Ша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ый, добродуш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esk1"/>
          <p:cNvSpPr/>
          <p:nvPr/>
        </p:nvSpPr>
        <p:spPr>
          <a:xfrm>
            <a:off x="3635280" y="3429000"/>
            <a:ext cx="2233800" cy="136836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 rot="2547600">
            <a:off x="2340000" y="2923920"/>
            <a:ext cx="1112760" cy="792000"/>
          </a:xfrm>
          <a:prstGeom prst="rightArrow">
            <a:avLst>
              <a:gd name="adj1" fmla="val 50000"/>
              <a:gd name="adj2" fmla="val 35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rot="8844600">
            <a:off x="5939640" y="2877840"/>
            <a:ext cx="1376280" cy="777960"/>
          </a:xfrm>
          <a:prstGeom prst="rightArrow">
            <a:avLst>
              <a:gd name="adj1" fmla="val 50000"/>
              <a:gd name="adj2" fmla="val 442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 rot="7890600">
            <a:off x="2190600" y="4874040"/>
            <a:ext cx="1737000" cy="1150920"/>
          </a:xfrm>
          <a:prstGeom prst="rightArrow">
            <a:avLst>
              <a:gd name="adj1" fmla="val 50000"/>
              <a:gd name="adj2" fmla="val 377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п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rot="2180400">
            <a:off x="5817960" y="4874760"/>
            <a:ext cx="2158920" cy="981000"/>
          </a:xfrm>
          <a:prstGeom prst="rightArrow">
            <a:avLst>
              <a:gd name="adj1" fmla="val 50000"/>
              <a:gd name="adj2" fmla="val 55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К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05092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486160" y="40464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ловечивание соб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ик+Клим Чугункин=Полиграф Полиграфович Ша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78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ходе очеловечивания собаки милый и добродушный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с Шар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принимает худшие черты сво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донора,люмпен-пролетари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лима Чугунк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евращается в зловещую фигуру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лиграфа Полиграфовича Шар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ьё влияние сильнее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ubRRectCallout"/>
          <p:cNvSpPr/>
          <p:nvPr/>
        </p:nvSpPr>
        <p:spPr>
          <a:xfrm>
            <a:off x="900000" y="1700280"/>
            <a:ext cx="273528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женский-создатель(врач, профессор, всемирно известный уче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хирургич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м путем(физическое наси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ubRRectCallout"/>
          <p:cNvSpPr/>
          <p:nvPr/>
        </p:nvSpPr>
        <p:spPr>
          <a:xfrm>
            <a:off x="5292720" y="1700280"/>
            <a:ext cx="259236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ондер-идеолог(экспропри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,девиз:»Грабь награбленное!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с помощью слова(духовное на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esk1"/>
          <p:cNvSpPr/>
          <p:nvPr/>
        </p:nvSpPr>
        <p:spPr>
          <a:xfrm>
            <a:off x="3666960" y="4292640"/>
            <a:ext cx="2200320" cy="1224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агонис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Преображенского:                Логика Швонд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ересадка органов с целью        - труженик- тот, кто ничего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лить период жизненной         име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и человека,                    - зачем работать, если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лучшение человеческой по-       отн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(отсюда  «говорящая»           -любой пролетарий- хозя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милия героя)                              жизни в силу своего происхож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Михаил Афанасьевич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Булгаков (1891-1940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FB82CF13"/>
          <p:cNvPicPr/>
          <p:nvPr/>
        </p:nvPicPr>
        <p:blipFill>
          <a:blip r:embed="rId1"/>
          <a:srcRect l="51476" t="16035" r="20578" b="20297"/>
          <a:stretch/>
        </p:blipFill>
        <p:spPr>
          <a:xfrm>
            <a:off x="2556000" y="141300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зультаты воздействия Швондера на Шарико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ха в доме профессора(вместо 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заниматься лечением паци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реображенский и доктор Борменталь заняты Шариковы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требует у доктора часть жилплощади и про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устраивается в контору по истреблению коше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заняты делом, но не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смертны крыловские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Беда, коль пироги начнет печи сапожник, а сапоги тачать пирожни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 профессора не удался. Учёный пришёл к выводу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Шариков- насилие над прир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и революционны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виков обречён на неу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ь чувство уважения к лично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, чувство собственного достоин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нное отношение к происход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му возможно только при постеп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, эволюционном развитии обще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а, при кропотливой просветительск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ой работе интеллиг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дры из кинофильма «Собачье сердце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ИзображениеЗаболоцкийТургеневсобачьесердце 005.jpg"/>
          <p:cNvPicPr/>
          <p:nvPr/>
        </p:nvPicPr>
        <p:blipFill>
          <a:blip r:embed=""/>
          <a:stretch/>
        </p:blipFill>
        <p:spPr>
          <a:xfrm>
            <a:off x="684360" y="1628640"/>
            <a:ext cx="3527280" cy="278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ИзображениеЗаболоцкийТургеневсобачьесердце 004.jpg"/>
          <p:cNvPicPr/>
          <p:nvPr/>
        </p:nvPicPr>
        <p:blipFill>
          <a:blip r:embed=""/>
          <a:stretch/>
        </p:blipFill>
        <p:spPr>
          <a:xfrm>
            <a:off x="5148360" y="1628640"/>
            <a:ext cx="3370320" cy="279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ИзображениеЗаболоцкийТургеневсобачьесердце 004"/>
          <p:cNvPicPr/>
          <p:nvPr/>
        </p:nvPicPr>
        <p:blipFill>
          <a:blip r:embed="rId1"/>
          <a:stretch/>
        </p:blipFill>
        <p:spPr>
          <a:xfrm>
            <a:off x="900000" y="1676520"/>
            <a:ext cx="3240360" cy="26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ИзображениеЗаболоцкийТургеневсобачьесердце 005"/>
          <p:cNvPicPr/>
          <p:nvPr/>
        </p:nvPicPr>
        <p:blipFill>
          <a:blip r:embed="rId2"/>
          <a:stretch/>
        </p:blipFill>
        <p:spPr>
          <a:xfrm>
            <a:off x="5148360" y="1631880"/>
            <a:ext cx="331128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фессор Преображенский- Евгений Евстигн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октор Борменталь- Борис Пл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Шариков- Владимир Толоко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Швондер- Роман Кар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Дарья- Нина Русл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ИзображениеЗаболоцкийТургеневсобачьесердце 013"/>
          <p:cNvPicPr/>
          <p:nvPr/>
        </p:nvPicPr>
        <p:blipFill>
          <a:blip r:embed="rId1"/>
          <a:stretch/>
        </p:blipFill>
        <p:spPr>
          <a:xfrm>
            <a:off x="971640" y="3429000"/>
            <a:ext cx="3400200" cy="273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ИзображениеЗаболоцкийТургеневсобачьесердце 012.jpg"/>
          <p:cNvPicPr/>
          <p:nvPr/>
        </p:nvPicPr>
        <p:blipFill>
          <a:blip r:embed=""/>
          <a:stretch/>
        </p:blipFill>
        <p:spPr>
          <a:xfrm>
            <a:off x="4716360" y="342900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ИзображениеЗаболоцкийТургеневсобачьесердце 004"/>
          <p:cNvPicPr/>
          <p:nvPr/>
        </p:nvPicPr>
        <p:blipFill>
          <a:blip r:embed="rId2"/>
          <a:stretch/>
        </p:blipFill>
        <p:spPr>
          <a:xfrm>
            <a:off x="4716360" y="3432240"/>
            <a:ext cx="331164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ИзображениеЗаболоцкийТургеневсобачьесердце 007"/>
          <p:cNvPicPr/>
          <p:nvPr/>
        </p:nvPicPr>
        <p:blipFill>
          <a:blip r:embed="rId1"/>
          <a:stretch/>
        </p:blipFill>
        <p:spPr>
          <a:xfrm>
            <a:off x="468360" y="1844640"/>
            <a:ext cx="3844800" cy="302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ИзображениеЗаболоцкийТургеневсобачьесердце 006.jpg"/>
          <p:cNvPicPr/>
          <p:nvPr/>
        </p:nvPicPr>
        <p:blipFill>
          <a:blip r:embed=""/>
          <a:stretch/>
        </p:blipFill>
        <p:spPr>
          <a:xfrm>
            <a:off x="5003640" y="1916280"/>
            <a:ext cx="3622680" cy="295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ИзображениеЗаболоцкийТургеневсобачьесердце 012"/>
          <p:cNvPicPr/>
          <p:nvPr/>
        </p:nvPicPr>
        <p:blipFill>
          <a:blip r:embed="rId2"/>
          <a:stretch/>
        </p:blipFill>
        <p:spPr>
          <a:xfrm>
            <a:off x="5003640" y="1876320"/>
            <a:ext cx="3456000" cy="2857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ИзображениеЗаболоцкийТургеневсобачьесердце 011.jpg"/>
          <p:cNvPicPr/>
          <p:nvPr/>
        </p:nvPicPr>
        <p:blipFill>
          <a:blip r:embed=""/>
          <a:stretch/>
        </p:blipFill>
        <p:spPr>
          <a:xfrm>
            <a:off x="468360" y="1916280"/>
            <a:ext cx="3672000" cy="280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ИзображениеЗаболоцкийТургеневсобачьесердце 010.jpg"/>
          <p:cNvPicPr/>
          <p:nvPr/>
        </p:nvPicPr>
        <p:blipFill>
          <a:blip r:embed=""/>
          <a:stretch/>
        </p:blipFill>
        <p:spPr>
          <a:xfrm>
            <a:off x="4788000" y="1916280"/>
            <a:ext cx="374328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ИзображениеЗаболоцкийТургеневсобачьесердце 006"/>
          <p:cNvPicPr/>
          <p:nvPr/>
        </p:nvPicPr>
        <p:blipFill>
          <a:blip r:embed="rId1"/>
          <a:stretch/>
        </p:blipFill>
        <p:spPr>
          <a:xfrm>
            <a:off x="755640" y="1989000"/>
            <a:ext cx="3311640" cy="275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ИзображениеЗаболоцкийТургеневсобачьесердце 008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281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ИзображениеЗаболоцкийТургеневсобачьесердце 009.jpg"/>
          <p:cNvPicPr/>
          <p:nvPr/>
        </p:nvPicPr>
        <p:blipFill>
          <a:blip r:embed=""/>
          <a:stretch/>
        </p:blipFill>
        <p:spPr>
          <a:xfrm>
            <a:off x="468360" y="1628640"/>
            <a:ext cx="3773520" cy="3133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ИзображениеЗаболоцкийТургеневсобачьесердце 008.jpg"/>
          <p:cNvPicPr/>
          <p:nvPr/>
        </p:nvPicPr>
        <p:blipFill>
          <a:blip r:embed=""/>
          <a:stretch/>
        </p:blipFill>
        <p:spPr>
          <a:xfrm>
            <a:off x="4716360" y="1628640"/>
            <a:ext cx="3916440" cy="309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ИзображениеЗаболоцкийТургеневсобачьесердце 009"/>
          <p:cNvPicPr/>
          <p:nvPr/>
        </p:nvPicPr>
        <p:blipFill>
          <a:blip r:embed="rId1"/>
          <a:stretch/>
        </p:blipFill>
        <p:spPr>
          <a:xfrm>
            <a:off x="539640" y="1739880"/>
            <a:ext cx="3527640" cy="293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ИзображениеЗаболоцкийТургеневсобачьесердце 010"/>
          <p:cNvPicPr/>
          <p:nvPr/>
        </p:nvPicPr>
        <p:blipFill>
          <a:blip r:embed="rId2"/>
          <a:stretch/>
        </p:blipFill>
        <p:spPr>
          <a:xfrm>
            <a:off x="4643280" y="1633680"/>
            <a:ext cx="3745080" cy="3109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2050920" y="1557360"/>
            <a:ext cx="5113440" cy="424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2050920" y="1623960"/>
            <a:ext cx="4969080" cy="412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обачье сердце»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едевр булгаковской сати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тира Булгако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на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зряч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.Сах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тира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ira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 проявления комиче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о в искусстве, состоящий в уничтожающем осме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и явлений, которые представляются автору пороч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ми. Сила сатиры зависит от социальной значим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занимаемой сатириком позиции, от эффективн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сатирических мет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едмет сатиры-человек,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его порок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539640" y="2421000"/>
            <a:ext cx="1944720" cy="792000"/>
          </a:xfrm>
          <a:prstGeom prst="wedgeRectCallout">
            <a:avLst>
              <a:gd name="adj1" fmla="val 83634"/>
              <a:gd name="adj2" fmla="val 56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6659640" y="2637000"/>
            <a:ext cx="1728720" cy="792000"/>
          </a:xfrm>
          <a:prstGeom prst="wedgeRectCallout">
            <a:avLst>
              <a:gd name="adj1" fmla="val -89300"/>
              <a:gd name="adj2" fmla="val 690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3276720" y="4797360"/>
            <a:ext cx="2519280" cy="792360"/>
          </a:xfrm>
          <a:prstGeom prst="wedgeRectCallout">
            <a:avLst>
              <a:gd name="adj1" fmla="val -2490"/>
              <a:gd name="adj2" fmla="val -1506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203640" y="2781360"/>
            <a:ext cx="278748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виды сат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ведите в соответств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82760" y="3429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4360" y="5300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708360" y="5075280"/>
            <a:ext cx="46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нкая, скрытая насмеш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ответствие положительного значения и отрицательного под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708360" y="34290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вительная, жестокая ироническая насме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780000" y="1700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душно-насмешливое 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чему-либо; беззлобное и веселое вышу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2771640" y="1773360"/>
            <a:ext cx="0" cy="41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тир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Андреевич 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лай Васильевич 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Евграфович Салтыков-Щед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Михайлович Зощ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адий Тимофеевич Аверч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жда Александровна Тэф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ьф (Илья Арнольдович Файнзильберг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ров(Евгений Петрович Ката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 А. Булгаков (1891-194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3(15) мая189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- родился в Киеве в семье преподавателя духовной акаде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закончил медицинский факуль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евск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-1917 г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работал в качестве зем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ча в Смолен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21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приехал в Москву на постоянное жительство. Работал  в газете «Гуд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 193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чал работать в театрах  МХА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Б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40 г.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мер от болезни почек.Похоронен 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водевичьем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изведения М.А.Булгак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юного врач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на манжет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 «Дьяволи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Белая гвардия»(пьеса «Дни Турбиных»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Роковые яй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Собачье сердц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Зойкина кварти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агровый остр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ертвые души»(по поэме Гог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оль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Мастер и Маргар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31:08Z</dcterms:created>
  <dc:creator>user</dc:creator>
  <dc:description/>
  <dc:language>en-US</dc:language>
  <cp:lastModifiedBy>Admin</cp:lastModifiedBy>
  <dcterms:modified xsi:type="dcterms:W3CDTF">2010-02-18T20:30:55Z</dcterms:modified>
  <cp:revision>38</cp:revision>
  <dc:subject/>
  <dc:title>Повесть «Собачье сердце»</dc:title>
</cp:coreProperties>
</file>